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425-5BAD-4201-8B86-1ECDA088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A29-1FB3-42FC-AF7B-FB11B8DC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CE97-2456-4097-A952-9C6109E6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756-E8FD-485A-ADE7-912B99D3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EA1-902C-48E2-BFD3-A60B9DFC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980-D55D-44E1-AC95-391266A8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21F-72B3-4C65-BAED-A04BA6BC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BBC-DDD8-4366-BBFD-F17C2BE4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434-5E2C-44C3-84B6-F5BEB826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221-CB76-47CB-8F83-06658E91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3E0-973E-4503-ACCA-A22488E7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D04-036C-4DA2-A91D-B3AD729D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D0EB-1815-4A94-A02A-6EF048794DE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783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3965400" y="836640"/>
            <a:ext cx="491508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8569080" cy="71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5"/>
          <a:stretch/>
        </p:blipFill>
        <p:spPr>
          <a:xfrm>
            <a:off x="250920" y="4272120"/>
            <a:ext cx="8642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324000" y="3213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افهم فمنهم مؤمن ومنهم كا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324000" y="148428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غماسهم في حياة الترف والنعيم واللهو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6"/>
          <a:stretch/>
        </p:blipFill>
        <p:spPr>
          <a:xfrm>
            <a:off x="914400" y="5389560"/>
            <a:ext cx="79056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249"/>
          <a:stretch/>
        </p:blipFill>
        <p:spPr>
          <a:xfrm>
            <a:off x="233280" y="2421000"/>
            <a:ext cx="8677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"/>
            <a:ext cx="913140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97040" y="4653000"/>
            <a:ext cx="38736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أسباب الاستقام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 هنا المعين عليها وهو الأمر بالمعروف والنهي عن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854360"/>
            <a:ext cx="8713800" cy="48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7242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م الماض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أمر بالمعروف والنهي عن  المنك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فس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دين واح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أمر بالمعروف والنهي عن المنكر من أسبا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ج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أسباب الهلا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انغماس في حياة الترف والنعيم والله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ظلم أح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عذب الله أهل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إ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عل الله للإنسان حرية الاختيار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ير والش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أعطى الإنسان العقل الذي يميز به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فس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و جعل الناس جميعاً مؤمنين لانتفت الحكمة م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خلقهم وابتلائ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 كالإنس من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 والأشقي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سعداء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إيمانهم بالنبي </a:t>
            </a:r>
            <a:r>
              <a:rPr b="1" lang="ar-SA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تباعهم شريع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شقياء في النا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فرهم وإعراضهم عن دي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7" descr=""/>
          <p:cNvPicPr/>
          <p:nvPr/>
        </p:nvPicPr>
        <p:blipFill>
          <a:blip r:embed="rId3"/>
          <a:stretch/>
        </p:blipFill>
        <p:spPr>
          <a:xfrm>
            <a:off x="338040" y="981000"/>
            <a:ext cx="8501040" cy="11779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8680" y="23464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ر بالمعروف والنهي عن المنك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19:15:02Z</dcterms:modified>
  <cp:revision>2010</cp:revision>
  <dc:subject/>
  <dc:title>عرض تقديمي في PowerPoint</dc:title>
</cp:coreProperties>
</file>