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E64F-9CF9-41B5-A2E2-C07AD64E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F85-5FDC-4327-906E-A1579305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FD92-F08B-492D-9540-B9A043EA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EA7-D356-41C8-B035-67FEF605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2396-48A6-4E66-9EBE-668A7F1D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9317-56CB-4483-AF0D-756AEF96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8CB1-0029-4137-A756-A7486243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2F1-6E66-468C-BC1D-9E096EA8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E69-3B76-4F3F-82C9-C4E3D2D1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1B4-AACA-403D-B03D-88B41CBE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C4A-DF32-4674-A4BE-D583963F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F9F2-4279-4D39-89DC-A6551B4B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351C-3A2A-4198-AD5E-AF6BBE5C153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8229600" cy="1151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0" y="2160720"/>
            <a:ext cx="89139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1135080" y="836640"/>
            <a:ext cx="7758000" cy="417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3203640" y="2162160"/>
            <a:ext cx="53719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3916440" y="3602160"/>
            <a:ext cx="464796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6"/>
          <a:stretch/>
        </p:blipFill>
        <p:spPr>
          <a:xfrm>
            <a:off x="4067280" y="5013360"/>
            <a:ext cx="4635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97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530064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 على طاع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ن معصية الله   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لى الب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1617840" y="836640"/>
            <a:ext cx="7275240" cy="58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4"/>
          <a:stretch/>
        </p:blipFill>
        <p:spPr>
          <a:xfrm>
            <a:off x="1719360" y="2997360"/>
            <a:ext cx="7173720" cy="57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5"/>
          <a:stretch/>
        </p:blipFill>
        <p:spPr>
          <a:xfrm>
            <a:off x="5702400" y="4653000"/>
            <a:ext cx="3200400" cy="52056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324000" y="364644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لا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زك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324000" y="148428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قبيحاً لحا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45"/>
          <a:stretch/>
        </p:blipFill>
        <p:spPr>
          <a:xfrm>
            <a:off x="476280" y="2421000"/>
            <a:ext cx="81914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19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5013360"/>
            <a:ext cx="33526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58680"/>
            <a:ext cx="892800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62080" y="1989000"/>
            <a:ext cx="8631000" cy="288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76032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287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لبس ف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057480" y="97488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ل السعداء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                            فيه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كار على من يتوهم المماثلة بين من يعلم ما أنزله الله من الحق وبين من لا ي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اء الوصف بالأعم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بيحاً لحا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هو العدل فلا يستوي عن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آمن بالقرآن ومن كفر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ؤمن حيّ القلب يبصر بنور قلبه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علم و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 ميت القلب أعمى البصيرة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ولا 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تعاظ بالمواعظ يحصل لكل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ي عقل راجح سلي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حرص على الاتصاف بصفات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مال السعداء لا بد أن تكون خالص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جه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بدي لا يزول ولا يحو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5410080"/>
            <a:ext cx="86659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شارة إ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يجمع بين السعداء وبين من صلح من الآباء والأهلين والأبناء لتقر أعينهم بهم فترفع درجة الأدنى إلى درجة الأعلى امتناناً م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5" descr=""/>
          <p:cNvPicPr/>
          <p:nvPr/>
        </p:nvPicPr>
        <p:blipFill>
          <a:blip r:embed="rId1"/>
          <a:stretch/>
        </p:blipFill>
        <p:spPr>
          <a:xfrm>
            <a:off x="6227640" y="1413000"/>
            <a:ext cx="1663920" cy="55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"/>
          <p:cNvPicPr/>
          <p:nvPr/>
        </p:nvPicPr>
        <p:blipFill>
          <a:blip r:embed="rId2"/>
          <a:stretch/>
        </p:blipFill>
        <p:spPr>
          <a:xfrm>
            <a:off x="2835360" y="5410080"/>
            <a:ext cx="5024520" cy="50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ها تدخل على المؤمنين في الجنة للسلام والتهنئة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1916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تض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ح ما أعطى الله السعداء من الجنة وذلك للترغيب والتشو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5500800" y="1870200"/>
            <a:ext cx="2311200" cy="52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1522440"/>
            <a:ext cx="864072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وفون ب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قضون الميث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ل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شون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افون سوء الحسا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وا ابتغاء وجه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قاموا الصل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فقوا مما رزقهم الله سراً وعلان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درؤون بالحسنة السيئ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4140360" y="836640"/>
            <a:ext cx="477504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9:59:14Z</dcterms:modified>
  <cp:revision>2077</cp:revision>
  <dc:subject/>
  <dc:title>عرض تقديمي في PowerPoint</dc:title>
</cp:coreProperties>
</file>