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12A-DDD8-4AA2-923E-0AC26562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2D2C-F32B-4EFF-BA0F-AA2A721F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DF0-ECFD-4905-8F28-1DA77A8D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BA1-F9A0-4B15-A33F-4F6F3B65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756-CC3A-4373-B747-1288825B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6C5-5D2E-480B-B56C-3EF8CE2D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1B4-6430-4F56-931F-F87F135E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7AC-1CE4-4D0F-A670-AFE53B8B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37C-CF74-41AA-B2C0-EC954F9E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5C2-0063-4374-A16E-0F4129AD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59A-03A9-4677-AD74-C4B73E3E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E57-D55D-4DDA-A62E-471228FF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5EC9-1BE3-48BB-BB8B-C55F9DC1B47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4211640" y="1844640"/>
            <a:ext cx="41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مربع نص 11"/>
          <p:cNvSpPr/>
          <p:nvPr/>
        </p:nvSpPr>
        <p:spPr>
          <a:xfrm>
            <a:off x="4211640" y="2565360"/>
            <a:ext cx="410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إيتاي ذى القرب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مربع نص 13"/>
          <p:cNvSpPr/>
          <p:nvPr/>
        </p:nvSpPr>
        <p:spPr>
          <a:xfrm>
            <a:off x="179280" y="1844640"/>
            <a:ext cx="316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مربع نص 14"/>
          <p:cNvSpPr/>
          <p:nvPr/>
        </p:nvSpPr>
        <p:spPr>
          <a:xfrm>
            <a:off x="179280" y="256536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وفاء بالعه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21640" cy="568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453708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250920" y="4221000"/>
            <a:ext cx="473400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6"/>
          <a:stretch/>
        </p:blipFill>
        <p:spPr>
          <a:xfrm>
            <a:off x="250920" y="5546880"/>
            <a:ext cx="4778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184464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حش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ن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نقض الأيم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82960" y="981000"/>
            <a:ext cx="51357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525680"/>
            <a:ext cx="8713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"/>
          <p:cNvPicPr/>
          <p:nvPr/>
        </p:nvPicPr>
        <p:blipFill>
          <a:blip r:embed="rId1"/>
          <a:stretch/>
        </p:blipFill>
        <p:spPr>
          <a:xfrm>
            <a:off x="388800" y="4508640"/>
            <a:ext cx="852012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250920" y="2133720"/>
            <a:ext cx="85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جمعت الخير والش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4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5"/>
          <a:stretch/>
        </p:blipFill>
        <p:spPr>
          <a:xfrm>
            <a:off x="388800" y="2708280"/>
            <a:ext cx="8533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393372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نهي عن الحلف وكثرته وعدم الوفاء بما حلف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566100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أراد الله لجعل الناس كلهم مؤمنين ولكنه لحكمة ارادها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388800" y="3287880"/>
            <a:ext cx="8533080" cy="124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388800" y="5018040"/>
            <a:ext cx="8520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21"/>
          <a:stretch/>
        </p:blipFill>
        <p:spPr>
          <a:xfrm>
            <a:off x="324000" y="1268280"/>
            <a:ext cx="8534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82320" cy="141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4581360"/>
            <a:ext cx="35053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63440" y="981000"/>
            <a:ext cx="880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50920" y="2054160"/>
            <a:ext cx="86421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69080" cy="354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4680" y="907920"/>
            <a:ext cx="9139320" cy="8654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179280" y="981000"/>
            <a:ext cx="432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كارم الأخل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259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8690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كفر و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ال ابن مسعود : إن أجمع آية في القرآ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الإحسان وإعطاء ذوي القربى حقوقهم الواجبة من البر والص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ا واللواط وكل قبيح من الفواحش الظاهرة والباطن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ظلم بجميع صوره وأشكا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أيمان بعد توكيد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550800" y="1579680"/>
            <a:ext cx="3116160" cy="47916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5445000"/>
            <a:ext cx="8666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الله تعالى من ينقض 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ن تغزل غزلاً قوياً فإذا استحكم وتم ما أريد منه نقضته فتعبت على الغزل ثم على النقض فكذلك من نقض ما عاهد عليه فهو ظالم ناقص الدين والعق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عل الله الناس مختلفين على أصناف شت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ى يتبين أهل الإيمان من أهل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2063880"/>
            <a:ext cx="866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دل الله تعالى في حساب كل إنسا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يحاسب كل إنسان عن عم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2T22:20:54Z</dcterms:modified>
  <cp:revision>1908</cp:revision>
  <dc:subject/>
  <dc:title>عرض تقديمي في PowerPoint</dc:title>
</cp:coreProperties>
</file>