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BC1-F523-4126-91FD-56D8FAF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06F8-9D37-45ED-B027-52D5388F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797-A203-4850-B178-9D47E9F1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A6F-D19B-4E64-A43D-D6D190755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707-234B-4CBC-AA6F-2B34B423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6FF6-816F-4E79-BC5C-14F716AA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853-57A9-4DA7-B994-7B6A7E74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8C46-3A2B-4D88-850D-D6F5DBDFC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DA9-2C4B-45B5-85EE-2994F55A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12E-2A16-493F-AB40-9EDCF1D8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6EE-F991-4846-B88C-98E1600A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C60-C667-4272-838F-D00EE05F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7746-73A1-43D9-A55C-36B5CF032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484360" y="1052640"/>
            <a:ext cx="423252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179280" y="1522440"/>
            <a:ext cx="864072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خضوع الكون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سبيح المخلوقات ل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صيب الله بالصواعق من يشا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صرف الدعاء لله عباد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أن المؤمنين يسجدون لله تعالى في أول النهار وآخر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0" descr=""/>
          <p:cNvPicPr/>
          <p:nvPr/>
        </p:nvPicPr>
        <p:blipFill>
          <a:blip r:embed="rId3"/>
          <a:stretch/>
        </p:blipFill>
        <p:spPr>
          <a:xfrm>
            <a:off x="4427640" y="765000"/>
            <a:ext cx="45338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3"/>
          <a:stretch/>
        </p:blipFill>
        <p:spPr>
          <a:xfrm>
            <a:off x="179280" y="765000"/>
            <a:ext cx="8640720" cy="119412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2205000"/>
            <a:ext cx="86421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له يصيب بالصواعق من يشاء من عباد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7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2546280" y="1557360"/>
            <a:ext cx="63486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5" name="عنوان 1"/>
          <p:cNvSpPr/>
          <p:nvPr/>
        </p:nvSpPr>
        <p:spPr>
          <a:xfrm>
            <a:off x="324000" y="595008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لا ينتفعون بدعاء غير الله بشيء وأنه سبحانه يحبط دنياه وآخرته كمثل الذي يريد الإمساك بالماء بقبضة يده ولكن لا يستطي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38160" y="689040"/>
            <a:ext cx="9066240" cy="863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4"/>
          <a:stretch/>
        </p:blipFill>
        <p:spPr>
          <a:xfrm>
            <a:off x="324000" y="2781360"/>
            <a:ext cx="8583480" cy="1087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"/>
          <p:cNvPicPr/>
          <p:nvPr/>
        </p:nvPicPr>
        <p:blipFill>
          <a:blip r:embed="rId5"/>
          <a:stretch/>
        </p:blipFill>
        <p:spPr>
          <a:xfrm>
            <a:off x="539640" y="5057640"/>
            <a:ext cx="8487000" cy="885960"/>
          </a:xfrm>
          <a:prstGeom prst="rect">
            <a:avLst/>
          </a:prstGeom>
          <a:ln w="0">
            <a:noFill/>
          </a:ln>
        </p:spPr>
      </p:pic>
      <p:sp>
        <p:nvSpPr>
          <p:cNvPr id="99" name="عنوان 1"/>
          <p:cNvSpPr/>
          <p:nvPr/>
        </p:nvSpPr>
        <p:spPr>
          <a:xfrm>
            <a:off x="250920" y="3933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ا عقوبات للعصاة أو ابتلاءات للمسلم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324000" y="163044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تعالى هو الذي جعل البرق فيه خوف من أذاه وفيه طمع في المط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84"/>
          <a:stretch/>
        </p:blipFill>
        <p:spPr>
          <a:xfrm>
            <a:off x="476280" y="1844640"/>
            <a:ext cx="8191440" cy="25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111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74960" y="5013360"/>
            <a:ext cx="34923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50920" y="1557360"/>
            <a:ext cx="86230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ذكر وظيفة الرسل والملائكة ذكر وظيفة الرعد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292720" y="836640"/>
            <a:ext cx="3581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2400"/>
            <a:ext cx="9375840" cy="101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48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"/>
          <p:cNvPicPr/>
          <p:nvPr/>
        </p:nvPicPr>
        <p:blipFill>
          <a:blip r:embed="rId1"/>
          <a:stretch/>
        </p:blipFill>
        <p:spPr>
          <a:xfrm>
            <a:off x="262080" y="1776240"/>
            <a:ext cx="8631000" cy="4965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"/>
          <p:cNvPicPr/>
          <p:nvPr/>
        </p:nvPicPr>
        <p:blipFill>
          <a:blip r:embed="rId2"/>
          <a:stretch/>
        </p:blipFill>
        <p:spPr>
          <a:xfrm>
            <a:off x="0" y="763560"/>
            <a:ext cx="9144000" cy="65412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مط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01840" y="836640"/>
            <a:ext cx="41785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ع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79280" y="5656320"/>
            <a:ext cx="49690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ول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62080" y="62326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آخر 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خضوع الكون كله بما فيه من أحياء وجمادات وظواهر كونية لإرادة وتسخير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تعالى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ل المخلوقات تسبح وتمج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ربه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كون الله سبحانه وتعالى هو المعبود حقاً وما سواه باطل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كل المخلوقات تسبح وتمجد ربها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كلها ظواه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إل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صيب الله بالصواعق والزلازل والبراكين والفيضا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يشاء من عبا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وبات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</a:rPr>
              <a:t>قد تكون </a:t>
            </a: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صواعق والزلازل والبراكين والفيضانات لقو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بتلاء و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عبادات ومنها الدعاء لا تكون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عز وج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رف شيئاً من أنواع العبادة لغير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قد أ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عاء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العبد لغير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نتفع به بل يحبط دنياه وآخر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ؤمنين يسجدون لله تعالى 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عظيماً وخضوعاً وانقيادا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كافرون ينقادون لقضاء الله  وقدر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ره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22400"/>
            <a:ext cx="9375840" cy="8780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27160" y="2421000"/>
            <a:ext cx="866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خص الغدو والآصال بالذكر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لأنه يزداد ظهور الظلال فيهما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أن ظلالهم تسجد في هذين الوقتين تبعاً لأجسا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5T08:42:26Z</dcterms:modified>
  <cp:revision>2060</cp:revision>
  <dc:subject/>
  <dc:title>عرض تقديمي في PowerPoint</dc:title>
</cp:coreProperties>
</file>