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F3AF-6427-431B-BDA5-E81E40D2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B29-3F13-46CE-935B-7FB68AB9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923-DF73-4CB5-8F2C-9530DE70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E5D-4AEF-40FD-9361-CC4B8DFF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AD7-B58D-402A-B101-E2BFCED9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F02-B4FD-4CB2-B932-2271C711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545-097B-4082-8264-3DB2F32F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C5A-8E1C-42DA-9A1B-62B09DCF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A8B6-BCD5-4EDC-8946-B99FD450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87E6-3CB8-4B4C-ACBF-69B64A60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7B1-7B33-4069-B996-A9DC3348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180-062A-4686-9315-443D691B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4DF0-D208-47E3-A3B5-D58E93361EA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8713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2873520" y="1052640"/>
            <a:ext cx="6019560" cy="58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198440" y="2924280"/>
            <a:ext cx="7694640" cy="596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17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رفة أحوالهم وما يناس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33"/>
          <a:stretch/>
        </p:blipFill>
        <p:spPr>
          <a:xfrm>
            <a:off x="324000" y="2276640"/>
            <a:ext cx="85341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7465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1041480"/>
            <a:ext cx="882972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42160" cy="44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79280" y="934920"/>
            <a:ext cx="881712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39528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530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عاء إلى الله بآياته والدعاء إلى حجج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جهدون أنفسهم في عداوتك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1979640" y="155736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 كفائ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واجب كفائي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ذا قام به من يكفي سقط الإثم عن الباق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ب أن تكون الدعوة إ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بصيرة و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نبغي للداع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رفة أحوال المدعوين وما يناس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عاقبة بالمثل دون تجاوز للضوابط الشرع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فضل من المعاقبة بالمث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بر والاحتساب والعفو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ية الله تعالى ثابتة لأه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 و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معية الله تعالى لأهل التقوى والإحس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ية نصر وتأي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مربع نص 1"/>
          <p:cNvSpPr/>
          <p:nvPr/>
        </p:nvSpPr>
        <p:spPr>
          <a:xfrm>
            <a:off x="250920" y="1700280"/>
            <a:ext cx="86295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حك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وعظة الح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جادلة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3597120" y="907920"/>
            <a:ext cx="528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5240" cy="1152720"/>
          </a:xfrm>
          <a:prstGeom prst="rect">
            <a:avLst/>
          </a:prstGeom>
          <a:ln w="0">
            <a:noFill/>
          </a:ln>
        </p:spPr>
      </p:pic>
      <p:sp>
        <p:nvSpPr>
          <p:cNvPr id="73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31:57Z</dcterms:modified>
  <cp:revision>1955</cp:revision>
  <dc:subject/>
  <dc:title>عرض تقديمي في PowerPoint</dc:title>
</cp:coreProperties>
</file>