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938-031F-462C-B5C5-BA7C3E33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5F4-162C-4BB3-9EFC-ED0E769A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246-5CB2-4805-B77E-BC842CA4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786-4FBD-4213-BEF3-753CB6C0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7E9-EDC9-4735-8A3B-6AECFB1D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81D-9D88-4628-9FE5-666252C7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3FF-D59F-4F9D-B918-6A869919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6D9-FA41-46CC-BFF7-AB6019A8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AD6-BCE0-4018-8420-BCC91AAF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7E0-D935-4926-A963-C3A6235A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C58-6073-477E-9029-080F8D13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5CD-216C-4670-AB4A-9D0F860E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716A-3EE5-4C72-A340-49DF628F5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6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5130720"/>
            <a:ext cx="85690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ا يقبل الحق ولا يرغب في التوب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848196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1042920" y="3654360"/>
            <a:ext cx="7851960" cy="150012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2347920"/>
            <a:ext cx="8569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قوله تعالى ( يخرج الحي من الميت ) اي كما يخرج الفرخ من البيضة </a:t>
            </a:r>
            <a:br>
              <a:rPr sz="2500"/>
            </a:b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تفسير قولة تعالى ( ويخرج الميت من الحي ) اي كما يخرج البيضة من الدجاج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68"/>
          <a:stretch/>
        </p:blipFill>
        <p:spPr>
          <a:xfrm>
            <a:off x="539640" y="2565360"/>
            <a:ext cx="8136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4668840"/>
            <a:ext cx="3504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الرد على الكاف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37480" cy="48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-9360" y="892080"/>
            <a:ext cx="9144000" cy="7365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8927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كيف تفك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778200" y="1015920"/>
            <a:ext cx="3602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حيد الالوهية والربوب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39760" y="43513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مخلوق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39760" y="55054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جب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ذاب على الكافر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دبير الكون خاص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له وحد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زعم أن مع الله مدبراً فق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قرار بتوحيد الربوبية يستلزم الإقرار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قر بأن الله هو الخالق لزمه أ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بد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شركي العرب كانوا يقرون بتوحيد الربوبية ولم ينفعهم ذلك لعدم إقرارهم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ق واحد لا يتعدد فمن لم يكن على الحق فهو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وغل في الفسق يصبح طبعاً لصاحبه فلا يقب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ق ولا يرغب في التو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رآن يربي أتباعه على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كر القرآن على المشركين عدم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184320" y="1052640"/>
            <a:ext cx="8708760" cy="12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4427640" y="2276640"/>
            <a:ext cx="4465440" cy="72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5292720" y="3036960"/>
            <a:ext cx="3527280" cy="73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6"/>
          <a:stretch/>
        </p:blipFill>
        <p:spPr>
          <a:xfrm>
            <a:off x="6156360" y="3828960"/>
            <a:ext cx="2782800" cy="5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7"/>
          <a:stretch/>
        </p:blipFill>
        <p:spPr>
          <a:xfrm>
            <a:off x="3095640" y="3786120"/>
            <a:ext cx="3060720" cy="6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8"/>
          <a:stretch/>
        </p:blipFill>
        <p:spPr>
          <a:xfrm>
            <a:off x="6948360" y="4581360"/>
            <a:ext cx="194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10:01Z</dcterms:modified>
  <cp:revision>1955</cp:revision>
  <dc:subject/>
  <dc:title>عرض تقديمي في PowerPoint</dc:title>
</cp:coreProperties>
</file>