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5C8-6D34-4C1C-9D40-4D794B6F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A2D-538F-45CA-A505-3846D1D2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6C9-EBFA-4824-B93B-72AAFA1C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FD8-F86F-48D4-8CEE-5486674A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162-DA6F-4D3F-9B54-98F3A900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904-3D22-4E31-8BB5-824EB597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563-9F56-46F5-986B-178F1871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44C-786E-4078-AA8C-0083002D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609-B81C-44A9-87B8-8F618480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5D7-3149-47E3-BC6B-19C33DF6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DAA-EE78-4EA5-AEB1-B3EC26F4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041-B3B6-49BF-9222-3394C589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FC79-EF12-45E3-8222-39BE5BA32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232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22440"/>
            <a:ext cx="864072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ضوع الكون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بيح المخلوقات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يب الله بالصواعق من يش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رف الدعاء لله عباد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مؤمنين يسجدون لله تعالى في أول النهار وآخ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427640" y="765000"/>
            <a:ext cx="45338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8640720" cy="11941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2205000"/>
            <a:ext cx="8642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صيب بالصواعق من يشاء من عباد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2546280" y="1557360"/>
            <a:ext cx="6348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324000" y="595008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لا ينتفعون بدعاء غير الله بشيء وأنه سبحانه يحبط دنياه وآخرته كمثل الذي يريد الإمساك بالماء بقبضة يده ولكن لا يستطي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38160" y="689040"/>
            <a:ext cx="906624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8583480" cy="108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539640" y="5057640"/>
            <a:ext cx="8487000" cy="88596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50920" y="3933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ا عقوبات للعصاة أو ابتلاءات للمس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324000" y="163044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تعالى هو الذي جعل البرق فيه خوف من أذاه وفيه طمع في المط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476280" y="1844640"/>
            <a:ext cx="8191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111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5013360"/>
            <a:ext cx="34923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1557360"/>
            <a:ext cx="8623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وظيفة الرسل والملائكة ذكر وظيفة الرع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292720" y="836640"/>
            <a:ext cx="3581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758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48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62080" y="1776240"/>
            <a:ext cx="8631000" cy="496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2"/>
          <a:stretch/>
        </p:blipFill>
        <p:spPr>
          <a:xfrm>
            <a:off x="0" y="763560"/>
            <a:ext cx="9144000" cy="65412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مط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01840" y="83664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ع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5656320"/>
            <a:ext cx="4969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ول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62080" y="623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خر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ضوع الكون كله بما فيه من أحياء وجمادات وظواهر كونية لإرادة وتسخير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ل المخلوقات تسبح وتمج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ب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كون الله سبحانه وتعالى هو المعبود حقاً وما سواه باطل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المخلوقات تسبح وتمجد رب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كلها ظواه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صيب الله بالصواعق والزلازل والبراكين والفيضا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شاء من عبا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وب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بتلاء و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عبادات ومنها الدعاء لا تكون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عز وج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رف شيئاً من أنواع العبادة لغير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أ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عاء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ؤمنين يسجدون لله تعالى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اً وخضوعاً وانقيادا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ون ينقادون لقضاء الله  وقد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ره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27160" y="2421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ص الغدو والآصال بالذكر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لأنه يزداد ظهور الظلال فيهما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أن ظلالهم تسجد في هذين الوقتين تبعاً لأجسا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5T08:42:26Z</dcterms:modified>
  <cp:revision>2060</cp:revision>
  <dc:subject/>
  <dc:title>عرض تقديمي في PowerPoint</dc:title>
</cp:coreProperties>
</file>