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6654-DF1E-43B7-B0BD-FAA1185C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9CE0-AC1A-4895-B5B6-B052F482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C64F-B89F-4B3B-8786-0F78C5A7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6490-855B-4878-9BBB-BF67586A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F720-CBB9-4D7B-BF05-9F2CEC83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175E-8E4E-40D6-9B7B-03D64EA0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7FF3-3E46-49DE-9C14-48EDC872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E34C-B598-4E5D-AEB6-73EE1855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0174-D041-481F-8243-DCBF59CD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6FEA-28BE-4820-B14A-A24301D7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86FE-2762-40F3-B75F-9513348C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7F8C-167C-42AD-8B78-D033D802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8E4F-FDAA-409A-AB4D-FA477A03E0B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209520"/>
            <a:ext cx="8136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353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يونس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سورة يونس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نبي الله يونس عليه السلام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يون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09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يون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إسر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ثبات النبوة و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21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ثبات التوحيد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عوة للإيمان بالرسالات السماو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قصة يونس عليه ال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نجاة قوم يونس لما آمن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3T20:49:25Z</dcterms:modified>
  <cp:revision>1788</cp:revision>
  <dc:subject/>
  <dc:title>عرض تقديمي في PowerPoint</dc:title>
</cp:coreProperties>
</file>