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0D8-C4AC-4D88-9661-28A30054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499-0D98-4C8D-A5FA-8D7A45D8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0D5-3D39-4477-908A-2B965A8D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9EE-74C6-4711-A280-77282529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2CF-E7D3-4E0E-8795-AF84CD7F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71C-2597-4B61-B6A9-A81E99CE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44C-CAD5-49FD-BDD0-C646775A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3E0-892C-4687-83F0-AB549A2A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FF9-CC4F-459E-9465-B5DCE132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DBA-9238-45A6-A1D9-BCC2492F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D27-713D-45DE-8258-587AF4BC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9C5-AA10-45B5-B7F9-C051B731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8323-6DBE-4E0C-943F-F6885B4B1D3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6840" cy="526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1"/>
          <p:cNvSpPr/>
          <p:nvPr/>
        </p:nvSpPr>
        <p:spPr>
          <a:xfrm>
            <a:off x="395280" y="3244680"/>
            <a:ext cx="5532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مربع نص 1"/>
          <p:cNvSpPr/>
          <p:nvPr/>
        </p:nvSpPr>
        <p:spPr>
          <a:xfrm>
            <a:off x="395280" y="418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مربع نص 1"/>
          <p:cNvSpPr/>
          <p:nvPr/>
        </p:nvSpPr>
        <p:spPr>
          <a:xfrm>
            <a:off x="395280" y="4902120"/>
            <a:ext cx="5532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مربع نص 1"/>
          <p:cNvSpPr/>
          <p:nvPr/>
        </p:nvSpPr>
        <p:spPr>
          <a:xfrm>
            <a:off x="395280" y="562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22840" y="1052640"/>
            <a:ext cx="50655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271520" y="1700280"/>
            <a:ext cx="7585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35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. لا بد أن يكون الإنفاق متواز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3492360" y="2924280"/>
            <a:ext cx="5359680" cy="54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3851280" y="4149720"/>
            <a:ext cx="504180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47973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قوبة في الدنيا و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2276640"/>
            <a:ext cx="856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ظيم لشان الوالدين والإحسان إليهما والنهي عن عقوقهم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6"/>
          <a:stretch/>
        </p:blipFill>
        <p:spPr>
          <a:xfrm>
            <a:off x="4524480" y="5381640"/>
            <a:ext cx="4368600" cy="49536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324000" y="59500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له بدأ به ولا يقبل أي عمل إل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6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4"/>
          <a:stretch/>
        </p:blipFill>
        <p:spPr>
          <a:xfrm>
            <a:off x="1892160" y="3156120"/>
            <a:ext cx="5359680" cy="54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5"/>
          <a:stretch/>
        </p:blipFill>
        <p:spPr>
          <a:xfrm>
            <a:off x="2050920" y="3137040"/>
            <a:ext cx="5042160" cy="58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6"/>
          <a:stretch/>
        </p:blipFill>
        <p:spPr>
          <a:xfrm>
            <a:off x="3419640" y="4405320"/>
            <a:ext cx="4368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1530360"/>
            <a:ext cx="887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813040" y="4565520"/>
            <a:ext cx="3517920" cy="50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0920" y="1089000"/>
            <a:ext cx="8642160" cy="565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352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50920" y="2320920"/>
            <a:ext cx="8507160" cy="442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50920" y="917640"/>
            <a:ext cx="8613720" cy="135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4292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ص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جرهم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229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اً لين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124000" y="170028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طي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623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نفق المال في غير ح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وحيد 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أ الله تعالى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حسان إلى الوالدي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قوق ا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زداد بر الوالدين والإحسان إليهما والتلطف معهم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ا تقدم بهما العم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ول (أف) ل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هو من العق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كلمة (أف) على الوالدين من العقو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تدل على التضج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الآباء على الأبن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عاء لهم أحياء وأموات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576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غفرة الله تعالى تكون قريبة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هل الصلاح والإنابة والتو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081840"/>
            <a:ext cx="8665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ذوي القربى والمساكين وأبناء السبي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ر والإكرام لهم  ومنها ما هو واجب ومنها ما هو مسنو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إنفاق في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ء الملكان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في الأمور والقسط في الإنفاق المتواز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خل والتقتير والتبذير والإسراف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ؤدي التبذ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ندم والحسرة وبقاء الإنسان فارغ اليد متعرضاً لسؤال الناس والتذلل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3870360"/>
            <a:ext cx="86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طي الله ويمنع عن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عظيمة يعلمها الله سبحانه و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3:32Z</dcterms:modified>
  <cp:revision>1971</cp:revision>
  <dc:subject/>
  <dc:title>عرض تقديمي في PowerPoint</dc:title>
</cp:coreProperties>
</file>