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ED5-0F74-42A5-9B3C-E104267C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38C-3FE5-4526-AB79-2D133FC9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706-3CC3-4F1C-A7B5-B39803A3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6D7-EC09-4A6A-B35C-8AA12CC6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D31-94A8-46B5-A594-25415754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373-F44C-4037-81C4-D2762163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E58-C1D4-4376-B3A1-B618C6E6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D3D-5A18-4308-B808-CD4783D5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523-9F1F-4509-89D0-B478AB90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9A5-D3C2-43B2-8833-169C17E9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E01-729F-44CD-8952-464CFED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A4E-DF90-4A00-AEB2-C58EBC9E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8285-3E13-41EE-881A-56F4B6C5B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إيحاء الله إلى رجل من البشر أمر موافق للحكمة لا محل استغراب وتعج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6386400" cy="66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968400" y="3141720"/>
            <a:ext cx="79484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1547640" y="1700280"/>
            <a:ext cx="7272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952720" y="5229360"/>
            <a:ext cx="323856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844640"/>
            <a:ext cx="8664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أعلم بمراد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62080" y="981000"/>
            <a:ext cx="67010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00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3357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43000" y="422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رسل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ب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رسول د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-15840" y="866880"/>
            <a:ext cx="915984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3059280" y="104760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قرآن الكريم كتاب محكم واضح م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ما اشتمل عليه من حلال وحرام وحدود وأحك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يحاء الله إلى رجل من البشر أم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وافق للحكمة لا محل استغراب وتع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بوة محمد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شرى أهل الإيمان والعمل الصال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ما أعد الله لهم من النع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دة تعجب العرب من بلاغة وفصا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رآن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صف المشركون القرآن الكريم ب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سح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8172360" y="351792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8172360" y="445464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533160" cy="5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7"/>
          <a:stretch/>
        </p:blipFill>
        <p:spPr>
          <a:xfrm>
            <a:off x="2166840" y="4508640"/>
            <a:ext cx="5335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5:29:29Z</dcterms:modified>
  <cp:revision>1888</cp:revision>
  <dc:subject/>
  <dc:title>عرض تقديمي في PowerPoint</dc:title>
</cp:coreProperties>
</file>