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DEB3-436D-4F73-AFFC-BE8935EED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A0DE-36B4-4473-8480-BAA24792B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D717-A725-4299-A454-A5401FB9C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4333-9A52-4FD9-8A78-A72D19AFC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3070-78B8-49B7-844D-8BC9EA30B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EB59-0EE3-4AEC-8875-1A437D19F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3BAA-70CB-4EC2-9514-F5717DD46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E726-6954-4E82-B13F-15B01DAE6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013C-C410-4F57-89C1-AC69FD2BE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BB0C-FD6E-48C2-92A8-32445232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744D-2AC2-4939-A29B-D3DC875D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41F3-3070-4E81-8647-E2BF320D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403C8-EA68-42A9-AB38-74BDBD5C3D4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7" name="عنوان 1"/>
          <p:cNvSpPr/>
          <p:nvPr/>
        </p:nvSpPr>
        <p:spPr>
          <a:xfrm>
            <a:off x="252360" y="1773360"/>
            <a:ext cx="86407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رتفع أبصارهم دون أن تطرف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مسرعي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رافعي رؤوسهم إلى السما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3"/>
          <a:stretch/>
        </p:blipFill>
        <p:spPr>
          <a:xfrm>
            <a:off x="363600" y="1052640"/>
            <a:ext cx="852948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1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9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7" descr=""/>
          <p:cNvPicPr/>
          <p:nvPr/>
        </p:nvPicPr>
        <p:blipFill>
          <a:blip r:embed="rId3"/>
          <a:stretch/>
        </p:blipFill>
        <p:spPr>
          <a:xfrm>
            <a:off x="250920" y="1484280"/>
            <a:ext cx="86421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5" name="عنوان 1"/>
          <p:cNvSpPr/>
          <p:nvPr/>
        </p:nvSpPr>
        <p:spPr>
          <a:xfrm>
            <a:off x="324000" y="4797360"/>
            <a:ext cx="85690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 يتكلم عن الكافرين الظالمي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13" descr=""/>
          <p:cNvPicPr/>
          <p:nvPr/>
        </p:nvPicPr>
        <p:blipFill>
          <a:blip r:embed="rId3"/>
          <a:stretch/>
        </p:blipFill>
        <p:spPr>
          <a:xfrm>
            <a:off x="4103640" y="1052640"/>
            <a:ext cx="4789440" cy="647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"/>
          <p:cNvPicPr/>
          <p:nvPr/>
        </p:nvPicPr>
        <p:blipFill>
          <a:blip r:embed="rId4"/>
          <a:stretch/>
        </p:blipFill>
        <p:spPr>
          <a:xfrm>
            <a:off x="2262240" y="2492280"/>
            <a:ext cx="6640560" cy="533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5" descr=""/>
          <p:cNvPicPr/>
          <p:nvPr/>
        </p:nvPicPr>
        <p:blipFill>
          <a:blip r:embed="rId5"/>
          <a:stretch/>
        </p:blipFill>
        <p:spPr>
          <a:xfrm>
            <a:off x="1487520" y="4076640"/>
            <a:ext cx="7415280" cy="584280"/>
          </a:xfrm>
          <a:prstGeom prst="rect">
            <a:avLst/>
          </a:prstGeom>
          <a:ln w="0">
            <a:noFill/>
          </a:ln>
        </p:spPr>
      </p:pic>
      <p:sp>
        <p:nvSpPr>
          <p:cNvPr id="89" name="عنوان 1"/>
          <p:cNvSpPr/>
          <p:nvPr/>
        </p:nvSpPr>
        <p:spPr>
          <a:xfrm>
            <a:off x="324000" y="314172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إن الله ليمهل للظالم حتى إذا أخذه لم يفلت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عنوان 1"/>
          <p:cNvSpPr/>
          <p:nvPr/>
        </p:nvSpPr>
        <p:spPr>
          <a:xfrm>
            <a:off x="324000" y="170028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صرف العبادة لغير الله تعال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50"/>
          <a:stretch/>
        </p:blipFill>
        <p:spPr>
          <a:xfrm>
            <a:off x="290520" y="2205000"/>
            <a:ext cx="860256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351640" cy="3097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0" y="-7920"/>
            <a:ext cx="9144000" cy="1276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2884320" y="4819680"/>
            <a:ext cx="351792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179280" y="1020600"/>
            <a:ext cx="8817120" cy="56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0" descr=""/>
          <p:cNvPicPr/>
          <p:nvPr/>
        </p:nvPicPr>
        <p:blipFill>
          <a:blip r:embed="rId1"/>
          <a:stretch/>
        </p:blipFill>
        <p:spPr>
          <a:xfrm>
            <a:off x="179280" y="2133720"/>
            <a:ext cx="8713800" cy="4535280"/>
          </a:xfrm>
          <a:prstGeom prst="rect">
            <a:avLst/>
          </a:prstGeom>
          <a:ln w="0">
            <a:noFill/>
          </a:ln>
        </p:spPr>
      </p:pic>
      <p:sp>
        <p:nvSpPr>
          <p:cNvPr id="50" name="عنوان 1"/>
          <p:cNvSpPr/>
          <p:nvPr/>
        </p:nvSpPr>
        <p:spPr>
          <a:xfrm>
            <a:off x="371520" y="413064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رافعي رؤوسهم إلى السما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عنوان 1"/>
          <p:cNvSpPr/>
          <p:nvPr/>
        </p:nvSpPr>
        <p:spPr>
          <a:xfrm>
            <a:off x="395280" y="613080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ث بعد الموت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2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"/>
          <p:cNvPicPr/>
          <p:nvPr/>
        </p:nvPicPr>
        <p:blipFill>
          <a:blip r:embed="rId3"/>
          <a:stretch/>
        </p:blipFill>
        <p:spPr>
          <a:xfrm>
            <a:off x="-15840" y="981000"/>
            <a:ext cx="9105840" cy="935280"/>
          </a:xfrm>
          <a:prstGeom prst="rect">
            <a:avLst/>
          </a:prstGeom>
          <a:ln w="0">
            <a:noFill/>
          </a:ln>
        </p:spPr>
      </p:pic>
      <p:sp>
        <p:nvSpPr>
          <p:cNvPr id="54" name="عنوان 1"/>
          <p:cNvSpPr/>
          <p:nvPr/>
        </p:nvSpPr>
        <p:spPr>
          <a:xfrm>
            <a:off x="6480" y="1179360"/>
            <a:ext cx="37018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  <a:cs typeface="Times New Roman"/>
              </a:rPr>
              <a:t>عاقبة الكافرين المكذبين يوم القيامة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395280" y="465300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قلوبهم خالية من العقل لفزعه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395280" y="562608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حلفتم في الدني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395280" y="515772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خوف الكفا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179280" y="14842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ظل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89000" y="2043000"/>
            <a:ext cx="8665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اقبة الظالمي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نا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179280" y="2492280"/>
            <a:ext cx="866628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له تعالى عال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كل شيء لا تخفى عليه خافية غير غافل عن أعماله عباده بل يعلمها ويحصيها عليهم ويحاسبهم عليها يوم القيام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0680" y="3357720"/>
            <a:ext cx="86662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ال يوم القيامة على الكافرين المكذبي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شدة يوم القيامة عليهم وما سيكونون عليه من الذلة والصغا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179280" y="4203720"/>
            <a:ext cx="866628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ال الكافرين المكذبين يوم القيام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ندم حتى إنهم يتمنون العودة إلى الدنيا مرة أخرى ليؤمنوا وما هم بمؤمني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79280" y="490680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كر الكافرين والمكذبي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عظيم حتى إنه من شدته وخبثه يكاد يزيل الجبال عن أماكن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539100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درة الله تعالى على إبطال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ر الكافرين مهما خفي وأُحك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9" name="عنوان 1"/>
          <p:cNvSpPr/>
          <p:nvPr/>
        </p:nvSpPr>
        <p:spPr>
          <a:xfrm>
            <a:off x="204840" y="1700280"/>
            <a:ext cx="864072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بأنهم حلفوا في الدنيا أنه لا بعث يوم القيام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أنهم سكنوا مساكن الظالمي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نه عرفوا ماذا فعل الله بالظالمي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ذكر الله لهم الأمثال ولم يأخذوا منها العبر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7" descr=""/>
          <p:cNvPicPr/>
          <p:nvPr/>
        </p:nvPicPr>
        <p:blipFill>
          <a:blip r:embed="rId3"/>
          <a:stretch/>
        </p:blipFill>
        <p:spPr>
          <a:xfrm>
            <a:off x="179280" y="1052640"/>
            <a:ext cx="873288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3" name="عنوان 1"/>
          <p:cNvSpPr/>
          <p:nvPr/>
        </p:nvSpPr>
        <p:spPr>
          <a:xfrm>
            <a:off x="252360" y="1844640"/>
            <a:ext cx="86407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إنذار والتبشي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7" descr=""/>
          <p:cNvPicPr/>
          <p:nvPr/>
        </p:nvPicPr>
        <p:blipFill>
          <a:blip r:embed="rId3"/>
          <a:stretch/>
        </p:blipFill>
        <p:spPr>
          <a:xfrm>
            <a:off x="392040" y="1039680"/>
            <a:ext cx="8562960" cy="7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28T09:00:33Z</dcterms:modified>
  <cp:revision>1865</cp:revision>
  <dc:subject/>
  <dc:title>عرض تقديمي في PowerPoint</dc:title>
</cp:coreProperties>
</file>