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C347-4BEB-4CCF-8679-F50A57A0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5BCE-D16A-4170-A409-A9BD9203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019A-FBE8-4D9A-9B44-4B3EF299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FB76-6675-4544-9E97-B6701643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7980-3041-4991-9A7D-D9B15267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B34-83BE-42F3-ACC7-0AE71B6C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0A32-FB92-42E2-A9F0-FA0650C8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CC34-DA16-4530-84BA-069A21C7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7FE5-5A3D-4FFE-BF2D-8469DD90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B58-4FF5-4C2D-A048-9C334DB3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7EE1-368F-4123-8B6F-B8C63FB4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C994-F202-40AD-A017-CE8E0797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325E-3289-4979-86B7-49AD3C29A35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1262160"/>
            <a:ext cx="85341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57320" y="1844640"/>
            <a:ext cx="87357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06280" y="27766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النحل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8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6280" y="3357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مسميات 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ورة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860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سورة النع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ا ذكر الله فيها من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آيات الخلق وآيات النعم وآيات التدب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رابط مستقيم 19"/>
          <p:cNvSpPr/>
          <p:nvPr/>
        </p:nvSpPr>
        <p:spPr>
          <a:xfrm>
            <a:off x="8820000" y="1662120"/>
            <a:ext cx="0" cy="254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مستكبرين ومواقف المتق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يفة الرس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حكام الردة والإكراه على الكف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cxnSp>
        <p:nvCxnSpPr>
          <p:cNvPr id="68" name="رابط كسهم مستقيم 28"/>
          <p:cNvCxnSpPr/>
          <p:nvPr/>
        </p:nvCxnSpPr>
        <p:spPr>
          <a:xfrm flipH="1">
            <a:off x="8456040" y="4206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9736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جحود النع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179280" y="1455840"/>
            <a:ext cx="8798040" cy="5213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1T23:24:42Z</dcterms:modified>
  <cp:revision>1824</cp:revision>
  <dc:subject/>
  <dc:title>عرض تقديمي في PowerPoint</dc:title>
</cp:coreProperties>
</file>