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32B-41E1-415E-88EF-6DCDD5D0C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A10-C5BE-4129-A204-6496227A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6343-42DA-48E6-8E24-F38CB128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5D3-61BB-4C81-8D1E-AF47C215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17B-6422-4426-AC63-21475FB5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7C6-D2AB-47D7-8AA5-C2E9F3C0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7A3-9A6F-4E45-94D4-FA37EF17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001-4276-43A9-B296-DDA4952C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E2E7-669C-44C5-B56D-6751AAB4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1678-2EEC-4403-BC2F-698619DC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9F4-4F2F-40B5-97EC-A7F4877F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0B8C-CBB8-4C39-AE84-742C28BD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2A3E-B509-4466-B034-9BDF11C02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1143000" y="1008000"/>
            <a:ext cx="7750080" cy="1052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250920" y="2189160"/>
            <a:ext cx="87264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539640" y="911160"/>
            <a:ext cx="8290080" cy="11606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250920" y="2276640"/>
            <a:ext cx="86072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حذير من الشيطان وكيد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10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3"/>
          <a:stretch/>
        </p:blipFill>
        <p:spPr>
          <a:xfrm>
            <a:off x="250920" y="1468440"/>
            <a:ext cx="864216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179280" y="1628640"/>
            <a:ext cx="86918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 هي : يجعل العبد بينه وبين ما يخافه ويحذره وقاية تقيه م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1849320" y="1006560"/>
            <a:ext cx="7021800" cy="622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4"/>
          <a:stretch/>
        </p:blipFill>
        <p:spPr>
          <a:xfrm>
            <a:off x="1332000" y="2997360"/>
            <a:ext cx="7605720" cy="5713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5"/>
          <a:stretch/>
        </p:blipFill>
        <p:spPr>
          <a:xfrm>
            <a:off x="303120" y="4308480"/>
            <a:ext cx="8647200" cy="571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6"/>
          <a:stretch/>
        </p:blipFill>
        <p:spPr>
          <a:xfrm>
            <a:off x="4336920" y="2133720"/>
            <a:ext cx="4483080" cy="691920"/>
          </a:xfrm>
          <a:prstGeom prst="rect">
            <a:avLst/>
          </a:prstGeom>
          <a:ln w="0">
            <a:noFill/>
          </a:ln>
        </p:spPr>
      </p:pic>
      <p:sp>
        <p:nvSpPr>
          <p:cNvPr id="117" name="عنوان 1"/>
          <p:cNvSpPr/>
          <p:nvPr/>
        </p:nvSpPr>
        <p:spPr>
          <a:xfrm>
            <a:off x="179280" y="3645000"/>
            <a:ext cx="8691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هو مصدر سعادة الإنسا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عنوان 1"/>
          <p:cNvSpPr/>
          <p:nvPr/>
        </p:nvSpPr>
        <p:spPr>
          <a:xfrm>
            <a:off x="179280" y="5013360"/>
            <a:ext cx="8691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حذر منه وتقوية إيمانه بر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77"/>
          <a:stretch/>
        </p:blipFill>
        <p:spPr>
          <a:xfrm>
            <a:off x="250920" y="934920"/>
            <a:ext cx="864216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3240" y="9360"/>
            <a:ext cx="9145440" cy="1305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771560"/>
            <a:ext cx="831852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"/>
          <p:cNvPicPr/>
          <p:nvPr/>
        </p:nvPicPr>
        <p:blipFill>
          <a:blip r:embed="rId2"/>
          <a:stretch/>
        </p:blipFill>
        <p:spPr>
          <a:xfrm>
            <a:off x="216000" y="966960"/>
            <a:ext cx="867708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0" y="981000"/>
            <a:ext cx="912960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79280" y="2276640"/>
            <a:ext cx="8642520" cy="44892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74680" y="4941720"/>
            <a:ext cx="49449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ائل قدرت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285840" y="548640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دم وحو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62080" y="595008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زي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508640"/>
            <a:ext cx="494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وثمرات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900520" y="1233360"/>
            <a:ext cx="426384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خطورة الشيط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27160" y="1413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واع لباس الجس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30"/>
          <p:cNvSpPr/>
          <p:nvPr/>
        </p:nvSpPr>
        <p:spPr>
          <a:xfrm flipH="1">
            <a:off x="4570200" y="1844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31"/>
          <p:cNvSpPr/>
          <p:nvPr/>
        </p:nvSpPr>
        <p:spPr>
          <a:xfrm flipH="1">
            <a:off x="1476000" y="213372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3"/>
          <p:cNvCxnSpPr/>
          <p:nvPr/>
        </p:nvCxnSpPr>
        <p:spPr>
          <a:xfrm>
            <a:off x="7956360" y="214128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6804000" y="2443320"/>
            <a:ext cx="1800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ستر العو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35"/>
          <p:cNvCxnSpPr/>
          <p:nvPr/>
        </p:nvCxnSpPr>
        <p:spPr>
          <a:xfrm>
            <a:off x="1476000" y="2133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395280" y="2514600"/>
            <a:ext cx="2305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لباس جمال وزي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ستر العورات وحفظها من نظر الآخر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3645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كشف العورات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100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ينقسم إ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42"/>
          <p:cNvSpPr/>
          <p:nvPr/>
        </p:nvSpPr>
        <p:spPr>
          <a:xfrm flipH="1">
            <a:off x="4593960" y="494172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43"/>
          <p:cNvSpPr/>
          <p:nvPr/>
        </p:nvSpPr>
        <p:spPr>
          <a:xfrm flipH="1">
            <a:off x="1499760" y="523080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44"/>
          <p:cNvCxnSpPr/>
          <p:nvPr/>
        </p:nvCxnSpPr>
        <p:spPr>
          <a:xfrm>
            <a:off x="7980120" y="523872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7236000" y="554040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جس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رابط كسهم مستقيم 46"/>
          <p:cNvCxnSpPr/>
          <p:nvPr/>
        </p:nvCxnSpPr>
        <p:spPr>
          <a:xfrm>
            <a:off x="1499760" y="52304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عنوان 1"/>
          <p:cNvSpPr/>
          <p:nvPr/>
        </p:nvSpPr>
        <p:spPr>
          <a:xfrm>
            <a:off x="419040" y="5611680"/>
            <a:ext cx="1488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روح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2716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جسد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ثيا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باس الروح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4581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شيطان على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داع والتمو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3068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زيين الشيطان للقبيح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42"/>
          <p:cNvSpPr/>
          <p:nvPr/>
        </p:nvSpPr>
        <p:spPr>
          <a:xfrm flipH="1">
            <a:off x="4593960" y="3500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43"/>
          <p:cNvSpPr/>
          <p:nvPr/>
        </p:nvSpPr>
        <p:spPr>
          <a:xfrm flipH="1">
            <a:off x="1499760" y="3789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" name="رابط كسهم مستقيم 44"/>
          <p:cNvCxnSpPr/>
          <p:nvPr/>
        </p:nvCxnSpPr>
        <p:spPr>
          <a:xfrm>
            <a:off x="7980120" y="3797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3" name="عنوان 1"/>
          <p:cNvSpPr/>
          <p:nvPr/>
        </p:nvSpPr>
        <p:spPr>
          <a:xfrm>
            <a:off x="7236000" y="409896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شف العور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46"/>
          <p:cNvCxnSpPr/>
          <p:nvPr/>
        </p:nvCxnSpPr>
        <p:spPr>
          <a:xfrm>
            <a:off x="1499760" y="3789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419040" y="4170240"/>
            <a:ext cx="1704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نزع لباس الحشم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27160" y="5084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ستطاع الشيط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خراج الأبوين من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در سعادة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لباس التقو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يطان حريص على تزيي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قبي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24"/>
          <p:cNvCxnSpPr/>
          <p:nvPr/>
        </p:nvCxnSpPr>
        <p:spPr>
          <a:xfrm>
            <a:off x="5171760" y="37893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0" name="عنوان 1"/>
          <p:cNvSpPr/>
          <p:nvPr/>
        </p:nvSpPr>
        <p:spPr>
          <a:xfrm>
            <a:off x="4427640" y="4091040"/>
            <a:ext cx="1392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المفات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5589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سعى الشيطان جاهداً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نع ذريتهما من دخول الجن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250920" y="6093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شيطان وقبيله يرون بني آدم من حيث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رون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89532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25092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حذر من الشيطان وقبيل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م يكونون أشد مكراً وكيداً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لاية الشيطان وتسلطه على الإنسان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ضعف الإيم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