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FF3-5FCB-459D-BE31-9FABCB82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048-A516-484A-9104-0F2D60D8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E28-BF1F-474A-B099-F068F944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929-E184-4486-8FC3-36D39AF8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0C88-35A5-435F-A757-13ABCAA9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1F6-AFF1-4D03-8FC8-D5AEDAE4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3AD-2353-4132-82A9-E3A6369B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CB6-C790-42A3-A3AE-2B40C093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F99-C7A6-4244-B083-038F503B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F79-2A6C-4F9A-9408-9BDCC1AD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B37-CD7E-4AF0-9EFC-F5E49F13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738-402B-4288-85C6-DCA869F7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00E5-FED6-4D5D-83C9-9A521AFC90E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209520"/>
            <a:ext cx="8136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ن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يونس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نبي الله يونس عليه السلام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0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إس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نبوة و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توحيد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عوة للإيمان بالرسالات السماو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قصة يونس عليه ال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جاة قوم يونس لما آم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3T20:49:25Z</dcterms:modified>
  <cp:revision>1788</cp:revision>
  <dc:subject/>
  <dc:title>عرض تقديمي في PowerPoint</dc:title>
</cp:coreProperties>
</file>