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1FDD-8D30-4891-AB9C-D0F0A26B5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63D6-AB4A-40D3-96B3-971D4B9D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6838-8F12-41B6-813E-0A57B1C0B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ABCB-19D0-4AC9-96F4-60EFC6ABC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B977-3643-4501-9C81-98330EDB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4151-B04B-4556-8C73-FDAC1116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A5FE-B253-461B-AC76-CBF89985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D103-B35B-4B6B-832B-8FC473F6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AFA6-11DE-4091-B03A-1A3BDA6C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BA70-027B-4019-B508-1A83261F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7122-FFF8-4FF2-98B2-5F7F44A8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F116-B55B-4F84-889F-CA411DEF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6FB9-01E4-4600-A2F4-DF3032D412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0920" y="1484280"/>
            <a:ext cx="8665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يعرف المؤمنون الكفا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لاماته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ال أصحاب الأعراف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رابط مستقيم 18"/>
          <p:cNvSpPr/>
          <p:nvPr/>
        </p:nvSpPr>
        <p:spPr>
          <a:xfrm flipH="1">
            <a:off x="4571640" y="24210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رابط مستقيم 19"/>
          <p:cNvSpPr/>
          <p:nvPr/>
        </p:nvSpPr>
        <p:spPr>
          <a:xfrm flipH="1">
            <a:off x="4566960" y="267804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رابط كسهم مستقيم 20"/>
          <p:cNvCxnSpPr/>
          <p:nvPr/>
        </p:nvCxnSpPr>
        <p:spPr>
          <a:xfrm flipH="1">
            <a:off x="8456040" y="3573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9" name="عنوان 1"/>
          <p:cNvSpPr/>
          <p:nvPr/>
        </p:nvSpPr>
        <p:spPr>
          <a:xfrm>
            <a:off x="250920" y="3357720"/>
            <a:ext cx="82087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ثم تسعهم رحمة الله بعد تطهيرهم من الذنو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رابط مستقيم 29"/>
          <p:cNvSpPr/>
          <p:nvPr/>
        </p:nvSpPr>
        <p:spPr>
          <a:xfrm>
            <a:off x="8820000" y="2671920"/>
            <a:ext cx="0" cy="90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رابط كسهم مستقيم 30"/>
          <p:cNvCxnSpPr/>
          <p:nvPr/>
        </p:nvCxnSpPr>
        <p:spPr>
          <a:xfrm flipH="1">
            <a:off x="8456040" y="2997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عنوان 1"/>
          <p:cNvSpPr/>
          <p:nvPr/>
        </p:nvSpPr>
        <p:spPr>
          <a:xfrm>
            <a:off x="324000" y="2803680"/>
            <a:ext cx="8135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يحبسون على سور بين الجنة والنا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وان 1"/>
          <p:cNvSpPr/>
          <p:nvPr/>
        </p:nvSpPr>
        <p:spPr>
          <a:xfrm>
            <a:off x="250920" y="4005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فلاح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إكثار من الطاعات 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قليل من السيئات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250920" y="472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مل الصالح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ث عليه الإسلا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27160" y="537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حتقار العمل الصالح ولو قل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جوز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8607240" cy="266400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3933720"/>
            <a:ext cx="85978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صلي ، غير مصلي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صلي : تسهل عليه جميع الطاعات ويكون محبوباً من الله ومن جميع الناس وتكون حياته سعيدة ويوم القيامة في الجن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غير مصلي : تصعب عليه جميع الطاعات ويكون مكروهاً من الله ومن جميع الناس وتكون حياته تعيسه ويوم القيامة في النا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70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3"/>
          <a:stretch/>
        </p:blipFill>
        <p:spPr>
          <a:xfrm>
            <a:off x="539640" y="1628640"/>
            <a:ext cx="83552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179280" y="3517920"/>
            <a:ext cx="8691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وعدنا على الإيمان والعمل الصالح الجن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3"/>
          <a:stretch/>
        </p:blipFill>
        <p:spPr>
          <a:xfrm>
            <a:off x="106200" y="907920"/>
            <a:ext cx="8837640" cy="59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4"/>
          <a:stretch/>
        </p:blipFill>
        <p:spPr>
          <a:xfrm>
            <a:off x="880920" y="2781360"/>
            <a:ext cx="8062920" cy="736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5"/>
          <a:stretch/>
        </p:blipFill>
        <p:spPr>
          <a:xfrm>
            <a:off x="1346040" y="4292640"/>
            <a:ext cx="7525080" cy="704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"/>
          <p:cNvPicPr/>
          <p:nvPr/>
        </p:nvPicPr>
        <p:blipFill>
          <a:blip r:embed="rId6"/>
          <a:stretch/>
        </p:blipFill>
        <p:spPr>
          <a:xfrm>
            <a:off x="3995640" y="1504800"/>
            <a:ext cx="4330800" cy="771840"/>
          </a:xfrm>
          <a:prstGeom prst="rect">
            <a:avLst/>
          </a:prstGeom>
          <a:ln w="0">
            <a:noFill/>
          </a:ln>
        </p:spPr>
      </p:pic>
      <p:sp>
        <p:nvSpPr>
          <p:cNvPr id="102" name="عنوان 1"/>
          <p:cNvSpPr/>
          <p:nvPr/>
        </p:nvSpPr>
        <p:spPr>
          <a:xfrm>
            <a:off x="272880" y="5029200"/>
            <a:ext cx="8691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توبيخ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47"/>
          <a:stretch/>
        </p:blipFill>
        <p:spPr>
          <a:xfrm>
            <a:off x="250920" y="692280"/>
            <a:ext cx="864216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30240"/>
            <a:ext cx="9129600" cy="1166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179280" y="1989000"/>
            <a:ext cx="87202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909720" y="1268280"/>
            <a:ext cx="7858080" cy="93672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50920" y="2492280"/>
            <a:ext cx="8597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تتكلم عن حال أصحاب النا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0" y="922320"/>
            <a:ext cx="9131400" cy="59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9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8623080" cy="47530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438120" y="443700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لعذا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406440" y="503064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عذابُه، والطّرد من رحمته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3"/>
          <a:stretch/>
        </p:blipFill>
        <p:spPr>
          <a:xfrm>
            <a:off x="250920" y="858960"/>
            <a:ext cx="8653320" cy="91440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430200" y="562608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يطلوبنها معوجة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417600" y="617868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ن أصحاب الجنة والنار سو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250920" y="1197000"/>
            <a:ext cx="8737560" cy="79200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250920" y="2060640"/>
            <a:ext cx="8597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حائط بين الجنة والنار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1484280"/>
            <a:ext cx="866592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صحاب الأعراف هم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م تساوت حسناتهم وسيئاتهم فحبسوا على الأعراف حتى يقضي الله في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60280" y="2565360"/>
            <a:ext cx="8666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قوله تعالى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ه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نداء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تقريع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     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توبيخ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0680" y="3357720"/>
            <a:ext cx="8666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عتراف الكفار بالوعد يوم القيامة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نفع ولا يجد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00160" y="4076640"/>
            <a:ext cx="8665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كل إنسان يجازى بعمله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5300640"/>
            <a:ext cx="8665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بين أصحاب الجنة وأصحاب النا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ج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782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"/>
          <p:cNvPicPr/>
          <p:nvPr/>
        </p:nvPicPr>
        <p:blipFill>
          <a:blip r:embed="rId2"/>
          <a:stretch/>
        </p:blipFill>
        <p:spPr>
          <a:xfrm>
            <a:off x="3279600" y="2492280"/>
            <a:ext cx="4245120" cy="603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"/>
          <p:cNvPicPr/>
          <p:nvPr/>
        </p:nvPicPr>
        <p:blipFill>
          <a:blip r:embed="rId3"/>
          <a:stretch/>
        </p:blipFill>
        <p:spPr>
          <a:xfrm>
            <a:off x="324000" y="4500720"/>
            <a:ext cx="8516880" cy="72360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50920" y="6060960"/>
            <a:ext cx="86659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حجاب الذي بين أصحاب الجنة وأصحاب النا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يشرف على الدارين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ينظر من عليه أهل الجنة وأهل النا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