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44D-AB45-44DF-914E-AC0DE69E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9F5-2AE1-4F51-96CC-E3FC6141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98E5-7E10-46C6-971E-339AF6F0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519-96E3-46A2-8B29-0A1ADDDD9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843-3356-4E86-8131-A55C80AB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662-86E8-409A-9545-977DB858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3412-6E57-4266-A291-0223140E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9F2-06E8-418A-AEA9-9FB27E5F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B01-3FE7-4F79-AA70-A1B75C0A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82C-C6AB-43EB-8106-E8D30C3F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C8D6-332B-4250-8785-3D5507B2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1E4B-5420-4E8E-9E4B-ED3366D5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7DE0-D8DE-478C-9C1C-20D4139CB0D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916280"/>
            <a:ext cx="863424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ذين أنعم الله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غضوب علي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ضال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57531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56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3"/>
          <a:stretch/>
        </p:blipFill>
        <p:spPr>
          <a:xfrm>
            <a:off x="679320" y="1125360"/>
            <a:ext cx="8342280" cy="520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6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5690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3"/>
          <a:stretch/>
        </p:blipFill>
        <p:spPr>
          <a:xfrm>
            <a:off x="831960" y="1197000"/>
            <a:ext cx="8062920" cy="495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"/>
          <p:cNvPicPr/>
          <p:nvPr/>
        </p:nvPicPr>
        <p:blipFill>
          <a:blip r:embed="rId4"/>
          <a:stretch/>
        </p:blipFill>
        <p:spPr>
          <a:xfrm>
            <a:off x="3708360" y="2781360"/>
            <a:ext cx="5105520" cy="48240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250920" y="1844640"/>
            <a:ext cx="86914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سبحانه أخبر قبل ذلك بأنه رب العا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عنوان 1"/>
          <p:cNvSpPr/>
          <p:nvPr/>
        </p:nvSpPr>
        <p:spPr>
          <a:xfrm>
            <a:off x="179280" y="342900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ؤمن بأنها من عند الله تعالى وهي اليوم محرفة ومنسوخة ونسخها القرآن الكري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712800"/>
            <a:ext cx="9151920" cy="1266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250920" y="2349360"/>
            <a:ext cx="856908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2"/>
          <a:stretch/>
        </p:blipFill>
        <p:spPr>
          <a:xfrm>
            <a:off x="152280" y="981000"/>
            <a:ext cx="8839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اني الكلمات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23080" cy="518472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250920" y="249228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يد المدبر للشئو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22200" y="3267000"/>
            <a:ext cx="489744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نصرف العبادة لك وحد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24000" y="463392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دلنا وأرشدنا ووفقنا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24000" y="5283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يق الواضح الموصل إلى الله وإلى جنت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6021360"/>
            <a:ext cx="48974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ملائكتك ، وأنبيائك ، والصديقين ، والشهداء ، والصالحين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وصوف بالرحمة البالغة هو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تقوية المسلم صلته برب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طاع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عبادته  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بعد عن أسباب سخط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141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وردت كلمة (الرب) معرفة بالألف واللا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لا تكون إلا لله تعالى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7180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لرح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292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(الرحمن) أبلغ من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الرحيم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4869000"/>
          <a:ext cx="8642160" cy="1108080"/>
        </p:xfrm>
        <a:graphic>
          <a:graphicData uri="http://schemas.openxmlformats.org/drawingml/2006/table">
            <a:tbl>
              <a:tblPr/>
              <a:tblGrid>
                <a:gridCol w="7313400"/>
                <a:gridCol w="1328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</a:rPr>
                        <a:t>السبب أن صفة (الرحمن) أبلغ من (الرحيم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لأن الرحمن ذو الرحمة الشاملة لجميع الخلق في الدنيا وللمؤمنين في الاخر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م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الرحيم ذو الرحمة الخاصة بالمؤمنين يوم القيا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رحي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1484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تخصيص الملك بيوم الدين في قوله تعالى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فيه عما عداه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سبحانه أخبر قبل ذلك بأنه رب العالم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349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عباد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مال الذل لله تعالى مع كمال الح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زام المسلم بأمر به بفعل الطاعات والبعد عن المعاصي التي تحجب القلب وتضعف القل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3645000"/>
            <a:ext cx="8665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وجوب التزام المسلم بأمر به بفعل الطاعات والبعد عن المعاصي التي تحجب القلب وتضعف القلب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نال الأجر والثواب من الله تعالى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2911320" y="1465200"/>
            <a:ext cx="1812960" cy="46836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250920" y="4365720"/>
            <a:ext cx="86659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يل وجوب التزام المسلم بأمر به بفعل الطاعات والبعد عن المعاصي التي تحجب القلب وتضعف القلب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3787920" y="4838760"/>
            <a:ext cx="5105160" cy="5349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179280" y="5373720"/>
            <a:ext cx="86662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ين المقبول عند الله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6093000"/>
            <a:ext cx="866628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غير دين الإسلام من الأديان السماوية الأخرى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سخت بعد بعثة محمد صلى الله عليه وسل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1484280"/>
            <a:ext cx="86659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الدين المقبول عند الله هو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299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مع الله بيت العبادة والاستقام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 لا قيام بالعبادة على الوجه الأكمل إلا بمعونة الله تعالى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1415880" y="2049480"/>
            <a:ext cx="74152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1077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3795840" y="981000"/>
            <a:ext cx="5079960" cy="495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4"/>
          <a:stretch/>
        </p:blipFill>
        <p:spPr>
          <a:xfrm>
            <a:off x="109440" y="1484280"/>
            <a:ext cx="8926560" cy="504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5"/>
          <a:stretch/>
        </p:blipFill>
        <p:spPr>
          <a:xfrm>
            <a:off x="0" y="2708280"/>
            <a:ext cx="5495760" cy="100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6"/>
          <a:stretch/>
        </p:blipFill>
        <p:spPr>
          <a:xfrm>
            <a:off x="109440" y="3719520"/>
            <a:ext cx="5391360" cy="789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7"/>
          <a:stretch/>
        </p:blipFill>
        <p:spPr>
          <a:xfrm>
            <a:off x="1440" y="4653000"/>
            <a:ext cx="5499360" cy="792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8"/>
          <a:stretch/>
        </p:blipFill>
        <p:spPr>
          <a:xfrm>
            <a:off x="971640" y="5661000"/>
            <a:ext cx="441936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