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8CF-E394-4B3E-ACF2-9E2121C7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0AB-D49F-44EE-AA8C-6A6C7D34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B45-B0AB-4230-B5D1-1A50171F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540-C6CC-43B6-8FCF-73E1F110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94F-2C8E-4C25-8B40-20712789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323-3431-4ADC-9AF2-D97B4F54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528-488F-4702-8B5A-A3A5275C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D96-37B7-4EBF-9834-972C932C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5D3-0A34-4E80-A378-589112E9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A91-C2E0-43B6-9FA7-5FB4C7BA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7B0-D9C0-463C-830E-8FA1794F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94E-CE16-44EC-9CEC-B632EED0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13C1-50A8-4FEF-A34F-68E41A728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50920" y="1509840"/>
            <a:ext cx="86011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09588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فظ الله له عن التحريف إلى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56512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50920" y="2116080"/>
            <a:ext cx="8691480" cy="13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5"/>
          <a:stretch/>
        </p:blipFill>
        <p:spPr>
          <a:xfrm>
            <a:off x="1679400" y="5487840"/>
            <a:ext cx="7263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3500280"/>
            <a:ext cx="8569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 عادة المكذبين الكفر بما أتى به الر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له تعالى يزيد اهل الكفر والضلال ضلال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لم الله السابق بما سوف يفعله المكذ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14176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هم وأنهم رسل من عند الله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72"/>
          <a:stretch/>
        </p:blipFill>
        <p:spPr>
          <a:xfrm>
            <a:off x="250920" y="1700280"/>
            <a:ext cx="862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54320" y="456732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50920" y="1015920"/>
            <a:ext cx="86421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250920" y="1671480"/>
            <a:ext cx="8642160" cy="485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0760" cy="6620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0792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قرآن الكري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4473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04972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تبديل والتحريف والزيادة والنقص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732640"/>
            <a:ext cx="4824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يل إلينا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قرآن الكريم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لام الله الحق وهو منزل غير مخلوق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فوظ بحفظ الله إلى يوم القيامة فلن يحرّف كما حرفت التوراة والإنج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583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ادة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هزاء بالرسل والكفر بما أتوا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3086280"/>
            <a:ext cx="8666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يزيد أهل الكفر والضل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ضلالاً فيعمي بصائرهم عن رؤية الحق لحكمة بالغة هو يعلم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8797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نة الله في المكذ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لاك والإذلال والتدم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78544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47680" y="2276640"/>
            <a:ext cx="864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زلة من عن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زلت مصدقة للرسل عليهم الصلاة و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يها هدى للمؤمن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372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2349360"/>
            <a:ext cx="8640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خلا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في الصغر كالنقش على الحج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وقت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مكان الحف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راءة المجودة والمنغ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قتصار على طبعة واحدة من المصحف ولا يغير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صحيح القراءة مقدّ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ية الربط مقد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ـتــكــر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اليومي المنتظم خير من الحفظ المتقط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31T07:43:48Z</dcterms:modified>
  <cp:revision>1842</cp:revision>
  <dc:subject/>
  <dc:title>عرض تقديمي في PowerPoint</dc:title>
</cp:coreProperties>
</file>