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B5C2-35BC-4681-B39A-3EA39376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C7BE-D190-438F-8A48-750CC6DA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C651-CF77-4E75-95F9-182AEE9C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C9D9-ED46-4030-AD08-01E46E3D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2947-C217-4C63-967B-29A14778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D121-36E0-48FA-AB7A-3E8C508E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3615-7973-49F9-B5C2-21A47F2C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E114-9CE3-4F9F-A8CD-FB92CA0A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9A77-D92E-4DB3-AAEF-F53B732E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C17-0CD6-4C48-AD6C-C149F1FE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9F44-4D36-4F09-8608-562E945B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FA0A-F93A-49CF-B854-9B46EB99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8E4C-9106-4D9A-A42D-92A8D705EBD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589960" cy="86364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27160" y="1989000"/>
            <a:ext cx="86896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استنفرنا الإمام للجها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هجم الكفارعلى بل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التقى الصفان وتقابل الزحفا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424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27160" y="3949560"/>
            <a:ext cx="8689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في الجهاد في سبيل الله خير كثير  ل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3"/>
          <a:stretch/>
        </p:blipFill>
        <p:spPr>
          <a:xfrm>
            <a:off x="4140360" y="981000"/>
            <a:ext cx="4546440" cy="520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"/>
          <p:cNvPicPr/>
          <p:nvPr/>
        </p:nvPicPr>
        <p:blipFill>
          <a:blip r:embed="rId4"/>
          <a:stretch/>
        </p:blipFill>
        <p:spPr>
          <a:xfrm>
            <a:off x="1055520" y="3238560"/>
            <a:ext cx="785988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01600" y="1557360"/>
            <a:ext cx="86914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علاء كلمة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صر المظلومين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دّ العدوان وحفظ الإسلام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49"/>
          <a:stretch/>
        </p:blipFill>
        <p:spPr>
          <a:xfrm>
            <a:off x="250920" y="907920"/>
            <a:ext cx="864216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8613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23920" y="981000"/>
            <a:ext cx="8696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7384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250920" y="2116080"/>
            <a:ext cx="8642160" cy="448164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50920" y="41083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عسر واليس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50920" y="45752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سفراً قريب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50133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جهاد والقت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55468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عتذر عن الخرو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85104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2400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تحي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جهاد مرتبط بإذن :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م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06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تخلف عن الجهاد الواجب والاعتذار بأعذار كاذبة علامة من علام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فا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278136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اتب الله رسوله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 قوله تعالى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إذنه لمن استأذنه في القعود قبل أن يتبين الصادق منهم في عذره من الكاذب ف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716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بشر لا يعلم الغيب إل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إعلام الله 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36572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صفات المؤمن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مبادرة إلى الأعمال الصالح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4941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عظم الأعمال الصالح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جهاد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51664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شك في العقي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خطي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2"/>
          <a:stretch/>
        </p:blipFill>
        <p:spPr>
          <a:xfrm>
            <a:off x="3262320" y="2708280"/>
            <a:ext cx="2822400" cy="54144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08000" y="602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شك في العقي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حيرة والترد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3"/>
          <a:stretch/>
        </p:blipFill>
        <p:spPr>
          <a:xfrm>
            <a:off x="298440" y="1125360"/>
            <a:ext cx="8545680" cy="7192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27160" y="2004840"/>
            <a:ext cx="8689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صفات المؤمنين المبادرة إلى الأعمال الصالحة والبعد عن التردد والح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0T19:38:18Z</dcterms:modified>
  <cp:revision>1811</cp:revision>
  <dc:subject/>
  <dc:title>عرض تقديمي في PowerPoint</dc:title>
</cp:coreProperties>
</file>