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E55-BE15-4D37-BEA7-6E9DB49C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3C7-D817-4D02-AEC8-767666B8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FE6-37C2-4319-A18C-1B7D3837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B84-817E-4F73-824F-436B3657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00B-72E9-4104-A642-856544C9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7DB-0CD5-4F75-AA97-2E631361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36D-E14B-4DCC-9756-C0CD4D70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42D-FBF3-44D5-B448-CC1863D9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BCF-55CF-4301-BBC5-C985B934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41F-9B00-4DCE-BEDC-D735DA61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FC5-4303-49C6-A198-B769A8D5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9BD-A862-4D14-8CED-FC114838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66DA-525B-4F4D-8845-E3A7A25FB58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08000" y="907920"/>
            <a:ext cx="7110720" cy="60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306440" y="2276640"/>
            <a:ext cx="751536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2138400" y="4581360"/>
            <a:ext cx="6754680" cy="62244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2852640"/>
            <a:ext cx="85694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179280" y="1585800"/>
            <a:ext cx="856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تحية أهل الجنة بعضهم لبعض كلام سالم من اللغو والآث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324000" y="3699000"/>
            <a:ext cx="849600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7"/>
          <a:stretch/>
        </p:blipFill>
        <p:spPr>
          <a:xfrm>
            <a:off x="395280" y="6148440"/>
            <a:ext cx="849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1"/>
          <a:stretch/>
        </p:blipFill>
        <p:spPr>
          <a:xfrm>
            <a:off x="539640" y="1844640"/>
            <a:ext cx="8136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95480" y="4746600"/>
            <a:ext cx="33530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69840"/>
            <a:ext cx="878544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59840" cy="8654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65300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187200" y="6014880"/>
            <a:ext cx="496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دلائل وحدانيتنا تاركون النظر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1052640"/>
            <a:ext cx="4176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5372280"/>
            <a:ext cx="4968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دل الآخرة لإنكارهم ل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قبال على الدنيا والانهماك في طلبها حتى تكون أكبر الهم ومبلغ العلم دون التفات إلى إرضاء الرب أو استعداد للآخر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حال الكفار الذين قصروا هممهم على الدنيا ولم يفكروا بالآخرة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314172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فلة والإعراض عن التفكر بآيات الله الكونية والتدبر لآياته القرآ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ذر من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8936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43700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من زعم أن تصديق القلب كاف للفلاح في الآخر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ذكر أنه يهدي من آمن وعمل صالحاً إلى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ريق الإنسان إلى الجنة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يمان والعمل الصال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0800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غب في الإيمان وحرص على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هداه الله و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249228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مال نعيم أهل الجنة لاشتماله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عيم القلب ونعيم الروح ونعيم الب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141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كمال 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اليف على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توج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08000" y="47242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أهل الجنة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سبيح والسلام والتحم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هم أهل الجنة التسبيح والسلام والتحم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غير كلفة ولا مش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98720" y="3611520"/>
            <a:ext cx="7762680" cy="4651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08000" y="5811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مرة التسبيح والسلام والتحميد ل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طمئن قلوبهم وتفرح أرواح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243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حية أهل الجنة بعضهم لبعض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ام سالم من اللغو والآث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304920" y="1557360"/>
            <a:ext cx="8659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4T14:44:43Z</dcterms:modified>
  <cp:revision>1926</cp:revision>
  <dc:subject/>
  <dc:title>عرض تقديمي في PowerPoint</dc:title>
</cp:coreProperties>
</file>