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0B79-9FB4-4A05-9DB1-B3B04C385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31D2-0917-4A2B-BE19-18EE6C63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CBEA-B013-4BA2-8ABD-63909624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7691-58B5-4153-BC6E-33CABE48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D2C2-19E1-4F1B-9B91-4FC50077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9371-AFA8-4E1E-B17E-96060EB9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D9C4-CD53-4098-807F-250938AD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28B4-BB6A-4D0C-BB35-7EABDFD6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40F7-F4AD-49B2-B241-80BEF1AD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A997-4F1C-490D-A09E-3AD22609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33F7-EE8C-40AD-8213-DF711130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5762-C003-48D4-B796-EFF9AC7F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83A1-5154-4255-B404-9D3DF5BA8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59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56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355680" y="2076480"/>
            <a:ext cx="85690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حي إله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وحي النبوة لا يكون إلا للرجا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0" descr=""/>
          <p:cNvPicPr/>
          <p:nvPr/>
        </p:nvPicPr>
        <p:blipFill>
          <a:blip r:embed="rId3"/>
          <a:stretch/>
        </p:blipFill>
        <p:spPr>
          <a:xfrm>
            <a:off x="368280" y="907920"/>
            <a:ext cx="8596440" cy="1168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"/>
          <p:cNvPicPr/>
          <p:nvPr/>
        </p:nvPicPr>
        <p:blipFill>
          <a:blip r:embed="rId4"/>
          <a:stretch/>
        </p:blipFill>
        <p:spPr>
          <a:xfrm>
            <a:off x="2556000" y="3789360"/>
            <a:ext cx="6273720" cy="48276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324000" y="443700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تى لا نعمل مثل ما عملوا فيصيبنا مثل ما أصا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208"/>
          <a:stretch/>
        </p:blipFill>
        <p:spPr>
          <a:xfrm>
            <a:off x="195120" y="2708280"/>
            <a:ext cx="875376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1304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8496000" cy="3241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2635200" y="5089680"/>
            <a:ext cx="38736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1055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87854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642160" cy="475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72540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4863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طريق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130560" y="907920"/>
            <a:ext cx="4178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هج دعوة النبي </a:t>
            </a:r>
            <a:r>
              <a:rPr b="1" lang="en-US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56610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نزيه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دعوة إلى الله عز وجل على علم وهدى وبصيرة واتباع منهج الرسول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 الدعوة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هج الصحيح في البدء بالدعوة إلى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بدء بالتوحيد والتحذير من الشر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أن الله لم يبعث رسولاً من النساء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رسالة من خصوصيات الرجا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نظر والتأمل والتدبر في أخبار وآثار ومآل الأمم السابق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ث عليه الإسل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زاء أهل الإيمان والتقوى في الآ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3"/>
          <a:stretch/>
        </p:blipFill>
        <p:spPr>
          <a:xfrm>
            <a:off x="488880" y="907920"/>
            <a:ext cx="8467920" cy="115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4"/>
          <a:stretch/>
        </p:blipFill>
        <p:spPr>
          <a:xfrm>
            <a:off x="250920" y="2157480"/>
            <a:ext cx="84247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12920" y="907920"/>
            <a:ext cx="8480160" cy="2521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276120" y="3573360"/>
            <a:ext cx="86360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شترط في الدعوة اكتمال العلم بل يكفي ان يدعوهم بقدر علمه ولا يشترط ترك جميع المعاصي . قال ال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4"/>
          <a:stretch/>
        </p:blipFill>
        <p:spPr>
          <a:xfrm>
            <a:off x="235080" y="4556160"/>
            <a:ext cx="867240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0T05:38:47Z</dcterms:modified>
  <cp:revision>2025</cp:revision>
  <dc:subject/>
  <dc:title>عرض تقديمي في PowerPoint</dc:title>
</cp:coreProperties>
</file>