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4F8-5520-464E-89CA-089CE2ED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3E8-32D8-431D-9C5E-704168A1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CDD-48CA-44A6-B4FF-120C3135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B69-1EE4-499A-B101-7D7B589C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167-CE10-4545-8464-0884C087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9AB-F2EB-47CB-8A12-7B3C77D5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DC2-F0B4-4862-8846-3192C47F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82D-E892-4A41-99BC-3FFA16F0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2FF-84D5-4EA3-8A66-150257AD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030-274A-43EA-A23B-6D2622AC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D1C-355A-4BDD-A6BA-2EA61976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A3B-2B72-41E1-B97B-CA184BD4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7ABB-3B25-4056-AEA0-015505FD454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260280" y="1125360"/>
            <a:ext cx="8621640" cy="532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944800" y="350352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239760" y="4437000"/>
            <a:ext cx="492444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6"/>
          <a:stretch/>
        </p:blipFill>
        <p:spPr>
          <a:xfrm>
            <a:off x="239760" y="5373720"/>
            <a:ext cx="4914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468360" y="1549440"/>
            <a:ext cx="835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57434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33560" y="981000"/>
            <a:ext cx="6970680" cy="62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936880" y="2662200"/>
            <a:ext cx="59562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434880" y="4653000"/>
            <a:ext cx="849492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3141720"/>
            <a:ext cx="856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ب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 الصالح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يمان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701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324000" y="1484280"/>
            <a:ext cx="85341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565520"/>
            <a:ext cx="34671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مربع نص 1"/>
          <p:cNvSpPr/>
          <p:nvPr/>
        </p:nvSpPr>
        <p:spPr>
          <a:xfrm>
            <a:off x="250920" y="1844640"/>
            <a:ext cx="864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أمر الله تعالى بمكارم الأخلاق ونهى عن كل قبيح ومنها في هذه الآيات تحريم الأيمان الكاذ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0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66680"/>
            <a:ext cx="8785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24000" y="2481120"/>
            <a:ext cx="8496000" cy="411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8662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ن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604360" y="1773360"/>
            <a:ext cx="3823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خداع الناس بالأيمان الكاذبة وغير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أيمان الكاذ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أيمان الكاذب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د عن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يمان الكاذبة تسبب الصد عن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كافر إذا رأى أن المؤمنين قد عاهده ثم غدر به لم يبق له وثوق بالدين وقد يصده ذلك عن الدخول في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فريط في دين الله عز وجل لمصالح دنيوية زائ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شر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عظيم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 الإقسام به وعدم الحن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له تعالى للصابرين المتمسكين بدينهم وعهده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زاء 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1"/>
          <p:cNvSpPr/>
          <p:nvPr/>
        </p:nvSpPr>
        <p:spPr>
          <a:xfrm>
            <a:off x="250920" y="1844640"/>
            <a:ext cx="86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من أسباب الصد عن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1585800" y="981000"/>
            <a:ext cx="729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5T21:02:10Z</dcterms:modified>
  <cp:revision>1924</cp:revision>
  <dc:subject/>
  <dc:title>عرض تقديمي في PowerPoint</dc:title>
</cp:coreProperties>
</file>