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81D-E318-4DFE-A342-6CE80019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3B4-832B-44AA-ABD6-4DF02A3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21E-3375-4338-B020-7EA6CEE0E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B03-0943-43CC-B4E7-847E9D91C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888-D72E-4ECD-A784-63C780C0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2145-5B8F-4260-BF0C-403AD1E5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5B4A-22B2-482A-8297-5848C6379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29C-A14B-4CC6-B906-AA3AF7F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61D-F5C0-4159-BA38-2D6DC181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782-D0BC-442E-91C3-81E5A164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E2D-8641-4B07-9B0E-05D6B6B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148-0631-4D0C-8212-1B263956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20BF-383B-4B95-B431-D2071D49B9C9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6025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8352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ة السورة باسم إبراهيم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شتمالها على دعوات إبراهيم عليه ال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20680" y="278136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إبراهيم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52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189000" y="2133720"/>
            <a:ext cx="8665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إبراهي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 مك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5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وظائف الرسل عليهم الصلاة و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9"/>
          <p:cNvSpPr/>
          <p:nvPr/>
        </p:nvSpPr>
        <p:spPr>
          <a:xfrm>
            <a:off x="8820000" y="1662120"/>
            <a:ext cx="0" cy="171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ايا العقي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حقيقة وحدة الرسال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ثرة نعم الله تعالى على الناس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5T16:06:45Z</dcterms:modified>
  <cp:revision>1811</cp:revision>
  <dc:subject/>
  <dc:title>عرض تقديمي في PowerPoint</dc:title>
</cp:coreProperties>
</file>