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2C6-95EC-4682-B498-546FCC1C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DF2-9948-42FA-A68F-94249FC0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33DE-2CC6-4BCA-A535-40D7EAE2E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332-061E-4F13-9348-3FD8372A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16B8-2D19-4CA5-AB11-BD241544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692A-A38B-4801-9446-A1B8AF5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477-1C16-4B6C-84E4-D5C0E46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AFA4-E034-46C0-9A9E-0806BA9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AC5-0427-4389-ADFA-66A2D01E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5AD-6EDB-45B2-AED9-CE9C3CDA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3872-1890-437D-92A5-ACDAF572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0FE-445F-48D3-8D56-40888111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68E4-CC87-46C8-8704-A35A9DC803E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9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184320" y="1471680"/>
            <a:ext cx="870876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69720" y="5805360"/>
            <a:ext cx="85694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هداية بي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لخطاب : للنبي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0" descr=""/>
          <p:cNvPicPr/>
          <p:nvPr/>
        </p:nvPicPr>
        <p:blipFill>
          <a:blip r:embed="rId3"/>
          <a:stretch/>
        </p:blipFill>
        <p:spPr>
          <a:xfrm>
            <a:off x="1835280" y="981000"/>
            <a:ext cx="713556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4"/>
          <a:stretch/>
        </p:blipFill>
        <p:spPr>
          <a:xfrm>
            <a:off x="1368360" y="2492280"/>
            <a:ext cx="7524720" cy="1028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1359000" y="4149720"/>
            <a:ext cx="7534080" cy="170496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324000" y="357336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حريم لعن المؤم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250920" y="163980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طرد من رحمة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374"/>
          <a:stretch/>
        </p:blipFill>
        <p:spPr>
          <a:xfrm>
            <a:off x="476280" y="2349360"/>
            <a:ext cx="819144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7040" y="4976640"/>
            <a:ext cx="350532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179280" y="1522440"/>
            <a:ext cx="864072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صفات السعداء ذكر هنا صفات الأشقي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364000" y="912960"/>
            <a:ext cx="35690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63680" y="2114640"/>
            <a:ext cx="8429400" cy="31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-15840" y="911160"/>
            <a:ext cx="9139320" cy="862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72880" y="468792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جع إل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057480" y="1190520"/>
            <a:ext cx="417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أشقيا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3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كفر سبب الطرد من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حمة الله والهلاك في جهن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عز وجل هو المعطي المانع يعطي ويمنع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حك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يعطي الدني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حب ومن لا يح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بسط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ر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قبض الرزق لا يدل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ها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ى المؤمن تجاه ما أُعطي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ضى والتسليم والقناع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هداية والضلال بيد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508464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عدم جواز الاحتجاج على المعاصي ب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هذا من جنس حجة الكفار وهي حجة داحضة لا تف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-12240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1522440"/>
            <a:ext cx="864072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نقضون 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قطع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فسدون في الأرض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فرح بالحياة الدنيا عن الا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ؤمنون بما جاء به الرسل من عند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4070520" y="942840"/>
            <a:ext cx="4749480" cy="5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6T18:13:23Z</dcterms:modified>
  <cp:revision>2087</cp:revision>
  <dc:subject/>
  <dc:title>عرض تقديمي في PowerPoint</dc:title>
</cp:coreProperties>
</file>