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15D-2EC6-4A6D-BEF5-823DE0FE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C34-94A4-4BE0-96C3-82C4C02E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E78-16FD-442A-8EC3-C6847B91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CB2-9212-45C6-8AC3-4997DA8A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063-E2E0-4E66-8E53-2F85BBA9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4C6-EDCE-47C2-B51E-AA3F9013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BDC-1B02-43E6-8D19-3CE00429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AFA-1FA8-4CED-8905-8EB232FF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F53-B7C9-426A-9738-A7953291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C71-E435-4F0E-8398-C6503E9B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F9C3-0084-48FD-82A9-EC3AD6B0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DDB-23F6-4D09-AECB-99908EF1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6CD4-F497-4DD5-83D9-DE9883BE8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إيحاء الله إلى رجل من البشر أمر موافق للحكمة لا محل استغراب وتعج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6386400" cy="660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4"/>
          <a:stretch/>
        </p:blipFill>
        <p:spPr>
          <a:xfrm>
            <a:off x="968400" y="3141720"/>
            <a:ext cx="7948440" cy="639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5"/>
          <a:stretch/>
        </p:blipFill>
        <p:spPr>
          <a:xfrm>
            <a:off x="1547640" y="1700280"/>
            <a:ext cx="7272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952720" y="5229360"/>
            <a:ext cx="3238560" cy="59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844640"/>
            <a:ext cx="8664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أعلم بمراده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062080" y="981000"/>
            <a:ext cx="67010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43000" y="1989000"/>
            <a:ext cx="865008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3357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43000" y="422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رسل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ب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رسول دج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-15840" y="866880"/>
            <a:ext cx="9159840" cy="90648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3059280" y="104760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قرآن الكريم كتاب محكم واضح م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ما اشتمل عليه من حلال وحرام وحدود وأحك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يحاء الله إلى رجل من البشر أم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وافق للحكمة لا محل استغراب وتع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بوة محمد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شرى أهل الإيمان والعمل الصال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ما أعد الله لهم من النع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دة تعجب العرب من بلاغة وفصا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رآن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صف المشركون القرآن الكريم ب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سح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642160" cy="424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8172360" y="351792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8172360" y="445464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2195640" y="2421000"/>
            <a:ext cx="533160" cy="5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7"/>
          <a:stretch/>
        </p:blipFill>
        <p:spPr>
          <a:xfrm>
            <a:off x="2166840" y="4508640"/>
            <a:ext cx="5335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5:29:29Z</dcterms:modified>
  <cp:revision>1888</cp:revision>
  <dc:subject/>
  <dc:title>عرض تقديمي في PowerPoint</dc:title>
</cp:coreProperties>
</file>