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6B2-637D-4058-A370-2B0252B3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F98-9124-4F41-B5A9-D8FF4FF9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72B-FD4A-4307-BADE-F0387B70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B68-4542-4019-83AC-A7497036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993-F71E-485E-B939-601033E9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74C-73CC-4327-84E0-4D16D3B0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EA55-8440-4B2E-9DF4-89E251E2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2B1-5681-48D8-A862-6D65967C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AB6A-6ECE-470D-B0B0-6FDF3969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A2A-1A57-40E4-A805-38591BDD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863-44D9-4F2A-A95D-4B08C13A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F80-DE78-4ACD-B688-FDAB5166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E505-9437-4AC9-92B2-13043621D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67640" cy="58770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503280" y="2492280"/>
            <a:ext cx="820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دبر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829764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395280" y="5600880"/>
            <a:ext cx="825804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3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دلال بالنشأة الأولى على النشأة الأخر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900000" y="981000"/>
            <a:ext cx="812664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796140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250920" y="1701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حذر من الكفر وأه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14640" y="4675320"/>
            <a:ext cx="321300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بعض شبهات الكافرين حول الدين الإسلا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882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951200"/>
            <a:ext cx="8713800" cy="464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108000" y="888840"/>
            <a:ext cx="89280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179280" y="522936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19052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عظمة وقدر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عظمة الخلق تدل على عظم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خال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ستواء الله على العرش بكيف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ليق بجلال الله وعظم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وحده هو مدبر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ع شيء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قضاء وقدر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المشركين الذين يطلبون الشفاعة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ولياء والصالح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فاعة المثبتة هي التي تطلب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بتوحيد الربوبية على 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ستحق للعبادة هو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الق المدب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سباب الهدا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تف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النشو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على النشأة الأخر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نشأة الأو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بشير 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ثواب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ذاب الكافرين في الا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ظي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6:43:20Z</dcterms:modified>
  <cp:revision>1901</cp:revision>
  <dc:subject/>
  <dc:title>عرض تقديمي في PowerPoint</dc:title>
</cp:coreProperties>
</file>