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E2F-D5BE-427D-BA59-E73773C5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0184-F39F-40BD-9238-8524E364E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3EF-68D5-4463-A6DD-E37D5B0D3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957E-43DF-42B2-B5FE-E2C4BC15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170-2F90-430E-A1AD-44A87A15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9FB9-AABE-4FFF-926B-64938EF7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C1A7-9522-4BB8-B830-00929308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1F9-DD1B-4D61-BDF6-CF33CFB4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A74B-18E3-435B-B92B-48C08FD9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631A-910E-42DA-B82C-C64DEF85D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7B4-935E-44FB-B532-F1EDCFEC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64D-F654-4191-9899-1374FF7F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0321-1505-4B20-AA46-6A7B24735C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252360" y="263700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ليد الأعم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293760" y="907920"/>
            <a:ext cx="8601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179280" y="1473120"/>
            <a:ext cx="87138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450864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فيد ذلك . لأنهم سوف يعاقبون على ذلك يوم القيامة في نار جهن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297080" y="907920"/>
            <a:ext cx="7694640" cy="609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08000" y="2276640"/>
            <a:ext cx="8837640" cy="647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755640" y="3429000"/>
            <a:ext cx="8190000" cy="10573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324000" y="292428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ببوا في إضلال قومهم وهلاك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324000" y="155736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رسال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1042920" y="5073480"/>
            <a:ext cx="7850160" cy="101952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6167520"/>
            <a:ext cx="8569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. لأن كل إنسان يستطيع معرفة صدق الرسول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68"/>
          <a:stretch/>
        </p:blipFill>
        <p:spPr>
          <a:xfrm>
            <a:off x="290520" y="1628640"/>
            <a:ext cx="86025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06560" y="4797360"/>
            <a:ext cx="3530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738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حال الكفار سرد هنا سبب هذه الح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348000" y="993600"/>
            <a:ext cx="56008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179280" y="1503360"/>
            <a:ext cx="878688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"/>
          <p:cNvPicPr/>
          <p:nvPr/>
        </p:nvPicPr>
        <p:blipFill>
          <a:blip r:embed="rId1"/>
          <a:stretch/>
        </p:blipFill>
        <p:spPr>
          <a:xfrm>
            <a:off x="395280" y="2314440"/>
            <a:ext cx="8524800" cy="4210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79280" y="919080"/>
            <a:ext cx="8869320" cy="1181160"/>
          </a:xfrm>
          <a:prstGeom prst="rect">
            <a:avLst/>
          </a:prstGeom>
          <a:ln w="0">
            <a:noFill/>
          </a:ln>
        </p:spPr>
      </p:pic>
      <p:sp>
        <p:nvSpPr>
          <p:cNvPr id="55" name="عنوان 1"/>
          <p:cNvSpPr/>
          <p:nvPr/>
        </p:nvSpPr>
        <p:spPr>
          <a:xfrm>
            <a:off x="395280" y="512136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هلاك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770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رك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58" name="مستطيل 1"/>
          <p:cNvSpPr/>
          <p:nvPr/>
        </p:nvSpPr>
        <p:spPr>
          <a:xfrm>
            <a:off x="8481960" y="1725480"/>
            <a:ext cx="287280" cy="263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14842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أعظم النعم إرسال الرسل عليهم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هداية النا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89000" y="2043000"/>
            <a:ext cx="8665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ظم الناس كفراً وعناداً ه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ض الكبراء والسادة الذين تسببوا في إضلال قومهم وهلاك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773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بح التقليد الأعمى يؤدي إلى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ى والهلا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3908520"/>
            <a:ext cx="86662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رفة صدق الرسول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ستطيعه كل إنسا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3321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قليد في مسائل الاعتق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حرم إلا بعالم موثو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48452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ما عليه أهل الكفر من سطوة وسلطان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يجو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179280" y="50594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عدم الاغترار بما عليه أهل الكفر من سطوة وسلطا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ذلك زائ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63580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بل الله من العمل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ا ما كان خالصاً لوجهه صواباً على سنة نبيه </a:t>
            </a:r>
            <a:r>
              <a:rPr b="1" lang="en-US" sz="23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6146640"/>
            <a:ext cx="8666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ا يقبل من العمل إلا ما كان خالصاً لوجهه صواباً على سنة نبيه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: لأن الله تعالى أغنى الشركاء عن الشر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75840" cy="987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04840" y="2276640"/>
            <a:ext cx="8640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سبب في إضلال النا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شراك ب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192240" y="981000"/>
            <a:ext cx="86533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53:50Z</dcterms:modified>
  <cp:revision>1847</cp:revision>
  <dc:subject/>
  <dc:title>عرض تقديمي في PowerPoint</dc:title>
</cp:coreProperties>
</file>