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2985-296E-4042-8A6B-35EEED930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AB5E-FEC3-4B8A-B322-083F6487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E858-9BB7-45CD-A4DF-424F05470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9DE1-F7F1-4D3B-A159-A395F8AC3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DDB2-22B1-4F55-B836-3E423957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4224-CF2A-472B-91E9-44FD7FE7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150B-6B92-4534-833B-C55A00BE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33E4-2EC5-4C38-A571-BED27BEF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C354-1B54-4260-85C2-E49EDAA9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E87E-881A-4889-B916-EA1A33B0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BAD6-3B5B-483F-A7EA-02ABFCA0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E82C-9389-4FE0-8A08-194488C5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FB9E-1FBE-4AD0-B3D3-911FEFA1803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250920" y="1557360"/>
            <a:ext cx="85741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اسرا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حريم ما أحله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فواحش الظاهرة والباط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أث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بغي بغير الح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شرك ب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قول على الله بغير عل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4633920" y="981000"/>
            <a:ext cx="419112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6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3"/>
          <a:stretch/>
        </p:blipFill>
        <p:spPr>
          <a:xfrm>
            <a:off x="1476360" y="1628640"/>
            <a:ext cx="73263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3263760" y="836640"/>
            <a:ext cx="5664240" cy="571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"/>
          <p:cNvPicPr/>
          <p:nvPr/>
        </p:nvPicPr>
        <p:blipFill>
          <a:blip r:embed="rId4"/>
          <a:stretch/>
        </p:blipFill>
        <p:spPr>
          <a:xfrm>
            <a:off x="932040" y="3060720"/>
            <a:ext cx="8011800" cy="5842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250920" y="3646440"/>
            <a:ext cx="86914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دم الشرك بالله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بر الوالدين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دم قتل الأولاد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بعد عن الفواحش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حرم قتل النفس إلا بالحق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حرم أكل مال اليتم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مر بالعدل في الكيل والميز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8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قول العدل والصدق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9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مر بالوفاء بالعهد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10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 – اتباع الصراط المستقي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250920" y="1484280"/>
            <a:ext cx="8691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نع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ن تكون بقدر الحاجة . قال تعالى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3" descr=""/>
          <p:cNvPicPr/>
          <p:nvPr/>
        </p:nvPicPr>
        <p:blipFill>
          <a:blip r:embed="rId5"/>
          <a:stretch/>
        </p:blipFill>
        <p:spPr>
          <a:xfrm>
            <a:off x="250920" y="2205000"/>
            <a:ext cx="8691480" cy="67644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179280" y="5734080"/>
            <a:ext cx="8691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يسأل أهل العلم الراسخين في العل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12" descr=""/>
          <p:cNvPicPr/>
          <p:nvPr/>
        </p:nvPicPr>
        <p:blipFill>
          <a:blip r:embed="rId6"/>
          <a:stretch/>
        </p:blipFill>
        <p:spPr>
          <a:xfrm>
            <a:off x="2556000" y="5157720"/>
            <a:ext cx="62355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50"/>
          <a:stretch/>
        </p:blipFill>
        <p:spPr>
          <a:xfrm>
            <a:off x="250920" y="692280"/>
            <a:ext cx="86421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69840"/>
            <a:ext cx="9144000" cy="1247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63600" y="1816200"/>
            <a:ext cx="845640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8" name="عنوان 1"/>
          <p:cNvSpPr/>
          <p:nvPr/>
        </p:nvSpPr>
        <p:spPr>
          <a:xfrm>
            <a:off x="260280" y="1700280"/>
            <a:ext cx="86076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تكلم الآيات عن ما أمرنا الله به وما نهانا ع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3916440" y="836640"/>
            <a:ext cx="496548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61920" y="836640"/>
            <a:ext cx="90201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2" descr=""/>
          <p:cNvPicPr/>
          <p:nvPr/>
        </p:nvPicPr>
        <p:blipFill>
          <a:blip r:embed="rId1"/>
          <a:stretch/>
        </p:blipFill>
        <p:spPr>
          <a:xfrm>
            <a:off x="179280" y="1770120"/>
            <a:ext cx="8713800" cy="50878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366840" y="465444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لا يزيدوا على قدر الحاج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407664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كل وقت سجود أو مكا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66840" y="515952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 عــظم قبحه من الذنو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24000" y="569124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جهرها وسرها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"/>
          <p:cNvPicPr/>
          <p:nvPr/>
        </p:nvPicPr>
        <p:blipFill>
          <a:blip r:embed="rId3"/>
          <a:stretch/>
        </p:blipFill>
        <p:spPr>
          <a:xfrm>
            <a:off x="3203640" y="879480"/>
            <a:ext cx="5676840" cy="749160"/>
          </a:xfrm>
          <a:prstGeom prst="rect">
            <a:avLst/>
          </a:prstGeom>
          <a:ln w="0">
            <a:noFill/>
          </a:ln>
        </p:spPr>
      </p:pic>
      <p:sp>
        <p:nvSpPr>
          <p:cNvPr id="59" name="عنوان 1"/>
          <p:cNvSpPr/>
          <p:nvPr/>
        </p:nvSpPr>
        <p:spPr>
          <a:xfrm>
            <a:off x="324000" y="626760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ذنب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1484280"/>
            <a:ext cx="8665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قوله تعالى 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ه رد على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شركين الذين يطوفون بالبيت عرا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2349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زينة والجمال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ص الإسلام علي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2924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هي عن الإسراف في الأكل والشرب وهو ثلاثة أنواع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"/>
          <p:cNvPicPr/>
          <p:nvPr/>
        </p:nvPicPr>
        <p:blipFill>
          <a:blip r:embed="rId2"/>
          <a:stretch/>
        </p:blipFill>
        <p:spPr>
          <a:xfrm>
            <a:off x="4427640" y="1413000"/>
            <a:ext cx="3246480" cy="503280"/>
          </a:xfrm>
          <a:prstGeom prst="rect">
            <a:avLst/>
          </a:prstGeom>
          <a:ln w="0">
            <a:noFill/>
          </a:ln>
        </p:spPr>
      </p:pic>
      <p:sp>
        <p:nvSpPr>
          <p:cNvPr id="66" name="رابط مستقيم 18"/>
          <p:cNvSpPr/>
          <p:nvPr/>
        </p:nvSpPr>
        <p:spPr>
          <a:xfrm flipH="1">
            <a:off x="4571640" y="328464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رابط مستقيم 19"/>
          <p:cNvSpPr/>
          <p:nvPr/>
        </p:nvSpPr>
        <p:spPr>
          <a:xfrm flipH="1">
            <a:off x="4566960" y="35416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رابط كسهم مستقيم 20"/>
          <p:cNvCxnSpPr/>
          <p:nvPr/>
        </p:nvCxnSpPr>
        <p:spPr>
          <a:xfrm flipH="1">
            <a:off x="8456040" y="4436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عنوان 1"/>
          <p:cNvSpPr/>
          <p:nvPr/>
        </p:nvSpPr>
        <p:spPr>
          <a:xfrm>
            <a:off x="250920" y="422100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بالغة في الترفه والمأكل والمشرب والملب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رابط مستقيم 29"/>
          <p:cNvSpPr/>
          <p:nvPr/>
        </p:nvSpPr>
        <p:spPr>
          <a:xfrm flipH="1">
            <a:off x="8817120" y="3535200"/>
            <a:ext cx="2880" cy="1505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رابط كسهم مستقيم 30"/>
          <p:cNvCxnSpPr/>
          <p:nvPr/>
        </p:nvCxnSpPr>
        <p:spPr>
          <a:xfrm flipH="1">
            <a:off x="8456040" y="386028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" name="عنوان 1"/>
          <p:cNvSpPr/>
          <p:nvPr/>
        </p:nvSpPr>
        <p:spPr>
          <a:xfrm>
            <a:off x="324000" y="3666960"/>
            <a:ext cx="813564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جاوز حد الاعتدال في الأكل والشر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33"/>
          <p:cNvCxnSpPr/>
          <p:nvPr/>
        </p:nvCxnSpPr>
        <p:spPr>
          <a:xfrm flipH="1">
            <a:off x="8456040" y="5040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250920" y="480528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ناول الحر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537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أصل في حكم المأكل والمشرب والملبس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باح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50920" y="59500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فتاء بغير عل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ذب على ال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62080" y="2637000"/>
            <a:ext cx="86072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سباب : عدم الخوف من عقاب الله وحب المفاخرة والسم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علاج : الخوف من الله والتواضع وتجنب المفاخرة والسم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3"/>
          <a:stretch/>
        </p:blipFill>
        <p:spPr>
          <a:xfrm>
            <a:off x="539640" y="836640"/>
            <a:ext cx="8469360" cy="1663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4"/>
          <a:stretch/>
        </p:blipFill>
        <p:spPr>
          <a:xfrm>
            <a:off x="5400720" y="3786120"/>
            <a:ext cx="3492360" cy="1587600"/>
          </a:xfrm>
          <a:prstGeom prst="rect">
            <a:avLst/>
          </a:prstGeom>
          <a:ln w="0">
            <a:noFill/>
          </a:ln>
        </p:spPr>
      </p:pic>
      <p:sp>
        <p:nvSpPr>
          <p:cNvPr id="82" name="عنوان 1"/>
          <p:cNvSpPr/>
          <p:nvPr/>
        </p:nvSpPr>
        <p:spPr>
          <a:xfrm>
            <a:off x="250920" y="4400640"/>
            <a:ext cx="756108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اقتصار على ما يحتاجه م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وان 1"/>
          <p:cNvSpPr/>
          <p:nvPr/>
        </p:nvSpPr>
        <p:spPr>
          <a:xfrm>
            <a:off x="324000" y="4905360"/>
            <a:ext cx="756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اقتصار على ما يحتاجه م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