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84BC-EA5F-4D48-99AF-1A5918D9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8D69-BFDB-4B7D-A1E4-D3378C2F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F63E-585D-4364-A1C7-458F1B44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B04-18E1-44B5-B940-7D384055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607-42BB-4493-83FF-9EFDF4BF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CD35-D23E-4D62-BC59-CB944F60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C40C-02C5-4AB2-9113-1463B3CE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FE10-0567-410F-8FD7-1A27706E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2601-A6A9-442A-8A44-67807757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486-7DD4-49FD-A60F-7F140D33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4D5-D323-4F38-91DC-2E56313B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FEBD-B745-4F98-8F57-A78AA3C0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F7B8-CCF5-46F5-99DE-568B9F891EF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08000" y="907920"/>
            <a:ext cx="7110720" cy="60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306440" y="2276640"/>
            <a:ext cx="751536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2138400" y="4581360"/>
            <a:ext cx="6754680" cy="62244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2852640"/>
            <a:ext cx="85694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179280" y="1585800"/>
            <a:ext cx="856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تحية أهل الجنة بعضهم لبعض كلام سالم من اللغو والآث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324000" y="3699000"/>
            <a:ext cx="8496000" cy="66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7"/>
          <a:stretch/>
        </p:blipFill>
        <p:spPr>
          <a:xfrm>
            <a:off x="395280" y="6148440"/>
            <a:ext cx="84963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1"/>
          <a:stretch/>
        </p:blipFill>
        <p:spPr>
          <a:xfrm>
            <a:off x="539640" y="1844640"/>
            <a:ext cx="81360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95480" y="4746600"/>
            <a:ext cx="335304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69840"/>
            <a:ext cx="878544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46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59840" cy="8654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65300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187200" y="6014880"/>
            <a:ext cx="496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دلائل وحدانيتنا تاركون النظر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1052640"/>
            <a:ext cx="4176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5372280"/>
            <a:ext cx="4968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دل الآخرة لإنكارهم ل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قبال على الدنيا والانهماك في طلبها حتى تكون أكبر الهم ومبلغ العلم دون التفات إلى إرضاء الرب أو استعداد للآخر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حال الكفار الذين قصروا هممهم على الدنيا ولم يفكروا بالآخرة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314172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فلة والإعراض عن التفكر بآيات الله الكونية والتدبر لآياته القرآ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ذر من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8936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43700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من زعم أن تصديق القلب كاف للفلاح في الآخر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ذكر أنه يهدي من آمن وعمل صالحاً إلى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ريق الإنسان إلى الجنة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يمان والعمل الصال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0800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غب في الإيمان وحرص على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هداه الله و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249228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مال نعيم أهل الجنة لاشتماله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عيم القلب ونعيم الروح ونعيم البد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141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كمال 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اليف على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توج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08000" y="47242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أهل الجنة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سبيح والسلام والتحم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هم أهل الجنة التسبيح والسلام والتحم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غير كلفة ولا مش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098720" y="3611520"/>
            <a:ext cx="7762680" cy="4651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08000" y="5811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مرة التسبيح والسلام والتحميد ل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طمئن قلوبهم وتفرح أرواح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243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حية أهل الجنة بعضهم لبعض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ام سالم من اللغو والآث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304920" y="1557360"/>
            <a:ext cx="8659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4T14:44:43Z</dcterms:modified>
  <cp:revision>1926</cp:revision>
  <dc:subject/>
  <dc:title>عرض تقديمي في PowerPoint</dc:title>
</cp:coreProperties>
</file>