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AFA1-82AA-408B-B92A-9A83F372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93AC-60A7-4EE6-8425-697E445A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211-4E19-4EA6-A04F-4EA64541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B2F2-EA57-4B91-9F35-3189D9D3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C0B-545F-44B4-AA4D-E97CC498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92B-A452-4393-B376-B90B101C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B7B-E371-40BF-9463-529C454E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73A-64D1-40A7-AABD-1856E1CC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BB22-8069-4E98-954F-702B311B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D609-A802-492E-9A40-7A628EB5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5D5F-B644-4879-9EC9-3D0CA884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C478-C72A-4BD0-AF3C-1404B347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F923-19E4-44E0-9173-27BBB25DA3D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64072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4211640" y="1844640"/>
            <a:ext cx="41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مربع نص 11"/>
          <p:cNvSpPr/>
          <p:nvPr/>
        </p:nvSpPr>
        <p:spPr>
          <a:xfrm>
            <a:off x="4211640" y="2565360"/>
            <a:ext cx="410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إيتاي ذى القرب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مربع نص 13"/>
          <p:cNvSpPr/>
          <p:nvPr/>
        </p:nvSpPr>
        <p:spPr>
          <a:xfrm>
            <a:off x="179280" y="1844640"/>
            <a:ext cx="316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مربع نص 14"/>
          <p:cNvSpPr/>
          <p:nvPr/>
        </p:nvSpPr>
        <p:spPr>
          <a:xfrm>
            <a:off x="179280" y="256536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وفاء بالعه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21640" cy="568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4"/>
          <a:stretch/>
        </p:blipFill>
        <p:spPr>
          <a:xfrm>
            <a:off x="395280" y="2565360"/>
            <a:ext cx="453708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5"/>
          <a:stretch/>
        </p:blipFill>
        <p:spPr>
          <a:xfrm>
            <a:off x="250920" y="4221000"/>
            <a:ext cx="4734000" cy="107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6"/>
          <a:stretch/>
        </p:blipFill>
        <p:spPr>
          <a:xfrm>
            <a:off x="250920" y="5546880"/>
            <a:ext cx="4778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184464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حش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ن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نقض الأيم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82960" y="981000"/>
            <a:ext cx="51357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525680"/>
            <a:ext cx="87138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"/>
          <p:cNvPicPr/>
          <p:nvPr/>
        </p:nvPicPr>
        <p:blipFill>
          <a:blip r:embed="rId1"/>
          <a:stretch/>
        </p:blipFill>
        <p:spPr>
          <a:xfrm>
            <a:off x="388800" y="4508640"/>
            <a:ext cx="852012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250920" y="2133720"/>
            <a:ext cx="856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جمعت الخير والش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4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5"/>
          <a:stretch/>
        </p:blipFill>
        <p:spPr>
          <a:xfrm>
            <a:off x="388800" y="2708280"/>
            <a:ext cx="8533080" cy="124452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393372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نهي عن الحلف وكثرته وعدم الوفاء بما حلف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566100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أراد الله لجعل الناس كلهم مؤمنين ولكنه لحكمة ارادها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3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4"/>
          <a:stretch/>
        </p:blipFill>
        <p:spPr>
          <a:xfrm>
            <a:off x="388800" y="3287880"/>
            <a:ext cx="8533080" cy="1244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5"/>
          <a:stretch/>
        </p:blipFill>
        <p:spPr>
          <a:xfrm>
            <a:off x="388800" y="5018040"/>
            <a:ext cx="8520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21"/>
          <a:stretch/>
        </p:blipFill>
        <p:spPr>
          <a:xfrm>
            <a:off x="324000" y="1268280"/>
            <a:ext cx="85341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82320" cy="1414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4581360"/>
            <a:ext cx="350532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63440" y="981000"/>
            <a:ext cx="8801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50920" y="2054160"/>
            <a:ext cx="864216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569080" cy="354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4680" y="907920"/>
            <a:ext cx="9139320" cy="8654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179280" y="981000"/>
            <a:ext cx="432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كارم الأخل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259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8690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كفر و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ال ابن مسعود : إن أجمع آية في القرآ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الإحسان وإعطاء ذوي القربى حقوقهم الواجبة من البر والص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ا واللواط وكل قبيح من الفواحش الظاهرة والباطن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ظلم بجميع صوره وأشكا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أيمان بعد توكيد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550800" y="1579680"/>
            <a:ext cx="3116160" cy="47916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5445000"/>
            <a:ext cx="8666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الله تعالى من ينقض 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ن تغزل غزلاً قوياً فإذا استحكم وتم ما أريد منه نقضته فتعبت على الغزل ثم على النقض فكذلك من نقض ما عاهد عليه فهو ظالم ناقص الدين والعق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عل الله الناس مختلفين على أصناف شت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ى يتبين أهل الإيمان من أهل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2063880"/>
            <a:ext cx="8665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دل الله تعالى في حساب كل إنسا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يحاسب كل إنسان عن عم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2T22:20:54Z</dcterms:modified>
  <cp:revision>1908</cp:revision>
  <dc:subject/>
  <dc:title>عرض تقديمي في PowerPoint</dc:title>
</cp:coreProperties>
</file>