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2501-E427-42E3-BBBD-1DD2D9929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46E4-6579-44BA-A9C9-E1E49123C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7740-845B-4D99-B442-31155D4CD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366E-C547-41C8-8AEE-215119F8F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9199-5A82-49B1-A88B-42F687F7E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756B-B634-4975-AA84-81BF5A780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8F44-3744-4FB9-8391-6156A7010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C678-DBF8-4661-80BC-2078AB3BD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F024-3ECB-44F8-9079-B96E1A77B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72BB-751F-42B1-9969-6ECFBA8A4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266B-1A2E-4DCB-9F1F-C6031E97C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32D8-AD51-4FD6-8497-A99D65C7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B1B28-9FA7-492F-A191-B5E785631B6F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0" y="4680"/>
            <a:ext cx="9159840" cy="8352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250920" y="5130720"/>
            <a:ext cx="85690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قوله تعالى 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10" descr=""/>
          <p:cNvPicPr/>
          <p:nvPr/>
        </p:nvPicPr>
        <p:blipFill>
          <a:blip r:embed="rId3"/>
          <a:stretch/>
        </p:blipFill>
        <p:spPr>
          <a:xfrm>
            <a:off x="1908000" y="907920"/>
            <a:ext cx="7110720" cy="606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"/>
          <p:cNvPicPr/>
          <p:nvPr/>
        </p:nvPicPr>
        <p:blipFill>
          <a:blip r:embed="rId4"/>
          <a:stretch/>
        </p:blipFill>
        <p:spPr>
          <a:xfrm>
            <a:off x="1306440" y="2276640"/>
            <a:ext cx="7515360" cy="5349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"/>
          <p:cNvPicPr/>
          <p:nvPr/>
        </p:nvPicPr>
        <p:blipFill>
          <a:blip r:embed="rId5"/>
          <a:stretch/>
        </p:blipFill>
        <p:spPr>
          <a:xfrm>
            <a:off x="2138400" y="4581360"/>
            <a:ext cx="6754680" cy="622440"/>
          </a:xfrm>
          <a:prstGeom prst="rect">
            <a:avLst/>
          </a:prstGeom>
          <a:ln w="0">
            <a:noFill/>
          </a:ln>
        </p:spPr>
      </p:pic>
      <p:sp>
        <p:nvSpPr>
          <p:cNvPr id="88" name="عنوان 1"/>
          <p:cNvSpPr/>
          <p:nvPr/>
        </p:nvSpPr>
        <p:spPr>
          <a:xfrm>
            <a:off x="179280" y="2852640"/>
            <a:ext cx="856944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قوله تعالى 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عنوان 1"/>
          <p:cNvSpPr/>
          <p:nvPr/>
        </p:nvSpPr>
        <p:spPr>
          <a:xfrm>
            <a:off x="179280" y="1585800"/>
            <a:ext cx="8569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 تحية أهل الجنة بعضهم لبعض كلام سالم من اللغو والآثا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13" descr=""/>
          <p:cNvPicPr/>
          <p:nvPr/>
        </p:nvPicPr>
        <p:blipFill>
          <a:blip r:embed="rId6"/>
          <a:stretch/>
        </p:blipFill>
        <p:spPr>
          <a:xfrm>
            <a:off x="324000" y="3699000"/>
            <a:ext cx="8496000" cy="666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" descr=""/>
          <p:cNvPicPr/>
          <p:nvPr/>
        </p:nvPicPr>
        <p:blipFill>
          <a:blip r:embed="rId7"/>
          <a:stretch/>
        </p:blipFill>
        <p:spPr>
          <a:xfrm>
            <a:off x="395280" y="6148440"/>
            <a:ext cx="8496360" cy="6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131"/>
          <a:stretch/>
        </p:blipFill>
        <p:spPr>
          <a:xfrm>
            <a:off x="539640" y="1844640"/>
            <a:ext cx="8136000" cy="35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334800" y="1484280"/>
            <a:ext cx="8413920" cy="3168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14400"/>
            <a:ext cx="9144000" cy="1276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895480" y="4746600"/>
            <a:ext cx="3353040" cy="4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179280" y="969840"/>
            <a:ext cx="8785440" cy="57722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3"/>
          <a:stretch/>
        </p:blipFill>
        <p:spPr>
          <a:xfrm>
            <a:off x="0" y="4680"/>
            <a:ext cx="9159840" cy="8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9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713800" cy="4681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"/>
          <p:cNvPicPr/>
          <p:nvPr/>
        </p:nvPicPr>
        <p:blipFill>
          <a:blip r:embed="rId2"/>
          <a:stretch/>
        </p:blipFill>
        <p:spPr>
          <a:xfrm>
            <a:off x="0" y="907920"/>
            <a:ext cx="9159840" cy="86544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250920" y="4653000"/>
            <a:ext cx="496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بع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187200" y="6014880"/>
            <a:ext cx="49690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عن دلائل وحدانيتنا تاركون النظر فيه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395280" y="1052640"/>
            <a:ext cx="4176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بيان صدق الإسلا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3"/>
          <a:stretch/>
        </p:blipFill>
        <p:spPr>
          <a:xfrm>
            <a:off x="0" y="4680"/>
            <a:ext cx="9159840" cy="835200"/>
          </a:xfrm>
          <a:prstGeom prst="rect">
            <a:avLst/>
          </a:prstGeom>
          <a:ln w="0">
            <a:noFill/>
          </a:ln>
        </p:spPr>
      </p:pic>
      <p:sp>
        <p:nvSpPr>
          <p:cNvPr id="56" name="عنوان 1"/>
          <p:cNvSpPr/>
          <p:nvPr/>
        </p:nvSpPr>
        <p:spPr>
          <a:xfrm>
            <a:off x="250920" y="5372280"/>
            <a:ext cx="49687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بدل الآخرة لإنكارهم لها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50920" y="1484280"/>
            <a:ext cx="86659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قبال على الدنيا والانهماك في طلبها حتى تكون أكبر الهم ومبلغ العلم دون التفات إلى إرضاء الرب أو استعداد للآخر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ذر منه الإسل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27160" y="2492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اغترار بحال الكفار الذين قصروا هممهم على الدنيا ولم يفكروا بالآخرة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ا يجو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179280" y="3141720"/>
            <a:ext cx="866628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غفلة والإعراض عن التفكر بآيات الله الكونية والتدبر لآياته القرآني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حذر منه الإسلا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50920" y="378936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عمل الصالح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م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179280" y="4437000"/>
            <a:ext cx="8666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رد على من زعم أن تصديق القلب كاف للفلاح في الآخر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 الله ذكر أنه يهدي من آمن وعمل صالحاً إلى الجن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108000" y="530064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طريق الإنسان إلى الجنة هو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إيمان والعمل الصال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108000" y="587700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هداية بيد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ل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6" descr=""/>
          <p:cNvPicPr/>
          <p:nvPr/>
        </p:nvPicPr>
        <p:blipFill>
          <a:blip r:embed="rId1"/>
          <a:stretch/>
        </p:blipFill>
        <p:spPr>
          <a:xfrm>
            <a:off x="0" y="4680"/>
            <a:ext cx="9159840" cy="8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50920" y="1484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الهداية بيد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عبد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27160" y="1989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رغب في الإيمان وحرص على العمل الصالح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هداه الله وثبت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179280" y="2492280"/>
            <a:ext cx="866628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كمال نعيم أهل الجنة لاشتماله ع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نعيم القلب ونعيم الروح ونعيم البد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50920" y="314172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كمال نعيم أهل الجن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قوله تعالى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179280" y="4149720"/>
            <a:ext cx="8666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كاليف على أهل الجن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توج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عنوان 1"/>
          <p:cNvSpPr/>
          <p:nvPr/>
        </p:nvSpPr>
        <p:spPr>
          <a:xfrm>
            <a:off x="108000" y="472428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بادة أهل الجنة في الجن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تسبيح والسلام والتحمي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عنوان 1"/>
          <p:cNvSpPr/>
          <p:nvPr/>
        </p:nvSpPr>
        <p:spPr>
          <a:xfrm>
            <a:off x="108000" y="530064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لهم أهل الجنة التسبيح والسلام والتحميد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 غير كلفة ولا مشق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6" descr=""/>
          <p:cNvPicPr/>
          <p:nvPr/>
        </p:nvPicPr>
        <p:blipFill>
          <a:blip r:embed="rId1"/>
          <a:stretch/>
        </p:blipFill>
        <p:spPr>
          <a:xfrm>
            <a:off x="0" y="4680"/>
            <a:ext cx="9159840" cy="835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1098720" y="3611520"/>
            <a:ext cx="7762680" cy="46512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108000" y="581184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ثمرة التسبيح والسلام والتحميد لأهل الجن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تطمئن قلوبهم وتفرح أرواح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عنوان 1"/>
          <p:cNvSpPr/>
          <p:nvPr/>
        </p:nvSpPr>
        <p:spPr>
          <a:xfrm>
            <a:off x="108000" y="624348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تحية أهل الجنة بعضهم لبعض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كلام سالم من اللغو والآثا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6" descr=""/>
          <p:cNvPicPr/>
          <p:nvPr/>
        </p:nvPicPr>
        <p:blipFill>
          <a:blip r:embed="rId1"/>
          <a:stretch/>
        </p:blipFill>
        <p:spPr>
          <a:xfrm>
            <a:off x="0" y="4680"/>
            <a:ext cx="9159840" cy="8352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30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6" descr=""/>
          <p:cNvPicPr/>
          <p:nvPr/>
        </p:nvPicPr>
        <p:blipFill>
          <a:blip r:embed="rId3"/>
          <a:stretch/>
        </p:blipFill>
        <p:spPr>
          <a:xfrm>
            <a:off x="304920" y="1557360"/>
            <a:ext cx="86598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14T14:44:43Z</dcterms:modified>
  <cp:revision>1926</cp:revision>
  <dc:subject/>
  <dc:title>عرض تقديمي في PowerPoint</dc:title>
</cp:coreProperties>
</file>