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B175-27F6-4D85-A3B0-40E9D4FD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BF40-74CD-491A-AB97-9194A997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32D-91C0-4D75-98BD-DBFF5536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8211-814B-4A53-B110-FE43C6CB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EF6-305A-434F-9DA9-23F48673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5D8-CDB5-4230-B453-BB6D9371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DC22-FCE3-4147-9E01-FA22E8E9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4C8-EC5B-495C-8A1F-A2A1D122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D2A7-5921-4AB1-8DA3-9D4A6F15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B4E-3778-4ECC-8686-7C8756E4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5E65-949B-47E1-B7BE-F755DEE8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46F-BDFB-46BE-9C3A-D930B2F0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8220-AA3E-418C-BCB6-4C0759C34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01680" y="1508040"/>
            <a:ext cx="85471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5491080"/>
            <a:ext cx="85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ح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786880" cy="1816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216000" y="3979800"/>
            <a:ext cx="8748720" cy="132084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708280"/>
            <a:ext cx="85690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كون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تلو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ولا تعملون : محمد صلى الله عليه وسلم وأم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82600" y="1671480"/>
            <a:ext cx="85694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عل ما أمر الله  ويترك ما نهى عن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73576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3213000"/>
            <a:ext cx="813600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29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653000"/>
            <a:ext cx="3632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108000" y="938160"/>
            <a:ext cx="88995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39760" y="1685880"/>
            <a:ext cx="8717040" cy="498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907920"/>
            <a:ext cx="9132840" cy="6177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941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قب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21200" y="94140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م الله الشام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29264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ما تكون يا محمد في أ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511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زن نملة 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6159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الشامل وإحاطت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جميع أعمال العبا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حصاة عل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م الله السابق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ذي دون الله فيه علم كل شيء قبل وقوع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أولياء الله 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ون المتق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79736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جهلة المسلمين الذين غلوا في الأولياء فجعلوا لهم أوصافاً لا قدرة للبشر عليها مث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ع والضر وعلم الغي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558972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كتساب ولاية الله ت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فعل الأوامر واجتناب النواه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60991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كرام الله ل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تعجيل البشارة لهم في الدنيا بثناء المؤمنين وبشارة الملائكة لهم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راقبة الله الدائمة والبعد عن ما حرم الله وفعل كل ما أوجب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169920" y="981000"/>
            <a:ext cx="88516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24000" y="984240"/>
            <a:ext cx="8584920" cy="5613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4716360" y="292428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324000" y="292428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4716360" y="443700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عل الأوا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324000" y="443700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 النواه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4716360" y="5950080"/>
            <a:ext cx="3456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5950080"/>
            <a:ext cx="3166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7:00:23Z</dcterms:modified>
  <cp:revision>1981</cp:revision>
  <dc:subject/>
  <dc:title>عرض تقديمي في PowerPoint</dc:title>
</cp:coreProperties>
</file>