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21C-9BA3-42E3-8CEA-1AC561C8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519-798F-4344-864B-E28F0BB0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234-3116-4DAF-A698-3E4407E5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1CE-1049-4C74-A51A-57644E43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376-3DD3-4C74-82DF-8E193412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3E3-FCB8-45EB-8CA1-188E30E8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C6A-86E4-4310-8AC5-A95A41A1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204-2BF9-44ED-8FD5-E44B2061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FB2-72A5-427D-8FF7-ACFD622C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DD3-88B9-44A9-9E4A-FC42CD43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91F-FEA4-4632-BA85-28F54005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386-AC72-48F5-A62F-AD9167CE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004B-71C1-40AE-B741-0437FE02220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89960" cy="86364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27160" y="1989000"/>
            <a:ext cx="86896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ستنفرنا الإمام للجه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هجم الكفارعلى بل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لتقى الصفان وتقابل الزحف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27160" y="394956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في الجهاد في سبيل الله خير كثير  ل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140360" y="981000"/>
            <a:ext cx="4546440" cy="52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1055520" y="3238560"/>
            <a:ext cx="785988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1600" y="1557360"/>
            <a:ext cx="8691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علاء كل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صر المظلومين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دّ العدوان وحفظ الإسلا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49"/>
          <a:stretch/>
        </p:blipFill>
        <p:spPr>
          <a:xfrm>
            <a:off x="250920" y="907920"/>
            <a:ext cx="8642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613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23920" y="981000"/>
            <a:ext cx="8696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738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2116080"/>
            <a:ext cx="8642160" cy="44816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50920" y="41083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عسر واليس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50920" y="45752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سفراً قريب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013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جهاد والقت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5468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عتذر عن الخرو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8510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2400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تحي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جهاد مرتبط بإذن :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م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خلف عن الجهاد الواجب والاعتذار بأعذار كاذبة علامة من علام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278136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تب الله رسوله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إذنه لمن استأذنه في القعود قبل أن يتبين الصادق منهم في عذره من الكاذب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بشر لا يعلم الغيب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إعلام الله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365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مبادرة إلى الأعمال الصالح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94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عظم الأعمال الصالح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51664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ط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3262320" y="2708280"/>
            <a:ext cx="2822400" cy="54144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08000" y="602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يرة والترد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8440" y="1125360"/>
            <a:ext cx="8545680" cy="7192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صفات المؤمنين المبادرة إلى الأعمال الصالحة والبعد عن التردد والح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0T19:38:18Z</dcterms:modified>
  <cp:revision>1811</cp:revision>
  <dc:subject/>
  <dc:title>عرض تقديمي في PowerPoint</dc:title>
</cp:coreProperties>
</file>