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1B91-8E8A-4888-B4FD-5D2F795C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268-05E1-4E01-97D0-0F3C1280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A26D-F291-4DD5-AB15-21B8BCFED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D0A-65D0-46C2-B5ED-1E1D8CB2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6F30-6E2A-4849-A684-7AE0A225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1C5-9355-4E59-887A-0970DEE3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2FF-B38D-43B1-9634-A17133ED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B196-0C1D-4195-A06C-75B54DD3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54F-F122-44FF-AE40-784FE026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B84-527B-434A-921F-0EED1314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09E-38F2-469C-9652-153522E2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7223-29E2-4BF4-BCDF-05B07D32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1099-9DE5-4534-A557-F582C04E203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8229600" cy="1151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4"/>
          <a:stretch/>
        </p:blipFill>
        <p:spPr>
          <a:xfrm>
            <a:off x="0" y="2160720"/>
            <a:ext cx="891396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1135080" y="836640"/>
            <a:ext cx="7758000" cy="4178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3203640" y="2162160"/>
            <a:ext cx="53719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5"/>
          <a:stretch/>
        </p:blipFill>
        <p:spPr>
          <a:xfrm>
            <a:off x="3916440" y="3602160"/>
            <a:ext cx="46479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6"/>
          <a:stretch/>
        </p:blipFill>
        <p:spPr>
          <a:xfrm>
            <a:off x="4067280" y="5013360"/>
            <a:ext cx="46353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395280" y="1484280"/>
            <a:ext cx="84978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324000" y="5300640"/>
            <a:ext cx="8569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 على طاع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ن معصية الله   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صبر على البل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1617840" y="836640"/>
            <a:ext cx="7275240" cy="584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4"/>
          <a:stretch/>
        </p:blipFill>
        <p:spPr>
          <a:xfrm>
            <a:off x="1719360" y="2997360"/>
            <a:ext cx="71737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5"/>
          <a:stretch/>
        </p:blipFill>
        <p:spPr>
          <a:xfrm>
            <a:off x="5702400" y="4653000"/>
            <a:ext cx="3200400" cy="52056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324000" y="364644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لاة   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زك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324000" y="148428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قبيحاً لحا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45"/>
          <a:stretch/>
        </p:blipFill>
        <p:spPr>
          <a:xfrm>
            <a:off x="476280" y="2421000"/>
            <a:ext cx="81914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190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5013360"/>
            <a:ext cx="33526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58680"/>
            <a:ext cx="892800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62080" y="1989000"/>
            <a:ext cx="8631000" cy="288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76032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287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لبس في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057480" y="97488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حال السعداء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                            فيه :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نكار على من يتوهم المماثلة بين من يعلم ما أنزله الله من الحق وبين من لا يعلم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اء الوصف بالأعم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قبيحاً لحا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سبحانه هو العدل فلا يستوي عن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آمن بالقرآن ومن كفر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ؤمن حيّ القلب يبصر بنور قلبه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علم و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 ميت القلب أعمى البصيرة وذلك لأن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ولا ي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تعاظ بالمواعظ يحصل لكل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ذي عقل راجح سلي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حرص على الاتصاف بصفات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عمال السعداء لا بد أن تكون خالص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جه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بدي لا يزول ولا يحو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5410080"/>
            <a:ext cx="866592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شارة إ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يجمع بين السعداء وبين من صلح من الآباء والأهلين والأبناء لتقر أعينهم بهم فترفع درجة الأدنى إلى درجة الأعلى امتناناً م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5" descr=""/>
          <p:cNvPicPr/>
          <p:nvPr/>
        </p:nvPicPr>
        <p:blipFill>
          <a:blip r:embed="rId1"/>
          <a:stretch/>
        </p:blipFill>
        <p:spPr>
          <a:xfrm>
            <a:off x="6227640" y="1413000"/>
            <a:ext cx="1663920" cy="55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"/>
          <p:cNvPicPr/>
          <p:nvPr/>
        </p:nvPicPr>
        <p:blipFill>
          <a:blip r:embed="rId2"/>
          <a:stretch/>
        </p:blipFill>
        <p:spPr>
          <a:xfrm>
            <a:off x="2835360" y="5410080"/>
            <a:ext cx="5024520" cy="506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ها تدخل على المؤمنين في الجنة للسلام والتهنئة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1916280"/>
            <a:ext cx="8665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و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تض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ح ما أعطى الله السعداء من الجنة وذلك للترغيب والتشوي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1"/>
          <a:stretch/>
        </p:blipFill>
        <p:spPr>
          <a:xfrm>
            <a:off x="5500800" y="1870200"/>
            <a:ext cx="2311200" cy="52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852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1522440"/>
            <a:ext cx="8640720" cy="42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وفون بعهد ا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قضون الميثا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لون ما أمر الله به أن يوص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شون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خافون سوء الحسا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بروا ابتغاء وجه ر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7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قاموا الصل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8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فقوا مما رزقهم الله سراً وعلاني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9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درؤون بالحسنة السيئ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3"/>
          <a:stretch/>
        </p:blipFill>
        <p:spPr>
          <a:xfrm>
            <a:off x="4140360" y="836640"/>
            <a:ext cx="477504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9:59:14Z</dcterms:modified>
  <cp:revision>2077</cp:revision>
  <dc:subject/>
  <dc:title>عرض تقديمي في PowerPoint</dc:title>
</cp:coreProperties>
</file>