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658-C996-441F-9742-2454CD910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0869-EB76-4852-95E7-A11600AA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4E1-9C9C-4E91-8443-64247F9F2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AB76-8BFC-435A-82D2-F1753278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66C7-FDEB-4CDC-90B9-BC8C1902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CDD8-5816-45AD-9AB8-24C4104F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5704-E9F4-46BF-B70A-484EC256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2FB-C0FE-4D1C-AD14-AC7F833A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276-8476-43BC-B6C8-A668EBEC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D52A-7D47-4624-884C-F4D596E6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419C-7766-4694-B176-0852F623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F8B-32B0-4F7C-9E1C-62A1499A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8CFC-0899-46FA-8045-F46A0D4863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أمر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بالمعروف والنهي عن المنكر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من من عذاب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13800" cy="568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4"/>
          <a:stretch/>
        </p:blipFill>
        <p:spPr>
          <a:xfrm>
            <a:off x="324000" y="3645000"/>
            <a:ext cx="4211640" cy="90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5"/>
          <a:stretch/>
        </p:blipFill>
        <p:spPr>
          <a:xfrm>
            <a:off x="250920" y="4724280"/>
            <a:ext cx="4316400" cy="1944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6"/>
          <a:stretch/>
        </p:blipFill>
        <p:spPr>
          <a:xfrm>
            <a:off x="250920" y="2492280"/>
            <a:ext cx="4284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3"/>
          <a:stretch/>
        </p:blipFill>
        <p:spPr>
          <a:xfrm>
            <a:off x="395280" y="957240"/>
            <a:ext cx="853272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4"/>
          <a:stretch/>
        </p:blipFill>
        <p:spPr>
          <a:xfrm>
            <a:off x="250920" y="2852640"/>
            <a:ext cx="86421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179280" y="1438200"/>
            <a:ext cx="8713800" cy="523080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9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23920" y="589284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طاعة الله والرسول في كل أمر والبعد عن كل ما نهى عن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503280" y="1125360"/>
            <a:ext cx="820260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2679840" y="3213000"/>
            <a:ext cx="6222960" cy="1359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5"/>
          <a:stretch/>
        </p:blipFill>
        <p:spPr>
          <a:xfrm>
            <a:off x="3378240" y="5365800"/>
            <a:ext cx="553716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179280" y="249228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وف من الله تعالى والدعاء بأن يثبت الله قلبه على الإيما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452592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سماع تفه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3351240"/>
            <a:ext cx="862812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134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73280"/>
            <a:ext cx="854208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8696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116000" y="1197000"/>
            <a:ext cx="7707240" cy="4392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7667640" y="342900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1125360"/>
            <a:ext cx="8642160" cy="5399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250920" y="389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ا تعرضو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581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يوان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2293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كلام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8723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جيبوا الله والرس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سماع الذي نفاه الله عن المشركين في قوله تعالى :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هو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ماع تدبر وعظ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0680" y="249228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ما سماع التبليغ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قامت الحجة عليهم به بما سمعوه من آي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213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أن من  الناس من هو شر من الدواب وأحط منزل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الله تعالى وهبهم أسماعاً وأبصاراً وأفئدة فاستعملوها في معصيته وتركوا طاعته وأم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منع الإيمان والخير إلا ع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خير ف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1730520" y="1484280"/>
            <a:ext cx="2481120" cy="4842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179280" y="4797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ان عدم هداية الله ل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أنفسهم لا تقبل الخير ولا تميل إلى الهدى إذ عرف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44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استجابة لله ولرسوله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اة المسلمين الحقيقية وقوتهم وعزت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609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طريق سعادة المرء في الدنيا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تقوى الله وطاعة رس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طريق سعادة المرء في الدنيا يكون بتقوى الله وطاعة رسوله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85264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قلوب بيد الله تعالى يصرفها كيف يش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عائ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يا مقلب القلوب ثبت قلبي على دينك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86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حذر من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7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6200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450864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فسوق والمعاصي والمنكر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ضررها لا يقتصر على الفاعل فحسب بل يتضرر بذلك المجتمع بأسر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5445000"/>
            <a:ext cx="86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ضرر الفسوق والمعاصي والمنكرات لا يقتصر على الفاعل فحسب بل يتضرر بذلك المجتمع بأس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ذا ظهرت المعاصي في أمتي عمهم الله بعذاب من عنده ...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527040" y="1989000"/>
            <a:ext cx="83311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