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13FE-9EEB-4691-BC5A-C847A01B6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2F1D-A676-444D-8CDE-A2894400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492B-41DD-4673-935E-36D5850BC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FE92-978F-473F-BE16-CFAAAD1C0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6116-7ABA-414A-9CA4-E58E7B11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C206-8D10-48A7-A1B0-F7648B06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46AD-DFFC-49B9-BBD7-44B919F1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5C01-5A35-4845-ABA4-E03F04FE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25D7-5BD5-42C2-8A5D-C507A39F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7838-88E2-4019-A715-9ED9BF4D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D90C-A3F0-4DA4-83DB-29F79ACF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2FA8-2D66-423B-87E9-444860F8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6FFC-B75C-4875-B685-806E7228BB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4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59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56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78" name="عنوان 1"/>
          <p:cNvSpPr/>
          <p:nvPr/>
        </p:nvSpPr>
        <p:spPr>
          <a:xfrm>
            <a:off x="355680" y="2076480"/>
            <a:ext cx="856908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حي إله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وحي النبوة لا يكون إلا للرجا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0" descr=""/>
          <p:cNvPicPr/>
          <p:nvPr/>
        </p:nvPicPr>
        <p:blipFill>
          <a:blip r:embed="rId3"/>
          <a:stretch/>
        </p:blipFill>
        <p:spPr>
          <a:xfrm>
            <a:off x="368280" y="907920"/>
            <a:ext cx="8596440" cy="1168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"/>
          <p:cNvPicPr/>
          <p:nvPr/>
        </p:nvPicPr>
        <p:blipFill>
          <a:blip r:embed="rId4"/>
          <a:stretch/>
        </p:blipFill>
        <p:spPr>
          <a:xfrm>
            <a:off x="2556000" y="3789360"/>
            <a:ext cx="6273720" cy="48276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324000" y="443700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تى لا نعمل مثل ما عملوا فيصيبنا مثل ما أصاب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208"/>
          <a:stretch/>
        </p:blipFill>
        <p:spPr>
          <a:xfrm>
            <a:off x="195120" y="2708280"/>
            <a:ext cx="875376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1304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8496000" cy="3241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2635200" y="5089680"/>
            <a:ext cx="38736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1055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179280" y="1052640"/>
            <a:ext cx="87854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642160" cy="4751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72540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39760" y="48639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طريق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130560" y="907920"/>
            <a:ext cx="41781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هج دعوة النبي </a:t>
            </a:r>
            <a:r>
              <a:rPr b="1" lang="en-US" sz="22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56610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نزيه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دعوة إلى الله عز وجل على علم وهدى وبصيرة واتباع منهج الرسول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 الدعوة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نهج الصحيح في البدء بالدعوة إلى ال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بدء بالتوحيد والتحذير من الشر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في أن الله لم يبعث رسولاً من النساء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الرسالة من خصوصيات الرجا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نظر والتأمل والتدبر في أخبار وآثار ومآل الأمم السابق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ث عليه الإسل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زاء أهل الإيمان والتقوى في الآخر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ج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3"/>
          <a:stretch/>
        </p:blipFill>
        <p:spPr>
          <a:xfrm>
            <a:off x="488880" y="907920"/>
            <a:ext cx="8467920" cy="1152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4"/>
          <a:stretch/>
        </p:blipFill>
        <p:spPr>
          <a:xfrm>
            <a:off x="250920" y="2157480"/>
            <a:ext cx="84247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412920" y="907920"/>
            <a:ext cx="8480160" cy="2521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276120" y="3573360"/>
            <a:ext cx="86360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شترط في الدعوة اكتمال العلم بل يكفي ان يدعوهم بقدر علمه ولا يشترط ترك جميع المعاصي . قال ال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4"/>
          <a:stretch/>
        </p:blipFill>
        <p:spPr>
          <a:xfrm>
            <a:off x="235080" y="4556160"/>
            <a:ext cx="867240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0T05:38:47Z</dcterms:modified>
  <cp:revision>2025</cp:revision>
  <dc:subject/>
  <dc:title>عرض تقديمي في PowerPoint</dc:title>
</cp:coreProperties>
</file>