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725-E99F-44FB-B72D-57A3C787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18C-1670-4E5B-A912-C75C7A14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3ABB-2F36-451D-BD35-1C603B18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A9BF-A8E7-42ED-9815-C7FB8170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638-D6AB-4477-BB09-D36515FD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AAF-D14A-4A4C-8E3F-3B1ACFFF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A3A9-7F1F-4224-887B-AE503072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1BE-BF86-455A-9095-06A9AFD9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CE94-4259-48C4-9A3D-E2FE6C81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49F-6BF5-4DFE-ABD3-24DEB9B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648-3889-44C9-9E6C-7D2F11EA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B45-E80A-42DF-993D-A60C6B2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0317-D3C9-4FAB-B931-A6A49414BBE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بر والبطر والتعالي على الخلق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حقيقة ضعف وعجز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مربع نص 1"/>
          <p:cNvSpPr/>
          <p:nvPr/>
        </p:nvSpPr>
        <p:spPr>
          <a:xfrm>
            <a:off x="250920" y="2421000"/>
            <a:ext cx="8661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عدم قتل الأولاد خشية الفق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جميع الفواحش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قتل النفس التي حرم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4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بعد عن مال اليتيم التي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5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الكيل والميزان ب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عدل في الق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7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وفاء بعهد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8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عدم اتباع غير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425520" y="981000"/>
            <a:ext cx="8486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مربع نص 1"/>
          <p:cNvSpPr/>
          <p:nvPr/>
        </p:nvSpPr>
        <p:spPr>
          <a:xfrm>
            <a:off x="250920" y="191628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مثل ما حدث اليوم في بلاد سوريا اليوم من اعتداء حكومتها على شع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295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4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3"/>
          <a:stretch/>
        </p:blipFill>
        <p:spPr>
          <a:xfrm>
            <a:off x="298440" y="1628640"/>
            <a:ext cx="864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"/>
          <p:cNvPicPr/>
          <p:nvPr/>
        </p:nvPicPr>
        <p:blipFill>
          <a:blip r:embed="rId1"/>
          <a:stretch/>
        </p:blipFill>
        <p:spPr>
          <a:xfrm>
            <a:off x="1058760" y="3578400"/>
            <a:ext cx="7834320" cy="2298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16239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يقع في 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1477800" y="1052640"/>
            <a:ext cx="741528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3336840" y="2239920"/>
            <a:ext cx="5575320" cy="54612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324000" y="28162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شر الفساد في الأرض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5" descr=""/>
          <p:cNvPicPr/>
          <p:nvPr/>
        </p:nvPicPr>
        <p:blipFill>
          <a:blip r:embed="rId6"/>
          <a:stretch/>
        </p:blipFill>
        <p:spPr>
          <a:xfrm>
            <a:off x="214200" y="4076640"/>
            <a:ext cx="5005440" cy="622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"/>
          <p:cNvPicPr/>
          <p:nvPr/>
        </p:nvPicPr>
        <p:blipFill>
          <a:blip r:embed="rId7"/>
          <a:stretch/>
        </p:blipFill>
        <p:spPr>
          <a:xfrm>
            <a:off x="1819440" y="4727520"/>
            <a:ext cx="3365280" cy="501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7" descr=""/>
          <p:cNvPicPr/>
          <p:nvPr/>
        </p:nvPicPr>
        <p:blipFill>
          <a:blip r:embed="rId8"/>
          <a:stretch/>
        </p:blipFill>
        <p:spPr>
          <a:xfrm>
            <a:off x="214200" y="5300640"/>
            <a:ext cx="493416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2109960"/>
            <a:ext cx="887760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1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59120" y="4400640"/>
            <a:ext cx="34797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124000" y="1052640"/>
            <a:ext cx="6792840" cy="63504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"/>
          <p:cNvSpPr/>
          <p:nvPr/>
        </p:nvSpPr>
        <p:spPr>
          <a:xfrm>
            <a:off x="250920" y="18432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بعد أن ذكر الله حقوقه وحقوق العباد ذكر الله تعالى هنا المحرم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86468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861696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1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42160" cy="1009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"/>
          <p:cNvPicPr/>
          <p:nvPr/>
        </p:nvPicPr>
        <p:blipFill>
          <a:blip r:embed="rId2"/>
          <a:stretch/>
        </p:blipFill>
        <p:spPr>
          <a:xfrm>
            <a:off x="250920" y="2062080"/>
            <a:ext cx="8642160" cy="47134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4005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خافة الفق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395280" y="44766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ثماً عظيم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395280" y="495936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63600" y="5373720"/>
            <a:ext cx="48243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تب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582300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بر وخي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74760" y="6327720"/>
            <a:ext cx="4824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طرود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564000" y="1359000"/>
            <a:ext cx="3600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حرم الله تعالى على العبا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تل الوالدين لأولادهم خوفاً من الفق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عظائم الذنوب وكبائر الآث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فس التي حرم الله قتلها هي نف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مؤم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كافر الذي له عهد او أمان او ذ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وز قتل النفس المعصومة في ثلاث حال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فس بالنفس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زاني المحص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ارك لدينه المفارق للجما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86064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صدار الأحكام القضائية وتنفيذها راجع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أمر المسلمين ومن يقوم مقا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3750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احب الحق في القصاص أو الدية أو العفو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لي المقتو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48798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4021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إيفاء المكاييل والموازين بالقسط من غير بخ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907240"/>
            <a:ext cx="866592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حفظ الجوار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389640"/>
            <a:ext cx="86659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نسان مسؤول ع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وارح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1:00Z</dcterms:modified>
  <cp:revision>1993</cp:revision>
  <dc:subject/>
  <dc:title>عرض تقديمي في PowerPoint</dc:title>
</cp:coreProperties>
</file>