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38E-E697-430F-8F71-06B1581D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9CF-D6B2-4DA3-8B2E-7B2C6BD7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576-8032-42F4-90E5-A8B8064E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5C3A-3A6F-4523-B718-747E78DE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887-CC8A-492A-9202-C767DAAB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E7C-A2E8-4217-AECB-407EAFC8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BB74-305E-4E9F-B052-72C249D7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856-3475-4B68-B42F-28909B1A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E26B-E452-4D5F-A63E-FFAE6AA5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408-7932-4D54-B5CD-C3D06741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666-76F1-4AB4-8A52-91CD7E30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44BF-65FA-49B0-93DF-1A546450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EEBE-71D1-431E-B08F-0C05746459A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012680"/>
            <a:ext cx="86216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26960" y="1844640"/>
            <a:ext cx="8393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حجر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أصحاب الحجر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حجر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9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27082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حج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سف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حجر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سنة الله في الرسالة والرسل وأقوام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طبيعة المكذبين بهذا الد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أنظار إلى التأمل في بعض آيات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البشر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نبيه على مصارع الغا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856908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0T17:48:07Z</dcterms:modified>
  <cp:revision>1819</cp:revision>
  <dc:subject/>
  <dc:title>عرض تقديمي في PowerPoint</dc:title>
</cp:coreProperties>
</file>