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84A-5773-454E-B22A-042BBC72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B4A-B838-4A3F-B861-F2F9E880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B52-87D4-49DF-89C0-C3EBE266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4BA-91F1-4D41-90C4-AB65206D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0A4-F809-40BA-81DF-D92E3BAA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D9E-8885-4DFF-AD0C-F742E990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3AA-298F-4871-BE18-7FE5349F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722-44F5-4D92-A62A-D6A2DAFB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A88-A4A5-4AC1-9DDB-55075656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084-7E48-4835-A09E-2D34B5A0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2EC-AE86-49AF-A22C-19C4AF5D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7BC-38F3-46C7-9B75-894FC828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38CA-2B53-4052-BA8A-2994FB23330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76120" y="2637000"/>
            <a:ext cx="8636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إخو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امرأه العزي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السج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76120" y="981000"/>
            <a:ext cx="8529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64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558972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برة والعظة وتصديق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1757520" y="981000"/>
            <a:ext cx="7135560" cy="62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217600" y="2744640"/>
            <a:ext cx="667872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4054320" y="5013360"/>
            <a:ext cx="483876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3429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تلاء واختب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324000" y="1628640"/>
            <a:ext cx="8569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لا بعد ما بذلوا ما في وسعهم من الدعو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6"/>
          <a:stretch/>
        </p:blipFill>
        <p:spPr>
          <a:xfrm>
            <a:off x="195120" y="2637000"/>
            <a:ext cx="8753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29600" cy="1248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66880" y="5013360"/>
            <a:ext cx="3810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76120" y="198900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الرسل مع أقوام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622520" y="1052640"/>
            <a:ext cx="727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86544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515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4000" y="11192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943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صر يأتي مع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ر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ع العس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س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صر الله لأوليائه مهما تأخر الن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تيق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يأس من إيمان الناس وهدايت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نة الله تعالى في تأخير نزول النصر على رسله و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زيادة في الابتلاء وال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227160" y="37958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قرآن الكري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فيه هداية ورحمة ل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711360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4427640" y="162864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تاب كله صد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4427640" y="234936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صيل لكل شي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4427640" y="2997360"/>
            <a:ext cx="4052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324000" y="162864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ح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324000" y="234936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395280" y="2997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دق كل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9T10:59:27Z</dcterms:modified>
  <cp:revision>2036</cp:revision>
  <dc:subject/>
  <dc:title>عرض تقديمي في PowerPoint</dc:title>
</cp:coreProperties>
</file>