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1A84-F9CE-414C-826A-18255661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257E-507E-43E0-A17A-42D4480C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290-821C-4613-A734-30C45945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A4C-7501-4CA7-B1C7-244CFD8C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4E4-D52D-4676-AEE4-6DF448BE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2BD0-5E2C-4FA2-AF6E-5CBAD138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6D6-846E-484E-8EEE-B91D1196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9780-2637-496F-BBA2-63D57777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E26D-1858-4DD1-98E4-96D3551B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EE05-C548-4712-A4A9-69A66A0C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6B7-EB6A-4603-AF4E-E400D1C4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2F2-C06B-4D63-AE26-AC6EE6D1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45AC-50D8-4767-A70C-761F28B2023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602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352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السورة باسم إبراهي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شتمالها على دعوات إبراهيم عليه ال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إبراهيم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5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إبراهي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 مك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ائف الرسل عليهم الصلاة و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9"/>
          <p:cNvSpPr/>
          <p:nvPr/>
        </p:nvSpPr>
        <p:spPr>
          <a:xfrm>
            <a:off x="8820000" y="1662120"/>
            <a:ext cx="0" cy="171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حقيقة وحدة الرسال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ثرة نعم الله تعالى على النا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5T16:06:45Z</dcterms:modified>
  <cp:revision>1811</cp:revision>
  <dc:subject/>
  <dc:title>عرض تقديمي في PowerPoint</dc:title>
</cp:coreProperties>
</file>