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321-8CE4-459F-BCA2-3DB0C3BB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AA1-A8D7-412E-9D9B-26F9A37B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8C1-89C0-473E-86DB-228DE613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BE8-1A14-4702-ACCF-2EFF4D6B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CFE-0E7A-4855-844B-E0E9D1FC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714-AC05-4D68-BC3A-40589310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558-597D-46BC-9D57-C4CF2537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2C0-E913-4F16-BDB0-C8223B36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3A7-C5F2-4C76-9518-53E43BB6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626-8EDE-4745-B961-D673C6FB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A40-F19B-4EB5-ACFE-C162F3A7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4E8A-5746-4699-AED0-6DD1277B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1F76-6F20-450E-9A86-E230BF854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5120" y="2185920"/>
            <a:ext cx="87537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374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سف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يوسف عليه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معظم السورة تتحدث عن قص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ه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عقيدة 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128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يوسف عليه 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هداف وغايات القصص القرآ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1139760" y="1438200"/>
            <a:ext cx="7669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11:03Z</dcterms:modified>
  <cp:revision>1802</cp:revision>
  <dc:subject/>
  <dc:title>عرض تقديمي في PowerPoint</dc:title>
</cp:coreProperties>
</file>