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8964-C25D-4CF9-9095-E778FD43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FC5B-2043-487C-93B0-03A43FA4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DC9E-07FB-497D-BB59-1548FC1C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410-84C5-4744-9164-258AC74D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645-65D4-46A8-94CB-11F45D9B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8EB-E8E3-4715-8D7E-278E1EDC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DC4-9EB6-40D9-916E-4B93CD26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2448-4A9C-4B7C-B7D4-C46F7F93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650F-3334-4382-9588-FFB984A8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DDB2-98E6-4835-B30E-D065B94E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450-8E17-4F1C-BDA3-5A12F979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CE80-F5D6-4821-A74A-C0656A76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A55E-AC43-4C67-8780-77775641885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012680"/>
            <a:ext cx="86216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426960" y="1844640"/>
            <a:ext cx="8393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حجر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أصحاب الحجر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حجر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9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27082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حج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سف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حجر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سنة الله في الرسالة والرسل وأقوام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طبيعة المكذبين بهذا الد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أنظار إلى التأمل في بعض آيات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البشر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نبيه على مصارع الغا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8569080" cy="4608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0T17:48:07Z</dcterms:modified>
  <cp:revision>1819</cp:revision>
  <dc:subject/>
  <dc:title>عرض تقديمي في PowerPoint</dc:title>
</cp:coreProperties>
</file>