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3B14-39B9-4AD0-B63B-3736FF79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0BD-8763-4859-A291-31A63D0C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E46-2DFA-482F-B36A-BD233FDE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BEC-623E-4894-98AC-DAF8F3DF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54F9-FF9C-4151-94E6-C65B16DC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7F01-C8AE-412E-9008-B0E805B6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B652-A28A-4220-B18C-7FD3D306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5F2-01CC-4266-80EA-AC061B22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D370-E4D4-4158-ABFD-86850DC0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81D-DDB0-4A11-8DE5-A79009AC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1B5-8CA6-40E4-8924-F1E69FC0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D76-81C9-42C5-861D-F0D8B61C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1084-11F3-4623-A7D3-9EE8BF7D1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09600" y="252360"/>
            <a:ext cx="85248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28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680"/>
            <a:ext cx="914868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773360"/>
            <a:ext cx="84916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نفال في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دينة المن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زمن نزول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ب غزوة 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الأنف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75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50133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لأنفا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ذكرها في بداية السو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429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642920" y="380988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6"/>
          <p:cNvSpPr/>
          <p:nvPr/>
        </p:nvSpPr>
        <p:spPr>
          <a:xfrm flipH="1" flipV="1">
            <a:off x="1547640" y="4046400"/>
            <a:ext cx="604872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343400"/>
            <a:ext cx="208764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بد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8"/>
          <p:cNvCxnSpPr/>
          <p:nvPr/>
        </p:nvCxnSpPr>
        <p:spPr>
          <a:xfrm>
            <a:off x="7596000" y="40831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6012000" y="435456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نف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>
            <a:off x="1547280" y="404604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227160" y="5629320"/>
            <a:ext cx="8665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ب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 معظم الآيات نزلت بعد معركة بدر الكبرى ولها علاقة بالجهاد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sp>
        <p:nvSpPr>
          <p:cNvPr id="6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غزوة بدر وفضل الله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19"/>
          <p:cNvSpPr/>
          <p:nvPr/>
        </p:nvSpPr>
        <p:spPr>
          <a:xfrm>
            <a:off x="8820000" y="1662120"/>
            <a:ext cx="0" cy="3922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أحكام الشرعية مرجعها إلى الله ورسوله </a:t>
            </a:r>
            <a:r>
              <a:rPr b="1" lang="en-US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طاعة الله ورسوله </a:t>
            </a:r>
            <a:r>
              <a:rPr b="1" lang="en-US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خطورة معصيتهم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خطورة المعاص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27"/>
          <p:cNvCxnSpPr/>
          <p:nvPr/>
        </p:nvCxnSpPr>
        <p:spPr>
          <a:xfrm flipH="1">
            <a:off x="8456040" y="4282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06728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حث على إعداد القو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له لا يغير ما بهم حتى يغيروا ما بأنفس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7" name="رابط كسهم مستقيم 31"/>
          <p:cNvCxnSpPr/>
          <p:nvPr/>
        </p:nvCxnSpPr>
        <p:spPr>
          <a:xfrm flipH="1">
            <a:off x="8456040" y="4716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8" name="عنوان 1"/>
          <p:cNvSpPr/>
          <p:nvPr/>
        </p:nvSpPr>
        <p:spPr>
          <a:xfrm>
            <a:off x="250920" y="450072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جواز الميل إلى السلم إذا طلب العدو ذل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33"/>
          <p:cNvCxnSpPr/>
          <p:nvPr/>
        </p:nvCxnSpPr>
        <p:spPr>
          <a:xfrm flipH="1">
            <a:off x="8456040" y="5148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250920" y="4932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غنائم والأسر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5"/>
          <p:cNvCxnSpPr/>
          <p:nvPr/>
        </p:nvCxnSpPr>
        <p:spPr>
          <a:xfrm flipH="1">
            <a:off x="8457480" y="5579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252360" y="536400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ؤمنين أمة واح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9360" cy="981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60036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8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