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74C-5007-4C86-84D0-5FEF78FF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6C6-7521-4DDE-A9EA-42DB6249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EB8-31EE-44CE-82E1-78032674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824-79A3-4962-B691-DC2ACF77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78F-B689-4DEB-A647-A2597FDA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F62-472C-4A2E-8CB7-FB84AFA0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B86-93F7-44CA-8A47-3B0BAE53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289-7FAE-49C3-A7B5-2B7E56FF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F6F-189E-4EFD-9ECB-9062DE1A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D03-A3AE-403D-90A6-2A2EA321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0D0-9920-4286-8C15-4B909A40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C5B-26A6-4FA5-A058-F12C5052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BEDE-2704-491E-862F-F2AE96C0B38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0" r="0" b="62049"/>
          <a:stretch/>
        </p:blipFill>
        <p:spPr>
          <a:xfrm>
            <a:off x="250920" y="312840"/>
            <a:ext cx="8642160" cy="1460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rcRect l="26479" t="42078" r="25493" b="0"/>
          <a:stretch/>
        </p:blipFill>
        <p:spPr>
          <a:xfrm>
            <a:off x="250920" y="2565360"/>
            <a:ext cx="8424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تعريف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179280" y="143028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شف والبيان والإظه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8900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637000"/>
            <a:ext cx="877068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أو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195120" y="313056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جوع إلى الأص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95120" y="354636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ct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1"/>
          <p:cNvSpPr/>
          <p:nvPr/>
        </p:nvSpPr>
        <p:spPr>
          <a:xfrm flipH="1">
            <a:off x="4571640" y="40514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2"/>
          <p:cNvSpPr/>
          <p:nvPr/>
        </p:nvSpPr>
        <p:spPr>
          <a:xfrm flipH="1" flipV="1">
            <a:off x="1476000" y="4287600"/>
            <a:ext cx="604836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4584600"/>
            <a:ext cx="2087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نفس المراد بالك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>
            <a:off x="7524360" y="43239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5940360" y="4595760"/>
            <a:ext cx="2952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كلام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3"/>
          <p:cNvCxnSpPr/>
          <p:nvPr/>
        </p:nvCxnSpPr>
        <p:spPr>
          <a:xfrm>
            <a:off x="1476000" y="42879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5651640" y="5440320"/>
            <a:ext cx="32414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منه : دعائه لابن عباس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(اللهم فقه في الدين وعلمه التأويل)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7"/>
          <p:cNvCxnSpPr/>
          <p:nvPr/>
        </p:nvCxnSpPr>
        <p:spPr>
          <a:xfrm>
            <a:off x="7524360" y="5084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419640" y="5586480"/>
            <a:ext cx="857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طل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1"/>
          <p:cNvCxnSpPr/>
          <p:nvPr/>
        </p:nvCxnSpPr>
        <p:spPr>
          <a:xfrm>
            <a:off x="392400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رابط مستقيم 32"/>
          <p:cNvSpPr/>
          <p:nvPr/>
        </p:nvSpPr>
        <p:spPr>
          <a:xfrm flipH="1">
            <a:off x="1476000" y="49784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33"/>
          <p:cNvSpPr/>
          <p:nvPr/>
        </p:nvSpPr>
        <p:spPr>
          <a:xfrm flipH="1">
            <a:off x="610920" y="522936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34"/>
          <p:cNvCxnSpPr/>
          <p:nvPr/>
        </p:nvCxnSpPr>
        <p:spPr>
          <a:xfrm>
            <a:off x="61092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8840" y="5589720"/>
            <a:ext cx="8571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38"/>
          <p:cNvCxnSpPr/>
          <p:nvPr/>
        </p:nvCxnSpPr>
        <p:spPr>
          <a:xfrm>
            <a:off x="392400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رابط كسهم مستقيم 39"/>
          <p:cNvCxnSpPr/>
          <p:nvPr/>
        </p:nvCxnSpPr>
        <p:spPr>
          <a:xfrm>
            <a:off x="75528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843280" y="6378480"/>
            <a:ext cx="2089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فعل المط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6381720"/>
            <a:ext cx="230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وقوع المخبر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36360" y="44280"/>
            <a:ext cx="9144000" cy="74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61680" cy="6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فرق بين التفسير والتأوي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(باعتبار المعنى الثاني للتأويل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76" name="رابط مستقيم 11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2"/>
          <p:cNvSpPr/>
          <p:nvPr/>
        </p:nvSpPr>
        <p:spPr>
          <a:xfrm flipH="1" flipV="1">
            <a:off x="1476000" y="1577880"/>
            <a:ext cx="604836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24000" y="1874880"/>
            <a:ext cx="2087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أوي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17"/>
          <p:cNvCxnSpPr/>
          <p:nvPr/>
        </p:nvCxnSpPr>
        <p:spPr>
          <a:xfrm>
            <a:off x="7524360" y="16146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5940360" y="188604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23"/>
          <p:cNvCxnSpPr/>
          <p:nvPr/>
        </p:nvCxnSpPr>
        <p:spPr>
          <a:xfrm>
            <a:off x="1476000" y="15778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5435640" y="2730600"/>
            <a:ext cx="34574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رح وبيان للكلام المرا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ألفا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27"/>
          <p:cNvCxnSpPr/>
          <p:nvPr/>
        </p:nvCxnSpPr>
        <p:spPr>
          <a:xfrm>
            <a:off x="7524360" y="23745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250920" y="2703600"/>
            <a:ext cx="42498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قيقة الكلام ك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معان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5"/>
          <p:cNvCxnSpPr/>
          <p:nvPr/>
        </p:nvCxnSpPr>
        <p:spPr>
          <a:xfrm>
            <a:off x="1402920" y="234900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4356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4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108000" y="836640"/>
            <a:ext cx="8926560" cy="12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58840" y="2276640"/>
          <a:ext cx="8680320" cy="2592360"/>
        </p:xfrm>
        <a:graphic>
          <a:graphicData uri="http://schemas.openxmlformats.org/drawingml/2006/table">
            <a:tbl>
              <a:tblPr/>
              <a:tblGrid>
                <a:gridCol w="4079880"/>
                <a:gridCol w="3338280"/>
                <a:gridCol w="12621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أوي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فس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تفا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حقيقة الكل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مع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الكلام المرا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ألفا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ختلا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