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407-92EE-4201-B09A-CFB1DFE8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5A8-45AC-4151-AE00-88582E13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C60-5A71-4DD4-B982-998A5B40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EF62-01D1-410E-810B-7C32BF6A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7A44-EF9F-41B9-B69D-C9E71F5A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9C72-5FEF-47E0-8DF1-2685E363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7E6-868D-4D45-B240-16BDFF00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15FE-D8FF-4BA1-8A00-2A26DDCE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15D-127E-490D-8AD7-8CF7D315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2E2-75A6-4319-AFED-E77DC4D9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828-AC3E-4922-BA67-FB3F0C03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5A4-0754-4131-A5DE-9D2A55FE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A709-A5C8-4930-B8B9-F406A3CB378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76280" y="765000"/>
            <a:ext cx="81914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380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رع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الرع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ذكر الرعد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4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محم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مال قدرة الله تعال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14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ية الوح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البع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استدلال بتوحيد الربوبية على توحيد الألوه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5"/>
          <p:cNvCxnSpPr/>
          <p:nvPr/>
        </p:nvCxnSpPr>
        <p:spPr>
          <a:xfrm flipH="1">
            <a:off x="8458920" y="380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4160" y="35733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صفات السعداء والأشقيا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2T10:16:42Z</dcterms:modified>
  <cp:revision>1807</cp:revision>
  <dc:subject/>
  <dc:title>عرض تقديمي في PowerPoint</dc:title>
</cp:coreProperties>
</file>