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4B6E-9AF1-4E35-8777-D994EF18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0B6-A292-4C2E-96D1-75E03487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105-E05B-40C8-81A0-DD2E4210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1C6-4AA5-4343-9D84-91D66D22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9B8-D2BF-4404-981A-30713986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0920-B023-4504-91AE-21296A43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1DB-15CE-4304-8605-62CFDB85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DEA-88DD-4ACC-8A52-A8B1417F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3BD-6729-4AE4-BEED-BEE5A377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B54-D1F7-4384-AF30-99F895DE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6BCB-DEC9-4C51-A675-595D3137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FFFE-615B-4527-A40B-A58CE5B9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47EB-8086-42AF-906F-0B56FF4F070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569880" y="982800"/>
            <a:ext cx="8323200" cy="107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85550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1487520"/>
            <a:ext cx="8569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هما مع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حسابنا الأشهر والسنوات  بالق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ساب اليوم والصلوات بالشم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2787480" y="1052640"/>
            <a:ext cx="6032520" cy="54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4"/>
          <a:stretch/>
        </p:blipFill>
        <p:spPr>
          <a:xfrm>
            <a:off x="1879560" y="2562120"/>
            <a:ext cx="6962760" cy="44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5"/>
          <a:stretch/>
        </p:blipFill>
        <p:spPr>
          <a:xfrm>
            <a:off x="1268280" y="4149720"/>
            <a:ext cx="7601040" cy="10000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2994120"/>
            <a:ext cx="856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أخبرنا بحقيقة الشمس والقمر وحدّد لنا مهمة كل منهما، فالشمس هي مصدر الضوء، أما القمر فهو عاكس لهذا الضوء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ثبت الإيمان وترسخ اليق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8"/>
          <a:stretch/>
        </p:blipFill>
        <p:spPr>
          <a:xfrm>
            <a:off x="539640" y="1268280"/>
            <a:ext cx="8136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7920"/>
            <a:ext cx="914544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3003480" y="4772160"/>
            <a:ext cx="3137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ديق رسالة محمد صلى الله عليه وسل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"/>
          <p:cNvPicPr/>
          <p:nvPr/>
        </p:nvPicPr>
        <p:blipFill>
          <a:blip r:embed="rId1"/>
          <a:stretch/>
        </p:blipFill>
        <p:spPr>
          <a:xfrm>
            <a:off x="250920" y="1967040"/>
            <a:ext cx="8642160" cy="463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10432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5084640"/>
            <a:ext cx="496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بالشمس تعرف الأيام وبسير القمر تعرف الشهور والأعوا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اقب الليل و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203640" y="112536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جعل للقمر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ز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منازل القم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ث يبدو صغيراً ثم يتزايد نوره وجرمه حتى يكتمل إبداره ثم يأخذ بالنقص حتى يعود إلى حالته الأولى في تمام ال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كمة من خلق الشمس والقمر وتقدير منازلهم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معرفة حساب السنوات والأ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علم الحساب وعلم الفل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ائ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واز تعلم الحساب وعلم الفلك 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تحقيق المصالح الدينية والدنيو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يه الله سبحانه ع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من مخلوق إلا كان لخلق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كمه وغا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عبا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صّل الآيات وأقام الدلائل التي تثبت الإيمان وترسخ الي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09:34:43Z</dcterms:modified>
  <cp:revision>1917</cp:revision>
  <dc:subject/>
  <dc:title>عرض تقديمي في PowerPoint</dc:title>
</cp:coreProperties>
</file>