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D214-4D23-4C80-812B-6E582FBB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0BF0-B68D-4E63-ABF2-5A14E759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F1E-9A28-466A-8209-E09FE713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5EE-9116-4AA2-8211-2ED82AD6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77A-5E83-458D-92C8-DDF2750F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033-79C0-4B8C-8DF3-E47FF105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AFC-2F45-4363-A9D3-98E75855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0285-5FEA-4DDC-B323-B9F3C151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26E-EB63-4FC8-A32C-E3E4689D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8921-1E3F-48F0-B0E2-FA14B250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2C52-6579-424F-AECB-587670EF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D2B-FFC9-4954-99F6-DFA26270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27E4-F79E-44FC-BA3F-7778DA7B9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95120" y="2185920"/>
            <a:ext cx="87537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374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سف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يوسف عليه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معظم السورة تتحدث عن قص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ه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عقيدة 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128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يوسف عليه 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هداف وغايات القصص القرآ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1139760" y="1438200"/>
            <a:ext cx="76694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11:03Z</dcterms:modified>
  <cp:revision>1802</cp:revision>
  <dc:subject/>
  <dc:title>عرض تقديمي في PowerPoint</dc:title>
</cp:coreProperties>
</file>