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7F76-C3A0-4FDF-B813-FB5983B5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CB9-8F76-459E-B822-AB3E6154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DDEF-B342-434F-89E4-95737A9C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157-014A-40B3-93DA-CCE5ECE9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5AA0-4606-4A2C-9266-102BFC59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DC9-E981-4895-87C1-F33C1CBC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B98-5C9B-41BF-9A99-619058F2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D0B-BE1C-4C8C-9272-9C82B3D9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E19-BF72-43FD-A51D-9E1A1F61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20A-06D7-4F62-B372-8DBE9C81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DBD-EA4F-4E3F-AEB1-E8B991D6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A05-1B93-41C1-BA21-1995FC5F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98CC-9BAA-4979-941A-0A90825FB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1143000" y="1008000"/>
            <a:ext cx="7750080" cy="10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250920" y="2189160"/>
            <a:ext cx="8726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539640" y="911160"/>
            <a:ext cx="8290080" cy="11606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50920" y="2276640"/>
            <a:ext cx="8607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حذير من الشيطان وكيد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10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50920" y="1468440"/>
            <a:ext cx="86421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179280" y="1628640"/>
            <a:ext cx="869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 هي : يجعل العبد بينه وبين ما يخافه ويحذره وقاية تقيه م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849320" y="1006560"/>
            <a:ext cx="7021800" cy="62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1332000" y="2997360"/>
            <a:ext cx="7605720" cy="57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5"/>
          <a:stretch/>
        </p:blipFill>
        <p:spPr>
          <a:xfrm>
            <a:off x="303120" y="4308480"/>
            <a:ext cx="8647200" cy="57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6"/>
          <a:stretch/>
        </p:blipFill>
        <p:spPr>
          <a:xfrm>
            <a:off x="4336920" y="2133720"/>
            <a:ext cx="4483080" cy="691920"/>
          </a:xfrm>
          <a:prstGeom prst="rect">
            <a:avLst/>
          </a:prstGeom>
          <a:ln w="0">
            <a:noFill/>
          </a:ln>
        </p:spPr>
      </p:pic>
      <p:sp>
        <p:nvSpPr>
          <p:cNvPr id="117" name="عنوان 1"/>
          <p:cNvSpPr/>
          <p:nvPr/>
        </p:nvSpPr>
        <p:spPr>
          <a:xfrm>
            <a:off x="179280" y="3645000"/>
            <a:ext cx="8691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هو مصدر سعادة الإنس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وان 1"/>
          <p:cNvSpPr/>
          <p:nvPr/>
        </p:nvSpPr>
        <p:spPr>
          <a:xfrm>
            <a:off x="179280" y="501336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حذر منه وتقوية إيمانه بر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77"/>
          <a:stretch/>
        </p:blipFill>
        <p:spPr>
          <a:xfrm>
            <a:off x="250920" y="934920"/>
            <a:ext cx="8642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240" y="9360"/>
            <a:ext cx="9145440" cy="130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771560"/>
            <a:ext cx="83185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86770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981000"/>
            <a:ext cx="912960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8642520" cy="44892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74680" y="4941720"/>
            <a:ext cx="49449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ائل قدر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85840" y="548640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دم وحو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62080" y="595008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ز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50864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وثمر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900520" y="1233360"/>
            <a:ext cx="42638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خطورة الشيط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واع لباس الجس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30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31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3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ستر العو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35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395280" y="2514600"/>
            <a:ext cx="2305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جمال وزي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تر العورات وحفظها من نظر الآخر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كشف العورات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ينقسم إ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42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43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44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7236000" y="554040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جس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46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419040" y="5611680"/>
            <a:ext cx="1488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رو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جسد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ثيا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رو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4581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شيطان ع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داع والتمو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3068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زيين الشيطان للقبي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42"/>
          <p:cNvSpPr/>
          <p:nvPr/>
        </p:nvSpPr>
        <p:spPr>
          <a:xfrm flipH="1">
            <a:off x="4593960" y="3500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43"/>
          <p:cNvSpPr/>
          <p:nvPr/>
        </p:nvSpPr>
        <p:spPr>
          <a:xfrm flipH="1">
            <a:off x="1499760" y="3789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44"/>
          <p:cNvCxnSpPr/>
          <p:nvPr/>
        </p:nvCxnSpPr>
        <p:spPr>
          <a:xfrm>
            <a:off x="7980120" y="3797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7236000" y="409896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شف العور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46"/>
          <p:cNvCxnSpPr/>
          <p:nvPr/>
        </p:nvCxnSpPr>
        <p:spPr>
          <a:xfrm>
            <a:off x="1499760" y="3789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419040" y="4170240"/>
            <a:ext cx="1704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نزع لباس الحشم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7160" y="5084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ستطاع الشيط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خراج الأبوين من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در سعادة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لباس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يطان حريص على تزي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قبي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24"/>
          <p:cNvCxnSpPr/>
          <p:nvPr/>
        </p:nvCxnSpPr>
        <p:spPr>
          <a:xfrm>
            <a:off x="5171760" y="37893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4427640" y="409104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المفات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558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عى الشيطان جاهداً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نع ذريتهما من دخول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25092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شيطان وقبيله يرون بني آدم من حيث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رون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م يكونون أشد مكراً وكيد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لاية الشيطان وتسلطه على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ضعف الإيم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