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657-A12D-4B93-BA9F-0577AE19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37D-2C41-4442-9F8A-ED7EB0FF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9BF-C301-4D4F-8C8B-D0A80E39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F92-B33C-4981-A8FA-1FBA9954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A24-D9A7-49D2-8B5A-52CFF4DD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67D-7447-4D25-81A6-C8285A81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DE6-60D2-474D-80C5-6EE358B4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392-8C26-4429-94E1-4818EDE0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304-3A2A-43C1-A533-30F709B6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EFD-6190-4EEA-8DD1-29F0FA76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C4B-6EBA-4685-90A8-461E4052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44E-380A-4B38-9B49-29A7B0C3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D250-D2D3-40F8-89F2-C6A736AAEFE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84320" y="1471680"/>
            <a:ext cx="8708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69720" y="5805360"/>
            <a:ext cx="8569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هداية بي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خطاب : للنبي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713556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368360" y="2492280"/>
            <a:ext cx="7524720" cy="10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1359000" y="4149720"/>
            <a:ext cx="7534080" cy="170496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357336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حريم لعن المؤ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163980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د من رح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374"/>
          <a:stretch/>
        </p:blipFill>
        <p:spPr>
          <a:xfrm>
            <a:off x="476280" y="2349360"/>
            <a:ext cx="8191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7040" y="4976640"/>
            <a:ext cx="3505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صفات السعداء ذكر هنا صفات الأشقي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364000" y="912960"/>
            <a:ext cx="3569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429400" cy="31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-15840" y="911160"/>
            <a:ext cx="9139320" cy="862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72880" y="468792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جع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057480" y="1190520"/>
            <a:ext cx="417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أشقيا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كفر سبب الطرد من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حمة الله والهلاك في جهن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عز وجل هو المعطي المانع يعطي ويمن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يعطي الدني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حب ومن لا يح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بسط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ر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بض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ا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ى المؤمن تجاه ما أُعطي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ضى والتسليم والقناع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هداية والضلال بيد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508464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دم جواز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هذا من جنس حجة الكفار وهي حجة داحضة لا تف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نقضون 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قطع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فسدون في الأر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رح بالحياة الدنيا عن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ؤمنون بما جاء به الرسل من عن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4070520" y="942840"/>
            <a:ext cx="4749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6T18:13:23Z</dcterms:modified>
  <cp:revision>2087</cp:revision>
  <dc:subject/>
  <dc:title>عرض تقديمي في PowerPoint</dc:title>
</cp:coreProperties>
</file>