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8.png" ContentType="image/png"/>
  <Override PartName="/ppt/media/image13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AEA7-BA2A-411B-B65F-4D522D01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29E4-420E-4F48-AB44-E0585557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858D-9E1F-48EA-992B-9A6B3ADE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A383-AD6D-46AC-95C4-DD7B19A4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5C3F-F2E8-4C7F-926A-8D7A021A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CF60-9ECB-4F85-AB5A-09C726DD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C0AA-2C7D-4F67-9476-A44A9FFC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9384-B06D-486F-BDB0-BAA88D82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ABDE-F860-4930-87D8-0496F83D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9C62-701F-4FFE-828D-B08D1010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190-493E-45F5-85FF-156E5D68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0A0A-FCEE-469A-969C-2A68FE7F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B5FA-5C40-4B45-A41A-322459A3DF1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2241720"/>
            <a:ext cx="86407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ذه ثمار الإعراض عن الله وهي نار جهنم وبئس المصي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856908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168120" y="1434960"/>
            <a:ext cx="865188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345960" y="907920"/>
            <a:ext cx="8547120" cy="1225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1274760" y="3141720"/>
            <a:ext cx="7618320" cy="64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5"/>
          <a:stretch/>
        </p:blipFill>
        <p:spPr>
          <a:xfrm>
            <a:off x="1833480" y="4665600"/>
            <a:ext cx="7059600" cy="63504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324000" y="3720960"/>
            <a:ext cx="85690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مؤمن يوفق في الإجابة وينعم في قب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أن الكافر يخذل ويتردد في الإجابة ويعذب في قب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324000" y="2060640"/>
            <a:ext cx="85690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ي أن الإيمان قول باللسان وعمل بالجوارح واعتقاد بالق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أن درجات الإيمان تزيد بعمل الطاعات لله وتنقص بعمل المعاص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6"/>
          <a:stretch/>
        </p:blipFill>
        <p:spPr>
          <a:xfrm>
            <a:off x="5425920" y="5373720"/>
            <a:ext cx="339408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60256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836800" y="4830840"/>
            <a:ext cx="360684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79280" y="833400"/>
            <a:ext cx="8713800" cy="5835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072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843280" y="958680"/>
            <a:ext cx="4516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كلمة الطيبة وقبح الكلمة القبيح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324000" y="1728720"/>
            <a:ext cx="8569080" cy="48690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95280" y="42181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ي لا إله إلا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8340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لمة الك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541008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alibri"/>
              </a:rPr>
              <a:t>استؤصلت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86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ثب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كلمة التوحي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لا نجاة لأحد إلا 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0680" y="2781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وائد ضرب الأمث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وسيلة من وسائل الإقناع والإفه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9000" y="213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خبث كلمة الكف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ا تهلك صاحبها وتورده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179280" y="3284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ثمار كلمة التوحيد العملي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خلاص لله وطاعته واتباع رسوله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0680" y="4491000"/>
            <a:ext cx="86662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 تثبيت الله تعالى أهل الإيمان وخذلان أهل الكفر والنفاق إشارة إ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دله مع الكفار ورحمته بالمؤمن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89000" y="3843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به ثمار كلمة التوحي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شجرة الطيبة التي لها ثمرات يان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229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نعيم القبر وعذاب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1522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ثمار اليانع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69184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1522440"/>
            <a:ext cx="8640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ثمار الخبيث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82440" y="907920"/>
            <a:ext cx="897732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7T07:17:27Z</dcterms:modified>
  <cp:revision>1828</cp:revision>
  <dc:subject/>
  <dc:title>عرض تقديمي في PowerPoint</dc:title>
</cp:coreProperties>
</file>