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410-6933-4E3A-9A6E-D9DA8369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6CA-D6FD-4B2C-B51E-3FB9FB3E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1D51-58DE-4B99-9795-8DE7DF54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C31-91F9-4CDB-A18F-CDAAC7B0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E75-6281-404B-BA0D-FD403FE0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D3D-D69A-4B05-9866-E750704D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7A09-9AA3-4282-A6A7-1754C2FD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1F76-4165-4865-8F0C-93E51D46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B7F-2E34-442B-8DEE-EC484E79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5B8-326C-4F85-BF75-98151779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F80-6A2B-46B4-A9B0-F82FC256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557-92A7-477E-8A84-E16373C4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EF0DA-B9E9-4FDF-9B12-2F1B22E0D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250920" y="1509840"/>
            <a:ext cx="860112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0920" y="609588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فظ الله له عن التحريف إلى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3"/>
          <a:stretch/>
        </p:blipFill>
        <p:spPr>
          <a:xfrm>
            <a:off x="3276720" y="836640"/>
            <a:ext cx="5651280" cy="546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4"/>
          <a:stretch/>
        </p:blipFill>
        <p:spPr>
          <a:xfrm>
            <a:off x="250920" y="2116080"/>
            <a:ext cx="8691480" cy="1384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5"/>
          <a:stretch/>
        </p:blipFill>
        <p:spPr>
          <a:xfrm>
            <a:off x="1679400" y="5487840"/>
            <a:ext cx="7263000" cy="53352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3500280"/>
            <a:ext cx="856908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 عادة المكذبين الكفر بما أتى به الرس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له تعالى يزيد اهل الكفر والضلال ضلالا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لم الله السابق بما سوف يفعله المكذ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14176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هم وأنهم رسل من عند الله سبحانه و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72"/>
          <a:stretch/>
        </p:blipFill>
        <p:spPr>
          <a:xfrm>
            <a:off x="250920" y="1700280"/>
            <a:ext cx="862164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539640" y="1773360"/>
            <a:ext cx="8353440" cy="2793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154320" y="4567320"/>
            <a:ext cx="31240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250920" y="1015920"/>
            <a:ext cx="864216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2" descr=""/>
          <p:cNvPicPr/>
          <p:nvPr/>
        </p:nvPicPr>
        <p:blipFill>
          <a:blip r:embed="rId1"/>
          <a:stretch/>
        </p:blipFill>
        <p:spPr>
          <a:xfrm>
            <a:off x="250920" y="1671480"/>
            <a:ext cx="8642160" cy="485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0760" cy="66204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0792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قرآن الكري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عنوان 1"/>
          <p:cNvSpPr/>
          <p:nvPr/>
        </p:nvSpPr>
        <p:spPr>
          <a:xfrm>
            <a:off x="395280" y="4473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95280" y="504972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تبديل والتحريف والزيادة والنقص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5732640"/>
            <a:ext cx="482436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يل إلينا ذل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179280" y="1574640"/>
            <a:ext cx="866628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قرآن الكريم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لام الله الحق وهو منزل غير مخلوق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فوظ بحفظ الله إلى يوم القيامة فلن يحرّف كما حرفت التوراة والإنج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98440" y="25830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ادة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استهزاء بالرسل والكفر بما أتوا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7040" y="3086280"/>
            <a:ext cx="866628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يزيد أهل الكفر والضلا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ضلالاً فيعمي بصائرهم عن رؤية الحق لحكمة بالغة هو يعلم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66760" y="38797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نة الله في المكذ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لاك والإذلال والتدمي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179280" y="932040"/>
            <a:ext cx="8785440" cy="118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247680" y="2276640"/>
            <a:ext cx="8640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نزلة من عن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زلت مصدقة للرسل عليهم الصلاة والسل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فيها هدى للمؤمن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8613720" cy="129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2349360"/>
            <a:ext cx="8640720" cy="38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خلا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في الصغر كالنقش على الحج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وقت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ختيار مكان الحف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قراءة المجودة والمنغم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قتصار على طبعة واحدة من المصحف ولا يغير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صحيح القراءة مقدّ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ملية الربط مقدم على الحف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ـتــكــرار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10</a:t>
            </a:r>
            <a:r>
              <a:rPr b="1" lang="en-US" sz="2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حفظ اليومي المنتظم خير من الحفظ المتقط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31T07:43:48Z</dcterms:modified>
  <cp:revision>1842</cp:revision>
  <dc:subject/>
  <dc:title>عرض تقديمي في PowerPoint</dc:title>
</cp:coreProperties>
</file>