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792F-5760-48BB-A04F-81967DE4B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BA4B-739F-4AAF-A62B-16700E5BB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C0D3-D1F6-4237-8CC1-16D4DE99C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FF45-302B-47DF-8A8A-FE8A8E0FA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D3A3-AA29-4FF9-A533-AEB635AEC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B4E3-1F05-4EEB-A546-7E557D8F0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1064-DBBE-4A49-A373-9B02B6A4E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AFFD-B1A3-4A3B-85B7-4F9C8606A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4362-0934-44CB-8213-78804285E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FA57-C0F3-4912-B19E-6F4177E4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F13B-626B-41C8-AE52-CA91A262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A373-D1EF-40D4-9A71-3CFC057C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A6FA0-1830-4E8E-B8A3-3761863675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4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59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3"/>
          <a:stretch/>
        </p:blipFill>
        <p:spPr>
          <a:xfrm>
            <a:off x="324000" y="1484280"/>
            <a:ext cx="8569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78" name="عنوان 1"/>
          <p:cNvSpPr/>
          <p:nvPr/>
        </p:nvSpPr>
        <p:spPr>
          <a:xfrm>
            <a:off x="355680" y="2076480"/>
            <a:ext cx="856908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حي إلها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وحي النبوة لا يكون إلا للرجال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10" descr=""/>
          <p:cNvPicPr/>
          <p:nvPr/>
        </p:nvPicPr>
        <p:blipFill>
          <a:blip r:embed="rId3"/>
          <a:stretch/>
        </p:blipFill>
        <p:spPr>
          <a:xfrm>
            <a:off x="368280" y="907920"/>
            <a:ext cx="8596440" cy="1168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"/>
          <p:cNvPicPr/>
          <p:nvPr/>
        </p:nvPicPr>
        <p:blipFill>
          <a:blip r:embed="rId4"/>
          <a:stretch/>
        </p:blipFill>
        <p:spPr>
          <a:xfrm>
            <a:off x="2556000" y="3789360"/>
            <a:ext cx="6273720" cy="482760"/>
          </a:xfrm>
          <a:prstGeom prst="rect">
            <a:avLst/>
          </a:prstGeom>
          <a:ln w="0">
            <a:noFill/>
          </a:ln>
        </p:spPr>
      </p:pic>
      <p:sp>
        <p:nvSpPr>
          <p:cNvPr id="81" name="عنوان 1"/>
          <p:cNvSpPr/>
          <p:nvPr/>
        </p:nvSpPr>
        <p:spPr>
          <a:xfrm>
            <a:off x="324000" y="443700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حتى لا نعمل مثل ما عملوا فيصيبنا مثل ما أصابه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208"/>
          <a:stretch/>
        </p:blipFill>
        <p:spPr>
          <a:xfrm>
            <a:off x="195120" y="2708280"/>
            <a:ext cx="8753760" cy="17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1304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324000" y="1700280"/>
            <a:ext cx="8496000" cy="3241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2635200" y="5089680"/>
            <a:ext cx="38736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75840" cy="1055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179280" y="1052640"/>
            <a:ext cx="878544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0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8642160" cy="4751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72540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39760" y="48639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طريق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130560" y="907920"/>
            <a:ext cx="41781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هج دعوة النبي </a:t>
            </a:r>
            <a:r>
              <a:rPr b="1" lang="en-US" sz="2200" spc="-1" strike="noStrike">
                <a:solidFill>
                  <a:srgbClr val="1f497d"/>
                </a:solidFill>
                <a:latin typeface="AGA Arabesque"/>
                <a:ea typeface="AGA Arabesque"/>
              </a:rPr>
              <a:t>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50920" y="566100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نزيه ا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3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دعوة إلى الله عز وجل على علم وهدى وبصيرة واتباع منهج الرسول </a:t>
            </a:r>
            <a:r>
              <a:rPr b="1" lang="ar-SA" sz="19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في الدعوة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نهج الصحيح في البدء بالدعوة إلى الل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بدء بالتوحيد والتحذير من الشر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في أن الله لم يبعث رسولاً من النساء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الرسالة من خصوصيات الرجا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نظر والتأمل والتدبر في أخبار وآثار ومآل الأمم السابق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ث عليه الإسلا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زاء أهل الإيمان والتقوى في الآخر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جن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"/>
          <p:cNvPicPr/>
          <p:nvPr/>
        </p:nvPicPr>
        <p:blipFill>
          <a:blip r:embed="rId3"/>
          <a:stretch/>
        </p:blipFill>
        <p:spPr>
          <a:xfrm>
            <a:off x="488880" y="907920"/>
            <a:ext cx="8467920" cy="1152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"/>
          <p:cNvPicPr/>
          <p:nvPr/>
        </p:nvPicPr>
        <p:blipFill>
          <a:blip r:embed="rId4"/>
          <a:stretch/>
        </p:blipFill>
        <p:spPr>
          <a:xfrm>
            <a:off x="250920" y="2157480"/>
            <a:ext cx="842472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412920" y="907920"/>
            <a:ext cx="8480160" cy="2521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75840" cy="914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0" name="عنوان 1"/>
          <p:cNvSpPr/>
          <p:nvPr/>
        </p:nvSpPr>
        <p:spPr>
          <a:xfrm>
            <a:off x="276120" y="3573360"/>
            <a:ext cx="863604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 يشترط في الدعوة اكتمال العلم بل يكفي ان يدعوهم بقدر علمه ولا يشترط ترك جميع المعاصي . قال الله تعالى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4"/>
          <a:stretch/>
        </p:blipFill>
        <p:spPr>
          <a:xfrm>
            <a:off x="235080" y="4556160"/>
            <a:ext cx="867240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20T05:38:47Z</dcterms:modified>
  <cp:revision>2025</cp:revision>
  <dc:subject/>
  <dc:title>عرض تقديمي في PowerPoint</dc:title>
</cp:coreProperties>
</file>