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93E7-F221-4604-AAC3-EA926E4C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367A-640F-45D7-BEDE-1DCA5099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12FA-EF09-4B2D-8EBD-80D6117B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66AA-2177-4F22-B120-663697A0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169-C39C-422B-A0FB-7D881C94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0341-1CB2-4DAF-B1C2-0569E91C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04A3-2F2B-4176-902B-1F709720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E5C4-AC8C-4F0C-9E97-FC521A0C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6265-2337-47E9-AE55-FA49A9B5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8BC4-8FD2-4D19-9434-6C8BD054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2A17-8F2D-418B-B9DD-C3F5030D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D9EB-3699-4A56-ACAF-8D138F1B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B3C9-9DF2-40F7-B4A5-56127C2B06B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سد الذرائع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حريم كل وسيلة تؤدي إلى الممنو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27160" y="220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ا أدى إلى الحرا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هو حر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مر بالمعروف والنهي عن المنكر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645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طوق النجاة وسبب دفع العذاب هو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مر بالمعروف والنهي عن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0920" y="4221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أمر بالمعروف والنهي عن المنكر : طوق النجاة وسبب دفع العذاب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6" descr=""/>
          <p:cNvPicPr/>
          <p:nvPr/>
        </p:nvPicPr>
        <p:blipFill>
          <a:blip r:embed="rId2"/>
          <a:stretch/>
        </p:blipFill>
        <p:spPr>
          <a:xfrm>
            <a:off x="1322280" y="4724280"/>
            <a:ext cx="7542360" cy="649440"/>
          </a:xfrm>
          <a:prstGeom prst="rect">
            <a:avLst/>
          </a:prstGeom>
          <a:ln w="0">
            <a:noFill/>
          </a:ln>
        </p:spPr>
      </p:pic>
      <p:sp>
        <p:nvSpPr>
          <p:cNvPr id="75" name="عنوان 1"/>
          <p:cNvSpPr/>
          <p:nvPr/>
        </p:nvSpPr>
        <p:spPr>
          <a:xfrm>
            <a:off x="250920" y="5516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له تعالى عاقب الظالمين من اليهو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أن مسخهم فجعلهم قردة حقيق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50920" y="2060640"/>
            <a:ext cx="8597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كون عالماً به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كون مكلف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نكر المنكر ويأمر بالمعروف باللين والتدريج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549360" y="907920"/>
            <a:ext cx="84103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250920" y="2924280"/>
            <a:ext cx="8597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لا يحاسبنا على ما عمل الآخرون من المنكرات إذا أنكرنا المنكر وأمرنا بالمعرو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84218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5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569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25360" y="1628640"/>
            <a:ext cx="869148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ي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لسان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ل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3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 : ((من رأى منكم منكراً فليغيره بيده فإن لم يستطع فبلسانه فإن لم يستطع فبقلبه )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3"/>
          <a:stretch/>
        </p:blipFill>
        <p:spPr>
          <a:xfrm>
            <a:off x="3605040" y="907920"/>
            <a:ext cx="533412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4"/>
          <a:stretch/>
        </p:blipFill>
        <p:spPr>
          <a:xfrm>
            <a:off x="326880" y="2957400"/>
            <a:ext cx="8612280" cy="550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5"/>
          <a:stretch/>
        </p:blipFill>
        <p:spPr>
          <a:xfrm>
            <a:off x="1906560" y="4819680"/>
            <a:ext cx="7008840" cy="62244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23920" y="3573360"/>
            <a:ext cx="86914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فعلت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لم تنكر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أنكرت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وان 1"/>
          <p:cNvSpPr/>
          <p:nvPr/>
        </p:nvSpPr>
        <p:spPr>
          <a:xfrm>
            <a:off x="223920" y="566100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كر عليه المعصية باللسان وإبلاغ الجهات المختصة عن هذا المنك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50"/>
          <a:stretch/>
        </p:blipFill>
        <p:spPr>
          <a:xfrm>
            <a:off x="250920" y="1552680"/>
            <a:ext cx="8642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34800" y="1773360"/>
            <a:ext cx="8558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496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250920" y="812880"/>
            <a:ext cx="864216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2195640" y="981000"/>
            <a:ext cx="496872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2309760"/>
            <a:ext cx="8642160" cy="434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50920" y="784080"/>
            <a:ext cx="8673840" cy="127656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324000" y="1052640"/>
            <a:ext cx="33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صة أصحاب السبت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430200" y="522936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فلما تجاوزوا في معصية الل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417600" y="595008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سخهم قرد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3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وله تعالى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ريف اليهود بأن ذلك مما يعلمه الرسول </a:t>
            </a:r>
            <a:r>
              <a:rPr b="1" lang="ar-SA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ا علمه الله فيكون دليلاً على صدق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0280" y="2565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يختبر 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ا يظهر صدقهم أو كذب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0680" y="3357720"/>
            <a:ext cx="8666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ن اختبار الله ل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مر الله به اليهود من تعظيم يوم السبت وأن لا يصيدوا فيه صيداً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00160" y="407664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حيل المؤدية إلى تعطيل شرع الله وتجاوز حدوده وارتكاب محارمه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ط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797360"/>
            <a:ext cx="86659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الحيل المؤدية إلى تعطيل شرع الله وتجاوز حدوده وارتكاب محارم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 فعل اليهود حين وضعوا الشباك في البحر يوم الجمعة للصيد ثم يخرجونها يوم الأحد ويقولون : لم نعمل يوم السبت شيئ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58053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د الذرائع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شرو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2"/>
          <a:stretch/>
        </p:blipFill>
        <p:spPr>
          <a:xfrm>
            <a:off x="4067280" y="1392120"/>
            <a:ext cx="34574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