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18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EAA8-DC53-4134-A849-3330D441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296E-5AC6-4B85-B45D-0FA62749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5F77-3FDA-4602-B118-B8108875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E0F6-C836-4F00-A000-5B279C4D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B9B3-3022-4B38-A0A6-D2B23463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9156-39EA-4279-BC8F-916101BE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6B70-A689-46B9-A6D1-2C575582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34BD-8ECD-4904-94D4-C91AD33A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8DD7-414D-4CCF-AAFC-7FEEE90D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8E26-14A1-41F9-BB49-C0210EEF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2CC4-CBA1-4877-8390-F2E0C2ED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AEEB-7A4A-4361-978B-A20E655B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4415-A690-41C1-85B1-DEF359377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179280" y="981000"/>
            <a:ext cx="8755200" cy="5668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4"/>
          <a:stretch/>
        </p:blipFill>
        <p:spPr>
          <a:xfrm>
            <a:off x="539640" y="2421000"/>
            <a:ext cx="3975120" cy="635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5"/>
          <a:stretch/>
        </p:blipFill>
        <p:spPr>
          <a:xfrm>
            <a:off x="896760" y="3860640"/>
            <a:ext cx="3530880" cy="622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6"/>
          <a:stretch/>
        </p:blipFill>
        <p:spPr>
          <a:xfrm>
            <a:off x="34920" y="5300640"/>
            <a:ext cx="456408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6421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9" name="عنوان 1"/>
          <p:cNvSpPr/>
          <p:nvPr/>
        </p:nvSpPr>
        <p:spPr>
          <a:xfrm>
            <a:off x="250920" y="513072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مشركو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 بعد الموت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2" descr=""/>
          <p:cNvPicPr/>
          <p:nvPr/>
        </p:nvPicPr>
        <p:blipFill>
          <a:blip r:embed="rId3"/>
          <a:stretch/>
        </p:blipFill>
        <p:spPr>
          <a:xfrm>
            <a:off x="231840" y="981000"/>
            <a:ext cx="8634240" cy="546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4"/>
          <a:stretch/>
        </p:blipFill>
        <p:spPr>
          <a:xfrm>
            <a:off x="250920" y="3789360"/>
            <a:ext cx="8605800" cy="134136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324000" y="1628640"/>
            <a:ext cx="856908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رؤية الله عز وجل والدليل 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4" descr=""/>
          <p:cNvPicPr/>
          <p:nvPr/>
        </p:nvPicPr>
        <p:blipFill>
          <a:blip r:embed="rId5"/>
          <a:stretch/>
        </p:blipFill>
        <p:spPr>
          <a:xfrm>
            <a:off x="2771640" y="2276640"/>
            <a:ext cx="61214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-113"/>
          <a:stretch/>
        </p:blipFill>
        <p:spPr>
          <a:xfrm>
            <a:off x="539640" y="2276640"/>
            <a:ext cx="813600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-3240"/>
            <a:ext cx="9132840" cy="1276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797200" y="4653000"/>
            <a:ext cx="35686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95400" y="828720"/>
            <a:ext cx="8983440" cy="59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675640" cy="4608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2"/>
          <a:stretch/>
        </p:blipFill>
        <p:spPr>
          <a:xfrm>
            <a:off x="4680" y="888840"/>
            <a:ext cx="9144000" cy="77004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005360"/>
            <a:ext cx="49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يسر إلى طريق الجنة من يشاء ا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4935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ان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954000"/>
            <a:ext cx="3601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1f497d"/>
                </a:solidFill>
                <a:latin typeface="Calibri"/>
                <a:cs typeface="Times New Roman"/>
              </a:rPr>
              <a:t>طريق غير المؤمنين وطريق المؤمني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4437000"/>
            <a:ext cx="496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جن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55166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وم القيامة نجمع جميع الخل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صنام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2700360" y="981000"/>
            <a:ext cx="4680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1484280"/>
            <a:ext cx="86659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حمة الله بالعباد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دعاهم إلى دار السلام ويسر سلوك طريقها وهدى من جد في طلب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016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رؤية المؤمنين لربهم جل وعلا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ثب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248616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رؤية المؤمنين لربهم جل وعلا في الآخرة 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616200"/>
            <a:ext cx="8665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يجازي على السيئ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مثلها من غير تضعي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4078440"/>
            <a:ext cx="866592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وء السيئ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ا تورثه من حسرة وندامة وما توجبه من خسرا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456876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البعث والجزاء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2"/>
          <a:stretch/>
        </p:blipFill>
        <p:spPr>
          <a:xfrm>
            <a:off x="2484360" y="3030480"/>
            <a:ext cx="6335640" cy="40320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179280" y="5067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بلاغة القرآن الكريم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عرض مشاهد القيامة وتصوير أحوال الآخرة كأنها رأي الع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5538960"/>
            <a:ext cx="866628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يعبده المشرك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يعلم بعبادتهم وسيكون عدواً لهم ويتبراً منهم يوم القيام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79280" y="60278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عبادة غير الله سواء كان المعبود نبياً أو ولياً أو حجراً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شر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-109440" y="-96840"/>
            <a:ext cx="9375840" cy="925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8670960" cy="223200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324000" y="3429000"/>
            <a:ext cx="856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هذا من سوء السيئة وما تورثه من حسرة وندامة وما توجبه من خسرا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7T06:03:02Z</dcterms:modified>
  <cp:revision>1938</cp:revision>
  <dc:subject/>
  <dc:title>عرض تقديمي في PowerPoint</dc:title>
</cp:coreProperties>
</file>