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13F-5884-4485-BB7D-9C9FE6C2D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D579-D2A8-451A-8F5C-F73A6AE2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47B1-71CD-4F24-92DB-2C08D7E5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8BB3-9146-49AA-8265-735296CF8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27AC-B47C-4585-9A31-CD3E804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05B5-9398-4D3F-9732-D2E0B287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32E4-1D4E-4D61-BA5C-6F798AE3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4D35-0707-45A4-AF03-89AE29DE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8CC8-77AF-4EF4-959D-DCCC3987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667-39C6-4599-A0F9-3D63607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0115-0282-4F1C-86E0-6589F4AF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3B1-2143-4983-9C3A-88D61CD1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8A3C-0C43-4BD5-B0DD-9677232B96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650880"/>
            <a:ext cx="86421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24000" y="1844640"/>
            <a:ext cx="8569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توب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مائد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تو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9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4797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راء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فتتاح السورة بها ولانها أظهرت البراءة من المشركين و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خز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6732720" y="435456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راء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27160" y="5300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توبة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فيها التوبة على ا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0" name="رابط كسهم مستقيم 21"/>
          <p:cNvCxnSpPr/>
          <p:nvPr/>
        </p:nvCxnSpPr>
        <p:spPr>
          <a:xfrm>
            <a:off x="6011640" y="40482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5148360" y="4319640"/>
            <a:ext cx="1584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ب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>
            <a:off x="3924000" y="4076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3059280" y="4394160"/>
            <a:ext cx="158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اضح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24000" y="5805360"/>
            <a:ext cx="86659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فاض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فضحت المنافقين وأظهرت مخاز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24000" y="6308640"/>
            <a:ext cx="86659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مخز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ا أخزت المنافقين بكشف أسرار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تأمين الكفار إذا رغبوا في سماع كلام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19"/>
          <p:cNvSpPr/>
          <p:nvPr/>
        </p:nvSpPr>
        <p:spPr>
          <a:xfrm flipH="1">
            <a:off x="8817120" y="1662120"/>
            <a:ext cx="2880" cy="42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راءة من عهود المشرك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غلظة على الكفار المعاند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الجهاد في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أهل الكتا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ن الغاية من الجهاد في سبيل إعلاء كلمة الله ونشر دي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ح المنافق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ديث عن غزوة تبوك وجيش العس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ة مسجد الضر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89" name="رابط كسهم مستقيم 38"/>
          <p:cNvCxnSpPr/>
          <p:nvPr/>
        </p:nvCxnSpPr>
        <p:spPr>
          <a:xfrm flipH="1">
            <a:off x="8456040" y="5940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250920" y="5724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متنان الله على البشر ببعثه محمد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قيقة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ظهار الإسلام وإبطان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عنوان 1"/>
          <p:cNvSpPr/>
          <p:nvPr/>
        </p:nvSpPr>
        <p:spPr>
          <a:xfrm>
            <a:off x="179280" y="215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بث النفس وفساد الباطن مع العجز عن إظهار ذلك المستو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179280" y="272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جأ من ابتلي بالنفا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تلون وإظهار الخير وإخفاء الش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106380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ظاهر النفا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رابط مستقيم 7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رابط مستقيم 8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رابط كسهم مستقيم 9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رح بما يسوء المسلمين والحزن على ما يس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11"/>
          <p:cNvSpPr/>
          <p:nvPr/>
        </p:nvSpPr>
        <p:spPr>
          <a:xfrm>
            <a:off x="8820000" y="1662120"/>
            <a:ext cx="0" cy="349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رابط كسهم مستقيم 12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ستهزاؤهم بالدين وأ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رابط كسهم مستقيم 15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6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حكيم القوانين الوض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رابط كسهم مستقيم 17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د يد العون لأعداء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19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حاربة العف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رابط كسهم مستقيم 21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عجابهم بالكفار والتشبه ب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رابط كسهم مستقيم 23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4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يل إلى الشهوات ونشر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5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رص على تثبيط أهل الإيم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844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1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6:19:51Z</dcterms:modified>
  <cp:revision>1783</cp:revision>
  <dc:subject/>
  <dc:title>عرض تقديمي في PowerPoint</dc:title>
</cp:coreProperties>
</file>