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E117-5F53-4FED-938A-21ED4249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EB8C-0476-4FD2-A0B6-C9EAC100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C12F-3840-480C-9433-5534E61D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854D-DA0F-41C0-834C-F4BA566B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6CCF-35A0-4416-8989-2AF7AE29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A3DE-7413-4CB6-84C4-8A3090F8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DC58-488F-4E9F-95D3-802168EF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104B-BA85-41F1-B701-9401051B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E970-4AB9-47C3-BAAF-05F0D2F5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586D-1695-48B0-BFEE-F9BBFBCF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01A6-AA37-4D13-B8A0-1A154F7D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75F9-2C27-4AAA-833D-39A4CDC8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7192-06E9-4532-8369-FD67704BE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عرف المؤمنون الكف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لاماته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أصحاب الأعراف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رابط مستقيم 18"/>
          <p:cNvSpPr/>
          <p:nvPr/>
        </p:nvSpPr>
        <p:spPr>
          <a:xfrm flipH="1">
            <a:off x="4571640" y="24210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رابط مستقيم 19"/>
          <p:cNvSpPr/>
          <p:nvPr/>
        </p:nvSpPr>
        <p:spPr>
          <a:xfrm flipH="1">
            <a:off x="4566960" y="267804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رابط كسهم مستقيم 20"/>
          <p:cNvCxnSpPr/>
          <p:nvPr/>
        </p:nvCxnSpPr>
        <p:spPr>
          <a:xfrm flipH="1">
            <a:off x="8456040" y="3573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عنوان 1"/>
          <p:cNvSpPr/>
          <p:nvPr/>
        </p:nvSpPr>
        <p:spPr>
          <a:xfrm>
            <a:off x="250920" y="3357720"/>
            <a:ext cx="8208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ثم تسعهم رحمة الله بعد تطهيرهم من الذن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29"/>
          <p:cNvSpPr/>
          <p:nvPr/>
        </p:nvSpPr>
        <p:spPr>
          <a:xfrm>
            <a:off x="8820000" y="2671920"/>
            <a:ext cx="0" cy="90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30"/>
          <p:cNvCxnSpPr/>
          <p:nvPr/>
        </p:nvCxnSpPr>
        <p:spPr>
          <a:xfrm flipH="1">
            <a:off x="8456040" y="2997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324000" y="2803680"/>
            <a:ext cx="8135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يحبسون على سور بين الجنة والنا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250920" y="4005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فلا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إكثار من الطاعات 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قليل من السيئ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472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الصال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2716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حتقار العمل الصالح ولو قل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607240" cy="266400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3933720"/>
            <a:ext cx="85978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لي ، غير مصل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صلي : تسهل عليه جميع الطاعات ويكون محبوباً من الله ومن جميع الناس وتكون حياته سعيدة ويوم القيامة في الجن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غير مصلي : تصعب عليه جميع الطاعات ويكون مكروهاً من الله ومن جميع الناس وتكون حياته تعيسه ويوم القيامة في ا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0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539640" y="1628640"/>
            <a:ext cx="8355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179280" y="351792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وعدنا على الإيمان والعمل الصالح الج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106200" y="907920"/>
            <a:ext cx="8837640" cy="59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4"/>
          <a:stretch/>
        </p:blipFill>
        <p:spPr>
          <a:xfrm>
            <a:off x="880920" y="2781360"/>
            <a:ext cx="8062920" cy="73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5"/>
          <a:stretch/>
        </p:blipFill>
        <p:spPr>
          <a:xfrm>
            <a:off x="1346040" y="4292640"/>
            <a:ext cx="7525080" cy="704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6"/>
          <a:stretch/>
        </p:blipFill>
        <p:spPr>
          <a:xfrm>
            <a:off x="3995640" y="1504800"/>
            <a:ext cx="4330800" cy="771840"/>
          </a:xfrm>
          <a:prstGeom prst="rect">
            <a:avLst/>
          </a:prstGeom>
          <a:ln w="0">
            <a:noFill/>
          </a:ln>
        </p:spPr>
      </p:pic>
      <p:sp>
        <p:nvSpPr>
          <p:cNvPr id="102" name="عنوان 1"/>
          <p:cNvSpPr/>
          <p:nvPr/>
        </p:nvSpPr>
        <p:spPr>
          <a:xfrm>
            <a:off x="272880" y="502920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توبيخ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47"/>
          <a:stretch/>
        </p:blipFill>
        <p:spPr>
          <a:xfrm>
            <a:off x="250920" y="692280"/>
            <a:ext cx="86421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30240"/>
            <a:ext cx="9129600" cy="1166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87202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909720" y="1268280"/>
            <a:ext cx="7858080" cy="93672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50920" y="2492280"/>
            <a:ext cx="8597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عن حال أصحاب ا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0" y="922320"/>
            <a:ext cx="913140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623080" cy="4753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438120" y="443700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عذا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406440" y="503064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ُه، والطّرد من رحمته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250920" y="858960"/>
            <a:ext cx="865332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430200" y="562608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يطلوبنها معوجة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417600" y="617868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ن أصحاب الجنة والنار سو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8737560" cy="79200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2060640"/>
            <a:ext cx="8597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حائط بين الجنة والنار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صحاب الأعراف هم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م تساوت حسناتهم وسيئاتهم فحبسوا على الأعراف حتى يقضي الله في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60280" y="256536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نداء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قريع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وبيخ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0680" y="3357720"/>
            <a:ext cx="8666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عتراف الكفار بالوعد يوم القيامة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فع ولا يجد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00160" y="407664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كل إنسان يجازى بعمله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530064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بين أصحاب الجنة وأصحاب الن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ج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2"/>
          <a:stretch/>
        </p:blipFill>
        <p:spPr>
          <a:xfrm>
            <a:off x="3279600" y="2492280"/>
            <a:ext cx="4245120" cy="60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3"/>
          <a:stretch/>
        </p:blipFill>
        <p:spPr>
          <a:xfrm>
            <a:off x="324000" y="4500720"/>
            <a:ext cx="8516880" cy="72360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50920" y="60609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جاب الذي بين أصحاب الجنة وأصحاب الن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يشرف على الدارين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ينظر من عليه أهل الجنة وأهل الن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