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FE73-3C90-453D-BC45-34F0C6A3C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448C-F5CC-498E-ABAF-3EC5DBAE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2719-E963-4D1D-B4F0-2A1709C0D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304E-3E5F-44D4-BF60-F07C2495D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E6C1-EE68-4EE3-A0F8-7BF68C54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8B1E-36D2-4FBB-82E2-1F1F897F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21E7-022F-4401-95D3-CB87F48C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6534-058A-4A41-A85F-E56D7EDB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BA98-5FFA-4BCF-80B9-E4AEF2B5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CD6F-F710-492D-9BD3-13AE5F8A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1520-B4DA-450D-B55F-75568033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99BF-DE74-455D-84EB-D6BD366F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4B61-05D6-426D-9165-E9C48AA010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59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56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355680" y="2076480"/>
            <a:ext cx="85690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حي إله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وحي النبوة لا يكون إلا للرجا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0" descr=""/>
          <p:cNvPicPr/>
          <p:nvPr/>
        </p:nvPicPr>
        <p:blipFill>
          <a:blip r:embed="rId3"/>
          <a:stretch/>
        </p:blipFill>
        <p:spPr>
          <a:xfrm>
            <a:off x="368280" y="907920"/>
            <a:ext cx="8596440" cy="1168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"/>
          <p:cNvPicPr/>
          <p:nvPr/>
        </p:nvPicPr>
        <p:blipFill>
          <a:blip r:embed="rId4"/>
          <a:stretch/>
        </p:blipFill>
        <p:spPr>
          <a:xfrm>
            <a:off x="2556000" y="3789360"/>
            <a:ext cx="6273720" cy="48276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324000" y="443700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تى لا نعمل مثل ما عملوا فيصيبنا مثل ما أصا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208"/>
          <a:stretch/>
        </p:blipFill>
        <p:spPr>
          <a:xfrm>
            <a:off x="195120" y="2708280"/>
            <a:ext cx="875376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1304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8496000" cy="3241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2635200" y="5089680"/>
            <a:ext cx="38736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1055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179280" y="1052640"/>
            <a:ext cx="87854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642160" cy="475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72540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4863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طريق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130560" y="907920"/>
            <a:ext cx="4178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هج دعوة النبي </a:t>
            </a:r>
            <a:r>
              <a:rPr b="1" lang="en-US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56610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نزيه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دعوة إلى الله عز وجل على علم وهدى وبصيرة واتباع منهج الرسول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 الدعوة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هج الصحيح في البدء بالدعوة إلى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بدء بالتوحيد والتحذير من الشر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أن الله لم يبعث رسولاً من النساء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رسالة من خصوصيات الرجا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نظر والتأمل والتدبر في أخبار وآثار ومآل الأمم السابق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ث عليه الإسل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زاء أهل الإيمان والتقوى في الآ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3"/>
          <a:stretch/>
        </p:blipFill>
        <p:spPr>
          <a:xfrm>
            <a:off x="488880" y="907920"/>
            <a:ext cx="8467920" cy="115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4"/>
          <a:stretch/>
        </p:blipFill>
        <p:spPr>
          <a:xfrm>
            <a:off x="250920" y="2157480"/>
            <a:ext cx="84247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412920" y="907920"/>
            <a:ext cx="8480160" cy="2521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276120" y="3573360"/>
            <a:ext cx="86360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شترط في الدعوة اكتمال العلم بل يكفي ان يدعوهم بقدر علمه ولا يشترط ترك جميع المعاصي . قال ال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4"/>
          <a:stretch/>
        </p:blipFill>
        <p:spPr>
          <a:xfrm>
            <a:off x="235080" y="4556160"/>
            <a:ext cx="867240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0T05:38:47Z</dcterms:modified>
  <cp:revision>2025</cp:revision>
  <dc:subject/>
  <dc:title>عرض تقديمي في PowerPoint</dc:title>
</cp:coreProperties>
</file>