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8D70-FA20-4279-9117-DF7BCD7A5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6BC7-42A3-4C20-872C-1368E5C3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06F1-F6A2-4FF3-A3BF-0EB2BDE8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A3F7-9505-44C5-B1F2-732FA0BAE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FDE1-ADD7-4578-BC16-444F083B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BCB9-E126-433D-98AB-11C6C8C0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F54A-1BDA-4842-AC34-441D6427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4CF3-A058-4F4A-93F5-6D59D483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B37D-0B6D-492D-9C1C-66B1A098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5395-F0ED-49F6-B645-9A5B1B94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44F3-3941-4419-9FAB-1D6DC67A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92F0-E1CE-4764-A12F-0043C407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B890-AB45-4492-B231-1F359481B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3"/>
          <a:stretch/>
        </p:blipFill>
        <p:spPr>
          <a:xfrm>
            <a:off x="1143000" y="1008000"/>
            <a:ext cx="7750080" cy="1052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4"/>
          <a:stretch/>
        </p:blipFill>
        <p:spPr>
          <a:xfrm>
            <a:off x="250920" y="2189160"/>
            <a:ext cx="87264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3"/>
          <a:stretch/>
        </p:blipFill>
        <p:spPr>
          <a:xfrm>
            <a:off x="539640" y="911160"/>
            <a:ext cx="8290080" cy="116064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250920" y="2276640"/>
            <a:ext cx="86072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حذير من الشيطان وكيد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10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55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3"/>
          <a:stretch/>
        </p:blipFill>
        <p:spPr>
          <a:xfrm>
            <a:off x="250920" y="1468440"/>
            <a:ext cx="864216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12" name="عنوان 1"/>
          <p:cNvSpPr/>
          <p:nvPr/>
        </p:nvSpPr>
        <p:spPr>
          <a:xfrm>
            <a:off x="179280" y="1628640"/>
            <a:ext cx="8691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وى هي : يجعل العبد بينه وبين ما يخافه ويحذره وقاية تقيه من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3"/>
          <a:stretch/>
        </p:blipFill>
        <p:spPr>
          <a:xfrm>
            <a:off x="1849320" y="1006560"/>
            <a:ext cx="7021800" cy="622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4"/>
          <a:stretch/>
        </p:blipFill>
        <p:spPr>
          <a:xfrm>
            <a:off x="1332000" y="2997360"/>
            <a:ext cx="7605720" cy="571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5"/>
          <a:stretch/>
        </p:blipFill>
        <p:spPr>
          <a:xfrm>
            <a:off x="303120" y="4308480"/>
            <a:ext cx="8647200" cy="571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6"/>
          <a:stretch/>
        </p:blipFill>
        <p:spPr>
          <a:xfrm>
            <a:off x="4336920" y="2133720"/>
            <a:ext cx="4483080" cy="691920"/>
          </a:xfrm>
          <a:prstGeom prst="rect">
            <a:avLst/>
          </a:prstGeom>
          <a:ln w="0">
            <a:noFill/>
          </a:ln>
        </p:spPr>
      </p:pic>
      <p:sp>
        <p:nvSpPr>
          <p:cNvPr id="117" name="عنوان 1"/>
          <p:cNvSpPr/>
          <p:nvPr/>
        </p:nvSpPr>
        <p:spPr>
          <a:xfrm>
            <a:off x="179280" y="3645000"/>
            <a:ext cx="8691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هو مصدر سعادة الإنسا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عنوان 1"/>
          <p:cNvSpPr/>
          <p:nvPr/>
        </p:nvSpPr>
        <p:spPr>
          <a:xfrm>
            <a:off x="179280" y="5013360"/>
            <a:ext cx="8691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شدة الحذر منه وتقوية إيمانه بر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77"/>
          <a:stretch/>
        </p:blipFill>
        <p:spPr>
          <a:xfrm>
            <a:off x="250920" y="934920"/>
            <a:ext cx="864216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3240" y="9360"/>
            <a:ext cx="9145440" cy="1305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468360" y="1771560"/>
            <a:ext cx="831852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5" descr=""/>
          <p:cNvPicPr/>
          <p:nvPr/>
        </p:nvPicPr>
        <p:blipFill>
          <a:blip r:embed="rId2"/>
          <a:stretch/>
        </p:blipFill>
        <p:spPr>
          <a:xfrm>
            <a:off x="216000" y="966960"/>
            <a:ext cx="8677080" cy="57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0" y="981000"/>
            <a:ext cx="9129600" cy="107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179280" y="2276640"/>
            <a:ext cx="8642520" cy="448920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74680" y="4941720"/>
            <a:ext cx="49449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دلائل قدرت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285840" y="5486400"/>
            <a:ext cx="494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آدم وحو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62080" y="5950080"/>
            <a:ext cx="494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زي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4508640"/>
            <a:ext cx="494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 وثمرات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900520" y="1233360"/>
            <a:ext cx="42638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خطورة الشيط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واع لباس الجس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رابط مستقيم 30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رابط مستقيم 31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33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6804000" y="2443320"/>
            <a:ext cx="1800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لباس ستر العو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35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395280" y="2514600"/>
            <a:ext cx="2305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لباس جمال وزين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3141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ستر العورات وحفظها من نظر الآخري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3645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كشف العورات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45100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نسان ينقسم إلى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42"/>
          <p:cNvSpPr/>
          <p:nvPr/>
        </p:nvSpPr>
        <p:spPr>
          <a:xfrm flipH="1">
            <a:off x="4593960" y="494172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43"/>
          <p:cNvSpPr/>
          <p:nvPr/>
        </p:nvSpPr>
        <p:spPr>
          <a:xfrm flipH="1">
            <a:off x="1499760" y="523080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44"/>
          <p:cNvCxnSpPr/>
          <p:nvPr/>
        </p:nvCxnSpPr>
        <p:spPr>
          <a:xfrm>
            <a:off x="7980120" y="523872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7236000" y="5540400"/>
            <a:ext cx="1392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جس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رابط كسهم مستقيم 46"/>
          <p:cNvCxnSpPr/>
          <p:nvPr/>
        </p:nvCxnSpPr>
        <p:spPr>
          <a:xfrm>
            <a:off x="1499760" y="523044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عنوان 1"/>
          <p:cNvSpPr/>
          <p:nvPr/>
        </p:nvSpPr>
        <p:spPr>
          <a:xfrm>
            <a:off x="419040" y="5611680"/>
            <a:ext cx="1488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روح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27160" y="6093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باس الجسد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ثيا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155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باس الروح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قو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4581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رة الشيطان على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خداع والتموي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50920" y="3068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تزيين الشيطان للقبي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رابط مستقيم 42"/>
          <p:cNvSpPr/>
          <p:nvPr/>
        </p:nvSpPr>
        <p:spPr>
          <a:xfrm flipH="1">
            <a:off x="4593960" y="35002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رابط مستقيم 43"/>
          <p:cNvSpPr/>
          <p:nvPr/>
        </p:nvSpPr>
        <p:spPr>
          <a:xfrm flipH="1">
            <a:off x="1499760" y="378936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رابط كسهم مستقيم 44"/>
          <p:cNvCxnSpPr/>
          <p:nvPr/>
        </p:nvCxnSpPr>
        <p:spPr>
          <a:xfrm>
            <a:off x="7980120" y="3797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3" name="عنوان 1"/>
          <p:cNvSpPr/>
          <p:nvPr/>
        </p:nvSpPr>
        <p:spPr>
          <a:xfrm>
            <a:off x="7236000" y="4098960"/>
            <a:ext cx="1392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كشف العورات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رابط كسهم مستقيم 46"/>
          <p:cNvCxnSpPr/>
          <p:nvPr/>
        </p:nvCxnSpPr>
        <p:spPr>
          <a:xfrm>
            <a:off x="1499760" y="3789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عنوان 1"/>
          <p:cNvSpPr/>
          <p:nvPr/>
        </p:nvSpPr>
        <p:spPr>
          <a:xfrm>
            <a:off x="419040" y="4170240"/>
            <a:ext cx="1704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نزع لباس الحشم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27160" y="5084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ستطاع الشيطا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إخراج الأبوين من الجن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صدر سعادة الإنسا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لباس التقو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شيطان حريص على تزيي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قبيح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رابط كسهم مستقيم 24"/>
          <p:cNvCxnSpPr/>
          <p:nvPr/>
        </p:nvCxnSpPr>
        <p:spPr>
          <a:xfrm>
            <a:off x="5171760" y="378936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" name="عنوان 1"/>
          <p:cNvSpPr/>
          <p:nvPr/>
        </p:nvSpPr>
        <p:spPr>
          <a:xfrm>
            <a:off x="4427640" y="4091040"/>
            <a:ext cx="1392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إبراز المفات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عنوان 1"/>
          <p:cNvSpPr/>
          <p:nvPr/>
        </p:nvSpPr>
        <p:spPr>
          <a:xfrm>
            <a:off x="250920" y="5589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عى الشيطان جاهداً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منع ذريتهما من دخول الجن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وان 1"/>
          <p:cNvSpPr/>
          <p:nvPr/>
        </p:nvSpPr>
        <p:spPr>
          <a:xfrm>
            <a:off x="250920" y="6093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شيطان وقبيله يرون بني آدم من حيث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رونه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250920" y="155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حذر من الشيطان وقبيل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وجوب الحذر من الشيطان وقبيل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م يكونون أشد مكراً وكيداً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ولاية الشيطان وتسلطه على الإنسا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ضعف الإيما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