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B16D-74AC-4418-992C-B65F84E06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DB12-7CFC-4007-81A2-681BCFB9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98E-CED1-44EB-82CF-EEF44181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1838-1917-41C4-BCFE-90EB1B83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9D40-773C-47C5-9DFD-04F8E3CD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82D-DB84-45BA-8056-FEBEA12B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53F6-9DD4-4F4C-89D1-147C1A2D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9C1B-7724-4873-91AA-373134B46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95B5-4EBC-4271-AA85-1FF23FFB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16DB-8CBC-46C0-973F-99214C88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412-BA44-48F3-AB75-CAF517A8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E52-CFDE-4DFB-8580-4B0147CB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A722-88F0-4F6D-843E-80C951D7C35E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6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3"/>
          <a:stretch/>
        </p:blipFill>
        <p:spPr>
          <a:xfrm>
            <a:off x="3995640" y="1484280"/>
            <a:ext cx="4953240" cy="59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4"/>
          <a:stretch/>
        </p:blipFill>
        <p:spPr>
          <a:xfrm>
            <a:off x="76320" y="3284640"/>
            <a:ext cx="8991360" cy="3529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5"/>
          <a:stretch/>
        </p:blipFill>
        <p:spPr>
          <a:xfrm>
            <a:off x="2232000" y="2700360"/>
            <a:ext cx="671688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900000" y="1100160"/>
            <a:ext cx="7999560" cy="67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4"/>
          <a:stretch/>
        </p:blipFill>
        <p:spPr>
          <a:xfrm>
            <a:off x="333360" y="223200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1211400" y="907920"/>
            <a:ext cx="7562880" cy="1009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4"/>
          <a:stretch/>
        </p:blipFill>
        <p:spPr>
          <a:xfrm>
            <a:off x="826920" y="3284640"/>
            <a:ext cx="8115480" cy="507960"/>
          </a:xfrm>
          <a:prstGeom prst="rect">
            <a:avLst/>
          </a:prstGeom>
          <a:ln w="0">
            <a:noFill/>
          </a:ln>
        </p:spPr>
      </p:pic>
      <p:sp>
        <p:nvSpPr>
          <p:cNvPr id="116" name="عنوان 1"/>
          <p:cNvSpPr/>
          <p:nvPr/>
        </p:nvSpPr>
        <p:spPr>
          <a:xfrm>
            <a:off x="272880" y="2133720"/>
            <a:ext cx="86918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حرصهم على تعلم القرآن والعمل بما في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عنوان 1"/>
          <p:cNvSpPr/>
          <p:nvPr/>
        </p:nvSpPr>
        <p:spPr>
          <a:xfrm>
            <a:off x="250920" y="393372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أولى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كان من ضمن أبواب الحديث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1f497d"/>
                </a:solidFill>
                <a:uFillTx/>
                <a:latin typeface="Calibri"/>
                <a:cs typeface="Times New Roman"/>
              </a:rPr>
              <a:t>الفترة الثانية : </a:t>
            </a: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بح علم مستقل بذات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942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8424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راحل نشأة علم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رابط مستقيم 11"/>
          <p:cNvSpPr/>
          <p:nvPr/>
        </p:nvSpPr>
        <p:spPr>
          <a:xfrm flipH="1">
            <a:off x="4546080" y="123840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رابط مستقيم 12"/>
          <p:cNvSpPr/>
          <p:nvPr/>
        </p:nvSpPr>
        <p:spPr>
          <a:xfrm flipH="1" flipV="1">
            <a:off x="1449000" y="1476000"/>
            <a:ext cx="604836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97000" y="1773360"/>
            <a:ext cx="2330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كتابة والتدوين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رابط كسهم مستقيم 17"/>
          <p:cNvCxnSpPr/>
          <p:nvPr/>
        </p:nvCxnSpPr>
        <p:spPr>
          <a:xfrm>
            <a:off x="7497360" y="151236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عنوان 1"/>
          <p:cNvSpPr/>
          <p:nvPr/>
        </p:nvSpPr>
        <p:spPr>
          <a:xfrm>
            <a:off x="5913360" y="178452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مرحلة الفهم والتلق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رابط كسهم مستقيم 23"/>
          <p:cNvCxnSpPr/>
          <p:nvPr/>
        </p:nvCxnSpPr>
        <p:spPr>
          <a:xfrm>
            <a:off x="1449000" y="1476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225360" y="6161040"/>
            <a:ext cx="86914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تعلم التفسير كان يتم عبر التلقي من قبل المفس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566748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عنى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179280" y="23493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رابط مستقيم 44"/>
          <p:cNvSpPr/>
          <p:nvPr/>
        </p:nvSpPr>
        <p:spPr>
          <a:xfrm flipH="1">
            <a:off x="4571640" y="273852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45"/>
          <p:cNvSpPr/>
          <p:nvPr/>
        </p:nvSpPr>
        <p:spPr>
          <a:xfrm flipH="1">
            <a:off x="1476000" y="2975040"/>
            <a:ext cx="64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4284720" y="3284640"/>
            <a:ext cx="20415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47"/>
          <p:cNvCxnSpPr/>
          <p:nvPr/>
        </p:nvCxnSpPr>
        <p:spPr>
          <a:xfrm>
            <a:off x="7956360" y="298440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7020000" y="3284640"/>
            <a:ext cx="1873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نبي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49"/>
          <p:cNvCxnSpPr/>
          <p:nvPr/>
        </p:nvCxnSpPr>
        <p:spPr>
          <a:xfrm>
            <a:off x="1476000" y="297504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عنوان 1"/>
          <p:cNvSpPr/>
          <p:nvPr/>
        </p:nvSpPr>
        <p:spPr>
          <a:xfrm>
            <a:off x="250920" y="3357720"/>
            <a:ext cx="24717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عهد التابعين رحمهم الل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3" name="رابط كسهم مستقيم 51"/>
          <p:cNvCxnSpPr/>
          <p:nvPr/>
        </p:nvCxnSpPr>
        <p:spPr>
          <a:xfrm>
            <a:off x="5363640" y="2997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4" name="عنوان 1"/>
          <p:cNvSpPr/>
          <p:nvPr/>
        </p:nvSpPr>
        <p:spPr>
          <a:xfrm>
            <a:off x="195120" y="393372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رابط مستقيم 21"/>
          <p:cNvSpPr/>
          <p:nvPr/>
        </p:nvSpPr>
        <p:spPr>
          <a:xfrm flipH="1">
            <a:off x="4586040" y="4322880"/>
            <a:ext cx="468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رابط مستقيم 22"/>
          <p:cNvSpPr/>
          <p:nvPr/>
        </p:nvSpPr>
        <p:spPr>
          <a:xfrm flipH="1">
            <a:off x="1490760" y="4559400"/>
            <a:ext cx="64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رابط كسهم مستقيم 26"/>
          <p:cNvCxnSpPr/>
          <p:nvPr/>
        </p:nvCxnSpPr>
        <p:spPr>
          <a:xfrm>
            <a:off x="7970400" y="45687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5003640" y="4869000"/>
            <a:ext cx="39038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باب من أبواب الحديث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رابط كسهم مستقيم 28"/>
          <p:cNvCxnSpPr/>
          <p:nvPr/>
        </p:nvCxnSpPr>
        <p:spPr>
          <a:xfrm>
            <a:off x="1490400" y="45594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" name="عنوان 1"/>
          <p:cNvSpPr/>
          <p:nvPr/>
        </p:nvSpPr>
        <p:spPr>
          <a:xfrm>
            <a:off x="266760" y="4941720"/>
            <a:ext cx="42069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دوين التفسير على أنه علم مستقل بذات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نبي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257040" y="2133720"/>
            <a:ext cx="86918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نبي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يبين للصحابة ما قد يشكل عليهم من معاني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270828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179280" y="3209760"/>
            <a:ext cx="8769600" cy="57960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3860640"/>
            <a:ext cx="86929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أمثلة على ذلك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328680" y="4292640"/>
            <a:ext cx="8486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صحابة 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عنوان 1"/>
          <p:cNvSpPr/>
          <p:nvPr/>
        </p:nvSpPr>
        <p:spPr>
          <a:xfrm>
            <a:off x="257040" y="2133720"/>
            <a:ext cx="869184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 الصحابة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كان من منهجهم في تلقي القرآن ألا يتجاوزوا عشر آيات حتى يتعلموا ما فيهن من العلم والعم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ان يرجع بعضهم إلى بعض فيما قد يشكل عليهم م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عنوان 1"/>
          <p:cNvSpPr/>
          <p:nvPr/>
        </p:nvSpPr>
        <p:spPr>
          <a:xfrm>
            <a:off x="272880" y="3716280"/>
            <a:ext cx="86918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من اشتهر منهم في مجال التفسير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خلفاء الأربعة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عبا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بدالله بن مسعود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بي بن كع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عنوان 1"/>
          <p:cNvSpPr/>
          <p:nvPr/>
        </p:nvSpPr>
        <p:spPr>
          <a:xfrm>
            <a:off x="250920" y="5157720"/>
            <a:ext cx="86929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 تفسير الصحابة لأسباب منها 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عدالتهم وسلامة مقصدهم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شهدوا نزول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نهم أهل اللسان العربي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سن فهمهم للنصوص الشرع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فهم والتلقي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عهد التابعين رحمهم الله تعالى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7040" y="2133720"/>
            <a:ext cx="86918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أن التابعين كانوا يتلقون تفسير القرآن الكريم من الصحابة </a:t>
            </a:r>
            <a:r>
              <a:rPr b="1" lang="ar-SA" sz="28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272880" y="3141720"/>
            <a:ext cx="8691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سبب أن التابعين كانوا يتلقون تفسير القرآن الكريم من الصحابة 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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لأنهم شهدوا نزول القرآن الكري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عنوان 1"/>
          <p:cNvSpPr/>
          <p:nvPr/>
        </p:nvSpPr>
        <p:spPr>
          <a:xfrm>
            <a:off x="250920" y="4221000"/>
            <a:ext cx="86929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شهر المفسرين من التابعي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جاهد بن جبر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حسن البصري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كعب القرظ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22320" y="1268280"/>
            <a:ext cx="9180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ابعي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94" name="عنوان 1"/>
          <p:cNvSpPr/>
          <p:nvPr/>
        </p:nvSpPr>
        <p:spPr>
          <a:xfrm>
            <a:off x="250920" y="1989000"/>
            <a:ext cx="86421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جتمع بالصحابي مؤمنًا بالنبي -صلّى الله عليه وسلّم- ومات على ذلك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5708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179280" y="98100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ترات مرحلة الكتابة والتدوي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179280" y="1566720"/>
            <a:ext cx="876960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باب من أبواب الحدي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وان 1"/>
          <p:cNvSpPr/>
          <p:nvPr/>
        </p:nvSpPr>
        <p:spPr>
          <a:xfrm>
            <a:off x="272880" y="2133720"/>
            <a:ext cx="8691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علماء الذين ألفوا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عبة بن الحجاج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كيع بن الجراح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سفيان بن عيين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عنوان 1"/>
          <p:cNvSpPr/>
          <p:nvPr/>
        </p:nvSpPr>
        <p:spPr>
          <a:xfrm>
            <a:off x="179280" y="344016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- تدوين التفسير على أنه علم مستقل بذات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عنوان 1"/>
          <p:cNvSpPr/>
          <p:nvPr/>
        </p:nvSpPr>
        <p:spPr>
          <a:xfrm>
            <a:off x="272880" y="4005360"/>
            <a:ext cx="86918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ميزت هذه الفترة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بكون التفسير علماً مستقلاً شاملاً للسور والآيات حسب ترتيبها في المصح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عنوان 1"/>
          <p:cNvSpPr/>
          <p:nvPr/>
        </p:nvSpPr>
        <p:spPr>
          <a:xfrm>
            <a:off x="250920" y="5516640"/>
            <a:ext cx="8692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المؤلفين في هذه الفترة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ماجه القزوين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حمد بن جرير الطبري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بن المنذ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