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8E5E-4BF7-4000-A164-C1A9E3A6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34B1-6BBA-4C68-BBEA-B8E5FB8F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9BCA-DEA9-4A08-AD85-3ECA12CA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D2F-A675-4AD0-AC7D-FE4C6DDC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1021-9EFE-4ACC-9258-067E5C1D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249A-0B7F-4E87-A9BE-6A5CC3F7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4B60-B528-48BD-A5FB-C1ECE367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BF92-4D73-4A61-B440-FEB95795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94CA-49C6-4AE1-8E0E-97379ACA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4EF0-6BB6-4BA0-974E-14A392BA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D21C-B7B4-4DE4-B345-5807DC2C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E7DB-C3F6-43F1-9E9D-09580218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C4B2-2E66-4D4A-847C-A007902DCF0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6025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352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السورة باسم إبراهيم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شتمالها على دعوات إبراهيم عليه ال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20680" y="2781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إبراهيم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5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189000" y="213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إبراهي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ي مك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وظائف الرسل عليهم الصلاة وال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19"/>
          <p:cNvSpPr/>
          <p:nvPr/>
        </p:nvSpPr>
        <p:spPr>
          <a:xfrm>
            <a:off x="8820000" y="1662120"/>
            <a:ext cx="0" cy="171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قضايا العقي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حقيقة وحدة الرسال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كثرة نعم الله تعالى على النا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5T16:06:45Z</dcterms:modified>
  <cp:revision>1811</cp:revision>
  <dc:subject/>
  <dc:title>عرض تقديمي في PowerPoint</dc:title>
</cp:coreProperties>
</file>