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D150-8547-43A4-9356-4FCE5F89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B168-4573-42F9-8EA0-85F7C239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9D0F-D073-4C5B-A19E-08BC0E84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3FC9-9263-4B65-B552-0BCE07E4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27D9-DFD7-4352-A843-E4A1AE1D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37A0-685B-48D1-942D-35028341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5193-8B7A-45FA-B5B4-8E536F90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F2B-1122-438A-82EF-F3D0B173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CB6-3D50-4397-8877-F8A65A72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AD1D-545E-45CC-9761-EE5AF21E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5E8-AE13-48BD-A328-66E0988B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4AD6-D916-4357-AAC3-727D90B1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AC4E-A1DF-4B40-BF0F-5CEA9145A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42160" cy="468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7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250920" y="5130720"/>
            <a:ext cx="85690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لا يقبل الحق ولا يرغب في التوب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8481960" cy="1447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4"/>
          <a:stretch/>
        </p:blipFill>
        <p:spPr>
          <a:xfrm>
            <a:off x="1042920" y="3654360"/>
            <a:ext cx="7851960" cy="150012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2347920"/>
            <a:ext cx="85690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سير قوله تعالى ( يخرج الحي من الميت ) اي كما يخرج الفرخ من البيضة </a:t>
            </a:r>
            <a:br>
              <a:rPr sz="2500"/>
            </a:b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تفسير قولة تعالى ( ويخرج الميت من الحي ) اي كما يخرج البيضة من الدجاج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68"/>
          <a:stretch/>
        </p:blipFill>
        <p:spPr>
          <a:xfrm>
            <a:off x="539640" y="2565360"/>
            <a:ext cx="8136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16360" y="4668840"/>
            <a:ext cx="35049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ان تحدث الآيات السابقة عن صدق رسالة محمد صلى الله عليه وسل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ت الآيات الرد على الكاف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37480" cy="489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-9360" y="892080"/>
            <a:ext cx="9144000" cy="73656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48927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كيف تفك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778200" y="1015920"/>
            <a:ext cx="3602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وحيد الالوهية والربوب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39760" y="43513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رف أمر المخلوق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39760" y="55054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جب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6087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عذاب على الكافر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تدبير الكون خاص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له وحد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زعم أن مع الله مدبراً فق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كف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قرار بتوحيد الربوبية يستلزم الإقرار ب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قر بأن الله هو الخالق لزمه أ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بده وح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شركي العرب كانوا يقرون بتوحيد الربوبية ولم ينفعهم ذلك لعدم إقرارهم ب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ق واحد لا يتعدد فمن لم يكن على الحق فهو عل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اط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79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وغل في الفسق يصبح طبعاً لصاحبه فلا يقب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ق ولا يرغب في التوب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538020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قرآن يربي أتباعه على الالتزا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عق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595008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كر القرآن على المشركين عدم الالتزا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عق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184320" y="1052640"/>
            <a:ext cx="8708760" cy="128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4427640" y="2276640"/>
            <a:ext cx="4465440" cy="722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5292720" y="3036960"/>
            <a:ext cx="3527280" cy="73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6"/>
          <a:stretch/>
        </p:blipFill>
        <p:spPr>
          <a:xfrm>
            <a:off x="6156360" y="3828960"/>
            <a:ext cx="2782800" cy="59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"/>
          <p:cNvPicPr/>
          <p:nvPr/>
        </p:nvPicPr>
        <p:blipFill>
          <a:blip r:embed="rId7"/>
          <a:stretch/>
        </p:blipFill>
        <p:spPr>
          <a:xfrm>
            <a:off x="3095640" y="3786120"/>
            <a:ext cx="3060720" cy="676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8"/>
          <a:stretch/>
        </p:blipFill>
        <p:spPr>
          <a:xfrm>
            <a:off x="6948360" y="4581360"/>
            <a:ext cx="194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5:10:01Z</dcterms:modified>
  <cp:revision>1955</cp:revision>
  <dc:subject/>
  <dc:title>عرض تقديمي في PowerPoint</dc:title>
</cp:coreProperties>
</file>