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C4E0-830C-43D6-ABB5-7EA00CB00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67E3-B983-4DE6-AC29-F96A76FB8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092E-679F-4C7E-ACC4-12A4895FE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B365-6F2A-4899-A4F4-A20385797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871B-F5CF-44D7-A857-47F14FB09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CDB7-5FF6-41E1-A61B-F83050563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84C0-D770-47E2-8572-37A3AE25E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159C-D44C-4A90-B4D8-A20F55170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B405-67E2-499C-9135-C306876FE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3A30-A271-419E-AC7B-CD762BB5E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440D-52C7-4930-B543-8763FC3A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AC8F-7EEA-4279-988F-D4FD96BE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6BBE5-20FA-4FCF-8B3C-5848F0F17F9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-12240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79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3"/>
          <a:stretch/>
        </p:blipFill>
        <p:spPr>
          <a:xfrm>
            <a:off x="184320" y="1471680"/>
            <a:ext cx="8708760" cy="10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-12240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369720" y="5805360"/>
            <a:ext cx="856944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الهداية بيد الله تعال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الخطاب : للنبي صلى الله عليه وسل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10" descr=""/>
          <p:cNvPicPr/>
          <p:nvPr/>
        </p:nvPicPr>
        <p:blipFill>
          <a:blip r:embed="rId3"/>
          <a:stretch/>
        </p:blipFill>
        <p:spPr>
          <a:xfrm>
            <a:off x="1835280" y="981000"/>
            <a:ext cx="7135560" cy="647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"/>
          <p:cNvPicPr/>
          <p:nvPr/>
        </p:nvPicPr>
        <p:blipFill>
          <a:blip r:embed="rId4"/>
          <a:stretch/>
        </p:blipFill>
        <p:spPr>
          <a:xfrm>
            <a:off x="1368360" y="2492280"/>
            <a:ext cx="7524720" cy="1028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2" descr=""/>
          <p:cNvPicPr/>
          <p:nvPr/>
        </p:nvPicPr>
        <p:blipFill>
          <a:blip r:embed="rId5"/>
          <a:stretch/>
        </p:blipFill>
        <p:spPr>
          <a:xfrm>
            <a:off x="1359000" y="4149720"/>
            <a:ext cx="7534080" cy="170496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324000" y="3573360"/>
            <a:ext cx="8569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حريم لعن المؤم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عنوان 1"/>
          <p:cNvSpPr/>
          <p:nvPr/>
        </p:nvSpPr>
        <p:spPr>
          <a:xfrm>
            <a:off x="250920" y="1639800"/>
            <a:ext cx="8569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طرد من رحمة الله تعالى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7920"/>
            <a:ext cx="913752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374"/>
          <a:stretch/>
        </p:blipFill>
        <p:spPr>
          <a:xfrm>
            <a:off x="476280" y="2349360"/>
            <a:ext cx="8191440" cy="8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307360" cy="3384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28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867040" y="4976640"/>
            <a:ext cx="3505320" cy="5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-12240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179280" y="1522440"/>
            <a:ext cx="864072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عد ما ذكر الله صفات السعداء ذكر هنا صفات الأشقياء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5364000" y="912960"/>
            <a:ext cx="35690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-12240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3"/>
          <a:stretch/>
        </p:blipFill>
        <p:spPr>
          <a:xfrm>
            <a:off x="108000" y="981000"/>
            <a:ext cx="88567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8" descr=""/>
          <p:cNvPicPr/>
          <p:nvPr/>
        </p:nvPicPr>
        <p:blipFill>
          <a:blip r:embed="rId1"/>
          <a:stretch/>
        </p:blipFill>
        <p:spPr>
          <a:xfrm>
            <a:off x="463680" y="2114640"/>
            <a:ext cx="8429400" cy="3186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"/>
          <p:cNvPicPr/>
          <p:nvPr/>
        </p:nvPicPr>
        <p:blipFill>
          <a:blip r:embed="rId2"/>
          <a:stretch/>
        </p:blipFill>
        <p:spPr>
          <a:xfrm>
            <a:off x="-15840" y="911160"/>
            <a:ext cx="9139320" cy="862200"/>
          </a:xfrm>
          <a:prstGeom prst="rect">
            <a:avLst/>
          </a:prstGeom>
          <a:ln w="0">
            <a:noFill/>
          </a:ln>
        </p:spPr>
      </p:pic>
      <p:sp>
        <p:nvSpPr>
          <p:cNvPr id="56" name="عنوان 1"/>
          <p:cNvSpPr/>
          <p:nvPr/>
        </p:nvSpPr>
        <p:spPr>
          <a:xfrm>
            <a:off x="272880" y="4687920"/>
            <a:ext cx="49690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رجع إلي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3057480" y="1190520"/>
            <a:ext cx="41785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صفات الأشقياء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3"/>
          <a:stretch/>
        </p:blipFill>
        <p:spPr>
          <a:xfrm>
            <a:off x="-122400" y="-85680"/>
            <a:ext cx="93758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كفر سبب الطرد من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رحمة الله والهلاك في جهنم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له عز وجل هو المعطي المانع يعطي ويمنع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حكم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179280" y="234936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له سبحانه يعطي الدنيا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 يحب ومن لا يح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7160" y="28875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بسط الرزق لا يدل ع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كرام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7160" y="328464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قبض الرزق لا يدل ع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هان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50920" y="3716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لى المؤمن تجاه ما أُعطي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رضى والتسليم والقناعة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4148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أن الهداية والضلال بيد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 سبحان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79280" y="458136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احتجاج على المعاصي بمشيئة الله تعا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جو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27160" y="5084640"/>
            <a:ext cx="86659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عدم جواز الاحتجاج على المعاصي بمشيئة الله تعا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 هذا من جنس حجة الكفار وهي حجة داحضة لا تفي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-122400" y="-85680"/>
            <a:ext cx="93758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-12240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179280" y="1522440"/>
            <a:ext cx="8640720" cy="24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نقضون عهد ال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قطعون ما أمر الله به أن يوصل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فسدون في الأرض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فرح بالحياة الدنيا عن الاخر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5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لا يؤمنون بما جاء به الرسل من عند الله تعال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6" descr=""/>
          <p:cNvPicPr/>
          <p:nvPr/>
        </p:nvPicPr>
        <p:blipFill>
          <a:blip r:embed="rId3"/>
          <a:stretch/>
        </p:blipFill>
        <p:spPr>
          <a:xfrm>
            <a:off x="4070520" y="942840"/>
            <a:ext cx="4749480" cy="5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26T18:13:23Z</dcterms:modified>
  <cp:revision>2087</cp:revision>
  <dc:subject/>
  <dc:title>عرض تقديمي في PowerPoint</dc:title>
</cp:coreProperties>
</file>