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37CE-F4DC-44AE-80C1-6A9A9F0DE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AB9D-8717-48EC-8332-30FFBA4E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3DAE-962F-48B8-B098-7B2296DB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CCD7-D140-4D5E-B64F-F9BC0F620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C6A8-362B-4D88-B392-1259A5E2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CD90-5C70-4E6D-A1C4-3E69DFF9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A32E-21FD-4910-90CB-018B2CE3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7937-D288-400C-9567-EC650BA7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2938-4F17-41E7-A1E7-88A3E69F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9EEB-24E6-4A08-9C27-3D53B132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5CB9-2C56-443F-AD80-09599034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479C-DC7F-4EB0-B801-E43DFFB6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D283-CD62-4946-ABB8-77B4E242DB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0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3"/>
          <a:stretch/>
        </p:blipFill>
        <p:spPr>
          <a:xfrm>
            <a:off x="250920" y="1509840"/>
            <a:ext cx="860112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50920" y="6095880"/>
            <a:ext cx="8569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فظ الله له عن التحريف إلى يوم القيا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3"/>
          <a:stretch/>
        </p:blipFill>
        <p:spPr>
          <a:xfrm>
            <a:off x="3276720" y="836640"/>
            <a:ext cx="5651280" cy="546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"/>
          <p:cNvPicPr/>
          <p:nvPr/>
        </p:nvPicPr>
        <p:blipFill>
          <a:blip r:embed="rId4"/>
          <a:stretch/>
        </p:blipFill>
        <p:spPr>
          <a:xfrm>
            <a:off x="250920" y="2116080"/>
            <a:ext cx="8691480" cy="1384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"/>
          <p:cNvPicPr/>
          <p:nvPr/>
        </p:nvPicPr>
        <p:blipFill>
          <a:blip r:embed="rId5"/>
          <a:stretch/>
        </p:blipFill>
        <p:spPr>
          <a:xfrm>
            <a:off x="1679400" y="5487840"/>
            <a:ext cx="7263000" cy="53352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24000" y="3500280"/>
            <a:ext cx="856908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ن عادة المكذبين الكفر بما أتى به الرس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الله تعالى يزيد اهل الكفر والضلال ضلالا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لم الله السابق بما سوف يفعله المكذب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324000" y="141768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 بهم وأنهم رسل من عند الله سبحانه و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91328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72"/>
          <a:stretch/>
        </p:blipFill>
        <p:spPr>
          <a:xfrm>
            <a:off x="250920" y="1700280"/>
            <a:ext cx="862164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8353440" cy="2793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154320" y="4567320"/>
            <a:ext cx="31240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250920" y="1015920"/>
            <a:ext cx="864216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2" descr=""/>
          <p:cNvPicPr/>
          <p:nvPr/>
        </p:nvPicPr>
        <p:blipFill>
          <a:blip r:embed="rId1"/>
          <a:stretch/>
        </p:blipFill>
        <p:spPr>
          <a:xfrm>
            <a:off x="250920" y="1671480"/>
            <a:ext cx="8642160" cy="4853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2"/>
          <a:stretch/>
        </p:blipFill>
        <p:spPr>
          <a:xfrm>
            <a:off x="0" y="836640"/>
            <a:ext cx="9140760" cy="66204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843280" y="907920"/>
            <a:ext cx="45162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صفات القرآن الكري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395280" y="44737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آ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95280" y="504972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تبديل والتحريف والزيادة والنقص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5732640"/>
            <a:ext cx="482436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خيل إلينا ذل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3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179280" y="1574640"/>
            <a:ext cx="86662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قرآن الكريم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كلام الله الحق وهو منزل غير مخلوق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حفوظ بحفظ الله إلى يوم القيامة فلن يحرّف كما حرفت التوراة والإنجي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98440" y="25830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ادة المكذ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ستهزاء بالرسل والكفر بما أتوا 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7040" y="3086280"/>
            <a:ext cx="866628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يزيد أهل الكفر والضلا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ضلالاً فيعمي بصائرهم عن رؤية الحق لحكمة بالغة هو يعلم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66760" y="387972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سنة الله في المكذبي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هلاك والإذلال والتدمي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179280" y="932040"/>
            <a:ext cx="8785440" cy="1180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247680" y="2276640"/>
            <a:ext cx="8640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نزلة من عند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زلت مصدقة للرسل عليهم الصلاة وال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يها هدى للمؤمن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613720" cy="1295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179280" y="2349360"/>
            <a:ext cx="864072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خلا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حفظ في الصغر كالنقش على الحجر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ختيار وقت الحف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ختيار مكان الحف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راءة المجودة والمنغمة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قتصار على طبعة واحدة من المصحف ولا يغيره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صحيح القراءة مقدّم على الحف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8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ملية الربط مقدم على الحف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9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ـتــكــرار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10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حفظ اليومي المنتظم خير من الحفظ المتقط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31T07:43:48Z</dcterms:modified>
  <cp:revision>1842</cp:revision>
  <dc:subject/>
  <dc:title>عرض تقديمي في PowerPoint</dc:title>
</cp:coreProperties>
</file>