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CE4-A0B0-407F-9E90-09A2A7EF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9FF7-6054-4001-BE62-2D62720A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B751-7EF9-47B0-B35C-ED7E2AD7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61F-5C9F-4974-92C8-243A965E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EF5-F43A-4017-A9D5-2A46ADCC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5FD-A2B9-4847-8FDE-3A1BD71F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53F-8B20-4039-9B00-6EA84FF6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DCD-7FE8-419D-8F9F-FB70EE99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D9C3-ADB8-4577-BBEC-291630F4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CFB-6848-41FD-B06B-087DAC6B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23D-451D-4ACE-8072-FA4E0896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F8F-D4FE-41DF-A46E-C47BC1C4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A3DE-32FE-4AB9-ABFB-7CD0134C951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2360" y="1179360"/>
            <a:ext cx="86392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322200" y="1844640"/>
            <a:ext cx="85708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64960" y="1557360"/>
            <a:ext cx="8666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إسراء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ذكرت حادثة الإسراء بالنبي صلى الله عليه وسلم من المسجد الحرام إلى المسجد الأقص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99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سراء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قص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14200" y="2421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ر ب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54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ديق الرسول صلى الله عليه وسلم في قصة الإسر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شيء من الواجبات والمنهيات في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رد على المشرك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قدرة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cxnSp>
        <p:nvCxnSpPr>
          <p:cNvPr id="67" name="رابط كسهم مستقيم 27"/>
          <p:cNvCxnSpPr/>
          <p:nvPr/>
        </p:nvCxnSpPr>
        <p:spPr>
          <a:xfrm flipH="1">
            <a:off x="8456040" y="4198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50920" y="3965400"/>
            <a:ext cx="8208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تعنت الكفار مع النبي صلى الله عليه وسلم وتوجيه الرسول صلى الله عليه وسلم إلى كيفية الرد علي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250920" y="1467000"/>
            <a:ext cx="864216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42:56Z</dcterms:modified>
  <cp:revision>1827</cp:revision>
  <dc:subject/>
  <dc:title>عرض تقديمي في PowerPoint</dc:title>
</cp:coreProperties>
</file>