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1A02-5B91-46D9-9503-0E1CDF93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CB94-9F30-45AB-B482-FFF2E5F2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5341-8536-4188-A01F-B4678F36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99D3-19FB-4EBB-8605-87BD8952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A120-403B-4A51-8B47-E2E6F3DC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95B9-1093-4CD2-B0CC-5B81C332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FB13-3850-4DA6-9B47-895561B4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7E03-207D-43C1-AB00-6FC41965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5A64-804C-4BED-913E-5C504C0D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AC20-81E0-4B0A-B347-5AF338DB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8799-8D8B-4022-8DC8-8584833E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49E9-6F59-4C08-B90E-37072ED3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8AD7-1DDF-4E54-8325-2B258ED42E6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3995640" y="1484280"/>
            <a:ext cx="4953240" cy="596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76320" y="3284640"/>
            <a:ext cx="8991360" cy="3529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5"/>
          <a:stretch/>
        </p:blipFill>
        <p:spPr>
          <a:xfrm>
            <a:off x="2232000" y="2700360"/>
            <a:ext cx="67168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3"/>
          <a:stretch/>
        </p:blipFill>
        <p:spPr>
          <a:xfrm>
            <a:off x="900000" y="1100160"/>
            <a:ext cx="7999560" cy="67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4"/>
          <a:stretch/>
        </p:blipFill>
        <p:spPr>
          <a:xfrm>
            <a:off x="333360" y="2232000"/>
            <a:ext cx="8486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1211400" y="907920"/>
            <a:ext cx="7562880" cy="1009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4"/>
          <a:stretch/>
        </p:blipFill>
        <p:spPr>
          <a:xfrm>
            <a:off x="826920" y="3284640"/>
            <a:ext cx="8115480" cy="507960"/>
          </a:xfrm>
          <a:prstGeom prst="rect">
            <a:avLst/>
          </a:prstGeom>
          <a:ln w="0">
            <a:noFill/>
          </a:ln>
        </p:spPr>
      </p:pic>
      <p:sp>
        <p:nvSpPr>
          <p:cNvPr id="116" name="عنوان 1"/>
          <p:cNvSpPr/>
          <p:nvPr/>
        </p:nvSpPr>
        <p:spPr>
          <a:xfrm>
            <a:off x="272880" y="2133720"/>
            <a:ext cx="86918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حرصهم على تعلم القرآن والعمل بما في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عنوان 1"/>
          <p:cNvSpPr/>
          <p:nvPr/>
        </p:nvSpPr>
        <p:spPr>
          <a:xfrm>
            <a:off x="250920" y="3933720"/>
            <a:ext cx="8692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فترة الأولى :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كان من ضمن أبواب الحديث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فترة الثانية :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صبح علم مستقل بذات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942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8424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راحل نشأة علم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11"/>
          <p:cNvSpPr/>
          <p:nvPr/>
        </p:nvSpPr>
        <p:spPr>
          <a:xfrm flipH="1">
            <a:off x="4546080" y="123840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رابط مستقيم 12"/>
          <p:cNvSpPr/>
          <p:nvPr/>
        </p:nvSpPr>
        <p:spPr>
          <a:xfrm flipH="1" flipV="1">
            <a:off x="1449000" y="1476000"/>
            <a:ext cx="604836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97000" y="1773360"/>
            <a:ext cx="23302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رحلة الكتابة والتدو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رابط كسهم مستقيم 17"/>
          <p:cNvCxnSpPr/>
          <p:nvPr/>
        </p:nvCxnSpPr>
        <p:spPr>
          <a:xfrm>
            <a:off x="7497360" y="151236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عنوان 1"/>
          <p:cNvSpPr/>
          <p:nvPr/>
        </p:nvSpPr>
        <p:spPr>
          <a:xfrm>
            <a:off x="5913360" y="178452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رحلة الفهم والتلق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رابط كسهم مستقيم 23"/>
          <p:cNvCxnSpPr/>
          <p:nvPr/>
        </p:nvCxnSpPr>
        <p:spPr>
          <a:xfrm>
            <a:off x="1449000" y="1476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25360" y="6161040"/>
            <a:ext cx="8691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تعلم التفسير كان يتم عبر التلقي من قبل المفس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9280" y="566748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179280" y="23493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44"/>
          <p:cNvSpPr/>
          <p:nvPr/>
        </p:nvSpPr>
        <p:spPr>
          <a:xfrm flipH="1">
            <a:off x="4571640" y="273852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45"/>
          <p:cNvSpPr/>
          <p:nvPr/>
        </p:nvSpPr>
        <p:spPr>
          <a:xfrm flipH="1">
            <a:off x="1476000" y="297504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4284720" y="3284640"/>
            <a:ext cx="20415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صحابة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47"/>
          <p:cNvCxnSpPr/>
          <p:nvPr/>
        </p:nvCxnSpPr>
        <p:spPr>
          <a:xfrm>
            <a:off x="7956360" y="298440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7020000" y="3284640"/>
            <a:ext cx="1873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نبي </a:t>
            </a:r>
            <a:r>
              <a:rPr b="1" lang="ar-SA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49"/>
          <p:cNvCxnSpPr/>
          <p:nvPr/>
        </p:nvCxnSpPr>
        <p:spPr>
          <a:xfrm>
            <a:off x="1476000" y="29750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3357720"/>
            <a:ext cx="24717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تابعين رحمهم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51"/>
          <p:cNvCxnSpPr/>
          <p:nvPr/>
        </p:nvCxnSpPr>
        <p:spPr>
          <a:xfrm>
            <a:off x="5363640" y="2997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195120" y="393372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كتابة والتدو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رابط مستقيم 21"/>
          <p:cNvSpPr/>
          <p:nvPr/>
        </p:nvSpPr>
        <p:spPr>
          <a:xfrm flipH="1">
            <a:off x="4586040" y="4322880"/>
            <a:ext cx="468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22"/>
          <p:cNvSpPr/>
          <p:nvPr/>
        </p:nvSpPr>
        <p:spPr>
          <a:xfrm flipH="1">
            <a:off x="1490760" y="4559400"/>
            <a:ext cx="64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26"/>
          <p:cNvCxnSpPr/>
          <p:nvPr/>
        </p:nvCxnSpPr>
        <p:spPr>
          <a:xfrm>
            <a:off x="7970400" y="45687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5003640" y="4869000"/>
            <a:ext cx="3903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دوين التفسير على أنه باب من أبواب الحديث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28"/>
          <p:cNvCxnSpPr/>
          <p:nvPr/>
        </p:nvCxnSpPr>
        <p:spPr>
          <a:xfrm>
            <a:off x="1490400" y="45594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66760" y="4941720"/>
            <a:ext cx="42069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دوين التفسير على أنه علم مستقل بذات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نبي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7040" y="2133720"/>
            <a:ext cx="8691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نبي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ن يبين للصحابة ما قد يشكل عليهم من معان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708280"/>
            <a:ext cx="8692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ذلك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179280" y="3209760"/>
            <a:ext cx="8769600" cy="57960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3860640"/>
            <a:ext cx="8692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أمثلة على ذلك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328680" y="4292640"/>
            <a:ext cx="8486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صحابة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257040" y="2133720"/>
            <a:ext cx="869184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 الصحابة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ن من منهجهم في تلقي القرآن ألا يتجاوزوا عشر آيات حتى يتعلموا ما فيهن من العلم والعم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ان يرجع بعضهم إلى بعض فيما قد يشكل عليهم من معاني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272880" y="3716280"/>
            <a:ext cx="86918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من اشتهر منهم في مجال التفسير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خلفاء الأربعة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بدالله بن عبا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بدالله بن مسعود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بي بن كع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5157720"/>
            <a:ext cx="86929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 تفسير الصحابة لأسباب منها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دالتهم وسلامة مقصدهم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هم شهدوا نزول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هم أهل اللسان العربي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سن فهمهم للنصوص الشرع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تابعين رحمهم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7040" y="2133720"/>
            <a:ext cx="86918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تابعين كانوا يتلقون تفسير القرآن الكريم من الصحابة </a:t>
            </a:r>
            <a:r>
              <a:rPr b="1" lang="ar-SA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272880" y="3141720"/>
            <a:ext cx="869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تابعين كانوا يتلقون تفسير القرآن الكريم من الصحابة 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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لأنهم شهدوا نزول القرآن الكر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50920" y="4221000"/>
            <a:ext cx="8692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شهر المفسرين من التابعين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جاهد بن جبر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حسن البصري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مد بن كعب القرظ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22320" y="1268280"/>
            <a:ext cx="91807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تابعي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50920" y="1989000"/>
            <a:ext cx="864216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جتمع بالصحابي مؤمنًا بالنبي -صلّى الله عليه وسلّم- ومات على ذلك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كتابة والتدو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تدوين التفسير على أنه باب من أبواب الحديث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وان 1"/>
          <p:cNvSpPr/>
          <p:nvPr/>
        </p:nvSpPr>
        <p:spPr>
          <a:xfrm>
            <a:off x="272880" y="2133720"/>
            <a:ext cx="86918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العلماء الذين ألفوا في هذه الفترة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شعبة بن الحجاج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كيع بن الجراح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سفيان بن عيي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وان 1"/>
          <p:cNvSpPr/>
          <p:nvPr/>
        </p:nvSpPr>
        <p:spPr>
          <a:xfrm>
            <a:off x="179280" y="344016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تدوين التفسير على أنه علم مستقل بذات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272880" y="4005360"/>
            <a:ext cx="8691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كون التفسير علماً مستقلاً شاملاً للسور والآيات حسب ترتيبها في المصح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250920" y="5516640"/>
            <a:ext cx="8692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المؤلفين في هذه الفترة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بن ماجه القزويني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مد بن جرير الطبري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بن المنذ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