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34F-D363-4CD4-BA37-5B42F148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ED4-97B1-4AA5-B714-EC87EE77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7E2A-1A14-4132-B596-92556D1C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0E8E-31A5-4F08-9BCC-496F4C75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F8C-B157-43DB-9F52-0B05F2CF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D4D-C234-4BF6-B2E8-6AEE831A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F37-66F6-45B5-8AAE-B0AA322A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483-4FF9-4B72-AF18-57258275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340B-9EE9-45FC-B78D-F35E402C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524-DD53-44F3-9E5C-32FEADE3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084-BCEB-4246-9CDC-A7DBEBC5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2FF-3AF1-4D20-B189-EDA8F2FE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BE3F-2436-44B1-AAD4-269E706E8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355680" y="2076480"/>
            <a:ext cx="8569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ي إله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وحي النبوة لا يكون إلا للرج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3"/>
          <a:stretch/>
        </p:blipFill>
        <p:spPr>
          <a:xfrm>
            <a:off x="368280" y="907920"/>
            <a:ext cx="8596440" cy="1168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4"/>
          <a:stretch/>
        </p:blipFill>
        <p:spPr>
          <a:xfrm>
            <a:off x="2556000" y="3789360"/>
            <a:ext cx="6273720" cy="48276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24000" y="4437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نعمل مثل ما عملوا فيصيبنا مثل ما أصا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08"/>
          <a:stretch/>
        </p:blipFill>
        <p:spPr>
          <a:xfrm>
            <a:off x="195120" y="2708280"/>
            <a:ext cx="875376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635200" y="5089680"/>
            <a:ext cx="3873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85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42160" cy="47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en-US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66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نزي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عز وجل على علم وهدى وبصيرة واتباع منهج الرسول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الدعو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هج الصحيح في البدء بالدعوة إلى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دء بالتوحيد والتحذير من ال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م يبعث رسولاً من النس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رسالة من خصوصيات الرج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نظر والتأمل والتدبر في أخبار وآثار ومآل الأمم الساب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أهل الإيمان والتقوى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88880" y="907920"/>
            <a:ext cx="8467920" cy="115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250920" y="2157480"/>
            <a:ext cx="8424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2920" y="907920"/>
            <a:ext cx="8480160" cy="252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276120" y="357336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شترط في الدعوة اكتمال العلم بل يكفي ان يدعوهم بقدر علمه ولا يشترط ترك جميع المعاصي . قال ال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4"/>
          <a:stretch/>
        </p:blipFill>
        <p:spPr>
          <a:xfrm>
            <a:off x="235080" y="4556160"/>
            <a:ext cx="86724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38:47Z</dcterms:modified>
  <cp:revision>2025</cp:revision>
  <dc:subject/>
  <dc:title>عرض تقديمي في PowerPoint</dc:title>
</cp:coreProperties>
</file>