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03AB-D2E6-4BB4-80EB-90BE6D37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142-C0AA-4A7E-AF0E-8A13464E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EA3-B5C1-47D5-A777-FC8B7EC1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E7B-5B56-4A60-949D-93C16531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6223-1F86-4D73-AA4C-94E27058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73B-8FAF-493B-8B84-34135AE4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A00A-EA7C-455E-A750-BE9040B8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1D13-B7B8-48B1-89B9-AC9E253C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5DB0-5747-4817-90B2-2692DF01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3385-A511-4E95-A82B-EC89F533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B5B-3C90-46A9-9534-CEA3169A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757-A66D-451D-A0D7-32FF5051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F4A8-AF87-4D35-9A8B-D6665F3AA42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كل على الله تعالى والثقة به جل وعل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2205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في أوقاتها وأدائها كاملة بشروطها وواجباتها مع استحضار القلب وخشوع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كبر علامات خشي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يحجز صاحبه عن فعل الذنوب و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59720" cy="424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6156360" y="285264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ذكر الله وجلت قلوبه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05928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تليت عليهم آياته زادتهم إيمانا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ربهم يتوكل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6084720" y="422100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الصلا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987640" y="4373640"/>
            <a:ext cx="2340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ما رزقهم الله ينفق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250920" y="995400"/>
            <a:ext cx="8532720" cy="5529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250920" y="2133720"/>
            <a:ext cx="666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وقعت في (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7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 ) سنة (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للهجرة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3500280"/>
            <a:ext cx="666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ترجاع المسلمين لأموالهم التي نهبها كفار قريش من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71280" y="4653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عدد المسلم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1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 عدد المشرك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000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1619280" y="5877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تصار المسلمين وهزيمة المشرك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813888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23920" y="580536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لف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ب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تفا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1284120" y="1052640"/>
            <a:ext cx="7631280" cy="58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1081080" y="3213000"/>
            <a:ext cx="7834320" cy="60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5"/>
          <a:stretch/>
        </p:blipFill>
        <p:spPr>
          <a:xfrm>
            <a:off x="2793960" y="5229360"/>
            <a:ext cx="612144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03040" y="1628640"/>
            <a:ext cx="8691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لاوة الآي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ذكر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وكل على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16000" y="3860640"/>
            <a:ext cx="8691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من التوكل الأخذ بالأسبا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96"/>
          <a:stretch/>
        </p:blipFill>
        <p:spPr>
          <a:xfrm>
            <a:off x="250920" y="1998720"/>
            <a:ext cx="86281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822320"/>
            <a:ext cx="869004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605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58760" y="1197000"/>
            <a:ext cx="8825040" cy="157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8028000" y="186516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250920" y="2430360"/>
            <a:ext cx="8642160" cy="42386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ازل في الجن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9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1052640"/>
            <a:ext cx="8665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كر عبادة بن الصامت أنه في غزوة بدر اختلفوا في النفل فقسمه رسول الله بين المسلمين سواس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539640" y="958680"/>
            <a:ext cx="5688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824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شريع حق خاص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لرسو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2205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صلاح ذات ال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أن يكون المؤمنون إخوة متحا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طاعة الله ورسو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3700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ا وقر في القلب وصدقته الأعم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157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ز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طاع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5877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نقص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