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4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5358-0829-4E6E-A487-A2B255910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2363-10A5-4F7A-9789-DF60BD3FF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1E1F-6272-4F0A-A26D-D9B8961E7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9DC5-3F14-45BE-8A40-BD8873DFA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3B0E-2DDC-4223-AB41-BCBCAAF65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40D6-D05B-4C1C-87FE-40A54D8EB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4A9A-7B11-43B9-97E3-B30975E81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79BA-86D4-402D-B117-17595AF3A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6667-DDD3-4FC8-93C1-8D866A50C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6939-31B0-4B71-AFA3-0DB93ACBD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9A1F-40FD-4AC7-B81B-96724DCEC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E786-EE1D-4CAB-A24B-BAE30066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AC790-2816-48E6-91E9-D8D5B061C07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7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290520" y="993600"/>
            <a:ext cx="8562960" cy="2219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1692360" y="4149720"/>
            <a:ext cx="7072200" cy="673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609560" y="4941720"/>
            <a:ext cx="7237440" cy="774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1744560" y="5788080"/>
            <a:ext cx="712332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2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97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6" descr=""/>
          <p:cNvPicPr/>
          <p:nvPr/>
        </p:nvPicPr>
        <p:blipFill>
          <a:blip r:embed="rId3"/>
          <a:stretch/>
        </p:blipFill>
        <p:spPr>
          <a:xfrm>
            <a:off x="114480" y="1484280"/>
            <a:ext cx="891540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2" descr=""/>
          <p:cNvPicPr/>
          <p:nvPr/>
        </p:nvPicPr>
        <p:blipFill>
          <a:blip r:embed="rId1"/>
          <a:stretch/>
        </p:blipFill>
        <p:spPr>
          <a:xfrm>
            <a:off x="1187280" y="3997440"/>
            <a:ext cx="7696440" cy="20955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"/>
          <p:cNvPicPr/>
          <p:nvPr/>
        </p:nvPicPr>
        <p:blipFill>
          <a:blip r:embed="rId2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3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"/>
          <p:cNvPicPr/>
          <p:nvPr/>
        </p:nvPicPr>
        <p:blipFill>
          <a:blip r:embed="rId4"/>
          <a:stretch/>
        </p:blipFill>
        <p:spPr>
          <a:xfrm>
            <a:off x="1197000" y="1052640"/>
            <a:ext cx="7696080" cy="1028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"/>
          <p:cNvPicPr/>
          <p:nvPr/>
        </p:nvPicPr>
        <p:blipFill>
          <a:blip r:embed="rId5"/>
          <a:stretch/>
        </p:blipFill>
        <p:spPr>
          <a:xfrm>
            <a:off x="1908000" y="2871720"/>
            <a:ext cx="6963120" cy="486000"/>
          </a:xfrm>
          <a:prstGeom prst="rect">
            <a:avLst/>
          </a:prstGeom>
          <a:ln w="0">
            <a:noFill/>
          </a:ln>
        </p:spPr>
      </p:pic>
      <p:sp>
        <p:nvSpPr>
          <p:cNvPr id="89" name="عنوان 1"/>
          <p:cNvSpPr/>
          <p:nvPr/>
        </p:nvSpPr>
        <p:spPr>
          <a:xfrm>
            <a:off x="324000" y="343224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. بل هو شامل لكل الجسم والوجه منه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عنوان 1"/>
          <p:cNvSpPr/>
          <p:nvPr/>
        </p:nvSpPr>
        <p:spPr>
          <a:xfrm>
            <a:off x="250920" y="609300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فسير القرآن الكريم بالسنة النبوي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13" descr=""/>
          <p:cNvPicPr/>
          <p:nvPr/>
        </p:nvPicPr>
        <p:blipFill>
          <a:blip r:embed="rId6"/>
          <a:stretch/>
        </p:blipFill>
        <p:spPr>
          <a:xfrm>
            <a:off x="250920" y="2060640"/>
            <a:ext cx="86421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50"/>
          <a:stretch/>
        </p:blipFill>
        <p:spPr>
          <a:xfrm>
            <a:off x="290520" y="2852640"/>
            <a:ext cx="8602560" cy="9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8351640" cy="3097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62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922480" y="4797360"/>
            <a:ext cx="344196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04840" y="1700280"/>
            <a:ext cx="8640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عد ذكر أحوال التعساء  ذكر أحوال يوم القيام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2430360" y="1052640"/>
            <a:ext cx="6462720" cy="58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108000" y="1012680"/>
            <a:ext cx="8901000" cy="56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2" descr=""/>
          <p:cNvPicPr/>
          <p:nvPr/>
        </p:nvPicPr>
        <p:blipFill>
          <a:blip r:embed="rId1"/>
          <a:stretch/>
        </p:blipFill>
        <p:spPr>
          <a:xfrm>
            <a:off x="250920" y="2289240"/>
            <a:ext cx="8642160" cy="4379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"/>
          <p:cNvPicPr/>
          <p:nvPr/>
        </p:nvPicPr>
        <p:blipFill>
          <a:blip r:embed="rId2"/>
          <a:stretch/>
        </p:blipFill>
        <p:spPr>
          <a:xfrm>
            <a:off x="179280" y="1052640"/>
            <a:ext cx="8869320" cy="936360"/>
          </a:xfrm>
          <a:prstGeom prst="rect">
            <a:avLst/>
          </a:prstGeom>
          <a:ln w="0">
            <a:noFill/>
          </a:ln>
        </p:spPr>
      </p:pic>
      <p:sp>
        <p:nvSpPr>
          <p:cNvPr id="55" name="عنوان 1"/>
          <p:cNvSpPr/>
          <p:nvPr/>
        </p:nvSpPr>
        <p:spPr>
          <a:xfrm>
            <a:off x="395280" y="602136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علو وجوههم النا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7" descr=""/>
          <p:cNvPicPr/>
          <p:nvPr/>
        </p:nvPicPr>
        <p:blipFill>
          <a:blip r:embed="rId3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395280" y="5410080"/>
            <a:ext cx="4824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خرجوا من القبور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395280" y="486900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غالب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مستطيل 1"/>
          <p:cNvSpPr/>
          <p:nvPr/>
        </p:nvSpPr>
        <p:spPr>
          <a:xfrm>
            <a:off x="8604360" y="1700280"/>
            <a:ext cx="288720" cy="144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179280" y="14842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له تعالى لا يخلف وعده أبداً في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نصرة الحق وأهله وفي الانتقام من الباطل وحزب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189000" y="2043000"/>
            <a:ext cx="8665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عظم يوم القيام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فيه من اهوال وتغييرات كون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179280" y="2492280"/>
            <a:ext cx="8666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يمان بالبعث وقيام الموتى من قبورهم للحساب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0680" y="3038400"/>
            <a:ext cx="86662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أحوال المجرمين عند العرض وفي جهن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مقيدين بالقيود  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وقمصانهم من نحاس مذاب  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- وتغطي وجوهم النا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3841920"/>
            <a:ext cx="866628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عزوجل لا يظلم أحداً ولا يهلك الله إلا م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يستحق الهلاك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179280" y="4319640"/>
            <a:ext cx="86662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حاطته سبحانه بكل شيء فلا يشغله شان عن شأن بل يحاسب الناس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جميعاً في وقت واح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79280" y="480384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فاية القرآن الكريم في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بلاغ والإنذار وقيام الحجة على الناس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sp>
        <p:nvSpPr>
          <p:cNvPr id="69" name="عنوان 1"/>
          <p:cNvSpPr/>
          <p:nvPr/>
        </p:nvSpPr>
        <p:spPr>
          <a:xfrm>
            <a:off x="179280" y="5319720"/>
            <a:ext cx="8666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آيات الله عز وجل المقروءة والمشاهدة تدل عل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حدانية الله تعالى وهي عظة لأولى الألبا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252360" y="2419200"/>
            <a:ext cx="864072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الله يملي للظالم حتى إذا أخذه لم يفلت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6" descr=""/>
          <p:cNvPicPr/>
          <p:nvPr/>
        </p:nvPicPr>
        <p:blipFill>
          <a:blip r:embed="rId3"/>
          <a:stretch/>
        </p:blipFill>
        <p:spPr>
          <a:xfrm>
            <a:off x="3059280" y="976320"/>
            <a:ext cx="58672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29T15:35:33Z</dcterms:modified>
  <cp:revision>1881</cp:revision>
  <dc:subject/>
  <dc:title>عرض تقديمي في PowerPoint</dc:title>
</cp:coreProperties>
</file>