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0CEF-D0F4-43CE-83AA-5872A5C35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9355-CB32-474B-B455-7F9DEDEC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C78A-C7F5-4BC3-AFFC-C6D270EC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E2C6-EBEF-431F-B8C9-E5A693811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C103-00D6-452E-A2CA-75203AD4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A4AC-16B7-48C4-90D9-8B7012BA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E31E-EE0D-43EB-8ADD-1ACDA841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732B-418E-47F2-A2FD-800FCD9B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054F-4D6C-49BB-8E96-9299E2F8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BDAE-9D02-448E-9D32-706F8B5C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7B78-827A-4D08-84FE-C306F2A1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764B-CEC3-462A-B770-6D6BBDCC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8169-B78C-4454-AA61-60E6E0F4FB8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1916280"/>
            <a:ext cx="86342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ذين أنعم الله علي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غضوب علي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ضال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3"/>
          <a:stretch/>
        </p:blipFill>
        <p:spPr>
          <a:xfrm>
            <a:off x="3132000" y="1197000"/>
            <a:ext cx="57531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569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3"/>
          <a:stretch/>
        </p:blipFill>
        <p:spPr>
          <a:xfrm>
            <a:off x="679320" y="1125360"/>
            <a:ext cx="8342280" cy="520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"/>
          <p:cNvPicPr/>
          <p:nvPr/>
        </p:nvPicPr>
        <p:blipFill>
          <a:blip r:embed="rId4"/>
          <a:stretch/>
        </p:blipFill>
        <p:spPr>
          <a:xfrm>
            <a:off x="250920" y="1773360"/>
            <a:ext cx="8569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"/>
          <p:cNvPicPr/>
          <p:nvPr/>
        </p:nvPicPr>
        <p:blipFill>
          <a:blip r:embed="rId3"/>
          <a:stretch/>
        </p:blipFill>
        <p:spPr>
          <a:xfrm>
            <a:off x="831960" y="1197000"/>
            <a:ext cx="8062920" cy="495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"/>
          <p:cNvPicPr/>
          <p:nvPr/>
        </p:nvPicPr>
        <p:blipFill>
          <a:blip r:embed="rId4"/>
          <a:stretch/>
        </p:blipFill>
        <p:spPr>
          <a:xfrm>
            <a:off x="3708360" y="2781360"/>
            <a:ext cx="5105520" cy="48240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250920" y="1844640"/>
            <a:ext cx="8691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سبحانه أخبر قبل ذلك بأنه رب العالم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عنوان 1"/>
          <p:cNvSpPr/>
          <p:nvPr/>
        </p:nvSpPr>
        <p:spPr>
          <a:xfrm>
            <a:off x="179280" y="3429000"/>
            <a:ext cx="8691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ؤمن بأنها من عند الله تعالى وهي اليوم محرفة ومنسوخة ونسخها القرآن الكري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712800"/>
            <a:ext cx="9151920" cy="1266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250920" y="2349360"/>
            <a:ext cx="856908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"/>
          <p:cNvPicPr/>
          <p:nvPr/>
        </p:nvPicPr>
        <p:blipFill>
          <a:blip r:embed="rId2"/>
          <a:stretch/>
        </p:blipFill>
        <p:spPr>
          <a:xfrm>
            <a:off x="152280" y="981000"/>
            <a:ext cx="8839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اني الكلما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8623080" cy="518472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250920" y="249228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سيد المدبر للشئو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322200" y="3267000"/>
            <a:ext cx="489744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نصرف العبادة لك وحد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324000" y="463392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دلنا وأرشدنا ووفقنا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24000" y="528336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طريق الواضح الموصل إلى الله وإلى جنته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24000" y="602136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ملائكتك ، وأنبيائك ، والصديقين ، والشهداء ، والصالحين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وصوف بالرحمة البالغة هو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تقوية المسلم صلته برب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يفية تقوية المسلم صلته برب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طاعته 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حسن عبادته 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بعد عن أسباب سخط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3141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ذا وردت كلمة (الرب) معرفة بالألف واللا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لا تكون إلا لله تعالى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37180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ثبات صفة الرحم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4292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(الرحمن) أبلغ من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الرحيم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4869000"/>
          <a:ext cx="8642160" cy="1108080"/>
        </p:xfrm>
        <a:graphic>
          <a:graphicData uri="http://schemas.openxmlformats.org/drawingml/2006/table">
            <a:tbl>
              <a:tblPr/>
              <a:tblGrid>
                <a:gridCol w="7313400"/>
                <a:gridCol w="1328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السبب أن صفة (الرحمن) أبلغ من (الرحيم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لأن الرحمن ذو الرحمة الشاملة لجميع الخلق في الدنيا وللمؤمنين في الاخر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رحم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والرحيم ذو الرحمة الخاصة بالمؤمنين يوم القيام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رحي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66" name="عنوان 1"/>
          <p:cNvSpPr/>
          <p:nvPr/>
        </p:nvSpPr>
        <p:spPr>
          <a:xfrm>
            <a:off x="250920" y="1484280"/>
            <a:ext cx="8665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تخصيص الملك بيوم الدين في قوله تعالى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نفيه عما عداه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 سبحانه أخبر قبل ذلك بأنه رب العالمي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2349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عباد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مال الذل لله تعالى مع كمال الح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299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زام المسلم بأمر به بفعل الطاعات والبعد عن المعاصي التي تحجب القلب وتضعف القلب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3645000"/>
            <a:ext cx="8665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وجوب التزام المسلم بأمر به بفعل الطاعات والبعد عن المعاصي التي تحجب القلب وتضعف القلب :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ينال الأجر والثواب من الله تعالى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2911320" y="1465200"/>
            <a:ext cx="1812960" cy="46836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250920" y="4365720"/>
            <a:ext cx="86659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ليل وجوب التزام المسلم بأمر به بفعل الطاعات والبعد عن المعاصي التي تحجب القلب وتضعف القلب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3"/>
          <a:stretch/>
        </p:blipFill>
        <p:spPr>
          <a:xfrm>
            <a:off x="3787920" y="4838760"/>
            <a:ext cx="5105160" cy="53496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179280" y="5373720"/>
            <a:ext cx="86662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ين المقبول عند الله هو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6093000"/>
            <a:ext cx="866628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غير دين الإسلام من الأديان السماوية الأخرى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سخت بعد بعثة محمد صلى الله عليه وسل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1484280"/>
            <a:ext cx="86659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دين المقبول عند الله هو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سلام : قوله تعا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299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جمع الله بيت العبادة والاستقام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 لا قيام بالعبادة على الوجه الأكمل إلا بمعونة ا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1415880" y="2049480"/>
            <a:ext cx="74152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3"/>
          <a:stretch/>
        </p:blipFill>
        <p:spPr>
          <a:xfrm>
            <a:off x="3795840" y="981000"/>
            <a:ext cx="5079960" cy="495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4"/>
          <a:stretch/>
        </p:blipFill>
        <p:spPr>
          <a:xfrm>
            <a:off x="109440" y="1484280"/>
            <a:ext cx="8926560" cy="504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5"/>
          <a:stretch/>
        </p:blipFill>
        <p:spPr>
          <a:xfrm>
            <a:off x="0" y="2708280"/>
            <a:ext cx="5495760" cy="100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6"/>
          <a:stretch/>
        </p:blipFill>
        <p:spPr>
          <a:xfrm>
            <a:off x="109440" y="3719520"/>
            <a:ext cx="5391360" cy="789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7"/>
          <a:stretch/>
        </p:blipFill>
        <p:spPr>
          <a:xfrm>
            <a:off x="1440" y="4653000"/>
            <a:ext cx="5499360" cy="792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8"/>
          <a:stretch/>
        </p:blipFill>
        <p:spPr>
          <a:xfrm>
            <a:off x="971640" y="5661000"/>
            <a:ext cx="441936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