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82B7-7E26-4C7D-B7BB-5DA02445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98F-A0F2-4386-97D9-70E0EEC0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04DB-FE46-4AB2-B907-9545D789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B00-5BAE-4BE3-AD25-5C74A9EF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9EFD-BC8D-46CA-A776-294B5EFE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5B8-CEFF-4448-BCE2-CE939C4B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C54-CE30-4752-AF10-705E21E1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F90-2E3F-478A-A02A-743A4EB6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0BB8-F654-4226-B0B1-623E1064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E6F-37EB-4382-A055-8136FD99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4D5F-F507-43A1-9B45-11685768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73A2-FFC0-4157-A285-614560DA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BC03-2442-4B28-BCF8-8E24DA056EE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0" b="64088"/>
          <a:stretch/>
        </p:blipFill>
        <p:spPr>
          <a:xfrm>
            <a:off x="0" y="44280"/>
            <a:ext cx="9109080" cy="1124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rcRect l="0" t="43678" r="0" b="0"/>
          <a:stretch/>
        </p:blipFill>
        <p:spPr>
          <a:xfrm>
            <a:off x="179280" y="2708280"/>
            <a:ext cx="87138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ميت سورة الأعراف بهذا الا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لفظ (الأعراف) فيها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06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 إلا الآيات من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6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إلى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70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فمدن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"/>
          <p:cNvPicPr/>
          <p:nvPr/>
        </p:nvPicPr>
        <p:blipFill>
          <a:blip r:embed="rId2"/>
          <a:stretch/>
        </p:blipFill>
        <p:spPr>
          <a:xfrm>
            <a:off x="3564000" y="1916280"/>
            <a:ext cx="5295960" cy="576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71628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407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43354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6"/>
          <p:cNvCxnSpPr/>
          <p:nvPr/>
        </p:nvCxnSpPr>
        <p:spPr>
          <a:xfrm flipH="1">
            <a:off x="8456040" y="49413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479736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عث والجنة والنا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8"/>
          <p:cNvSpPr/>
          <p:nvPr/>
        </p:nvSpPr>
        <p:spPr>
          <a:xfrm>
            <a:off x="8820000" y="4327560"/>
            <a:ext cx="0" cy="201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19"/>
          <p:cNvCxnSpPr/>
          <p:nvPr/>
        </p:nvCxnSpPr>
        <p:spPr>
          <a:xfrm flipH="1">
            <a:off x="8456040" y="4652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4459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حيد والرسا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1"/>
          <p:cNvCxnSpPr/>
          <p:nvPr/>
        </p:nvCxnSpPr>
        <p:spPr>
          <a:xfrm flipH="1">
            <a:off x="8456040" y="53319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515772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ص الأنبياء والأمم الساب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56685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55180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بعض القضايا الاجتماع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8920" y="60098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5600" y="5834160"/>
            <a:ext cx="82090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بعض الآداب والأخلاق الإسلام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7"/>
          <p:cNvCxnSpPr/>
          <p:nvPr/>
        </p:nvCxnSpPr>
        <p:spPr>
          <a:xfrm flipH="1">
            <a:off x="8458920" y="63468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5600" y="6194520"/>
            <a:ext cx="8209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المعاصي والإعراض عن طاعة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1424160" y="1700280"/>
            <a:ext cx="7372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