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ACE-F98E-4B0C-B250-CEC99A5D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22A-5F32-42C6-8993-06AF07DD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8FD-BDAA-415E-B740-4883231B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130-AFBB-426D-9C32-7B200557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B8B-7050-453F-9652-F80B06FC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BEC-35B0-465E-88E4-A83CA96D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10A-D2AA-4094-BF7D-988FB6EC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939-8DFE-4E28-BFFF-2699851A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78BE-B8EB-477E-891B-CBDBB521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78B-20E3-4846-9FD2-3A2F530F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D91-BEBD-4309-83CA-8663A816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521-D5AC-41B7-A07A-E3E0DE5B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A0BB-5242-4B47-8365-FBDF6777F0B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4320" y="1471680"/>
            <a:ext cx="8708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69720" y="5805360"/>
            <a:ext cx="8569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هداية بي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خطاب : للنبي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71355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368360" y="2492280"/>
            <a:ext cx="752472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1359000" y="4149720"/>
            <a:ext cx="753408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357336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حريم لعن المؤ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163980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د من رح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374"/>
          <a:stretch/>
        </p:blipFill>
        <p:spPr>
          <a:xfrm>
            <a:off x="476280" y="2349360"/>
            <a:ext cx="8191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7040" y="4976640"/>
            <a:ext cx="3505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صفات السعداء ذكر هنا صفات الأشقي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364000" y="912960"/>
            <a:ext cx="3569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429400" cy="31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-15840" y="911160"/>
            <a:ext cx="9139320" cy="862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72880" y="468792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جع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057480" y="1190520"/>
            <a:ext cx="417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أشقيا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كفر سبب الطرد من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حمة الله والهلاك في جهن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عز وجل هو المعطي المانع يعطي ويمن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يعطي الدني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حب ومن لا يح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بسط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ر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بض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ا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ى المؤمن تجاه ما أُعطي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ضى والتسليم والقناع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هداية والضلال بيد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508464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دم جواز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هذا من جنس حجة الكفار وهي حجة داحضة لا تف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نقضون 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قطع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فسدون في الأر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رح بالحياة الدنيا عن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ؤمنون بما جاء به الرسل من عن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070520" y="942840"/>
            <a:ext cx="4749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6T18:13:23Z</dcterms:modified>
  <cp:revision>2087</cp:revision>
  <dc:subject/>
  <dc:title>عرض تقديمي في PowerPoint</dc:title>
</cp:coreProperties>
</file>