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19E8-C132-48D4-AD57-FEB9732B6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729E-0A75-4816-A22F-0449BD3B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A871-AEF3-4982-9A3C-B6ED339E4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DFD6-C8CB-4ADE-9013-25951A2B1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C2E9-28D9-4890-B4EF-802A062C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B3AA-14C6-4D31-9D27-50D38381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2CD3-D10C-4FDC-8091-E14CABAA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AF97-ED1C-4913-93DB-2348AB45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81CE-7DE6-42BA-8C97-9C85ACD4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2E63-B04E-4532-B23F-3EECFF6F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03F1-C3A7-4FEE-BC19-327A9B68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E64C-00B3-4D70-B126-66F0F4D1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B018-8829-4793-9B89-79E0972CE71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39640" y="209520"/>
            <a:ext cx="813600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66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835344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يونس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سورة يونس 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قصة نبي الله يونس عليه السلام ف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يون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09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179280" y="3448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يون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الإسراء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3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ثبات النبوة والبع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>
            <a:off x="8820000" y="1662120"/>
            <a:ext cx="0" cy="214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ثبات التوحيد 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دعوة للإيمان بالرسالات السماو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25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ذكر قصة يونس عليه السل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9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نجاة قوم يونس لما آمنو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3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3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18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3T20:49:25Z</dcterms:modified>
  <cp:revision>1788</cp:revision>
  <dc:subject/>
  <dc:title>عرض تقديمي في PowerPoint</dc:title>
</cp:coreProperties>
</file>