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CC0-A598-487D-A81D-9933058F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E31-D9A9-47F9-B5AA-AA52B064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8EA-ABCF-43B2-99FA-7E7CBE02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543-90AE-4F7C-9B10-7B34D13F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A7D-202B-4396-9CCE-6C0685BF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4CE-D879-4142-9A03-A3770EA4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8B2-ED45-4485-85A3-CBEFBD24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B61-BECE-496F-BBB8-5D725A47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855-FA26-4790-8D6E-C44C06E0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D6A-EA8C-449F-B87A-369CE3D1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B98-30C2-4779-89DD-F6E862D4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CB7-85C5-4794-B410-627B7DCD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E6D8-400D-4A56-AAC9-173FFCC2F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450800"/>
            <a:ext cx="8496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81080" y="1916280"/>
            <a:ext cx="8691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3041640" y="981000"/>
            <a:ext cx="580392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1251000" y="2708280"/>
            <a:ext cx="7620120" cy="98100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179280" y="3933720"/>
            <a:ext cx="8691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عود إلى : الإيمان والعمل الصال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4"/>
          <a:stretch/>
        </p:blipFill>
        <p:spPr>
          <a:xfrm>
            <a:off x="250920" y="692280"/>
            <a:ext cx="86421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42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782640"/>
            <a:ext cx="8642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50920" y="888840"/>
            <a:ext cx="8767800" cy="117180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611280" y="1197000"/>
            <a:ext cx="384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مل أهل الجنة وعمل أهل الن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2278080"/>
            <a:ext cx="86374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366840" y="530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ذهبن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60213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حقد ٍ وضغنٍ وعداو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من جنس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قبل عمل ال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60280" y="3357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جنة حرام على كل 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0680" y="465300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و من باب تعليق الشيء بـ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حا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2801880" y="2583000"/>
            <a:ext cx="614700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979640" y="3840120"/>
            <a:ext cx="6856560" cy="51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1476360" y="4683240"/>
            <a:ext cx="6138720" cy="414360"/>
          </a:xfrm>
          <a:prstGeom prst="rect">
            <a:avLst/>
          </a:prstGeom>
          <a:ln w="0">
            <a:noFill/>
          </a:ln>
        </p:spPr>
      </p:pic>
      <p:sp>
        <p:nvSpPr>
          <p:cNvPr id="63" name="عنوان 1"/>
          <p:cNvSpPr/>
          <p:nvPr/>
        </p:nvSpPr>
        <p:spPr>
          <a:xfrm>
            <a:off x="200160" y="558972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آ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أنه من المحال دخول الجمل في سم الخياط فكذلك المكذبون بآيات الله محال دخولهم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620568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ليف يكون على 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ط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نعم الله على أهل الجن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ينزع ما في قلوبهم من الحقد فلا يحسد بعضهم بعضاً على تفاضل منازلهم في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2338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ة لا تُدخل إلا باجتماع أمرين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8"/>
          <p:cNvSpPr/>
          <p:nvPr/>
        </p:nvSpPr>
        <p:spPr>
          <a:xfrm flipH="1">
            <a:off x="4571640" y="269892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9"/>
          <p:cNvSpPr/>
          <p:nvPr/>
        </p:nvSpPr>
        <p:spPr>
          <a:xfrm flipH="1">
            <a:off x="4566960" y="2955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20"/>
          <p:cNvCxnSpPr/>
          <p:nvPr/>
        </p:nvCxnSpPr>
        <p:spPr>
          <a:xfrm flipH="1">
            <a:off x="8456040" y="38512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3635280"/>
            <a:ext cx="820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 الصال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>
            <a:off x="8820000" y="2949480"/>
            <a:ext cx="0" cy="9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0"/>
          <p:cNvCxnSpPr/>
          <p:nvPr/>
        </p:nvCxnSpPr>
        <p:spPr>
          <a:xfrm flipH="1">
            <a:off x="8456040" y="3274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308124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ل  الله ورحمته وتوفيق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ه لا يدخل أحد الجنة إلا برحمة الله تعا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</a:t>
            </a:r>
            <a:r>
              <a:rPr b="1" lang="en-US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711520" y="4683240"/>
            <a:ext cx="6108480" cy="11221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638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باب 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557920" cy="576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62080" y="3708360"/>
            <a:ext cx="5068800" cy="69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2003400" y="4869000"/>
            <a:ext cx="3327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1270080" y="5877000"/>
            <a:ext cx="4064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