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BC49-0957-422C-B763-6A6A51559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B5AE-BD4A-4115-9262-242D06B9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5A7B-6015-47AA-A099-DDD5EBF1A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1BD0-73A2-45B1-9A5C-5256DCCBE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7979-399D-4801-BE18-2F40E267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3266-9449-475A-8EE6-18655300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056F-5564-4795-87B6-48681CF1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E16D-426E-42D7-BD65-3B78FABF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53DD-151D-4B1F-B611-7BB02844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4E94-76A1-4746-A251-3044110C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F3F6-977E-4EE8-8260-C6E51CB1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C693-065F-4614-AD92-43AC79AF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B76C-9B22-43BD-8190-681C9B1312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324000" y="981000"/>
            <a:ext cx="8567640" cy="587700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503280" y="2492280"/>
            <a:ext cx="8209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دبر أمر الخلائ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4"/>
          <a:stretch/>
        </p:blipFill>
        <p:spPr>
          <a:xfrm>
            <a:off x="250920" y="4149720"/>
            <a:ext cx="8297640" cy="1224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5"/>
          <a:stretch/>
        </p:blipFill>
        <p:spPr>
          <a:xfrm>
            <a:off x="395280" y="5600880"/>
            <a:ext cx="825804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2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4931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50920" y="400536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استدلال بالنشأة الأولى على النشأة الأخر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9" descr=""/>
          <p:cNvPicPr/>
          <p:nvPr/>
        </p:nvPicPr>
        <p:blipFill>
          <a:blip r:embed="rId3"/>
          <a:stretch/>
        </p:blipFill>
        <p:spPr>
          <a:xfrm>
            <a:off x="900000" y="981000"/>
            <a:ext cx="8126640" cy="647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"/>
          <p:cNvPicPr/>
          <p:nvPr/>
        </p:nvPicPr>
        <p:blipFill>
          <a:blip r:embed="rId4"/>
          <a:stretch/>
        </p:blipFill>
        <p:spPr>
          <a:xfrm>
            <a:off x="900000" y="3357720"/>
            <a:ext cx="7961400" cy="647640"/>
          </a:xfrm>
          <a:prstGeom prst="rect">
            <a:avLst/>
          </a:prstGeom>
          <a:ln w="0">
            <a:noFill/>
          </a:ln>
        </p:spPr>
      </p:pic>
      <p:sp>
        <p:nvSpPr>
          <p:cNvPr id="93" name="عنوان 1"/>
          <p:cNvSpPr/>
          <p:nvPr/>
        </p:nvSpPr>
        <p:spPr>
          <a:xfrm>
            <a:off x="250920" y="170172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لحذر من الكفر وأه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136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1324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014640" y="4675320"/>
            <a:ext cx="3213000" cy="48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628640"/>
            <a:ext cx="86648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ان تحدث الآيات السابقة عن صدق رسالة محمد صلى الله عليه وسل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ذكرت الآيات بعض شبهات الكافرين حول الدين الإسلام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5398920" y="907920"/>
            <a:ext cx="349272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88822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2" descr=""/>
          <p:cNvPicPr/>
          <p:nvPr/>
        </p:nvPicPr>
        <p:blipFill>
          <a:blip r:embed="rId1"/>
          <a:stretch/>
        </p:blipFill>
        <p:spPr>
          <a:xfrm>
            <a:off x="250920" y="1951200"/>
            <a:ext cx="8713800" cy="4646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2"/>
          <a:stretch/>
        </p:blipFill>
        <p:spPr>
          <a:xfrm>
            <a:off x="108000" y="888840"/>
            <a:ext cx="8928000" cy="955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179280" y="5229360"/>
            <a:ext cx="4969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صرف أمر الخلائ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87200" y="5950080"/>
            <a:ext cx="4969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ع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190520"/>
            <a:ext cx="4176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ان صدق الإسل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14842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يان عظمة وقدرة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206064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عظمة الخلق تدل على عظم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خال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ثبات صفة استواء الله على العرش بكيفي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تليق بجلال الله وعظم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335772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وحده هو مدبر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كو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40766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يقع شيء إلا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قضاء وقدر الله سبحان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479736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رد على المشركين الذين يطلبون الشفاعة م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ولياء والصالح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08000" y="5445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شفاعة المثبتة هي التي تطلب م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سبحان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08000" y="60213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استدلال بتوحيد الربوبية على توح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لوه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50920" y="14842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ستحق للعبادة هو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خالق المدب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250920" y="206064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سباب الهداي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تفك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2716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البعث والنشو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179280" y="335772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استدلال على النشأة الأخرى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النشأة الأو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40766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بشير المؤمن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الثواب العظي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179280" y="479736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ذاب الكافرين في الاخر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فظي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6T06:43:20Z</dcterms:modified>
  <cp:revision>1901</cp:revision>
  <dc:subject/>
  <dc:title>عرض تقديمي في PowerPoint</dc:title>
</cp:coreProperties>
</file>