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8F6-34F5-4137-98E4-3C258EEFF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ACE-1778-4572-A4D4-D02300A0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C41-78E5-40E8-902A-84E0E154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A3D-D85D-49C6-9400-283D27FE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89C-FDD8-4CDA-8FCC-C13B064C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9380-4496-40D0-86EA-B1ABD057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540-B104-49D3-B51A-BE255246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882-BC33-47E1-B80C-FF0867BF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12E-CDFF-4585-9E37-D4CC5561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49C6-BA8E-44C1-BE0F-02C51E24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77F-1F6D-428B-BA71-3CA219ED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92B6-BA62-4FD6-9C57-3593B048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D3ED-FDF1-4F27-979D-851CB227447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476280" y="765000"/>
            <a:ext cx="819144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2600"/>
            <a:ext cx="9159840" cy="1228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8380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الرع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دن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الرع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ذكر الرعد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4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الرعد </a:t>
            </a: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محم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كمال قدرة الله تعال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 flipH="1">
            <a:off x="8817120" y="1662120"/>
            <a:ext cx="2880" cy="2144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قضية الوح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البع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cxnSp>
        <p:nvCxnSpPr>
          <p:cNvPr id="63" name="رابط كسهم مستقيم 12"/>
          <p:cNvCxnSpPr/>
          <p:nvPr/>
        </p:nvCxnSpPr>
        <p:spPr>
          <a:xfrm flipH="1">
            <a:off x="8456040" y="33746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250920" y="314172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استدلال بتوحيد الربوبية على توحيد الألوه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رابط كسهم مستقيم 25"/>
          <p:cNvCxnSpPr/>
          <p:nvPr/>
        </p:nvCxnSpPr>
        <p:spPr>
          <a:xfrm flipH="1">
            <a:off x="8458920" y="3807000"/>
            <a:ext cx="361080" cy="3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6" name="عنوان 1"/>
          <p:cNvSpPr/>
          <p:nvPr/>
        </p:nvSpPr>
        <p:spPr>
          <a:xfrm>
            <a:off x="254160" y="3573360"/>
            <a:ext cx="8208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صفات السعداء والأشقياء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22T10:16:42Z</dcterms:modified>
  <cp:revision>1807</cp:revision>
  <dc:subject/>
  <dc:title>عرض تقديمي في PowerPoint</dc:title>
</cp:coreProperties>
</file>