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2E04-88F8-40B8-A087-BD10AE055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2B2A-6E9B-4A54-9F84-D8C3CA6A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A66A-B0E7-4218-95B0-2614026EB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8372-EAEF-4081-A053-CC5F48960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2F58-2879-4ACC-AE6A-06900A94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5D48-D526-4257-9991-09722910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FC06-E247-451C-BB48-F0CBD5D0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4908-9AD5-4B1F-B7B4-17442663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1425-C424-4ABA-B618-E79BD07B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D0A2-39F9-4E7A-AE47-5BF1D530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8F42-3F8D-4EC9-9B76-DD47F19D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5002-7D09-4B56-90A3-C49B9639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161F-5414-42AA-9F9A-E7F79B747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3"/>
          <a:stretch/>
        </p:blipFill>
        <p:spPr>
          <a:xfrm>
            <a:off x="1143000" y="1008000"/>
            <a:ext cx="7750080" cy="1052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4"/>
          <a:stretch/>
        </p:blipFill>
        <p:spPr>
          <a:xfrm>
            <a:off x="250920" y="2189160"/>
            <a:ext cx="872640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3"/>
          <a:stretch/>
        </p:blipFill>
        <p:spPr>
          <a:xfrm>
            <a:off x="539640" y="911160"/>
            <a:ext cx="8290080" cy="1160640"/>
          </a:xfrm>
          <a:prstGeom prst="rect">
            <a:avLst/>
          </a:prstGeom>
          <a:ln w="0">
            <a:noFill/>
          </a:ln>
        </p:spPr>
      </p:pic>
      <p:sp>
        <p:nvSpPr>
          <p:cNvPr id="105" name="عنوان 1"/>
          <p:cNvSpPr/>
          <p:nvPr/>
        </p:nvSpPr>
        <p:spPr>
          <a:xfrm>
            <a:off x="250920" y="2276640"/>
            <a:ext cx="86072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حذير من الشيطان وكيد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sp>
        <p:nvSpPr>
          <p:cNvPr id="10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55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3"/>
          <a:stretch/>
        </p:blipFill>
        <p:spPr>
          <a:xfrm>
            <a:off x="250920" y="1468440"/>
            <a:ext cx="864216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12" name="عنوان 1"/>
          <p:cNvSpPr/>
          <p:nvPr/>
        </p:nvSpPr>
        <p:spPr>
          <a:xfrm>
            <a:off x="179280" y="1628640"/>
            <a:ext cx="8691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قوى هي : يجعل العبد بينه وبين ما يخافه ويحذره وقاية تقيه من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3"/>
          <a:stretch/>
        </p:blipFill>
        <p:spPr>
          <a:xfrm>
            <a:off x="1849320" y="1006560"/>
            <a:ext cx="7021800" cy="622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4"/>
          <a:stretch/>
        </p:blipFill>
        <p:spPr>
          <a:xfrm>
            <a:off x="1332000" y="2997360"/>
            <a:ext cx="7605720" cy="571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5"/>
          <a:stretch/>
        </p:blipFill>
        <p:spPr>
          <a:xfrm>
            <a:off x="303120" y="4308480"/>
            <a:ext cx="8647200" cy="571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6"/>
          <a:stretch/>
        </p:blipFill>
        <p:spPr>
          <a:xfrm>
            <a:off x="4336920" y="2133720"/>
            <a:ext cx="4483080" cy="691920"/>
          </a:xfrm>
          <a:prstGeom prst="rect">
            <a:avLst/>
          </a:prstGeom>
          <a:ln w="0">
            <a:noFill/>
          </a:ln>
        </p:spPr>
      </p:pic>
      <p:sp>
        <p:nvSpPr>
          <p:cNvPr id="117" name="عنوان 1"/>
          <p:cNvSpPr/>
          <p:nvPr/>
        </p:nvSpPr>
        <p:spPr>
          <a:xfrm>
            <a:off x="179280" y="3645000"/>
            <a:ext cx="8691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هو مصدر سعادة الإنسا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عنوان 1"/>
          <p:cNvSpPr/>
          <p:nvPr/>
        </p:nvSpPr>
        <p:spPr>
          <a:xfrm>
            <a:off x="179280" y="5013360"/>
            <a:ext cx="8691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شدة الحذر منه وتقوية إيمانه بر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77"/>
          <a:stretch/>
        </p:blipFill>
        <p:spPr>
          <a:xfrm>
            <a:off x="250920" y="934920"/>
            <a:ext cx="864216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3240" y="9360"/>
            <a:ext cx="9145440" cy="1305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468360" y="1771560"/>
            <a:ext cx="831852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5" descr=""/>
          <p:cNvPicPr/>
          <p:nvPr/>
        </p:nvPicPr>
        <p:blipFill>
          <a:blip r:embed="rId2"/>
          <a:stretch/>
        </p:blipFill>
        <p:spPr>
          <a:xfrm>
            <a:off x="216000" y="966960"/>
            <a:ext cx="8677080" cy="57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0" y="981000"/>
            <a:ext cx="9129600" cy="107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179280" y="2276640"/>
            <a:ext cx="8642520" cy="448920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274680" y="4941720"/>
            <a:ext cx="49449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دلائل قدرت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285840" y="5486400"/>
            <a:ext cx="4944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آدم وحو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62080" y="5950080"/>
            <a:ext cx="4944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زي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4508640"/>
            <a:ext cx="4944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يمان وثمرات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900520" y="1233360"/>
            <a:ext cx="42638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خطورة الشيط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sp>
        <p:nvSpPr>
          <p:cNvPr id="58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واع لباس الجس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رابط مستقيم 30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رابط مستقيم 31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33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6804000" y="2443320"/>
            <a:ext cx="1800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لباس ستر العو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رابط كسهم مستقيم 35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395280" y="2514600"/>
            <a:ext cx="2305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لباس جمال وزين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3141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ستر العورات وحفظها من نظر الآخري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3645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كشف العورات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45100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نسان ينقسم إلى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42"/>
          <p:cNvSpPr/>
          <p:nvPr/>
        </p:nvSpPr>
        <p:spPr>
          <a:xfrm flipH="1">
            <a:off x="4593960" y="494172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رابط مستقيم 43"/>
          <p:cNvSpPr/>
          <p:nvPr/>
        </p:nvSpPr>
        <p:spPr>
          <a:xfrm flipH="1">
            <a:off x="1499760" y="523080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44"/>
          <p:cNvCxnSpPr/>
          <p:nvPr/>
        </p:nvCxnSpPr>
        <p:spPr>
          <a:xfrm>
            <a:off x="7980120" y="523872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7236000" y="5540400"/>
            <a:ext cx="1392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جس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رابط كسهم مستقيم 46"/>
          <p:cNvCxnSpPr/>
          <p:nvPr/>
        </p:nvCxnSpPr>
        <p:spPr>
          <a:xfrm>
            <a:off x="1499760" y="523044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" name="عنوان 1"/>
          <p:cNvSpPr/>
          <p:nvPr/>
        </p:nvSpPr>
        <p:spPr>
          <a:xfrm>
            <a:off x="419040" y="5611680"/>
            <a:ext cx="1488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روح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27160" y="6093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باس الجسد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ثيا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0920" y="155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باس الروح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قو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27160" y="4581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درة الشيطان على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خداع والتموي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50920" y="3068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تزيين الشيطان للقبيح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رابط مستقيم 42"/>
          <p:cNvSpPr/>
          <p:nvPr/>
        </p:nvSpPr>
        <p:spPr>
          <a:xfrm flipH="1">
            <a:off x="4593960" y="35002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رابط مستقيم 43"/>
          <p:cNvSpPr/>
          <p:nvPr/>
        </p:nvSpPr>
        <p:spPr>
          <a:xfrm flipH="1">
            <a:off x="1499760" y="378936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رابط كسهم مستقيم 44"/>
          <p:cNvCxnSpPr/>
          <p:nvPr/>
        </p:nvCxnSpPr>
        <p:spPr>
          <a:xfrm>
            <a:off x="7980120" y="37972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3" name="عنوان 1"/>
          <p:cNvSpPr/>
          <p:nvPr/>
        </p:nvSpPr>
        <p:spPr>
          <a:xfrm>
            <a:off x="7236000" y="4098960"/>
            <a:ext cx="1392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كشف العورات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رابط كسهم مستقيم 46"/>
          <p:cNvCxnSpPr/>
          <p:nvPr/>
        </p:nvCxnSpPr>
        <p:spPr>
          <a:xfrm>
            <a:off x="1499760" y="3789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عنوان 1"/>
          <p:cNvSpPr/>
          <p:nvPr/>
        </p:nvSpPr>
        <p:spPr>
          <a:xfrm>
            <a:off x="419040" y="4170240"/>
            <a:ext cx="1704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نزع لباس الحشم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227160" y="508464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ستطاع الشيطا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إخراج الأبوين من الجن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صدر سعادة الإنسا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و لباس التقو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شيطان حريص على تزيي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قبيح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رابط كسهم مستقيم 24"/>
          <p:cNvCxnSpPr/>
          <p:nvPr/>
        </p:nvCxnSpPr>
        <p:spPr>
          <a:xfrm>
            <a:off x="5171760" y="378936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0" name="عنوان 1"/>
          <p:cNvSpPr/>
          <p:nvPr/>
        </p:nvSpPr>
        <p:spPr>
          <a:xfrm>
            <a:off x="4427640" y="4091040"/>
            <a:ext cx="1392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إبراز المفات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عنوان 1"/>
          <p:cNvSpPr/>
          <p:nvPr/>
        </p:nvSpPr>
        <p:spPr>
          <a:xfrm>
            <a:off x="250920" y="5589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عى الشيطان جاهداً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منع ذريتهما من دخول الجن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وان 1"/>
          <p:cNvSpPr/>
          <p:nvPr/>
        </p:nvSpPr>
        <p:spPr>
          <a:xfrm>
            <a:off x="250920" y="6093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شيطان وقبيله يرون بني آدم من حيث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رونه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sp>
        <p:nvSpPr>
          <p:cNvPr id="95" name="عنوان 1"/>
          <p:cNvSpPr/>
          <p:nvPr/>
        </p:nvSpPr>
        <p:spPr>
          <a:xfrm>
            <a:off x="250920" y="155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حذر من الشيطان وقبيل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وجوب الحذر من الشيطان وقبيل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م يكونون أشد مكراً وكيداً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ولاية الشيطان وتسلطه على الإنسا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ضعف الإيما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