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C4D-4BC5-4FE3-ABA6-93F797A69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4D12-9158-4C18-BC33-A65A777B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7A2E-C5CA-4CF8-8C98-7D2A2B95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283-F4EE-4738-8483-F9B0E880F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6C77-B4B8-4000-ACCE-C96AFC59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DD6-7CC8-4F17-A0C5-4016FE40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F94-01DF-491F-8E8C-6977F3CA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1FBA-D4A7-490D-8684-18392FAF9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01EC-D973-464F-AB63-185A9AE5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91E-DA40-481D-9E7C-C005A22F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1F3-8456-4C5E-ACDD-D64EA33F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FA11-B084-449E-B925-8280F980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9DA8-46FF-4ABD-BBC4-2296EC14D0B0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2360" y="1773360"/>
            <a:ext cx="864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رتفع أبصارهم دون أن تطر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سرع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363600" y="1052640"/>
            <a:ext cx="852948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9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324000" y="4797360"/>
            <a:ext cx="85690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تكلم عن الكافري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3" descr=""/>
          <p:cNvPicPr/>
          <p:nvPr/>
        </p:nvPicPr>
        <p:blipFill>
          <a:blip r:embed="rId3"/>
          <a:stretch/>
        </p:blipFill>
        <p:spPr>
          <a:xfrm>
            <a:off x="4103640" y="1052640"/>
            <a:ext cx="47894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"/>
          <p:cNvPicPr/>
          <p:nvPr/>
        </p:nvPicPr>
        <p:blipFill>
          <a:blip r:embed="rId4"/>
          <a:stretch/>
        </p:blipFill>
        <p:spPr>
          <a:xfrm>
            <a:off x="2262240" y="2492280"/>
            <a:ext cx="6640560" cy="53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"/>
          <p:cNvPicPr/>
          <p:nvPr/>
        </p:nvPicPr>
        <p:blipFill>
          <a:blip r:embed="rId5"/>
          <a:stretch/>
        </p:blipFill>
        <p:spPr>
          <a:xfrm>
            <a:off x="1487520" y="4076640"/>
            <a:ext cx="7415280" cy="5842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324000" y="31417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له ليمهل للظالم حتى إذا أخذه لم يفل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324000" y="1700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صرف العبادة لغير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50"/>
          <a:stretch/>
        </p:blipFill>
        <p:spPr>
          <a:xfrm>
            <a:off x="290520" y="2205000"/>
            <a:ext cx="86025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792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884320" y="4819680"/>
            <a:ext cx="351792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1020600"/>
            <a:ext cx="881712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0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8713800" cy="45352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371520" y="413064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افعي رؤوسهم إلى السم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395280" y="613080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"/>
          <p:cNvPicPr/>
          <p:nvPr/>
        </p:nvPicPr>
        <p:blipFill>
          <a:blip r:embed="rId3"/>
          <a:stretch/>
        </p:blipFill>
        <p:spPr>
          <a:xfrm>
            <a:off x="-15840" y="981000"/>
            <a:ext cx="9105840" cy="935280"/>
          </a:xfrm>
          <a:prstGeom prst="rect">
            <a:avLst/>
          </a:prstGeom>
          <a:ln w="0">
            <a:noFill/>
          </a:ln>
        </p:spPr>
      </p:pic>
      <p:sp>
        <p:nvSpPr>
          <p:cNvPr id="54" name="عنوان 1"/>
          <p:cNvSpPr/>
          <p:nvPr/>
        </p:nvSpPr>
        <p:spPr>
          <a:xfrm>
            <a:off x="6480" y="1179360"/>
            <a:ext cx="37018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1f497d"/>
                </a:solidFill>
                <a:latin typeface="Calibri"/>
                <a:cs typeface="Times New Roman"/>
              </a:rPr>
              <a:t>عاقبة الكافرين المكذبين يوم القيامة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465300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لوبهم خالية من العقل لفزع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626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لفتم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95280" y="51577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خوف الكف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ظ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043000"/>
            <a:ext cx="86659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اقبة الظالم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92280"/>
            <a:ext cx="8666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تعالى عال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لا تخفى عليه خافية غير غافل عن أعماله عباده بل يعلمها ويحصيها عليهم ويحاسبهم عليها يوم القيام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0680" y="3357720"/>
            <a:ext cx="86662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يوم القيامة على الكافرين 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دة يوم القيامة عليهم وما سيكونون عليه من الذلة والصغ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203720"/>
            <a:ext cx="866628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ال الكافرين المكذبين يوم القيام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دم حتى إنهم يتمنون العودة إلى الدنيا مرة أخرى ليؤمنوا وما هم ب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9068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كر الكافرين والمكذبي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ظيم حتى إنه من شدته وخبثه يكاد يزيل الجبال عن أماكن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91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رة الله تعالى على إبط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ر الكافرين مهما خفي وأُحك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04840" y="1700280"/>
            <a:ext cx="864072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أنهم حلفوا في الدنيا أنه لا بعث يوم القيا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أنهم سكنوا مساكن 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ه عرفوا ماذا فعل الله بالظا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ذكر الله لهم الأمثال ولم يأخذوا منها ال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328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-133200" y="-85680"/>
            <a:ext cx="9393120" cy="1055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2360" y="1844640"/>
            <a:ext cx="8640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نذار والتبش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392040" y="1039680"/>
            <a:ext cx="856296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8T09:00:33Z</dcterms:modified>
  <cp:revision>1865</cp:revision>
  <dc:subject/>
  <dc:title>عرض تقديمي في PowerPoint</dc:title>
</cp:coreProperties>
</file>