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ABC-6CD4-4D0A-BA38-7F0B9CCF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F10E-EE7B-46BA-B7CA-5EBD26F6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AF5-ED56-4223-9C57-1D883C79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32CD-78B9-4751-B5A6-E5DCA3F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6A3A-92FB-45AC-9E19-C7BDEFA9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7E4-2635-4A45-8132-8503325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B863-3323-4196-9C9E-3D08D92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BDD-29FA-45FF-B834-B4CC2562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8A8-84EE-4DBD-AF14-52781CBE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036-1E84-49CA-94B8-48F9472F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BDE-2728-4898-815F-ACC4780A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B48-20E6-468E-AE44-6E3E8D45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FFD1-9DA6-49C0-A2EE-AC77A4A948B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6840" cy="5262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مربع نص 1"/>
          <p:cNvSpPr/>
          <p:nvPr/>
        </p:nvSpPr>
        <p:spPr>
          <a:xfrm>
            <a:off x="395280" y="3244680"/>
            <a:ext cx="553248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مربع نص 1"/>
          <p:cNvSpPr/>
          <p:nvPr/>
        </p:nvSpPr>
        <p:spPr>
          <a:xfrm>
            <a:off x="395280" y="418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مربع نص 1"/>
          <p:cNvSpPr/>
          <p:nvPr/>
        </p:nvSpPr>
        <p:spPr>
          <a:xfrm>
            <a:off x="395280" y="4902120"/>
            <a:ext cx="5532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مربع نص 1"/>
          <p:cNvSpPr/>
          <p:nvPr/>
        </p:nvSpPr>
        <p:spPr>
          <a:xfrm>
            <a:off x="395280" y="5621400"/>
            <a:ext cx="55324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سسس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22840" y="1052640"/>
            <a:ext cx="50655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95580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271520" y="1700280"/>
            <a:ext cx="7585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324000" y="35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. لا بد أن يكون الإنفاق متواز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"/>
          <p:cNvPicPr/>
          <p:nvPr/>
        </p:nvPicPr>
        <p:blipFill>
          <a:blip r:embed="rId4"/>
          <a:stretch/>
        </p:blipFill>
        <p:spPr>
          <a:xfrm>
            <a:off x="3492360" y="2924280"/>
            <a:ext cx="5359680" cy="54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"/>
          <p:cNvPicPr/>
          <p:nvPr/>
        </p:nvPicPr>
        <p:blipFill>
          <a:blip r:embed="rId5"/>
          <a:stretch/>
        </p:blipFill>
        <p:spPr>
          <a:xfrm>
            <a:off x="3851280" y="4149720"/>
            <a:ext cx="504180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479736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قوبة في الدنيا و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2276640"/>
            <a:ext cx="856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ظيم لشان الوالدين والإحسان إليهما والنهي عن عقوقهم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6"/>
          <a:stretch/>
        </p:blipFill>
        <p:spPr>
          <a:xfrm>
            <a:off x="4524480" y="5381640"/>
            <a:ext cx="4368600" cy="49536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324000" y="5950080"/>
            <a:ext cx="8569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له بدأ به ولا يقبل أي عمل إل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545680" cy="1194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4"/>
          <a:stretch/>
        </p:blipFill>
        <p:spPr>
          <a:xfrm>
            <a:off x="1892160" y="3156120"/>
            <a:ext cx="5359680" cy="545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2050920" y="3137040"/>
            <a:ext cx="5042160" cy="583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6"/>
          <a:stretch/>
        </p:blipFill>
        <p:spPr>
          <a:xfrm>
            <a:off x="3419640" y="4405320"/>
            <a:ext cx="436860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133200" y="1530360"/>
            <a:ext cx="887760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813040" y="4565520"/>
            <a:ext cx="3517920" cy="507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24000" y="1471680"/>
            <a:ext cx="85500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50920" y="1089000"/>
            <a:ext cx="8642160" cy="565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2160" cy="352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250920" y="2320920"/>
            <a:ext cx="8507160" cy="4421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250920" y="917640"/>
            <a:ext cx="8613720" cy="135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50920" y="4292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ص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جرهما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229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اً لين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مستطيل 1"/>
          <p:cNvSpPr/>
          <p:nvPr/>
        </p:nvSpPr>
        <p:spPr>
          <a:xfrm>
            <a:off x="2124000" y="170028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طي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623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تنفق المال في غير ح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وحيد أوجب الواجبا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أ الله تعالى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حسان إلى الوالدي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قوق ا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زداد بر الوالدين والإحسان إليهما والتلطف معهم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ما تقدم بهما العم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قول (أف) للوالد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هو من العق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كلمة (أف) على الوالدين من العقو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تدل على التضج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الآباء على الأبن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عاء لهم أحياء وأمواتاً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576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غفرة الله تعالى تكون قريبة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هل الصلاح والإنابة والتو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081840"/>
            <a:ext cx="866592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حقوق ذوي القربى والمساكين وأبناء السبي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ر والإكرام لهم  ومنها ما هو واجب ومنها ما هو مسنو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إنفاق في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ء الملكان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في الأمور والقسط في الإنفاق المتواز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خل والتقتير والتبذير والإسراف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هي عن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66760" y="3068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ؤدي التبذ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ى الندم والحسرة وبقاء الإنسان فارغ اليد متعرضاً لسؤال الناس والتذلل ل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3870360"/>
            <a:ext cx="8666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عطي الله ويمنع عن عباد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عظيمة يعلمها الله سبحانه و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9T23:03:32Z</dcterms:modified>
  <cp:revision>1971</cp:revision>
  <dc:subject/>
  <dc:title>عرض تقديمي في PowerPoint</dc:title>
</cp:coreProperties>
</file>