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617B-2A56-412B-A8F7-E279B9B0D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CE17-F8D6-4E3A-ABB0-AA14F9561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FEE4-7EC8-41B5-BAE3-8FCA580A1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2EEF-BD70-49B9-B85E-8CD8AE03E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7C06-FB9F-4058-8B2F-EEF492EC0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AB24-32D6-4F1B-AAAA-EC2FEB8FC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21B2-EEA1-4E43-96D0-CEFB6C957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6B34-3A45-4F48-9606-4D0206694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5220-32D1-4C17-812F-031333386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3499-E8A4-4A85-ABBC-A25CA1041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BF33-9A1C-486C-96A1-11BA60FD8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A0DB-25A5-446E-9A15-F05EF1D25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A11AA-7A52-460C-9858-8441DFD6A07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390600" y="399960"/>
            <a:ext cx="836280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1584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317520" y="2637000"/>
            <a:ext cx="8431200" cy="35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عنوان 1"/>
          <p:cNvSpPr/>
          <p:nvPr/>
        </p:nvSpPr>
        <p:spPr>
          <a:xfrm>
            <a:off x="200160" y="907920"/>
            <a:ext cx="877068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إن علم التفسير من أفضل العلوم وأشرفها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عنوان 1"/>
          <p:cNvSpPr/>
          <p:nvPr/>
        </p:nvSpPr>
        <p:spPr>
          <a:xfrm>
            <a:off x="200160" y="1413000"/>
            <a:ext cx="86659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لما كان القرآن الكريم أشرف العلوم كان الفهم لمعانيه أوفى الفهوم لأن شرف العلم بشرف المعلو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179280" y="193824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جوانب فضل التفسي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رابط مستقيم 44"/>
          <p:cNvSpPr/>
          <p:nvPr/>
        </p:nvSpPr>
        <p:spPr>
          <a:xfrm flipH="1">
            <a:off x="4571640" y="232884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رابط مستقيم 45"/>
          <p:cNvSpPr/>
          <p:nvPr/>
        </p:nvSpPr>
        <p:spPr>
          <a:xfrm flipH="1">
            <a:off x="1476000" y="256536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وان 1"/>
          <p:cNvSpPr/>
          <p:nvPr/>
        </p:nvSpPr>
        <p:spPr>
          <a:xfrm>
            <a:off x="4140360" y="2874960"/>
            <a:ext cx="251928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داخل في قوله </a:t>
            </a:r>
            <a:r>
              <a:rPr b="1" lang="ar-SA" sz="17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ar-SA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 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((خيركم من تعلم القرآن وعلمه)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رابط كسهم مستقيم 47"/>
          <p:cNvCxnSpPr/>
          <p:nvPr/>
        </p:nvCxnSpPr>
        <p:spPr>
          <a:xfrm>
            <a:off x="7956360" y="257292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2" name="عنوان 1"/>
          <p:cNvSpPr/>
          <p:nvPr/>
        </p:nvSpPr>
        <p:spPr>
          <a:xfrm>
            <a:off x="6948360" y="2874960"/>
            <a:ext cx="1944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أنه يتعلق بكتاب الله الخالد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3" name="رابط كسهم مستقيم 49"/>
          <p:cNvCxnSpPr/>
          <p:nvPr/>
        </p:nvCxnSpPr>
        <p:spPr>
          <a:xfrm>
            <a:off x="1476000" y="256536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4" name="عنوان 1"/>
          <p:cNvSpPr/>
          <p:nvPr/>
        </p:nvSpPr>
        <p:spPr>
          <a:xfrm>
            <a:off x="395280" y="2946240"/>
            <a:ext cx="23274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Calibri"/>
                <a:cs typeface="Times New Roman"/>
              </a:rPr>
              <a:t>أن المسلم مطالب بقراءة القرآن الكريم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Calibri"/>
                <a:cs typeface="Times New Roman"/>
              </a:rPr>
              <a:t>بتدبر وتفهم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رابط كسهم مستقيم 51"/>
          <p:cNvCxnSpPr/>
          <p:nvPr/>
        </p:nvCxnSpPr>
        <p:spPr>
          <a:xfrm>
            <a:off x="5363640" y="258552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81756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200160" y="3573360"/>
            <a:ext cx="86929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أن من فضل التفسير أنه يتعلق بكتاب الله الخالد : قوله تعالى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2"/>
          <a:stretch/>
        </p:blipFill>
        <p:spPr>
          <a:xfrm>
            <a:off x="3059280" y="4116240"/>
            <a:ext cx="5867280" cy="465120"/>
          </a:xfrm>
          <a:prstGeom prst="rect">
            <a:avLst/>
          </a:prstGeom>
          <a:ln w="0">
            <a:noFill/>
          </a:ln>
        </p:spPr>
      </p:pic>
      <p:sp>
        <p:nvSpPr>
          <p:cNvPr id="59" name="عنوان 1"/>
          <p:cNvSpPr/>
          <p:nvPr/>
        </p:nvSpPr>
        <p:spPr>
          <a:xfrm>
            <a:off x="179280" y="4653000"/>
            <a:ext cx="86918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أن من فضل التفسير أنه داخل في قوله </a:t>
            </a:r>
            <a:r>
              <a:rPr b="1" lang="ar-SA" sz="21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: ((خيركم من تعلم القرآن وعلمه))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 تعلم القرآن وتعليمه يشمل المعاني والحروف معاً ولا طريق لمعرفة معاني القرآن إلا بالتفسير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179280" y="5584680"/>
            <a:ext cx="8691840" cy="5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أن من فضل التفسير أن المسلم مطالب بقراءة القرآن الكريم بتدبر وتفهم : قوله تعالى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3"/>
          <a:stretch/>
        </p:blipFill>
        <p:spPr>
          <a:xfrm>
            <a:off x="826920" y="6093000"/>
            <a:ext cx="8088480" cy="5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8175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64" name="عنوان 1"/>
          <p:cNvSpPr/>
          <p:nvPr/>
        </p:nvSpPr>
        <p:spPr>
          <a:xfrm>
            <a:off x="250920" y="1989000"/>
            <a:ext cx="864216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- بالإتيان بمثل القران كل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- ومره بعشر سو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- ومره ب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- ومره بحديث مثله 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3"/>
          <a:stretch/>
        </p:blipFill>
        <p:spPr>
          <a:xfrm>
            <a:off x="395280" y="1125360"/>
            <a:ext cx="8609040" cy="5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817560"/>
          </a:xfrm>
          <a:prstGeom prst="rect">
            <a:avLst/>
          </a:prstGeom>
          <a:ln w="0">
            <a:noFill/>
          </a:ln>
        </p:spPr>
      </p:pic>
      <p:sp>
        <p:nvSpPr>
          <p:cNvPr id="67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8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"/>
          <p:cNvPicPr/>
          <p:nvPr/>
        </p:nvPicPr>
        <p:blipFill>
          <a:blip r:embed="rId3"/>
          <a:stretch/>
        </p:blipFill>
        <p:spPr>
          <a:xfrm>
            <a:off x="324000" y="1557360"/>
            <a:ext cx="85978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817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843280" cy="677880"/>
          </a:xfrm>
          <a:prstGeom prst="rect">
            <a:avLst/>
          </a:prstGeom>
          <a:ln w="0">
            <a:noFill/>
          </a:ln>
        </p:spPr>
      </p:pic>
      <p:sp>
        <p:nvSpPr>
          <p:cNvPr id="72" name="عنوان 1"/>
          <p:cNvSpPr/>
          <p:nvPr/>
        </p:nvSpPr>
        <p:spPr>
          <a:xfrm>
            <a:off x="272880" y="1844640"/>
            <a:ext cx="869184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تفريغ القلب من الانشغال بغير الله،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ترتيل عند قراءة القرآن،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ستشعار عظمة الله،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محاولة فهم معاني القرآن،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5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ربط القرآن بواقعك الذي تعيش فيه،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3"/>
          <a:stretch/>
        </p:blipFill>
        <p:spPr>
          <a:xfrm>
            <a:off x="2843280" y="1052640"/>
            <a:ext cx="58165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