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jpeg" ContentType="image/jpe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A61B-58BE-4927-9293-7ACE4A86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776F-7797-4412-B326-87101C12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D880-DAD5-4A87-8E32-39E54B66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E7E4-FB06-486D-A3EF-D52E6BD9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4986-B381-478C-9C9E-85AFA966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8F1D-8C8C-4C52-8F9B-DDD4EBA8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150C-EAC8-4669-ACAA-E381C338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7A8B-4C7B-4345-AF5C-BEECE13B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44B7-FAA6-47A1-9A50-5E2D1205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5949-5686-428E-85FD-5B02B98D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389C-428C-4297-87E1-877A62E5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AAFC-7DFB-47C2-88F0-12CA694C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BCAA-1175-4128-8819-B1ABBBEE92D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خامساً: تيسير الكريم الرحمن في تفسير كلام المنا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18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عنوان 1"/>
          <p:cNvSpPr/>
          <p:nvPr/>
        </p:nvSpPr>
        <p:spPr>
          <a:xfrm>
            <a:off x="3203640" y="2535120"/>
            <a:ext cx="2305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برز مقاصد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2" name="عنوان 1"/>
          <p:cNvSpPr/>
          <p:nvPr/>
        </p:nvSpPr>
        <p:spPr>
          <a:xfrm>
            <a:off x="6227640" y="2494080"/>
            <a:ext cx="2665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ّن المعنى الإجمالي للآي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عنوان 1"/>
          <p:cNvSpPr/>
          <p:nvPr/>
        </p:nvSpPr>
        <p:spPr>
          <a:xfrm>
            <a:off x="179280" y="2514600"/>
            <a:ext cx="2737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نبط منه الفوائد والأحكا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رابط كسهم مستقيم 13"/>
          <p:cNvCxnSpPr/>
          <p:nvPr/>
        </p:nvCxnSpPr>
        <p:spPr>
          <a:xfrm>
            <a:off x="4427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1495440" y="2736720"/>
            <a:ext cx="4516560" cy="4121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3"/>
          <a:stretch/>
        </p:blipFill>
        <p:spPr>
          <a:xfrm>
            <a:off x="6157800" y="2924280"/>
            <a:ext cx="28260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2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3"/>
          <a:stretch/>
        </p:blipFill>
        <p:spPr>
          <a:xfrm>
            <a:off x="279360" y="1778040"/>
            <a:ext cx="858348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34" name="عنوان 1"/>
          <p:cNvSpPr/>
          <p:nvPr/>
        </p:nvSpPr>
        <p:spPr>
          <a:xfrm>
            <a:off x="166680" y="4653000"/>
            <a:ext cx="8691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جامع البيان عن تأويل آي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ذكر مقالات السلف بالأسانيد الثابتة ولبس فيه بدعة ولا ينقل عن المتهم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2882880" y="1052640"/>
            <a:ext cx="5981760" cy="2781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4"/>
          <a:stretch/>
        </p:blipFill>
        <p:spPr>
          <a:xfrm>
            <a:off x="4599000" y="4076640"/>
            <a:ext cx="4292640" cy="533520"/>
          </a:xfrm>
          <a:prstGeom prst="rect">
            <a:avLst/>
          </a:prstGeom>
          <a:ln w="0">
            <a:noFill/>
          </a:ln>
        </p:spPr>
      </p:pic>
      <p:sp>
        <p:nvSpPr>
          <p:cNvPr id="137" name="عنوان 1"/>
          <p:cNvSpPr/>
          <p:nvPr/>
        </p:nvSpPr>
        <p:spPr>
          <a:xfrm>
            <a:off x="3635280" y="1690560"/>
            <a:ext cx="3214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ساب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عنوان 1"/>
          <p:cNvSpPr/>
          <p:nvPr/>
        </p:nvSpPr>
        <p:spPr>
          <a:xfrm>
            <a:off x="2654280" y="2276640"/>
            <a:ext cx="3213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ن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عنوان 1"/>
          <p:cNvSpPr/>
          <p:nvPr/>
        </p:nvSpPr>
        <p:spPr>
          <a:xfrm>
            <a:off x="3492360" y="2924280"/>
            <a:ext cx="3213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م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عنوان 1"/>
          <p:cNvSpPr/>
          <p:nvPr/>
        </p:nvSpPr>
        <p:spPr>
          <a:xfrm>
            <a:off x="2340000" y="3500280"/>
            <a:ext cx="3214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لث عش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43" name="عنوان 1"/>
          <p:cNvSpPr/>
          <p:nvPr/>
        </p:nvSpPr>
        <p:spPr>
          <a:xfrm>
            <a:off x="166680" y="1484280"/>
            <a:ext cx="86914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فسير القرآن ب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عناية بالأحكام الفقهية مع دقة الاستنباط وقوة الاستدل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4857840" y="907920"/>
            <a:ext cx="4000320" cy="520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4"/>
          <a:stretch/>
        </p:blipFill>
        <p:spPr>
          <a:xfrm>
            <a:off x="4676760" y="2708280"/>
            <a:ext cx="4216320" cy="469800"/>
          </a:xfrm>
          <a:prstGeom prst="rect">
            <a:avLst/>
          </a:prstGeom>
          <a:ln w="0">
            <a:noFill/>
          </a:ln>
        </p:spPr>
      </p:pic>
      <p:sp>
        <p:nvSpPr>
          <p:cNvPr id="146" name="عنوان 1"/>
          <p:cNvSpPr/>
          <p:nvPr/>
        </p:nvSpPr>
        <p:spPr>
          <a:xfrm>
            <a:off x="179280" y="3284640"/>
            <a:ext cx="86918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عتمد على أصح طرق التفسير وهي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ذكر الآية ثم يفسرها معتمداً على الآيات المناسبة ل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يورد الأحاديث التي لها صلة بالآ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بأقوال الصحابة والتابعين والعلماء المعتب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قد يورد بعض الروايات الإسرائيلية إلا انه ينبه على المنكر من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-7920"/>
            <a:ext cx="9142560" cy="1333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36600" y="1924200"/>
            <a:ext cx="846936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رابط مستقيم 20"/>
          <p:cNvSpPr/>
          <p:nvPr/>
        </p:nvSpPr>
        <p:spPr>
          <a:xfrm flipH="1">
            <a:off x="4571640" y="83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21"/>
          <p:cNvSpPr/>
          <p:nvPr/>
        </p:nvSpPr>
        <p:spPr>
          <a:xfrm flipH="1">
            <a:off x="4566960" y="1093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رابط كسهم مستقيم 22"/>
          <p:cNvCxnSpPr/>
          <p:nvPr/>
        </p:nvCxnSpPr>
        <p:spPr>
          <a:xfrm flipH="1">
            <a:off x="8456040" y="1988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عنوان 1"/>
          <p:cNvSpPr/>
          <p:nvPr/>
        </p:nvSpPr>
        <p:spPr>
          <a:xfrm>
            <a:off x="250920" y="1773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قرآن الكر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24"/>
          <p:cNvSpPr/>
          <p:nvPr/>
        </p:nvSpPr>
        <p:spPr>
          <a:xfrm>
            <a:off x="8820000" y="1087560"/>
            <a:ext cx="0" cy="26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رابط كسهم مستقيم 26"/>
          <p:cNvCxnSpPr/>
          <p:nvPr/>
        </p:nvCxnSpPr>
        <p:spPr>
          <a:xfrm flipH="1">
            <a:off x="8456040" y="14130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" name="عنوان 1"/>
          <p:cNvSpPr/>
          <p:nvPr/>
        </p:nvSpPr>
        <p:spPr>
          <a:xfrm>
            <a:off x="324000" y="1219320"/>
            <a:ext cx="8135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مع البيان عن تأويل آي 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28"/>
          <p:cNvCxnSpPr/>
          <p:nvPr/>
        </p:nvCxnSpPr>
        <p:spPr>
          <a:xfrm flipH="1">
            <a:off x="8456040" y="2592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2357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ر المنثور في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30"/>
          <p:cNvCxnSpPr/>
          <p:nvPr/>
        </p:nvCxnSpPr>
        <p:spPr>
          <a:xfrm flipH="1">
            <a:off x="8456040" y="31874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9541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أضواء البيان في إيضاح القرآن ب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37"/>
          <p:cNvCxnSpPr/>
          <p:nvPr/>
        </p:nvCxnSpPr>
        <p:spPr>
          <a:xfrm flipH="1">
            <a:off x="8456040" y="3715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324000" y="352260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يسير الكريم الرحمن في تفسير كلام المن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جامع البيان عن تأويل آي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62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4067280" y="2443320"/>
            <a:ext cx="1800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وليس فيه بد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6804000" y="2443320"/>
            <a:ext cx="1800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يذكر مقالات السلف بالأسانيد الثابت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395280" y="2514600"/>
            <a:ext cx="2089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ولا ينقل عن المتهم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2268360" y="2755800"/>
            <a:ext cx="4104000" cy="4035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6588000" y="3062160"/>
            <a:ext cx="248472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272880" y="2133720"/>
            <a:ext cx="8691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1763640" y="907920"/>
            <a:ext cx="71154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048040" y="2924280"/>
            <a:ext cx="4322520" cy="393372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: تفسير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80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3851280" y="2535120"/>
            <a:ext cx="201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في المرتبة الثانية بعد تفسير ابن جرير الطبر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6804000" y="2443320"/>
            <a:ext cx="2016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شهر ما دون في التفسير بالمأثو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عنوان 1"/>
          <p:cNvSpPr/>
          <p:nvPr/>
        </p:nvSpPr>
        <p:spPr>
          <a:xfrm>
            <a:off x="395280" y="2514600"/>
            <a:ext cx="2376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عتمد على أصح طرق التفسي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26481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: الدر المنثور في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92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عنوان 1"/>
          <p:cNvSpPr/>
          <p:nvPr/>
        </p:nvSpPr>
        <p:spPr>
          <a:xfrm>
            <a:off x="3564000" y="2535120"/>
            <a:ext cx="230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دون فيه تفسير رسول الله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صحابة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تابعين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عنوان 1"/>
          <p:cNvSpPr/>
          <p:nvPr/>
        </p:nvSpPr>
        <p:spPr>
          <a:xfrm>
            <a:off x="6227640" y="2494080"/>
            <a:ext cx="2665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جمع ما ألف في التفسير بالمأثو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عنوان 1"/>
          <p:cNvSpPr/>
          <p:nvPr/>
        </p:nvSpPr>
        <p:spPr>
          <a:xfrm>
            <a:off x="179280" y="2514600"/>
            <a:ext cx="27370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بع ما ورد في كتب السنة والتفسي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34920" y="2871720"/>
            <a:ext cx="4305240" cy="3976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3"/>
          <a:stretch/>
        </p:blipFill>
        <p:spPr>
          <a:xfrm>
            <a:off x="4575240" y="3141720"/>
            <a:ext cx="443556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ابعاً: أضواء البيان في إيضاح القرآن ب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05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عنوان 1"/>
          <p:cNvSpPr/>
          <p:nvPr/>
        </p:nvSpPr>
        <p:spPr>
          <a:xfrm>
            <a:off x="3564000" y="2535120"/>
            <a:ext cx="230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يفسر ما كانت الحاجة ماسة لبيانه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" name="عنوان 1"/>
          <p:cNvSpPr/>
          <p:nvPr/>
        </p:nvSpPr>
        <p:spPr>
          <a:xfrm>
            <a:off x="6227640" y="2494080"/>
            <a:ext cx="26654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ميز بتفسير القرآن بالقرآ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العناية بالأحكام الفقهية مع دقة الاستنباط وقوة الاستدلا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عنوان 1"/>
          <p:cNvSpPr/>
          <p:nvPr/>
        </p:nvSpPr>
        <p:spPr>
          <a:xfrm>
            <a:off x="179280" y="2421000"/>
            <a:ext cx="27370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صل في تفسيره إلى سورة المجادلة ثم أتمه    تلميذه الشيخ عطية سال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187280" y="2886120"/>
            <a:ext cx="4322880" cy="3971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3"/>
          <a:stretch/>
        </p:blipFill>
        <p:spPr>
          <a:xfrm>
            <a:off x="5564160" y="3284640"/>
            <a:ext cx="33847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