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A5EB-6B56-4B28-BE16-DAA5BFF4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885-8114-44B7-A690-1CACD80A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43D-AE51-40B7-B85F-55B62ACFE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6A0-65E3-476A-A8E2-19108A80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AC82-8812-4324-B671-AAC42CD8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7B0-33DE-41B0-8DE6-ED2F790E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E38-8025-48A8-95D6-3F78F54F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0F05-FC39-48BC-8378-1AD8C1A4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7F4-96E5-4743-9E98-3DD098C6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C471-7BAF-476D-9D72-876E564A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B74E-8128-43F5-A1DC-660E3B31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464-9D11-4425-88E5-A84063D4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FDBF-3132-4443-85BC-6B4275E378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كل على الله تعالى والثقة به جل وعل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2205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في أوقاتها وأدائها كاملة بشروطها وواجباتها مع استحضار القلب وخشوع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كبر علامات خشي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 يحجز صاحبه عن فعل الذنوب و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59720" cy="4248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6156360" y="285264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ذكر الله وجلت قلوبه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05928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ذا تليت عليهم آياته زادتهم إيمانا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2708280"/>
            <a:ext cx="2341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ربهم يتوكل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6084720" y="4221000"/>
            <a:ext cx="2340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الصلا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987640" y="4373640"/>
            <a:ext cx="2340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ما رزقهم الله ينفق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50920" y="995400"/>
            <a:ext cx="8532720" cy="5529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250920" y="2133720"/>
            <a:ext cx="66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قيمون وقعت في (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7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 ) سنة (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) للهجرة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3500280"/>
            <a:ext cx="6661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ترجاع المسلمين لأموالهم التي نهبها كفار قريش من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71280" y="4653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عدد المسلم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1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 عدد المشركين (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000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1619280" y="5877000"/>
            <a:ext cx="529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تصار المسلمين وهزيمة المشرك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611280" y="1700280"/>
            <a:ext cx="813888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23920" y="580536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لف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بة 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تفا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0" descr=""/>
          <p:cNvPicPr/>
          <p:nvPr/>
        </p:nvPicPr>
        <p:blipFill>
          <a:blip r:embed="rId3"/>
          <a:stretch/>
        </p:blipFill>
        <p:spPr>
          <a:xfrm>
            <a:off x="1284120" y="1052640"/>
            <a:ext cx="7631280" cy="583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"/>
          <p:cNvPicPr/>
          <p:nvPr/>
        </p:nvPicPr>
        <p:blipFill>
          <a:blip r:embed="rId4"/>
          <a:stretch/>
        </p:blipFill>
        <p:spPr>
          <a:xfrm>
            <a:off x="1081080" y="3213000"/>
            <a:ext cx="7834320" cy="609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"/>
          <p:cNvPicPr/>
          <p:nvPr/>
        </p:nvPicPr>
        <p:blipFill>
          <a:blip r:embed="rId5"/>
          <a:stretch/>
        </p:blipFill>
        <p:spPr>
          <a:xfrm>
            <a:off x="2793960" y="5229360"/>
            <a:ext cx="612144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03040" y="1628640"/>
            <a:ext cx="8691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لاوة الآي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ذكر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وكل على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16000" y="3860640"/>
            <a:ext cx="86914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من التوكل الأخذ بالأسبا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96"/>
          <a:stretch/>
        </p:blipFill>
        <p:spPr>
          <a:xfrm>
            <a:off x="250920" y="1998720"/>
            <a:ext cx="86281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822320"/>
            <a:ext cx="8690040" cy="39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605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58760" y="1197000"/>
            <a:ext cx="8825040" cy="157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8028000" y="1865160"/>
            <a:ext cx="1368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0" descr=""/>
          <p:cNvPicPr/>
          <p:nvPr/>
        </p:nvPicPr>
        <p:blipFill>
          <a:blip r:embed="rId1"/>
          <a:stretch/>
        </p:blipFill>
        <p:spPr>
          <a:xfrm>
            <a:off x="250920" y="2430360"/>
            <a:ext cx="8642160" cy="42386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ازل في الجن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9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1052640"/>
            <a:ext cx="8665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كر عبادة بن الصامت أنه في غزوة بدر اختلفوا في النفل فقسمه رسول الله بين المسلمين سواس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539640" y="958680"/>
            <a:ext cx="5688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195640" y="1268280"/>
            <a:ext cx="482436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تشريع حق خاص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لرسو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2205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صلاح ذات ال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أن يكون المؤمنون إخوة متحا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716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طاعة الله ورسو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3700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ا وقر في القلب وصدقته الأعم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5157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ز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طاع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5877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يمان ينقص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معاص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