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0E53-C803-47B1-A5C2-BC5896A9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B4A-02DC-49F0-93E7-2E4F2F53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EBC-1D95-4EE7-B3C5-1366C6EA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C38-AF98-4DE9-AF66-0C14C369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9F34-5E8B-4E35-A9D5-7DD6F8F2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A25-96AA-4290-A167-3CFFAE72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EC5-F4A6-4B67-AC13-F12772C6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E028-5A35-4F0D-B932-AD510D26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9929-8BD0-4C8B-9153-6D43F713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FF4-991A-40E1-BAD6-A161F3E6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693-8899-4FA4-8152-8DD44C9F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11D9-C8EE-48F1-9179-6ED8EEE1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CE34-5B8B-4865-B12D-C1FE6F3E5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إيحاء الله إلى رجل من البشر أمر موافق للحكمة لا محل استغراب وتعج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2556000" y="981000"/>
            <a:ext cx="6386400" cy="660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4"/>
          <a:stretch/>
        </p:blipFill>
        <p:spPr>
          <a:xfrm>
            <a:off x="968400" y="3141720"/>
            <a:ext cx="7948440" cy="639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5"/>
          <a:stretch/>
        </p:blipFill>
        <p:spPr>
          <a:xfrm>
            <a:off x="1547640" y="1700280"/>
            <a:ext cx="72723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952720" y="5229360"/>
            <a:ext cx="3238560" cy="59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844640"/>
            <a:ext cx="86648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أعلم بمراده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062080" y="981000"/>
            <a:ext cx="67010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43000" y="1989000"/>
            <a:ext cx="865008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3357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43000" y="422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رسل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ب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رسول دج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-15840" y="866880"/>
            <a:ext cx="9159840" cy="90648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3059280" y="104760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قرآن الكريم كتاب محكم واضح م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ما اشتمل عليه من حلال وحرام وحدود وأحك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يحاء الله إلى رجل من البشر أم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وافق للحكمة لا محل استغراب وتع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بوة محمد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شرى أهل الإيمان والعمل الصال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ما أعد الله لهم من النع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دة تعجب العرب من بلاغة وفصا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رآن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صف المشركون القرآن الكريم ب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سح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642160" cy="424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8172360" y="351792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5"/>
          <a:stretch/>
        </p:blipFill>
        <p:spPr>
          <a:xfrm>
            <a:off x="8172360" y="445464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6"/>
          <a:stretch/>
        </p:blipFill>
        <p:spPr>
          <a:xfrm>
            <a:off x="2195640" y="2421000"/>
            <a:ext cx="533160" cy="55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7"/>
          <a:stretch/>
        </p:blipFill>
        <p:spPr>
          <a:xfrm>
            <a:off x="2166840" y="4508640"/>
            <a:ext cx="5335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5:29:29Z</dcterms:modified>
  <cp:revision>1888</cp:revision>
  <dc:subject/>
  <dc:title>عرض تقديمي في PowerPoint</dc:title>
</cp:coreProperties>
</file>