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649-123B-4ECC-9816-ED547F66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D469-8B8D-4B06-BED4-1CE8A69E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A80-1AB3-4EFF-9F53-4FD848EB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709A-1CDF-47E5-8D40-91B93C81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574-5C0F-453F-8AEC-8DAA16AC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F67A-882E-4E2C-93B6-983D277C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20DA-CBDE-4459-9ABD-AC5FD38B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4C88-75E3-49DB-A287-1E266661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C2BD-E5A5-4712-9CB9-B06357E7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31A9-2814-4FA3-A1FB-BD079DFF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B76D-AC2E-4CAF-80E3-145DAC86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CDB4-0961-4C03-A112-35C502BD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46DB-E89F-457F-8DEE-136040F810C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250920" y="1515960"/>
            <a:ext cx="8642160" cy="5081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3"/>
          <a:stretch/>
        </p:blipFill>
        <p:spPr>
          <a:xfrm>
            <a:off x="1255680" y="907920"/>
            <a:ext cx="7643880" cy="1320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4"/>
          <a:stretch/>
        </p:blipFill>
        <p:spPr>
          <a:xfrm>
            <a:off x="1204920" y="3716280"/>
            <a:ext cx="769464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179280" y="2349360"/>
            <a:ext cx="85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منافقين هم أكثر الناس فسوقاً وخروجاً عن الفضائ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50920" y="458136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منافقين نسوا الإيمان بالله وذكره فعاقبهم الله بنسيانه إياهم من فضله وتوفيق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989440"/>
            <a:ext cx="86421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-17640"/>
            <a:ext cx="915192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62360" y="4869000"/>
            <a:ext cx="346716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مناف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3576600" y="981000"/>
            <a:ext cx="53341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8627760" cy="86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642160" cy="482436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43000" y="3981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أمرون بالكفر والمعاص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43000" y="44719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نهون عن الإيمان والط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43000" y="50115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الإنفاق في الط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5583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ركهم من لطف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6087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خارجون من طريق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منافقين هم أكثر الناس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سوقاً وخروجاً عن الفضائ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النفا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داء عضال يتغلل في النفس فيجعل المعروف منكراً والمنكر معروف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ين في كل عص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تشابه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335772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لامات النفا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أمر بالمنكر وإشاعة الفواحش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نهي عن المعروف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عويق طرق الخير والصلا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36572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مات المنافق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بخل بالمال وعدم الإنفاق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99752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زاء من جنس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62932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ون نسوا الإيمان بالله وذكره فعاقبهم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نسيانه إياهم من فضله وتوفيق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08000" y="63165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رجات الفسق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نه كفر أكبر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نه كبائر لا تصل إلى حد الكف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"/>
          <p:cNvPicPr/>
          <p:nvPr/>
        </p:nvPicPr>
        <p:blipFill>
          <a:blip r:embed="rId1"/>
          <a:stretch/>
        </p:blipFill>
        <p:spPr>
          <a:xfrm>
            <a:off x="182520" y="907920"/>
            <a:ext cx="8796240" cy="1208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09520" y="2316240"/>
          <a:ext cx="8683560" cy="1981080"/>
        </p:xfrm>
        <a:graphic>
          <a:graphicData uri="http://schemas.openxmlformats.org/drawingml/2006/table">
            <a:tbl>
              <a:tblPr/>
              <a:tblGrid>
                <a:gridCol w="4341960"/>
                <a:gridCol w="4341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صفات المؤمن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صفات المنافق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أمرون بالمعر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أمرون بالمن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هون عن المن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هون عن المعر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فقون في الط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لا ينفقون في الط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ذكرون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نسوا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2T17:08:17Z</dcterms:modified>
  <cp:revision>1867</cp:revision>
  <dc:subject/>
  <dc:title>عرض تقديمي في PowerPoint</dc:title>
</cp:coreProperties>
</file>