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10.png" ContentType="image/pn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D855-84D6-428E-B0CB-91F25236A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92F8-EC1F-454D-B1AE-1E9C4ECED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47E5-6B34-40AD-A34D-45391E649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69E4-37FE-474D-B250-30A2133C1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439A-46E5-478A-8F6D-CE2F29D4A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56A7-80A8-4B24-9A58-6E8E056C2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E0CC-3659-4930-9388-382EA4515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EF5C-C912-4F2A-82A4-A20D6CA39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EEAB-8FE3-49B1-A22F-592777569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84BC-2C96-47AF-854B-62A368BB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83C6-DFF2-45C2-96E2-5482FE1C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BA47-3AA4-46D3-BB5F-F8A907B9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26679-2CDA-48FA-81B8-02FB2A8AEC6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"/>
          <p:cNvPicPr/>
          <p:nvPr/>
        </p:nvPicPr>
        <p:blipFill>
          <a:blip r:embed="rId3"/>
          <a:stretch/>
        </p:blipFill>
        <p:spPr>
          <a:xfrm>
            <a:off x="304920" y="1089000"/>
            <a:ext cx="8532720" cy="5508720"/>
          </a:xfrm>
          <a:prstGeom prst="rect">
            <a:avLst/>
          </a:prstGeom>
          <a:ln w="0">
            <a:noFill/>
          </a:ln>
        </p:spPr>
      </p:pic>
      <p:sp>
        <p:nvSpPr>
          <p:cNvPr id="81" name="عنوان 1"/>
          <p:cNvSpPr/>
          <p:nvPr/>
        </p:nvSpPr>
        <p:spPr>
          <a:xfrm>
            <a:off x="3059280" y="3033720"/>
            <a:ext cx="2592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عنوان 1"/>
          <p:cNvSpPr/>
          <p:nvPr/>
        </p:nvSpPr>
        <p:spPr>
          <a:xfrm>
            <a:off x="3078000" y="3716280"/>
            <a:ext cx="2592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عنوان 1"/>
          <p:cNvSpPr/>
          <p:nvPr/>
        </p:nvSpPr>
        <p:spPr>
          <a:xfrm>
            <a:off x="3081240" y="4402080"/>
            <a:ext cx="2592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عنوان 1"/>
          <p:cNvSpPr/>
          <p:nvPr/>
        </p:nvSpPr>
        <p:spPr>
          <a:xfrm>
            <a:off x="3081240" y="5076720"/>
            <a:ext cx="2592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عنوان 1"/>
          <p:cNvSpPr/>
          <p:nvPr/>
        </p:nvSpPr>
        <p:spPr>
          <a:xfrm>
            <a:off x="3100320" y="5786280"/>
            <a:ext cx="2592360" cy="6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عنوان 1"/>
          <p:cNvSpPr/>
          <p:nvPr/>
        </p:nvSpPr>
        <p:spPr>
          <a:xfrm>
            <a:off x="439560" y="3036960"/>
            <a:ext cx="2592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غير 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عنوان 1"/>
          <p:cNvSpPr/>
          <p:nvPr/>
        </p:nvSpPr>
        <p:spPr>
          <a:xfrm>
            <a:off x="458640" y="3719520"/>
            <a:ext cx="2592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غير 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عنوان 1"/>
          <p:cNvSpPr/>
          <p:nvPr/>
        </p:nvSpPr>
        <p:spPr>
          <a:xfrm>
            <a:off x="461880" y="4405320"/>
            <a:ext cx="2592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غير 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عنوان 1"/>
          <p:cNvSpPr/>
          <p:nvPr/>
        </p:nvSpPr>
        <p:spPr>
          <a:xfrm>
            <a:off x="461880" y="5079960"/>
            <a:ext cx="2592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غير 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عنوان 1"/>
          <p:cNvSpPr/>
          <p:nvPr/>
        </p:nvSpPr>
        <p:spPr>
          <a:xfrm>
            <a:off x="480960" y="5789520"/>
            <a:ext cx="2592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غير 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3"/>
          <a:stretch/>
        </p:blipFill>
        <p:spPr>
          <a:xfrm>
            <a:off x="384120" y="1052640"/>
            <a:ext cx="8542440" cy="1388880"/>
          </a:xfrm>
          <a:prstGeom prst="rect">
            <a:avLst/>
          </a:prstGeom>
          <a:ln w="0">
            <a:noFill/>
          </a:ln>
        </p:spPr>
      </p:pic>
      <p:sp>
        <p:nvSpPr>
          <p:cNvPr id="94" name="عنوان 1"/>
          <p:cNvSpPr/>
          <p:nvPr/>
        </p:nvSpPr>
        <p:spPr>
          <a:xfrm>
            <a:off x="324000" y="2349360"/>
            <a:ext cx="856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همية الاعتراف بنعم الله والمحافظة عليه وعدم الكفر به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7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26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9360" y="1484280"/>
            <a:ext cx="85834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01" name="عنوان 1"/>
          <p:cNvSpPr/>
          <p:nvPr/>
        </p:nvSpPr>
        <p:spPr>
          <a:xfrm>
            <a:off x="324000" y="5383080"/>
            <a:ext cx="856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قرية داوود عليه السلا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3"/>
          <a:stretch/>
        </p:blipFill>
        <p:spPr>
          <a:xfrm>
            <a:off x="3492360" y="981000"/>
            <a:ext cx="5384880" cy="546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"/>
          <p:cNvPicPr/>
          <p:nvPr/>
        </p:nvPicPr>
        <p:blipFill>
          <a:blip r:embed="rId4"/>
          <a:stretch/>
        </p:blipFill>
        <p:spPr>
          <a:xfrm>
            <a:off x="3441600" y="2708280"/>
            <a:ext cx="5486400" cy="546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"/>
          <p:cNvPicPr/>
          <p:nvPr/>
        </p:nvPicPr>
        <p:blipFill>
          <a:blip r:embed="rId5"/>
          <a:stretch/>
        </p:blipFill>
        <p:spPr>
          <a:xfrm>
            <a:off x="687240" y="4221000"/>
            <a:ext cx="8240760" cy="1054440"/>
          </a:xfrm>
          <a:prstGeom prst="rect">
            <a:avLst/>
          </a:prstGeom>
          <a:ln w="0">
            <a:noFill/>
          </a:ln>
        </p:spPr>
      </p:pic>
      <p:sp>
        <p:nvSpPr>
          <p:cNvPr id="105" name="عنوان 1"/>
          <p:cNvSpPr/>
          <p:nvPr/>
        </p:nvSpPr>
        <p:spPr>
          <a:xfrm>
            <a:off x="324000" y="3284640"/>
            <a:ext cx="8569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فلح في الدنيا ولا في الاخ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عنوان 1"/>
          <p:cNvSpPr/>
          <p:nvPr/>
        </p:nvSpPr>
        <p:spPr>
          <a:xfrm>
            <a:off x="324000" y="1628640"/>
            <a:ext cx="856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آمن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سير الرزق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رسل الرسل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حليل الحلال 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جواز الأكل مما حرمه الله عند الضرورة لدفع الموت بغير ظلم ولا زيادة عن الحد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9360"/>
            <a:ext cx="914256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-73"/>
          <a:stretch/>
        </p:blipFill>
        <p:spPr>
          <a:xfrm>
            <a:off x="324000" y="1916280"/>
            <a:ext cx="8534160" cy="15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395280" y="1581120"/>
            <a:ext cx="8464680" cy="3000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05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658960" y="4581360"/>
            <a:ext cx="37846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250920" y="1065240"/>
            <a:ext cx="864216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9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553240" cy="4681440"/>
          </a:xfrm>
          <a:prstGeom prst="rect">
            <a:avLst/>
          </a:prstGeom>
          <a:ln w="0">
            <a:noFill/>
          </a:ln>
        </p:spPr>
      </p:pic>
      <p:sp>
        <p:nvSpPr>
          <p:cNvPr id="50" name="عنوان 1"/>
          <p:cNvSpPr/>
          <p:nvPr/>
        </p:nvSpPr>
        <p:spPr>
          <a:xfrm>
            <a:off x="395280" y="42530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ذبح على غير اسم الله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عنوان 1"/>
          <p:cNvSpPr/>
          <p:nvPr/>
        </p:nvSpPr>
        <p:spPr>
          <a:xfrm>
            <a:off x="395280" y="47973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حتاج إلي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"/>
          <p:cNvPicPr/>
          <p:nvPr/>
        </p:nvPicPr>
        <p:blipFill>
          <a:blip r:embed="rId3"/>
          <a:stretch/>
        </p:blipFill>
        <p:spPr>
          <a:xfrm>
            <a:off x="0" y="981000"/>
            <a:ext cx="9126360" cy="863640"/>
          </a:xfrm>
          <a:prstGeom prst="rect">
            <a:avLst/>
          </a:prstGeom>
          <a:ln w="0">
            <a:noFill/>
          </a:ln>
        </p:spPr>
      </p:pic>
      <p:sp>
        <p:nvSpPr>
          <p:cNvPr id="54" name="عنوان 1"/>
          <p:cNvSpPr/>
          <p:nvPr/>
        </p:nvSpPr>
        <p:spPr>
          <a:xfrm>
            <a:off x="324000" y="1125360"/>
            <a:ext cx="41767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عذيب الله سبحانه لمن كذب برس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395280" y="537372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غير ظال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395280" y="59151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تجاوز حد الضرو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كفر بنعم الله عز وجل وإنكار النبو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أكل من الحلال الطيب والبعد عن الخبيث المحر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فظ النعم يكون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شكر الله تعالى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66760" y="3068640"/>
            <a:ext cx="86662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يفية شكر الله تعا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اعتراف بها في القلب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ثناء على الله باللسان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صرفها في طاعة الله تعال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179280" y="4076640"/>
            <a:ext cx="86662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ميتة والدم المسفوح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448776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ا يستثنى من تحريم الميت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سمك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جرا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sp>
        <p:nvSpPr>
          <p:cNvPr id="65" name="عنوان 1"/>
          <p:cNvSpPr/>
          <p:nvPr/>
        </p:nvSpPr>
        <p:spPr>
          <a:xfrm>
            <a:off x="250920" y="5002200"/>
            <a:ext cx="8665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لحم الخنزير وشحمه وعظامه وكل الأطعمة التي فيها شيء من مكونات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50920" y="550692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خص اللحم بالذكر ما أن التحريم على كل الخنزير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على سبيل التغلي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601020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ما ذبح لغير الله تعا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أكل من المحرمات عند الضرورة لدفع الموت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جائز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تحليل والتحريم بغير دليل شرعي ظاهر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كذب على الله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266760" y="3068640"/>
            <a:ext cx="86662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قوبة الكذب على الله تعا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فلح في الدنيا ولا في الآخر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مربع نص 1"/>
          <p:cNvSpPr/>
          <p:nvPr/>
        </p:nvSpPr>
        <p:spPr>
          <a:xfrm>
            <a:off x="250920" y="1700280"/>
            <a:ext cx="86295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تحريم التحليل والتحريم بغير دليل شرعي ظاهر وحرمة الكذب على الله وأن الكاذب لا يفلح في الدنيا ولا في الاخر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3"/>
          <a:stretch/>
        </p:blipFill>
        <p:spPr>
          <a:xfrm>
            <a:off x="539640" y="1031760"/>
            <a:ext cx="8413920" cy="6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6T21:21:47Z</dcterms:modified>
  <cp:revision>1940</cp:revision>
  <dc:subject/>
  <dc:title>عرض تقديمي في PowerPoint</dc:title>
</cp:coreProperties>
</file>