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8.png" ContentType="image/png"/>
  <Override PartName="/ppt/media/image13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67B1-B0F6-462A-B50E-8C1F20881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269C-5ECC-4F90-A764-55104763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86D2-6CB1-4DB2-BBA5-D586F68F0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BC8F-4830-4C61-B921-DD9E6515A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A088-394D-49BF-9001-2BF477DA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FBA3-6325-42D5-91D4-4D10F311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092C-6A87-4A5F-A079-0D9455EF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E899-7E27-41C5-9382-728D3DD7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3793-A43C-43DE-97A3-B537883E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5D0C-3536-42A5-8B66-C92DE906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CBF8-3DB7-41E7-9BBB-BE16BF51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37BB-ED74-44EC-B8EA-BF91B997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3AE1-934B-496E-8182-4C589156FA3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79280" y="2241720"/>
            <a:ext cx="86407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هذه ثمار الإعراض عن الله وهي نار جهنم وبئس المصي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3"/>
          <a:stretch/>
        </p:blipFill>
        <p:spPr>
          <a:xfrm>
            <a:off x="324000" y="836640"/>
            <a:ext cx="856908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8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168120" y="1434960"/>
            <a:ext cx="8651880" cy="18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345960" y="907920"/>
            <a:ext cx="8547120" cy="1225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4"/>
          <a:stretch/>
        </p:blipFill>
        <p:spPr>
          <a:xfrm>
            <a:off x="1274760" y="3141720"/>
            <a:ext cx="7618320" cy="647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5"/>
          <a:stretch/>
        </p:blipFill>
        <p:spPr>
          <a:xfrm>
            <a:off x="1833480" y="4665600"/>
            <a:ext cx="7059600" cy="63504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324000" y="3720960"/>
            <a:ext cx="856908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مؤمن يوفق في الإجابة وينعم في قبر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أن الكافر يخذل ويتردد في الإجابة ويعذب في قبر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324000" y="2060640"/>
            <a:ext cx="856908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ي أن الإيمان قول باللسان وعمل بالجوارح واعتقاد بالقل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أن درجات الإيمان تزيد بعمل الطاعات لله وتنقص بعمل المعاص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6"/>
          <a:stretch/>
        </p:blipFill>
        <p:spPr>
          <a:xfrm>
            <a:off x="5425920" y="5373720"/>
            <a:ext cx="339408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60256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8351640" cy="3097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2836800" y="4830840"/>
            <a:ext cx="360684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179280" y="833400"/>
            <a:ext cx="8713800" cy="5835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72072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2843280" y="958680"/>
            <a:ext cx="45162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مية الكلمة الطيبة وقبح الكلمة القبيح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324000" y="1728720"/>
            <a:ext cx="8569080" cy="486900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395280" y="421812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هي لا إله إلا 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483408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كلمة الك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541008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alibri"/>
              </a:rPr>
              <a:t>استؤصلت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986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ثبا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فضل كلمة التوحي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 لا نجاة لأحد إلا 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0680" y="2781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فوائد ضرب الأمثا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 وسيلة من وسائل الإقناع والإفه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89000" y="21337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خبث كلمة الكف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ا تهلك صاحبها وتورده النا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179280" y="32846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ثمار كلمة التوحيد العملي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خلاص لله وطاعته واتباع رسوله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0680" y="4491000"/>
            <a:ext cx="86662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ي تثبيت الله تعالى أهل الإيمان وخذلان أهل الكفر والنفاق إشارة إ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عدله مع الكفار ورحمته بالمؤمن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89000" y="3843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شبه ثمار كلمة التوحي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شجرة الطيبة التي لها ثمرات يانع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5229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نعيم القبر وعذاب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8" name="عنوان 1"/>
          <p:cNvSpPr/>
          <p:nvPr/>
        </p:nvSpPr>
        <p:spPr>
          <a:xfrm>
            <a:off x="179280" y="1522440"/>
            <a:ext cx="864072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ثمار اليانع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869184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179280" y="1522440"/>
            <a:ext cx="8640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ثمار الخبيث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3"/>
          <a:stretch/>
        </p:blipFill>
        <p:spPr>
          <a:xfrm>
            <a:off x="82440" y="907920"/>
            <a:ext cx="897732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7T07:17:27Z</dcterms:modified>
  <cp:revision>1828</cp:revision>
  <dc:subject/>
  <dc:title>عرض تقديمي في PowerPoint</dc:title>
</cp:coreProperties>
</file>