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2.png" ContentType="image/png"/>
  <Override PartName="/ppt/media/image20.png" ContentType="image/png"/>
  <Override PartName="/ppt/media/image2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ED34-5467-436A-81E1-51963BB3B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A8B5-291E-4409-98E2-5943482A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37C5-EF49-41E4-AA9D-E0880A63F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36E3-2490-43B1-BBE2-13D697FDC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06A2-D6F5-447E-99FF-471ED605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2B81-ADA4-4ED6-8842-991C17ED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2A0D-CA40-4ACC-AAFA-29D932DE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FA0C-82D1-4891-B4D2-A7A1C28A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6FF6-680A-4117-B9E2-A561D6A3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F447-AE92-4F0A-AC8E-003095AF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30C7-41ED-4BC7-88A8-1170197D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F8E6-DBDE-45B6-BC58-71B37ECE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4278-BA17-4D20-896E-7AB50A90C3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66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24000" y="1450800"/>
            <a:ext cx="84960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181080" y="1916280"/>
            <a:ext cx="86914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جن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1" descr=""/>
          <p:cNvPicPr/>
          <p:nvPr/>
        </p:nvPicPr>
        <p:blipFill>
          <a:blip r:embed="rId3"/>
          <a:stretch/>
        </p:blipFill>
        <p:spPr>
          <a:xfrm>
            <a:off x="3041640" y="981000"/>
            <a:ext cx="5803920" cy="546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/>
          <p:cNvPicPr/>
          <p:nvPr/>
        </p:nvPicPr>
        <p:blipFill>
          <a:blip r:embed="rId4"/>
          <a:stretch/>
        </p:blipFill>
        <p:spPr>
          <a:xfrm>
            <a:off x="1251000" y="2708280"/>
            <a:ext cx="7620120" cy="981000"/>
          </a:xfrm>
          <a:prstGeom prst="rect">
            <a:avLst/>
          </a:prstGeom>
          <a:ln w="0">
            <a:noFill/>
          </a:ln>
        </p:spPr>
      </p:pic>
      <p:sp>
        <p:nvSpPr>
          <p:cNvPr id="95" name="عنوان 1"/>
          <p:cNvSpPr/>
          <p:nvPr/>
        </p:nvSpPr>
        <p:spPr>
          <a:xfrm>
            <a:off x="179280" y="3933720"/>
            <a:ext cx="86918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ل الجن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يعود إلى : الإيمان والعمل الصال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34"/>
          <a:stretch/>
        </p:blipFill>
        <p:spPr>
          <a:xfrm>
            <a:off x="250920" y="692280"/>
            <a:ext cx="864216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-7920" y="0"/>
            <a:ext cx="9151920" cy="1266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86421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250920" y="782640"/>
            <a:ext cx="864216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2"/>
          <a:stretch/>
        </p:blipFill>
        <p:spPr>
          <a:xfrm>
            <a:off x="250920" y="888840"/>
            <a:ext cx="8767800" cy="117180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611280" y="1197000"/>
            <a:ext cx="384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مل أهل الجنة وعمل أهل الن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250920" y="2278080"/>
            <a:ext cx="8637480" cy="439092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366840" y="530064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أذهبنا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24000" y="602136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حقد ٍ وضغنٍ وعداوة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1484280"/>
            <a:ext cx="86659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الجزاء من جنس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م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27160" y="213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له لا يقبل عمل الكافر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60280" y="335772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جنة حرام على كل كافر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20680" y="4653000"/>
            <a:ext cx="8666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قوله تعالى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                   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هو من باب تعليق الشيء بـ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حال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"/>
          <p:cNvPicPr/>
          <p:nvPr/>
        </p:nvPicPr>
        <p:blipFill>
          <a:blip r:embed="rId2"/>
          <a:stretch/>
        </p:blipFill>
        <p:spPr>
          <a:xfrm>
            <a:off x="2801880" y="2583000"/>
            <a:ext cx="6147000" cy="531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"/>
          <p:cNvPicPr/>
          <p:nvPr/>
        </p:nvPicPr>
        <p:blipFill>
          <a:blip r:embed="rId3"/>
          <a:stretch/>
        </p:blipFill>
        <p:spPr>
          <a:xfrm>
            <a:off x="1979640" y="3840120"/>
            <a:ext cx="6856560" cy="519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2" descr=""/>
          <p:cNvPicPr/>
          <p:nvPr/>
        </p:nvPicPr>
        <p:blipFill>
          <a:blip r:embed="rId4"/>
          <a:stretch/>
        </p:blipFill>
        <p:spPr>
          <a:xfrm>
            <a:off x="1476360" y="4683240"/>
            <a:ext cx="6138720" cy="414360"/>
          </a:xfrm>
          <a:prstGeom prst="rect">
            <a:avLst/>
          </a:prstGeom>
          <a:ln w="0">
            <a:noFill/>
          </a:ln>
        </p:spPr>
      </p:pic>
      <p:sp>
        <p:nvSpPr>
          <p:cNvPr id="63" name="عنوان 1"/>
          <p:cNvSpPr/>
          <p:nvPr/>
        </p:nvSpPr>
        <p:spPr>
          <a:xfrm>
            <a:off x="200160" y="5589720"/>
            <a:ext cx="8665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الآي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ما أنه من المحال دخول الجمل في سم الخياط فكذلك المكذبون بآيات الله محال دخولهم الج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6205680"/>
            <a:ext cx="86659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كليف يكون على قد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استطاع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1484280"/>
            <a:ext cx="86659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نعم الله على أهل الجن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ينزع ما في قلوبهم من الحقد فلا يحسد بعضهم بعضاً على تفاضل منازلهم في الج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23385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جنة لا تُدخل إلا باجتماع أمرين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18"/>
          <p:cNvSpPr/>
          <p:nvPr/>
        </p:nvSpPr>
        <p:spPr>
          <a:xfrm flipH="1">
            <a:off x="4571640" y="269892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رابط مستقيم 19"/>
          <p:cNvSpPr/>
          <p:nvPr/>
        </p:nvSpPr>
        <p:spPr>
          <a:xfrm flipH="1">
            <a:off x="4566960" y="29559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20"/>
          <p:cNvCxnSpPr/>
          <p:nvPr/>
        </p:nvCxnSpPr>
        <p:spPr>
          <a:xfrm flipH="1">
            <a:off x="8456040" y="38512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250920" y="3635280"/>
            <a:ext cx="8208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عمل الصالح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رابط مستقيم 29"/>
          <p:cNvSpPr/>
          <p:nvPr/>
        </p:nvSpPr>
        <p:spPr>
          <a:xfrm>
            <a:off x="8820000" y="2949480"/>
            <a:ext cx="0" cy="9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30"/>
          <p:cNvCxnSpPr/>
          <p:nvPr/>
        </p:nvCxnSpPr>
        <p:spPr>
          <a:xfrm flipH="1">
            <a:off x="8456040" y="32745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324000" y="3081240"/>
            <a:ext cx="8135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فضل  الله ورحمته وتوفيق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4221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ه لا يدخل أحد الجنة إلا برحمة الله تعالى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</a:t>
            </a:r>
            <a:r>
              <a:rPr b="1" lang="en-US" sz="21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50920" y="59500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هداية بيد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2711520" y="4683240"/>
            <a:ext cx="6108480" cy="112212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27160" y="638172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سباب  الهداية بيد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بد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"/>
          <p:cNvPicPr/>
          <p:nvPr/>
        </p:nvPicPr>
        <p:blipFill>
          <a:blip r:embed="rId1"/>
          <a:stretch/>
        </p:blipFill>
        <p:spPr>
          <a:xfrm>
            <a:off x="262080" y="1052640"/>
            <a:ext cx="8557920" cy="5761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4"/>
          <a:stretch/>
        </p:blipFill>
        <p:spPr>
          <a:xfrm>
            <a:off x="262080" y="3708360"/>
            <a:ext cx="5068800" cy="698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"/>
          <p:cNvPicPr/>
          <p:nvPr/>
        </p:nvPicPr>
        <p:blipFill>
          <a:blip r:embed="rId5"/>
          <a:stretch/>
        </p:blipFill>
        <p:spPr>
          <a:xfrm>
            <a:off x="2003400" y="4869000"/>
            <a:ext cx="3327480" cy="609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"/>
          <p:cNvPicPr/>
          <p:nvPr/>
        </p:nvPicPr>
        <p:blipFill>
          <a:blip r:embed="rId6"/>
          <a:stretch/>
        </p:blipFill>
        <p:spPr>
          <a:xfrm>
            <a:off x="1270080" y="5877000"/>
            <a:ext cx="40640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