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67E-CC86-42EA-9FF5-1832F0E8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6786-8DA5-4020-B30D-B488FEEB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F8D2-DF69-45EA-9642-DED6AA8D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84E-BC98-4F02-B212-7B62070C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AF59-74E8-417F-AC1B-FDEB7622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E2B-5B6F-436F-BBA7-76442929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24B8-8689-447F-8BF9-D105E867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91E4-05FA-44C3-B7BF-80B1D586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E31E-C18C-4A7B-940B-87E57487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B2D-D3C0-4CD1-A26F-3B126C1E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BC5-DEC9-4203-ACF2-E8EE5EF1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EE4-3638-44C1-8BAC-8F9433FC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99ED-5C20-4D1F-8656-147BC1631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95120" y="2185920"/>
            <a:ext cx="87537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374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يوسف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سم يوسف عليه السلا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معظم السورة تتحدث عن قصت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يوسف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1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يوسف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هو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عقيدة التوح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128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قصة يوسف عليه ال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هداف وغايات القصص القرآن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1139760" y="1438200"/>
            <a:ext cx="766944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0T05:11:03Z</dcterms:modified>
  <cp:revision>1802</cp:revision>
  <dc:subject/>
  <dc:title>عرض تقديمي في PowerPoint</dc:title>
</cp:coreProperties>
</file>