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CBD-A486-4562-B902-FB569D94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33E-0FB6-425D-8550-E1072BCA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4E3-67FA-4DCF-913C-5558B78A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9D2-E452-4B67-9DCB-B3F591CE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31F-96EC-431F-83DC-192D90F6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6C4-2534-43C3-BBFF-E0941912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B6D-8EB8-42F5-807B-28AA212F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5A6-E7C6-45B4-9865-4E72775C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E7D-AE88-4B3B-A9E8-FF3021F7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AC2-97CD-476B-B3B7-B112A9FB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8C1-B20C-43BA-A115-D1A4117B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0F7-C5B1-4664-87E3-8C463C57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C3BD-35F2-43C1-B3BF-022A776A4B4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2360" y="1179360"/>
            <a:ext cx="86392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2200" y="1844640"/>
            <a:ext cx="857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64960" y="1557360"/>
            <a:ext cx="8666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إسراء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ذكرت حادثة الإسراء بالنبي صلى الله عليه وسلم من المسجد الحرام إلى المسجد الأقص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99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سراء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قص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14200" y="2421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ر ب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5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الرسول صلى الله عليه وسلم في قصة الإس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شيء من الواجبات والمنهيات في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د على المشرك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قدرة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cxnSp>
        <p:nvCxnSpPr>
          <p:cNvPr id="67" name="رابط كسهم مستقيم 27"/>
          <p:cNvCxnSpPr/>
          <p:nvPr/>
        </p:nvCxnSpPr>
        <p:spPr>
          <a:xfrm flipH="1">
            <a:off x="8456040" y="4198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50920" y="3965400"/>
            <a:ext cx="820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تعنت الكفار مع النبي صلى الله عليه وسلم وتوجيه الرسول صلى الله عليه وسلم إلى كيفية الرد علي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0920" y="1467000"/>
            <a:ext cx="86421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42:56Z</dcterms:modified>
  <cp:revision>1827</cp:revision>
  <dc:subject/>
  <dc:title>عرض تقديمي في PowerPoint</dc:title>
</cp:coreProperties>
</file>