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C82-F018-4D8D-A2DF-297CEB56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F5DE-12CE-45CB-97BF-731F70DB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211-56CA-4AF8-81A6-A7B12068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A185-4E3A-49F5-A82B-38BBC655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F0D7-6B83-4E3D-A389-7AE19B8B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EF0F-8D7F-4207-807E-7B8A112E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7A9D-73A3-4D09-ABAF-55362BDC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C51E-4B84-4CA5-955E-0CBDC8B8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B9F-C7B8-47C9-8697-60F36585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5E81-5DCE-4B95-A110-8A7BF791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43C-2D42-4E7A-AFB0-381D8F60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A30B-5D5E-4CB5-B389-F22F8791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8374-8926-49E7-A01C-3FFFE6031EA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8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64072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مربع نص 1"/>
          <p:cNvSpPr/>
          <p:nvPr/>
        </p:nvSpPr>
        <p:spPr>
          <a:xfrm>
            <a:off x="4211640" y="1844640"/>
            <a:ext cx="4105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عد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مربع نص 11"/>
          <p:cNvSpPr/>
          <p:nvPr/>
        </p:nvSpPr>
        <p:spPr>
          <a:xfrm>
            <a:off x="4211640" y="2565360"/>
            <a:ext cx="4105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إيتاي ذى القرب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مربع نص 13"/>
          <p:cNvSpPr/>
          <p:nvPr/>
        </p:nvSpPr>
        <p:spPr>
          <a:xfrm>
            <a:off x="179280" y="1844640"/>
            <a:ext cx="316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إح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مربع نص 14"/>
          <p:cNvSpPr/>
          <p:nvPr/>
        </p:nvSpPr>
        <p:spPr>
          <a:xfrm>
            <a:off x="179280" y="256536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</a:rPr>
              <a:t>الوفاء بالعه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21640" cy="568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4"/>
          <a:stretch/>
        </p:blipFill>
        <p:spPr>
          <a:xfrm>
            <a:off x="395280" y="2565360"/>
            <a:ext cx="453708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5"/>
          <a:stretch/>
        </p:blipFill>
        <p:spPr>
          <a:xfrm>
            <a:off x="250920" y="4221000"/>
            <a:ext cx="4734000" cy="107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6"/>
          <a:stretch/>
        </p:blipFill>
        <p:spPr>
          <a:xfrm>
            <a:off x="250920" y="5546880"/>
            <a:ext cx="4778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184464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حش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ن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بغ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نقض الأيم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882960" y="981000"/>
            <a:ext cx="51357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525680"/>
            <a:ext cx="87138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4" descr=""/>
          <p:cNvPicPr/>
          <p:nvPr/>
        </p:nvPicPr>
        <p:blipFill>
          <a:blip r:embed="rId1"/>
          <a:stretch/>
        </p:blipFill>
        <p:spPr>
          <a:xfrm>
            <a:off x="388800" y="4508640"/>
            <a:ext cx="852012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250920" y="2133720"/>
            <a:ext cx="8569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ا جمعت الخير والش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" descr=""/>
          <p:cNvPicPr/>
          <p:nvPr/>
        </p:nvPicPr>
        <p:blipFill>
          <a:blip r:embed="rId4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5"/>
          <a:stretch/>
        </p:blipFill>
        <p:spPr>
          <a:xfrm>
            <a:off x="388800" y="2708280"/>
            <a:ext cx="8533080" cy="124452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324000" y="393372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نهي عن الحلف وكثرته وعدم الوفاء بما حلف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324000" y="5661000"/>
            <a:ext cx="85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أراد الله لجعل الناس كلهم مؤمنين ولكنه لحكمة ارادها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2" descr=""/>
          <p:cNvPicPr/>
          <p:nvPr/>
        </p:nvPicPr>
        <p:blipFill>
          <a:blip r:embed="rId3"/>
          <a:stretch/>
        </p:blipFill>
        <p:spPr>
          <a:xfrm>
            <a:off x="716040" y="981000"/>
            <a:ext cx="8177040" cy="118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"/>
          <p:cNvPicPr/>
          <p:nvPr/>
        </p:nvPicPr>
        <p:blipFill>
          <a:blip r:embed="rId4"/>
          <a:stretch/>
        </p:blipFill>
        <p:spPr>
          <a:xfrm>
            <a:off x="388800" y="3287880"/>
            <a:ext cx="8533080" cy="1244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"/>
          <p:cNvPicPr/>
          <p:nvPr/>
        </p:nvPicPr>
        <p:blipFill>
          <a:blip r:embed="rId5"/>
          <a:stretch/>
        </p:blipFill>
        <p:spPr>
          <a:xfrm>
            <a:off x="388800" y="5018040"/>
            <a:ext cx="8520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21"/>
          <a:stretch/>
        </p:blipFill>
        <p:spPr>
          <a:xfrm>
            <a:off x="324000" y="1268280"/>
            <a:ext cx="8534160" cy="31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82320" cy="141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4581360"/>
            <a:ext cx="350532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63440" y="981000"/>
            <a:ext cx="88012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50920" y="2054160"/>
            <a:ext cx="864216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354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2"/>
          <a:stretch/>
        </p:blipFill>
        <p:spPr>
          <a:xfrm>
            <a:off x="4680" y="907920"/>
            <a:ext cx="9139320" cy="86544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179280" y="981000"/>
            <a:ext cx="432144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كارم الأخل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259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ز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8690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كفر و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ال ابن مسعود : إن أجمع آية في القرآ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98440" y="2060640"/>
            <a:ext cx="8666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دل والإحسان وإعطاء ذوي القربى حقوقهم الواجبة من البر والصل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7040" y="2565360"/>
            <a:ext cx="86662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زنا واللواط وكل قبيح من الفواحش الظاهرة والباطنة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66760" y="3068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35719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بغ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ظلم بجميع صوره وأشكا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076640"/>
            <a:ext cx="86662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وفاء ب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4487760"/>
            <a:ext cx="86659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ع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991040"/>
            <a:ext cx="8665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نقض الأيمان بعد توكيد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2"/>
          <a:stretch/>
        </p:blipFill>
        <p:spPr>
          <a:xfrm>
            <a:off x="550800" y="1579680"/>
            <a:ext cx="3116160" cy="47916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5445000"/>
            <a:ext cx="8666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الله تعالى من ينقض العه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ن تغزل غزلاً قوياً فإذا استحكم وتم ما أريد منه نقضته فتعبت على الغزل ثم على النقض فكذلك من نقض ما عاهد عليه فهو ظالم ناقص الدين والعق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عل الله الناس مختلفين على أصناف شت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ى يتبين أهل الإيمان من أهل الكف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2063880"/>
            <a:ext cx="866592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دل الله تعالى في حساب كل إنسا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يحاسب كل إنسان عن عم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2T22:20:54Z</dcterms:modified>
  <cp:revision>1908</cp:revision>
  <dc:subject/>
  <dc:title>عرض تقديمي في PowerPoint</dc:title>
</cp:coreProperties>
</file>