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5E64-69B8-4B46-9A2E-A07670DF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F56-3422-4100-9FF0-D15E9836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26A8-20B2-4BE6-8125-7F83DE40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E5A-EED7-4914-8937-907E1553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120-A0F8-4CD5-9AE2-6FE3B56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8B48-134F-4E47-BF98-F8CF7A37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2977-73AB-41CA-8BE3-B6BBCB58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B92-496F-47EF-9D30-D0FC946D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383D-DA8C-4CB1-802A-B5AB2B81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CF5-C344-406B-9182-DF652F33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C337-F7DE-4E31-BD1E-0B6BCEB8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3883-9C42-482C-80D4-13EE2A39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D7FF-BB73-40A4-8FD6-261CFB103A7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9360"/>
            <a:ext cx="91425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1262160"/>
            <a:ext cx="85341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57320" y="1844640"/>
            <a:ext cx="87357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06280" y="27766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النحل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8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6280" y="3357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مسميات 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سورة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نح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3860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</a:t>
            </a:r>
            <a:r>
              <a:rPr b="1" lang="ar-SA" sz="25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نحل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سورة النع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ما ذكر الله فيها من النع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آيات الخلق وآيات النعم وآيات التدب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رابط مستقيم 19"/>
          <p:cNvSpPr/>
          <p:nvPr/>
        </p:nvSpPr>
        <p:spPr>
          <a:xfrm>
            <a:off x="8820000" y="1662120"/>
            <a:ext cx="0" cy="254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عالجة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مستكبرين ومواقف المتق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يفة الرس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حكام الردة والإكراه على الكف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cxnSp>
        <p:nvCxnSpPr>
          <p:cNvPr id="68" name="رابط كسهم مستقيم 28"/>
          <p:cNvCxnSpPr/>
          <p:nvPr/>
        </p:nvCxnSpPr>
        <p:spPr>
          <a:xfrm flipH="1">
            <a:off x="8456040" y="42066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عنوان 1"/>
          <p:cNvSpPr/>
          <p:nvPr/>
        </p:nvSpPr>
        <p:spPr>
          <a:xfrm>
            <a:off x="250920" y="39736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خطورة جحود النع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798040" cy="5213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82320" cy="992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1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8-01T23:24:42Z</dcterms:modified>
  <cp:revision>1824</cp:revision>
  <dc:subject/>
  <dc:title>عرض تقديمي في PowerPoint</dc:title>
</cp:coreProperties>
</file>