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8B2-4A42-4453-B201-EE2F42CD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571-55E9-481E-A0F2-3529F94C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0187-2A09-4B58-9815-AAEEF234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789-4D73-4636-8C4C-B579B828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362-F908-46B8-ACC2-0B9AC682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24A-338E-4AFD-BBCF-DEAF536E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50B-AF4B-40EB-98A2-5E0E9442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045-E3BB-46E4-9999-BCFF5544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021F-DCBD-4066-AE1D-16052456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DE7F-14F5-4D75-B7D0-196EA1D9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30C-501D-4AD6-BD50-175BBC48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13A-65C1-4EC8-8322-4DFFAA11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4523-0828-4C4F-9567-A4B7630DC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4265640"/>
            <a:ext cx="85690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عتراف بها في 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ثناء على الله بالل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مل بالجوارح بما يرضي المنع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816300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3917880" y="3716280"/>
            <a:ext cx="5016600" cy="596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2637000"/>
            <a:ext cx="8569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كل ما أنزله الله لعباده حلالاً إلا ما حرم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2924280"/>
            <a:ext cx="8136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653000"/>
            <a:ext cx="347976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239760" y="1712880"/>
            <a:ext cx="8786880" cy="4884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-9360" y="92376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5222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دني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1015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زلة القرآن الكري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5799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سلام و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805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كذبون ع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قرآن وعظمته لما يحمله من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واعظ والهدى والرحمة والشفا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في علاج أمراض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لوب من الشبهات والشهو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وجيه الدعاة والمصلحين والمربين إلى الاستناد في الإصلاح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تاب والس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مة الاستقامة والإيمان وفهم القرآن والعمل به أعظم من النع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نيوية قاط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تفع بمواعظ القرآن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 الذي يبحث عن الحق ويلتزمه إذا عرف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شريع والتحليل والتحريم ح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ديم  رأي أي أحد على حكم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افتراء الكذب على الله وصاحبه مستحق ل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3"/>
          <a:stretch/>
        </p:blipFill>
        <p:spPr>
          <a:xfrm>
            <a:off x="295200" y="981000"/>
            <a:ext cx="8658360" cy="666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حموم هو : بدين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ذموم هو : على المعاصي والمحرم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214200" y="1557360"/>
            <a:ext cx="862488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30:02Z</dcterms:modified>
  <cp:revision>1969</cp:revision>
  <dc:subject/>
  <dc:title>عرض تقديمي في PowerPoint</dc:title>
</cp:coreProperties>
</file>