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DB89-A49D-4EC4-989B-0AA37615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5EA2-06FB-43A2-BAF5-1119F783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AF3E-9931-4C61-A5F2-0F2F4A61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9F2F-DD09-4BA7-97FA-DE0D67FF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6F15-F656-4558-8D6C-25E6C95F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70D-B53B-4DDB-824C-EB411F36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2D57-89FB-4027-B18B-6760EE88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324A-9C83-4B99-94E1-FF5CBE01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23EE-0999-42AA-AB94-D8DC5154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978C-984B-4686-A0D6-DC21EB04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DCDB-E7BC-4989-90CA-AE53E225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C3A6-6D75-43C5-9B32-B9ED4C7E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8299-5438-4EE3-8344-4C2D02352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6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450800"/>
            <a:ext cx="84960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181080" y="1916280"/>
            <a:ext cx="8691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جن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3"/>
          <a:stretch/>
        </p:blipFill>
        <p:spPr>
          <a:xfrm>
            <a:off x="3041640" y="981000"/>
            <a:ext cx="5803920" cy="546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1251000" y="2708280"/>
            <a:ext cx="7620120" cy="98100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179280" y="3933720"/>
            <a:ext cx="86918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ل الج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عود إلى : الإيمان والعمل الصال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4"/>
          <a:stretch/>
        </p:blipFill>
        <p:spPr>
          <a:xfrm>
            <a:off x="250920" y="692280"/>
            <a:ext cx="864216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-7920" y="0"/>
            <a:ext cx="915192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86421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50920" y="782640"/>
            <a:ext cx="864216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250920" y="888840"/>
            <a:ext cx="8767800" cy="117180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611280" y="1197000"/>
            <a:ext cx="384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مل أهل الجنة وعمل أهل الن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50920" y="2278080"/>
            <a:ext cx="8637480" cy="43909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366840" y="530064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ذهبنا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24000" y="602136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حقد ٍ وضغنٍ وعداوة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جزاء من جنس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له لا يقبل عمل الكافر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60280" y="335772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جنة حرام على كل كافر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20680" y="465300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و من باب تعليق الشيء بـ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حال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"/>
          <p:cNvPicPr/>
          <p:nvPr/>
        </p:nvPicPr>
        <p:blipFill>
          <a:blip r:embed="rId2"/>
          <a:stretch/>
        </p:blipFill>
        <p:spPr>
          <a:xfrm>
            <a:off x="2801880" y="2583000"/>
            <a:ext cx="6147000" cy="531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"/>
          <p:cNvPicPr/>
          <p:nvPr/>
        </p:nvPicPr>
        <p:blipFill>
          <a:blip r:embed="rId3"/>
          <a:stretch/>
        </p:blipFill>
        <p:spPr>
          <a:xfrm>
            <a:off x="1979640" y="3840120"/>
            <a:ext cx="6856560" cy="519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"/>
          <p:cNvPicPr/>
          <p:nvPr/>
        </p:nvPicPr>
        <p:blipFill>
          <a:blip r:embed="rId4"/>
          <a:stretch/>
        </p:blipFill>
        <p:spPr>
          <a:xfrm>
            <a:off x="1476360" y="4683240"/>
            <a:ext cx="6138720" cy="414360"/>
          </a:xfrm>
          <a:prstGeom prst="rect">
            <a:avLst/>
          </a:prstGeom>
          <a:ln w="0">
            <a:noFill/>
          </a:ln>
        </p:spPr>
      </p:pic>
      <p:sp>
        <p:nvSpPr>
          <p:cNvPr id="63" name="عنوان 1"/>
          <p:cNvSpPr/>
          <p:nvPr/>
        </p:nvSpPr>
        <p:spPr>
          <a:xfrm>
            <a:off x="200160" y="558972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آ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 أنه من المحال دخول الجمل في سم الخياط فكذلك المكذبون بآيات الله محال دخولهم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620568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كليف يكون على ق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ستطا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1484280"/>
            <a:ext cx="8665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نعم الله على أهل الجن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ينزع ما في قلوبهم من الحقد فلا يحسد بعضهم بعضاً على تفاضل منازلهم في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2338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نة لا تُدخل إلا باجتماع أمرين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8"/>
          <p:cNvSpPr/>
          <p:nvPr/>
        </p:nvSpPr>
        <p:spPr>
          <a:xfrm flipH="1">
            <a:off x="4571640" y="269892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19"/>
          <p:cNvSpPr/>
          <p:nvPr/>
        </p:nvSpPr>
        <p:spPr>
          <a:xfrm flipH="1">
            <a:off x="4566960" y="29559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20"/>
          <p:cNvCxnSpPr/>
          <p:nvPr/>
        </p:nvCxnSpPr>
        <p:spPr>
          <a:xfrm flipH="1">
            <a:off x="8456040" y="38512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3635280"/>
            <a:ext cx="820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عمل الصالح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29"/>
          <p:cNvSpPr/>
          <p:nvPr/>
        </p:nvSpPr>
        <p:spPr>
          <a:xfrm>
            <a:off x="8820000" y="2949480"/>
            <a:ext cx="0" cy="9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0"/>
          <p:cNvCxnSpPr/>
          <p:nvPr/>
        </p:nvCxnSpPr>
        <p:spPr>
          <a:xfrm flipH="1">
            <a:off x="8456040" y="3274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3081240"/>
            <a:ext cx="813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ل  الله ورحمته وتوفيق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4221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ه لا يدخل أحد الجنة إلا برحمة الله تعالى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</a:t>
            </a:r>
            <a:r>
              <a:rPr b="1" lang="en-US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5950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2711520" y="4683240"/>
            <a:ext cx="6108480" cy="112212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6381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باب  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"/>
          <p:cNvPicPr/>
          <p:nvPr/>
        </p:nvPicPr>
        <p:blipFill>
          <a:blip r:embed="rId1"/>
          <a:stretch/>
        </p:blipFill>
        <p:spPr>
          <a:xfrm>
            <a:off x="262080" y="1052640"/>
            <a:ext cx="8557920" cy="576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4"/>
          <a:stretch/>
        </p:blipFill>
        <p:spPr>
          <a:xfrm>
            <a:off x="262080" y="3708360"/>
            <a:ext cx="5068800" cy="698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5"/>
          <a:stretch/>
        </p:blipFill>
        <p:spPr>
          <a:xfrm>
            <a:off x="2003400" y="4869000"/>
            <a:ext cx="3327480" cy="609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/>
          <p:cNvPicPr/>
          <p:nvPr/>
        </p:nvPicPr>
        <p:blipFill>
          <a:blip r:embed="rId6"/>
          <a:stretch/>
        </p:blipFill>
        <p:spPr>
          <a:xfrm>
            <a:off x="1270080" y="5877000"/>
            <a:ext cx="4064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