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591E-0643-488C-B6A1-E3D3C473D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2C6B-E6B9-4157-B05A-3D7FB909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6F62-F659-44C6-901B-06BA4C72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69BD-F7B6-4C8E-8D9A-ED435F58A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6F6F-9BF5-4B7F-8460-E7644375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0DF9-32B2-41A2-8AAA-8BA0389E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CB1C-7CF9-42E3-9AD7-FBD81B20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69D4-61C8-476A-BDBE-76340CA7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410F-7BC3-453E-90DE-93BFE6B7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736A-1858-44E9-B2E9-3EA62C0C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9E20-AF9B-4563-955A-B055B22A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C37A-098E-44D2-9AE5-6B183FFC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C970-9802-418A-9E52-6C0AFEA7868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3"/>
          <a:stretch/>
        </p:blipFill>
        <p:spPr>
          <a:xfrm>
            <a:off x="260280" y="1125360"/>
            <a:ext cx="8621640" cy="532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4"/>
          <a:stretch/>
        </p:blipFill>
        <p:spPr>
          <a:xfrm>
            <a:off x="2944800" y="3503520"/>
            <a:ext cx="2209680" cy="660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5"/>
          <a:stretch/>
        </p:blipFill>
        <p:spPr>
          <a:xfrm>
            <a:off x="239760" y="4437000"/>
            <a:ext cx="4924440" cy="792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"/>
          <p:cNvPicPr/>
          <p:nvPr/>
        </p:nvPicPr>
        <p:blipFill>
          <a:blip r:embed="rId6"/>
          <a:stretch/>
        </p:blipFill>
        <p:spPr>
          <a:xfrm>
            <a:off x="239760" y="5373720"/>
            <a:ext cx="49147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2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468360" y="1549440"/>
            <a:ext cx="8351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324000" y="574344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كافر إذا رأى أن المؤمن قد عاهد ثم غدر به لم يبق له وثوق بالدين وقد يصده ذلك عن الدخول في الإ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1933560" y="981000"/>
            <a:ext cx="6970680" cy="622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2936880" y="2662200"/>
            <a:ext cx="5956200" cy="546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5"/>
          <a:stretch/>
        </p:blipFill>
        <p:spPr>
          <a:xfrm>
            <a:off x="434880" y="4653000"/>
            <a:ext cx="8494920" cy="114300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324000" y="3141720"/>
            <a:ext cx="8569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صب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مل الصالحا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يمان ب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324000" y="1701720"/>
            <a:ext cx="85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كافر إذا رأى أن المؤمن قد عاهد ثم غدر به لم يبق له وثوق بالدين وقد يصده ذلك عن الدخول في الإ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32"/>
          <a:stretch/>
        </p:blipFill>
        <p:spPr>
          <a:xfrm>
            <a:off x="324000" y="1484280"/>
            <a:ext cx="853416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33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87640" y="4565520"/>
            <a:ext cx="346716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مربع نص 1"/>
          <p:cNvSpPr/>
          <p:nvPr/>
        </p:nvSpPr>
        <p:spPr>
          <a:xfrm>
            <a:off x="250920" y="1844640"/>
            <a:ext cx="8645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أمر الله تعالى بمكارم الأخلاق ونهى عن كل قبيح ومنها في هذه الآيات تحريم الأيمان الكاذب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455760" y="981000"/>
            <a:ext cx="84405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79280" y="1066680"/>
            <a:ext cx="878544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324000" y="2481120"/>
            <a:ext cx="8496000" cy="4116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2"/>
          <a:stretch/>
        </p:blipFill>
        <p:spPr>
          <a:xfrm>
            <a:off x="324000" y="969840"/>
            <a:ext cx="8662680" cy="129564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395280" y="5267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آ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915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فن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58" name="مستطيل 1"/>
          <p:cNvSpPr/>
          <p:nvPr/>
        </p:nvSpPr>
        <p:spPr>
          <a:xfrm>
            <a:off x="8604360" y="1773360"/>
            <a:ext cx="38232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خداع الناس بالأيمان الكاذبة وغيره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زاء الأيمان الكاذب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ؤدي إلى هلاك صاحبها في الدنيا والآ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سبب الأيمان الكاذبة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د عن سبيل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66760" y="3068640"/>
            <a:ext cx="8666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أيمان الكاذبة تسبب الصد عن سبيل الل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كافر إذا رأى أن المؤمنين قد عاهده ثم غدر به لم يبق له وثوق بالدين وقد يصده ذلك عن الدخول في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407664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فريط في دين الله عز وجل لمصالح دنيوية زائل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ذر منه الشر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487760"/>
            <a:ext cx="8665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تعظيم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ظيم الإقسام به وعدم الحنث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4991040"/>
            <a:ext cx="86659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زاء الله تعالى للصابرين المتمسكين بدينهم وعهدهم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زاء حس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0" name="مربع نص 1"/>
          <p:cNvSpPr/>
          <p:nvPr/>
        </p:nvSpPr>
        <p:spPr>
          <a:xfrm>
            <a:off x="250920" y="1844640"/>
            <a:ext cx="8629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تؤدي إلى هلاك صاحبها في الدنيا والآ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من أسباب الصد عن سبيل ا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9" descr=""/>
          <p:cNvPicPr/>
          <p:nvPr/>
        </p:nvPicPr>
        <p:blipFill>
          <a:blip r:embed="rId3"/>
          <a:stretch/>
        </p:blipFill>
        <p:spPr>
          <a:xfrm>
            <a:off x="1585800" y="981000"/>
            <a:ext cx="72946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5T21:02:10Z</dcterms:modified>
  <cp:revision>1924</cp:revision>
  <dc:subject/>
  <dc:title>عرض تقديمي في PowerPoint</dc:title>
</cp:coreProperties>
</file>