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5F42-862C-4924-9814-7677BC8A3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3647-B86E-4153-A362-24074503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C2A0-C0BB-4893-B19F-DFD8349DB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F15E-A341-4CB5-BAEB-032A591B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8749-B391-46CF-9C1D-5569473C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B554-17BF-4C9B-9956-D25B05D1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7209-23CE-454D-A584-AC7B7A86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1E99-6915-4D6B-86C8-DA3B2CDE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9881-1FF2-4665-AA89-1E34DFE7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B0E2-CBF4-44C5-BAFE-1A01D2E5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ACA6-2EDA-4E1D-AD7B-98863B75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D80C-7314-4F42-8B0B-FE584A49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1FBC-1EA7-4AEE-B958-20D4D316518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5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7836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"/>
          <p:cNvPicPr/>
          <p:nvPr/>
        </p:nvPicPr>
        <p:blipFill>
          <a:blip r:embed="rId3"/>
          <a:stretch/>
        </p:blipFill>
        <p:spPr>
          <a:xfrm>
            <a:off x="3965400" y="836640"/>
            <a:ext cx="4915080" cy="596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"/>
          <p:cNvPicPr/>
          <p:nvPr/>
        </p:nvPicPr>
        <p:blipFill>
          <a:blip r:embed="rId4"/>
          <a:stretch/>
        </p:blipFill>
        <p:spPr>
          <a:xfrm>
            <a:off x="324000" y="2421000"/>
            <a:ext cx="8569080" cy="711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"/>
          <p:cNvPicPr/>
          <p:nvPr/>
        </p:nvPicPr>
        <p:blipFill>
          <a:blip r:embed="rId5"/>
          <a:stretch/>
        </p:blipFill>
        <p:spPr>
          <a:xfrm>
            <a:off x="250920" y="4272120"/>
            <a:ext cx="8642160" cy="102852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324000" y="321300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ختلافهم فمنهم مؤمن ومنهم كاف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324000" y="1484280"/>
            <a:ext cx="8569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نغماسهم في حياة الترف والنعيم واللهو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3" descr=""/>
          <p:cNvPicPr/>
          <p:nvPr/>
        </p:nvPicPr>
        <p:blipFill>
          <a:blip r:embed="rId6"/>
          <a:stretch/>
        </p:blipFill>
        <p:spPr>
          <a:xfrm>
            <a:off x="914400" y="5389560"/>
            <a:ext cx="79056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249"/>
          <a:stretch/>
        </p:blipFill>
        <p:spPr>
          <a:xfrm>
            <a:off x="233280" y="2421000"/>
            <a:ext cx="8677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8709120" cy="2870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1440"/>
            <a:ext cx="9131400" cy="1067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597040" y="4653000"/>
            <a:ext cx="38736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ما ذكر الله أسباب الاستقام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ذكر هنا المعين عليها وهو الأمر بالمعروف والنهي عن المنك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8856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50920" y="1854360"/>
            <a:ext cx="8713800" cy="481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72540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39760" y="47242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مم الماضي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130560" y="105264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مية الأمر بالمعروف والنهي عن  المنك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5367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صرين على الفسا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هل دين واحد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3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أمر بالمعروف والنهي عن المنكر من أسباب :</a:t>
            </a:r>
            <a:r>
              <a:rPr b="1" lang="ar-SA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جاة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أسباب الهلاك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انغماس في حياة الترف والنعيم والله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ظلم أحد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عذب الله أهل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لاح والإصلا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جعل الله للإنسان حرية الاختيار ب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خير والش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7162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ه أعطى الإنسان العقل الذي يميز به ب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صلاح والفسا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4149720"/>
            <a:ext cx="8666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لو جعل الناس جميعاً مؤمنين لانتفت الحكمة م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 خلقهم وابتلائ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653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ن كالإنس منه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سعداء والأشقيا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5084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سعداء في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إيمانهم بالنبي </a:t>
            </a:r>
            <a:r>
              <a:rPr b="1" lang="ar-SA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تباعهم شريع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08000" y="5516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أشقياء في النا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كفرهم وإعراضهم عن دين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-14616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7" descr=""/>
          <p:cNvPicPr/>
          <p:nvPr/>
        </p:nvPicPr>
        <p:blipFill>
          <a:blip r:embed="rId3"/>
          <a:stretch/>
        </p:blipFill>
        <p:spPr>
          <a:xfrm>
            <a:off x="338040" y="981000"/>
            <a:ext cx="8501040" cy="117792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328680" y="2346480"/>
            <a:ext cx="86360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أمر بالمعروف والنهي عن المنك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7T19:15:02Z</dcterms:modified>
  <cp:revision>2010</cp:revision>
  <dc:subject/>
  <dc:title>عرض تقديمي في PowerPoint</dc:title>
</cp:coreProperties>
</file>