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1DC-CA2F-42C6-B462-A4E991FB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512-93C0-4EC7-A4D0-E7EEDF8B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92B-DF62-4E6C-A69F-144A9A10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E2E5-C492-42B7-92D3-FE9E34DD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5F8-DD8C-4F76-8610-7131F9B8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A15-B09F-436C-9BB1-F0349B7E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23A-B4DC-4CE5-914C-DF9F3428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AEA6-A625-4147-BEC5-000C5BB6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FBF-1CCB-4A5D-900E-0034746B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F116-4EAA-4C3F-BBD6-F9EAEF4E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99B-9CBF-4B88-BDE6-ADB62523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778-FF95-4C9B-98B3-CC32EA94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A774-C247-41CC-BAE6-2AD75DF4A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طر الله الإنسان على محب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زين والجما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27160" y="2063880"/>
            <a:ext cx="86659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وله تعا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ه دلالة ع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يكون بعد نزول القرآن من اختراعات مما يركبها الخلق في البر والبحر والجو ويستعملونها في مصالح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2"/>
          <a:stretch/>
        </p:blipFill>
        <p:spPr>
          <a:xfrm>
            <a:off x="3952800" y="2079720"/>
            <a:ext cx="3355920" cy="52524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2898720"/>
            <a:ext cx="86659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الله تعالى من منافع الخيل والبغال والحمير والركوب والزينة ولم يذكر الأك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بغال والحمير محرم أكلها والخيل وإن جاز أكلها إلا أنها لا تستعمل في الغالب للأك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0920" y="3716280"/>
            <a:ext cx="8665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جواز أكل لحم الخيل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403280" y="3692520"/>
            <a:ext cx="4508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247680" y="1095480"/>
            <a:ext cx="8645400" cy="5502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4"/>
          <a:stretch/>
        </p:blipFill>
        <p:spPr>
          <a:xfrm>
            <a:off x="3116160" y="2492280"/>
            <a:ext cx="1460520" cy="711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5"/>
          <a:stretch/>
        </p:blipFill>
        <p:spPr>
          <a:xfrm>
            <a:off x="1619280" y="4005360"/>
            <a:ext cx="33019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6"/>
          <a:stretch/>
        </p:blipFill>
        <p:spPr>
          <a:xfrm>
            <a:off x="247680" y="5450040"/>
            <a:ext cx="467352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179280" y="249408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 الخصومة في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179280" y="1014480"/>
            <a:ext cx="8729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184464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إنسان أنعم الله عليه بالنعم ولكنه لم يشكرها وكفر بموجدها وهو الله سبحانه و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3"/>
          <a:stretch/>
        </p:blipFill>
        <p:spPr>
          <a:xfrm>
            <a:off x="2022480" y="981000"/>
            <a:ext cx="690876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5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291960" y="1438200"/>
            <a:ext cx="85708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4" name="عنوان 1"/>
          <p:cNvSpPr/>
          <p:nvPr/>
        </p:nvSpPr>
        <p:spPr>
          <a:xfrm>
            <a:off x="324000" y="5157720"/>
            <a:ext cx="85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بل والحمير والبغال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ملها وقدرتها على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0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74404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"/>
          <p:cNvPicPr/>
          <p:nvPr/>
        </p:nvPicPr>
        <p:blipFill>
          <a:blip r:embed="rId4"/>
          <a:stretch/>
        </p:blipFill>
        <p:spPr>
          <a:xfrm>
            <a:off x="1828800" y="2060640"/>
            <a:ext cx="6991200" cy="609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"/>
          <p:cNvPicPr/>
          <p:nvPr/>
        </p:nvPicPr>
        <p:blipFill>
          <a:blip r:embed="rId5"/>
          <a:stretch/>
        </p:blipFill>
        <p:spPr>
          <a:xfrm>
            <a:off x="1528920" y="3213000"/>
            <a:ext cx="7419960" cy="447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3" descr=""/>
          <p:cNvPicPr/>
          <p:nvPr/>
        </p:nvPicPr>
        <p:blipFill>
          <a:blip r:embed="rId6"/>
          <a:stretch/>
        </p:blipFill>
        <p:spPr>
          <a:xfrm>
            <a:off x="1871640" y="4568760"/>
            <a:ext cx="7077240" cy="609840"/>
          </a:xfrm>
          <a:prstGeom prst="rect">
            <a:avLst/>
          </a:prstGeom>
          <a:ln w="0">
            <a:noFill/>
          </a:ln>
        </p:spPr>
      </p:pic>
      <p:sp>
        <p:nvSpPr>
          <p:cNvPr id="109" name="عنوان 1"/>
          <p:cNvSpPr/>
          <p:nvPr/>
        </p:nvSpPr>
        <p:spPr>
          <a:xfrm>
            <a:off x="250920" y="357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البغال والحمير محرم أكلها والخيل وإن جاز أكلها إلا أنها لا تستعمل في الغالب للأك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عنوان 1"/>
          <p:cNvSpPr/>
          <p:nvPr/>
        </p:nvSpPr>
        <p:spPr>
          <a:xfrm>
            <a:off x="324000" y="2637000"/>
            <a:ext cx="856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تحقق وقوعه أي قرب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عنوان 1"/>
          <p:cNvSpPr/>
          <p:nvPr/>
        </p:nvSpPr>
        <p:spPr>
          <a:xfrm>
            <a:off x="262080" y="148428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م يؤمنوا به ولم يصدقوا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117"/>
          <a:stretch/>
        </p:blipFill>
        <p:spPr>
          <a:xfrm>
            <a:off x="324000" y="1268280"/>
            <a:ext cx="853416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-25560"/>
            <a:ext cx="9144000" cy="933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581120"/>
            <a:ext cx="8464680" cy="3000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46320" y="4581360"/>
            <a:ext cx="3162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224172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مرار على العبادة حتى آخر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47680" y="981000"/>
            <a:ext cx="8766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79280" y="1042920"/>
            <a:ext cx="876780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2"/>
          <a:stretch/>
        </p:blipFill>
        <p:spPr>
          <a:xfrm>
            <a:off x="539640" y="1824120"/>
            <a:ext cx="8431200" cy="2181240"/>
          </a:xfrm>
          <a:prstGeom prst="rect">
            <a:avLst/>
          </a:prstGeom>
          <a:ln w="0">
            <a:noFill/>
          </a:ln>
        </p:spPr>
      </p:pic>
      <p:sp>
        <p:nvSpPr>
          <p:cNvPr id="55" name="مستطيل 1"/>
          <p:cNvSpPr/>
          <p:nvPr/>
        </p:nvSpPr>
        <p:spPr>
          <a:xfrm>
            <a:off x="6012000" y="3284640"/>
            <a:ext cx="360360" cy="43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40720" cy="5761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29242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سا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33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بري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395280" y="38606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وح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395280" y="43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بل والبقر والغنم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395280" y="4762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تستدفئون ب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395280" y="52671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رجونها إلى المرعى بالغد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حمالك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395280" y="627552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جهد النف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قت قيام الساعة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قري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ه الله تعالى وتعاظمه ع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ركاء والأندا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م يترك عباده هملاً ب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رسل إليهم رسل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زل عليهم كتباً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بينوا لهم طريق السعادة وطريق الشق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ظيفة الرس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إنذار عن الشرك 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دعوة إلى التوحي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م يخلق الله السموات والأرض عبثاً وإنما خلق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 ودلالات عظي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467208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نبيه على ضعف الإنسان وأنه خلق م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طفة مهينة ضعيفة ومع ذلك يجادل ويخاصم ربه تعالى ويحارب رس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50920" y="537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حمة الله تعالى بعباده حيث سخر ل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قوام حياتهم ودوام عيش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0920" y="587700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منافع الأنعام وفوائدها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03320" y="-85680"/>
            <a:ext cx="936324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8-02T13:09:56Z</dcterms:modified>
  <cp:revision>1890</cp:revision>
  <dc:subject/>
  <dc:title>عرض تقديمي في PowerPoint</dc:title>
</cp:coreProperties>
</file>