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B1E-9D99-4EF8-8590-2D3FEB45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3416-5B65-4E69-ADDA-3BEF7C5C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5145-F8EE-4E72-8292-B51E4DEA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393-D3E1-4338-862E-66B881642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811-B498-43BA-AAD8-75BC6067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EA58-EBF0-4E7B-983F-7540A1C2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33F-14C8-43CA-BF30-37E6CDBA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BFE-4433-4FFF-9685-28106AB4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4E2F-847B-4A93-90C8-7D49FA17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DD4-3CDC-4F9D-83BD-6A8A9CFA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28B-67E6-4D68-BC55-FAF8FEF5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E95E-4C03-4E59-86E7-C443568E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55C9-6A40-44BE-A031-A17CCBFBF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7920"/>
            <a:ext cx="913752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5120" y="2185920"/>
            <a:ext cx="875376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374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سف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السورة باسم يوسف عليه السلام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أن معظم السورة تتحدث عن قص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11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سف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هود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قرير عقيدة التوحي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1282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قصة يوسف عليه ال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أهداف وغايات القصص القرآن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1066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3"/>
          <a:stretch/>
        </p:blipFill>
        <p:spPr>
          <a:xfrm>
            <a:off x="1139760" y="1438200"/>
            <a:ext cx="766944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20T05:11:03Z</dcterms:modified>
  <cp:revision>1802</cp:revision>
  <dc:subject/>
  <dc:title>عرض تقديمي في PowerPoint</dc:title>
</cp:coreProperties>
</file>