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CF39-BAB9-4A08-B921-6F71E6B9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4635-873F-4AE6-9A72-2ED5E753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04CA-2FD0-4851-B944-9F63B00F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CD6-D72B-4AF9-8E99-E3DCD525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F6E8-40AC-4A47-813F-3B57E85C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591F-DBBA-4A88-B8B8-87823B70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94B-3593-47B7-A0C2-0A8B120B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ECC-F91A-4338-8212-6345E6DA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0A1B-34BF-40B7-8DF9-8379EA0F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743F-AE4D-4AE0-B9A5-BEE27CFC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91A-692E-428F-88FF-AC584675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B0F9-2AC7-4EB8-8127-1886033C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5A9A-9E01-47BE-AB52-148A028F9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301680" y="1508040"/>
            <a:ext cx="8547120" cy="5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250920" y="5491080"/>
            <a:ext cx="85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ح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345960" y="907920"/>
            <a:ext cx="8786880" cy="1816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216000" y="3979800"/>
            <a:ext cx="8748720" cy="1320840"/>
          </a:xfrm>
          <a:prstGeom prst="rect">
            <a:avLst/>
          </a:prstGeom>
          <a:ln w="0">
            <a:noFill/>
          </a:ln>
        </p:spPr>
      </p:pic>
      <p:sp>
        <p:nvSpPr>
          <p:cNvPr id="91" name="عنوان 1"/>
          <p:cNvSpPr/>
          <p:nvPr/>
        </p:nvSpPr>
        <p:spPr>
          <a:xfrm>
            <a:off x="250920" y="2708280"/>
            <a:ext cx="85690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كون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تتلو : محمد صلى الله عليه وسل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خاطب في قوله ولا تعملون : محمد صلى الله عليه وسلم وأمت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82600" y="1671480"/>
            <a:ext cx="85694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يفعل ما أمر الله  ويترك ما نهى عن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73576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3213000"/>
            <a:ext cx="81360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129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43280" y="4653000"/>
            <a:ext cx="363204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3"/>
          <a:stretch/>
        </p:blipFill>
        <p:spPr>
          <a:xfrm>
            <a:off x="108000" y="938160"/>
            <a:ext cx="88995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39760" y="1685880"/>
            <a:ext cx="8717040" cy="4983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0" y="907920"/>
            <a:ext cx="9132840" cy="61776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49417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رقب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3121200" y="941400"/>
            <a:ext cx="41781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م الله الشامل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29264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ما تكون يا محمد في أ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5119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زن نملة 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6159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عة علم الله الشامل وإحاطته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كل شي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جميع أعمال العبا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حصاة علي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لم الله السابق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ثاب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اللوح المحفوظ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ذي دون الله فيه علم كل شيء قبل وقوع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أولياء الله ه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ؤمنون المتق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4797360"/>
            <a:ext cx="8666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جهلة المسلمين الذين غلوا في الأولياء فجعلوا لهم أوصافاً لا قدرة للبشر عليها مث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نفع والضر وعلم الغي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558972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كتساب ولاية الله ت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فعل الأوامر واجتناب النواهي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8" name="عنوان 1"/>
          <p:cNvSpPr/>
          <p:nvPr/>
        </p:nvSpPr>
        <p:spPr>
          <a:xfrm>
            <a:off x="179280" y="60991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كرام الله لأوليائ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تعجيل البشارة لهم في الدنيا بثناء المؤمنين وبشارة الملائكة لهم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1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مراقبة الله الدائمة والبعد عن ما حرم الله وفعل كل ما أوجب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169920" y="981000"/>
            <a:ext cx="885168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24000" y="984240"/>
            <a:ext cx="8584920" cy="5613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4716360" y="292428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324000" y="292428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تقو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4716360" y="4437000"/>
            <a:ext cx="3456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عل الأوا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324000" y="4437000"/>
            <a:ext cx="3168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 النواهي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عنوان 1"/>
          <p:cNvSpPr/>
          <p:nvPr/>
        </p:nvSpPr>
        <p:spPr>
          <a:xfrm>
            <a:off x="4716360" y="5950080"/>
            <a:ext cx="3456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دني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324000" y="5950080"/>
            <a:ext cx="3166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شرى في الآخر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7:00:23Z</dcterms:modified>
  <cp:revision>1981</cp:revision>
  <dc:subject/>
  <dc:title>عرض تقديمي في PowerPoint</dc:title>
</cp:coreProperties>
</file>