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F50-3E74-4430-B4D9-F341089A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37D-AC4B-4554-819A-BB77DAA5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E38-6119-4825-BB52-13D9CCC8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C90-EDF0-4880-AD64-13B2D34C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807-F6DD-4088-AFE8-782B3538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F17-F4BA-427D-B05F-1AB64BEB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FCB-FA1E-43C4-91D9-0F08EA5D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A0C-ED04-43CF-ACA3-5D464D16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F4B-BF51-4F7B-AE5F-18F24E0B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D12-65B5-47C5-85A7-8E123BFE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40A-475F-4DA5-B81A-08E75DE2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326-3AF7-4C5D-9CAA-EBA82310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4AB8-0F04-48D0-BAC6-6D9B1FA139F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8713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873520" y="1052640"/>
            <a:ext cx="6019560" cy="58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198440" y="2924280"/>
            <a:ext cx="7694640" cy="596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17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رفة أحوالهم وما يناس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33"/>
          <a:stretch/>
        </p:blipFill>
        <p:spPr>
          <a:xfrm>
            <a:off x="324000" y="2276640"/>
            <a:ext cx="85341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7465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1041480"/>
            <a:ext cx="882972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79280" y="934920"/>
            <a:ext cx="881712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39528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530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عاء إلى الله بآياته والدعاء إلى حجج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جهدون أنفسهم في عداوتك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1979640" y="155736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 كفائ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واجب كفائي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ذا قام به من يكفي سقط الإثم عن الباق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ب أن تكون الدعوة إ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بصيرة و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نبغي للداع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رفة أحوال المدعوين وما يناس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عاقبة بالمثل دون تجاوز للضوابط الشرع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فضل من المعاقبة بالمث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بر والاحتساب والعفو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ية الله تعالى ثابتة لأه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 و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معية الله تعالى لأهل التقوى والإحس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ية نصر وتأي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مربع نص 1"/>
          <p:cNvSpPr/>
          <p:nvPr/>
        </p:nvSpPr>
        <p:spPr>
          <a:xfrm>
            <a:off x="250920" y="1700280"/>
            <a:ext cx="8629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حك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وعظة الح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جادلة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3597120" y="907920"/>
            <a:ext cx="528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5240" cy="1152720"/>
          </a:xfrm>
          <a:prstGeom prst="rect">
            <a:avLst/>
          </a:prstGeom>
          <a:ln w="0">
            <a:noFill/>
          </a:ln>
        </p:spPr>
      </p:pic>
      <p:sp>
        <p:nvSpPr>
          <p:cNvPr id="73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31:57Z</dcterms:modified>
  <cp:revision>1955</cp:revision>
  <dc:subject/>
  <dc:title>عرض تقديمي في PowerPoint</dc:title>
</cp:coreProperties>
</file>