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6BC-88DF-49CF-851C-A6DEA252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A93-A605-4466-BD79-6139BB6A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707-017D-4AC0-8239-F59C2634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0117-98ED-47C1-BFC1-3B7F61B9D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40BB-1454-44C7-9AF0-C2A88D18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264-DDEA-40F9-A463-D0C5C7C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1AED-FA60-428B-8FC5-34DB1347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E7F-5878-4DD5-A673-D668BD00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E3C-9006-46ED-AF08-D3479898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503-BFAD-41C0-A64D-C79588E9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AEA2-017E-4348-95B8-2ED8977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D53A-9170-45DB-8AF6-0544F80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BA58-3E75-4D0E-A7A9-FAE2596E09A2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569880" y="982800"/>
            <a:ext cx="8323200" cy="1077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324000" y="2205000"/>
            <a:ext cx="8555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7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1487520"/>
            <a:ext cx="85690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3" name="عنوان 1"/>
          <p:cNvSpPr/>
          <p:nvPr/>
        </p:nvSpPr>
        <p:spPr>
          <a:xfrm>
            <a:off x="250920" y="5300640"/>
            <a:ext cx="8569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بهما معا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فحسابنا الأشهر والسنوات  بالقم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وحساب اليوم والصلوات بالشم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2787480" y="1052640"/>
            <a:ext cx="6032520" cy="546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1879560" y="2562120"/>
            <a:ext cx="6962760" cy="447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1268280" y="4149720"/>
            <a:ext cx="7601040" cy="1000080"/>
          </a:xfrm>
          <a:prstGeom prst="rect">
            <a:avLst/>
          </a:prstGeom>
          <a:ln w="0">
            <a:noFill/>
          </a:ln>
        </p:spPr>
      </p:pic>
      <p:sp>
        <p:nvSpPr>
          <p:cNvPr id="87" name="عنوان 1"/>
          <p:cNvSpPr/>
          <p:nvPr/>
        </p:nvSpPr>
        <p:spPr>
          <a:xfrm>
            <a:off x="250920" y="2994120"/>
            <a:ext cx="856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ه أخبرنا بحقيقة الشمس والقمر وحدّد لنا مهمة كل منهما، فالشمس هي مصدر الضوء، أما القمر فهو عاكس لهذا الضوء،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عنوان 1"/>
          <p:cNvSpPr/>
          <p:nvPr/>
        </p:nvSpPr>
        <p:spPr>
          <a:xfrm>
            <a:off x="250920" y="1557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تثبت الإيمان وترسخ اليقي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0" t="0" r="0" b="8"/>
          <a:stretch/>
        </p:blipFill>
        <p:spPr>
          <a:xfrm>
            <a:off x="539640" y="1268280"/>
            <a:ext cx="8136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7920"/>
            <a:ext cx="9145440" cy="1228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3003480" y="4772160"/>
            <a:ext cx="3137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تصديق رسالة محمد صلى الله عليه وسل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421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9" descr=""/>
          <p:cNvPicPr/>
          <p:nvPr/>
        </p:nvPicPr>
        <p:blipFill>
          <a:blip r:embed="rId1"/>
          <a:stretch/>
        </p:blipFill>
        <p:spPr>
          <a:xfrm>
            <a:off x="250920" y="1967040"/>
            <a:ext cx="8642160" cy="4630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1043280"/>
          </a:xfrm>
          <a:prstGeom prst="rect">
            <a:avLst/>
          </a:prstGeom>
          <a:ln w="0">
            <a:noFill/>
          </a:ln>
        </p:spPr>
      </p:pic>
      <p:sp>
        <p:nvSpPr>
          <p:cNvPr id="59" name="عنوان 1"/>
          <p:cNvSpPr/>
          <p:nvPr/>
        </p:nvSpPr>
        <p:spPr>
          <a:xfrm>
            <a:off x="179280" y="5084640"/>
            <a:ext cx="4969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فبالشمس تعرف الأيام وبسير القمر تعرف الشهور والأعوا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عاقب الليل والنها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3203640" y="112536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تعالى جعل للقمر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ز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منازل القم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حيث يبدو صغيراً ثم يتزايد نوره وجرمه حتى يكتمل إبداره ثم يأخذ بالنقص حتى يعود إلى حالته الأولى في تمام ال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حكمة من خلق الشمس والقمر وتقدير منازلهما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معرفة حساب السنوات والأشه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تعلم الحساب وعلم الفلك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جائ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جواز تعلم الحساب وعلم الفلك 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تحقيق المصالح الدينية والدنيو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نزيه الله سبحانه ع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ب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ا من مخلوق إلا كان لخلق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كمه وغا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رحمة الله بعباد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صّل الآيات وأقام الدلائل التي تثبت الإيمان وترسخ الي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758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7T09:34:43Z</dcterms:modified>
  <cp:revision>1917</cp:revision>
  <dc:subject/>
  <dc:title>عرض تقديمي في PowerPoint</dc:title>
</cp:coreProperties>
</file>