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BF8F-FD27-49C7-8698-E252921F7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BC81-ABD3-48D4-8917-2A9B9406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57C-3BBF-4803-BD2E-83A7D7F3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F56-61BE-456C-876E-D9FC73E4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E90A-139F-42AA-A341-ED2AEC5D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54DF-2D0F-45B6-BF56-B66EA61A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FA7A-EAAF-4BD8-9986-790EFDBD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78E-388E-49F0-BA6E-78C087FB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CD3-6328-4A7E-BCFA-2D68B886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CBC3-7163-4722-89B6-817ADF81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FDA8-6D39-411C-B7C6-4BB77BEB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054F-84F2-4C51-962B-77D8A499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E758-CC01-436C-8689-A9FA9FE6A82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276120" y="2637000"/>
            <a:ext cx="86360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إخو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كيد امرأه العزي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نجاة من السج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76120" y="981000"/>
            <a:ext cx="85298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644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324000" y="558972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العبرة والعظة وتصديق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1757520" y="981000"/>
            <a:ext cx="7135560" cy="62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4"/>
          <a:stretch/>
        </p:blipFill>
        <p:spPr>
          <a:xfrm>
            <a:off x="2217600" y="2744640"/>
            <a:ext cx="6678720" cy="71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5"/>
          <a:stretch/>
        </p:blipFill>
        <p:spPr>
          <a:xfrm>
            <a:off x="4054320" y="5013360"/>
            <a:ext cx="4838760" cy="67320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324000" y="3429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بتلاء واختب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وان 1"/>
          <p:cNvSpPr/>
          <p:nvPr/>
        </p:nvSpPr>
        <p:spPr>
          <a:xfrm>
            <a:off x="324000" y="1628640"/>
            <a:ext cx="85690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لا بعد ما بذلوا ما في وسعهم من الدعو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66"/>
          <a:stretch/>
        </p:blipFill>
        <p:spPr>
          <a:xfrm>
            <a:off x="195120" y="2637000"/>
            <a:ext cx="8753760" cy="86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29600" cy="1248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666880" y="5013360"/>
            <a:ext cx="381024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76120" y="198900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تكلم عن حال الرسل مع أقوام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1622520" y="1052640"/>
            <a:ext cx="72705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64072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86544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515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ذاب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24000" y="11192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ar-SA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943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ب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نصر يأتي مع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ر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ع العس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س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صر الله لأوليائه مهما تأخر الن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تيق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يأس من إيمان الناس وهدايت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سنة الله تعالى في تأخير نزول النصر على رسله و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زيادة في الابتلاء والتمحي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sp>
        <p:nvSpPr>
          <p:cNvPr id="67" name="عنوان 1"/>
          <p:cNvSpPr/>
          <p:nvPr/>
        </p:nvSpPr>
        <p:spPr>
          <a:xfrm>
            <a:off x="227160" y="37958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فضل القرآن الكري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فيه هداية ورحمة للمؤمن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1763640" y="981000"/>
            <a:ext cx="7113600" cy="269244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4427640" y="162864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كتاب كله صد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4427640" y="2349360"/>
            <a:ext cx="40528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صيل لكل شيء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4427640" y="2997360"/>
            <a:ext cx="40528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د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324000" y="162864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حم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324000" y="2349360"/>
            <a:ext cx="3311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عب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395280" y="2997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دق كل ما جاء به محمد </a:t>
            </a:r>
            <a:r>
              <a:rPr b="1" lang="ar-SA" sz="25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9T10:59:27Z</dcterms:modified>
  <cp:revision>2036</cp:revision>
  <dc:subject/>
  <dc:title>عرض تقديمي في PowerPoint</dc:title>
</cp:coreProperties>
</file>