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2E7-2A45-44F3-95CF-EF0BCED2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F05-D134-49D3-90DA-E2C6F9DD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EB1-B762-4EA3-9379-53C90065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B0E-9C11-40DA-AA25-7F68C2C1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619-BD12-49E1-BE9F-0652466E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491-3D14-4D6F-B460-6B11374C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3BC-6F93-4825-B864-E52A5FDD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B11-1909-4B5E-AAFC-3B5A0D4E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18D-FF82-4CF2-BEC2-B3F5851D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E6B-CAE8-4E78-961F-046B45ED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61D-BB17-41CA-BBB4-1981A106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BB1-EA9E-472D-9CF7-D593AE9D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AA30-223B-4708-950F-E0AB3EAC5C5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2360" y="1773360"/>
            <a:ext cx="864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رتفع أبصارهم دون أن تطر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سر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363600" y="1052640"/>
            <a:ext cx="8529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324000" y="479736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تكلم عن الكافري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4103640" y="1052640"/>
            <a:ext cx="47894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4"/>
          <a:stretch/>
        </p:blipFill>
        <p:spPr>
          <a:xfrm>
            <a:off x="2262240" y="2492280"/>
            <a:ext cx="664056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5"/>
          <a:stretch/>
        </p:blipFill>
        <p:spPr>
          <a:xfrm>
            <a:off x="1487520" y="4076640"/>
            <a:ext cx="7415280" cy="5842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141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له ليمهل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324000" y="1700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رف العبادة لغير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205000"/>
            <a:ext cx="86025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884320" y="4819680"/>
            <a:ext cx="35179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1020600"/>
            <a:ext cx="88171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45352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71520" y="413064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61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-15840" y="981000"/>
            <a:ext cx="9105840" cy="935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6480" y="1179360"/>
            <a:ext cx="37018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عاقبة الكافرين المكذبين يوم القيا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653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لوبهم خالية من العقل لفزع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626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لفتم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1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وف الكف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ظ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قبة الظالم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92280"/>
            <a:ext cx="8666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عا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لا تخفى عليه خافية غير غافل عن أعماله عباده بل يعلمها ويحصيها عليهم ويحاسبهم عليها يوم القيا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3357720"/>
            <a:ext cx="866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يوم القيامة على الكافرين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دة يوم القيامة عليهم وما سيكونون عليه من الذلة والصغ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203720"/>
            <a:ext cx="86662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الكافرين المكذبي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دم حتى إنهم يتمنون العودة إلى الدنيا مرة أخرى ليؤمنوا وما هم ب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9068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ر الكافرين و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ظيم حتى إنه من شدته وخبثه يكاد يزيل الجبال عن أماكن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9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بط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ر الكافرين مهما خفي وأُحك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04840" y="170028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أنهم حلفوا في الدنيا أنه لا بعث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أنهم سكنوا مساك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ه عرفوا ماذا فعل الله ب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ذكر الله لهم الأمثال ولم يأخذوا منها ال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3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2360" y="1844640"/>
            <a:ext cx="8640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نذار والتبش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392040" y="1039680"/>
            <a:ext cx="85629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8T09:00:33Z</dcterms:modified>
  <cp:revision>1865</cp:revision>
  <dc:subject/>
  <dc:title>عرض تقديمي في PowerPoint</dc:title>
</cp:coreProperties>
</file>