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E2B-DA3B-4C24-981F-C4A809BE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362-506C-4079-99EA-CBB0E589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F5BA-A37B-4046-9960-9C263829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575A-FEF3-4C66-BFB8-796D6EAE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4DE-68F3-499A-8208-ABC9444B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623-E382-4F29-8C2D-93D40E4C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DD7-2F61-4599-A918-E00346D3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CCE-B542-4B2A-B2B6-FFD00091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90AD-1353-49D6-93F8-C02D64D5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C68-C7CE-4289-B1FF-C663E8CA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E8E-4A69-4188-B297-D6BFD2DB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C97-A56C-4D0A-AE3C-D7314EF5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CD1A-F272-4DBE-AE97-000EB1A25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650880"/>
            <a:ext cx="864216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6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توب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مائد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9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4797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راء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فتتاح السورة بها ولانها أظهرت البراءة من المشركين و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خز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6732720" y="435456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راء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27160" y="5300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توبة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فيها التوبة على ا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0" name="رابط كسهم مستقيم 21"/>
          <p:cNvCxnSpPr/>
          <p:nvPr/>
        </p:nvCxnSpPr>
        <p:spPr>
          <a:xfrm>
            <a:off x="6011640" y="40482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5148360" y="431964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>
            <a:off x="3924000" y="4076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3059280" y="4394160"/>
            <a:ext cx="158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اضح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24000" y="5805360"/>
            <a:ext cx="8665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فاض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فضحت المنافقين وأظهرت مخاز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24000" y="6308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مخز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أخزت المنافقين بكشف أسرار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تأمين الكفار إذا رغبوا في سماع كلام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19"/>
          <p:cNvSpPr/>
          <p:nvPr/>
        </p:nvSpPr>
        <p:spPr>
          <a:xfrm flipH="1">
            <a:off x="8817120" y="1662120"/>
            <a:ext cx="2880" cy="42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راءة من عهود المشرك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غلظة على الكفار المعاند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الجهاد في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أهل الكتا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ن الغاية من الجهاد في سبيل إعلاء كلمة الله ونشر دي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المنافق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ديث عن غزوة تبوك وجيش العس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ة مسجد الضر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89" name="رابط كسهم مستقيم 38"/>
          <p:cNvCxnSpPr/>
          <p:nvPr/>
        </p:nvCxnSpPr>
        <p:spPr>
          <a:xfrm flipH="1">
            <a:off x="8456040" y="5940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250920" y="5724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متنان الله على البشر ببعثه محمد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قيقة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ظهار الإسلام وإبطان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179280" y="215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بث النفس وفساد الباطن مع العجز عن إظهار ذلك المستو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179280" y="272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جأ من ابتلي بالنفا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تلون وإظهار الخير وإخفاء الش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106380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ظاهر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رابط مستقيم 7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رابط مستقيم 8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رابط كسهم مستقيم 9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رح بما يسوء المسلمين والحزن على ما يس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11"/>
          <p:cNvSpPr/>
          <p:nvPr/>
        </p:nvSpPr>
        <p:spPr>
          <a:xfrm>
            <a:off x="8820000" y="1662120"/>
            <a:ext cx="0" cy="34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رابط كسهم مستقيم 12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هزاؤهم بالدين وأ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رابط كسهم مستقيم 15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كيم القوانين الوض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رابط كسهم مستقيم 17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د يد العون لأعداء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19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حاربة العف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رابط كسهم مستقيم 21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عجابهم بالكفار والتشبه ب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رابط كسهم مستقيم 23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يل إلى الشهوات ونشر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5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رص على تثبيط أهل الإيم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6:19:51Z</dcterms:modified>
  <cp:revision>1783</cp:revision>
  <dc:subject/>
  <dc:title>عرض تقديمي في PowerPoint</dc:title>
</cp:coreProperties>
</file>