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0856-558C-4D00-851A-D9C45D63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BCCA-F85D-46BB-8290-706238141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B586-797F-42EE-8107-F6E36971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F6D-66B3-43EA-9A5A-F6FE8AC1F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F67A-57DD-425A-ABA3-859587DB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FA07-EA48-40D9-95AD-5C5400D9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F451-F503-46E5-921F-709D9E2A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AFD-6B47-4711-AA89-61D54171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DAB-7E7E-46F4-B087-C4F389A4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D8B9-3A14-4DBA-A653-A5FDE9E5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737F-62CA-4092-B332-7EE6CD19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9361-210A-4DD6-AE74-DEF7B528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5ED1-EC8F-4AC0-90A9-601FEE61504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3"/>
          <a:stretch/>
        </p:blipFill>
        <p:spPr>
          <a:xfrm>
            <a:off x="260280" y="1125360"/>
            <a:ext cx="8621640" cy="532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4"/>
          <a:stretch/>
        </p:blipFill>
        <p:spPr>
          <a:xfrm>
            <a:off x="2944800" y="3503520"/>
            <a:ext cx="2209680" cy="660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5"/>
          <a:stretch/>
        </p:blipFill>
        <p:spPr>
          <a:xfrm>
            <a:off x="239760" y="4437000"/>
            <a:ext cx="4924440" cy="792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6"/>
          <a:stretch/>
        </p:blipFill>
        <p:spPr>
          <a:xfrm>
            <a:off x="239760" y="5373720"/>
            <a:ext cx="491472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2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468360" y="1549440"/>
            <a:ext cx="83516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5743440"/>
            <a:ext cx="85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33560" y="981000"/>
            <a:ext cx="6970680" cy="622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2936880" y="2662200"/>
            <a:ext cx="5956200" cy="546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434880" y="4653000"/>
            <a:ext cx="849492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3141720"/>
            <a:ext cx="85690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ب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 الصالح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يمان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701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كافر إذا رأى أن المؤمن قد عاهد ثم غدر به لم يبق له وثوق بالدين وقد يصده ذلك عن الدخول في الإ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32"/>
          <a:stretch/>
        </p:blipFill>
        <p:spPr>
          <a:xfrm>
            <a:off x="324000" y="1484280"/>
            <a:ext cx="853416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565520"/>
            <a:ext cx="346716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مربع نص 1"/>
          <p:cNvSpPr/>
          <p:nvPr/>
        </p:nvSpPr>
        <p:spPr>
          <a:xfrm>
            <a:off x="250920" y="1844640"/>
            <a:ext cx="8645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أمر الله تعالى بمكارم الأخلاق ونهى عن كل قبيح ومنها في هذه الآيات تحريم الأيمان الكاذب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455760" y="981000"/>
            <a:ext cx="84405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66680"/>
            <a:ext cx="878544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24000" y="2481120"/>
            <a:ext cx="8496000" cy="4116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324000" y="969840"/>
            <a:ext cx="8662680" cy="129564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15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ن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604360" y="1773360"/>
            <a:ext cx="38232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خداع الناس بالأيمان الكاذبة وغير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أيمان الكاذ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سبب الأيمان الكاذب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د عن سبيل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66760" y="3068640"/>
            <a:ext cx="86662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يمان الكاذبة تسبب الصد عن سبيل الل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كافر إذا رأى أن المؤمنين قد عاهده ثم غدر به لم يبق له وثوق بالدين وقد يصده ذلك عن الدخول في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فريط في دين الله عز وجل لمصالح دنيوية زائ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شرع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تعظيم الله تعا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 الإقسام به وعدم الحن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الله تعالى للصابرين المتمسكين بدينهم وعهده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زاء حس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106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مربع نص 1"/>
          <p:cNvSpPr/>
          <p:nvPr/>
        </p:nvSpPr>
        <p:spPr>
          <a:xfrm>
            <a:off x="250920" y="1844640"/>
            <a:ext cx="86295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تؤدي إلى هلاك صاحبها في الدنيا والآخر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- من أسباب الصد عن سبيل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9" descr=""/>
          <p:cNvPicPr/>
          <p:nvPr/>
        </p:nvPicPr>
        <p:blipFill>
          <a:blip r:embed="rId3"/>
          <a:stretch/>
        </p:blipFill>
        <p:spPr>
          <a:xfrm>
            <a:off x="1585800" y="981000"/>
            <a:ext cx="72946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5T21:02:10Z</dcterms:modified>
  <cp:revision>1924</cp:revision>
  <dc:subject/>
  <dc:title>عرض تقديمي في PowerPoint</dc:title>
</cp:coreProperties>
</file>