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3E96-7E6B-44A5-BFF4-FD8729757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F359-6428-4785-B7D1-288EFA6C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0932-4FB5-46B1-A314-905AC0974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379B-BEAD-4EF8-B121-774CA0F78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B7BA-43A7-4B62-8519-E0A34069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EF56-BE05-469E-8C1F-333ADF54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D97E-CEE8-4940-8673-DD127A2AC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6933-5162-48DC-8BFE-686C920D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1E76-3593-4AF8-9EB0-89583CC4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157B-436B-48A6-A866-03FA1402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273D-5ABA-4930-A68E-8A0F328A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0A3F-CBC7-43F0-A169-9EC8F14D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2930-781E-4AFF-8521-9BBB545434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2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6421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250920" y="4005360"/>
            <a:ext cx="8569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إيحاء الله إلى رجل من البشر أمر موافق للحكمة لا محل استغراب وتعجب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3"/>
          <a:stretch/>
        </p:blipFill>
        <p:spPr>
          <a:xfrm>
            <a:off x="2556000" y="981000"/>
            <a:ext cx="6386400" cy="660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4"/>
          <a:stretch/>
        </p:blipFill>
        <p:spPr>
          <a:xfrm>
            <a:off x="968400" y="3141720"/>
            <a:ext cx="7948440" cy="639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5"/>
          <a:stretch/>
        </p:blipFill>
        <p:spPr>
          <a:xfrm>
            <a:off x="1547640" y="1700280"/>
            <a:ext cx="72723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1360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57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2952720" y="5229360"/>
            <a:ext cx="3238560" cy="596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3"/>
          <a:stretch/>
        </p:blipFill>
        <p:spPr>
          <a:xfrm>
            <a:off x="334800" y="1484280"/>
            <a:ext cx="84139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844640"/>
            <a:ext cx="86648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له أعلم بمراده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2062080" y="981000"/>
            <a:ext cx="67010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7138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2" descr=""/>
          <p:cNvPicPr/>
          <p:nvPr/>
        </p:nvPicPr>
        <p:blipFill>
          <a:blip r:embed="rId1"/>
          <a:stretch/>
        </p:blipFill>
        <p:spPr>
          <a:xfrm>
            <a:off x="243000" y="1989000"/>
            <a:ext cx="8650080" cy="4608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57" name="عنوان 1"/>
          <p:cNvSpPr/>
          <p:nvPr/>
        </p:nvSpPr>
        <p:spPr>
          <a:xfrm>
            <a:off x="250920" y="335772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قرآ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43000" y="42210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رسلن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43000" y="5006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ن البش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50920" y="57276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إن الرسول دجا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11" descr=""/>
          <p:cNvPicPr/>
          <p:nvPr/>
        </p:nvPicPr>
        <p:blipFill>
          <a:blip r:embed="rId4"/>
          <a:stretch/>
        </p:blipFill>
        <p:spPr>
          <a:xfrm>
            <a:off x="-15840" y="866880"/>
            <a:ext cx="9159840" cy="906480"/>
          </a:xfrm>
          <a:prstGeom prst="rect">
            <a:avLst/>
          </a:prstGeom>
          <a:ln w="0">
            <a:noFill/>
          </a:ln>
        </p:spPr>
      </p:pic>
      <p:sp>
        <p:nvSpPr>
          <p:cNvPr id="62" name="عنوان 1"/>
          <p:cNvSpPr/>
          <p:nvPr/>
        </p:nvSpPr>
        <p:spPr>
          <a:xfrm>
            <a:off x="3059280" y="1047600"/>
            <a:ext cx="4176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بيان صدق القرآن الكري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sp>
        <p:nvSpPr>
          <p:cNvPr id="64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14842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قرآن الكريم كتاب محكم واضح مبين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يما اشتمل عليه من حلال وحرام وحدود وأحكا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206064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إيحاء الله إلى رجل من البشر أم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وافق للحكمة لا محل استغراب وتعج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بوة محمد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ثابت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179280" y="3357720"/>
            <a:ext cx="8666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بشرى أهل الإيمان والعمل الصالح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بما أعد الله لهم من النعي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50920" y="407664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شدة تعجب العرب من بلاغة وفصاح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قرآن العظي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79280" y="479736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صف المشركون القرآن الكريم بأن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سح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-115920" y="-128520"/>
            <a:ext cx="9375840" cy="1019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5" descr=""/>
          <p:cNvPicPr/>
          <p:nvPr/>
        </p:nvPicPr>
        <p:blipFill>
          <a:blip r:embed="rId3"/>
          <a:stretch/>
        </p:blipFill>
        <p:spPr>
          <a:xfrm>
            <a:off x="250920" y="1197000"/>
            <a:ext cx="8642160" cy="424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4"/>
          <a:stretch/>
        </p:blipFill>
        <p:spPr>
          <a:xfrm>
            <a:off x="8172360" y="3517920"/>
            <a:ext cx="533520" cy="558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5"/>
          <a:stretch/>
        </p:blipFill>
        <p:spPr>
          <a:xfrm>
            <a:off x="8172360" y="4454640"/>
            <a:ext cx="533520" cy="558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6"/>
          <a:stretch/>
        </p:blipFill>
        <p:spPr>
          <a:xfrm>
            <a:off x="2195640" y="2421000"/>
            <a:ext cx="533160" cy="558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7"/>
          <a:stretch/>
        </p:blipFill>
        <p:spPr>
          <a:xfrm>
            <a:off x="2166840" y="4508640"/>
            <a:ext cx="53352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6T05:29:29Z</dcterms:modified>
  <cp:revision>1888</cp:revision>
  <dc:subject/>
  <dc:title>عرض تقديمي في PowerPoint</dc:title>
</cp:coreProperties>
</file>