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6D72-6A16-4594-9672-84D14CB6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2C8E-3427-4AD0-A8BD-EA82C28E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DA51-4B4D-4FCF-8D67-223B0430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0D5F-0406-4FB2-A9AB-B3DDEDB2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F11D-4D7C-4441-BF81-44271EFD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3872-CC76-4777-89B0-BF27F869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2D27-7744-4404-90D7-F4453FBD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4294-D999-494E-B6A3-92CBCB2D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C914-BE82-4433-85AA-8672B574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67EF-5F7C-44FF-8FA4-43E24A65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6D0C-A350-485F-AA0E-69FAF76A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528C-68A9-43EB-953B-56F9A031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0DBF-7E63-42D6-B5D8-F8D00026B21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91328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1012680"/>
            <a:ext cx="86216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426960" y="1844640"/>
            <a:ext cx="83930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32846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الحجر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أصحاب الحجر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06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الحجر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99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08080" y="270828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حج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يوسف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155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حجر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سنة الله في الرسالة والرسل وأقوام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>
            <a:off x="8820000" y="1662120"/>
            <a:ext cx="0" cy="20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براز طبيعة المكذبين بهذا الد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وجيه الأنظار إلى التأمل في بعض آيات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قصة البشر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1"/>
          <p:cNvCxnSpPr/>
          <p:nvPr/>
        </p:nvCxnSpPr>
        <p:spPr>
          <a:xfrm flipH="1">
            <a:off x="8456040" y="3766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35337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نبيه على مصارع الغاب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8569080" cy="460872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00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30T17:48:07Z</dcterms:modified>
  <cp:revision>1819</cp:revision>
  <dc:subject/>
  <dc:title>عرض تقديمي في PowerPoint</dc:title>
</cp:coreProperties>
</file>