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362-879C-4B3D-BCFD-B33E2F2D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C63-CC94-4FDB-9DD8-29C0399A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4985-1167-4A83-8DC6-793A462F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417-0395-43C0-BE5F-DFB22A65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1FB-D086-4BEF-9455-8D9A78D2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DB3-A0E2-4B4F-A831-55D024FD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4BA-19EE-42C9-BD1A-B524FE8D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CB8-0A2B-4BFF-9FBA-D4999C49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42BB-AE20-4CDA-9F91-CDA707AD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639-9694-4736-9267-279BFA8B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AF6-5F34-4049-80B4-3408451C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585E-1D7D-479F-AFDC-AEEC50CA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38C8-72A9-4ABF-8F0D-2BEAD91361D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47680" y="2276640"/>
            <a:ext cx="8640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ة الله تعالى في خلق هذا الكون البالغ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3"/>
          <a:stretch/>
        </p:blipFill>
        <p:spPr>
          <a:xfrm>
            <a:off x="684360" y="907920"/>
            <a:ext cx="820404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2349360"/>
            <a:ext cx="864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رياح : لها فائدة في التلقيح بين النبات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ريح : فيها عذاب ونق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3"/>
          <a:stretch/>
        </p:blipFill>
        <p:spPr>
          <a:xfrm>
            <a:off x="398520" y="907920"/>
            <a:ext cx="845640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3"/>
          <a:stretch/>
        </p:blipFill>
        <p:spPr>
          <a:xfrm>
            <a:off x="357120" y="1604880"/>
            <a:ext cx="842976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4869000"/>
            <a:ext cx="856908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لق الله الجبال لاستقرار الأرض وعدم اضطراب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كثرة خيرات الأرض واحتواؤها على كافة أسباب الحي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رسال الرياح تلقح النبات والسح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3"/>
          <a:stretch/>
        </p:blipFill>
        <p:spPr>
          <a:xfrm>
            <a:off x="3276720" y="981000"/>
            <a:ext cx="5682960" cy="503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1212840" y="2276640"/>
            <a:ext cx="7686720" cy="1009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763640" y="4221000"/>
            <a:ext cx="7124760" cy="51444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3357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يصرفوا العبادة له وحده دون سوا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شهب تحرق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0"/>
          <a:stretch/>
        </p:blipFill>
        <p:spPr>
          <a:xfrm>
            <a:off x="250920" y="2276640"/>
            <a:ext cx="862164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-115920" y="-92160"/>
            <a:ext cx="9369360" cy="987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32000" y="4594320"/>
            <a:ext cx="34927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47680" y="1773360"/>
            <a:ext cx="86407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صفات القرآن الكريم ذكر هنا آيات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1542960" y="907920"/>
            <a:ext cx="7345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08000" y="977760"/>
            <a:ext cx="885672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1" descr=""/>
          <p:cNvPicPr/>
          <p:nvPr/>
        </p:nvPicPr>
        <p:blipFill>
          <a:blip r:embed="rId1"/>
          <a:stretch/>
        </p:blipFill>
        <p:spPr>
          <a:xfrm>
            <a:off x="250920" y="2009880"/>
            <a:ext cx="8615160" cy="45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12600" y="907920"/>
            <a:ext cx="9144000" cy="7635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2843280" y="1089000"/>
            <a:ext cx="4516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آيات الله سبحانه في ال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468936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سطنا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33700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 يستطيعوا العيش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595008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سب المصل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3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مظاهر قدرة الله تعالى في خلق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ماء ومنازل النجوم والكواك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98440" y="206064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عي الشياطين إلى استراق السمع لمعرفة شيء من أمور غائب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غلاله في إضلال بني آ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7040" y="2870280"/>
            <a:ext cx="866628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خير الله تعالى للشهب وجعلها حرساً للسماء من مردة الشياط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ئلا يستمعوا إلى الملأ الأع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66760" y="3664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ضعف الشياطين وعدم قدرتها على حماية أنفسه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شهب المحرق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50920" y="416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ظيم قدرة الله تعالى في خلق الأرض وتهيئتها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يتمكن الناس من العيش عل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72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خلق الله الجب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ستقرار الأرض وعدم اضطرا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175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ثرة خيرات الأرض واحتواؤها على كافة أسباب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يا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56800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ذكير الإنسان إلى أن الرزاق الحقيقي هو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618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يجاد الأشياء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د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1574640"/>
            <a:ext cx="866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إيجاد الله تعالى الأشياء بقدر معلو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632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1T18:43:28Z</dcterms:modified>
  <cp:revision>1862</cp:revision>
  <dc:subject/>
  <dc:title>عرض تقديمي في PowerPoint</dc:title>
</cp:coreProperties>
</file>