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1E0-31D3-48CD-A24C-2DAB022AB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5E4B-9029-4825-BAE5-1376000F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CAF-283B-48C9-AB57-1FD530C3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5212-ECA6-4E1B-9B45-D0BCB43B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9A06-9802-45D9-A92B-F644A543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AEF-8917-43A6-8D70-1EE66DE9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AB6-71E8-46D3-99A0-1B8D37BF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5048-C80B-4B1F-B0F5-4BC1251D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637-E7BC-4DC4-99DC-C3BA00D1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0D47-9034-4DB8-9810-8EC6192A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6940-B7E7-4191-8D03-210A9DA5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AC14-BEE5-4592-AB92-9922DD2E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E7AE-D03E-4A1E-9D17-C17D4060E6C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سد الذرائع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حريم كل وسيلة تؤدي إلى الممن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2205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أدى إلى الحر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هو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مر بالمعروف والنهي عن المنكر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وق النجاة وسبب دفع العذاب 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مر بالمعروف والنهي عن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أمر بالمعروف والنهي عن المنكر : طوق النجاة وسبب دفع العذاب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6" descr=""/>
          <p:cNvPicPr/>
          <p:nvPr/>
        </p:nvPicPr>
        <p:blipFill>
          <a:blip r:embed="rId2"/>
          <a:stretch/>
        </p:blipFill>
        <p:spPr>
          <a:xfrm>
            <a:off x="1322280" y="4724280"/>
            <a:ext cx="7542360" cy="649440"/>
          </a:xfrm>
          <a:prstGeom prst="rect">
            <a:avLst/>
          </a:prstGeom>
          <a:ln w="0">
            <a:noFill/>
          </a:ln>
        </p:spPr>
      </p:pic>
      <p:sp>
        <p:nvSpPr>
          <p:cNvPr id="75" name="عنوان 1"/>
          <p:cNvSpPr/>
          <p:nvPr/>
        </p:nvSpPr>
        <p:spPr>
          <a:xfrm>
            <a:off x="250920" y="5516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له تعالى عاقب الظالمين من اليهو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أن مسخهم فجعلهم قردة حقيق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2060640"/>
            <a:ext cx="85978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عالماً به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كون مكلفا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ينكر المنكر ويأمر بالمعروف باللين والتدريج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549360" y="907920"/>
            <a:ext cx="84103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2924280"/>
            <a:ext cx="85978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لا يحاسبنا على ما عمل الآخرون من المنكرات إذا أنكرنا المنكر وأمرنا بالمعرو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3"/>
          <a:stretch/>
        </p:blipFill>
        <p:spPr>
          <a:xfrm>
            <a:off x="395280" y="981000"/>
            <a:ext cx="84218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25360" y="1628640"/>
            <a:ext cx="869148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ي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لسا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ل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3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من رأى منكم منكراً فليغيره بيده فإن لم يستطع فبلسانه فإن لم يستطع فبقلبه )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3605040" y="907920"/>
            <a:ext cx="5334120" cy="60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4"/>
          <a:stretch/>
        </p:blipFill>
        <p:spPr>
          <a:xfrm>
            <a:off x="326880" y="2957400"/>
            <a:ext cx="8612280" cy="55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5"/>
          <a:stretch/>
        </p:blipFill>
        <p:spPr>
          <a:xfrm>
            <a:off x="1906560" y="4819680"/>
            <a:ext cx="7008840" cy="62244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23920" y="3573360"/>
            <a:ext cx="869148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فعل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لم تنكر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رقة أنكرت المنك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وان 1"/>
          <p:cNvSpPr/>
          <p:nvPr/>
        </p:nvSpPr>
        <p:spPr>
          <a:xfrm>
            <a:off x="223920" y="5661000"/>
            <a:ext cx="86914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كر عليه المعصية باللسان وإبلاغ الجهات المختصة عن هذا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50"/>
          <a:stretch/>
        </p:blipFill>
        <p:spPr>
          <a:xfrm>
            <a:off x="250920" y="1552680"/>
            <a:ext cx="86421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34800" y="1773360"/>
            <a:ext cx="855828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50920" y="812880"/>
            <a:ext cx="86421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2195640" y="981000"/>
            <a:ext cx="496872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50920" y="2309760"/>
            <a:ext cx="8642160" cy="434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250920" y="784080"/>
            <a:ext cx="8673840" cy="127656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052640"/>
            <a:ext cx="33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قصة أصحاب السبت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30200" y="522936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ما تجاوزوا في معصية الل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17600" y="59500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خهم قرد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3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ريف اليهود بأن ذلك مما يعلمه الرسول </a:t>
            </a:r>
            <a:r>
              <a:rPr b="1" lang="ar-SA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علمه الله فيكون دليلاً على صدق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0280" y="256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ختبر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ا يظهر صدقهم أو كذ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ن اختبار الله ل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مر الله به اليهود من تعظيم يوم السبت وأن لا يصيدوا فيه صيد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يل المؤدية إلى تعطيل شرع الله وتجاوز حدوده وارتكاب محارمه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ط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797360"/>
            <a:ext cx="86659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على الحيل المؤدية إلى تعطيل شرع الله وتجاوز حدوده وارتكاب محارم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فعل اليهود حين وضعوا الشباك في البحر يوم الجمعة للصيد ثم يخرجونها يوم الأحد ويقولون : لم نعمل يوم السبت شيئ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8053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د الذرائ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شرو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-115920" y="-73080"/>
            <a:ext cx="9375840" cy="865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2"/>
          <a:stretch/>
        </p:blipFill>
        <p:spPr>
          <a:xfrm>
            <a:off x="4067280" y="1392120"/>
            <a:ext cx="34574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