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51C7-16BD-4168-8EA3-030C9022C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EC80-4B4E-47E6-A0EF-09C2D281C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9A27-4CF8-441C-9953-D4D1F15F0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F6FE-34DA-4E42-9451-946F7AC9A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BDB4-A772-4790-88CF-59F293ECD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A0A6-4D47-46C6-9EB1-5025DB85E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5288-265B-46D2-AF59-BD51F027F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C212-D827-47BF-B7AA-8CC05B6D2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928D-11CB-4455-9D98-61A8F1EBF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DA3E-014D-4087-BE44-2BB48A28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9D2F-4B00-4AD8-91D5-132C0409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E599-EC2A-4F74-8C62-4617C5EA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76396-70F8-4117-B546-293EECAA5E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"/>
          <p:cNvPicPr/>
          <p:nvPr/>
        </p:nvPicPr>
        <p:blipFill>
          <a:blip r:embed="rId3"/>
          <a:stretch/>
        </p:blipFill>
        <p:spPr>
          <a:xfrm>
            <a:off x="324000" y="981000"/>
            <a:ext cx="8567640" cy="5877000"/>
          </a:xfrm>
          <a:prstGeom prst="rect">
            <a:avLst/>
          </a:prstGeom>
          <a:ln w="0">
            <a:noFill/>
          </a:ln>
        </p:spPr>
      </p:pic>
      <p:sp>
        <p:nvSpPr>
          <p:cNvPr id="81" name="عنوان 1"/>
          <p:cNvSpPr/>
          <p:nvPr/>
        </p:nvSpPr>
        <p:spPr>
          <a:xfrm>
            <a:off x="503280" y="2492280"/>
            <a:ext cx="82090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دبر أمر الخلائ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7" descr=""/>
          <p:cNvPicPr/>
          <p:nvPr/>
        </p:nvPicPr>
        <p:blipFill>
          <a:blip r:embed="rId4"/>
          <a:stretch/>
        </p:blipFill>
        <p:spPr>
          <a:xfrm>
            <a:off x="250920" y="4149720"/>
            <a:ext cx="8297640" cy="1224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5"/>
          <a:stretch/>
        </p:blipFill>
        <p:spPr>
          <a:xfrm>
            <a:off x="395280" y="5600880"/>
            <a:ext cx="8258040" cy="4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6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24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3"/>
          <a:stretch/>
        </p:blipFill>
        <p:spPr>
          <a:xfrm>
            <a:off x="324000" y="1484280"/>
            <a:ext cx="84931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0" name="عنوان 1"/>
          <p:cNvSpPr/>
          <p:nvPr/>
        </p:nvSpPr>
        <p:spPr>
          <a:xfrm>
            <a:off x="250920" y="4005360"/>
            <a:ext cx="856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استدلال بالنشأة الأولى على النشأة الأخر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9" descr=""/>
          <p:cNvPicPr/>
          <p:nvPr/>
        </p:nvPicPr>
        <p:blipFill>
          <a:blip r:embed="rId3"/>
          <a:stretch/>
        </p:blipFill>
        <p:spPr>
          <a:xfrm>
            <a:off x="900000" y="981000"/>
            <a:ext cx="8126640" cy="647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"/>
          <p:cNvPicPr/>
          <p:nvPr/>
        </p:nvPicPr>
        <p:blipFill>
          <a:blip r:embed="rId4"/>
          <a:stretch/>
        </p:blipFill>
        <p:spPr>
          <a:xfrm>
            <a:off x="900000" y="3357720"/>
            <a:ext cx="7961400" cy="647640"/>
          </a:xfrm>
          <a:prstGeom prst="rect">
            <a:avLst/>
          </a:prstGeom>
          <a:ln w="0">
            <a:noFill/>
          </a:ln>
        </p:spPr>
      </p:pic>
      <p:sp>
        <p:nvSpPr>
          <p:cNvPr id="93" name="عنوان 1"/>
          <p:cNvSpPr/>
          <p:nvPr/>
        </p:nvSpPr>
        <p:spPr>
          <a:xfrm>
            <a:off x="250920" y="170172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لحذر من الكفر وأه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81360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334800" y="1484280"/>
            <a:ext cx="8413920" cy="316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1324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3014640" y="4675320"/>
            <a:ext cx="3213000" cy="48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30040" y="1628640"/>
            <a:ext cx="86648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د ان تحدث الآيات السابقة عن صدق رسالة محمد صلى الله عليه وسل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ذكرت الآيات بعض شبهات الكافرين حول الدين الإسلام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3"/>
          <a:stretch/>
        </p:blipFill>
        <p:spPr>
          <a:xfrm>
            <a:off x="5398920" y="907920"/>
            <a:ext cx="349272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3"/>
          <a:stretch/>
        </p:blipFill>
        <p:spPr>
          <a:xfrm>
            <a:off x="179280" y="836640"/>
            <a:ext cx="888228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2" descr=""/>
          <p:cNvPicPr/>
          <p:nvPr/>
        </p:nvPicPr>
        <p:blipFill>
          <a:blip r:embed="rId1"/>
          <a:stretch/>
        </p:blipFill>
        <p:spPr>
          <a:xfrm>
            <a:off x="250920" y="1951200"/>
            <a:ext cx="8713800" cy="4646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"/>
          <p:cNvPicPr/>
          <p:nvPr/>
        </p:nvPicPr>
        <p:blipFill>
          <a:blip r:embed="rId2"/>
          <a:stretch/>
        </p:blipFill>
        <p:spPr>
          <a:xfrm>
            <a:off x="108000" y="888840"/>
            <a:ext cx="8928000" cy="955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179280" y="5229360"/>
            <a:ext cx="4969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صرف أمر الخلائ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187200" y="5950080"/>
            <a:ext cx="4969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بع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1190520"/>
            <a:ext cx="4176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بيان صدق الإسلا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148428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يان عظمة وقدرة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0920" y="206064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عظمة الخلق تدل على عظم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خال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7160" y="2781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ثبات صفة استواء الله على العرش بكيفي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تليق بجلال الله وعظمت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79280" y="3357720"/>
            <a:ext cx="8666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وحده هو مدبر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كو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407664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ا يقع شيء إلا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بقضاء وقدر الله سبحان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179280" y="4797360"/>
            <a:ext cx="866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رد على المشركين الذين يطلبون الشفاعة م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أولياء والصالح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08000" y="54450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شفاعة المثبتة هي التي تطلب م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 سبحان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108000" y="602136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استدلال بتوحيد الربوبية على توحيد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ألوه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50920" y="148428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ستحق للعبادة هو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خالق المدب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250920" y="206064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سباب الهداي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تفك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227160" y="2781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يمان بالبعث والنشو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وا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179280" y="3357720"/>
            <a:ext cx="8666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استدلال على النشأة الأخرى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بالنشأة الأول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50920" y="407664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بشير المؤمني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بالثواب العظي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عنوان 1"/>
          <p:cNvSpPr/>
          <p:nvPr/>
        </p:nvSpPr>
        <p:spPr>
          <a:xfrm>
            <a:off x="179280" y="4797360"/>
            <a:ext cx="866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ذاب الكافرين في الاخر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فظي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6T06:43:20Z</dcterms:modified>
  <cp:revision>1901</cp:revision>
  <dc:subject/>
  <dc:title>عرض تقديمي في PowerPoint</dc:title>
</cp:coreProperties>
</file>