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3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344-45A4-4217-AB1F-0E1667D6E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01A-EFAA-410A-B8B6-C50CB4E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E977-16AF-4D52-9DD6-2A10FD0B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3F63-6E29-4BEF-B037-368D6732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0548-5DF2-4186-A6E9-BE98997F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213E-2A53-49FD-8BFF-7099EEE9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71FD-B751-4E11-B893-B198BF6E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A129-C9D4-44B5-92AC-E57D6CEB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A2F-BC6B-4569-9C10-340CC649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76CC-E216-416F-AEC3-DA81572D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701C-BDDB-4937-944F-F824B768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EB9A-5C47-4420-92AC-1AFAC2A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41BF-84DC-4C70-9D1B-5F1703158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2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11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250920" y="1557360"/>
            <a:ext cx="873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86" name="عنوان 1"/>
          <p:cNvSpPr/>
          <p:nvPr/>
        </p:nvSpPr>
        <p:spPr>
          <a:xfrm>
            <a:off x="209520" y="5805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10" descr=""/>
          <p:cNvPicPr/>
          <p:nvPr/>
        </p:nvPicPr>
        <p:blipFill>
          <a:blip r:embed="rId3"/>
          <a:stretch/>
        </p:blipFill>
        <p:spPr>
          <a:xfrm>
            <a:off x="2906640" y="981000"/>
            <a:ext cx="6007320" cy="495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4"/>
          <a:stretch/>
        </p:blipFill>
        <p:spPr>
          <a:xfrm>
            <a:off x="2449440" y="3068640"/>
            <a:ext cx="6450120" cy="660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1828800" y="5173560"/>
            <a:ext cx="7085160" cy="559080"/>
          </a:xfrm>
          <a:prstGeom prst="rect">
            <a:avLst/>
          </a:prstGeom>
          <a:ln w="0">
            <a:noFill/>
          </a:ln>
        </p:spPr>
      </p:pic>
      <p:sp>
        <p:nvSpPr>
          <p:cNvPr id="90" name="عنوان 1"/>
          <p:cNvSpPr/>
          <p:nvPr/>
        </p:nvSpPr>
        <p:spPr>
          <a:xfrm>
            <a:off x="179280" y="371628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مصرين على النفاق والاستهز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عنوان 1"/>
          <p:cNvSpPr/>
          <p:nvPr/>
        </p:nvSpPr>
        <p:spPr>
          <a:xfrm>
            <a:off x="179280" y="1557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يخشى على صاحبه من الكفر والخروج من المل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5" descr=""/>
          <p:cNvPicPr/>
          <p:nvPr/>
        </p:nvPicPr>
        <p:blipFill>
          <a:blip r:embed="rId6"/>
          <a:stretch/>
        </p:blipFill>
        <p:spPr>
          <a:xfrm>
            <a:off x="4484520" y="5910120"/>
            <a:ext cx="276084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8642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05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752560" y="4829040"/>
            <a:ext cx="3530880" cy="4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250920" y="981000"/>
            <a:ext cx="86929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89503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53" name="عنوان 1"/>
          <p:cNvSpPr/>
          <p:nvPr/>
        </p:nvSpPr>
        <p:spPr>
          <a:xfrm>
            <a:off x="324000" y="1125360"/>
            <a:ext cx="3408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الاستهزاء بالدين وأه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179280" y="2060640"/>
            <a:ext cx="8769600" cy="4204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نزو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عنوان 1"/>
          <p:cNvSpPr/>
          <p:nvPr/>
        </p:nvSpPr>
        <p:spPr>
          <a:xfrm>
            <a:off x="250920" y="2552760"/>
            <a:ext cx="8665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قال رجل في غزو تبوك : ما رأينا مثل قرائنا هؤلاء أرغب بطونا ولا أكذب ألسنا ولا أجبن عند اللقاء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000000"/>
                </a:solidFill>
                <a:latin typeface="Calibri"/>
                <a:cs typeface="Times New Roman"/>
              </a:rPr>
              <a:t>فبلغ ذلك رسول الله </a:t>
            </a:r>
            <a:r>
              <a:rPr b="1" lang="en-US" sz="3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 فنزل قوله تعالى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4"/>
          <a:stretch/>
        </p:blipFill>
        <p:spPr>
          <a:xfrm>
            <a:off x="1519200" y="4659480"/>
            <a:ext cx="742788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5690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عنوان 1"/>
          <p:cNvSpPr/>
          <p:nvPr/>
        </p:nvSpPr>
        <p:spPr>
          <a:xfrm>
            <a:off x="250920" y="4292640"/>
            <a:ext cx="4968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يخا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50920" y="5006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تخبركم بنفاقك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sp>
        <p:nvSpPr>
          <p:cNvPr id="61" name="عنوان 1"/>
          <p:cNvSpPr/>
          <p:nvPr/>
        </p:nvSpPr>
        <p:spPr>
          <a:xfrm>
            <a:off x="250920" y="5727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حكم عليهم بالكف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1484280"/>
            <a:ext cx="866592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أبرز علامات المنافقين :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استهزاء بالدين 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طعن في أحكام الشريعة  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قليل من شأن علمائها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الحذر من الاستهزاء ب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لأنه يخشى على صاحبه من الكفر والخروج من المل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استهزاء بالعلماء وأهل الخير والصلاح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الاستهزاء بالدي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ُستهزئ بالله وآياته ورسو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رتد لا يقبل له أي عذر فإما أن يتوب وإما أن يقتل كفرا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مزاح والهزل بشيء من الد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حرام وأجمع العلماء أنه كفر ورد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4365720"/>
            <a:ext cx="8665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في قوله تعالى 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دليل على أن اعتقاد المنافقين في ا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أن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صاد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179280" y="537372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دلت الآيات على أن الكفر يكو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بالقول كما يكون بالفعل والقل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08000" y="595620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وبة الصادق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قبولة وتجب ما قبلها من نفاق أو كفر أو سيئ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5" descr=""/>
          <p:cNvPicPr/>
          <p:nvPr/>
        </p:nvPicPr>
        <p:blipFill>
          <a:blip r:embed="rId2"/>
          <a:stretch/>
        </p:blipFill>
        <p:spPr>
          <a:xfrm>
            <a:off x="4491000" y="4457880"/>
            <a:ext cx="276084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"/>
          <p:cNvPicPr/>
          <p:nvPr/>
        </p:nvPicPr>
        <p:blipFill>
          <a:blip r:embed="rId1"/>
          <a:stretch/>
        </p:blipFill>
        <p:spPr>
          <a:xfrm>
            <a:off x="227160" y="981000"/>
            <a:ext cx="8665920" cy="5472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-115920" y="-85680"/>
            <a:ext cx="9363240" cy="981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2349360"/>
            <a:ext cx="8569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335772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عنوان 1"/>
          <p:cNvSpPr/>
          <p:nvPr/>
        </p:nvSpPr>
        <p:spPr>
          <a:xfrm>
            <a:off x="250920" y="5445000"/>
            <a:ext cx="8569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أقوم بنصحه وتذكيره بالله وأن قوله هذا كفر بالله إذا عالماً بذل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50920" y="6237360"/>
            <a:ext cx="856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أنه من إنكار المنكر ومن الانتصار لدين الله وتذكير الجاهل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57:40Z</dcterms:modified>
  <cp:revision>1857</cp:revision>
  <dc:subject/>
  <dc:title>عرض تقديمي في PowerPoint</dc:title>
</cp:coreProperties>
</file>