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D4F-0D93-4BE6-A204-1EC6586C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46D-3C94-45E8-9490-726D96AB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C8B-AD9B-4A1D-A1DF-F5245421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8C8-DCD2-466F-8B7C-F74906C7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265-49F0-430B-86BC-89B2FFF3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1D8-922E-4A45-90F4-73B31826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8EE-EB4F-4665-9BE2-9448EF25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908-46ED-4881-88DD-AC52E3D7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80B-050B-45DD-A7D2-7E8C7E9C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BB3-21B5-48E6-AB67-5E03D1AF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EB5-CD5C-4360-8A8E-58D9871F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080-46A8-4E95-9460-93B292A9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31D2-BF2D-43C8-83D4-45E5638C4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5130720"/>
            <a:ext cx="85690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ا يقبل الحق ولا يرغب في التوب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84819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1042920" y="3654360"/>
            <a:ext cx="78519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2347920"/>
            <a:ext cx="8569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قوله تعالى ( يخرج الحي من الميت ) اي كما يخرج الفرخ من البيضة </a:t>
            </a:r>
            <a:br>
              <a:rPr sz="2500"/>
            </a:b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تفسير قولة تعالى ( ويخرج الميت من الحي ) اي كما يخرج البيضة من الدجاج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68"/>
          <a:stretch/>
        </p:blipFill>
        <p:spPr>
          <a:xfrm>
            <a:off x="539640" y="2565360"/>
            <a:ext cx="8136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4668840"/>
            <a:ext cx="3504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الرد على الكاف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37480" cy="48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-9360" y="892080"/>
            <a:ext cx="914400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8927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كيف تفك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778200" y="1015920"/>
            <a:ext cx="360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حيد الالوهية والربوب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39760" y="43513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مخلوق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39760" y="55054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جب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ذاب على الكافر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دبير الكون خاص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له وحد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زعم أن مع الله مدبراً فق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قرار بتوحيد الربوبية يستلزم الإقرار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قر بأن الله هو الخالق لزمه أ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بد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شركي العرب كانوا يقرون بتوحيد الربوبية ولم ينفعهم ذلك لعدم إقرارهم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ق واحد لا يتعدد فمن لم يكن على الحق فهو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وغل في الفسق يصبح طبعاً لصاحبه فلا يقب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ق ولا يرغب في التو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رآن يربي أتباعه على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كر القرآن على المشركين عدم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84320" y="1052640"/>
            <a:ext cx="870876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4465440" cy="72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5292720" y="3036960"/>
            <a:ext cx="352728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6"/>
          <a:stretch/>
        </p:blipFill>
        <p:spPr>
          <a:xfrm>
            <a:off x="6156360" y="3828960"/>
            <a:ext cx="2782800" cy="5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7"/>
          <a:stretch/>
        </p:blipFill>
        <p:spPr>
          <a:xfrm>
            <a:off x="3095640" y="3786120"/>
            <a:ext cx="3060720" cy="6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8"/>
          <a:stretch/>
        </p:blipFill>
        <p:spPr>
          <a:xfrm>
            <a:off x="6948360" y="4581360"/>
            <a:ext cx="194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10:01Z</dcterms:modified>
  <cp:revision>1955</cp:revision>
  <dc:subject/>
  <dc:title>عرض تقديمي في PowerPoint</dc:title>
</cp:coreProperties>
</file>