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AB4-09D0-42CD-910C-4A8E7A6F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4F7-4212-434A-B109-BD011C22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FE5-ABB1-49A8-AD3D-386DD140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B9B-1A5A-4E54-B1DB-AF7A7DFA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00D-7FAD-472B-BDE6-91A265F7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3CD-EA55-46E8-B109-4BF5CC9E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449-A7A7-4635-9BDD-E9D1E2B8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3F7-8A76-4C5C-8BFF-05F18BF4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9B3-9ACE-471E-976E-BDBDD184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1D7-1E7F-4D3F-A902-0DEE05AC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E27-06B3-40A5-AD9C-A2A51782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799-4BED-4B34-AA9B-5805B32A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3D3E-E400-4DAD-9B8F-DA174703DFD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2863800" y="981000"/>
            <a:ext cx="5956200" cy="22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547640" y="1484280"/>
            <a:ext cx="351504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539640" y="2077920"/>
            <a:ext cx="4532400" cy="63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250920" y="2708280"/>
            <a:ext cx="487836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7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76120" y="1557360"/>
            <a:ext cx="8636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 بِاسْـمِكَ اللّهُـمَّ أَمـوتُ وَأَحْـيا )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2568600" y="907920"/>
            <a:ext cx="6324480" cy="6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857160" y="1484280"/>
            <a:ext cx="8040600" cy="10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87280" y="2050920"/>
            <a:ext cx="85694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: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رشاد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التخويف من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ا يريدوا الإيما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44160" cy="116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4930920" y="3068640"/>
            <a:ext cx="396216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34880" y="4581360"/>
            <a:ext cx="8481960" cy="139716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324000" y="3645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عقبات : 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لائكة يتعاقبون علي العباد حرس بالليل وحرس بالنها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وان 1"/>
          <p:cNvSpPr/>
          <p:nvPr/>
        </p:nvSpPr>
        <p:spPr>
          <a:xfrm>
            <a:off x="324000" y="5877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يعلم ذلك قبل تخلقه ونفخ الروح ف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6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476280" y="1413000"/>
            <a:ext cx="81914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48040" y="5008680"/>
            <a:ext cx="33526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928000" cy="576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15552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239760" y="1816200"/>
            <a:ext cx="8724960" cy="44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0" y="80496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39760" y="40766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بي يدعوهم إلى رب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784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ووظيفة الملائك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65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يد في الحم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157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عبد ملائكة يتعاقبون عليه حرس بالليل وحرس بالنهار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62080" y="5734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ا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30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و الله المطل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5797440" y="6308640"/>
            <a:ext cx="3095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تع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بالكفار برتب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بو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الكفار بوظيف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نبيا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بعث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داية والإرشاد والدعوة إلى توحيد الله تعالى والتخويف من ا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مما خفي أو ظ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راقبة الله تعالى في السر والعلا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وجو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قبة الله تعالى في السر والعلانية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له تعالى لا تخفى عليه خاف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وظائف الملائك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فظ العباد ورعايتهم وكتابة أعما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 لهم وظائف متعد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غير ما بقوم من خير أو شر حت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غيروا ما بأنفس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طاعة إلى المعصية كان التغيير من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اباً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معصية  إلى الطاعة كان التغيير من الله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ثواباً ل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رادة و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افذ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22986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643280" y="2133720"/>
            <a:ext cx="3673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95280" y="2170080"/>
            <a:ext cx="3168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ت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395280" y="2673360"/>
            <a:ext cx="31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ح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716360" y="2673360"/>
            <a:ext cx="3672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ام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0:20:24Z</dcterms:modified>
  <cp:revision>2043</cp:revision>
  <dc:subject/>
  <dc:title>عرض تقديمي في PowerPoint</dc:title>
</cp:coreProperties>
</file>