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CD94-3197-497C-BA92-B2828939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1EA-8DB5-4FEE-9964-FB62820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F9D-6613-4C3F-808C-B66DE455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F2B4-E793-4AAD-A413-68441B6B9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1921-1DE1-4999-A3EB-75AC23F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80D8-8DCB-457D-87F9-7C2B6E5C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D43C-F82F-45EF-AD56-8B723FF0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C47-E7DF-414F-BE2F-02F0F460D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D271-FC72-4E10-98D7-63219225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1FF-0E61-4A6D-AD14-0E188A6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277-AB84-43FF-9853-61DDE6D8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42D-F8D6-4E4E-9E21-FD3C586C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A0C6-8274-40C2-83BA-EFC2F6A0AE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0600" y="399960"/>
            <a:ext cx="836280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rcRect l="0" t="0" r="0" b="62049"/>
          <a:stretch/>
        </p:blipFill>
        <p:spPr>
          <a:xfrm>
            <a:off x="250920" y="312840"/>
            <a:ext cx="8642160" cy="14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rcRect l="26479" t="42078" r="25493" b="0"/>
          <a:stretch/>
        </p:blipFill>
        <p:spPr>
          <a:xfrm>
            <a:off x="250920" y="2565360"/>
            <a:ext cx="84247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ولاً : تعريف التفسي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عنوان 1"/>
          <p:cNvSpPr/>
          <p:nvPr/>
        </p:nvSpPr>
        <p:spPr>
          <a:xfrm>
            <a:off x="179280" y="143028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كشف والبيان والإظها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179280" y="198900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يان معاني القرآن الكري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250920" y="2637000"/>
            <a:ext cx="877068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تعريف التأوي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50" name="عنوان 1"/>
          <p:cNvSpPr/>
          <p:nvPr/>
        </p:nvSpPr>
        <p:spPr>
          <a:xfrm>
            <a:off x="195120" y="3130560"/>
            <a:ext cx="876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لغة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رجوع إلى الأص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عنوان 1"/>
          <p:cNvSpPr/>
          <p:nvPr/>
        </p:nvSpPr>
        <p:spPr>
          <a:xfrm>
            <a:off x="195120" y="3546360"/>
            <a:ext cx="876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84240" indent="-984240" algn="ctr" rtl="1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صطلاحاً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رابط مستقيم 11"/>
          <p:cNvSpPr/>
          <p:nvPr/>
        </p:nvSpPr>
        <p:spPr>
          <a:xfrm flipH="1">
            <a:off x="4571640" y="4051440"/>
            <a:ext cx="3240" cy="25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2"/>
          <p:cNvSpPr/>
          <p:nvPr/>
        </p:nvSpPr>
        <p:spPr>
          <a:xfrm flipH="1" flipV="1">
            <a:off x="1476000" y="4287600"/>
            <a:ext cx="6048360" cy="1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324000" y="4584600"/>
            <a:ext cx="2087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نفس المراد بالكل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>
            <a:off x="7524360" y="43239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5940360" y="4595760"/>
            <a:ext cx="2952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فسير الكلام وبيان معنا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رابط كسهم مستقيم 23"/>
          <p:cNvCxnSpPr/>
          <p:nvPr/>
        </p:nvCxnSpPr>
        <p:spPr>
          <a:xfrm>
            <a:off x="1476000" y="42879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" name="عنوان 1"/>
          <p:cNvSpPr/>
          <p:nvPr/>
        </p:nvSpPr>
        <p:spPr>
          <a:xfrm>
            <a:off x="5651640" y="5440320"/>
            <a:ext cx="32414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ومنه : دعائه لابن عباس </a:t>
            </a:r>
            <a:r>
              <a:rPr b="1" lang="ar-SA" sz="26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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((اللهم فقه في الدين وعلمه التأويل)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رابط كسهم مستقيم 27"/>
          <p:cNvCxnSpPr/>
          <p:nvPr/>
        </p:nvCxnSpPr>
        <p:spPr>
          <a:xfrm>
            <a:off x="7524360" y="508428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عنوان 1"/>
          <p:cNvSpPr/>
          <p:nvPr/>
        </p:nvSpPr>
        <p:spPr>
          <a:xfrm>
            <a:off x="3419640" y="5586480"/>
            <a:ext cx="8571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طل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رابط كسهم مستقيم 31"/>
          <p:cNvCxnSpPr/>
          <p:nvPr/>
        </p:nvCxnSpPr>
        <p:spPr>
          <a:xfrm>
            <a:off x="392400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" name="رابط مستقيم 32"/>
          <p:cNvSpPr/>
          <p:nvPr/>
        </p:nvSpPr>
        <p:spPr>
          <a:xfrm flipH="1">
            <a:off x="1476000" y="497844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رابط مستقيم 33"/>
          <p:cNvSpPr/>
          <p:nvPr/>
        </p:nvSpPr>
        <p:spPr>
          <a:xfrm flipH="1">
            <a:off x="610920" y="5229360"/>
            <a:ext cx="33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34"/>
          <p:cNvCxnSpPr/>
          <p:nvPr/>
        </p:nvCxnSpPr>
        <p:spPr>
          <a:xfrm>
            <a:off x="610920" y="522936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258840" y="5589720"/>
            <a:ext cx="8571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خب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رابط كسهم مستقيم 38"/>
          <p:cNvCxnSpPr/>
          <p:nvPr/>
        </p:nvCxnSpPr>
        <p:spPr>
          <a:xfrm>
            <a:off x="392400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رابط كسهم مستقيم 39"/>
          <p:cNvCxnSpPr/>
          <p:nvPr/>
        </p:nvCxnSpPr>
        <p:spPr>
          <a:xfrm>
            <a:off x="755280" y="59500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" name="عنوان 1"/>
          <p:cNvSpPr/>
          <p:nvPr/>
        </p:nvSpPr>
        <p:spPr>
          <a:xfrm>
            <a:off x="2843280" y="6378480"/>
            <a:ext cx="2089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فعل المطلو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08000" y="6381720"/>
            <a:ext cx="23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تأويله وقوع المخبر به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-36360" y="44280"/>
            <a:ext cx="9144000" cy="744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8761680" cy="612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عنوان 1"/>
          <p:cNvSpPr/>
          <p:nvPr/>
        </p:nvSpPr>
        <p:spPr>
          <a:xfrm>
            <a:off x="200160" y="907920"/>
            <a:ext cx="8770680" cy="422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فرق بين التفسير والتأويل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(باعتبار المعنى الثاني للتأويل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-36360" y="20520"/>
            <a:ext cx="9144000" cy="744480"/>
          </a:xfrm>
          <a:prstGeom prst="rect">
            <a:avLst/>
          </a:prstGeom>
          <a:ln w="0">
            <a:noFill/>
          </a:ln>
        </p:spPr>
      </p:pic>
      <p:sp>
        <p:nvSpPr>
          <p:cNvPr id="76" name="رابط مستقيم 11"/>
          <p:cNvSpPr/>
          <p:nvPr/>
        </p:nvSpPr>
        <p:spPr>
          <a:xfrm flipH="1">
            <a:off x="4571640" y="134136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رابط مستقيم 12"/>
          <p:cNvSpPr/>
          <p:nvPr/>
        </p:nvSpPr>
        <p:spPr>
          <a:xfrm flipH="1" flipV="1">
            <a:off x="1476000" y="1577880"/>
            <a:ext cx="6048360" cy="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324000" y="1874880"/>
            <a:ext cx="20872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أويل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رابط كسهم مستقيم 17"/>
          <p:cNvCxnSpPr/>
          <p:nvPr/>
        </p:nvCxnSpPr>
        <p:spPr>
          <a:xfrm>
            <a:off x="7524360" y="161460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عنوان 1"/>
          <p:cNvSpPr/>
          <p:nvPr/>
        </p:nvSpPr>
        <p:spPr>
          <a:xfrm>
            <a:off x="5940360" y="1886040"/>
            <a:ext cx="2952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سي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1" name="رابط كسهم مستقيم 23"/>
          <p:cNvCxnSpPr/>
          <p:nvPr/>
        </p:nvCxnSpPr>
        <p:spPr>
          <a:xfrm>
            <a:off x="1476000" y="1577880"/>
            <a:ext cx="1080" cy="28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عنوان 1"/>
          <p:cNvSpPr/>
          <p:nvPr/>
        </p:nvSpPr>
        <p:spPr>
          <a:xfrm>
            <a:off x="5435640" y="2730600"/>
            <a:ext cx="34574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شرح وبيان للكلام المرا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ألفا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رابط كسهم مستقيم 27"/>
          <p:cNvCxnSpPr/>
          <p:nvPr/>
        </p:nvCxnSpPr>
        <p:spPr>
          <a:xfrm>
            <a:off x="7524360" y="2374560"/>
            <a:ext cx="1080" cy="289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عنوان 1"/>
          <p:cNvSpPr/>
          <p:nvPr/>
        </p:nvSpPr>
        <p:spPr>
          <a:xfrm>
            <a:off x="250920" y="2703600"/>
            <a:ext cx="424980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حقيقة الكلام ك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كثر ما يستعمل في المعاني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5" name="رابط كسهم مستقيم 35"/>
          <p:cNvCxnSpPr/>
          <p:nvPr/>
        </p:nvCxnSpPr>
        <p:spPr>
          <a:xfrm>
            <a:off x="1402920" y="2349000"/>
            <a:ext cx="1080" cy="28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43563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-7920" y="30240"/>
            <a:ext cx="9144000" cy="74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84328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108000" y="836640"/>
            <a:ext cx="8926560" cy="129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58840" y="2276640"/>
          <a:ext cx="8680320" cy="2592360"/>
        </p:xfrm>
        <a:graphic>
          <a:graphicData uri="http://schemas.openxmlformats.org/drawingml/2006/table">
            <a:tbl>
              <a:tblPr/>
              <a:tblGrid>
                <a:gridCol w="4079880"/>
                <a:gridCol w="3338280"/>
                <a:gridCol w="126216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أوي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التفس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معاني كلمات القرآن الكري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تفا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حقيقة الكلا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مع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بيان الكلام المرا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1f497d"/>
                          </a:solidFill>
                          <a:latin typeface="Calibri"/>
                          <a:cs typeface="Times New Roman"/>
                        </a:rPr>
                        <a:t>يستعمل في الألفا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وجه الاختلا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/>
  <dc:description/>
  <dc:language>en-US</dc:language>
  <cp:lastModifiedBy>مسلم</cp:lastModifiedBy>
  <dcterms:modified xsi:type="dcterms:W3CDTF">2011-07-11T11:04:51Z</dcterms:modified>
  <cp:revision>0</cp:revision>
  <dc:subject/>
  <dc:title/>
</cp:coreProperties>
</file>