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FBF0-229B-41CD-9440-A3241309A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FC81-8951-42BD-B1CB-BED69EFB5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6DA8-A93F-4E99-9F77-14DE2431C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E205-A525-418A-B294-EE5F6BA0E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F947-7CE7-4F0E-8D22-15D9FB83F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7099-0969-4E60-982F-330D9BC9A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C041-AE07-439D-94D1-6319532DA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A710-4D17-4F34-8597-83984CBE9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2B70-009D-4C91-BB63-C3AFA07CD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77D8-656B-4DD4-AD56-A809060E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B378-FDCE-4202-AFD1-32F2AF3B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3055-4240-4C79-A4A1-D2EB5AF8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C05FC-576B-4BA8-90FF-E7886D59AE0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6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3"/>
          <a:stretch/>
        </p:blipFill>
        <p:spPr>
          <a:xfrm>
            <a:off x="3995640" y="1484280"/>
            <a:ext cx="4953240" cy="596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4"/>
          <a:stretch/>
        </p:blipFill>
        <p:spPr>
          <a:xfrm>
            <a:off x="76320" y="3284640"/>
            <a:ext cx="8991360" cy="3529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5"/>
          <a:stretch/>
        </p:blipFill>
        <p:spPr>
          <a:xfrm>
            <a:off x="2232000" y="2700360"/>
            <a:ext cx="671688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843280" cy="677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"/>
          <p:cNvPicPr/>
          <p:nvPr/>
        </p:nvPicPr>
        <p:blipFill>
          <a:blip r:embed="rId3"/>
          <a:stretch/>
        </p:blipFill>
        <p:spPr>
          <a:xfrm>
            <a:off x="900000" y="1100160"/>
            <a:ext cx="7999560" cy="673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4"/>
          <a:stretch/>
        </p:blipFill>
        <p:spPr>
          <a:xfrm>
            <a:off x="333360" y="2232000"/>
            <a:ext cx="84866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843280" cy="677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3"/>
          <a:stretch/>
        </p:blipFill>
        <p:spPr>
          <a:xfrm>
            <a:off x="1211400" y="907920"/>
            <a:ext cx="7562880" cy="1009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4"/>
          <a:stretch/>
        </p:blipFill>
        <p:spPr>
          <a:xfrm>
            <a:off x="826920" y="3284640"/>
            <a:ext cx="8115480" cy="507960"/>
          </a:xfrm>
          <a:prstGeom prst="rect">
            <a:avLst/>
          </a:prstGeom>
          <a:ln w="0">
            <a:noFill/>
          </a:ln>
        </p:spPr>
      </p:pic>
      <p:sp>
        <p:nvSpPr>
          <p:cNvPr id="116" name="عنوان 1"/>
          <p:cNvSpPr/>
          <p:nvPr/>
        </p:nvSpPr>
        <p:spPr>
          <a:xfrm>
            <a:off x="272880" y="2133720"/>
            <a:ext cx="869184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على حرصهم على تعلم القرآن والعمل بما في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عنوان 1"/>
          <p:cNvSpPr/>
          <p:nvPr/>
        </p:nvSpPr>
        <p:spPr>
          <a:xfrm>
            <a:off x="250920" y="3933720"/>
            <a:ext cx="86929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1f497d"/>
                </a:solidFill>
                <a:uFillTx/>
                <a:latin typeface="Calibri"/>
                <a:cs typeface="Times New Roman"/>
              </a:rPr>
              <a:t>الفترة الأولى : 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كان من ضمن أبواب الحديث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1f497d"/>
                </a:solidFill>
                <a:uFillTx/>
                <a:latin typeface="Calibri"/>
                <a:cs typeface="Times New Roman"/>
              </a:rPr>
              <a:t>الفترة الثانية : 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أصبح علم مستقل بذات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90600" y="399960"/>
            <a:ext cx="836280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1942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324000" y="2708280"/>
            <a:ext cx="8424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عنوان 1"/>
          <p:cNvSpPr/>
          <p:nvPr/>
        </p:nvSpPr>
        <p:spPr>
          <a:xfrm>
            <a:off x="200160" y="907920"/>
            <a:ext cx="877068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راحل نشأة علم التفسي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رابط مستقيم 11"/>
          <p:cNvSpPr/>
          <p:nvPr/>
        </p:nvSpPr>
        <p:spPr>
          <a:xfrm flipH="1">
            <a:off x="4546080" y="1238400"/>
            <a:ext cx="324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رابط مستقيم 12"/>
          <p:cNvSpPr/>
          <p:nvPr/>
        </p:nvSpPr>
        <p:spPr>
          <a:xfrm flipH="1" flipV="1">
            <a:off x="1449000" y="1476000"/>
            <a:ext cx="6048360" cy="12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97000" y="1773360"/>
            <a:ext cx="233028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مرحلة الكتابة والتدوي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رابط كسهم مستقيم 17"/>
          <p:cNvCxnSpPr/>
          <p:nvPr/>
        </p:nvCxnSpPr>
        <p:spPr>
          <a:xfrm>
            <a:off x="7497360" y="1512360"/>
            <a:ext cx="1080" cy="28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0" name="عنوان 1"/>
          <p:cNvSpPr/>
          <p:nvPr/>
        </p:nvSpPr>
        <p:spPr>
          <a:xfrm>
            <a:off x="5913360" y="1784520"/>
            <a:ext cx="2952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رحلة الفهم والتلق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رابط كسهم مستقيم 23"/>
          <p:cNvCxnSpPr/>
          <p:nvPr/>
        </p:nvCxnSpPr>
        <p:spPr>
          <a:xfrm>
            <a:off x="1449000" y="14763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225360" y="6161040"/>
            <a:ext cx="86914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تعلم التفسير كان يتم عبر التلقي من قبل المفس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179280" y="5667480"/>
            <a:ext cx="8769600" cy="4204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نى مرحلة الفهم والتلق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179280" y="23493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ترات مرحلة الفهم والتلق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رابط مستقيم 44"/>
          <p:cNvSpPr/>
          <p:nvPr/>
        </p:nvSpPr>
        <p:spPr>
          <a:xfrm flipH="1">
            <a:off x="4571640" y="273852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رابط مستقيم 45"/>
          <p:cNvSpPr/>
          <p:nvPr/>
        </p:nvSpPr>
        <p:spPr>
          <a:xfrm flipH="1">
            <a:off x="1476000" y="297504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4284720" y="3284640"/>
            <a:ext cx="204156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عهد الصحابة </a:t>
            </a:r>
            <a:r>
              <a:rPr b="1" lang="ar-SA" sz="26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رابط كسهم مستقيم 47"/>
          <p:cNvCxnSpPr/>
          <p:nvPr/>
        </p:nvCxnSpPr>
        <p:spPr>
          <a:xfrm>
            <a:off x="7956360" y="298440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" name="عنوان 1"/>
          <p:cNvSpPr/>
          <p:nvPr/>
        </p:nvSpPr>
        <p:spPr>
          <a:xfrm>
            <a:off x="7020000" y="3284640"/>
            <a:ext cx="1873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عهد النبي </a:t>
            </a:r>
            <a:r>
              <a:rPr b="1" lang="ar-SA" sz="28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رابط كسهم مستقيم 49"/>
          <p:cNvCxnSpPr/>
          <p:nvPr/>
        </p:nvCxnSpPr>
        <p:spPr>
          <a:xfrm>
            <a:off x="1476000" y="297504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عنوان 1"/>
          <p:cNvSpPr/>
          <p:nvPr/>
        </p:nvSpPr>
        <p:spPr>
          <a:xfrm>
            <a:off x="250920" y="3357720"/>
            <a:ext cx="247176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عهد التابعين رحمهم الل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3" name="رابط كسهم مستقيم 51"/>
          <p:cNvCxnSpPr/>
          <p:nvPr/>
        </p:nvCxnSpPr>
        <p:spPr>
          <a:xfrm>
            <a:off x="5363640" y="29973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4" name="عنوان 1"/>
          <p:cNvSpPr/>
          <p:nvPr/>
        </p:nvSpPr>
        <p:spPr>
          <a:xfrm>
            <a:off x="195120" y="393372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ترات مرحلة الكتابة والتدو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رابط مستقيم 21"/>
          <p:cNvSpPr/>
          <p:nvPr/>
        </p:nvSpPr>
        <p:spPr>
          <a:xfrm flipH="1">
            <a:off x="4586040" y="4322880"/>
            <a:ext cx="468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رابط مستقيم 22"/>
          <p:cNvSpPr/>
          <p:nvPr/>
        </p:nvSpPr>
        <p:spPr>
          <a:xfrm flipH="1">
            <a:off x="1490760" y="4559400"/>
            <a:ext cx="648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7" name="رابط كسهم مستقيم 26"/>
          <p:cNvCxnSpPr/>
          <p:nvPr/>
        </p:nvCxnSpPr>
        <p:spPr>
          <a:xfrm>
            <a:off x="7970400" y="45687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" name="عنوان 1"/>
          <p:cNvSpPr/>
          <p:nvPr/>
        </p:nvSpPr>
        <p:spPr>
          <a:xfrm>
            <a:off x="5003640" y="4869000"/>
            <a:ext cx="39038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تدوين التفسير على أنه باب من أبواب الحديث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رابط كسهم مستقيم 28"/>
          <p:cNvCxnSpPr/>
          <p:nvPr/>
        </p:nvCxnSpPr>
        <p:spPr>
          <a:xfrm>
            <a:off x="1490400" y="455940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0" name="عنوان 1"/>
          <p:cNvSpPr/>
          <p:nvPr/>
        </p:nvSpPr>
        <p:spPr>
          <a:xfrm>
            <a:off x="266760" y="4941720"/>
            <a:ext cx="420696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تدوين التفسير على أنه علم مستقل بذات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179280" y="98100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ترات مرحلة الفهم والتلق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179280" y="156672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عهد النبي 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57040" y="2133720"/>
            <a:ext cx="86918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ميزت هذه الفترة : 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النبي </a:t>
            </a:r>
            <a:r>
              <a:rPr b="1" lang="ar-SA" sz="26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كان يبين للصحابة ما قد يشكل عليهم من معان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0920" y="2708280"/>
            <a:ext cx="86929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ذلك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179280" y="3209760"/>
            <a:ext cx="8769600" cy="57960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250920" y="3860640"/>
            <a:ext cx="86929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الأمثلة على ذلك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3"/>
          <a:stretch/>
        </p:blipFill>
        <p:spPr>
          <a:xfrm>
            <a:off x="328680" y="4292640"/>
            <a:ext cx="84866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179280" y="98100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ترات مرحلة الفهم والتلق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عنوان 1"/>
          <p:cNvSpPr/>
          <p:nvPr/>
        </p:nvSpPr>
        <p:spPr>
          <a:xfrm>
            <a:off x="179280" y="156672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عهد الصحابة 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عنوان 1"/>
          <p:cNvSpPr/>
          <p:nvPr/>
        </p:nvSpPr>
        <p:spPr>
          <a:xfrm>
            <a:off x="257040" y="2133720"/>
            <a:ext cx="8691840" cy="15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ميزت هذه الفترة 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ن الصحابة </a:t>
            </a:r>
            <a:r>
              <a:rPr b="1" lang="ar-SA" sz="26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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كان من منهجهم في تلقي القرآن ألا يتجاوزوا عشر آيات حتى يتعلموا ما فيهن من العلم والعم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كان يرجع بعضهم إلى بعض فيما قد يشكل عليهم من معاني القرآن الكري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عنوان 1"/>
          <p:cNvSpPr/>
          <p:nvPr/>
        </p:nvSpPr>
        <p:spPr>
          <a:xfrm>
            <a:off x="272880" y="3716280"/>
            <a:ext cx="86918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من اشتهر منهم في مجال التفسير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خلفاء الأربعة                       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عبدالله بن عبا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عبدالله بن مسعود                    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4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بي بن كع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عنوان 1"/>
          <p:cNvSpPr/>
          <p:nvPr/>
        </p:nvSpPr>
        <p:spPr>
          <a:xfrm>
            <a:off x="250920" y="5157720"/>
            <a:ext cx="869292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ميز تفسير الصحابة لأسباب منها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عدالتهم وسلامة مقصدهم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نهم شهدوا نزول القرآن الكري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نهم أهل اللسان العربي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4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حسن فهمهم للنصوص الشرع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sp>
        <p:nvSpPr>
          <p:cNvPr id="86" name="عنوان 1"/>
          <p:cNvSpPr/>
          <p:nvPr/>
        </p:nvSpPr>
        <p:spPr>
          <a:xfrm>
            <a:off x="179280" y="98100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ترات مرحلة الفهم والتلق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عنوان 1"/>
          <p:cNvSpPr/>
          <p:nvPr/>
        </p:nvSpPr>
        <p:spPr>
          <a:xfrm>
            <a:off x="179280" y="156672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عهد التابعين رحمهم الله تعالى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عنوان 1"/>
          <p:cNvSpPr/>
          <p:nvPr/>
        </p:nvSpPr>
        <p:spPr>
          <a:xfrm>
            <a:off x="257040" y="2133720"/>
            <a:ext cx="869184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ميزت هذه الفترة 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التابعين كانوا يتلقون تفسير القرآن الكريم من الصحابة </a:t>
            </a:r>
            <a:r>
              <a:rPr b="1" lang="ar-SA" sz="28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عنوان 1"/>
          <p:cNvSpPr/>
          <p:nvPr/>
        </p:nvSpPr>
        <p:spPr>
          <a:xfrm>
            <a:off x="272880" y="3141720"/>
            <a:ext cx="86918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التابعين كانوا يتلقون تفسير القرآن الكريم من الصحابة 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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لأنهم شهدوا نزول القرآن الكر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عنوان 1"/>
          <p:cNvSpPr/>
          <p:nvPr/>
        </p:nvSpPr>
        <p:spPr>
          <a:xfrm>
            <a:off x="250920" y="4221000"/>
            <a:ext cx="86929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شهر المفسرين من التابعين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مجاهد بن جبر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حسن البصري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محمد بن كعب القرظ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عنوان 1"/>
          <p:cNvSpPr/>
          <p:nvPr/>
        </p:nvSpPr>
        <p:spPr>
          <a:xfrm>
            <a:off x="-22320" y="1268280"/>
            <a:ext cx="918072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 التابعي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4" name="عنوان 1"/>
          <p:cNvSpPr/>
          <p:nvPr/>
        </p:nvSpPr>
        <p:spPr>
          <a:xfrm>
            <a:off x="250920" y="1989000"/>
            <a:ext cx="8642160" cy="7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اجتمع بالصحابي مؤمنًا بالنبي -صلّى الله عليه وسلّم- ومات على ذلك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179280" y="98100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ترات مرحلة الكتابة والتدو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عنوان 1"/>
          <p:cNvSpPr/>
          <p:nvPr/>
        </p:nvSpPr>
        <p:spPr>
          <a:xfrm>
            <a:off x="179280" y="156672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تدوين التفسير على أنه باب من أبواب الحديث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عنوان 1"/>
          <p:cNvSpPr/>
          <p:nvPr/>
        </p:nvSpPr>
        <p:spPr>
          <a:xfrm>
            <a:off x="272880" y="2133720"/>
            <a:ext cx="86918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العلماء الذين ألفوا في هذه الفترة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شعبة بن الحجاج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كيع بن الجراح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سفيان بن عيين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عنوان 1"/>
          <p:cNvSpPr/>
          <p:nvPr/>
        </p:nvSpPr>
        <p:spPr>
          <a:xfrm>
            <a:off x="179280" y="3440160"/>
            <a:ext cx="8769600" cy="4204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تدوين التفسير على أنه علم مستقل بذات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عنوان 1"/>
          <p:cNvSpPr/>
          <p:nvPr/>
        </p:nvSpPr>
        <p:spPr>
          <a:xfrm>
            <a:off x="272880" y="4005360"/>
            <a:ext cx="86918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ميزت هذه الفترة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كون التفسير علماً مستقلاً شاملاً للسور والآيات حسب ترتيبها في المصح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عنوان 1"/>
          <p:cNvSpPr/>
          <p:nvPr/>
        </p:nvSpPr>
        <p:spPr>
          <a:xfrm>
            <a:off x="250920" y="5516640"/>
            <a:ext cx="8692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المؤلفين في هذه الفترة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بن ماجه القزويني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محمد بن جرير الطبري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بن المنذ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