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2C93-E0CD-4781-BC2C-BC0D51C1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4A44-79A5-46BA-BEE9-C1069765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C8BF-3458-4245-B6FA-E9A0D8AA4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09AD-CA2C-4AB5-8EF9-DA10405EA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84A5-4EFC-4B31-8A89-95385A12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8B71-8E4D-4E7C-9F8C-18E451D6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EC84-8CA1-4BAA-B552-28BC0617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DD28-96BF-45E8-B80B-501C728C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FB88-E771-4EEA-A77E-EBADE8B7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71EE-2375-4D16-BC78-C48CF83F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3608-4921-494A-8452-3AB81CCE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E92A-D116-4204-BC61-89329829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8076-1243-44D8-8F65-1F94E630D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1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250920" y="1557360"/>
            <a:ext cx="87343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209520" y="580536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تعالى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10" descr=""/>
          <p:cNvPicPr/>
          <p:nvPr/>
        </p:nvPicPr>
        <p:blipFill>
          <a:blip r:embed="rId3"/>
          <a:stretch/>
        </p:blipFill>
        <p:spPr>
          <a:xfrm>
            <a:off x="2906640" y="981000"/>
            <a:ext cx="6007320" cy="495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4"/>
          <a:stretch/>
        </p:blipFill>
        <p:spPr>
          <a:xfrm>
            <a:off x="2449440" y="3068640"/>
            <a:ext cx="6450120" cy="660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"/>
          <p:cNvPicPr/>
          <p:nvPr/>
        </p:nvPicPr>
        <p:blipFill>
          <a:blip r:embed="rId5"/>
          <a:stretch/>
        </p:blipFill>
        <p:spPr>
          <a:xfrm>
            <a:off x="1828800" y="5173560"/>
            <a:ext cx="7085160" cy="5590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179280" y="371628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مصرين على النفاق والاستهزاء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عنوان 1"/>
          <p:cNvSpPr/>
          <p:nvPr/>
        </p:nvSpPr>
        <p:spPr>
          <a:xfrm>
            <a:off x="179280" y="155736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يخشى على صاحبه من الكفر والخروج من المل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5" descr=""/>
          <p:cNvPicPr/>
          <p:nvPr/>
        </p:nvPicPr>
        <p:blipFill>
          <a:blip r:embed="rId6"/>
          <a:stretch/>
        </p:blipFill>
        <p:spPr>
          <a:xfrm>
            <a:off x="4484520" y="5910120"/>
            <a:ext cx="276084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864216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534160" cy="3200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05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752560" y="4829040"/>
            <a:ext cx="3530880" cy="4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929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950320" cy="1067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324000" y="1125360"/>
            <a:ext cx="34081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حكم الاستهزاء بالدين وأه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179280" y="206064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نزو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2552760"/>
            <a:ext cx="8665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قال رجل في غزو تبوك : ما رأينا مثل قرائنا هؤلاء أرغب بطونا ولا أكذب ألسنا ولا أجبن عند اللقاء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فبلغ ذلك رسول الله </a:t>
            </a:r>
            <a:r>
              <a:rPr b="1" lang="en-US" sz="3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نزل قوله تعالى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4"/>
          <a:stretch/>
        </p:blipFill>
        <p:spPr>
          <a:xfrm>
            <a:off x="1519200" y="4659480"/>
            <a:ext cx="742788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569080" cy="5472000"/>
          </a:xfrm>
          <a:prstGeom prst="rect">
            <a:avLst/>
          </a:prstGeom>
          <a:ln w="0">
            <a:noFill/>
          </a:ln>
        </p:spPr>
      </p:pic>
      <p:sp>
        <p:nvSpPr>
          <p:cNvPr id="58" name="عنوان 1"/>
          <p:cNvSpPr/>
          <p:nvPr/>
        </p:nvSpPr>
        <p:spPr>
          <a:xfrm>
            <a:off x="250920" y="429264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خا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5006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خبركم بنفاقك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sp>
        <p:nvSpPr>
          <p:cNvPr id="61" name="عنوان 1"/>
          <p:cNvSpPr/>
          <p:nvPr/>
        </p:nvSpPr>
        <p:spPr>
          <a:xfrm>
            <a:off x="250920" y="57276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حكم عليهم بالكف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1484280"/>
            <a:ext cx="8665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برز علامات المنافقين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استهزاء بالدين 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طعن في أحكام الشريعة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قليل من شأن علمائ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249228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حذر من الاستهزاء بالد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ه يخشى على صاحبه من الكفر والخروج من المل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3068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ستهزاء بالعلماء وأهل الخير والصلاح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ن الاستهزاء بالد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350028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ُستهزئ بالله وآياته ورسو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رتد لا يقبل له أي عذر فإما أن يتوب وإما أن يقتل كفر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393372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زاح والهزل بشيء من الد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 وأجمع العلماء أنه كفر ورد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4365720"/>
            <a:ext cx="8665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في قوله تعالى 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دليل على أن اعتقاد المنافقين في الرسول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أن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صاد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537372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لت الآيات على أن الكفر يكو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قول كما يكون بالفعل والقل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08000" y="59562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وبة الصادق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قبولة وتجب ما قبلها من نفاق أو كفر أو سيئ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"/>
          <p:cNvPicPr/>
          <p:nvPr/>
        </p:nvPicPr>
        <p:blipFill>
          <a:blip r:embed="rId2"/>
          <a:stretch/>
        </p:blipFill>
        <p:spPr>
          <a:xfrm>
            <a:off x="4491000" y="4457880"/>
            <a:ext cx="2760840" cy="5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227160" y="981000"/>
            <a:ext cx="8665920" cy="5472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79280" y="2349360"/>
            <a:ext cx="8569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قوم بنصحه وتذكيره بالله وأن قوله هذا كفر بالله إذا عالماً بذل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08000" y="3357720"/>
            <a:ext cx="856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من إنكار المنكر ومن الانتصار لدين الله وتذكير الجاه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50920" y="5445000"/>
            <a:ext cx="8569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قوم بنصحه وتذكيره بالله وأن قوله هذا كفر بالله إذا عالماً بذل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50920" y="623736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من إنكار المنكر ومن الانتصار لدين الله وتذكير الجاه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3T06:57:40Z</dcterms:modified>
  <cp:revision>1857</cp:revision>
  <dc:subject/>
  <dc:title>عرض تقديمي في PowerPoint</dc:title>
</cp:coreProperties>
</file>