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8389-016B-4C40-9F5F-5B1726369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BD4D-616C-4849-B414-D9C205DDA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6F4A-59F4-44AD-B96E-B2FFDB22D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8357-1CB1-4027-B518-9EEBF1908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8F89-09C7-4B71-836D-2C7136467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B842-9EFA-4F28-959F-091EEC5BD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2717-1797-40D8-860B-EFF2E86D7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ACEC-1635-4FCC-BCD2-3A472D25D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7CAB-FB36-41F2-90C4-593E25FE7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B345-2640-4026-806F-F1A5C8AFC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E53F-5A9C-49C9-8A4D-19BAE13E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3728-D981-4424-AD7D-0AF04013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68F4B-AECB-4608-9DA2-C42AA5086A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-12240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0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7" descr=""/>
          <p:cNvPicPr/>
          <p:nvPr/>
        </p:nvPicPr>
        <p:blipFill>
          <a:blip r:embed="rId3"/>
          <a:stretch/>
        </p:blipFill>
        <p:spPr>
          <a:xfrm>
            <a:off x="250920" y="1509840"/>
            <a:ext cx="860112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-12240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250920" y="6095880"/>
            <a:ext cx="85690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حفظ الله له عن التحريف إلى يوم القيام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3"/>
          <a:stretch/>
        </p:blipFill>
        <p:spPr>
          <a:xfrm>
            <a:off x="3276720" y="836640"/>
            <a:ext cx="5651280" cy="546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2" descr=""/>
          <p:cNvPicPr/>
          <p:nvPr/>
        </p:nvPicPr>
        <p:blipFill>
          <a:blip r:embed="rId4"/>
          <a:stretch/>
        </p:blipFill>
        <p:spPr>
          <a:xfrm>
            <a:off x="250920" y="2116080"/>
            <a:ext cx="8691480" cy="1384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3" descr=""/>
          <p:cNvPicPr/>
          <p:nvPr/>
        </p:nvPicPr>
        <p:blipFill>
          <a:blip r:embed="rId5"/>
          <a:stretch/>
        </p:blipFill>
        <p:spPr>
          <a:xfrm>
            <a:off x="1679400" y="5487840"/>
            <a:ext cx="7263000" cy="53352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324000" y="3500280"/>
            <a:ext cx="856908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من عادة المكذبين الكفر بما أتى به الرس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ن الله تعالى يزيد اهل الكفر والضلال ضلالا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علم الله السابق بما سوف يفعله المكذبي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عنوان 1"/>
          <p:cNvSpPr/>
          <p:nvPr/>
        </p:nvSpPr>
        <p:spPr>
          <a:xfrm>
            <a:off x="324000" y="141768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إيمان بهم وأنهم رسل من عند الله سبحانه وتعال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15840"/>
            <a:ext cx="913284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72"/>
          <a:stretch/>
        </p:blipFill>
        <p:spPr>
          <a:xfrm>
            <a:off x="250920" y="1700280"/>
            <a:ext cx="862164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24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539640" y="1773360"/>
            <a:ext cx="8353440" cy="2793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3"/>
          <a:stretch/>
        </p:blipFill>
        <p:spPr>
          <a:xfrm>
            <a:off x="3154320" y="4567320"/>
            <a:ext cx="312408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-12240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2"/>
          <a:stretch/>
        </p:blipFill>
        <p:spPr>
          <a:xfrm>
            <a:off x="250920" y="1015920"/>
            <a:ext cx="864216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2" descr=""/>
          <p:cNvPicPr/>
          <p:nvPr/>
        </p:nvPicPr>
        <p:blipFill>
          <a:blip r:embed="rId1"/>
          <a:stretch/>
        </p:blipFill>
        <p:spPr>
          <a:xfrm>
            <a:off x="250920" y="1671480"/>
            <a:ext cx="8642160" cy="4853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"/>
          <p:cNvPicPr/>
          <p:nvPr/>
        </p:nvPicPr>
        <p:blipFill>
          <a:blip r:embed="rId2"/>
          <a:stretch/>
        </p:blipFill>
        <p:spPr>
          <a:xfrm>
            <a:off x="0" y="836640"/>
            <a:ext cx="9140760" cy="662040"/>
          </a:xfrm>
          <a:prstGeom prst="rect">
            <a:avLst/>
          </a:prstGeom>
          <a:ln w="0">
            <a:noFill/>
          </a:ln>
        </p:spPr>
      </p:pic>
      <p:sp>
        <p:nvSpPr>
          <p:cNvPr id="51" name="عنوان 1"/>
          <p:cNvSpPr/>
          <p:nvPr/>
        </p:nvSpPr>
        <p:spPr>
          <a:xfrm>
            <a:off x="2843280" y="907920"/>
            <a:ext cx="45162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صفات القرآن الكري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عنوان 1"/>
          <p:cNvSpPr/>
          <p:nvPr/>
        </p:nvSpPr>
        <p:spPr>
          <a:xfrm>
            <a:off x="395280" y="447372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قرآ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395280" y="5049720"/>
            <a:ext cx="4824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 التبديل والتحريف والزيادة والنقصا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395280" y="5732640"/>
            <a:ext cx="482436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يخيل إلينا ذلك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3"/>
          <a:stretch/>
        </p:blipFill>
        <p:spPr>
          <a:xfrm>
            <a:off x="-122400" y="-85680"/>
            <a:ext cx="93758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179280" y="1574640"/>
            <a:ext cx="866628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صفات القرآن الكريم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كلام الله الحق وهو منزل غير مخلوق 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محفوظ بحفظ الله إلى يوم القيامة فلن يحرّف كما حرفت التوراة والإنجي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98440" y="258300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عادة المكذبي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استهزاء بالرسل والكفر بما أتوا ب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7040" y="3086280"/>
            <a:ext cx="866628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تعالى يزيد أهل الكفر والضلال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ضلالاً فيعمي بصائرهم عن رؤية الحق لحكمة بالغة هو يعلم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66760" y="387972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ن سنة الله في المكذبين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هلاك والإذلال والتدمي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-122400" y="-85680"/>
            <a:ext cx="93758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7" descr=""/>
          <p:cNvPicPr/>
          <p:nvPr/>
        </p:nvPicPr>
        <p:blipFill>
          <a:blip r:embed="rId1"/>
          <a:stretch/>
        </p:blipFill>
        <p:spPr>
          <a:xfrm>
            <a:off x="179280" y="932040"/>
            <a:ext cx="8785440" cy="1180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>
            <a:off x="-12240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5" name="عنوان 1"/>
          <p:cNvSpPr/>
          <p:nvPr/>
        </p:nvSpPr>
        <p:spPr>
          <a:xfrm>
            <a:off x="247680" y="2276640"/>
            <a:ext cx="8640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منزلة من عند ال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نزلت مصدقة للرسل عليهم الصلاة والسلا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فيها هدى للمؤمني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8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8613720" cy="1295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-12240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9" name="عنوان 1"/>
          <p:cNvSpPr/>
          <p:nvPr/>
        </p:nvSpPr>
        <p:spPr>
          <a:xfrm>
            <a:off x="179280" y="2349360"/>
            <a:ext cx="8640720" cy="38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إخلا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حفظ في الصغر كالنقش على الحجر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ختيار وقت الحف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ختيار مكان الحف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5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قراءة المجودة والمنغمة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6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اقتصار على طبعة واحدة من المصحف ولا يغيره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7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صحيح القراءة مقدّم على الحف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8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عملية الربط مقدم على الحف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9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ـتــكــرار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10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حفظ اليومي المنتظم خير من الحفظ المتقط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31T07:43:48Z</dcterms:modified>
  <cp:revision>1842</cp:revision>
  <dc:subject/>
  <dc:title>عرض تقديمي في PowerPoint</dc:title>
</cp:coreProperties>
</file>