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762-288B-4E76-816C-1FFE2891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4D77-555D-4537-AF48-DC675282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5E90-03BF-4EBC-93F4-62669A9E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2EA-6B2C-4878-ABF9-98295F3F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6C0-904D-48FB-9A55-22B6E0AD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0E00-43C9-4467-A9FA-DC95B1D5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D8A-705F-4966-B37B-66D77572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4F5-787E-4882-BDA7-A1833917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E35-3FA0-427E-BCF1-C01B5030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6A5B-BD1C-4680-9C00-B4A88475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CD8-0515-4182-BE08-FBB652CB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1258-7419-4F56-B5AB-18534A67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9D5F-099A-4444-8D6B-B35F252D1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232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22440"/>
            <a:ext cx="864072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ضوع الكون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بيح المخلوقات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يب الله بالصواعق من يش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رف الدعاء لله عباد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مؤمنين يسجدون لله تعالى في أول النهار وآخ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427640" y="765000"/>
            <a:ext cx="45338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3"/>
          <a:stretch/>
        </p:blipFill>
        <p:spPr>
          <a:xfrm>
            <a:off x="179280" y="765000"/>
            <a:ext cx="8640720" cy="11941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2205000"/>
            <a:ext cx="8642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صيب بالصواعق من يشاء من عباد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2546280" y="1557360"/>
            <a:ext cx="6348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324000" y="595008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لا ينتفعون بدعاء غير الله بشيء وأنه سبحانه يحبط دنياه وآخرته كمثل الذي يريد الإمساك بالماء بقبضة يده ولكن لا يستطي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38160" y="689040"/>
            <a:ext cx="906624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324000" y="2781360"/>
            <a:ext cx="8583480" cy="108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539640" y="5057640"/>
            <a:ext cx="8487000" cy="88596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50920" y="3933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ا عقوبات للعصاة أو ابتلاءات للمس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324000" y="163044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تعالى هو الذي جعل البرق فيه خوف من أذاه وفيه طمع في المط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84"/>
          <a:stretch/>
        </p:blipFill>
        <p:spPr>
          <a:xfrm>
            <a:off x="476280" y="1844640"/>
            <a:ext cx="81914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111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5013360"/>
            <a:ext cx="34923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1557360"/>
            <a:ext cx="8623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وظيفة الرسل والملائكة ذكر وظيفة الرع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292720" y="836640"/>
            <a:ext cx="3581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758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48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262080" y="1776240"/>
            <a:ext cx="8631000" cy="496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2"/>
          <a:stretch/>
        </p:blipFill>
        <p:spPr>
          <a:xfrm>
            <a:off x="0" y="763560"/>
            <a:ext cx="9144000" cy="65412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مط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01840" y="83664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ع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5656320"/>
            <a:ext cx="4969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ول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62080" y="623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خر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ضوع الكون كله بما فيه من أحياء وجمادات وظواهر كونية لإرادة وتسخير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ل المخلوقات تسبح وتمج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ب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كون الله سبحانه وتعالى هو المعبود حقاً وما سواه باطل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المخلوقات تسبح وتمجد ربه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كلها ظواه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صيب الله بالصواعق والزلازل والبراكين والفيضا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شاء من عبا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وب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بتلاء و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عبادات ومنها الدعاء لا تكون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عز وج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رف شيئاً من أنواع العبادة لغير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أ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عاء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ؤمنين يسجدون لله تعالى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اً وخضوعاً وانقيادا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ون ينقادون لقضاء الله  وقد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ره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27160" y="2421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ص الغدو والآصال بالذكر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لأنه يزداد ظهور الظلال فيهما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أن ظلالهم تسجد في هذين الوقتين تبعاً لأجسا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5T08:42:26Z</dcterms:modified>
  <cp:revision>2060</cp:revision>
  <dc:subject/>
  <dc:title>عرض تقديمي في PowerPoint</dc:title>
</cp:coreProperties>
</file>