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6.jpeg" ContentType="image/jpeg"/>
  <Override PartName="/ppt/media/image10.png" ContentType="image/png"/>
  <Override PartName="/ppt/media/image4.jpeg" ContentType="image/jpeg"/>
  <Override PartName="/ppt/media/image25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15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0534-1BD9-4DAC-A4F2-DEAD78C09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48F0-E4F7-4753-8F04-52B91E898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2D5E-2FF6-46E0-94DB-A428F4668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31C9-794A-43B0-996A-0D6BA985F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F6A8-0E23-464F-999B-A93DCC434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F4F2-1D22-4C5D-B74D-FDBD7DF30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E342-38FD-4C28-AFC6-8619956CD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C026-3C0D-48C8-AB61-8308D65D1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742A-3520-49DE-AAB8-A28695311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74B8-FA07-4820-A76A-BD74537C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6998-C712-4455-A712-EC6DBA7D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BD79-6C61-4F63-820B-C8BEF094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D65AD-08E0-4DB3-A1D5-6D5EEABB9D6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pn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"/>
          <p:cNvPicPr/>
          <p:nvPr/>
        </p:nvPicPr>
        <p:blipFill>
          <a:blip r:embed="rId3"/>
          <a:stretch/>
        </p:blipFill>
        <p:spPr>
          <a:xfrm>
            <a:off x="684360" y="765000"/>
            <a:ext cx="8229600" cy="1151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"/>
          <p:cNvPicPr/>
          <p:nvPr/>
        </p:nvPicPr>
        <p:blipFill>
          <a:blip r:embed="rId4"/>
          <a:stretch/>
        </p:blipFill>
        <p:spPr>
          <a:xfrm>
            <a:off x="0" y="2160720"/>
            <a:ext cx="891396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3"/>
          <a:stretch/>
        </p:blipFill>
        <p:spPr>
          <a:xfrm>
            <a:off x="1135080" y="836640"/>
            <a:ext cx="7758000" cy="4178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4"/>
          <a:stretch/>
        </p:blipFill>
        <p:spPr>
          <a:xfrm>
            <a:off x="3203640" y="2162160"/>
            <a:ext cx="5371920" cy="762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5"/>
          <a:stretch/>
        </p:blipFill>
        <p:spPr>
          <a:xfrm>
            <a:off x="3916440" y="3602160"/>
            <a:ext cx="4647960" cy="685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6"/>
          <a:stretch/>
        </p:blipFill>
        <p:spPr>
          <a:xfrm>
            <a:off x="4067280" y="5013360"/>
            <a:ext cx="463536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76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6" descr=""/>
          <p:cNvPicPr/>
          <p:nvPr/>
        </p:nvPicPr>
        <p:blipFill>
          <a:blip r:embed="rId3"/>
          <a:stretch/>
        </p:blipFill>
        <p:spPr>
          <a:xfrm>
            <a:off x="395280" y="1484280"/>
            <a:ext cx="84978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4" name="عنوان 1"/>
          <p:cNvSpPr/>
          <p:nvPr/>
        </p:nvSpPr>
        <p:spPr>
          <a:xfrm>
            <a:off x="324000" y="5300640"/>
            <a:ext cx="8569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صبر على طاعة   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صبر عن معصية الله      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صبر على البل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0" descr=""/>
          <p:cNvPicPr/>
          <p:nvPr/>
        </p:nvPicPr>
        <p:blipFill>
          <a:blip r:embed="rId3"/>
          <a:stretch/>
        </p:blipFill>
        <p:spPr>
          <a:xfrm>
            <a:off x="1617840" y="836640"/>
            <a:ext cx="7275240" cy="584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"/>
          <p:cNvPicPr/>
          <p:nvPr/>
        </p:nvPicPr>
        <p:blipFill>
          <a:blip r:embed="rId4"/>
          <a:stretch/>
        </p:blipFill>
        <p:spPr>
          <a:xfrm>
            <a:off x="1719360" y="2997360"/>
            <a:ext cx="7173720" cy="571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"/>
          <p:cNvPicPr/>
          <p:nvPr/>
        </p:nvPicPr>
        <p:blipFill>
          <a:blip r:embed="rId5"/>
          <a:stretch/>
        </p:blipFill>
        <p:spPr>
          <a:xfrm>
            <a:off x="5702400" y="4653000"/>
            <a:ext cx="3200400" cy="520560"/>
          </a:xfrm>
          <a:prstGeom prst="rect">
            <a:avLst/>
          </a:prstGeom>
          <a:ln w="0">
            <a:noFill/>
          </a:ln>
        </p:spPr>
      </p:pic>
      <p:sp>
        <p:nvSpPr>
          <p:cNvPr id="98" name="عنوان 1"/>
          <p:cNvSpPr/>
          <p:nvPr/>
        </p:nvSpPr>
        <p:spPr>
          <a:xfrm>
            <a:off x="324000" y="364644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صلاة   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زكا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عنوان 1"/>
          <p:cNvSpPr/>
          <p:nvPr/>
        </p:nvSpPr>
        <p:spPr>
          <a:xfrm>
            <a:off x="324000" y="148428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قبيحاً لحا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145"/>
          <a:stretch/>
        </p:blipFill>
        <p:spPr>
          <a:xfrm>
            <a:off x="476280" y="2421000"/>
            <a:ext cx="819144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307360" cy="3384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9360"/>
            <a:ext cx="9144000" cy="1190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916360" y="5013360"/>
            <a:ext cx="33526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108000" y="958680"/>
            <a:ext cx="8928000" cy="5772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0" descr=""/>
          <p:cNvPicPr/>
          <p:nvPr/>
        </p:nvPicPr>
        <p:blipFill>
          <a:blip r:embed="rId1"/>
          <a:stretch/>
        </p:blipFill>
        <p:spPr>
          <a:xfrm>
            <a:off x="262080" y="1989000"/>
            <a:ext cx="8631000" cy="2880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2"/>
          <a:stretch/>
        </p:blipFill>
        <p:spPr>
          <a:xfrm>
            <a:off x="0" y="760320"/>
            <a:ext cx="9144000" cy="86832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50920" y="428796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لبس في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057480" y="974880"/>
            <a:ext cx="41785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حال السعداء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3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وله تعالى :                            فيه :</a:t>
            </a:r>
            <a:r>
              <a:rPr b="1" lang="ar-SA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نكار على من يتوهم المماثلة بين من يعلم ما أنزله الله من الحق وبين من لا يعلم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اء الوصف بالأعمى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تقبيحاً لحا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ه سبحانه هو العدل فلا يستوي عند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 آمن بالقرآن ومن كفر ب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ؤمن حيّ القلب يبصر بنور قلبه وذلك لأن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يعلم ويعم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كافر ميت القلب أعمى البصيرة وذلك لأن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علم ولا يعم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3716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اتعاظ بالمواعظ يحصل لكل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ذي عقل راجح سليم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7160" y="4148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الحرص على الاتصاف بصفات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سعدا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179280" y="458136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عمال السعداء لا بد أن تكون خالص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وجه الله تعال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50133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عيم أهل الجن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أبدي لا يزول ولا يحو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27160" y="5410080"/>
            <a:ext cx="866592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و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         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شارة إ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 الله يجمع بين السعداء وبين من صلح من الآباء والأهلين والأبناء لتقر أعينهم بهم فترفع درجة الأدنى إلى درجة الأعلى امتناناً من الله تعال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15" descr=""/>
          <p:cNvPicPr/>
          <p:nvPr/>
        </p:nvPicPr>
        <p:blipFill>
          <a:blip r:embed="rId1"/>
          <a:stretch/>
        </p:blipFill>
        <p:spPr>
          <a:xfrm>
            <a:off x="6227640" y="1413000"/>
            <a:ext cx="1663920" cy="550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"/>
          <p:cNvPicPr/>
          <p:nvPr/>
        </p:nvPicPr>
        <p:blipFill>
          <a:blip r:embed="rId2"/>
          <a:stretch/>
        </p:blipFill>
        <p:spPr>
          <a:xfrm>
            <a:off x="2835360" y="5410080"/>
            <a:ext cx="5024520" cy="506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"/>
          <p:cNvPicPr/>
          <p:nvPr/>
        </p:nvPicPr>
        <p:blipFill>
          <a:blip r:embed="rId3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يمان بالملائكة وأنها تدخل على المؤمنين في الجنة للسلام والتهنئة </a:t>
            </a: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27160" y="1916280"/>
            <a:ext cx="8665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و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تضم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دح ما أعطى الله السعداء من الجنة وذلك للترغيب والتشوي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1"/>
          <a:stretch/>
        </p:blipFill>
        <p:spPr>
          <a:xfrm>
            <a:off x="5500800" y="1870200"/>
            <a:ext cx="2311200" cy="523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179280" y="1522440"/>
            <a:ext cx="8640720" cy="42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وفون بعهد ا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لا ينقضون الميثا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صلون ما أمر الله به أن يوص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خشون رب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خافون سوء الحساب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6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صبروا ابتغاء وجه رب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7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قاموا الصلا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8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نفقوا مما رزقهم الله سراً وعلاني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9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درؤون بالحسنة السيئ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3"/>
          <a:stretch/>
        </p:blipFill>
        <p:spPr>
          <a:xfrm>
            <a:off x="4140360" y="836640"/>
            <a:ext cx="4775040" cy="6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23T19:59:14Z</dcterms:modified>
  <cp:revision>2077</cp:revision>
  <dc:subject/>
  <dc:title>عرض تقديمي في PowerPoint</dc:title>
</cp:coreProperties>
</file>