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5B4-5A63-4A8C-A835-7B433CD5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12C-0957-4AC5-9F73-7D801968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B26-12B7-4F11-9B04-11F3917F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2C3-70BE-4860-8908-2668085B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D87-9513-457E-BA16-05E5116E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337-93FF-4893-88F2-DA6E748E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ABF-CB52-47C5-A2AC-96E7782C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BE3-87B8-4C29-9017-CEDDD335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609-0B1E-4A52-B0D8-C3659A04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FE5-AC4D-4C09-AFBC-16D71D16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127-9441-4F3E-A05C-87EBC97B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3A2-7A21-4C04-A1DE-8976A1D7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82DE-7FC2-422E-95F3-83A95E6C528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2360" y="1773360"/>
            <a:ext cx="864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رتفع أبصارهم دون أن تطر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سر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363600" y="1052640"/>
            <a:ext cx="8529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324000" y="479736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تكلم عن الكافري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4103640" y="1052640"/>
            <a:ext cx="47894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4"/>
          <a:stretch/>
        </p:blipFill>
        <p:spPr>
          <a:xfrm>
            <a:off x="2262240" y="2492280"/>
            <a:ext cx="664056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5"/>
          <a:stretch/>
        </p:blipFill>
        <p:spPr>
          <a:xfrm>
            <a:off x="1487520" y="4076640"/>
            <a:ext cx="7415280" cy="5842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141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له ليمهل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324000" y="1700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رف العبادة لغير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205000"/>
            <a:ext cx="86025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884320" y="4819680"/>
            <a:ext cx="35179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1020600"/>
            <a:ext cx="88171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45352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71520" y="413064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61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-15840" y="981000"/>
            <a:ext cx="9105840" cy="935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6480" y="1179360"/>
            <a:ext cx="37018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عاقبة الكافرين المكذبين يوم القيا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653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لوبهم خالية من العقل لفزع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626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لفتم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1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وف الكف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ظ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قبة الظالم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92280"/>
            <a:ext cx="8666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عا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لا تخفى عليه خافية غير غافل عن أعماله عباده بل يعلمها ويحصيها عليهم ويحاسبهم عليها يوم القيا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3357720"/>
            <a:ext cx="866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يوم القيامة على الكافرين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دة يوم القيامة عليهم وما سيكونون عليه من الذلة والصغ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203720"/>
            <a:ext cx="86662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الكافرين المكذبي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دم حتى إنهم يتمنون العودة إلى الدنيا مرة أخرى ليؤمنوا وما هم ب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9068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ر الكافرين و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ظيم حتى إنه من شدته وخبثه يكاد يزيل الجبال عن أماكن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9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بط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ر الكافرين مهما خفي وأُحك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04840" y="170028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أنهم حلفوا في الدنيا أنه لا بعث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أنهم سكنوا مساك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ه عرفوا ماذا فعل الله ب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ذكر الله لهم الأمثال ولم يأخذوا منها ال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3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2360" y="1844640"/>
            <a:ext cx="8640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نذار والتبش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392040" y="1039680"/>
            <a:ext cx="85629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8T09:00:33Z</dcterms:modified>
  <cp:revision>1865</cp:revision>
  <dc:subject/>
  <dc:title>عرض تقديمي في PowerPoint</dc:title>
</cp:coreProperties>
</file>