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E2C-7C9C-4A3A-AE04-B0C129BE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CD90-1621-4127-A1E2-61CB6869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4B7D-0FFD-4F33-B1D2-3B95036B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6A0-38E1-4BE0-8EA5-CD88B841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A9B-4DA0-42EA-9492-36730A26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70E4-6BF1-4231-AF96-77FC1E7C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9EC-862A-4471-AF45-FA0233DF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55D7-039C-498B-A2D3-49492862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7C2-E4F9-4087-B0FD-20C7FF8C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66C4-3264-4047-884F-B1C6E60E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EAEB-4B3A-4BC2-9162-E01C855C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4C0-8044-4E71-BFCF-10BB05EA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020A-4354-41B6-B606-BEE5A6FA4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أمر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بالمعروف والنهي عن المنكر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من من عذاب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13800" cy="568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324000" y="3645000"/>
            <a:ext cx="4211640" cy="904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250920" y="4724280"/>
            <a:ext cx="4316400" cy="1944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250920" y="2492280"/>
            <a:ext cx="4284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395280" y="957240"/>
            <a:ext cx="8532720" cy="1895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250920" y="2852640"/>
            <a:ext cx="86421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179280" y="1438200"/>
            <a:ext cx="8713800" cy="523080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23920" y="589284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طاعة الله والرسول في كل أمر والبعد عن كل ما نهى عن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503280" y="1125360"/>
            <a:ext cx="820260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2679840" y="3213000"/>
            <a:ext cx="6222960" cy="135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5"/>
          <a:stretch/>
        </p:blipFill>
        <p:spPr>
          <a:xfrm>
            <a:off x="3378240" y="5365800"/>
            <a:ext cx="553716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179280" y="249228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وف من الله تعالى والدعاء بأن يثبت الله قلبه على الإيم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452592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سماع تفه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3351240"/>
            <a:ext cx="86281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134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73280"/>
            <a:ext cx="85420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6965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116000" y="1197000"/>
            <a:ext cx="7707240" cy="4392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7667640" y="342900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642160" cy="5399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250920" y="389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ا تعرضو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581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يو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229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كلام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8723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جيبوا الله والرس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سماع الذي نفاه الله عن المشركين في قوله تعالى :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هو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ماع تدبر وعظ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49228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ما سماع التبليغ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قامت الحجة عليهم به بما سمعوه من آي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213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أن من  الناس من هو شر من الدواب وأحط منزل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الله تعالى وهبهم أسماعاً وأبصاراً وأفئدة فاستعملوها في معصيته وتركوا طاعته وأم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منع الإيمان والخير إلا ع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خير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1730520" y="1484280"/>
            <a:ext cx="2481120" cy="4842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179280" y="4797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ان عدم هداية الله ل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أنفسهم لا تقبل الخير ولا تميل إلى الهدى إذ عرف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44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استجابة لله ولرسوله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اة المسلمين الحقيقية وقوتهم وعزت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609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طريق سعادة المرء في الدنيا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تقوى الله وطاعة رس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طريق سعادة المرء في الدنيا يكون بتقوى الله وطاعة رسوله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85264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قلوب بيد الله تعالى يصرفها كيف يش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عائ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يا مقلب القلوب ثبت قلبي على دينك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86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ذر من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450864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ضررها لا يقتصر على الفاعل فحسب بل يتضرر بذلك المجتمع بأس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5445000"/>
            <a:ext cx="866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ضرر الفسوق والمعاصي والمنكرات لا يقتصر على الفاعل فحسب بل يتضرر بذلك المجتمع بأس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ذا ظهرت المعاصي في أمتي عمهم الله بعذاب من عنده ...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27040" y="1989000"/>
            <a:ext cx="83311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