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416C-6AE5-4C75-8023-7AB446F0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626-FB76-434B-86A1-17900A18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FD5-BA2B-4576-8B3A-FFA4DE813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35F5-4739-4A65-90B6-306514FB4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5555-3D77-4AA0-B361-83E0D91F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C6C-898A-4167-AD25-7216CD50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C6C-82B9-4714-878E-38F012F1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1DD-73E7-4D54-B8DA-6229A2BB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5DB1-3185-4461-A0A0-E5D44DB7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AE1-4E5A-484E-AF9E-8F86CE9B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6EA-0AF8-4E71-B195-2A7A670E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43F8-1352-4E61-B312-EAEF4CA7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7D4F-98D9-4842-A37F-E7E88CEDA39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امساً: تيسير الكريم الرحمن في تفسير كلام المن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18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عنوان 1"/>
          <p:cNvSpPr/>
          <p:nvPr/>
        </p:nvSpPr>
        <p:spPr>
          <a:xfrm>
            <a:off x="3203640" y="2535120"/>
            <a:ext cx="2305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برز مقاصد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2" name="عنوان 1"/>
          <p:cNvSpPr/>
          <p:nvPr/>
        </p:nvSpPr>
        <p:spPr>
          <a:xfrm>
            <a:off x="6227640" y="2494080"/>
            <a:ext cx="2665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ّن المعنى الإجمالي للآي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عنوان 1"/>
          <p:cNvSpPr/>
          <p:nvPr/>
        </p:nvSpPr>
        <p:spPr>
          <a:xfrm>
            <a:off x="179280" y="2514600"/>
            <a:ext cx="2737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نبط منه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5" name="رابط كسهم مستقيم 13"/>
          <p:cNvCxnSpPr/>
          <p:nvPr/>
        </p:nvCxnSpPr>
        <p:spPr>
          <a:xfrm>
            <a:off x="4427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1495440" y="2736720"/>
            <a:ext cx="4516560" cy="4121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3"/>
          <a:stretch/>
        </p:blipFill>
        <p:spPr>
          <a:xfrm>
            <a:off x="6157800" y="2924280"/>
            <a:ext cx="2826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2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3"/>
          <a:stretch/>
        </p:blipFill>
        <p:spPr>
          <a:xfrm>
            <a:off x="279360" y="1778040"/>
            <a:ext cx="85834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34" name="عنوان 1"/>
          <p:cNvSpPr/>
          <p:nvPr/>
        </p:nvSpPr>
        <p:spPr>
          <a:xfrm>
            <a:off x="166680" y="4653000"/>
            <a:ext cx="8691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ذكر مقالات السلف بالأسانيد الثابتة ولبس فيه بدعة ولا ينقل عن المتهم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3"/>
          <a:stretch/>
        </p:blipFill>
        <p:spPr>
          <a:xfrm>
            <a:off x="2882880" y="1052640"/>
            <a:ext cx="5981760" cy="2781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tretch/>
        </p:blipFill>
        <p:spPr>
          <a:xfrm>
            <a:off x="4599000" y="4076640"/>
            <a:ext cx="4292640" cy="533520"/>
          </a:xfrm>
          <a:prstGeom prst="rect">
            <a:avLst/>
          </a:prstGeom>
          <a:ln w="0">
            <a:noFill/>
          </a:ln>
        </p:spPr>
      </p:pic>
      <p:sp>
        <p:nvSpPr>
          <p:cNvPr id="137" name="عنوان 1"/>
          <p:cNvSpPr/>
          <p:nvPr/>
        </p:nvSpPr>
        <p:spPr>
          <a:xfrm>
            <a:off x="3635280" y="169056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ساب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عنوان 1"/>
          <p:cNvSpPr/>
          <p:nvPr/>
        </p:nvSpPr>
        <p:spPr>
          <a:xfrm>
            <a:off x="2654280" y="2276640"/>
            <a:ext cx="3213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عنوان 1"/>
          <p:cNvSpPr/>
          <p:nvPr/>
        </p:nvSpPr>
        <p:spPr>
          <a:xfrm>
            <a:off x="3492360" y="2924280"/>
            <a:ext cx="3213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م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عنوان 1"/>
          <p:cNvSpPr/>
          <p:nvPr/>
        </p:nvSpPr>
        <p:spPr>
          <a:xfrm>
            <a:off x="2340000" y="3500280"/>
            <a:ext cx="3214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ن الثالث عش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43" name="عنوان 1"/>
          <p:cNvSpPr/>
          <p:nvPr/>
        </p:nvSpPr>
        <p:spPr>
          <a:xfrm>
            <a:off x="166680" y="1484280"/>
            <a:ext cx="86914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ناية بالأحكام الفقهية مع دقة الاستنباط وقوة الاستدل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4857840" y="907920"/>
            <a:ext cx="4000320" cy="520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/>
          <p:cNvPicPr/>
          <p:nvPr/>
        </p:nvPicPr>
        <p:blipFill>
          <a:blip r:embed="rId4"/>
          <a:stretch/>
        </p:blipFill>
        <p:spPr>
          <a:xfrm>
            <a:off x="4676760" y="2708280"/>
            <a:ext cx="4216320" cy="469800"/>
          </a:xfrm>
          <a:prstGeom prst="rect">
            <a:avLst/>
          </a:prstGeom>
          <a:ln w="0">
            <a:noFill/>
          </a:ln>
        </p:spPr>
      </p:pic>
      <p:sp>
        <p:nvSpPr>
          <p:cNvPr id="146" name="عنوان 1"/>
          <p:cNvSpPr/>
          <p:nvPr/>
        </p:nvSpPr>
        <p:spPr>
          <a:xfrm>
            <a:off x="179280" y="3284640"/>
            <a:ext cx="86918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عتمد على أصح طرق التفسير وهي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ذكر الآية ثم يفسرها معتمداً على الآيات المناسبة 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يورد الأحاديث التي لها صلة بالآ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بأقوال الصحابة والتابعين والعلماء المعت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قد يورد بعض الروايات الإسرائيلية إلا انه ينبه على المنكر من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-7920"/>
            <a:ext cx="9142560" cy="1333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36600" y="1924200"/>
            <a:ext cx="8469360" cy="30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62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امع البيان عن تأويل آي 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37"/>
          <p:cNvCxnSpPr/>
          <p:nvPr/>
        </p:nvCxnSpPr>
        <p:spPr>
          <a:xfrm flipH="1">
            <a:off x="8456040" y="3715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324000" y="352260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جامع البيان عن تأويل آي 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4067280" y="2443320"/>
            <a:ext cx="180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يس فيه بد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ذكر مقالات السلف بالأسانيد الثابتة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95280" y="2514600"/>
            <a:ext cx="2089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ولا ينقل عن المتهم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2268360" y="2755800"/>
            <a:ext cx="4104000" cy="40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3"/>
          <a:stretch/>
        </p:blipFill>
        <p:spPr>
          <a:xfrm>
            <a:off x="6588000" y="3062160"/>
            <a:ext cx="2484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72880" y="2133720"/>
            <a:ext cx="86918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1763640" y="907920"/>
            <a:ext cx="711540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048040" y="2924280"/>
            <a:ext cx="4322520" cy="39337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تفسير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80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851280" y="2535120"/>
            <a:ext cx="201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في المرتبة الثانية بعد تفسير ابن جرير الطبر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6804000" y="2443320"/>
            <a:ext cx="2016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شهر ما دون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395280" y="2514600"/>
            <a:ext cx="2376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عتمد على أصح طرق 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6300720" y="3141720"/>
            <a:ext cx="26481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الدر المنثور في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92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ون فيه تفسير رسول ال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صحابة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ابعين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6227640" y="2494080"/>
            <a:ext cx="266544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جمع ما ألف في التفسير بالمأثو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عنوان 1"/>
          <p:cNvSpPr/>
          <p:nvPr/>
        </p:nvSpPr>
        <p:spPr>
          <a:xfrm>
            <a:off x="179280" y="25146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بع ما ورد في كتب السنة والتفسي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34920" y="2871720"/>
            <a:ext cx="4305240" cy="3976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3"/>
          <a:stretch/>
        </p:blipFill>
        <p:spPr>
          <a:xfrm>
            <a:off x="4575240" y="3141720"/>
            <a:ext cx="443556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: أضواء البيان في إيضاح القرآن بالقرآ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كتاب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73160"/>
          </a:xfrm>
          <a:prstGeom prst="rect">
            <a:avLst/>
          </a:prstGeom>
          <a:ln w="0">
            <a:noFill/>
          </a:ln>
        </p:spPr>
      </p:pic>
      <p:sp>
        <p:nvSpPr>
          <p:cNvPr id="105" name="رابط مستقيم 6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رابط مستقيم 7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عنوان 1"/>
          <p:cNvSpPr/>
          <p:nvPr/>
        </p:nvSpPr>
        <p:spPr>
          <a:xfrm>
            <a:off x="3564000" y="2535120"/>
            <a:ext cx="230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يفسر ما كانت الحاجة ماسة لبيانه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8" name="رابط كسهم مستقيم 9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عنوان 1"/>
          <p:cNvSpPr/>
          <p:nvPr/>
        </p:nvSpPr>
        <p:spPr>
          <a:xfrm>
            <a:off x="6227640" y="2494080"/>
            <a:ext cx="2665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تميز بتفسير القرآن بالقرآ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العناية بالأحكام الفقهية مع دقة الاستنباط وقوة الاستدلا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رابط كسهم مستقيم 11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عنوان 1"/>
          <p:cNvSpPr/>
          <p:nvPr/>
        </p:nvSpPr>
        <p:spPr>
          <a:xfrm>
            <a:off x="179280" y="2421000"/>
            <a:ext cx="27370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وصل في تفسيره إلى سورة المجادلة ثم أتمه    تلميذه الشيخ عطية سال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رابط كسهم مستقيم 13"/>
          <p:cNvCxnSpPr/>
          <p:nvPr/>
        </p:nvCxnSpPr>
        <p:spPr>
          <a:xfrm>
            <a:off x="5003280" y="215388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187280" y="2886120"/>
            <a:ext cx="4322880" cy="3971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3"/>
          <a:stretch/>
        </p:blipFill>
        <p:spPr>
          <a:xfrm>
            <a:off x="5564160" y="3284640"/>
            <a:ext cx="338472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