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0CF-D7C8-45D6-A974-A4C4F4DE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E90-0977-499A-83F3-05417FB6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836-925E-488A-B00B-FEDFFD82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2C6-4616-4DE1-8A12-0580DEBA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C9C-0DB5-4AF3-B37F-591652FB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78E-F9AA-45DC-8731-B68FE02B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6AA-4341-4FEC-A0F0-23E84A2D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B93-589F-4EDE-B6B3-2E2A2F4C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E34-E7E8-4997-9CD3-F4B730F4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C85-B9FB-4D57-AB04-3333C52D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E27-776F-4E70-84F9-473E154F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78F-095E-4C14-8CB2-09238B19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F949-8947-4AFC-9545-5422A88F1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650880"/>
            <a:ext cx="86421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توب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مائ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9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4797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راء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فتتاح السورة بها ولانها أظهرت البراءة من المشركين و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ز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6732720" y="435456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راء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27160" y="5300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توبة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فيها التوبة على ا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0" name="رابط كسهم مستقيم 21"/>
          <p:cNvCxnSpPr/>
          <p:nvPr/>
        </p:nvCxnSpPr>
        <p:spPr>
          <a:xfrm>
            <a:off x="6011640" y="40482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5148360" y="431964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>
            <a:off x="3924000" y="4076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3059280" y="4394160"/>
            <a:ext cx="158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اضح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24000" y="5805360"/>
            <a:ext cx="86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فاض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فضحت المنافقين وأظهرت مخاز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24000" y="6308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مخز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أخزت المنافقين بكشف أسرا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تأمين الكفار إذا رغبوا في سماع كلام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19"/>
          <p:cNvSpPr/>
          <p:nvPr/>
        </p:nvSpPr>
        <p:spPr>
          <a:xfrm flipH="1">
            <a:off x="8817120" y="1662120"/>
            <a:ext cx="2880" cy="42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راءة من عهود المشرك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غلظة على الكفار المعاند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الجهاد في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أهل ال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ن الغاية من الجهاد في سبيل إعلاء كلمة الله ونشر دي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المنافق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ديث عن غزوة تبوك وجيش العس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ة مسجد الضر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38"/>
          <p:cNvCxnSpPr/>
          <p:nvPr/>
        </p:nvCxnSpPr>
        <p:spPr>
          <a:xfrm flipH="1">
            <a:off x="8456040" y="5940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250920" y="5724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تنان الله على البشر ببعثه محمد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قيقة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ظهار الإسلام وإبطان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179280" y="215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بث النفس وفساد الباطن مع العجز عن إظهار ذلك المستو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179280" y="272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جأ من ابتلي بالنفا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تلون وإظهار الخير وإخفاء الش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106380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ظاهر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رابط مستقيم 7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رابط مستقيم 8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رابط كسهم مستقيم 9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ح بما يسوء المسلمين والحزن على ما يس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11"/>
          <p:cNvSpPr/>
          <p:nvPr/>
        </p:nvSpPr>
        <p:spPr>
          <a:xfrm>
            <a:off x="8820000" y="1662120"/>
            <a:ext cx="0" cy="34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رابط كسهم مستقيم 12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هزاؤهم بالدين وأ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رابط كسهم مستقيم 15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كيم القوانين الوض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رابط كسهم مستقيم 17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 يد العون لأعداء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19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حاربة العف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رابط كسهم مستقيم 21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عجابهم بالكفار والتشبه ب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رابط كسهم مستقيم 23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ل إلى الشهوات ونشر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5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رص على تثبيط أهل الإيم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6:19:51Z</dcterms:modified>
  <cp:revision>1783</cp:revision>
  <dc:subject/>
  <dc:title>عرض تقديمي في PowerPoint</dc:title>
</cp:coreProperties>
</file>