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3ED-A14E-4B46-97ED-7D50F4CA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BF7-882F-4A8A-ACFC-EBBB2254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8D1-930C-4991-BE19-48472D12B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A22-2491-4C50-8274-6CA6A278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51AD-0D15-4DC4-9AC8-B6167BB2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8AE5-08E9-4EA5-873B-61388746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66C-064E-43F7-8CFD-374CE1C6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E99-8A89-475B-AD8F-1855A8F2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A2D-49CC-40DE-B2C4-13C145683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214-4C27-4352-87A6-2F3BD1B1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059-139B-414E-B77D-2020DCDD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B946-F38D-4013-A267-E2096BF8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67FD9-8A8F-4C6D-9B06-5FDC3EC54571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2600"/>
            <a:ext cx="91296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2360" y="1179360"/>
            <a:ext cx="863928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22200" y="1844640"/>
            <a:ext cx="8570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64960" y="1557360"/>
            <a:ext cx="8666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إسراء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ها ذكرت حادثة الإسراء بالنبي صلى الله عليه وسلم من المسجد الحرام إلى المسجد الأقص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997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أسراء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قص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14200" y="2421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أسراء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أمر ب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54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صديق الرسول صلى الله عليه وسلم في قصة الإسر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شيء من الواجبات والمنهيات في الإ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رد على المشرك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قدرة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cxnSp>
        <p:nvCxnSpPr>
          <p:cNvPr id="67" name="رابط كسهم مستقيم 27"/>
          <p:cNvCxnSpPr/>
          <p:nvPr/>
        </p:nvCxnSpPr>
        <p:spPr>
          <a:xfrm flipH="1">
            <a:off x="8456040" y="4198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50920" y="3965400"/>
            <a:ext cx="8208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تعنت الكفار مع النبي صلى الله عليه وسلم وتوجيه الرسول صلى الله عليه وسلم إلى كيفية الرد عليه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3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250920" y="1467000"/>
            <a:ext cx="864216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42:56Z</dcterms:modified>
  <cp:revision>1827</cp:revision>
  <dc:subject/>
  <dc:title>عرض تقديمي في PowerPoint</dc:title>
</cp:coreProperties>
</file>