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6A8-DDE1-451B-8C03-58CCF557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FA2E-EA48-4405-8BBF-E920A6C4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54F-95FA-4E66-9E8C-8C00B885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531E-5AF3-49CC-8585-1FE0F49E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6172-4B74-4863-BD83-E0762219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239-E54F-4A2B-A66E-186AEA50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BAE-4CF5-46D2-BA11-793275FA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0C0-9A7F-48D0-9A95-12967089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A76-4084-4584-ACC9-06E3B43F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4B3-9A48-41AB-B48A-A93B61E6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488-BF22-4064-8BC1-7B5B8EBC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93B-A7CC-46E9-89E3-DBE8E40A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DDFD-2E41-458F-8DC7-F289777FDC6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50920" y="1515960"/>
            <a:ext cx="8642160" cy="508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3"/>
          <a:stretch/>
        </p:blipFill>
        <p:spPr>
          <a:xfrm>
            <a:off x="1255680" y="907920"/>
            <a:ext cx="7643880" cy="1320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4"/>
          <a:stretch/>
        </p:blipFill>
        <p:spPr>
          <a:xfrm>
            <a:off x="1204920" y="3716280"/>
            <a:ext cx="769464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هم أكثر الناس فسوقاً وخروجاً عن الفضائ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4581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نسوا الإيمان بالله وذكره فعاقبهم الله بنسيانه إياهم من فضله وتوفي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989440"/>
            <a:ext cx="8642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17640"/>
            <a:ext cx="915192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2360" y="4869000"/>
            <a:ext cx="34671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576600" y="981000"/>
            <a:ext cx="53341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62776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642160" cy="482436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43000" y="398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أمرون بالكفر والمعاص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44719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نهون عن الإيمان و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43000" y="50115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الإنفاق في 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5583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هم من لطف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ارجون من طريق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نافقين هم أكثر النا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سوقاً وخروجاً عن الفضائ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اء عضال يتغلل في النفس فيجعل المعروف منكراً والمنكر معروف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ين في كل ع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تشابه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أمر بالمنكر وإشاعة الفواحش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هي عن المعروف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عويق طرق الخير وال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مات المنافق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خل بالمال وعدم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9975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6293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نسوا الإيمان بالله وذكره فعاقبهم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نسيانه إياهم من فضله وتوفي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08000" y="63165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رجات الفسق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فر أكبر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بائر لا تصل إلى حد ال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182520" y="907920"/>
            <a:ext cx="8796240" cy="12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09520" y="2316240"/>
          <a:ext cx="8683560" cy="1981080"/>
        </p:xfrm>
        <a:graphic>
          <a:graphicData uri="http://schemas.openxmlformats.org/drawingml/2006/table">
            <a:tbl>
              <a:tblPr/>
              <a:tblGrid>
                <a:gridCol w="4341960"/>
                <a:gridCol w="434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ؤمن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نافق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لا 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ذكرون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نسوا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2T17:08:17Z</dcterms:modified>
  <cp:revision>1867</cp:revision>
  <dc:subject/>
  <dc:title>عرض تقديمي في PowerPoint</dc:title>
</cp:coreProperties>
</file>