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706-1790-4009-AADF-13D5CB67F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01E-C389-4FE1-8B41-BDFF8A3DC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C9F6-B646-4464-A661-5EEBB719F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BB3D-DE86-4918-B3E4-49BCDE76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2EB5-0EB9-437B-B05C-C6F63D71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72E3-8114-48EB-8A28-06913792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D732-2CB6-4AC4-A185-94492CFF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FFA-32D6-4B9F-8927-FE349027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BCAA-C4C2-4613-A8D7-036A3D01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92A-B084-4C7A-B57B-AEB9B2ED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1E2-4D38-4942-9FF7-369BEFD7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3A0E-2DFE-41D3-A3DC-5272118C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5A896-3CE4-4A69-800F-40661EEFBE1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50920" y="1557360"/>
            <a:ext cx="8574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سر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ريم ما أحل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واحش الظاهرة والباط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أث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 بغير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شرك ب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ول على الله بغير عل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4633920" y="981000"/>
            <a:ext cx="419112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6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1476360" y="1628640"/>
            <a:ext cx="732636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3263760" y="836640"/>
            <a:ext cx="5664240" cy="57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"/>
          <p:cNvPicPr/>
          <p:nvPr/>
        </p:nvPicPr>
        <p:blipFill>
          <a:blip r:embed="rId4"/>
          <a:stretch/>
        </p:blipFill>
        <p:spPr>
          <a:xfrm>
            <a:off x="932040" y="3060720"/>
            <a:ext cx="8011800" cy="5842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646440"/>
            <a:ext cx="86914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شرك بالله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ر الوالدين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قتل الأولا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عد عن الفواحش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قتل النفس إلا بالح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حرم أكل مال اليتم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عدل في الكيل والميز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عدل والصدق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مر بالوفاء بالعهد  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 – اتباع الصراط المست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1484280"/>
            <a:ext cx="8691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 تكون بقدر الحاجة . قال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250920" y="2205000"/>
            <a:ext cx="8691480" cy="67644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573408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يسأل أهل العلم الراسخين في ال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6"/>
          <a:stretch/>
        </p:blipFill>
        <p:spPr>
          <a:xfrm>
            <a:off x="2556000" y="5157720"/>
            <a:ext cx="62355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50920" y="692280"/>
            <a:ext cx="8642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69840"/>
            <a:ext cx="9144000" cy="1247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63600" y="1816200"/>
            <a:ext cx="84564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8" name="عنوان 1"/>
          <p:cNvSpPr/>
          <p:nvPr/>
        </p:nvSpPr>
        <p:spPr>
          <a:xfrm>
            <a:off x="260280" y="1700280"/>
            <a:ext cx="860760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الآيات عن ما أمرنا الله به وما نهانا ع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916440" y="836640"/>
            <a:ext cx="49654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61920" y="836640"/>
            <a:ext cx="9020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"/>
          <p:cNvPicPr/>
          <p:nvPr/>
        </p:nvPicPr>
        <p:blipFill>
          <a:blip r:embed="rId1"/>
          <a:stretch/>
        </p:blipFill>
        <p:spPr>
          <a:xfrm>
            <a:off x="179280" y="1770120"/>
            <a:ext cx="8713800" cy="5087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66840" y="4654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لا يزيدوا على قدر الحاج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0766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66840" y="5159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عــظم قبحه من الذنو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24000" y="569124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رها وسرها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3"/>
          <a:stretch/>
        </p:blipFill>
        <p:spPr>
          <a:xfrm>
            <a:off x="3203640" y="879480"/>
            <a:ext cx="5676840" cy="74916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24000" y="6267600"/>
            <a:ext cx="4781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ذنب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قوله تعالى 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رد على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شركين الذين يطوفون بالبيت عر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ينة والجما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ص الإسلام عل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2924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هي عن الإسراف في الأكل والشرب وهو ثلاثة أنواع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246480" cy="503280"/>
          </a:xfrm>
          <a:prstGeom prst="rect">
            <a:avLst/>
          </a:prstGeom>
          <a:ln w="0">
            <a:noFill/>
          </a:ln>
        </p:spPr>
      </p:pic>
      <p:sp>
        <p:nvSpPr>
          <p:cNvPr id="66" name="رابط مستقيم 18"/>
          <p:cNvSpPr/>
          <p:nvPr/>
        </p:nvSpPr>
        <p:spPr>
          <a:xfrm flipH="1">
            <a:off x="4571640" y="32846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19"/>
          <p:cNvSpPr/>
          <p:nvPr/>
        </p:nvSpPr>
        <p:spPr>
          <a:xfrm flipH="1">
            <a:off x="4566960" y="3541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0"/>
          <p:cNvCxnSpPr/>
          <p:nvPr/>
        </p:nvCxnSpPr>
        <p:spPr>
          <a:xfrm flipH="1">
            <a:off x="8456040" y="4436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422100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بالغة في الترفه والمأكل والمشرب والملب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رابط مستقيم 29"/>
          <p:cNvSpPr/>
          <p:nvPr/>
        </p:nvSpPr>
        <p:spPr>
          <a:xfrm flipH="1">
            <a:off x="8817120" y="3535200"/>
            <a:ext cx="2880" cy="1505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رابط كسهم مستقيم 30"/>
          <p:cNvCxnSpPr/>
          <p:nvPr/>
        </p:nvCxnSpPr>
        <p:spPr>
          <a:xfrm flipH="1">
            <a:off x="8456040" y="38602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عنوان 1"/>
          <p:cNvSpPr/>
          <p:nvPr/>
        </p:nvSpPr>
        <p:spPr>
          <a:xfrm>
            <a:off x="324000" y="3666960"/>
            <a:ext cx="813564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جاوز حد الاعتدال في الأكل والشر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3"/>
          <p:cNvCxnSpPr/>
          <p:nvPr/>
        </p:nvCxnSpPr>
        <p:spPr>
          <a:xfrm flipH="1">
            <a:off x="8456040" y="5040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250920" y="4805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ناول ال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صل في حكم المأكل والمشرب والملبس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باح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50920" y="5950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ذب على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62080" y="2637000"/>
            <a:ext cx="86072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سباب : عدم الخوف من عقاب الله وح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لاج : الخوف من الله والتواضع وتجنب المفاخرة والسم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69360" cy="166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5400720" y="3786120"/>
            <a:ext cx="3492360" cy="158760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250920" y="4400640"/>
            <a:ext cx="75610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24000" y="4905360"/>
            <a:ext cx="75610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قتصار على ما يحتاجه م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