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D2C1-7573-44E3-A2C3-EEFEA6B27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24F6-0DC7-4A61-911F-5511F096D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993D-3166-4873-AB9B-F1EAD4434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7F02-3B90-49EB-934E-595554796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2716-622A-417D-84E8-B6D77BDAA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E163-31B5-43AB-A95B-7EABA02A1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3EE0-A67D-4BFA-98AE-569FADF70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D4F0-D29C-47ED-ABB6-19D93E012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089A-5640-4D19-A991-5563B5CDA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FE60-FB93-40C3-8D75-734807C73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C25E-E6EF-4A31-B85B-8BDF88DD3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9AA2-4D33-4CDE-BA77-4CE3B9F3E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0FA7D-61F8-4201-85AF-F7EEEE2CC96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"/>
          <p:cNvPicPr/>
          <p:nvPr/>
        </p:nvPicPr>
        <p:blipFill>
          <a:blip r:embed="rId3"/>
          <a:stretch/>
        </p:blipFill>
        <p:spPr>
          <a:xfrm>
            <a:off x="324000" y="981000"/>
            <a:ext cx="8589960" cy="86364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227160" y="1989000"/>
            <a:ext cx="868968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إذا استنفرنا الإمام للجهاد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إذا هجم الكفارعلى بلد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إذا التقى الصفان وتقابل الزحفا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9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99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6" descr=""/>
          <p:cNvPicPr/>
          <p:nvPr/>
        </p:nvPicPr>
        <p:blipFill>
          <a:blip r:embed="rId3"/>
          <a:stretch/>
        </p:blipFill>
        <p:spPr>
          <a:xfrm>
            <a:off x="395280" y="1484280"/>
            <a:ext cx="8424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3" name="عنوان 1"/>
          <p:cNvSpPr/>
          <p:nvPr/>
        </p:nvSpPr>
        <p:spPr>
          <a:xfrm>
            <a:off x="227160" y="3949560"/>
            <a:ext cx="86896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 في الجهاد في سبيل الله خير كثير  للمسلمي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10" descr=""/>
          <p:cNvPicPr/>
          <p:nvPr/>
        </p:nvPicPr>
        <p:blipFill>
          <a:blip r:embed="rId3"/>
          <a:stretch/>
        </p:blipFill>
        <p:spPr>
          <a:xfrm>
            <a:off x="4140360" y="981000"/>
            <a:ext cx="4546440" cy="520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1" descr=""/>
          <p:cNvPicPr/>
          <p:nvPr/>
        </p:nvPicPr>
        <p:blipFill>
          <a:blip r:embed="rId4"/>
          <a:stretch/>
        </p:blipFill>
        <p:spPr>
          <a:xfrm>
            <a:off x="1055520" y="3238560"/>
            <a:ext cx="7859880" cy="622080"/>
          </a:xfrm>
          <a:prstGeom prst="rect">
            <a:avLst/>
          </a:prstGeom>
          <a:ln w="0">
            <a:noFill/>
          </a:ln>
        </p:spPr>
      </p:pic>
      <p:sp>
        <p:nvSpPr>
          <p:cNvPr id="86" name="عنوان 1"/>
          <p:cNvSpPr/>
          <p:nvPr/>
        </p:nvSpPr>
        <p:spPr>
          <a:xfrm>
            <a:off x="201600" y="1557360"/>
            <a:ext cx="86914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إعلاء كلمة الله تعالى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نصر المظلومين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ردّ العدوان وحفظ الإسلام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-49"/>
          <a:stretch/>
        </p:blipFill>
        <p:spPr>
          <a:xfrm>
            <a:off x="250920" y="907920"/>
            <a:ext cx="8642160" cy="46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43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250920" y="2133720"/>
            <a:ext cx="86137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2"/>
          <a:stretch/>
        </p:blipFill>
        <p:spPr>
          <a:xfrm>
            <a:off x="223920" y="981000"/>
            <a:ext cx="869616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8673840" cy="29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9" descr=""/>
          <p:cNvPicPr/>
          <p:nvPr/>
        </p:nvPicPr>
        <p:blipFill>
          <a:blip r:embed="rId1"/>
          <a:stretch/>
        </p:blipFill>
        <p:spPr>
          <a:xfrm>
            <a:off x="250920" y="2116080"/>
            <a:ext cx="8642160" cy="4481640"/>
          </a:xfrm>
          <a:prstGeom prst="rect">
            <a:avLst/>
          </a:prstGeom>
          <a:ln w="0">
            <a:noFill/>
          </a:ln>
        </p:spPr>
      </p:pic>
      <p:sp>
        <p:nvSpPr>
          <p:cNvPr id="51" name="عنوان 1"/>
          <p:cNvSpPr/>
          <p:nvPr/>
        </p:nvSpPr>
        <p:spPr>
          <a:xfrm>
            <a:off x="250920" y="410832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في العسر واليسر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عنوان 1"/>
          <p:cNvSpPr/>
          <p:nvPr/>
        </p:nvSpPr>
        <p:spPr>
          <a:xfrm>
            <a:off x="250920" y="457524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سفراً قريبا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250920" y="501336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للجهاد والقتا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250920" y="554688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يعتذر عن الخروج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"/>
          <p:cNvPicPr/>
          <p:nvPr/>
        </p:nvPicPr>
        <p:blipFill>
          <a:blip r:embed="rId3"/>
          <a:stretch/>
        </p:blipFill>
        <p:spPr>
          <a:xfrm>
            <a:off x="250920" y="981000"/>
            <a:ext cx="8642160" cy="85104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324000" y="601488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يتحيرو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1484280"/>
            <a:ext cx="86659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جهاد مرتبط بإذن :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إما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20680" y="213372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تخلف عن الجهاد الواجب والاعتذار بأعذار كاذبة علامة من علامات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نفا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50920" y="2781360"/>
            <a:ext cx="8665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اتب الله رسوله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في قوله تعالى 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ع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إذنه لمن استأذنه في القعود قبل أن يتبين الصادق منهم في عذره من الكاذب في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27160" y="3716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نبي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بشر لا يعلم الغيب إلا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بإعلام الله ل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179280" y="4365720"/>
            <a:ext cx="8666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من صفات المؤمني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مبادرة إلى الأعمال الصالح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27160" y="494172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أعظم الأعمال الصالح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جهاد في سبيل الل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179280" y="5516640"/>
            <a:ext cx="8666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شك في العقيد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خطي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" descr=""/>
          <p:cNvPicPr/>
          <p:nvPr/>
        </p:nvPicPr>
        <p:blipFill>
          <a:blip r:embed="rId2"/>
          <a:stretch/>
        </p:blipFill>
        <p:spPr>
          <a:xfrm>
            <a:off x="3262320" y="2708280"/>
            <a:ext cx="2822400" cy="541440"/>
          </a:xfrm>
          <a:prstGeom prst="rect">
            <a:avLst/>
          </a:prstGeom>
          <a:ln w="0">
            <a:noFill/>
          </a:ln>
        </p:spPr>
      </p:pic>
      <p:sp>
        <p:nvSpPr>
          <p:cNvPr id="68" name="عنوان 1"/>
          <p:cNvSpPr/>
          <p:nvPr/>
        </p:nvSpPr>
        <p:spPr>
          <a:xfrm>
            <a:off x="108000" y="602136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سبب الشك في العقيد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حيرة والترد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"/>
          <p:cNvPicPr/>
          <p:nvPr/>
        </p:nvPicPr>
        <p:blipFill>
          <a:blip r:embed="rId3"/>
          <a:stretch/>
        </p:blipFill>
        <p:spPr>
          <a:xfrm>
            <a:off x="298440" y="1125360"/>
            <a:ext cx="8545680" cy="719280"/>
          </a:xfrm>
          <a:prstGeom prst="rect">
            <a:avLst/>
          </a:prstGeom>
          <a:ln w="0">
            <a:noFill/>
          </a:ln>
        </p:spPr>
      </p:pic>
      <p:sp>
        <p:nvSpPr>
          <p:cNvPr id="72" name="عنوان 1"/>
          <p:cNvSpPr/>
          <p:nvPr/>
        </p:nvSpPr>
        <p:spPr>
          <a:xfrm>
            <a:off x="227160" y="2004840"/>
            <a:ext cx="868968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 صفات المؤمنين المبادرة إلى الأعمال الصالحة والبعد عن التردد والحير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10T19:38:18Z</dcterms:modified>
  <cp:revision>1811</cp:revision>
  <dc:subject/>
  <dc:title>عرض تقديمي في PowerPoint</dc:title>
</cp:coreProperties>
</file>