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F7A7-95B2-4268-9838-7523A0D6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288-C388-4C8B-897B-D6E5032B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CE1-9144-4989-B782-AF2C5A26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DDC-9AA1-485D-A7B5-8C6C9B3C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CD08-E70F-45C3-8C07-F7FD6E6C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2A4F-F750-49E8-AF32-B4461B86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E97-E9DA-4FA5-880E-78B9E68A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40D-3BA9-4352-BB21-DAFC3F0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380-2C26-495C-B173-176AD60A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AA2F-60C7-482E-B946-9CDF40D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69DB-3794-4BD1-BB38-BF10B45F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6B3-ED97-41F4-9985-94464F42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2838-2588-4571-A88F-6CF20A1B7BB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17440" y="1125360"/>
            <a:ext cx="8675640" cy="53280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554360" y="3357720"/>
            <a:ext cx="42706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س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عبادة ظاهراً وباطنأ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إخلاص الدعاء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3429000"/>
            <a:ext cx="4270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أمر بالفحش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تخاذ الشيطان اولياء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48988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23920" y="1700280"/>
            <a:ext cx="869148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محمود : ما كان موافق للكتا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تقليد المذموم : ما كان مخالف للكتب و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1" descr=""/>
          <p:cNvPicPr/>
          <p:nvPr/>
        </p:nvPicPr>
        <p:blipFill>
          <a:blip r:embed="rId3"/>
          <a:stretch/>
        </p:blipFill>
        <p:spPr>
          <a:xfrm>
            <a:off x="1170000" y="1052640"/>
            <a:ext cx="7745400" cy="635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3568680" y="2747880"/>
            <a:ext cx="5295960" cy="609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"/>
          <p:cNvPicPr/>
          <p:nvPr/>
        </p:nvPicPr>
        <p:blipFill>
          <a:blip r:embed="rId5"/>
          <a:stretch/>
        </p:blipFill>
        <p:spPr>
          <a:xfrm>
            <a:off x="2273400" y="4538520"/>
            <a:ext cx="6627600" cy="54612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3500280"/>
            <a:ext cx="86914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ما عملوا من أسباب الغوا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5300640"/>
            <a:ext cx="8691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كما أنشأكم أول مرة يبعثكم أحياء فترجعون إليه للحسا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"/>
          <a:stretch/>
        </p:blipFill>
        <p:spPr>
          <a:xfrm>
            <a:off x="250920" y="1765440"/>
            <a:ext cx="864216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7920"/>
            <a:ext cx="9153360" cy="1333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8840" y="1752480"/>
            <a:ext cx="860400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2"/>
          <a:stretch/>
        </p:blipFill>
        <p:spPr>
          <a:xfrm>
            <a:off x="23760" y="907920"/>
            <a:ext cx="909648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0" y="776160"/>
            <a:ext cx="9132840" cy="9241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987640" y="1052640"/>
            <a:ext cx="4376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وط قبول العمل الصال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732880" cy="1584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250920" y="3357720"/>
            <a:ext cx="8685000" cy="35002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508644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د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59116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كل وقت سجود أو مكان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468360" y="5951520"/>
            <a:ext cx="47815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اهم الله في الدني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468360" y="6383160"/>
            <a:ext cx="4781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طاعوا الشياطين فيما يخالف ما شرعه الله تعالى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دلائل الجهل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حتجاج بفعل الآباء وتقليدهم في الباطل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كمال حكمته تعال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يأمر عباده بالفحش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أمر ال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عدل في العبادات والمعاملات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له لا يأمر عباده بالفحشاء  ويأمر بالعدل في العبادات والمعاملا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2" descr=""/>
          <p:cNvPicPr/>
          <p:nvPr/>
        </p:nvPicPr>
        <p:blipFill>
          <a:blip r:embed="rId2"/>
          <a:stretch/>
        </p:blipFill>
        <p:spPr>
          <a:xfrm>
            <a:off x="426960" y="3452760"/>
            <a:ext cx="8429760" cy="5716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414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أوامر الرباني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 ورحمة وتحقق سعادة الدنيا وفلاح الآخ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تقبل العبادة إلا بشرط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6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رابط مستقيم 27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8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6443640" y="5540400"/>
            <a:ext cx="24130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وافقته للكتاب وال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37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419040" y="5611680"/>
            <a:ext cx="163188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خلاصه 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ضلال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طاعة الشيطان والإصغاء إلى وساوس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19875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لق العباد وجعل منه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 والكاف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الكفار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تقربون إلى الله بالباطل ويحسبون أنهم على هد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39680" y="-96840"/>
            <a:ext cx="938700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4724280" cy="5587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260280" y="1916280"/>
            <a:ext cx="86076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إنسان مخير وم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هو مختار، له إرادة، وله مشيئة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لكن هذه الأشياء التي تقع منه لا تقع إلا بعد سبق القدر من الله ب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