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D9B-6592-4B81-8A63-97C3184E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DD2-B0D4-43E4-B1DD-A7E25098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75E-185E-43DC-8806-1DD83FFB2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87EE-0F75-4A04-916B-15E1F337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7D37-68AC-4062-BF3E-4C24D5C5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336-CF95-4794-A371-8775D9C6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EA95-3692-4803-810E-E2FF364C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53CE-BC87-44CD-95CC-4CA6DE28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DCE6-CB83-4244-B041-8FD20770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EF8-DF3D-4AD7-8256-8B69FDE4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C15-6BE2-4212-B0E0-CD59F72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6C7-CB29-41EA-BA4B-905E06C6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B90A-DDED-4DFF-8C93-902CD1AD6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6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450800"/>
            <a:ext cx="84960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81080" y="1916280"/>
            <a:ext cx="86914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جن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3041640" y="981000"/>
            <a:ext cx="5803920" cy="546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1251000" y="2708280"/>
            <a:ext cx="7620120" cy="98100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179280" y="3933720"/>
            <a:ext cx="869184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الج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يعود إلى : الإيمان والعمل الصال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4"/>
          <a:stretch/>
        </p:blipFill>
        <p:spPr>
          <a:xfrm>
            <a:off x="250920" y="692280"/>
            <a:ext cx="864216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-7920" y="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989000"/>
            <a:ext cx="8642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250920" y="782640"/>
            <a:ext cx="864216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250920" y="888840"/>
            <a:ext cx="8767800" cy="117180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611280" y="1197000"/>
            <a:ext cx="384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مل أهل الجنة وعمل أهل الن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2278080"/>
            <a:ext cx="8637480" cy="439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366840" y="530064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ذهبن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60213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حقد ٍ وضغنٍ وعداوة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من جنس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قبل عمل ال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60280" y="335772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جنة حرام على كل كافر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0680" y="465300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و من باب تعليق الشيء بـ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حا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0" descr=""/>
          <p:cNvPicPr/>
          <p:nvPr/>
        </p:nvPicPr>
        <p:blipFill>
          <a:blip r:embed="rId2"/>
          <a:stretch/>
        </p:blipFill>
        <p:spPr>
          <a:xfrm>
            <a:off x="2801880" y="2583000"/>
            <a:ext cx="6147000" cy="531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"/>
          <p:cNvPicPr/>
          <p:nvPr/>
        </p:nvPicPr>
        <p:blipFill>
          <a:blip r:embed="rId3"/>
          <a:stretch/>
        </p:blipFill>
        <p:spPr>
          <a:xfrm>
            <a:off x="1979640" y="3840120"/>
            <a:ext cx="6856560" cy="51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2" descr=""/>
          <p:cNvPicPr/>
          <p:nvPr/>
        </p:nvPicPr>
        <p:blipFill>
          <a:blip r:embed="rId4"/>
          <a:stretch/>
        </p:blipFill>
        <p:spPr>
          <a:xfrm>
            <a:off x="1476360" y="4683240"/>
            <a:ext cx="6138720" cy="414360"/>
          </a:xfrm>
          <a:prstGeom prst="rect">
            <a:avLst/>
          </a:prstGeom>
          <a:ln w="0">
            <a:noFill/>
          </a:ln>
        </p:spPr>
      </p:pic>
      <p:sp>
        <p:nvSpPr>
          <p:cNvPr id="63" name="عنوان 1"/>
          <p:cNvSpPr/>
          <p:nvPr/>
        </p:nvSpPr>
        <p:spPr>
          <a:xfrm>
            <a:off x="200160" y="5589720"/>
            <a:ext cx="8665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آ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 أنه من المحال دخول الجمل في سم الخياط فكذلك المكذبون بآيات الله محال دخولهم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6205680"/>
            <a:ext cx="866592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ليف يكون على 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طاع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نعم الله على أهل الجن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ينزع ما في قلوبهم من الحقد فلا يحسد بعضهم بعضاً على تفاضل منازلهم في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2338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ة لا تُدخل إلا باجتماع أمرين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8"/>
          <p:cNvSpPr/>
          <p:nvPr/>
        </p:nvSpPr>
        <p:spPr>
          <a:xfrm flipH="1">
            <a:off x="4571640" y="269892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9"/>
          <p:cNvSpPr/>
          <p:nvPr/>
        </p:nvSpPr>
        <p:spPr>
          <a:xfrm flipH="1">
            <a:off x="4566960" y="2955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20"/>
          <p:cNvCxnSpPr/>
          <p:nvPr/>
        </p:nvCxnSpPr>
        <p:spPr>
          <a:xfrm flipH="1">
            <a:off x="8456040" y="38512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3635280"/>
            <a:ext cx="820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عمل الصال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>
            <a:off x="8820000" y="2949480"/>
            <a:ext cx="0" cy="90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0"/>
          <p:cNvCxnSpPr/>
          <p:nvPr/>
        </p:nvCxnSpPr>
        <p:spPr>
          <a:xfrm flipH="1">
            <a:off x="8456040" y="32745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3081240"/>
            <a:ext cx="81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فضل  الله ورحمته وتوفيق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221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ه لا يدخل أحد الجنة إلا برحمة الله تعا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</a:t>
            </a:r>
            <a:r>
              <a:rPr b="1" lang="en-US" sz="21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711520" y="4683240"/>
            <a:ext cx="6108480" cy="11221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638172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باب 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"/>
          <p:cNvPicPr/>
          <p:nvPr/>
        </p:nvPicPr>
        <p:blipFill>
          <a:blip r:embed="rId1"/>
          <a:stretch/>
        </p:blipFill>
        <p:spPr>
          <a:xfrm>
            <a:off x="262080" y="1052640"/>
            <a:ext cx="8557920" cy="576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88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4"/>
          <a:stretch/>
        </p:blipFill>
        <p:spPr>
          <a:xfrm>
            <a:off x="262080" y="3708360"/>
            <a:ext cx="5068800" cy="69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5"/>
          <a:stretch/>
        </p:blipFill>
        <p:spPr>
          <a:xfrm>
            <a:off x="2003400" y="4869000"/>
            <a:ext cx="33274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6"/>
          <a:stretch/>
        </p:blipFill>
        <p:spPr>
          <a:xfrm>
            <a:off x="1270080" y="5877000"/>
            <a:ext cx="4064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