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7C9-EDF6-4D42-A45E-F2141288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949-B104-4075-BC8E-EB1F7441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02C-9B8D-4A16-BC72-CA7D5755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29A-1775-4567-BDC4-920F8BAB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7F1-AF30-4B46-8AC0-32A1D79A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D31-DA4D-4761-8B30-9A0FBDE6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C99-8C62-4DA9-8160-F894B535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BE4-7888-4F6B-A682-23602787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A39-026C-46A5-A3D7-632D87CC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415-E604-4A9C-AA9D-B530DFEE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959-2854-4BD5-B232-62941753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000-09F5-443B-863A-F7C32C16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E975-FD7B-405B-AA0E-4DB9449C4CD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سد الذرائع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حريم كل وسيلة تؤدي إلى الممن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أدى إلى الحر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هو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وق النجاة وسبب دفع العذاب 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مر بالمعروف والنهي عن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أمر بالمعروف والنهي عن المنكر : طوق النجاة وسبب دفع العذاب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6" descr=""/>
          <p:cNvPicPr/>
          <p:nvPr/>
        </p:nvPicPr>
        <p:blipFill>
          <a:blip r:embed="rId2"/>
          <a:stretch/>
        </p:blipFill>
        <p:spPr>
          <a:xfrm>
            <a:off x="1322280" y="4724280"/>
            <a:ext cx="7542360" cy="649440"/>
          </a:xfrm>
          <a:prstGeom prst="rect">
            <a:avLst/>
          </a:prstGeom>
          <a:ln w="0">
            <a:noFill/>
          </a:ln>
        </p:spPr>
      </p:pic>
      <p:sp>
        <p:nvSpPr>
          <p:cNvPr id="75" name="عنوان 1"/>
          <p:cNvSpPr/>
          <p:nvPr/>
        </p:nvSpPr>
        <p:spPr>
          <a:xfrm>
            <a:off x="250920" y="5516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له تعالى عاقب الظالمين من اليهو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أن مسخهم فجعلهم قردة حقيق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206064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عالماً ب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مكلف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نكر المنكر ويأمر بالمعروف باللين والتدري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49360" y="907920"/>
            <a:ext cx="8410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2924280"/>
            <a:ext cx="8597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لا يحاسبنا على ما عمل الآخرون من المنكرات إذا أنكرنا المنكر وأمرنا بالمعرو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8421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25360" y="1628640"/>
            <a:ext cx="86914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ي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لسا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ل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3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من رأى منكم منكراً فليغيره بيده فإن لم يستطع فبلسانه فإن لم يستطع فبقلبه 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3605040" y="907920"/>
            <a:ext cx="533412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326880" y="2957400"/>
            <a:ext cx="861228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1906560" y="4819680"/>
            <a:ext cx="700884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23920" y="3573360"/>
            <a:ext cx="8691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فعل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لم تنكر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أنكر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223920" y="566100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كر عليه المعصية باللسان وإبلاغ الجهات المختصة عن هذا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50"/>
          <a:stretch/>
        </p:blipFill>
        <p:spPr>
          <a:xfrm>
            <a:off x="250920" y="1552680"/>
            <a:ext cx="8642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34800" y="1773360"/>
            <a:ext cx="8558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50920" y="812880"/>
            <a:ext cx="86421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2195640" y="981000"/>
            <a:ext cx="49687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2309760"/>
            <a:ext cx="864216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784080"/>
            <a:ext cx="86738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052640"/>
            <a:ext cx="33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صة أصحاب السب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30200" y="522936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ما تجاوزوا في معصية الل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17600" y="59500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خهم قرد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ريف اليهود بأن ذلك مما يعلمه الرسول </a:t>
            </a:r>
            <a:r>
              <a:rPr b="1" lang="ar-SA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علمه الله فيكون دليلاً على صدق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0280" y="256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ختبر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يظهر صدقهم أو كذ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ن اختبار الله ل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مر الله به اليهود من تعظيم يوم السبت وأن لا يصيدوا فيه صيد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يل المؤدية إلى تعطيل شرع الله وتجاوز حدوده وارتكاب محارمه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ط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797360"/>
            <a:ext cx="86659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الحيل المؤدية إلى تعطيل شرع الله وتجاوز حدوده وارتكاب محارم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فعل اليهود حين وضعوا الشباك في البحر يوم الجمعة للصيد ثم يخرجونها يوم الأحد ويقولون : لم نعمل يوم السبت شيئ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805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د الذرائ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شر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4067280" y="1392120"/>
            <a:ext cx="34574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