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93DC-8586-4280-8329-99897C290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CB5A-A56D-4DBA-9570-D6586E61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6754-07AB-49C1-B126-45ADD6DA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2E09-0C7D-440A-940F-F75875354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B073-057A-4749-8D56-68EE32C9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8163-3610-44E3-AA2C-28D207BF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9244-E663-4CB1-B224-CCBDCB07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A769-05DD-4BA0-BC17-14DEBD7D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7135-6CEE-4B0B-A587-B67B801D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2177-9D61-4A55-9A86-E3A06730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A1DF-DD22-4415-A92D-F59E94F8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547B-BE60-431E-900A-4FAC432D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51AC-824C-492B-BCE5-C37CF714E74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50920" y="513072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1908000" y="907920"/>
            <a:ext cx="7110720" cy="606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1306440" y="2276640"/>
            <a:ext cx="7515360" cy="534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5"/>
          <a:stretch/>
        </p:blipFill>
        <p:spPr>
          <a:xfrm>
            <a:off x="2138400" y="4581360"/>
            <a:ext cx="6754680" cy="62244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179280" y="2852640"/>
            <a:ext cx="85694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179280" y="1585800"/>
            <a:ext cx="8569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تحية أهل الجنة بعضهم لبعض كلام سالم من اللغو والآث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6"/>
          <a:stretch/>
        </p:blipFill>
        <p:spPr>
          <a:xfrm>
            <a:off x="324000" y="3699000"/>
            <a:ext cx="8496000" cy="666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7"/>
          <a:stretch/>
        </p:blipFill>
        <p:spPr>
          <a:xfrm>
            <a:off x="395280" y="6148440"/>
            <a:ext cx="849636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31"/>
          <a:stretch/>
        </p:blipFill>
        <p:spPr>
          <a:xfrm>
            <a:off x="539640" y="1844640"/>
            <a:ext cx="81360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14400"/>
            <a:ext cx="914400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95480" y="4746600"/>
            <a:ext cx="3353040" cy="4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79280" y="969840"/>
            <a:ext cx="8785440" cy="577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713800" cy="46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2"/>
          <a:stretch/>
        </p:blipFill>
        <p:spPr>
          <a:xfrm>
            <a:off x="0" y="907920"/>
            <a:ext cx="9159840" cy="86544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653000"/>
            <a:ext cx="49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ع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187200" y="6014880"/>
            <a:ext cx="4969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ن دلائل وحدانيتنا تاركون النظر في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1052640"/>
            <a:ext cx="4176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إ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50920" y="5372280"/>
            <a:ext cx="4968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دل الآخرة لإنكارهم له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48428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قبال على الدنيا والانهماك في طلبها حتى تكون أكبر الهم ومبلغ العلم دون التفات إلى إرضاء الرب أو استعداد للآخر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ذر منه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غترار بحال الكفار الذين قصروا هممهم على الدنيا ولم يفكروا بالآخرة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314172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غفلة والإعراض عن التفكر بآيات الله الكونية والتدبر لآياته القرآني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ذر منه الإس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378936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مل الصالح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443700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رد على من زعم أن تصديق القلب كاف للفلاح في الآخر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له ذكر أنه يهدي من آمن وعمل صالحاً إلى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08000" y="5300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طريق الإنسان إلى الجنة هو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يمان والعمل الصال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08000" y="5877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هداية ب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هداية بي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رغب في الإيمان وحرص على العمل الصالح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هداه الله وثب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249228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مال نعيم أهل الجنة لاشتماله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نعيم القلب ونعيم الروح ونعيم البد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314172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كمال نعيم 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4149720"/>
            <a:ext cx="8666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كاليف على 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توج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08000" y="472428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بادة أهل الجنة في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سبيح والسلام والتحم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108000" y="5300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لهم أهل الجنة التسبيح والسلام والتحم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غير كلفة ولا مشق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1098720" y="3611520"/>
            <a:ext cx="7762680" cy="46512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08000" y="58118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مرة التسبيح والسلام والتحميد ل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طمئن قلوبهم وتفرح أرواح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08000" y="624348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تحية أهل الجنة بعضهم لبعض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لام سالم من اللغو والآث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30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304920" y="1557360"/>
            <a:ext cx="8659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4T14:44:43Z</dcterms:modified>
  <cp:revision>1926</cp:revision>
  <dc:subject/>
  <dc:title>عرض تقديمي في PowerPoint</dc:title>
</cp:coreProperties>
</file>