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651-5AB2-498A-9262-04B3F502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99A-0FBE-46F3-8EFE-932B55E2C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979-6BB5-4C2D-B4EF-8DB5D70D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7E07-9EDC-4CFB-924E-63F6CB89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9D9-A7DA-47B7-B71F-A74E1C20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5FA-F8D5-4A34-8321-2083F329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C187-C727-4A73-8AFA-E2DA73C1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B32F-779E-4323-A336-E7209A9A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810A-3AB1-4172-A1B2-A5F0DC1E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E9F4-4038-42E8-8A7E-F6DD8172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A42C-88C4-4C42-B534-AB330AFF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07D9-EE4A-4766-A396-C807026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F2A9-36A1-4828-A0F9-98576F1C0F2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20520"/>
            <a:ext cx="9129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0" b="64088"/>
          <a:stretch/>
        </p:blipFill>
        <p:spPr>
          <a:xfrm>
            <a:off x="0" y="44280"/>
            <a:ext cx="9109080" cy="1124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rcRect l="0" t="43678" r="0" b="0"/>
          <a:stretch/>
        </p:blipFill>
        <p:spPr>
          <a:xfrm>
            <a:off x="179280" y="2708280"/>
            <a:ext cx="87138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ميت سورة الأعراف بهذا الا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لفظ (الأعراف) فيها قال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06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ور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 إلا الآيات من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6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إلى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70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 فمدن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4" descr=""/>
          <p:cNvPicPr/>
          <p:nvPr/>
        </p:nvPicPr>
        <p:blipFill>
          <a:blip r:embed="rId2"/>
          <a:stretch/>
        </p:blipFill>
        <p:spPr>
          <a:xfrm>
            <a:off x="3564000" y="1916280"/>
            <a:ext cx="5295960" cy="5760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71628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407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43354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6"/>
          <p:cNvCxnSpPr/>
          <p:nvPr/>
        </p:nvCxnSpPr>
        <p:spPr>
          <a:xfrm flipH="1">
            <a:off x="8456040" y="494136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479736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بعث والجنة والنا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8"/>
          <p:cNvSpPr/>
          <p:nvPr/>
        </p:nvSpPr>
        <p:spPr>
          <a:xfrm>
            <a:off x="8820000" y="4327560"/>
            <a:ext cx="0" cy="2019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19"/>
          <p:cNvCxnSpPr/>
          <p:nvPr/>
        </p:nvCxnSpPr>
        <p:spPr>
          <a:xfrm flipH="1">
            <a:off x="8456040" y="4652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4459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وحيد والرسا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1"/>
          <p:cNvCxnSpPr/>
          <p:nvPr/>
        </p:nvCxnSpPr>
        <p:spPr>
          <a:xfrm flipH="1">
            <a:off x="8456040" y="53319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5157720"/>
            <a:ext cx="8208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قصص الأنبياء والأمم الساب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56685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55180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بعض القضايا الاجتماع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8920" y="60098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5600" y="5834160"/>
            <a:ext cx="820908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بعض الآداب والأخلاق الإسلام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7"/>
          <p:cNvCxnSpPr/>
          <p:nvPr/>
        </p:nvCxnSpPr>
        <p:spPr>
          <a:xfrm flipH="1">
            <a:off x="8458920" y="63468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5600" y="6194520"/>
            <a:ext cx="8209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المعاصي والإعراض عن طاعة الل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-115920" y="-66600"/>
            <a:ext cx="9352080" cy="9619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1424160" y="1700280"/>
            <a:ext cx="7372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