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8BE-DCE5-433F-86AC-20201A0A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6A50-933F-4119-B8A4-F8C8594A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E23-BD67-4207-AAC6-DCDEA7CF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6BAA-0641-4EBB-81A4-C9AF1E2C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450-0459-46E0-A9E8-6F121626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4F6-4912-4C8A-AA7C-BC56D546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794-ECF2-42E3-888C-2DE6DD7D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F3A5-3360-424E-8F43-BBEFA17A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931-2C30-4FD5-AB67-3B4739BD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B93E-B9D3-439F-B6D3-E92114A7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2A8-7D89-416E-BBB4-DBEFA37F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18C-C6C7-4B02-91F0-E13AE0B7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7E58-C334-43D8-89E0-33DDFE83F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54080" y="1484280"/>
            <a:ext cx="8739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32400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ون من أهل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حبه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صره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3930480" y="981000"/>
            <a:ext cx="4889520" cy="52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4"/>
          <a:stretch/>
        </p:blipFill>
        <p:spPr>
          <a:xfrm>
            <a:off x="2720880" y="3125880"/>
            <a:ext cx="610884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3132000" y="4653000"/>
            <a:ext cx="5829480" cy="57132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324000" y="3789360"/>
            <a:ext cx="856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به تبتعد عن الإفراط والتفر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324000" y="162864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دعاء                      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حبة الطيب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افظة على الفرائض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طلب العلم الشرع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248"/>
          <a:stretch/>
        </p:blipFill>
        <p:spPr>
          <a:xfrm>
            <a:off x="233280" y="1773360"/>
            <a:ext cx="867744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771640" y="4653000"/>
            <a:ext cx="3848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07920"/>
            <a:ext cx="8928000" cy="583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250920" y="1925640"/>
            <a:ext cx="8604000" cy="4672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250920" y="915840"/>
            <a:ext cx="8713800" cy="8575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منهم مؤمن به ومنهم كافر ب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3657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ر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373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ميل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950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يب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6948360" y="5440320"/>
            <a:ext cx="1808280" cy="509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رك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هذه الآيات جاءت في سياق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سلية النبي </a:t>
            </a:r>
            <a:r>
              <a:rPr b="1" lang="en-US" sz="19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خفيف عن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إن هذه الآيات جاءت في سياق تسلي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 والتخفيف عن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حود قومه لما جاء به من الح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أن ل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سوة بمن سلف 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نبياء قبله فقد أوذوا وكذبوا كما فعل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الله تعالى يمهل للظالمين والمكذبين فلا يعاجلهم بالعذاب في الدني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علهم يرجعون ويتوب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مي لا يتخلف أب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جازى المحسن بإحسانه والمسيء بإساء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قامة على دين الله تعالى عقيدة وعبادة وحكماً وأدب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لو في الدين وتجاوز ما حد الله تعالى في شرع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ل إلى المشركين ومداهنت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والصبر عليها في أوقاته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رات الحس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كفر صغائر الذنو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388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كفير الكبائ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توبة إلى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36520" y="981000"/>
            <a:ext cx="865656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36520" y="1967040"/>
          <a:ext cx="8583480" cy="1893600"/>
        </p:xfrm>
        <a:graphic>
          <a:graphicData uri="http://schemas.openxmlformats.org/drawingml/2006/table">
            <a:tbl>
              <a:tblPr/>
              <a:tblGrid>
                <a:gridCol w="4291200"/>
                <a:gridCol w="4292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واه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أوام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5940360" y="2355840"/>
            <a:ext cx="2857680" cy="425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2916360" y="2346480"/>
            <a:ext cx="1511280" cy="492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452520" y="2924280"/>
            <a:ext cx="3975120" cy="40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4643280" y="2851200"/>
            <a:ext cx="4105440" cy="46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8"/>
          <a:stretch/>
        </p:blipFill>
        <p:spPr>
          <a:xfrm>
            <a:off x="7591320" y="3384720"/>
            <a:ext cx="11304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17002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ليل :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3"/>
          <a:stretch/>
        </p:blipFill>
        <p:spPr>
          <a:xfrm>
            <a:off x="138240" y="907920"/>
            <a:ext cx="8748720" cy="75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4"/>
          <a:stretch/>
        </p:blipFill>
        <p:spPr>
          <a:xfrm>
            <a:off x="2284560" y="2421000"/>
            <a:ext cx="6602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9T07:35:47Z</dcterms:modified>
  <cp:revision>1999</cp:revision>
  <dc:subject/>
  <dc:title>عرض تقديمي في PowerPoint</dc:title>
</cp:coreProperties>
</file>