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915-C298-46F1-99B1-8CA275A0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A02-9DB4-4FC7-A036-296DA340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600-5477-4A36-8BB2-50C60557E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A116-8C09-4408-83FD-7AF2D988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4EF-A227-4B6C-A5C6-3F31D5D1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33E8-957E-4C8F-97B5-B6ED417A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F3D-EAA9-410A-91F9-7C44C33C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C8D2-DCB5-4BA5-AB9C-3BE9600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7AD-208F-4066-A3BE-7F604093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93FD-FD80-4357-855F-AE0C01B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D5E-7104-4127-A414-3A8ECA05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84F1-6A05-44DA-8DC0-68E0B70C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F4A7-5DEF-4908-90F0-52915E95C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9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154080" y="1484280"/>
            <a:ext cx="8739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32400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ون من أهل النا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حبه الله تعال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لا ينصره الله تعالى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3"/>
          <a:stretch/>
        </p:blipFill>
        <p:spPr>
          <a:xfrm>
            <a:off x="3930480" y="981000"/>
            <a:ext cx="4889520" cy="520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"/>
          <p:cNvPicPr/>
          <p:nvPr/>
        </p:nvPicPr>
        <p:blipFill>
          <a:blip r:embed="rId4"/>
          <a:stretch/>
        </p:blipFill>
        <p:spPr>
          <a:xfrm>
            <a:off x="2720880" y="3125880"/>
            <a:ext cx="6108840" cy="53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"/>
          <p:cNvPicPr/>
          <p:nvPr/>
        </p:nvPicPr>
        <p:blipFill>
          <a:blip r:embed="rId5"/>
          <a:stretch/>
        </p:blipFill>
        <p:spPr>
          <a:xfrm>
            <a:off x="3132000" y="4653000"/>
            <a:ext cx="5829480" cy="571320"/>
          </a:xfrm>
          <a:prstGeom prst="rect">
            <a:avLst/>
          </a:prstGeom>
          <a:ln w="0">
            <a:noFill/>
          </a:ln>
        </p:spPr>
      </p:pic>
      <p:sp>
        <p:nvSpPr>
          <p:cNvPr id="97" name="عنوان 1"/>
          <p:cNvSpPr/>
          <p:nvPr/>
        </p:nvSpPr>
        <p:spPr>
          <a:xfrm>
            <a:off x="324000" y="3789360"/>
            <a:ext cx="8569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 به تبتعد عن الإفراط والتفري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324000" y="162864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دعاء                      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صحبة الطيب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محافظة على الفرائض            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2200" spc="-1" strike="noStrike">
                <a:solidFill>
                  <a:srgbClr val="1f497d"/>
                </a:solidFill>
                <a:latin typeface="Calibri"/>
                <a:ea typeface="Times New Roman"/>
              </a:rPr>
              <a:t>- طلب العلم الشرعي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248"/>
          <a:stretch/>
        </p:blipFill>
        <p:spPr>
          <a:xfrm>
            <a:off x="233280" y="1773360"/>
            <a:ext cx="8677440" cy="17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308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8709120" cy="287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771640" y="4653000"/>
            <a:ext cx="38484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8928000" cy="5834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"/>
          <p:cNvPicPr/>
          <p:nvPr/>
        </p:nvPicPr>
        <p:blipFill>
          <a:blip r:embed="rId1"/>
          <a:stretch/>
        </p:blipFill>
        <p:spPr>
          <a:xfrm>
            <a:off x="250920" y="1925640"/>
            <a:ext cx="8604000" cy="4672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250920" y="915840"/>
            <a:ext cx="8713800" cy="8575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8690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منهم مؤمن به ومنهم كافر ب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30560" y="105264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3657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ورا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373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ميل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59500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يب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6948360" y="5440320"/>
            <a:ext cx="1808280" cy="5097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رك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هذه الآيات جاءت في سياق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سلية النبي </a:t>
            </a:r>
            <a:r>
              <a:rPr b="1" lang="en-US" sz="19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لتخفيف عن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191628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إن هذه الآيات جاءت في سياق تسلية ا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 والتخفيف عنه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حود قومه لما جاء به من الح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234936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أن للنبي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سوة بمن سلف م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نبياء قبله فقد أوذوا وكذبوا كما فعل ب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88756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إن الله تعالى يمهل للظالمين والمكذبين فلا يعاجلهم بالعذاب في الدني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علهم يرجعون ويتوب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328464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تمي لا يتخلف أبد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71628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جزاء الأخروي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جازى المحسن بإحسانه والمسيء بإساء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قامة على دين الله تعالى عقيدة وعبادة وحكماً وأدب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4653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لو في الدين وتجاوز ما حد الله تعالى في شرع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5084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يل إلى المشركين ومداهنت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5516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إقامة الصلاة والصبر عليها في أوقاته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ثمرات الحسنات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ها تكفر صغائر الذنو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388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كفير الكبائ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توبة إلى الله تعا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36520" y="981000"/>
            <a:ext cx="865656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36520" y="1967040"/>
          <a:ext cx="8583480" cy="1893600"/>
        </p:xfrm>
        <a:graphic>
          <a:graphicData uri="http://schemas.openxmlformats.org/drawingml/2006/table">
            <a:tbl>
              <a:tblPr/>
              <a:tblGrid>
                <a:gridCol w="4291200"/>
                <a:gridCol w="4292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نواه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أوام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5940360" y="2355840"/>
            <a:ext cx="2857680" cy="425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2916360" y="2346480"/>
            <a:ext cx="1511280" cy="49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452520" y="2924280"/>
            <a:ext cx="3975120" cy="40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4643280" y="2851200"/>
            <a:ext cx="4105440" cy="4636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"/>
          <p:cNvPicPr/>
          <p:nvPr/>
        </p:nvPicPr>
        <p:blipFill>
          <a:blip r:embed="rId8"/>
          <a:stretch/>
        </p:blipFill>
        <p:spPr>
          <a:xfrm>
            <a:off x="7591320" y="3384720"/>
            <a:ext cx="113040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09440" y="-122400"/>
            <a:ext cx="9375840" cy="951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1700280"/>
            <a:ext cx="863604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دليل :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1" descr=""/>
          <p:cNvPicPr/>
          <p:nvPr/>
        </p:nvPicPr>
        <p:blipFill>
          <a:blip r:embed="rId3"/>
          <a:stretch/>
        </p:blipFill>
        <p:spPr>
          <a:xfrm>
            <a:off x="138240" y="907920"/>
            <a:ext cx="8748720" cy="75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"/>
          <p:cNvPicPr/>
          <p:nvPr/>
        </p:nvPicPr>
        <p:blipFill>
          <a:blip r:embed="rId4"/>
          <a:stretch/>
        </p:blipFill>
        <p:spPr>
          <a:xfrm>
            <a:off x="2284560" y="2421000"/>
            <a:ext cx="660240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9T07:35:47Z</dcterms:modified>
  <cp:revision>1999</cp:revision>
  <dc:subject/>
  <dc:title>عرض تقديمي في PowerPoint</dc:title>
</cp:coreProperties>
</file>