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D299-0763-4868-9439-675DB8EC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1BA7-FC89-4C6B-ADB5-5EDF6BF0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EDB5-00AE-4E3E-865B-4EF77A51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F6EF-D013-49D5-8068-5F71689E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033-19D1-46B3-8FEC-02E5A6B0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4AC-37F1-4A32-BD66-12C701A0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679F-0D5E-40D7-940B-D4D0B525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F998-49B6-4C39-A720-F752635A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AF2-FAF2-4A30-B6DA-F500E116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F3E-71FF-4BEC-B028-5920A85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F7C-A32C-4F94-8F82-D782C28F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2814-ECAC-4338-ADA0-60CB254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EA8A-2550-4929-BACE-4049A8348B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7" name="عنوان 1"/>
          <p:cNvSpPr/>
          <p:nvPr/>
        </p:nvSpPr>
        <p:spPr>
          <a:xfrm>
            <a:off x="250920" y="4265640"/>
            <a:ext cx="856908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اعتراف بها في القل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ثناء على الله باللس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ar-SA" sz="25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عمل بالجوارح بما يرضي المنع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755640" y="907920"/>
            <a:ext cx="816300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3917880" y="3716280"/>
            <a:ext cx="5016600" cy="5968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324000" y="2637000"/>
            <a:ext cx="8569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كل ما أنزله الله لعباده حلالاً إلا ما حرمه الله علين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213"/>
          <a:stretch/>
        </p:blipFill>
        <p:spPr>
          <a:xfrm>
            <a:off x="539640" y="2924280"/>
            <a:ext cx="8136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87640" y="4653000"/>
            <a:ext cx="347976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8856720" cy="5761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239760" y="1712880"/>
            <a:ext cx="8786880" cy="4884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-9360" y="92376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39760" y="5222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دني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1015920"/>
            <a:ext cx="4178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زلة القرآن الكري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39760" y="45799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سلام والقرآ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5805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كذبون على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ضل القرآن وعظمته لما يحمله من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مواعظ والهدى والرحمة والشفاء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فاية القرآن في علاج أمراض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لوب من الشبهات والشهو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وجيه الدعاة والمصلحين والمربين إلى الاستناد في الإصلاح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تاب والس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عمة الاستقامة والإيمان وفهم القرآن والعمل به أعظم من النعم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دنيوية قاط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نتفع بمواعظ القرآن إل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 الذي يبحث عن الحق ويلتزمه إذا عرف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شريع والتحليل والتحريم ح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ل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قديم  رأي أي أحد على حكم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فتاء بغير عل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افتراء الكذب على الله وصاحبه مستحق للعذ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"/>
          <p:cNvPicPr/>
          <p:nvPr/>
        </p:nvPicPr>
        <p:blipFill>
          <a:blip r:embed="rId3"/>
          <a:stretch/>
        </p:blipFill>
        <p:spPr>
          <a:xfrm>
            <a:off x="295200" y="981000"/>
            <a:ext cx="8658360" cy="66672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324000" y="1916280"/>
            <a:ext cx="8569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حموم هو : بدين الله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فرح المذموم هو : على المعاصي والمحرما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92160"/>
            <a:ext cx="9363240" cy="102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40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214200" y="1557360"/>
            <a:ext cx="8624880" cy="6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30:02Z</dcterms:modified>
  <cp:revision>1969</cp:revision>
  <dc:subject/>
  <dc:title>عرض تقديمي في PowerPoint</dc:title>
</cp:coreProperties>
</file>