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3DA5-AD8D-497B-9395-D77B4C583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DC1A-6AB8-426F-8F64-1E19C474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8A00-66D2-4591-A0BD-C691D2D02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B5C2-E108-424E-AC9A-7B6D5EC2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6E67-E285-4381-9C2B-CDE0B6CE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2F7B-6A25-4849-8C25-94370F25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915B-A344-4708-8FD7-455410C7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AA6B-2A08-4984-8209-9DFCF0B5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8412-2A9E-44B1-A216-7117144D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5BFF-D7C0-4FAD-A272-0B310230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5B6D-F74E-4A56-A621-45F57A81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95ED-D8E5-428E-9209-0D85210B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FB89-4D86-4A5F-ADD0-44CB59426D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42160" cy="4681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37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250920" y="5130720"/>
            <a:ext cx="85690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لا يقبل الحق ولا يرغب في التوب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9" descr=""/>
          <p:cNvPicPr/>
          <p:nvPr/>
        </p:nvPicPr>
        <p:blipFill>
          <a:blip r:embed="rId3"/>
          <a:stretch/>
        </p:blipFill>
        <p:spPr>
          <a:xfrm>
            <a:off x="468360" y="981000"/>
            <a:ext cx="8481960" cy="1447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4"/>
          <a:stretch/>
        </p:blipFill>
        <p:spPr>
          <a:xfrm>
            <a:off x="1042920" y="3654360"/>
            <a:ext cx="7851960" cy="150012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2347920"/>
            <a:ext cx="85690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فسير قوله تعالى ( يخرج الحي من الميت ) اي كما يخرج الفرخ من البيضة </a:t>
            </a:r>
            <a:br>
              <a:rPr sz="2500"/>
            </a:b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تفسير قولة تعالى ( ويخرج الميت من الحي ) اي كما يخرج البيضة من الدجاج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68"/>
          <a:stretch/>
        </p:blipFill>
        <p:spPr>
          <a:xfrm>
            <a:off x="539640" y="2565360"/>
            <a:ext cx="813600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16360" y="4668840"/>
            <a:ext cx="350496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ان تحدث الآيات السابقة عن صدق رسالة محمد صلى الله عليه وسل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ذكرت الآيات الرد على الكافر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179280" y="981000"/>
            <a:ext cx="8856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637480" cy="4895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-9360" y="892080"/>
            <a:ext cx="9144000" cy="73656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39760" y="48927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كيف تفكر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778200" y="1015920"/>
            <a:ext cx="3602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توحيد الالوهية والربوبي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39760" y="435132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صرف أمر المخلوق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39760" y="55054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جب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6087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عذاب على الكافر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تدبير الكون خاص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له وحد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زعم أن مع الله مدبراً فقد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كف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قرار بتوحيد الربوبية يستلزم الإقرار بتوح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ألو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314172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قر بأن الله هو الخالق لزمه أ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بده وحد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645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شركي العرب كانوا يقرون بتوحيد الربوبية ولم ينفعهم ذلك لعدم إقرارهم بتوح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لو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4221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حق واحد لا يتعدد فمن لم يكن على الحق فهو على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باط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797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وغل في الفسق يصبح طبعاً لصاحبه فلا يقبل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ق ولا يرغب في التوب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538020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قرآن يربي أتباعه على الالتزا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لالة العق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595008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كر القرآن على المشركين عدم الالتزا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لالة العق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3"/>
          <a:stretch/>
        </p:blipFill>
        <p:spPr>
          <a:xfrm>
            <a:off x="184320" y="1052640"/>
            <a:ext cx="8708760" cy="128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4"/>
          <a:stretch/>
        </p:blipFill>
        <p:spPr>
          <a:xfrm>
            <a:off x="4427640" y="2276640"/>
            <a:ext cx="4465440" cy="722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5"/>
          <a:stretch/>
        </p:blipFill>
        <p:spPr>
          <a:xfrm>
            <a:off x="5292720" y="3036960"/>
            <a:ext cx="3527280" cy="730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"/>
          <p:cNvPicPr/>
          <p:nvPr/>
        </p:nvPicPr>
        <p:blipFill>
          <a:blip r:embed="rId6"/>
          <a:stretch/>
        </p:blipFill>
        <p:spPr>
          <a:xfrm>
            <a:off x="6156360" y="3828960"/>
            <a:ext cx="2782800" cy="590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"/>
          <p:cNvPicPr/>
          <p:nvPr/>
        </p:nvPicPr>
        <p:blipFill>
          <a:blip r:embed="rId7"/>
          <a:stretch/>
        </p:blipFill>
        <p:spPr>
          <a:xfrm>
            <a:off x="3095640" y="3786120"/>
            <a:ext cx="3060720" cy="676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"/>
          <p:cNvPicPr/>
          <p:nvPr/>
        </p:nvPicPr>
        <p:blipFill>
          <a:blip r:embed="rId8"/>
          <a:stretch/>
        </p:blipFill>
        <p:spPr>
          <a:xfrm>
            <a:off x="6948360" y="4581360"/>
            <a:ext cx="194472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8T05:10:01Z</dcterms:modified>
  <cp:revision>1955</cp:revision>
  <dc:subject/>
  <dc:title>عرض تقديمي في PowerPoint</dc:title>
</cp:coreProperties>
</file>