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2B0D-56A4-4101-B28A-32DA7518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797C-0B95-4094-9F09-53EF3C6F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88D9-D019-48FE-9087-B30C1B9C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B708-26AF-45FD-A03A-727E2E9D2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72D8-B9E7-430E-A666-68584337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7E79-AC2E-4B48-B05D-9481C6A9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0B48-011D-4EA1-BAAA-FF839998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AACE-A58C-466A-BA7C-DE7C734C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41F6-4F4C-443C-BE28-B08869B6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CC70-A0E9-46A3-BD3A-197145BF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E2D0-4161-48E6-869C-98FB5A3B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E88D-BA96-4ACD-B843-2D93F606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10F8-D4A9-4806-80D1-2DC914B9F47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1484280"/>
            <a:ext cx="86659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وكل على الله تعالى والثقة به جل وعلا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220500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إقامة الصلاة في أوقاتها وأدائها كاملة بشروطها وواجباتها مع استحضار القلب وخشوع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27160" y="2924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كبر علامات خشي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 يحجز صاحبه عن فعل الذنوب والمعاص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59720" cy="4248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6156360" y="2852640"/>
            <a:ext cx="2340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ذا ذكر الله وجلت قلوبه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3059280" y="2708280"/>
            <a:ext cx="234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ذا تليت عليهم آياته زادتهم إيمانا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50920" y="2708280"/>
            <a:ext cx="234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ربهم يتوكلو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عنوان 1"/>
          <p:cNvSpPr/>
          <p:nvPr/>
        </p:nvSpPr>
        <p:spPr>
          <a:xfrm>
            <a:off x="6084720" y="4221000"/>
            <a:ext cx="2340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يقيمون الصلا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2987640" y="4373640"/>
            <a:ext cx="2340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مما رزقهم الله ينفقو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250920" y="995400"/>
            <a:ext cx="8532720" cy="5529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250920" y="2133720"/>
            <a:ext cx="666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يقيمون وقعت في (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7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 ) سنة (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) للهجرة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50920" y="3500280"/>
            <a:ext cx="666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سترجاع المسلمين لأموالهم التي نهبها كفار قريش من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71280" y="4653000"/>
            <a:ext cx="52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عدد المسلمين (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14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) عدد المشركين (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000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1619280" y="5877000"/>
            <a:ext cx="52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نتصار المسلمين وهزيمة المشرك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8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611280" y="1700280"/>
            <a:ext cx="813888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223920" y="580536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ألفة 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حبة 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تفا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3"/>
          <a:stretch/>
        </p:blipFill>
        <p:spPr>
          <a:xfrm>
            <a:off x="1284120" y="1052640"/>
            <a:ext cx="7631280" cy="583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"/>
          <p:cNvPicPr/>
          <p:nvPr/>
        </p:nvPicPr>
        <p:blipFill>
          <a:blip r:embed="rId4"/>
          <a:stretch/>
        </p:blipFill>
        <p:spPr>
          <a:xfrm>
            <a:off x="1081080" y="3213000"/>
            <a:ext cx="7834320" cy="609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"/>
          <p:cNvPicPr/>
          <p:nvPr/>
        </p:nvPicPr>
        <p:blipFill>
          <a:blip r:embed="rId5"/>
          <a:stretch/>
        </p:blipFill>
        <p:spPr>
          <a:xfrm>
            <a:off x="2793960" y="5229360"/>
            <a:ext cx="6121440" cy="54612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203040" y="1628640"/>
            <a:ext cx="86918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لاوة الآيا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ذكر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توكل على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216000" y="3860640"/>
            <a:ext cx="86914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من التوكل الأخذ بالأسبا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09600" y="252360"/>
            <a:ext cx="85248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96"/>
          <a:stretch/>
        </p:blipFill>
        <p:spPr>
          <a:xfrm>
            <a:off x="250920" y="1998720"/>
            <a:ext cx="86281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3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179280" y="1822320"/>
            <a:ext cx="8690040" cy="39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605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158760" y="1197000"/>
            <a:ext cx="8825040" cy="1574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8028000" y="1865160"/>
            <a:ext cx="1368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1f497d"/>
                </a:solidFill>
                <a:latin typeface="Wingdings"/>
                <a:ea typeface="Wingdings"/>
              </a:rPr>
              <a:t>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0" descr=""/>
          <p:cNvPicPr/>
          <p:nvPr/>
        </p:nvPicPr>
        <p:blipFill>
          <a:blip r:embed="rId1"/>
          <a:stretch/>
        </p:blipFill>
        <p:spPr>
          <a:xfrm>
            <a:off x="250920" y="2430360"/>
            <a:ext cx="8642160" cy="423864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50920" y="5367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ازل في الجن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6093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ج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50920" y="1052640"/>
            <a:ext cx="8665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نزول قوله تعالى :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ذكر عبادة بن الصامت أنه في غزوة بدر اختلفوا في النفل فقسمه رسول الله بين المسلمين سواس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3"/>
          <a:stretch/>
        </p:blipFill>
        <p:spPr>
          <a:xfrm>
            <a:off x="539640" y="958680"/>
            <a:ext cx="5688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2195640" y="1268280"/>
            <a:ext cx="48243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تشريع حق خاص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ولرسو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0680" y="22050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إصلاح ذات ال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ث عليه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2924280"/>
            <a:ext cx="8665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أن يكون المؤمنون إخوة متحاب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ث عليه الإس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3716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طاعة الله ورسو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443700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يمان هو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ا وقر في القلب وصدقته الأعما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515772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يمان يز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طاع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5877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يمان ينقص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معاص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