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BB78-C7FE-4A80-9349-4AFE633C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E7D-FF6B-4B64-9F8E-934FD990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FB5-AC67-43D8-952B-8567E43C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E75-A278-4C2F-A08A-CCC6875E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811-9B53-423D-A437-FEEDECAD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2CD-1545-4F59-A061-B311BAE2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FB1-FE52-457B-BB42-E41F767B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124-5BAD-4712-BCEB-E3DC0C07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F12-E81B-4875-A34F-58B52AD8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A35-62BD-4B6F-B264-6860F31E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E53-3B79-46A9-9AE8-128C1B26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6195-E40F-4705-BA30-BB343C7C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C3A2-95AD-4199-AB5F-63301CBF71D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012680"/>
            <a:ext cx="86216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26960" y="1844640"/>
            <a:ext cx="8393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حجر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أصحاب الحجر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حجر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9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27082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حج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سف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حجر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سنة الله في الرسالة والرسل وأقوام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طبيعة المكذبين بهذا الد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أنظار إلى التأمل في بعض آيات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البشر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نبيه على مصارع الغا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856908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0T17:48:07Z</dcterms:modified>
  <cp:revision>1819</cp:revision>
  <dc:subject/>
  <dc:title>عرض تقديمي في PowerPoint</dc:title>
</cp:coreProperties>
</file>