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6BDB-38FA-498F-896A-F4BB954C1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EB30-B476-46B5-BE8E-C6D1567D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19AC-1D1D-4DB2-868C-657672E66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220B-9ECF-4403-BB4A-F60A6C0ED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80A7-3011-4060-B162-7CE44B28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A3C3-59F7-44BA-A6C3-E6D1F1B8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71B1-FAD9-44B6-8335-344D301D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A15E-B8BB-4EB8-B2A7-60C41EF6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D799-1B98-42AE-9097-41E6845A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4644-18E4-4DF8-A164-AAB906F0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F131-8B47-4DB0-8B90-2884FD33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FFE5-3EA7-4A31-8292-4DC333B7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D6F4-A939-424F-8DD4-B63B08A546C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5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7836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3"/>
          <a:stretch/>
        </p:blipFill>
        <p:spPr>
          <a:xfrm>
            <a:off x="3965400" y="836640"/>
            <a:ext cx="4915080" cy="596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"/>
          <p:cNvPicPr/>
          <p:nvPr/>
        </p:nvPicPr>
        <p:blipFill>
          <a:blip r:embed="rId4"/>
          <a:stretch/>
        </p:blipFill>
        <p:spPr>
          <a:xfrm>
            <a:off x="324000" y="2421000"/>
            <a:ext cx="8569080" cy="711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"/>
          <p:cNvPicPr/>
          <p:nvPr/>
        </p:nvPicPr>
        <p:blipFill>
          <a:blip r:embed="rId5"/>
          <a:stretch/>
        </p:blipFill>
        <p:spPr>
          <a:xfrm>
            <a:off x="250920" y="4272120"/>
            <a:ext cx="8642160" cy="102852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324000" y="321300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ختلافهم فمنهم مؤمن ومنهم كا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324000" y="1484280"/>
            <a:ext cx="856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نغماسهم في حياة الترف والنعيم واللهو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3" descr=""/>
          <p:cNvPicPr/>
          <p:nvPr/>
        </p:nvPicPr>
        <p:blipFill>
          <a:blip r:embed="rId6"/>
          <a:stretch/>
        </p:blipFill>
        <p:spPr>
          <a:xfrm>
            <a:off x="914400" y="5389560"/>
            <a:ext cx="79056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249"/>
          <a:stretch/>
        </p:blipFill>
        <p:spPr>
          <a:xfrm>
            <a:off x="233280" y="2421000"/>
            <a:ext cx="8677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709120" cy="2870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1440"/>
            <a:ext cx="9131400" cy="1067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597040" y="4653000"/>
            <a:ext cx="38736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ما ذكر الله أسباب الاستقام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ذكر هنا المعين عليها وهو الأمر بالمعروف والنهي عن المنك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398920" y="907920"/>
            <a:ext cx="3492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8856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50920" y="1854360"/>
            <a:ext cx="8713800" cy="481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72540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39760" y="47242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مم الماضي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130560" y="1052640"/>
            <a:ext cx="4178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مية الأمر بالمعروف والنهي عن  المنك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53672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صرين على الفسا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6014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ل دين واحد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3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أمر بالمعروف والنهي عن المنكر من أسباب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جا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أسباب الهلاك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انغماس في حياة الترف والنعيم والله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ظلم أحد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عذب الله أهل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صلاح والإصلا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عل الله للإنسان حرية الاختيار ب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خير والش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371628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أعطى الإنسان العقل الذي يميز به ب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صلاح والفسا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4149720"/>
            <a:ext cx="8666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لو جعل الناس جميعاً مؤمنين لانتفت الحكمة م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 خلقهم وابتلائ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653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جن كالإنس منهم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سعداء والأشقيا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5084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سعداء في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إيمانهم بالنبي </a:t>
            </a:r>
            <a:r>
              <a:rPr b="1" lang="ar-SA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تباعهم شريع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08000" y="5516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أشقياء في النا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كفرهم وإعراضهم عن دين الله 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7" descr=""/>
          <p:cNvPicPr/>
          <p:nvPr/>
        </p:nvPicPr>
        <p:blipFill>
          <a:blip r:embed="rId3"/>
          <a:stretch/>
        </p:blipFill>
        <p:spPr>
          <a:xfrm>
            <a:off x="338040" y="981000"/>
            <a:ext cx="8501040" cy="117792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328680" y="2346480"/>
            <a:ext cx="86360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مر بالمعروف والنهي عن المنك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7T19:15:02Z</dcterms:modified>
  <cp:revision>2010</cp:revision>
  <dc:subject/>
  <dc:title>عرض تقديمي في PowerPoint</dc:title>
</cp:coreProperties>
</file>