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C6D-12DD-434C-86E6-BD94EBF6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1DA5-4091-4ADD-8EDF-ACB4BDBF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1F1E-05DB-4B31-BFDF-AF97D60C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7DB-9D63-469E-934C-CBCD757E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11D-2F54-4A90-8A89-80B7842D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5BE-73E8-4D96-9035-317B09BB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8E2A-7F1B-46FE-9E8F-E3F6B96C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B944-7E82-4E6D-830A-70996383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171-4CDD-4DF2-93DA-A72F4712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0D5-6C78-437F-8C2C-D84639D9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6B7-D83B-4D4D-9616-7444C912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5F6-6C94-4751-BA96-375C20E8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530B-B248-4809-856E-412A67772CB5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15840"/>
            <a:ext cx="913284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1012680"/>
            <a:ext cx="86216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26960" y="1844640"/>
            <a:ext cx="8393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سورة الحجر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أصحاب الحجر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062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حجر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9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08080" y="270828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الحج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سف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250920" y="1557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حجر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سنة الله في الرسالة والرسل وأقوام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براز طبيعة المكذبين بهذا الد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أنظار إلى التأمل في بعض آيات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البشر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1"/>
          <p:cNvCxnSpPr/>
          <p:nvPr/>
        </p:nvCxnSpPr>
        <p:spPr>
          <a:xfrm flipH="1">
            <a:off x="8456040" y="376668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53376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نبيه على مصارع الغابر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033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8569080" cy="4608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0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30T17:48:07Z</dcterms:modified>
  <cp:revision>1819</cp:revision>
  <dc:subject/>
  <dc:title>عرض تقديمي في PowerPoint</dc:title>
</cp:coreProperties>
</file>