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3C8B-2104-420A-B698-06C0B706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B1B-FB9A-4860-AF89-3338E254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2A90-B48C-46F3-BEC4-24F4BA91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2EB-60CD-4D83-B42A-D82B4936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AE6-DDE6-4BE5-93D7-58BDD08C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1185-4C28-441D-8ECE-A2764517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5DA7-4172-49FF-B71B-C01C6B1A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67F-3CC4-4238-B8C5-FAB1B652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A33-46BA-4EB4-A624-9F04B54B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AF4E-DD31-4992-B102-334797F5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F6B7-8309-4E3A-A453-04EECDE4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D7D8-6918-479A-BD8E-B0953C9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153-47C8-49D8-B7AD-90378FA9873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2863800" y="981000"/>
            <a:ext cx="5956200" cy="2298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1547640" y="1484280"/>
            <a:ext cx="351504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5"/>
          <a:stretch/>
        </p:blipFill>
        <p:spPr>
          <a:xfrm>
            <a:off x="539640" y="2077920"/>
            <a:ext cx="4532400" cy="63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"/>
          <p:cNvPicPr/>
          <p:nvPr/>
        </p:nvPicPr>
        <p:blipFill>
          <a:blip r:embed="rId6"/>
          <a:stretch/>
        </p:blipFill>
        <p:spPr>
          <a:xfrm>
            <a:off x="250920" y="2708280"/>
            <a:ext cx="4878360" cy="566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7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8" name="عنوان 1"/>
          <p:cNvSpPr/>
          <p:nvPr/>
        </p:nvSpPr>
        <p:spPr>
          <a:xfrm>
            <a:off x="276120" y="1557360"/>
            <a:ext cx="86360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 : (( بِاسْـمِكَ اللّهُـمَّ أَمـوتُ وَأَحْـيا )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3"/>
          <a:stretch/>
        </p:blipFill>
        <p:spPr>
          <a:xfrm>
            <a:off x="2568600" y="907920"/>
            <a:ext cx="6324480" cy="64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10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6" descr=""/>
          <p:cNvPicPr/>
          <p:nvPr/>
        </p:nvPicPr>
        <p:blipFill>
          <a:blip r:embed="rId3"/>
          <a:stretch/>
        </p:blipFill>
        <p:spPr>
          <a:xfrm>
            <a:off x="857160" y="1484280"/>
            <a:ext cx="8040600" cy="1081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108" name="عنوان 1"/>
          <p:cNvSpPr/>
          <p:nvPr/>
        </p:nvSpPr>
        <p:spPr>
          <a:xfrm>
            <a:off x="287280" y="2050920"/>
            <a:ext cx="85694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: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رشاد  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والتخويف من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م لا يريدوا الإيمان ب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539640" y="836640"/>
            <a:ext cx="8444160" cy="1168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4"/>
          <a:stretch/>
        </p:blipFill>
        <p:spPr>
          <a:xfrm>
            <a:off x="4930920" y="3068640"/>
            <a:ext cx="3962160" cy="58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"/>
          <p:cNvPicPr/>
          <p:nvPr/>
        </p:nvPicPr>
        <p:blipFill>
          <a:blip r:embed="rId5"/>
          <a:stretch/>
        </p:blipFill>
        <p:spPr>
          <a:xfrm>
            <a:off x="434880" y="4581360"/>
            <a:ext cx="8481960" cy="1397160"/>
          </a:xfrm>
          <a:prstGeom prst="rect">
            <a:avLst/>
          </a:prstGeom>
          <a:ln w="0">
            <a:noFill/>
          </a:ln>
        </p:spPr>
      </p:pic>
      <p:sp>
        <p:nvSpPr>
          <p:cNvPr id="112" name="عنوان 1"/>
          <p:cNvSpPr/>
          <p:nvPr/>
        </p:nvSpPr>
        <p:spPr>
          <a:xfrm>
            <a:off x="324000" y="3645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عقبات : </a:t>
            </a: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لائكة يتعاقبون علي العباد حرس بالليل وحرس بالنها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عنوان 1"/>
          <p:cNvSpPr/>
          <p:nvPr/>
        </p:nvSpPr>
        <p:spPr>
          <a:xfrm>
            <a:off x="324000" y="587700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يعلم ذلك قبل تخلقه ونفخ الروح في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6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0"/>
          <a:stretch/>
        </p:blipFill>
        <p:spPr>
          <a:xfrm>
            <a:off x="476280" y="1413000"/>
            <a:ext cx="81914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8307360" cy="3384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48040" y="5008680"/>
            <a:ext cx="335268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8928000" cy="5761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15552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1" descr=""/>
          <p:cNvPicPr/>
          <p:nvPr/>
        </p:nvPicPr>
        <p:blipFill>
          <a:blip r:embed="rId1"/>
          <a:stretch/>
        </p:blipFill>
        <p:spPr>
          <a:xfrm>
            <a:off x="239760" y="1816200"/>
            <a:ext cx="8724960" cy="4492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"/>
          <p:cNvPicPr/>
          <p:nvPr/>
        </p:nvPicPr>
        <p:blipFill>
          <a:blip r:embed="rId2"/>
          <a:stretch/>
        </p:blipFill>
        <p:spPr>
          <a:xfrm>
            <a:off x="0" y="804960"/>
            <a:ext cx="9144000" cy="75240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39760" y="40766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بي يدعوهم إلى ربه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784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وظيفة الرسل ووظيفة الملائك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653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زيد في الحم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157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عبد ملائكة يتعاقبون عليه حرس بالليل وحرس بالنهار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62080" y="5734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ا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30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و الله المطل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5797440" y="6308640"/>
            <a:ext cx="3095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متع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بالكفار برتب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بو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هل الكفار بوظيف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نبياء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بعث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داية والإرشاد والدعوة إلى توحيد الله تعالى والتخويف من ا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 مما خفي أو ظ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راقبة الله تعالى في السر والعلا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250920" y="3716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وجو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قبة الله تعالى في السر والعلانية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له تعالى لا تخفى عليه خافي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27160" y="4148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وظائف الملائك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فظ العباد ورعايتهم وكتابة أعما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58136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ملائكة وأن لهم وظائف متعدد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27160" y="50133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54100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ا يغير ما بقوم من خير أو شر حت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غيروا ما بأنفس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طاعة إلى المعصية كان التغيير من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قاباً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ذا انتقلوا من المعصية  إلى الطاعة كان التغيير من الله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ثواباً له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رادة ومشيئة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نافذ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2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229860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4643280" y="2133720"/>
            <a:ext cx="3673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اس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عنوان 1"/>
          <p:cNvSpPr/>
          <p:nvPr/>
        </p:nvSpPr>
        <p:spPr>
          <a:xfrm>
            <a:off x="395280" y="2170080"/>
            <a:ext cx="31687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ست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395280" y="2673360"/>
            <a:ext cx="3168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ح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4716360" y="2673360"/>
            <a:ext cx="36720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شام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4"/>
          <a:srcRect l="3788" t="5586" r="11449" b="78994"/>
          <a:stretch/>
        </p:blipFill>
        <p:spPr>
          <a:xfrm>
            <a:off x="3276720" y="92160"/>
            <a:ext cx="463860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3T10:20:24Z</dcterms:modified>
  <cp:revision>2043</cp:revision>
  <dc:subject/>
  <dc:title>عرض تقديمي في PowerPoint</dc:title>
</cp:coreProperties>
</file>