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D907-BF0F-49D5-A6B0-3B763FF5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961-1C0F-4FE3-A88B-EA51D204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819A-583E-431C-A119-38DF25C9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CDB-F15C-4D2C-99B4-EAA13A21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0A0-1F15-40BD-98BA-BC6340B8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813-178F-49CA-88C2-4575D55A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58A-82D1-4B77-92A8-5DF0AB65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6D5-399E-4E71-A60D-138BC70C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73F5-91A2-482A-A14C-58FE8FF5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654C-A237-4FA9-BFAC-2DE8100B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E37-F63F-4D09-BEDD-835EBF6E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7B9-4701-48F6-A2DE-97CDCD3B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4B1B-022D-4AB2-9199-928A9FBE73D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2360" y="1773360"/>
            <a:ext cx="864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رتفع أبصارهم دون أن تطر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سر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363600" y="1052640"/>
            <a:ext cx="85294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324000" y="479736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تكلم عن الكافري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3"/>
          <a:stretch/>
        </p:blipFill>
        <p:spPr>
          <a:xfrm>
            <a:off x="4103640" y="1052640"/>
            <a:ext cx="47894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4"/>
          <a:stretch/>
        </p:blipFill>
        <p:spPr>
          <a:xfrm>
            <a:off x="2262240" y="2492280"/>
            <a:ext cx="664056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"/>
          <p:cNvPicPr/>
          <p:nvPr/>
        </p:nvPicPr>
        <p:blipFill>
          <a:blip r:embed="rId5"/>
          <a:stretch/>
        </p:blipFill>
        <p:spPr>
          <a:xfrm>
            <a:off x="1487520" y="4076640"/>
            <a:ext cx="7415280" cy="5842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141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له ليمهل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324000" y="1700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رف العبادة لغير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205000"/>
            <a:ext cx="86025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884320" y="4819680"/>
            <a:ext cx="35179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1020600"/>
            <a:ext cx="881712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13800" cy="45352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71520" y="413064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61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3"/>
          <a:stretch/>
        </p:blipFill>
        <p:spPr>
          <a:xfrm>
            <a:off x="-15840" y="981000"/>
            <a:ext cx="9105840" cy="935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6480" y="1179360"/>
            <a:ext cx="37018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عاقبة الكافرين المكذبين يوم القيا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653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لوبهم خالية من العقل لفزع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626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لفتم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1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وف الكف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ظ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قبة الظالم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92280"/>
            <a:ext cx="8666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عا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لا تخفى عليه خافية غير غافل عن أعماله عباده بل يعلمها ويحصيها عليهم ويحاسبهم عليها يوم القيا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3357720"/>
            <a:ext cx="866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يوم القيامة على الكافرين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دة يوم القيامة عليهم وما سيكونون عليه من الذلة والصغ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203720"/>
            <a:ext cx="86662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الكافرين المكذبي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دم حتى إنهم يتمنون العودة إلى الدنيا مرة أخرى ليؤمنوا وما هم ب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9068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ر الكافرين و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ظيم حتى إنه من شدته وخبثه يكاد يزيل الجبال عن أماكن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9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بط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ر الكافرين مهما خفي وأُحك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04840" y="170028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أنهم حلفوا في الدنيا أنه لا بعث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أنهم سكنوا مساك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ه عرفوا ماذا فعل الله ب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ذكر الله لهم الأمثال ولم يأخذوا منها ال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3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2360" y="1844640"/>
            <a:ext cx="8640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نذار والتبش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392040" y="1039680"/>
            <a:ext cx="856296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8T09:00:33Z</dcterms:modified>
  <cp:revision>1865</cp:revision>
  <dc:subject/>
  <dc:title>عرض تقديمي في PowerPoint</dc:title>
</cp:coreProperties>
</file>