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73A5-F839-45E6-9E0F-9DD11075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8E3A-701B-4BC0-9F02-C6F9BAF5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60B-E76B-4C70-9945-B6B2ED43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FD0A-737D-4E15-B0F9-A74329DF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897-819F-427A-960B-0FD5D0DE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129-F09C-4A6E-BD9C-B1E9970C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008-1A4A-4678-B271-63AC28F6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5E5-D793-47D3-B5AA-B832E091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E709-EFB1-4724-9E41-548C91D7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A837-06B4-45FF-B15A-BC4E9877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C996-F726-4A80-9A44-841D64A5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324-5B52-4234-8986-5FD525E4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1CBC-569D-442C-A3CA-36A920D21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عرف المؤمنون ا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لاماته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أصحاب الأعراف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رابط مستقيم 18"/>
          <p:cNvSpPr/>
          <p:nvPr/>
        </p:nvSpPr>
        <p:spPr>
          <a:xfrm flipH="1">
            <a:off x="4571640" y="24210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9"/>
          <p:cNvSpPr/>
          <p:nvPr/>
        </p:nvSpPr>
        <p:spPr>
          <a:xfrm flipH="1">
            <a:off x="4566960" y="267804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0"/>
          <p:cNvCxnSpPr/>
          <p:nvPr/>
        </p:nvCxnSpPr>
        <p:spPr>
          <a:xfrm flipH="1">
            <a:off x="8456040" y="3573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3357720"/>
            <a:ext cx="8208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ثم تسعهم رحمة الله بعد تطهيرهم من الذن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29"/>
          <p:cNvSpPr/>
          <p:nvPr/>
        </p:nvSpPr>
        <p:spPr>
          <a:xfrm>
            <a:off x="8820000" y="2671920"/>
            <a:ext cx="0" cy="90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0"/>
          <p:cNvCxnSpPr/>
          <p:nvPr/>
        </p:nvCxnSpPr>
        <p:spPr>
          <a:xfrm flipH="1">
            <a:off x="8456040" y="2997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324000" y="280368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يحبسون على سور بين الجنة والن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50920" y="4005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فلا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كثار من الطاعات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السيئ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472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716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حتقار العمل الصالح ولو قل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607240" cy="266400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3933720"/>
            <a:ext cx="85978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لي ، غير مصل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صلي : تسهل عليه جميع الطاعات ويكون محبوباً من الله ومن جميع الناس وتكون حياته سعيدة ويوم القيامة في الجن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غير مصلي : تصعب عليه جميع الطاعات ويكون مكروهاً من الله ومن جميع الناس وتكون حياته تعيسه ويوم القيامة في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539640" y="1628640"/>
            <a:ext cx="8355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351792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عدنا على الإيمان والعمل الصالح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106200" y="907920"/>
            <a:ext cx="8837640" cy="59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4"/>
          <a:stretch/>
        </p:blipFill>
        <p:spPr>
          <a:xfrm>
            <a:off x="880920" y="2781360"/>
            <a:ext cx="806292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5"/>
          <a:stretch/>
        </p:blipFill>
        <p:spPr>
          <a:xfrm>
            <a:off x="1346040" y="4292640"/>
            <a:ext cx="7525080" cy="704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6"/>
          <a:stretch/>
        </p:blipFill>
        <p:spPr>
          <a:xfrm>
            <a:off x="3995640" y="1504800"/>
            <a:ext cx="4330800" cy="77184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72880" y="502920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بيخ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47"/>
          <a:stretch/>
        </p:blipFill>
        <p:spPr>
          <a:xfrm>
            <a:off x="250920" y="692280"/>
            <a:ext cx="86421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30240"/>
            <a:ext cx="9129600" cy="1166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7202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909720" y="1268280"/>
            <a:ext cx="7858080" cy="93672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249228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أصحاب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0" y="922320"/>
            <a:ext cx="913140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623080" cy="4753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438120" y="443700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عذا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406440" y="503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ُه، والطّرد من رحمت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858960"/>
            <a:ext cx="865332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430200" y="562608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يطلوبنها معوج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17600" y="61786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ن أصحاب الجنة والنار سو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737560" cy="7920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06064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ئط بين الجنة والنار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صحاب الأعراف هم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م تساوت حسناتهم وسيئاتهم فحبسوا على الأعراف حتى يقضي الله في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56536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نداء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قريع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وبيخ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عتراف الكفار بالوعد يوم القيامة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فع ولا يجد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كل إنسان يجازى بعمله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30064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ج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3279600" y="2492280"/>
            <a:ext cx="424512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3"/>
          <a:stretch/>
        </p:blipFill>
        <p:spPr>
          <a:xfrm>
            <a:off x="324000" y="4500720"/>
            <a:ext cx="8516880" cy="72360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0920" y="60609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جاب الذي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يشرف على الدارين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ينظر من عليه أهل الجنة وأه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