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B529-8E80-410E-B0F8-599DE35D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8329-436C-4DB4-A0A5-9A91EA45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F48C-B5AC-4F20-9589-1C24DF528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B3A7-6766-49E0-9F3B-7C6356AC8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4DF0-5B48-4DFE-A941-F144116F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F520-B7C3-4B66-882C-9AE87701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5436-4D8B-492F-9E20-67FCEA6B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8987-947F-4499-BDD3-A4B55644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0728-0BC6-4C9B-8577-BE0CFB8C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059B-CBD8-4DA0-B6AD-F2D52ACD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C16B-F22E-4AC7-AB1E-57DD2E76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7D32-E655-4EAC-9DF4-AC69C951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901A-9943-46D5-9653-8BB30F1A0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421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50920" y="400536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إيحاء الله إلى رجل من البشر أمر موافق للحكمة لا محل استغراب وتعج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3"/>
          <a:stretch/>
        </p:blipFill>
        <p:spPr>
          <a:xfrm>
            <a:off x="2556000" y="981000"/>
            <a:ext cx="6386400" cy="660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4"/>
          <a:stretch/>
        </p:blipFill>
        <p:spPr>
          <a:xfrm>
            <a:off x="968400" y="3141720"/>
            <a:ext cx="7948440" cy="639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5"/>
          <a:stretch/>
        </p:blipFill>
        <p:spPr>
          <a:xfrm>
            <a:off x="1547640" y="1700280"/>
            <a:ext cx="72723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2952720" y="5229360"/>
            <a:ext cx="3238560" cy="59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3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844640"/>
            <a:ext cx="86648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له أعلم بمراده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2062080" y="981000"/>
            <a:ext cx="67010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7138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43000" y="1989000"/>
            <a:ext cx="8650080" cy="460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335772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43000" y="42210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رسلن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43000" y="5006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بش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5727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رسول دج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1" descr=""/>
          <p:cNvPicPr/>
          <p:nvPr/>
        </p:nvPicPr>
        <p:blipFill>
          <a:blip r:embed="rId4"/>
          <a:stretch/>
        </p:blipFill>
        <p:spPr>
          <a:xfrm>
            <a:off x="-15840" y="866880"/>
            <a:ext cx="9159840" cy="90648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3059280" y="1047600"/>
            <a:ext cx="41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قرآن الكري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sp>
        <p:nvSpPr>
          <p:cNvPr id="6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قرآن الكريم كتاب محكم واضح مبي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يما اشتمل عليه من حلال وحرام وحدود وأحك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يحاء الله إلى رجل من البشر أم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وافق للحكمة لا محل استغراب وتع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بوة محمد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ثابت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شرى أهل الإيمان والعمل الصالح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ما أعد الله لهم من النع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دة تعجب العرب من بلاغة وفصاح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قرآن العظ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صف المشركون القرآن الكريم بأن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سح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5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8642160" cy="424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4"/>
          <a:stretch/>
        </p:blipFill>
        <p:spPr>
          <a:xfrm>
            <a:off x="8172360" y="3517920"/>
            <a:ext cx="533520" cy="558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5"/>
          <a:stretch/>
        </p:blipFill>
        <p:spPr>
          <a:xfrm>
            <a:off x="8172360" y="4454640"/>
            <a:ext cx="533520" cy="558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6"/>
          <a:stretch/>
        </p:blipFill>
        <p:spPr>
          <a:xfrm>
            <a:off x="2195640" y="2421000"/>
            <a:ext cx="533160" cy="558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7"/>
          <a:stretch/>
        </p:blipFill>
        <p:spPr>
          <a:xfrm>
            <a:off x="2166840" y="4508640"/>
            <a:ext cx="53352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6T05:29:29Z</dcterms:modified>
  <cp:revision>1888</cp:revision>
  <dc:subject/>
  <dc:title>عرض تقديمي في PowerPoint</dc:title>
</cp:coreProperties>
</file>