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B745-EA2C-4B49-8DFA-21E3CDA4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55D-E65F-4375-817F-72683A36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93BF-8A53-4881-9833-50A7414E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A8A-EFDF-4C24-8D04-64FD585A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BB47-B4EE-4BE4-AE1C-85312395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48C4-1024-45C4-BB94-01A65F74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C675-26E7-4F56-A3A0-74A119ED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96B9-737C-4D01-8E32-40787D7B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E941-8CEB-4235-9AC9-B954BF5D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2CBA-B0AE-4260-89DD-5E006DA4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9A89-523F-45CE-B9AC-9B9401CD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B915-5716-4E68-BB97-0F1C5B8D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A6D5-9288-47A1-8CAF-EFFE6300F97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012680"/>
            <a:ext cx="86216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426960" y="1844640"/>
            <a:ext cx="8393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3284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الحجر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أصحاب الحجر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حجر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99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8080" y="270828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حج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يوسف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55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حجر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سنة الله في الرسالة والرسل وأقوام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براز طبيعة المكذبين بهذا الد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جيه الأنظار إلى التأمل في بعض آيات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قصة البشر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نبيه على مصارع الغاب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8569080" cy="460872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0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30T17:48:07Z</dcterms:modified>
  <cp:revision>1819</cp:revision>
  <dc:subject/>
  <dc:title>عرض تقديمي في PowerPoint</dc:title>
</cp:coreProperties>
</file>