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1B5-F53F-43C0-B87B-3CE9BA1F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F1F-CD3F-4B40-A420-7B65AA77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EE61-9CB6-4EEC-B4C3-CEE35ECD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0B63-53FF-4A77-85FA-D169B4731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FDA-317F-4791-B8DB-F69EB944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BC96-4842-4618-B7D0-0D459AB8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2D98-29A0-44BD-8CCF-D9DD2014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414-AEAD-4DBC-AD02-AB131C11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D46E-F817-4565-8143-A7311EE2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4518-3946-4A97-9AED-F3538E57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3DE-9988-4457-8ED0-DD3EF8D7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E91-DAF1-4BFE-B1F7-D10CEC64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21CB-5E1C-4E06-9149-6F1A3941ACB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304920" y="1089000"/>
            <a:ext cx="8532720" cy="550872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059280" y="3033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3078000" y="371628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3081240" y="440208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3081240" y="50767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100320" y="5786280"/>
            <a:ext cx="2592360" cy="6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439560" y="3036960"/>
            <a:ext cx="259272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58640" y="371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461880" y="44053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461880" y="507996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480960" y="5789520"/>
            <a:ext cx="2592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متو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384120" y="1052640"/>
            <a:ext cx="8542440" cy="1388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234936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اعتراف بنعم الله والمحافظة عليه وعدم الكفر 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9360" y="1484280"/>
            <a:ext cx="85834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1" name="عنوان 1"/>
          <p:cNvSpPr/>
          <p:nvPr/>
        </p:nvSpPr>
        <p:spPr>
          <a:xfrm>
            <a:off x="324000" y="538308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رية داوود عليه 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3"/>
          <a:stretch/>
        </p:blipFill>
        <p:spPr>
          <a:xfrm>
            <a:off x="3492360" y="981000"/>
            <a:ext cx="5384880" cy="546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4"/>
          <a:stretch/>
        </p:blipFill>
        <p:spPr>
          <a:xfrm>
            <a:off x="3441600" y="2708280"/>
            <a:ext cx="5486400" cy="546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5"/>
          <a:stretch/>
        </p:blipFill>
        <p:spPr>
          <a:xfrm>
            <a:off x="687240" y="4221000"/>
            <a:ext cx="8240760" cy="1054440"/>
          </a:xfrm>
          <a:prstGeom prst="rect">
            <a:avLst/>
          </a:prstGeom>
          <a:ln w="0">
            <a:noFill/>
          </a:ln>
        </p:spPr>
      </p:pic>
      <p:sp>
        <p:nvSpPr>
          <p:cNvPr id="105" name="عنوان 1"/>
          <p:cNvSpPr/>
          <p:nvPr/>
        </p:nvSpPr>
        <p:spPr>
          <a:xfrm>
            <a:off x="324000" y="3284640"/>
            <a:ext cx="85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لح في الدنيا ولا في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عنوان 1"/>
          <p:cNvSpPr/>
          <p:nvPr/>
        </p:nvSpPr>
        <p:spPr>
          <a:xfrm>
            <a:off x="324000" y="16286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آمن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ير الرزق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ل الرسل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حليل الحلال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جواز الأكل مما حرمه الله عند الضرورة لدفع الموت بغير ظلم ولا زيادة عن الح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73"/>
          <a:stretch/>
        </p:blipFill>
        <p:spPr>
          <a:xfrm>
            <a:off x="324000" y="1916280"/>
            <a:ext cx="853416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58960" y="4581360"/>
            <a:ext cx="3784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250920" y="1065240"/>
            <a:ext cx="864216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53240" cy="468144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95280" y="42530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ذبح على غير اسم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4797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حتاج إل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"/>
          <p:cNvPicPr/>
          <p:nvPr/>
        </p:nvPicPr>
        <p:blipFill>
          <a:blip r:embed="rId3"/>
          <a:stretch/>
        </p:blipFill>
        <p:spPr>
          <a:xfrm>
            <a:off x="0" y="981000"/>
            <a:ext cx="9126360" cy="86364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324000" y="1125360"/>
            <a:ext cx="417672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ذيب الله سبحانه لمن كذب برس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3737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ير ظا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تجاوز حد الضرو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فر بنعم الله عز وجل وإنكار النبو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حلال الطيب والبعد عن الخبيث المحر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فظ النعم يكون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شكر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يفية شك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عتراف بها في القلب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ناء على الله باللسان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صرفها في طاعة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تة والدم المسفوح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8776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ستثنى من تحريم الميت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سمك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جر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50920" y="5002200"/>
            <a:ext cx="86659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لحم الخنزير وشحمه وعظامه وكل الأطعمة التي فيها شيء من مكونات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550692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ص اللحم بالذكر ما أن التحريم على كل الخنزي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لى سبيل التغل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6010200"/>
            <a:ext cx="866592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ا ذبح لغير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أكل من المحرمات عند الضرورة لدفع الموت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ائ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حليل والتحريم بغير دليل شرعي ظاه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كذب على الله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66760" y="3068640"/>
            <a:ext cx="8666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قوبة الكذب على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فلح في الدنيا ولا في 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33200" y="-92160"/>
            <a:ext cx="9374040" cy="106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250920" y="1700280"/>
            <a:ext cx="86295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تحريم التحليل والتحريم بغير دليل شرعي ظاهر وحرمة الكذب على الله وأن الكاذب لا يفلح في الدنيا ولا في الا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539640" y="1031760"/>
            <a:ext cx="841392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6T21:21:47Z</dcterms:modified>
  <cp:revision>1940</cp:revision>
  <dc:subject/>
  <dc:title>عرض تقديمي في PowerPoint</dc:title>
</cp:coreProperties>
</file>