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7840-8A8D-4833-A815-9FC27347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ECE5-762C-4CC3-BFBD-41B34938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DC8E-B3F8-4CA1-B70C-D0CD2213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B63B-3276-43D8-AC35-D71A574A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3CAE-1A79-4E01-83D4-40E0B102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1A6E-63DF-4A11-AAE6-EACA64F8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4C03-FA4F-4381-A64E-4E6701FB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B087-BF1B-4CF5-A305-0689B896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E2AF-EB37-4BC4-9142-B4C72867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BAF6-852B-4DE4-B13D-3796BBF5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6766-2A8D-43A6-A5D7-368B8D58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5ACD-76B2-4A4D-BDAD-AC0A3093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25F7-7902-434D-B063-DB5D2095050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50920" y="1557360"/>
            <a:ext cx="85741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سر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حريم ما أحله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واحش الظاهرة والباط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أث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غي بغير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شرك ب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ول على الله بغير عل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4633920" y="981000"/>
            <a:ext cx="41911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1476360" y="1628640"/>
            <a:ext cx="7326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3263760" y="836640"/>
            <a:ext cx="5664240" cy="571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"/>
          <p:cNvPicPr/>
          <p:nvPr/>
        </p:nvPicPr>
        <p:blipFill>
          <a:blip r:embed="rId4"/>
          <a:stretch/>
        </p:blipFill>
        <p:spPr>
          <a:xfrm>
            <a:off x="932040" y="3060720"/>
            <a:ext cx="8011800" cy="5842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3646440"/>
            <a:ext cx="86914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الشرك بالله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ر الوالدين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قتل الأولا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عد عن الفواحش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حرم قتل النفس إلا بالحق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حرم أكل مال اليتم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مر بالعدل في الكيل والميز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قول العدل والصدق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مر بالوفاء بالعه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 – اتباع الصراط المستق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1484280"/>
            <a:ext cx="8691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 تكون بقدر الحاجة . قال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250920" y="2205000"/>
            <a:ext cx="8691480" cy="67644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179280" y="5734080"/>
            <a:ext cx="8691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يسأل أهل العلم الراسخين في الع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6"/>
          <a:stretch/>
        </p:blipFill>
        <p:spPr>
          <a:xfrm>
            <a:off x="2556000" y="5157720"/>
            <a:ext cx="62355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50920" y="692280"/>
            <a:ext cx="8642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69840"/>
            <a:ext cx="9144000" cy="124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63600" y="1816200"/>
            <a:ext cx="84564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8" name="عنوان 1"/>
          <p:cNvSpPr/>
          <p:nvPr/>
        </p:nvSpPr>
        <p:spPr>
          <a:xfrm>
            <a:off x="260280" y="1700280"/>
            <a:ext cx="86076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الآيات عن ما أمرنا الله به وما نهانا ع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916440" y="836640"/>
            <a:ext cx="49654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61920" y="836640"/>
            <a:ext cx="90201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" descr=""/>
          <p:cNvPicPr/>
          <p:nvPr/>
        </p:nvPicPr>
        <p:blipFill>
          <a:blip r:embed="rId1"/>
          <a:stretch/>
        </p:blipFill>
        <p:spPr>
          <a:xfrm>
            <a:off x="179280" y="1770120"/>
            <a:ext cx="8713800" cy="50878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66840" y="46544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لا يزيدوا على قدر الحاج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0766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كل وقت سجود أو مكا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66840" y="515952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عــظم قبحه من الذنو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24000" y="569124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جهرها وسرها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3"/>
          <a:stretch/>
        </p:blipFill>
        <p:spPr>
          <a:xfrm>
            <a:off x="3203640" y="879480"/>
            <a:ext cx="5676840" cy="74916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324000" y="626760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ذنب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رد على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شركين الذين يطوفون بالبيت عرا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2349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ينة والجمال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ص الإسلام عل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هي عن الإسراف في الأكل والشرب وهو ثلاثة أنواع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/>
          <p:cNvPicPr/>
          <p:nvPr/>
        </p:nvPicPr>
        <p:blipFill>
          <a:blip r:embed="rId2"/>
          <a:stretch/>
        </p:blipFill>
        <p:spPr>
          <a:xfrm>
            <a:off x="4427640" y="1413000"/>
            <a:ext cx="3246480" cy="503280"/>
          </a:xfrm>
          <a:prstGeom prst="rect">
            <a:avLst/>
          </a:prstGeom>
          <a:ln w="0">
            <a:noFill/>
          </a:ln>
        </p:spPr>
      </p:pic>
      <p:sp>
        <p:nvSpPr>
          <p:cNvPr id="66" name="رابط مستقيم 18"/>
          <p:cNvSpPr/>
          <p:nvPr/>
        </p:nvSpPr>
        <p:spPr>
          <a:xfrm flipH="1">
            <a:off x="4571640" y="328464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19"/>
          <p:cNvSpPr/>
          <p:nvPr/>
        </p:nvSpPr>
        <p:spPr>
          <a:xfrm flipH="1">
            <a:off x="4566960" y="3541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0"/>
          <p:cNvCxnSpPr/>
          <p:nvPr/>
        </p:nvCxnSpPr>
        <p:spPr>
          <a:xfrm flipH="1">
            <a:off x="8456040" y="4436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422100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بالغة في الترفه والمأكل والمشرب والملب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رابط مستقيم 29"/>
          <p:cNvSpPr/>
          <p:nvPr/>
        </p:nvSpPr>
        <p:spPr>
          <a:xfrm flipH="1">
            <a:off x="8817120" y="3535200"/>
            <a:ext cx="2880" cy="15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رابط كسهم مستقيم 30"/>
          <p:cNvCxnSpPr/>
          <p:nvPr/>
        </p:nvCxnSpPr>
        <p:spPr>
          <a:xfrm flipH="1">
            <a:off x="8456040" y="386028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عنوان 1"/>
          <p:cNvSpPr/>
          <p:nvPr/>
        </p:nvSpPr>
        <p:spPr>
          <a:xfrm>
            <a:off x="324000" y="3666960"/>
            <a:ext cx="813564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جاوز حد الاعتدال في الأكل والشر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3"/>
          <p:cNvCxnSpPr/>
          <p:nvPr/>
        </p:nvCxnSpPr>
        <p:spPr>
          <a:xfrm flipH="1">
            <a:off x="8456040" y="5040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250920" y="4805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ناول ال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صل في حكم المأكل والمشرب والملبس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باح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5950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فتاء بغير عل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ذب على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62080" y="2637000"/>
            <a:ext cx="86072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سباب : عدم الخوف من عقاب الله وحب المفاخرة والسم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علاج : الخوف من الله والتواضع وتجنب المفاخرة والسم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539640" y="836640"/>
            <a:ext cx="8469360" cy="1663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5400720" y="3786120"/>
            <a:ext cx="3492360" cy="158760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250920" y="4400640"/>
            <a:ext cx="756108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قتصار على ما يحتاجه م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324000" y="4905360"/>
            <a:ext cx="756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قتصار على ما يحتاجه م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