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7.png" ContentType="image/png"/>
  <Override PartName="/ppt/media/image8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8379-05D3-4DD3-BB51-646896A55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7E8D-6544-4765-BDAE-46128DAD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2E96-E8A3-4A03-9545-67C8AFBA2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A31B-7DB8-4928-823C-8E1782EE7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D0BE-8C84-45CB-8BBE-D372A382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1FFA-EB5F-493E-9CFE-AA801096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6BBB-4DC5-435B-A064-1A02384B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4DC9-AAB2-4DA7-AEED-7CBDE0DF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D89C-BA6B-461B-B0D9-C87EE915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7D9A-F3E0-410B-B33F-D968DA9E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FCE1-9259-4E00-9C8E-D4381B78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6231-E08C-4D88-8308-F59BCCAE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CF6E-9739-412B-BC03-AF4A26BAFC0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png"/><Relationship Id="rId3" Type="http://schemas.openxmlformats.org/officeDocument/2006/relationships/image" Target="../media/image18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50920" y="1484280"/>
            <a:ext cx="8665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بب الإعراض عن فهم دين الله وعدم سماع الحق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دخول النا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27160" y="213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هداية تكون من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 وحد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أن الهداية من الله وحد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50920" y="4005360"/>
            <a:ext cx="8665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ل قوله تعالى :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على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الله تعالى علم من خلقه ما هم عاملون قبل خلقه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250920" y="5013360"/>
            <a:ext cx="8665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ان الله تعالى علم من خلقه ما هم عاملون قبل خلقه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ال </a:t>
            </a:r>
            <a:r>
              <a:rPr b="1" lang="ar-SA" sz="21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: ((إن الله قدر مقادير الخلق قبل أن يخلق السموات والأرض بخمسين ألف سنة وكان عرشه على الماء)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"/>
          <p:cNvPicPr/>
          <p:nvPr/>
        </p:nvPicPr>
        <p:blipFill>
          <a:blip r:embed="rId2"/>
          <a:stretch/>
        </p:blipFill>
        <p:spPr>
          <a:xfrm>
            <a:off x="2243160" y="3209760"/>
            <a:ext cx="6576840" cy="533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"/>
          <p:cNvPicPr/>
          <p:nvPr/>
        </p:nvPicPr>
        <p:blipFill>
          <a:blip r:embed="rId3"/>
          <a:stretch/>
        </p:blipFill>
        <p:spPr>
          <a:xfrm>
            <a:off x="2668680" y="3944880"/>
            <a:ext cx="4787640" cy="47160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250920" y="587700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خطاب في قوله تعالى :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رسول </a:t>
            </a:r>
            <a:r>
              <a:rPr b="1" lang="ar-SA" sz="21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1" descr=""/>
          <p:cNvPicPr/>
          <p:nvPr/>
        </p:nvPicPr>
        <p:blipFill>
          <a:blip r:embed="rId4"/>
          <a:stretch/>
        </p:blipFill>
        <p:spPr>
          <a:xfrm>
            <a:off x="2195640" y="5835600"/>
            <a:ext cx="45370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250920" y="1484280"/>
            <a:ext cx="8665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عنى في قوله تعالى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هذا المثل مثل القوم الذين كانوا ضالين قبل أن تأتيهم بالهدى والرسالة ثم جئتهم بذلك فبقوا على ضلالتهم ولم ينتفعوا بذلك فمثلهم كمثل الكل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28600" y="2924280"/>
            <a:ext cx="8666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سوء العاقب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حذر من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228600" y="3645000"/>
            <a:ext cx="86662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ثبات يطلب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2"/>
          <a:stretch/>
        </p:blipFill>
        <p:spPr>
          <a:xfrm>
            <a:off x="2484360" y="1401840"/>
            <a:ext cx="453564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250920" y="2205000"/>
            <a:ext cx="85978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طبيق ذلك على نفسه أولا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على أهله ثانيا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على أقاربه الأقرب فالأقر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على باقي المسلمي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925560" y="1050840"/>
            <a:ext cx="792324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8353440" cy="3776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189000" y="3213000"/>
            <a:ext cx="5895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</a:t>
            </a:r>
            <a:r>
              <a:rPr b="1" lang="ar-SA" sz="22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 ((من يرد الله به خيراً يفقه في الدين )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4"/>
          <a:stretch/>
        </p:blipFill>
        <p:spPr>
          <a:xfrm>
            <a:off x="1403280" y="2349360"/>
            <a:ext cx="5184720" cy="574920"/>
          </a:xfrm>
          <a:prstGeom prst="rect">
            <a:avLst/>
          </a:prstGeom>
          <a:ln w="0">
            <a:noFill/>
          </a:ln>
        </p:spPr>
      </p:pic>
      <p:sp>
        <p:nvSpPr>
          <p:cNvPr id="98" name="عنوان 1"/>
          <p:cNvSpPr/>
          <p:nvPr/>
        </p:nvSpPr>
        <p:spPr>
          <a:xfrm>
            <a:off x="250920" y="4037040"/>
            <a:ext cx="589572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</a:t>
            </a:r>
            <a:r>
              <a:rPr b="1" lang="ar-SA" sz="22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 ((لَا تَزُولُ قَدَمَا عَبْدٍ يَوْمَ الْقِيَامَةِ حَتَّى يُسْأَلَ عَنْ أَرْبَعٍ : ... وَعَنْ عِلْمِهِ ، مَا صَنَعَ فِيهِ ؟)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7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835344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5" name="عنوان 1"/>
          <p:cNvSpPr/>
          <p:nvPr/>
        </p:nvSpPr>
        <p:spPr>
          <a:xfrm>
            <a:off x="223920" y="4941720"/>
            <a:ext cx="86914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بل نفي الاستفادة منها في متابعة الح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0" descr=""/>
          <p:cNvPicPr/>
          <p:nvPr/>
        </p:nvPicPr>
        <p:blipFill>
          <a:blip r:embed="rId3"/>
          <a:stretch/>
        </p:blipFill>
        <p:spPr>
          <a:xfrm>
            <a:off x="1246320" y="1052640"/>
            <a:ext cx="7643520" cy="596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"/>
          <p:cNvPicPr/>
          <p:nvPr/>
        </p:nvPicPr>
        <p:blipFill>
          <a:blip r:embed="rId4"/>
          <a:stretch/>
        </p:blipFill>
        <p:spPr>
          <a:xfrm>
            <a:off x="509760" y="3141720"/>
            <a:ext cx="8407080" cy="1655640"/>
          </a:xfrm>
          <a:prstGeom prst="rect">
            <a:avLst/>
          </a:prstGeom>
          <a:ln w="0">
            <a:noFill/>
          </a:ln>
        </p:spPr>
      </p:pic>
      <p:sp>
        <p:nvSpPr>
          <p:cNvPr id="108" name="عنوان 1"/>
          <p:cNvSpPr/>
          <p:nvPr/>
        </p:nvSpPr>
        <p:spPr>
          <a:xfrm>
            <a:off x="250920" y="191628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تشبيه بالكلب أبلغ من غير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33"/>
          <a:stretch/>
        </p:blipFill>
        <p:spPr>
          <a:xfrm>
            <a:off x="250920" y="2254320"/>
            <a:ext cx="864216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1076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8442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276120" y="836640"/>
            <a:ext cx="8591760" cy="568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539640" y="4172040"/>
            <a:ext cx="8210520" cy="1057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8656560" cy="281916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3203640" y="4332240"/>
            <a:ext cx="410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ذم ترك العمل بما تعلم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82440" y="895320"/>
            <a:ext cx="8977320" cy="584676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50920" y="3357720"/>
            <a:ext cx="496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غرته الدنيا عن الاخر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20400" cy="95724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250920" y="3860640"/>
            <a:ext cx="49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ل إلى شهوات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4365720"/>
            <a:ext cx="496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خلقنا للنا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50920" y="4940280"/>
            <a:ext cx="49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سمعون العظات سماع تدب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5589720"/>
            <a:ext cx="496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رون الآيات رؤي تدب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6237360"/>
            <a:ext cx="49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بل هم أضي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20400" cy="957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324000" y="971640"/>
            <a:ext cx="3456000" cy="5337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5508720" y="971640"/>
            <a:ext cx="3395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1484280"/>
            <a:ext cx="8665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مل بالعلم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رغب بها الإسل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602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ائدة العمل بالعل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رفعة من الله لصاحبه 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صمة من الشيط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0680" y="2852640"/>
            <a:ext cx="8666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عراض عن دين الله بعد العلم ب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خط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00160" y="3500280"/>
            <a:ext cx="86659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خطورة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الإعراض عن دين الله بعد العلم به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قوله تعالى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479736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غواية وتسلط الشيطا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تباع الهوى والميل إلى الشهوات المحر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5484960"/>
            <a:ext cx="86659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بب التمسك بالد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رفعة في الدنيا والفلاح في الآخ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2"/>
          <a:stretch/>
        </p:blipFill>
        <p:spPr>
          <a:xfrm>
            <a:off x="1150920" y="4000680"/>
            <a:ext cx="7669080" cy="58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