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F9D-02FA-4F0D-8D9E-41D36926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EE3-4ED9-45DE-A2D2-7C5A8D4A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E25-006B-4C34-B7DB-E2730E50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4AB-5A08-4856-863B-D2F8CF97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A51-48B7-45A8-8525-6F401480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3FE-C066-4D06-863A-CE5323B0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FD5-2C5F-4500-ABA2-2ADEA83A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143-83AF-487A-A231-86D9DE3E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346-C6C7-4A59-B08E-E7E59784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2C1-50D4-4F7C-AEC4-B1A9A280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045B-57B9-4884-97AA-3226DDF0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E52-F419-48C0-884D-CF78CB2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6D76-6812-4F89-A340-899675E3E08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209520"/>
            <a:ext cx="8136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ن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يونس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نبي الله يونس عليه السلام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0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إس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نبوة و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توحيد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عوة للإيمان بالرسالات السماو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قصة يونس عليه ال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جاة قوم يونس لما آم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3T20:49:25Z</dcterms:modified>
  <cp:revision>1788</cp:revision>
  <dc:subject/>
  <dc:title>عرض تقديمي في PowerPoint</dc:title>
</cp:coreProperties>
</file>