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AE17-E4C1-4CEC-AD35-2CFB8B63E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85DD-989F-4CE7-ABBB-4585DC556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15E7-0C6B-41DB-A1B8-72203E65F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3F34-F2D4-4574-B6CB-8A4C17A52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7104-6DBD-4429-9F1E-13CA25551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072E-2955-4B37-9C55-0F9AFC962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51E2-9E95-4067-A4B0-1B993540F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68BA-3AEE-4192-BD2C-425FDA806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CF92-EF43-447A-9621-9846F177E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BCF3-B5E6-41DF-B2BE-16CBE483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CDEC-441E-4A5C-8F95-EE9870BB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40F9-C3E6-4F26-A0A0-3AF4B21B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88B4E-355B-403B-B8BE-5EA51BB4FAE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476280" y="765000"/>
            <a:ext cx="819144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12600"/>
            <a:ext cx="9159840" cy="1228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395280" y="1916280"/>
            <a:ext cx="83804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72880" y="2205000"/>
            <a:ext cx="86662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الرعد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دن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اسم الرع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ورود ذكر الرعد في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20680" y="2852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</a:rPr>
              <a:t>الرعد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43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179280" y="34480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الرعد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د سورة محم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كمال قدرة الله تعال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رابط مستقيم 19"/>
          <p:cNvSpPr/>
          <p:nvPr/>
        </p:nvSpPr>
        <p:spPr>
          <a:xfrm flipH="1">
            <a:off x="8817120" y="1662120"/>
            <a:ext cx="2880" cy="2144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قرير قضية الوح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تقرير البعث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0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cxnSp>
        <p:nvCxnSpPr>
          <p:cNvPr id="63" name="رابط كسهم مستقيم 12"/>
          <p:cNvCxnSpPr/>
          <p:nvPr/>
        </p:nvCxnSpPr>
        <p:spPr>
          <a:xfrm flipH="1">
            <a:off x="8456040" y="33746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4" name="عنوان 1"/>
          <p:cNvSpPr/>
          <p:nvPr/>
        </p:nvSpPr>
        <p:spPr>
          <a:xfrm>
            <a:off x="250920" y="314172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استدلال بتوحيد الربوبية على توحيد الألوه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" name="رابط كسهم مستقيم 25"/>
          <p:cNvCxnSpPr/>
          <p:nvPr/>
        </p:nvCxnSpPr>
        <p:spPr>
          <a:xfrm flipH="1">
            <a:off x="8458920" y="3807000"/>
            <a:ext cx="361080" cy="3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6" name="عنوان 1"/>
          <p:cNvSpPr/>
          <p:nvPr/>
        </p:nvSpPr>
        <p:spPr>
          <a:xfrm>
            <a:off x="254160" y="3573360"/>
            <a:ext cx="8208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صفات السعداء والأشقياء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22T10:16:42Z</dcterms:modified>
  <cp:revision>1807</cp:revision>
  <dc:subject/>
  <dc:title>عرض تقديمي في PowerPoint</dc:title>
</cp:coreProperties>
</file>