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3.png" ContentType="image/png"/>
  <Override PartName="/ppt/media/image11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8FB4-8341-4C7B-ADC1-601DDA8D5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0D07-7E7D-48EC-8161-771588CB4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1FD5-8D19-449C-AE99-0CE4112F8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5230-4141-484C-AAA8-5BD726C51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5BC0-9A63-4EEC-86EB-5AD62E931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139F-21D5-410B-9092-614E3053D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1ACB-4D64-461A-BC43-7B6A29374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0EE3-C50E-43D2-ACAF-4FA35B7D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4415-086C-4403-92C6-807F37DBD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F855-FE7B-474A-90D5-26A3DC99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7DB6-5B46-4799-9DE5-3FE17877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4AAD-56EF-41F5-9E08-39097B69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00979-BD61-484E-AA06-B87ECA8D0F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50920" y="1484280"/>
            <a:ext cx="86659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علامات النفاق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فرح بمصائب المسلمين والحزن لسرور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0680" y="198900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يمان بالقضاء والقدر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249228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الإيمان بالقضاء والقد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أنه لا يصيب الإنسان إلا ما كتب الله علي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27160" y="3068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صفات المؤمن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توكل على الله  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ثقة به   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تفويض الأمور إليه بعد فعل الأسبا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79280" y="350028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لا يقضي قضاء لعبده المؤمن إلا كان له في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خيراً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27160" y="393372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خير في قضاء الله لعبده المؤم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ما نعيماً في الدنيا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إما ثواباً في الآخر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sp>
        <p:nvSpPr>
          <p:cNvPr id="73" name="عنوان 1"/>
          <p:cNvSpPr/>
          <p:nvPr/>
        </p:nvSpPr>
        <p:spPr>
          <a:xfrm>
            <a:off x="250920" y="436572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سوء عاقبة النفاق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ذلة في الدنيا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العذاب في الآخر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179280" y="486900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سوء عاقبة النفاق : الذلة في الدنيا والعذاب في الآخر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تعالى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11" descr=""/>
          <p:cNvPicPr/>
          <p:nvPr/>
        </p:nvPicPr>
        <p:blipFill>
          <a:blip r:embed="rId2"/>
          <a:stretch/>
        </p:blipFill>
        <p:spPr>
          <a:xfrm>
            <a:off x="1258920" y="5367240"/>
            <a:ext cx="7580160" cy="54936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179280" y="595476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صفات المنافقي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تكاسل عن الصلاة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كراهة الإنفاق في سبيل ال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108000" y="645948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تشبيه بصفات المنافقي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حذر من ذل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497800" cy="2160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1" name="عنوان 1"/>
          <p:cNvSpPr/>
          <p:nvPr/>
        </p:nvSpPr>
        <p:spPr>
          <a:xfrm>
            <a:off x="227160" y="3284640"/>
            <a:ext cx="868968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المنافقين يخططون في هدم الإسلام والإفساد بين المسلمين وإفشاء أسرارهم للأعدا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201600" y="1916280"/>
            <a:ext cx="869004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نع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ننتظر بكم أن يصيبكم الله بعذاب من عنده أو بأيدين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201600" y="981000"/>
            <a:ext cx="873144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07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3"/>
          <a:stretch/>
        </p:blipFill>
        <p:spPr>
          <a:xfrm>
            <a:off x="324000" y="1530360"/>
            <a:ext cx="856908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250920" y="530064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يمان بالقضاء والقد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10" descr=""/>
          <p:cNvPicPr/>
          <p:nvPr/>
        </p:nvPicPr>
        <p:blipFill>
          <a:blip r:embed="rId3"/>
          <a:stretch/>
        </p:blipFill>
        <p:spPr>
          <a:xfrm>
            <a:off x="444600" y="981000"/>
            <a:ext cx="8520120" cy="673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"/>
          <p:cNvPicPr/>
          <p:nvPr/>
        </p:nvPicPr>
        <p:blipFill>
          <a:blip r:embed="rId4"/>
          <a:stretch/>
        </p:blipFill>
        <p:spPr>
          <a:xfrm>
            <a:off x="3571920" y="2908440"/>
            <a:ext cx="5346720" cy="520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"/>
          <p:cNvPicPr/>
          <p:nvPr/>
        </p:nvPicPr>
        <p:blipFill>
          <a:blip r:embed="rId5"/>
          <a:stretch/>
        </p:blipFill>
        <p:spPr>
          <a:xfrm>
            <a:off x="687240" y="4508640"/>
            <a:ext cx="8253720" cy="71100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250920" y="177336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إما النصر وإما الشهاد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عنوان 1"/>
          <p:cNvSpPr/>
          <p:nvPr/>
        </p:nvSpPr>
        <p:spPr>
          <a:xfrm>
            <a:off x="250920" y="351792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عدم إيمانهم بالل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33"/>
          <a:stretch/>
        </p:blipFill>
        <p:spPr>
          <a:xfrm>
            <a:off x="250920" y="1484280"/>
            <a:ext cx="864216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24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2987640" y="4878360"/>
            <a:ext cx="3467160" cy="495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50920" y="1628640"/>
            <a:ext cx="85341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27160" y="2004840"/>
            <a:ext cx="86896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حذر من المنافق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3"/>
          <a:stretch/>
        </p:blipFill>
        <p:spPr>
          <a:xfrm>
            <a:off x="3481560" y="907920"/>
            <a:ext cx="543528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3"/>
          <a:stretch/>
        </p:blipFill>
        <p:spPr>
          <a:xfrm>
            <a:off x="250920" y="990720"/>
            <a:ext cx="871380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3"/>
          <a:stretch/>
        </p:blipFill>
        <p:spPr>
          <a:xfrm>
            <a:off x="324000" y="1125360"/>
            <a:ext cx="856908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042920" y="1052640"/>
            <a:ext cx="7809120" cy="3744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0" name="عنوان 1"/>
          <p:cNvSpPr/>
          <p:nvPr/>
        </p:nvSpPr>
        <p:spPr>
          <a:xfrm>
            <a:off x="7956720" y="3716280"/>
            <a:ext cx="96012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1f497d"/>
                </a:solidFill>
                <a:latin typeface="Wingdings"/>
                <a:ea typeface="Wingdings"/>
              </a:rPr>
              <a:t>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8" descr=""/>
          <p:cNvPicPr/>
          <p:nvPr/>
        </p:nvPicPr>
        <p:blipFill>
          <a:blip r:embed="rId1"/>
          <a:stretch/>
        </p:blipFill>
        <p:spPr>
          <a:xfrm>
            <a:off x="324000" y="1069920"/>
            <a:ext cx="8569080" cy="3903840"/>
          </a:xfrm>
          <a:prstGeom prst="rect">
            <a:avLst/>
          </a:prstGeom>
          <a:ln w="0">
            <a:noFill/>
          </a:ln>
        </p:spPr>
      </p:pic>
      <p:sp>
        <p:nvSpPr>
          <p:cNvPr id="62" name="عنوان 1"/>
          <p:cNvSpPr/>
          <p:nvPr/>
        </p:nvSpPr>
        <p:spPr>
          <a:xfrm>
            <a:off x="250920" y="37893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شد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443700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عكم منتظرو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3T06:35:11Z</dcterms:modified>
  <cp:revision>1841</cp:revision>
  <dc:subject/>
  <dc:title>عرض تقديمي في PowerPoint</dc:title>
</cp:coreProperties>
</file>