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8.png" ContentType="image/png"/>
  <Override PartName="/ppt/media/image13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173-0839-4A79-A92E-5CCBE450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B9D4-CB71-41E5-AB18-5E22A73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4F9E-D177-4B30-B2B9-932D2CDD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8BB-2B0C-4611-A19D-406C4CFB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83A7-D8BC-498E-A261-09EB1FA4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816-20D9-4168-9039-11D72F79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68B-F410-4A00-9A5E-3CA036FB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96C8-3273-43DD-8CD9-66FAA834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01DF-201B-41E7-8E60-8E73BCC2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45C2-2F1B-42DA-9F28-F9E02CB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93EC-DE89-4069-83F8-9E35E6F8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E867-C4B9-4992-AEE5-B8BBC890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B2523-689D-45C8-9299-184B166E4D4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241720"/>
            <a:ext cx="86407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ه ثمار الإعراض عن الله وهي نار جهنم وبئس المصي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569080" cy="12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168120" y="1434960"/>
            <a:ext cx="865188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547120" cy="12258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1274760" y="3141720"/>
            <a:ext cx="7618320" cy="64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1833480" y="4665600"/>
            <a:ext cx="7059600" cy="63504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372096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ؤمن يوفق في الإجابة وينعم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الكافر يخذل ويتردد في الإجابة ويعذب في قب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324000" y="2060640"/>
            <a:ext cx="856908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ي أن الإيمان قول باللسان وعمل بالجوارح واعتقاد ب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أن درجات الإيمان تزيد بعمل الطاعات لله وتنقص بعمل المعاص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6"/>
          <a:stretch/>
        </p:blipFill>
        <p:spPr>
          <a:xfrm>
            <a:off x="5425920" y="5373720"/>
            <a:ext cx="339408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0256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835164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836800" y="4830840"/>
            <a:ext cx="360684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179280" y="833400"/>
            <a:ext cx="8713800" cy="583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0720"/>
          </a:xfrm>
          <a:prstGeom prst="rect">
            <a:avLst/>
          </a:prstGeom>
          <a:ln w="0">
            <a:noFill/>
          </a:ln>
        </p:spPr>
      </p:pic>
      <p:sp>
        <p:nvSpPr>
          <p:cNvPr id="51" name="عنوان 1"/>
          <p:cNvSpPr/>
          <p:nvPr/>
        </p:nvSpPr>
        <p:spPr>
          <a:xfrm>
            <a:off x="2843280" y="958680"/>
            <a:ext cx="45162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كلمة الطيبة وقبح الكلمة القبيح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324000" y="1728720"/>
            <a:ext cx="8569080" cy="48690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95280" y="421812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ي لا إله إلا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4834080"/>
            <a:ext cx="4824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لمة الك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395280" y="5410080"/>
            <a:ext cx="4824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Calibri"/>
              </a:rPr>
              <a:t>استؤصلت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395280" y="5986440"/>
            <a:ext cx="4824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ثب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لا نجاة لأحد إلا 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وائد ضرب الأمثال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 وسيلة من وسائل الإقناع والإفه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خبث كلمة الكفر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هلك صاحبها وتورده النا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179280" y="328464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ار كلمة التوحيد العملي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خلاص لله وطاعته واتباع رسوله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0680" y="4491000"/>
            <a:ext cx="86662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ي تثبيت الله تعالى أهل الإيمان وخذلان أهل الكفر والنفاق إشارة إلى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دله مع الكفار ورحمته بالمؤمن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89000" y="384336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به ثمار كلمة التوحي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شجرة الطيبة التي لها ثمرات يانع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229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نعيم القبر وعذابه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يانع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69184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ثمار الخبيث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82440" y="907920"/>
            <a:ext cx="8977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7T07:17:27Z</dcterms:modified>
  <cp:revision>1828</cp:revision>
  <dc:subject/>
  <dc:title>عرض تقديمي في PowerPoint</dc:title>
</cp:coreProperties>
</file>