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3F6-3FF0-41A7-A62B-FCF108D4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A7F-6410-4A96-90BD-142D3BFC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75B-387E-4C23-BFFC-6BE2C6C3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C16-AC06-40E6-87AF-5AD11735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C1E-0983-4B3B-8A07-8CED3742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344-4219-42D5-A6B1-19CFBDA6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8D7-0530-414C-BCD3-8E5B167D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CF2-4919-49EE-BB6C-10F77477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A60-C98B-4B1F-8727-A0C79676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972-AC9D-4E2D-A1DB-B99551D7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2B3-342A-46B8-B502-36821EB2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280-A262-4468-B461-01981900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D020-9D47-455C-B515-89BCC21054D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33280" y="1125360"/>
            <a:ext cx="8677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8032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هو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هود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هود عليه السلام مع قو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ن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41608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27160" y="4724280"/>
            <a:ext cx="86659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عن أبي بكر رضي الله عنه أنه قال : يا رسول الله : قد شبت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: ((شيبتني هود والواقعة والمرسلات وعم يتساءلون وإذا الشمس كورت)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رسل في الدعوة إ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ن أسس العقيدة الإسلا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مآل المؤمنين والكافرين يوم القيا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رسول صلى الله عليه وسلم وأصحابه إلى الص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6T09:39:12Z</dcterms:modified>
  <cp:revision>1796</cp:revision>
  <dc:subject/>
  <dc:title>عرض تقديمي في PowerPoint</dc:title>
</cp:coreProperties>
</file>