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1FB7-8131-4302-91EE-622F8A0A3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45D8-8F1C-469B-BB1C-35FBF43C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287-B83F-42B1-9483-8685AEDF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D58-0771-4F12-BA79-5C9A8B1C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A569-ECC2-4FB8-BB43-AE82ACBB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1AC-8310-4B93-B0AE-DBAADD1A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BE8C-2D37-43E8-A434-6ED57453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471E-DFBA-4E27-A462-410CF576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707-447C-493B-A0E4-36B9B50C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543A-829F-4F02-AEB5-AEBD4744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0B9-E79C-4DF0-AF5F-45C7831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6933-6C96-40AA-A3D9-F54BE753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25D7-5766-4A50-9026-B99A1D4C76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4681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5130720"/>
            <a:ext cx="85690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لا يقبل الحق ولا يرغب في التوب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9" descr=""/>
          <p:cNvPicPr/>
          <p:nvPr/>
        </p:nvPicPr>
        <p:blipFill>
          <a:blip r:embed="rId3"/>
          <a:stretch/>
        </p:blipFill>
        <p:spPr>
          <a:xfrm>
            <a:off x="468360" y="981000"/>
            <a:ext cx="8481960" cy="1447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4"/>
          <a:stretch/>
        </p:blipFill>
        <p:spPr>
          <a:xfrm>
            <a:off x="1042920" y="3654360"/>
            <a:ext cx="7851960" cy="150012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2347920"/>
            <a:ext cx="856908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فسير قوله تعالى ( يخرج الحي من الميت ) اي كما يخرج الفرخ من البيضة </a:t>
            </a:r>
            <a:br>
              <a:rPr sz="2500"/>
            </a:b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تفسير قولة تعالى ( ويخرج الميت من الحي ) اي كما يخرج البيضة من الدجاجة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68"/>
          <a:stretch/>
        </p:blipFill>
        <p:spPr>
          <a:xfrm>
            <a:off x="539640" y="2565360"/>
            <a:ext cx="8136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916360" y="4668840"/>
            <a:ext cx="3504960" cy="5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الرد على الكافر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856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8637480" cy="489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-9360" y="892080"/>
            <a:ext cx="914400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39760" y="489276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كيف تفك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3778200" y="1015920"/>
            <a:ext cx="36021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توحيد الالوهية والربوبي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39760" y="435132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مخلوقا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39760" y="550548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وجب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عذاب على الكافر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3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9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دبير الكون خاص :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له وحده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زعم أن مع الله مدبراً فقد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إقرار بتوحيد الربوبية يستلزم الإقرار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314172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قر بأن الله هو الخالق لزمه أ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يعبده وحد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645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شركي العرب كانوا يقرون بتوحيد الربوبية ولم ينفعهم ذلك لعدم إقرارهم ب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422100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ق واحد لا يتعدد فمن لم يكن على الحق فهو عل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باط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وغل في الفسق يصبح طبعاً لصاحبه فلا يقبل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ق ولا يرغب في التوب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538020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قرآن يربي أتباعه على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95008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كر القرآن على المشركين عدم الالتزا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دلالة العق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-1285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184320" y="1052640"/>
            <a:ext cx="8708760" cy="128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4427640" y="2276640"/>
            <a:ext cx="4465440" cy="722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5292720" y="3036960"/>
            <a:ext cx="3527280" cy="730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"/>
          <p:cNvPicPr/>
          <p:nvPr/>
        </p:nvPicPr>
        <p:blipFill>
          <a:blip r:embed="rId6"/>
          <a:stretch/>
        </p:blipFill>
        <p:spPr>
          <a:xfrm>
            <a:off x="6156360" y="3828960"/>
            <a:ext cx="2782800" cy="59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"/>
          <p:cNvPicPr/>
          <p:nvPr/>
        </p:nvPicPr>
        <p:blipFill>
          <a:blip r:embed="rId7"/>
          <a:stretch/>
        </p:blipFill>
        <p:spPr>
          <a:xfrm>
            <a:off x="3095640" y="3786120"/>
            <a:ext cx="3060720" cy="676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"/>
          <p:cNvPicPr/>
          <p:nvPr/>
        </p:nvPicPr>
        <p:blipFill>
          <a:blip r:embed="rId8"/>
          <a:stretch/>
        </p:blipFill>
        <p:spPr>
          <a:xfrm>
            <a:off x="6948360" y="4581360"/>
            <a:ext cx="194472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8T05:10:01Z</dcterms:modified>
  <cp:revision>1955</cp:revision>
  <dc:subject/>
  <dc:title>عرض تقديمي في PowerPoint</dc:title>
</cp:coreProperties>
</file>