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5E9-7975-4C6B-BC58-16A884AF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30C1-8D26-4AF1-8B75-9F85EEC4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9F1-58EF-4F62-986A-6D335919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AC5-B5E6-4B74-9B34-51D51EC8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E09-4680-4FC1-8652-04470718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7CC0-D9F5-42B7-B29A-CC02EFD4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EEA-1268-4063-8DB2-97D36063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6887-CC34-471F-940D-89116A2B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D52-3234-48AA-BF33-EDDC20DC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FDD-DF05-4A66-9A86-0CE3EE30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E74-D6BA-4D08-8CB2-7AF14681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0686-806A-474E-8C41-08214530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CC26-5724-4F7F-9328-22EEC378734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6840" cy="526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مربع نص 1"/>
          <p:cNvSpPr/>
          <p:nvPr/>
        </p:nvSpPr>
        <p:spPr>
          <a:xfrm>
            <a:off x="395280" y="3244680"/>
            <a:ext cx="5532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مربع نص 1"/>
          <p:cNvSpPr/>
          <p:nvPr/>
        </p:nvSpPr>
        <p:spPr>
          <a:xfrm>
            <a:off x="395280" y="418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مربع نص 1"/>
          <p:cNvSpPr/>
          <p:nvPr/>
        </p:nvSpPr>
        <p:spPr>
          <a:xfrm>
            <a:off x="395280" y="4902120"/>
            <a:ext cx="5532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مربع نص 1"/>
          <p:cNvSpPr/>
          <p:nvPr/>
        </p:nvSpPr>
        <p:spPr>
          <a:xfrm>
            <a:off x="395280" y="562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22840" y="1052640"/>
            <a:ext cx="50655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271520" y="1700280"/>
            <a:ext cx="7585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35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. لا بد أن يكون الإنفاق متواز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3492360" y="2924280"/>
            <a:ext cx="5359680" cy="54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5"/>
          <a:stretch/>
        </p:blipFill>
        <p:spPr>
          <a:xfrm>
            <a:off x="3851280" y="4149720"/>
            <a:ext cx="504180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47973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قوبة في الدنيا و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2276640"/>
            <a:ext cx="856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ظيم لشان الوالدين والإحسان إليهما والنهي عن عقوقهم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6"/>
          <a:stretch/>
        </p:blipFill>
        <p:spPr>
          <a:xfrm>
            <a:off x="4524480" y="5381640"/>
            <a:ext cx="4368600" cy="49536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324000" y="59500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له بدأ به ولا يقبل أي عمل إل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6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4"/>
          <a:stretch/>
        </p:blipFill>
        <p:spPr>
          <a:xfrm>
            <a:off x="1892160" y="3156120"/>
            <a:ext cx="5359680" cy="54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5"/>
          <a:stretch/>
        </p:blipFill>
        <p:spPr>
          <a:xfrm>
            <a:off x="2050920" y="3137040"/>
            <a:ext cx="5042160" cy="58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"/>
          <p:cNvPicPr/>
          <p:nvPr/>
        </p:nvPicPr>
        <p:blipFill>
          <a:blip r:embed="rId6"/>
          <a:stretch/>
        </p:blipFill>
        <p:spPr>
          <a:xfrm>
            <a:off x="3419640" y="4405320"/>
            <a:ext cx="4368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1530360"/>
            <a:ext cx="88776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813040" y="4565520"/>
            <a:ext cx="3517920" cy="507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50920" y="1089000"/>
            <a:ext cx="8642160" cy="565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352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50920" y="2320920"/>
            <a:ext cx="8507160" cy="4421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250920" y="917640"/>
            <a:ext cx="8613720" cy="135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4292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ص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جرهم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229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اً لين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124000" y="170028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طي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623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نفق المال في غير ح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وحيد 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أ الله تعالى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حسان إلى الوالدي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قوق ا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زداد بر الوالدين والإحسان إليهما والتلطف معهم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ا تقدم بهما العم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ول (أف) ل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هو من العق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كلمة (أف) على الوالدين من العقو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تدل على التضج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الآباء على الأبن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عاء لهم أحياء وأموات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576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غفرة الله تعالى تكون قريبة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هل الصلاح والإنابة والتو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081840"/>
            <a:ext cx="8665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ذوي القربى والمساكين وأبناء السبي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ر والإكرام لهم  ومنها ما هو واجب ومنها ما هو مسنو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إنفاق في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ء الملكان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في الأمور والقسط في الإنفاق المتواز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خل والتقتير والتبذير والإسراف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ؤدي التبذ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ندم والحسرة وبقاء الإنسان فارغ اليد متعرضاً لسؤال الناس والتذلل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3870360"/>
            <a:ext cx="8666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طي الله ويمنع عن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عظيمة يعلمها الله سبحانه و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3:32Z</dcterms:modified>
  <cp:revision>1971</cp:revision>
  <dc:subject/>
  <dc:title>عرض تقديمي في PowerPoint</dc:title>
</cp:coreProperties>
</file>