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C6E-29DA-4679-871B-1F6C5B46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129-B854-479A-B8D0-905939B7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D4B-8870-49F9-BF4C-E173E748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E2F-AB44-4C60-BC71-CACF9DB3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A84-F32F-4CE9-A230-818458B3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75E-3C56-4597-8F1C-9BB6EBA0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292-BBB5-42E9-871C-389790B1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F51-334C-4092-8EAF-0249CEFB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F34-F380-407F-BC95-91377C70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D55-81FD-4392-8EC8-1370CB6C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A29-4757-4596-9B81-BEDF1A14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860-167F-4E31-89C5-85848A95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1590-22FB-45C2-8B79-50F7A73E157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241720"/>
            <a:ext cx="8640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ه ثمار الإعراض عن الله وهي نار جهنم وبئس المص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5690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168120" y="1434960"/>
            <a:ext cx="8651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547120" cy="12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1274760" y="3141720"/>
            <a:ext cx="76183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1833480" y="4665600"/>
            <a:ext cx="7059600" cy="6350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372096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ؤمن يوفق في الإجابة وينعم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الكافر يخذل ويتردد في الإجابة ويعذب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324000" y="206064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ي أن الإيمان قول باللسان وعمل بالجوارح واعتقاد ب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درجات الإيمان تزيد بعمل الطاعات لله وتنقص بعمل 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5425920" y="5373720"/>
            <a:ext cx="33940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25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836800" y="4830840"/>
            <a:ext cx="36068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833400"/>
            <a:ext cx="8713800" cy="583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5868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كلمة الطيبة وقبح الكلمة القبي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4000" y="1728720"/>
            <a:ext cx="8569080" cy="486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42181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ي لا إله إلا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834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لمة الك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alibri"/>
              </a:rPr>
              <a:t>استؤصل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86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ثب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نجاة لأحد إلا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وائد ضرب الأمث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وسيلة من وسائل الإقناع والإفه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خبث كلمة الكف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هلك صاحبها وتورده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ار كلمة التوحيد العمل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خلاص لله وطاعته واتباع رسول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4491000"/>
            <a:ext cx="8666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تثبيت الله تعالى أهل الإيمان وخذلان أهل الكفر والنفاق إشارة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ه مع الكفار ورحمته بال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84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ثمار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شجرة الطيبة التي لها ثمرات يان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229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نعيم القبر وعذاب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يان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69184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خبيث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82440" y="907920"/>
            <a:ext cx="897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17:27Z</dcterms:modified>
  <cp:revision>1828</cp:revision>
  <dc:subject/>
  <dc:title>عرض تقديمي في PowerPoint</dc:title>
</cp:coreProperties>
</file>