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70C-03F4-4FA5-B382-2A0983AA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DFE-A19A-416F-8278-42A06151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1AC-B3A0-4A71-B819-0AB8D028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E0D-4735-4D6A-98F2-3C4444FB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280-73D8-40DA-9DBF-117AF0FE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DDA-CB3F-475B-8DBB-4B5EB06B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31F-E2B9-49AF-B519-81BAE3DB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B8E-8B52-4266-8C05-556DCB28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7BF-2DAB-4CB8-8A5C-5175D8AC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012-C679-44A1-81F0-54AC4DFB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D4D-2AA8-4149-97E6-89CEBFC6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829-987B-4940-93B5-95C456B2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BE20-8EC4-4381-961E-D802B4135F5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47680" y="227664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ة الله تعالى في خلق هذا الكون البالغ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8204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234936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رياح : لها فائدة في التلقيح بين النبات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ريح : فيها عذاب ونق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8520" y="907920"/>
            <a:ext cx="84564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357120" y="1604880"/>
            <a:ext cx="8429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4869000"/>
            <a:ext cx="856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لق الله الجبال لاستقرار الأرض وعدم اضطر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كثرة خيرات الأرض واحتواؤها على كافة أسباب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ال الرياح تلقح النبات والسح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568296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1212840" y="2276640"/>
            <a:ext cx="7686720" cy="100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124760" cy="5144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3357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يصرفوا العبادة له وحده دون سوا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شهب تحرق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0"/>
          <a:stretch/>
        </p:blipFill>
        <p:spPr>
          <a:xfrm>
            <a:off x="250920" y="2276640"/>
            <a:ext cx="8621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32000" y="4594320"/>
            <a:ext cx="3492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177336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صفات القرآن الكريم ذكر هنا آيات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542960" y="907920"/>
            <a:ext cx="734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977760"/>
            <a:ext cx="8856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250920" y="2009880"/>
            <a:ext cx="8615160" cy="45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12600" y="907920"/>
            <a:ext cx="9144000" cy="7635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843280" y="1089000"/>
            <a:ext cx="4516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آيات الله سبحان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468936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سطنا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33700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يستطيعوا العيش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59500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سب المصل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مظاهر قدرة الله تعالى في خل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ماء ومنازل النجوم والكواك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عي الشياطين إلى استراق السمع لمعرفة شيء من أمور غائ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غلاله في إضلال بني آ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خير الله تعالى للشهب وجعلها حرساً للسماء من مردة الشياط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ئلا يستمعوا إلى الملأ الأع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ضعف الشياطين وعدم قدرتها على حماية أنفسه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هب المحر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ظيم قدرة الله تعالى في خلق الأرض وتهيئت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تمكن الناس من العيش عل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72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لق الله الجب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قرار الأرض وعدم اضطرا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17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خيرات الأرض واحتواؤها على كافة أسباب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يا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6800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ذكير الإنسان إلى أن الرزاق الحقيقي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18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يجاد الأشياء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إيجاد الله تعالى الأشياء بقدر معلو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1T18:43:28Z</dcterms:modified>
  <cp:revision>1862</cp:revision>
  <dc:subject/>
  <dc:title>عرض تقديمي في PowerPoint</dc:title>
</cp:coreProperties>
</file>