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FCAA-50A7-4051-81D3-C5732FB50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8C11-BA04-421A-8566-B11B5F71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816D-A32C-4C94-9DB1-2B982E42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4948-E9AB-4FD9-8ABC-E344AF10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79C7-DD96-4DA1-988C-D1E7CF93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91A9-287B-4695-9ABA-D61990E4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6E06-D27B-4D08-8E3D-210EAD5E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578F-7AB0-4F26-822D-1EB47263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5308-C34E-44FB-83AF-7FFE4256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7EC0-FB37-46FB-8AEE-D29C021B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2CFB-3C6A-4502-A604-29997981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62C9-7FAB-443B-948B-87EEC822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0107-2CF5-4762-9769-DE042E959E1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513072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10" descr=""/>
          <p:cNvPicPr/>
          <p:nvPr/>
        </p:nvPicPr>
        <p:blipFill>
          <a:blip r:embed="rId3"/>
          <a:stretch/>
        </p:blipFill>
        <p:spPr>
          <a:xfrm>
            <a:off x="1908000" y="907920"/>
            <a:ext cx="7110720" cy="606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1306440" y="2276640"/>
            <a:ext cx="7515360" cy="534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"/>
          <p:cNvPicPr/>
          <p:nvPr/>
        </p:nvPicPr>
        <p:blipFill>
          <a:blip r:embed="rId5"/>
          <a:stretch/>
        </p:blipFill>
        <p:spPr>
          <a:xfrm>
            <a:off x="2138400" y="4581360"/>
            <a:ext cx="6754680" cy="62244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179280" y="2852640"/>
            <a:ext cx="856944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ا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عنوان 1"/>
          <p:cNvSpPr/>
          <p:nvPr/>
        </p:nvSpPr>
        <p:spPr>
          <a:xfrm>
            <a:off x="179280" y="1585800"/>
            <a:ext cx="8569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تحية أهل الجنة بعضهم لبعض كلام سالم من اللغو والآثا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6"/>
          <a:stretch/>
        </p:blipFill>
        <p:spPr>
          <a:xfrm>
            <a:off x="324000" y="3699000"/>
            <a:ext cx="8496000" cy="66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7"/>
          <a:stretch/>
        </p:blipFill>
        <p:spPr>
          <a:xfrm>
            <a:off x="395280" y="6148440"/>
            <a:ext cx="849636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131"/>
          <a:stretch/>
        </p:blipFill>
        <p:spPr>
          <a:xfrm>
            <a:off x="539640" y="1844640"/>
            <a:ext cx="81360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1276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95480" y="4746600"/>
            <a:ext cx="3353040" cy="4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2"/>
          <a:stretch/>
        </p:blipFill>
        <p:spPr>
          <a:xfrm>
            <a:off x="179280" y="969840"/>
            <a:ext cx="8785440" cy="5772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13800" cy="4681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59840" cy="86544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653000"/>
            <a:ext cx="496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187200" y="6014880"/>
            <a:ext cx="496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دلائل وحدانيتنا تاركون النظر فيه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95280" y="1052640"/>
            <a:ext cx="4176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sp>
        <p:nvSpPr>
          <p:cNvPr id="56" name="عنوان 1"/>
          <p:cNvSpPr/>
          <p:nvPr/>
        </p:nvSpPr>
        <p:spPr>
          <a:xfrm>
            <a:off x="250920" y="5372280"/>
            <a:ext cx="4968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دل الآخرة لإنكارهم لها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1484280"/>
            <a:ext cx="86659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قبال على الدنيا والانهماك في طلبها حتى تكون أكبر الهم ومبلغ العلم دون التفات إلى إرضاء الرب أو استعداد للآخرة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ذر منه الإس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2492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غترار بحال الكفار الذين قصروا هممهم على الدنيا ولم يفكروا بالآخرة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ا يجو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314172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غفلة والإعراض عن التفكر بآيات الله الكونية والتدبر لآياته القرآن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ذر منه الإسل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378936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عمل الصالح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179280" y="4437000"/>
            <a:ext cx="8666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من زعم أن تصديق القلب كاف للفلاح في الآخر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أن الله ذكر أنه يهدي من آمن وعمل صالحاً إلى الجن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108000" y="5300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طريق الإنسان إلى الجنة هو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يمان والعمل الصال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08000" y="5877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هداية ب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50920" y="148428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هداية بيد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د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27160" y="1989000"/>
            <a:ext cx="8665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غب في الإيمان وحرص على العمل الصالح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هداه الله وثب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2492280"/>
            <a:ext cx="8666280" cy="5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كمال نعيم أهل الجنة لاشتماله على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نعيم القلب ونعيم الروح ونعيم البد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250920" y="314172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كمال نعيم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79280" y="4149720"/>
            <a:ext cx="8666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كاليف على 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لا توج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108000" y="47242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بادة أهل الجنة في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تسبيح والسلام والتحم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108000" y="53006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يلهم أهل الجنة التسبيح والسلام والتحم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 غير كلفة ولا مشق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1098720" y="3611520"/>
            <a:ext cx="7762680" cy="46512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08000" y="581184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ثمرة التسبيح والسلام والتحميد لأهل الجن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تطمئن قلوبهم وتفرح أرواح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62434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تحية أهل الجنة بعضهم لبعض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كلام سالم من اللغو والآثا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0" y="4680"/>
            <a:ext cx="9159840" cy="835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30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304920" y="1557360"/>
            <a:ext cx="8659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4T14:44:43Z</dcterms:modified>
  <cp:revision>1926</cp:revision>
  <dc:subject/>
  <dc:title>عرض تقديمي في PowerPoint</dc:title>
</cp:coreProperties>
</file>