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BEF-4BB5-4909-92DD-1E4E3DA4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089B-A5EF-4770-9767-6FA6BEF4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D860-F57F-460A-B844-72108761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A88A-7E61-4480-9574-77A255C7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B556-2117-484B-898A-6D4994FC3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E33D-6689-4675-9D47-82091DC0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2088-6DD7-4065-8EAA-23AF0801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7BDD-921F-4B71-948B-3E51962A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BDE9-F7FE-481E-8E6B-D5BBC4AB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03B4-D03E-4AF3-B31C-F583B6DA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34FC-1EC1-4B86-86D9-08842EC3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1701-8CDD-4485-AB4D-BCE32B3C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4D00-F34E-4328-A543-580D9591ACC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"/>
          <p:cNvPicPr/>
          <p:nvPr/>
        </p:nvPicPr>
        <p:blipFill>
          <a:blip r:embed="rId1"/>
          <a:stretch/>
        </p:blipFill>
        <p:spPr>
          <a:xfrm>
            <a:off x="250920" y="1515960"/>
            <a:ext cx="8642160" cy="5081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4</a:t>
            </a:r>
            <a:r>
              <a:rPr b="1" lang="ar-SA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3"/>
          <a:stretch/>
        </p:blipFill>
        <p:spPr>
          <a:xfrm>
            <a:off x="1255680" y="907920"/>
            <a:ext cx="7643880" cy="1320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4"/>
          <a:stretch/>
        </p:blipFill>
        <p:spPr>
          <a:xfrm>
            <a:off x="1204920" y="3716280"/>
            <a:ext cx="769464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هم أكثر الناس فسوقاً وخروجاً عن الفضائ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عنوان 1"/>
          <p:cNvSpPr/>
          <p:nvPr/>
        </p:nvSpPr>
        <p:spPr>
          <a:xfrm>
            <a:off x="250920" y="4581360"/>
            <a:ext cx="8569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1f497d"/>
                </a:solidFill>
                <a:latin typeface="Calibri"/>
                <a:cs typeface="Times New Roman"/>
              </a:rPr>
              <a:t>إن المنافقين نسوا الإيمان بالله وذكره فعاقبهم الله بنسيانه إياهم من فضله وتوفيقه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989440"/>
            <a:ext cx="8642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-17640"/>
            <a:ext cx="915192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862360" y="4869000"/>
            <a:ext cx="346716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30040" y="1628640"/>
            <a:ext cx="86648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صفات المنافق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3576600" y="981000"/>
            <a:ext cx="533412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179280" y="836640"/>
            <a:ext cx="878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324000" y="836640"/>
            <a:ext cx="8627760" cy="86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"/>
          <p:cNvPicPr/>
          <p:nvPr/>
        </p:nvPicPr>
        <p:blipFill>
          <a:blip r:embed="rId4"/>
          <a:stretch/>
        </p:blipFill>
        <p:spPr>
          <a:xfrm>
            <a:off x="250920" y="1773360"/>
            <a:ext cx="8642160" cy="482436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43000" y="398160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أمرون بالكفر والمعاص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43000" y="447192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نهون عن الإيمان و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243000" y="50115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عن الإنفاق في الطاع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50920" y="5583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ركهم من لطف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عنوان 1"/>
          <p:cNvSpPr/>
          <p:nvPr/>
        </p:nvSpPr>
        <p:spPr>
          <a:xfrm>
            <a:off x="250920" y="60879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خارجون من طريق الح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148428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منافقين هم أكثر الناس :</a:t>
            </a:r>
            <a:r>
              <a:rPr b="1" lang="ar-SA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فسوقاً وخروجاً عن الفضائ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50920" y="206064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صفة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داء عضال يتغلل في النفس فيجعل المعروف منكراً والمنكر معروف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27160" y="278136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ين في كل عصر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يتشابهو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179280" y="3357720"/>
            <a:ext cx="8666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أمر بالمنكر وإشاعة الفواحش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نهي عن المعروف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عويق طرق الخير والصلا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مات المنافق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بخل بالمال وعدم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49975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جزاء من جنس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عم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62932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نسوا الإيمان بالله وذكره فعاقبهم الله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نسيانه إياهم من فضله وتوفي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sp>
        <p:nvSpPr>
          <p:cNvPr id="72" name="عنوان 1"/>
          <p:cNvSpPr/>
          <p:nvPr/>
        </p:nvSpPr>
        <p:spPr>
          <a:xfrm>
            <a:off x="108000" y="631656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رجات الفسق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فر أكبر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منه كبائر لا تصل إلى حد الكفر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9" descr=""/>
          <p:cNvPicPr/>
          <p:nvPr/>
        </p:nvPicPr>
        <p:blipFill>
          <a:blip r:embed="rId1"/>
          <a:stretch/>
        </p:blipFill>
        <p:spPr>
          <a:xfrm>
            <a:off x="182520" y="907920"/>
            <a:ext cx="8796240" cy="12081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52080" cy="878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209520" y="2316240"/>
          <a:ext cx="8683560" cy="1981080"/>
        </p:xfrm>
        <a:graphic>
          <a:graphicData uri="http://schemas.openxmlformats.org/drawingml/2006/table">
            <a:tbl>
              <a:tblPr/>
              <a:tblGrid>
                <a:gridCol w="4341960"/>
                <a:gridCol w="4341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ؤمن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صفات المنافق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أمرون ب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ن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هون عن المعر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لا ينفقون في الطا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يذكرون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نسوا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مسلم</cp:lastModifiedBy>
  <dcterms:modified xsi:type="dcterms:W3CDTF">2011-07-12T17:08:17Z</dcterms:modified>
  <cp:revision>1867</cp:revision>
  <dc:subject/>
  <dc:title>عرض تقديمي في PowerPoint</dc:title>
</cp:coreProperties>
</file>