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02B-EB31-412F-AF53-7ADEC852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F9A-3DC3-433F-BC87-306C5A0C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90FF-BBA4-4C22-8B83-C3CD0B25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D98-4602-4CAA-BEA3-BEE84CF8F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C893-2C97-4C96-B8F8-8E5C5378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8B4-F2A4-4B70-A403-B4C95CAF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8688-F85C-40F7-897D-ABE60722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9FB-D525-43AD-9204-931ED258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7362-F710-4BFC-B84B-EDC93D46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E7E-E724-47EA-B457-395C1A69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3622-7981-4301-911B-3A607538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578-F773-4225-ACF3-079F26FA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9CD6-C8CB-480C-BF8F-8E96B8381E7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33280" y="1125360"/>
            <a:ext cx="8677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684360" y="1628640"/>
            <a:ext cx="80326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هود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هود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هود عليه السلام مع قوم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 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23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هود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يونس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179280" y="41608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27160" y="4724280"/>
            <a:ext cx="86659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عن أبي بكر رضي الله عنه أنه قال : يا رسول الله : قد شبت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: ((شيبتني هود والواقعة والمرسلات وعم يتساءلون وإذا الشمس كورت)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رض مواقف الرسل في الدعوة إ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ن أسس العقيدة الإسلامي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تسلية الرسول صلى الله عليه وسل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بيان مآل المؤمنين والكافرين يوم القيام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وجيه الرسول صلى الله عليه وسلم وأصحابه إلى الص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1"/>
          <a:stretch/>
        </p:blipFill>
        <p:spPr>
          <a:xfrm>
            <a:off x="-122400" y="-96840"/>
            <a:ext cx="93758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6T09:39:12Z</dcterms:modified>
  <cp:revision>1796</cp:revision>
  <dc:subject/>
  <dc:title>عرض تقديمي في PowerPoint</dc:title>
</cp:coreProperties>
</file>