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1D1D-9CF1-45CA-970F-C63F9271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2664-70D6-45E7-A589-F6814575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9E95-F27F-42CF-A9B5-EEFB7B08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9F59-A926-4586-BAB1-2EDFC6F8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D13-F231-4C03-96D6-3BBCE16F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A8D-8E55-4EDD-B4CB-DE51901A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86A8-3FE6-4B92-B39E-8450DFE9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3F7-7D3A-4597-A6E5-AF35ADA7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8B0-7A30-47A1-8E38-DFB691D3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2F2F-88FE-4CB1-A54B-A9F7CC32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A4B1-EE46-4ADC-A178-0FFBB320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3FA-AC64-44C5-8459-553DAC0F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16B3-7F6A-45CD-8EF1-4FAB810BCC3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17520" y="2637000"/>
            <a:ext cx="84312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علم التفسير من أفضل العلوم وأشرفها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200160" y="1413000"/>
            <a:ext cx="86659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Calibri"/>
                <a:cs typeface="Times New Roman"/>
              </a:rPr>
              <a:t>لما كان القرآن الكريم أشرف العلوم كان الفهم لمعانيه أوفى الفهوم لأن شرف العلم بشرف المعلو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3824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وانب فضل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رابط مستقيم 44"/>
          <p:cNvSpPr/>
          <p:nvPr/>
        </p:nvSpPr>
        <p:spPr>
          <a:xfrm flipH="1">
            <a:off x="4571640" y="23288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رابط مستقيم 45"/>
          <p:cNvSpPr/>
          <p:nvPr/>
        </p:nvSpPr>
        <p:spPr>
          <a:xfrm flipH="1">
            <a:off x="1476000" y="256536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4140360" y="2874960"/>
            <a:ext cx="251928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داخل في قوله </a:t>
            </a:r>
            <a:r>
              <a:rPr b="1" lang="ar-SA" sz="17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 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((خيركم من تعلم القرآن وعلمه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47"/>
          <p:cNvCxnSpPr/>
          <p:nvPr/>
        </p:nvCxnSpPr>
        <p:spPr>
          <a:xfrm>
            <a:off x="7956360" y="25729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2" name="عنوان 1"/>
          <p:cNvSpPr/>
          <p:nvPr/>
        </p:nvSpPr>
        <p:spPr>
          <a:xfrm>
            <a:off x="6948360" y="2874960"/>
            <a:ext cx="1944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ه يتعلق بكتاب الله الخالد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رابط كسهم مستقيم 49"/>
          <p:cNvCxnSpPr/>
          <p:nvPr/>
        </p:nvCxnSpPr>
        <p:spPr>
          <a:xfrm>
            <a:off x="1476000" y="2565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عنوان 1"/>
          <p:cNvSpPr/>
          <p:nvPr/>
        </p:nvSpPr>
        <p:spPr>
          <a:xfrm>
            <a:off x="395280" y="2946240"/>
            <a:ext cx="23274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مسلم مطالب بقراءة القرآن الكري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  <a:cs typeface="Times New Roman"/>
              </a:rPr>
              <a:t>بتدبر وتفه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51"/>
          <p:cNvCxnSpPr/>
          <p:nvPr/>
        </p:nvCxnSpPr>
        <p:spPr>
          <a:xfrm>
            <a:off x="5363640" y="258552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00160" y="3573360"/>
            <a:ext cx="86929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ه يتعلق بكتاب الله الخالد : قوله تعالى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3059280" y="4116240"/>
            <a:ext cx="5867280" cy="46512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4653000"/>
            <a:ext cx="8691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من فضل التفسير أنه داخل في قوله 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 ((خيركم من تعلم القرآن وعلمه))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تعلم القرآن وتعليمه يشمل المعاني والحروف معاً ولا طريق لمعرفة معاني القرآن إلا بالتفسير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5584680"/>
            <a:ext cx="869184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أن من فضل التفسير أن المسلم مطالب بقراءة القرآن الكريم بتدبر وتفهم : قوله تعالى 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826920" y="6093000"/>
            <a:ext cx="808848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250920" y="1989000"/>
            <a:ext cx="8642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بالإتيان بمثل القران ك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عشر سو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مره بحديث مثله 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395280" y="1125360"/>
            <a:ext cx="8609040" cy="5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3"/>
          <a:stretch/>
        </p:blipFill>
        <p:spPr>
          <a:xfrm>
            <a:off x="324000" y="1557360"/>
            <a:ext cx="8597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272880" y="1844640"/>
            <a:ext cx="8691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فريغ القلب من الانشغال بغير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ترتيل عند قراءة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ستشعار عظمة الل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محاولة فهم معاني القرآن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ربط القرآن بواقعك الذي تعيش فيه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2843280" y="1052640"/>
            <a:ext cx="58165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