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5CC1-9C7E-4AE5-8262-0347D2A7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FBA1-7EC1-48EA-9B04-710191E1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AD0D-782D-4B5F-91CD-CE9176E6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32DD-1D8F-42E8-A199-1A947F51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99AC-6E5A-4694-ABA8-23AF99EA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6B83-AB27-43EC-A601-F6488FDF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574A-83C8-48B9-A661-B0F96477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C5EE-A1BD-41B6-BA7A-CD0D1262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9AB0-DF44-404F-B9E2-714F9869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87EC-2D9F-42E0-AB5D-41B9C1F7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BC81-26F3-44FF-83A8-A675DA68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5A20-9739-4252-951E-F99DA11D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4EC2-57B5-4E39-BF55-EB8317A84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طر الله الإنسان على مح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زين والجما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2063880"/>
            <a:ext cx="8665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وله تعا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دلالة ع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يكون بعد نزول القرآن من اختراعات مما يركبها الخلق في البر والبحر والجو ويستعملونها في مصالح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3952800" y="2079720"/>
            <a:ext cx="3355920" cy="52524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27160" y="2898720"/>
            <a:ext cx="86659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ذكر الله تعالى من منافع الخيل والبغال والحمير والركوب والزينة ولم يذكر الأك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بغال والحمير محرم أكلها والخيل وإن جاز أكلها إلا أنها لا تستعمل في الغالب للأك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250920" y="3716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جواز أكل لحم الخيل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1403280" y="3692520"/>
            <a:ext cx="4508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247680" y="1095480"/>
            <a:ext cx="8645400" cy="5502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4"/>
          <a:stretch/>
        </p:blipFill>
        <p:spPr>
          <a:xfrm>
            <a:off x="3116160" y="2492280"/>
            <a:ext cx="1460520" cy="711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5"/>
          <a:stretch/>
        </p:blipFill>
        <p:spPr>
          <a:xfrm>
            <a:off x="1619280" y="4005360"/>
            <a:ext cx="3301920" cy="761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6"/>
          <a:stretch/>
        </p:blipFill>
        <p:spPr>
          <a:xfrm>
            <a:off x="247680" y="5450040"/>
            <a:ext cx="467352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179280" y="249408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 الخصومة في الباط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79280" y="1014480"/>
            <a:ext cx="8729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79280" y="184464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إنسان أنعم الله عليه بالنعم ولكنه لم يشكرها وكفر بموجدها وهو الله سبحانه و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2022480" y="981000"/>
            <a:ext cx="69087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291960" y="1438200"/>
            <a:ext cx="85708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324000" y="5157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بل والحمير والبغال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ملها وقدرتها على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0" descr=""/>
          <p:cNvPicPr/>
          <p:nvPr/>
        </p:nvPicPr>
        <p:blipFill>
          <a:blip r:embed="rId3"/>
          <a:stretch/>
        </p:blipFill>
        <p:spPr>
          <a:xfrm>
            <a:off x="1476360" y="981000"/>
            <a:ext cx="7440480" cy="503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4"/>
          <a:stretch/>
        </p:blipFill>
        <p:spPr>
          <a:xfrm>
            <a:off x="1828800" y="2060640"/>
            <a:ext cx="699120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/>
          <p:cNvPicPr/>
          <p:nvPr/>
        </p:nvPicPr>
        <p:blipFill>
          <a:blip r:embed="rId5"/>
          <a:stretch/>
        </p:blipFill>
        <p:spPr>
          <a:xfrm>
            <a:off x="1528920" y="3213000"/>
            <a:ext cx="7419960" cy="447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/>
          <p:cNvPicPr/>
          <p:nvPr/>
        </p:nvPicPr>
        <p:blipFill>
          <a:blip r:embed="rId6"/>
          <a:stretch/>
        </p:blipFill>
        <p:spPr>
          <a:xfrm>
            <a:off x="1871640" y="4568760"/>
            <a:ext cx="7077240" cy="609840"/>
          </a:xfrm>
          <a:prstGeom prst="rect">
            <a:avLst/>
          </a:prstGeom>
          <a:ln w="0">
            <a:noFill/>
          </a:ln>
        </p:spPr>
      </p:pic>
      <p:sp>
        <p:nvSpPr>
          <p:cNvPr id="109" name="عنوان 1"/>
          <p:cNvSpPr/>
          <p:nvPr/>
        </p:nvSpPr>
        <p:spPr>
          <a:xfrm>
            <a:off x="250920" y="357336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بغال والحمير محرم أكلها والخيل وإن جاز أكلها إلا أنها لا تستعمل في الغالب للأك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عنوان 1"/>
          <p:cNvSpPr/>
          <p:nvPr/>
        </p:nvSpPr>
        <p:spPr>
          <a:xfrm>
            <a:off x="324000" y="2637000"/>
            <a:ext cx="856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قق وقوعه أي قرب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وان 1"/>
          <p:cNvSpPr/>
          <p:nvPr/>
        </p:nvSpPr>
        <p:spPr>
          <a:xfrm>
            <a:off x="262080" y="1484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م لم يؤمنوا به ولم يصدقوا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117"/>
          <a:stretch/>
        </p:blipFill>
        <p:spPr>
          <a:xfrm>
            <a:off x="324000" y="1268280"/>
            <a:ext cx="853416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933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046320" y="4581360"/>
            <a:ext cx="3162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47680" y="2241720"/>
            <a:ext cx="8640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ستمرار على العبادة حتى آخر الحي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247680" y="981000"/>
            <a:ext cx="87660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79280" y="1042920"/>
            <a:ext cx="876780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539640" y="1824120"/>
            <a:ext cx="8431200" cy="2181240"/>
          </a:xfrm>
          <a:prstGeom prst="rect">
            <a:avLst/>
          </a:prstGeom>
          <a:ln w="0">
            <a:noFill/>
          </a:ln>
        </p:spPr>
      </p:pic>
      <p:sp>
        <p:nvSpPr>
          <p:cNvPr id="55" name="مستطيل 1"/>
          <p:cNvSpPr/>
          <p:nvPr/>
        </p:nvSpPr>
        <p:spPr>
          <a:xfrm>
            <a:off x="6012000" y="3284640"/>
            <a:ext cx="360360" cy="43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40720" cy="57610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29242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ساع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3357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بري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395280" y="3860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وح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sp>
        <p:nvSpPr>
          <p:cNvPr id="61" name="عنوان 1"/>
          <p:cNvSpPr/>
          <p:nvPr/>
        </p:nvSpPr>
        <p:spPr>
          <a:xfrm>
            <a:off x="395280" y="43308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بل والبقر والغنم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395280" y="4762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تستدفئون ب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395280" y="5267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خرجونها إلى المرعى بالغد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9528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حمالك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395280" y="627552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هد النف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قت قيام الساع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ري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98440" y="2060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نزه الله تعالى وتعاظمه ع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شركاء والأندا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7040" y="287028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لم يترك عباده هملاً ب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رسل إليهم رسلاً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زل عليهم كتباً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بينوا لهم طريق السعادة وطريق الشق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66760" y="3664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ظيفة الرس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إنذار عن الشرك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دعوة إلى التوح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416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م يخلق الله السموات والأرض عبثاً وإنما خلقها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 ودلالات عظي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4672080"/>
            <a:ext cx="866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نبيه على ضعف الإنسان وأنه خلق م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طفة مهينة ضعيفة ومع ذلك يجادل ويخاصم ربه تعالى ويحارب رس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537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حمة الله تعالى بعباده حيث سخر له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فيه قوام حياتهم ودوام عيش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587700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ثرة منافع الأنعام وفوائدها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8-02T13:09:56Z</dcterms:modified>
  <cp:revision>1890</cp:revision>
  <dc:subject/>
  <dc:title>عرض تقديمي في PowerPoint</dc:title>
</cp:coreProperties>
</file>