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D9BAE-3DFF-44DA-AEC5-6DE53EDA3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204C9-7EA9-4BF8-887A-BCCBE28C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390BD-AB36-4234-A667-74BD2748B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3CA8B-F057-4D77-8A27-C9301AFDF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E602-F786-4BA5-B706-6B9A47AB5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2E05-7400-48B0-9D5B-855EF114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8FB3-E9D7-48B1-A859-CB54AE54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1BEB-4623-4513-BC4F-100E9E22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2BCF-7B4E-49B3-B63B-44417682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11683-D2C3-429F-9E76-D5EAC341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106A-A74E-4A40-8521-71880A37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65833-D554-49B0-ACE9-A4485462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0ABA-B697-4F1D-A334-C617D065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0F9E-3F75-4C22-B593-CC93A333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BB55-8365-4EFD-9889-0DFD6B33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8134-C094-4ABE-9E89-A6E67935A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F3CC-D4BC-4960-8619-44FECAEE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DEE25-1F63-45DC-8482-18E98158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4A6B9-C1F9-4017-8D34-1AA05093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4212B-C67B-4843-B08C-B746FEFB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73088-F3FA-4B74-9032-0A7F1EFB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E5D81-D96E-4F80-9037-DD3D1A07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407D4-B839-41F1-B665-DDDC30F8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46D1A-DF91-497E-9C82-4399CEA0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4C50-5E36-493D-B97F-4A1832D30D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1A49-69D2-4990-8E42-05EAA953C5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2</a:t>
            </a:r>
            <a:br>
              <a:rPr sz="4000"/>
            </a:b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Atoms, Molecules and 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FA05-8D39-4531-BC53-CE7511B30E2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399960"/>
            <a:ext cx="820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Example 2.1 p5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ive the number of protons, neutrons, and electrons in each of the following speci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79280" y="3357720"/>
          <a:ext cx="8820360" cy="3120840"/>
        </p:xfrm>
        <a:graphic>
          <a:graphicData uri="http://schemas.openxmlformats.org/drawingml/2006/table">
            <a:tbl>
              <a:tblPr/>
              <a:tblGrid>
                <a:gridCol w="1764000"/>
                <a:gridCol w="1620720"/>
                <a:gridCol w="1800000"/>
                <a:gridCol w="1513080"/>
                <a:gridCol w="2122560"/>
              </a:tblGrid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Atomic number (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number of elec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mass number 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number of neu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– 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 20 – 1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95280" y="4797360"/>
                <a:ext cx="13194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258920" y="1976400"/>
                <a:ext cx="648180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O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0A11F-256D-4F7A-AFE8-581404C904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042920" y="620640"/>
                <a:ext cx="648180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O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 rot="5400000">
            <a:off x="2915640" y="1052280"/>
            <a:ext cx="503280" cy="2087640"/>
          </a:xfrm>
          <a:custGeom>
            <a:avLst/>
            <a:gdLst>
              <a:gd name="textAreaLeft" fmla="*/ 0 w 503280"/>
              <a:gd name="textAreaRight" fmla="*/ 181800 w 50328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87280" y="2346480"/>
            <a:ext cx="4176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otopes of So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11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11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9 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11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8360" y="4437000"/>
            <a:ext cx="82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Practice Exercise p50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ow many protons, neutrons, and electrons are in the following isotope of copper: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omic Sans MS"/>
              </a:rPr>
              <a:t>63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can I get the atomic number: look at the periodic table →           then find the number of p, n &amp; e.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132000" y="5950080"/>
                <a:ext cx="1008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7F839-3E0B-4551-9593-4DFC13F4C1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24000" y="40464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2.4 The Periodic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9080" y="1041480"/>
            <a:ext cx="8675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periodic Tabl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 chart in which elements having similar chemical and physical properties are group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elements in the modern periodic table are arranged by atomic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24360" y="3173400"/>
            <a:ext cx="5580000" cy="36403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68360" y="3132000"/>
            <a:ext cx="1800000" cy="13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CB5F9-1256-46BE-9E5D-082B94A4B3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533520"/>
            <a:ext cx="9144000" cy="596412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4"/>
          <p:cNvGrpSpPr/>
          <p:nvPr/>
        </p:nvGrpSpPr>
        <p:grpSpPr>
          <a:xfrm>
            <a:off x="1789200" y="2984400"/>
            <a:ext cx="2448000" cy="402840"/>
            <a:chOff x="1789200" y="2984400"/>
            <a:chExt cx="2448000" cy="402840"/>
          </a:xfrm>
        </p:grpSpPr>
        <p:sp>
          <p:nvSpPr>
            <p:cNvPr id="184" name="Text Box 4"/>
            <p:cNvSpPr/>
            <p:nvPr/>
          </p:nvSpPr>
          <p:spPr>
            <a:xfrm>
              <a:off x="2464560" y="2984400"/>
              <a:ext cx="102636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eri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5"/>
            <p:cNvSpPr/>
            <p:nvPr/>
          </p:nvSpPr>
          <p:spPr>
            <a:xfrm>
              <a:off x="3399120" y="3187440"/>
              <a:ext cx="838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6"/>
            <p:cNvSpPr/>
            <p:nvPr/>
          </p:nvSpPr>
          <p:spPr>
            <a:xfrm>
              <a:off x="1789200" y="3187440"/>
              <a:ext cx="6858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19"/>
          <p:cNvGrpSpPr/>
          <p:nvPr/>
        </p:nvGrpSpPr>
        <p:grpSpPr>
          <a:xfrm>
            <a:off x="6653520" y="1619280"/>
            <a:ext cx="402840" cy="2419200"/>
            <a:chOff x="6653520" y="1619280"/>
            <a:chExt cx="402840" cy="2419200"/>
          </a:xfrm>
        </p:grpSpPr>
        <p:sp>
          <p:nvSpPr>
            <p:cNvPr id="188" name="Text Box 16"/>
            <p:cNvSpPr/>
            <p:nvPr/>
          </p:nvSpPr>
          <p:spPr>
            <a:xfrm rot="5400000">
              <a:off x="6354000" y="2545920"/>
              <a:ext cx="100188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7"/>
            <p:cNvSpPr/>
            <p:nvPr/>
          </p:nvSpPr>
          <p:spPr>
            <a:xfrm>
              <a:off x="6856560" y="320040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8"/>
            <p:cNvSpPr/>
            <p:nvPr/>
          </p:nvSpPr>
          <p:spPr>
            <a:xfrm>
              <a:off x="6856560" y="161928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24"/>
          <p:cNvGrpSpPr/>
          <p:nvPr/>
        </p:nvGrpSpPr>
        <p:grpSpPr>
          <a:xfrm>
            <a:off x="57600" y="1185840"/>
            <a:ext cx="402840" cy="3171960"/>
            <a:chOff x="57600" y="1185840"/>
            <a:chExt cx="402840" cy="3171960"/>
          </a:xfrm>
        </p:grpSpPr>
        <p:sp>
          <p:nvSpPr>
            <p:cNvPr id="192" name="Text Box 21"/>
            <p:cNvSpPr/>
            <p:nvPr/>
          </p:nvSpPr>
          <p:spPr>
            <a:xfrm rot="5400000">
              <a:off x="-613800" y="2561760"/>
              <a:ext cx="17456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lkali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2"/>
            <p:cNvSpPr/>
            <p:nvPr/>
          </p:nvSpPr>
          <p:spPr>
            <a:xfrm>
              <a:off x="263880" y="351972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3"/>
            <p:cNvSpPr/>
            <p:nvPr/>
          </p:nvSpPr>
          <p:spPr>
            <a:xfrm>
              <a:off x="263880" y="118584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29"/>
          <p:cNvGrpSpPr/>
          <p:nvPr/>
        </p:nvGrpSpPr>
        <p:grpSpPr>
          <a:xfrm>
            <a:off x="8669520" y="1295280"/>
            <a:ext cx="402840" cy="2928960"/>
            <a:chOff x="8669520" y="1295280"/>
            <a:chExt cx="402840" cy="2928960"/>
          </a:xfrm>
        </p:grpSpPr>
        <p:sp>
          <p:nvSpPr>
            <p:cNvPr id="196" name="Text Box 26"/>
            <p:cNvSpPr/>
            <p:nvPr/>
          </p:nvSpPr>
          <p:spPr>
            <a:xfrm rot="5400000">
              <a:off x="8087760" y="2535840"/>
              <a:ext cx="156600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ble 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7"/>
            <p:cNvSpPr/>
            <p:nvPr/>
          </p:nvSpPr>
          <p:spPr>
            <a:xfrm>
              <a:off x="8874000" y="3385800"/>
              <a:ext cx="0" cy="838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8"/>
            <p:cNvSpPr/>
            <p:nvPr/>
          </p:nvSpPr>
          <p:spPr>
            <a:xfrm>
              <a:off x="8874000" y="129528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34"/>
          <p:cNvGrpSpPr/>
          <p:nvPr/>
        </p:nvGrpSpPr>
        <p:grpSpPr>
          <a:xfrm>
            <a:off x="8160120" y="1671480"/>
            <a:ext cx="402840" cy="2671920"/>
            <a:chOff x="8160120" y="1671480"/>
            <a:chExt cx="402840" cy="2671920"/>
          </a:xfrm>
        </p:grpSpPr>
        <p:sp>
          <p:nvSpPr>
            <p:cNvPr id="200" name="Text Box 31"/>
            <p:cNvSpPr/>
            <p:nvPr/>
          </p:nvSpPr>
          <p:spPr>
            <a:xfrm rot="5400000">
              <a:off x="7711200" y="2755440"/>
              <a:ext cx="130068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al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32"/>
            <p:cNvSpPr/>
            <p:nvPr/>
          </p:nvSpPr>
          <p:spPr>
            <a:xfrm>
              <a:off x="8366040" y="350532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3"/>
            <p:cNvSpPr/>
            <p:nvPr/>
          </p:nvSpPr>
          <p:spPr>
            <a:xfrm>
              <a:off x="8366040" y="167148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39"/>
          <p:cNvGrpSpPr/>
          <p:nvPr/>
        </p:nvGrpSpPr>
        <p:grpSpPr>
          <a:xfrm>
            <a:off x="598680" y="760320"/>
            <a:ext cx="402840" cy="3978360"/>
            <a:chOff x="598680" y="760320"/>
            <a:chExt cx="402840" cy="3978360"/>
          </a:xfrm>
        </p:grpSpPr>
        <p:sp>
          <p:nvSpPr>
            <p:cNvPr id="204" name="Text Box 36"/>
            <p:cNvSpPr/>
            <p:nvPr/>
          </p:nvSpPr>
          <p:spPr>
            <a:xfrm rot="5400000">
              <a:off x="-494640" y="2586600"/>
              <a:ext cx="25898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lkali Earth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37"/>
            <p:cNvSpPr/>
            <p:nvPr/>
          </p:nvSpPr>
          <p:spPr>
            <a:xfrm>
              <a:off x="803160" y="390060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38"/>
            <p:cNvSpPr/>
            <p:nvPr/>
          </p:nvSpPr>
          <p:spPr>
            <a:xfrm>
              <a:off x="803160" y="76032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07810-E0CF-46A3-A846-616448BEFD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7138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ments are arranged by atomic number (Z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eriod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the horizontal row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re are 7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roup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the vertical rows, elements in the same group have similar chemical and physical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re are 8 groups, assigned as 1A-to-8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so 8 groups are assigned as 1B-to-8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me groups are given special nam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groups 1B-to-8B are called the </a:t>
            </a:r>
            <a:r>
              <a:rPr b="1" lang="en-GB" sz="2000" spc="-1" strike="noStrike">
                <a:solidFill>
                  <a:srgbClr val="9900cc"/>
                </a:solidFill>
                <a:latin typeface="Comic Sans MS"/>
              </a:rPr>
              <a:t>Transition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Group 1A elements (Li, Na, K, Rb, Cs and Fr) are called </a:t>
            </a:r>
            <a:r>
              <a:rPr b="1" lang="en-GB" sz="2000" spc="-1" strike="noStrike">
                <a:solidFill>
                  <a:srgbClr val="a50021"/>
                </a:solidFill>
                <a:latin typeface="Comic Sans MS"/>
              </a:rPr>
              <a:t>Alkali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Group 2A elements (Be, Mg, Ca, Sr, Ba and Ra) are called </a:t>
            </a:r>
            <a:r>
              <a:rPr b="1" lang="en-GB" sz="2000" spc="-1" strike="noStrike">
                <a:solidFill>
                  <a:srgbClr val="006600"/>
                </a:solidFill>
                <a:latin typeface="Comic Sans MS"/>
              </a:rPr>
              <a:t>Alkaline Earth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Group 7A elements (F, Cl, Br, I and At) are as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Halog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9999ff"/>
                </a:solidFill>
                <a:latin typeface="Comic Sans MS"/>
              </a:rPr>
              <a:t>Group 8A elements (He, Ne, Ar, Kr, Xe and Rn) are called </a:t>
            </a:r>
            <a:r>
              <a:rPr b="1" lang="en-GB" sz="2000" spc="-1" strike="noStrike">
                <a:solidFill>
                  <a:srgbClr val="9999ff"/>
                </a:solidFill>
                <a:latin typeface="Comic Sans MS"/>
              </a:rPr>
              <a:t>Noble Gases or Rare g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025DF-E290-4FAC-A64C-CB2FBA7975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lements in the periodic table are divided into three catego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ta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in green colour, Most elements) is a good conductor of heat and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onmeta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in blue colour, 17 elements) is a poor conductor of heat and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talloi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in brown colour, 8 elements) has properties that are intermediate between those of metals and nonmet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033CA-4F8A-41E5-9557-86BED2849F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Which of these elements is most likely to be a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conductor of electricity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4bacc6"/>
                </a:solidFill>
                <a:latin typeface="Comic Sans MS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Which element is the 15</a:t>
            </a:r>
            <a:r>
              <a:rPr b="0" lang="en-US" sz="2400" spc="-1" strike="noStrike" baseline="30000">
                <a:solidFill>
                  <a:srgbClr val="cc0066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 element in period  #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4bacc6"/>
                </a:solidFill>
                <a:latin typeface="Comic Sans MS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 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65311-DD82-4B30-9E9C-7CD451093F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112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5 Molecules and 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324000" y="1268280"/>
            <a:ext cx="795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molec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n aggregate of two or more atoms in a definite arrangement held together by chemical forces, a molecule may contain atoms of the same element or atoms of two or more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2"/>
          <p:cNvGrpSpPr/>
          <p:nvPr/>
        </p:nvGrpSpPr>
        <p:grpSpPr>
          <a:xfrm>
            <a:off x="1476360" y="3573360"/>
            <a:ext cx="6116760" cy="1796040"/>
            <a:chOff x="1476360" y="3573360"/>
            <a:chExt cx="6116760" cy="1796040"/>
          </a:xfrm>
        </p:grpSpPr>
        <p:pic>
          <p:nvPicPr>
            <p:cNvPr id="213" name="Picture 3" descr="C:\Chang Powerpoint\Figures\f002_12.jpg"/>
            <p:cNvPicPr/>
            <p:nvPr/>
          </p:nvPicPr>
          <p:blipFill>
            <a:blip r:embed="rId1"/>
            <a:srcRect l="24750" t="55501" r="0" b="21000"/>
            <a:stretch/>
          </p:blipFill>
          <p:spPr>
            <a:xfrm>
              <a:off x="1476360" y="3573360"/>
              <a:ext cx="611676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4"/>
            <p:cNvSpPr/>
            <p:nvPr/>
          </p:nvSpPr>
          <p:spPr>
            <a:xfrm>
              <a:off x="1733400" y="485928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5"/>
            <p:cNvSpPr/>
            <p:nvPr/>
          </p:nvSpPr>
          <p:spPr>
            <a:xfrm>
              <a:off x="3145680" y="4859280"/>
              <a:ext cx="744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6"/>
            <p:cNvSpPr/>
            <p:nvPr/>
          </p:nvSpPr>
          <p:spPr>
            <a:xfrm>
              <a:off x="4939560" y="4859280"/>
              <a:ext cx="73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7"/>
            <p:cNvSpPr/>
            <p:nvPr/>
          </p:nvSpPr>
          <p:spPr>
            <a:xfrm>
              <a:off x="6516000" y="4859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 Box 15"/>
          <p:cNvSpPr/>
          <p:nvPr/>
        </p:nvSpPr>
        <p:spPr>
          <a:xfrm>
            <a:off x="8539560" y="64008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2473A-CB71-4193-A53F-B7571FC5D7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5 Molecules and 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179280" y="270828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Diatomic molecule: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contains only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352080" y="4292640"/>
            <a:ext cx="333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O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Br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HCl, 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4859280" y="2703600"/>
            <a:ext cx="428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olyatomic molecule: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contains more than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5450760" y="4221000"/>
            <a:ext cx="2642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, H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O, NH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, CH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8539560" y="64008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92360" y="1268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3959280" y="-1071360"/>
            <a:ext cx="720720" cy="6553440"/>
          </a:xfrm>
          <a:custGeom>
            <a:avLst/>
            <a:gdLst>
              <a:gd name="textAreaLeft" fmla="*/ 0 w 720720"/>
              <a:gd name="textAreaRight" fmla="*/ 260280 w 720720"/>
              <a:gd name="textAreaTop" fmla="*/ 170640 h 6553440"/>
              <a:gd name="textAreaBottom" fmla="*/ 6382800 h 655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F10F2-83D6-4BC6-ADDE-686FDFA5D0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8930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n 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an atom or a group of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at has a net positive (+ve) or negative (-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79280" y="376380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ation: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an ion with a +ve charge (lose electron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254520" y="61405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Mg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4859280" y="3759120"/>
            <a:ext cx="428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Anion: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an ion with a -ve charge ( Gain electron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24360" y="23241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3959280" y="-15480"/>
            <a:ext cx="720720" cy="6553440"/>
          </a:xfrm>
          <a:custGeom>
            <a:avLst/>
            <a:gdLst>
              <a:gd name="textAreaLeft" fmla="*/ 0 w 720720"/>
              <a:gd name="textAreaRight" fmla="*/ 260280 w 720720"/>
              <a:gd name="textAreaTop" fmla="*/ 170640 h 6553440"/>
              <a:gd name="textAreaBottom" fmla="*/ 6382800 h 655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1944000" y="3393000"/>
            <a:ext cx="576360" cy="3095640"/>
          </a:xfrm>
          <a:custGeom>
            <a:avLst/>
            <a:gdLst>
              <a:gd name="textAreaLeft" fmla="*/ 0 w 576360"/>
              <a:gd name="textAreaRight" fmla="*/ 208080 w 576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4000" y="530064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noatomic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43280" y="530064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olyatomic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6517440" y="3393000"/>
            <a:ext cx="576360" cy="3095640"/>
          </a:xfrm>
          <a:custGeom>
            <a:avLst/>
            <a:gdLst>
              <a:gd name="textAreaLeft" fmla="*/ 0 w 576360"/>
              <a:gd name="textAreaRight" fmla="*/ 208080 w 576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97440" y="5299200"/>
            <a:ext cx="197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onoatomic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Cl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, Br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,S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236000" y="5235480"/>
            <a:ext cx="1908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olyatomic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H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-,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O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3134880" y="6140520"/>
            <a:ext cx="83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BB93F-7732-4052-BC71-FF0970877E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2921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2</a:t>
            </a:r>
            <a:br>
              <a:rPr sz="4000"/>
            </a:b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Atoms, Molecules and Ions</a:t>
            </a:r>
            <a:br>
              <a:rPr sz="4000"/>
            </a:b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Chang Pages 49-64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71-73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2.10, 2.11, 2.12, 2.14, 2.16, 2.18, 2.26, 2.34, 2.36, 2.44, 2.46, 2.50, 2.57 (a,e,f,g,h,I,j,k,l,m), 2.58 (b,c,d,g,h,I,k), 2.59 (a,b,d,g,h,j), 2.60 (a,e,f,g,h,k),2.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NA00119_"/>
          <p:cNvPicPr/>
          <p:nvPr/>
        </p:nvPicPr>
        <p:blipFill>
          <a:blip r:embed="rId1"/>
          <a:stretch/>
        </p:blipFill>
        <p:spPr>
          <a:xfrm>
            <a:off x="0" y="576360"/>
            <a:ext cx="1627200" cy="1628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NA00121_"/>
          <p:cNvPicPr/>
          <p:nvPr/>
        </p:nvPicPr>
        <p:blipFill>
          <a:blip r:embed="rId2"/>
          <a:stretch/>
        </p:blipFill>
        <p:spPr>
          <a:xfrm>
            <a:off x="7380360" y="5746680"/>
            <a:ext cx="1763640" cy="111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B80D2-ED12-4240-B5A4-A149500B30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27"/>
          <p:cNvGrpSpPr/>
          <p:nvPr/>
        </p:nvGrpSpPr>
        <p:grpSpPr>
          <a:xfrm>
            <a:off x="974880" y="1476360"/>
            <a:ext cx="3167640" cy="1295280"/>
            <a:chOff x="974880" y="1476360"/>
            <a:chExt cx="3167640" cy="1295280"/>
          </a:xfrm>
        </p:grpSpPr>
        <p:grpSp>
          <p:nvGrpSpPr>
            <p:cNvPr id="241" name="Group 10"/>
            <p:cNvGrpSpPr/>
            <p:nvPr/>
          </p:nvGrpSpPr>
          <p:grpSpPr>
            <a:xfrm>
              <a:off x="974880" y="1476360"/>
              <a:ext cx="1295280" cy="1295280"/>
              <a:chOff x="974880" y="1476360"/>
              <a:chExt cx="1295280" cy="1295280"/>
            </a:xfrm>
          </p:grpSpPr>
          <p:sp>
            <p:nvSpPr>
              <p:cNvPr id="242" name="Oval 6"/>
              <p:cNvSpPr/>
              <p:nvPr/>
            </p:nvSpPr>
            <p:spPr>
              <a:xfrm>
                <a:off x="974880" y="1476360"/>
                <a:ext cx="1295280" cy="12952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7"/>
              <p:cNvSpPr/>
              <p:nvPr/>
            </p:nvSpPr>
            <p:spPr>
              <a:xfrm>
                <a:off x="1270440" y="1863720"/>
                <a:ext cx="884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Comic Sans MS"/>
                  </a:rPr>
                  <a:t>1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Text Box 20"/>
            <p:cNvSpPr/>
            <p:nvPr/>
          </p:nvSpPr>
          <p:spPr>
            <a:xfrm>
              <a:off x="2500200" y="177300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28"/>
          <p:cNvGrpSpPr/>
          <p:nvPr/>
        </p:nvGrpSpPr>
        <p:grpSpPr>
          <a:xfrm>
            <a:off x="5508720" y="1628640"/>
            <a:ext cx="2970360" cy="1143000"/>
            <a:chOff x="5508720" y="1628640"/>
            <a:chExt cx="2970360" cy="1143000"/>
          </a:xfrm>
        </p:grpSpPr>
        <p:grpSp>
          <p:nvGrpSpPr>
            <p:cNvPr id="246" name="Group 11"/>
            <p:cNvGrpSpPr/>
            <p:nvPr/>
          </p:nvGrpSpPr>
          <p:grpSpPr>
            <a:xfrm>
              <a:off x="5508720" y="1628640"/>
              <a:ext cx="1201320" cy="1143000"/>
              <a:chOff x="5508720" y="1628640"/>
              <a:chExt cx="1201320" cy="1143000"/>
            </a:xfrm>
          </p:grpSpPr>
          <p:sp>
            <p:nvSpPr>
              <p:cNvPr id="247" name="Oval 8"/>
              <p:cNvSpPr/>
              <p:nvPr/>
            </p:nvSpPr>
            <p:spPr>
              <a:xfrm>
                <a:off x="5508720" y="1628640"/>
                <a:ext cx="1142640" cy="1143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9"/>
              <p:cNvSpPr/>
              <p:nvPr/>
            </p:nvSpPr>
            <p:spPr>
              <a:xfrm>
                <a:off x="5689440" y="1941480"/>
                <a:ext cx="1020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Na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Text Box 21"/>
            <p:cNvSpPr/>
            <p:nvPr/>
          </p:nvSpPr>
          <p:spPr>
            <a:xfrm>
              <a:off x="6836760" y="184140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0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9"/>
          <p:cNvGrpSpPr/>
          <p:nvPr/>
        </p:nvGrpSpPr>
        <p:grpSpPr>
          <a:xfrm>
            <a:off x="1042920" y="4013280"/>
            <a:ext cx="3111840" cy="1143000"/>
            <a:chOff x="1042920" y="4013280"/>
            <a:chExt cx="3111840" cy="1143000"/>
          </a:xfrm>
        </p:grpSpPr>
        <p:grpSp>
          <p:nvGrpSpPr>
            <p:cNvPr id="251" name="Group 23"/>
            <p:cNvGrpSpPr/>
            <p:nvPr/>
          </p:nvGrpSpPr>
          <p:grpSpPr>
            <a:xfrm>
              <a:off x="1042920" y="4013280"/>
              <a:ext cx="1143000" cy="1143000"/>
              <a:chOff x="1042920" y="4013280"/>
              <a:chExt cx="1143000" cy="1143000"/>
            </a:xfrm>
          </p:grpSpPr>
          <p:sp>
            <p:nvSpPr>
              <p:cNvPr id="252" name="Oval 14"/>
              <p:cNvSpPr/>
              <p:nvPr/>
            </p:nvSpPr>
            <p:spPr>
              <a:xfrm>
                <a:off x="1042920" y="4013280"/>
                <a:ext cx="1143000" cy="114300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 Box 15"/>
              <p:cNvSpPr/>
              <p:nvPr/>
            </p:nvSpPr>
            <p:spPr>
              <a:xfrm>
                <a:off x="1357560" y="4324680"/>
                <a:ext cx="7581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800" spc="-1" strike="noStrike" baseline="-25000">
                    <a:solidFill>
                      <a:srgbClr val="000000"/>
                    </a:solidFill>
                    <a:latin typeface="Comic Sans MS"/>
                  </a:rPr>
                  <a:t>17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C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Text Box 22"/>
            <p:cNvSpPr/>
            <p:nvPr/>
          </p:nvSpPr>
          <p:spPr>
            <a:xfrm>
              <a:off x="2512440" y="423396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7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30"/>
          <p:cNvGrpSpPr/>
          <p:nvPr/>
        </p:nvGrpSpPr>
        <p:grpSpPr>
          <a:xfrm>
            <a:off x="5348160" y="3860640"/>
            <a:ext cx="3123000" cy="1447560"/>
            <a:chOff x="5348160" y="3860640"/>
            <a:chExt cx="3123000" cy="1447560"/>
          </a:xfrm>
        </p:grpSpPr>
        <p:grpSp>
          <p:nvGrpSpPr>
            <p:cNvPr id="256" name="Group 24"/>
            <p:cNvGrpSpPr/>
            <p:nvPr/>
          </p:nvGrpSpPr>
          <p:grpSpPr>
            <a:xfrm>
              <a:off x="5348160" y="3860640"/>
              <a:ext cx="1447920" cy="1447560"/>
              <a:chOff x="5348160" y="3860640"/>
              <a:chExt cx="1447920" cy="1447560"/>
            </a:xfrm>
          </p:grpSpPr>
          <p:sp>
            <p:nvSpPr>
              <p:cNvPr id="257" name="Oval 18"/>
              <p:cNvSpPr/>
              <p:nvPr/>
            </p:nvSpPr>
            <p:spPr>
              <a:xfrm>
                <a:off x="5348160" y="3860640"/>
                <a:ext cx="1447920" cy="144756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19"/>
              <p:cNvSpPr/>
              <p:nvPr/>
            </p:nvSpPr>
            <p:spPr>
              <a:xfrm>
                <a:off x="5787720" y="4400280"/>
                <a:ext cx="81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Cl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Text Box 26"/>
            <p:cNvSpPr/>
            <p:nvPr/>
          </p:nvSpPr>
          <p:spPr>
            <a:xfrm>
              <a:off x="6828840" y="422568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8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5256360" y="907920"/>
            <a:ext cx="18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435640" y="3213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089D4-03C2-4DE5-BBEA-C8D9AEB91C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468360" y="470520"/>
            <a:ext cx="86043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A magnesium ion, </a:t>
            </a:r>
            <a:r>
              <a:rPr b="0" lang="en-US" sz="2400" spc="-1" strike="noStrike" baseline="-25000">
                <a:solidFill>
                  <a:srgbClr val="cc0066"/>
                </a:solidFill>
                <a:latin typeface="Comic Sans MS"/>
                <a:ea typeface="Times New Roman"/>
              </a:rPr>
              <a:t>12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Mg</a:t>
            </a:r>
            <a:r>
              <a:rPr b="0" lang="en-US" sz="2400" spc="-1" strike="noStrike" baseline="30000">
                <a:solidFill>
                  <a:srgbClr val="cc0066"/>
                </a:solidFill>
                <a:latin typeface="Comic Sans MS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, has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 protons and 13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 protons and 26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bacc6"/>
                </a:solidFill>
                <a:latin typeface="Comic Sans MS"/>
                <a:ea typeface="Times New Roman"/>
              </a:rPr>
              <a:t>12 protons and 10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 protons and 22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 protons and 14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468360" y="3113640"/>
            <a:ext cx="70279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A sulfide ion, </a:t>
            </a:r>
            <a:r>
              <a:rPr b="0" lang="en-US" sz="2400" spc="-1" strike="noStrike" baseline="-25000">
                <a:solidFill>
                  <a:srgbClr val="cc0066"/>
                </a:solidFill>
                <a:latin typeface="Comic Sans MS"/>
                <a:ea typeface="Times New Roman"/>
              </a:rPr>
              <a:t>16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S</a:t>
            </a:r>
            <a:r>
              <a:rPr b="0" lang="en-US" sz="2400" spc="-1" strike="noStrike" baseline="30000">
                <a:solidFill>
                  <a:srgbClr val="cc0066"/>
                </a:solidFill>
                <a:latin typeface="Comic Sans MS"/>
                <a:ea typeface="Times New Roman"/>
              </a:rPr>
              <a:t>2-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 , has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6 protons and 16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2 protons and 16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6 protons and 14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bacc6"/>
                </a:solidFill>
                <a:latin typeface="Comic Sans MS"/>
                <a:ea typeface="Times New Roman"/>
              </a:rPr>
              <a:t>16 protons and 18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2 protons and 18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DC35D-370A-47A3-A771-3C32AE8478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95280" y="61920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How many protons and electrons are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3 protons, 10 (13 – 3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7020000" y="692280"/>
                <a:ext cx="18716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l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68360" y="371484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How many protons and electrons are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4 protons, 36 (34 + 2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7093080" y="3789360"/>
                <a:ext cx="172872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1DB9A-5810-45C5-BA04-1D19077679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6 Chemical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7476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1. A molecular formula:</a:t>
            </a:r>
            <a:r>
              <a:rPr b="0" lang="en-US" sz="36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ows the exact number of atoms of each element in the smallest unit of a subs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, 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F7E19-5846-4371-9A29-9891748A6B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7476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2. An empirical formula: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ws the simplest whole-number ratio of the atoms in a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Empirical Formula may the same or different from the 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can we get the Empirical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vi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e numbers by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ar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on devis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e.g. The empirical formula of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is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the empirical formula of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C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6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12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is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CH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divide the numbers 6, 12 and 6 by the largest common devisor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90AF1-D15D-41F9-922D-5AA292D7096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7"/>
          <p:cNvSpPr/>
          <p:nvPr/>
        </p:nvSpPr>
        <p:spPr>
          <a:xfrm>
            <a:off x="5328720" y="1268280"/>
            <a:ext cx="12182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6"/>
          <p:cNvGrpSpPr/>
          <p:nvPr/>
        </p:nvGrpSpPr>
        <p:grpSpPr>
          <a:xfrm>
            <a:off x="1608840" y="476280"/>
            <a:ext cx="5923800" cy="1437840"/>
            <a:chOff x="1608840" y="476280"/>
            <a:chExt cx="5923800" cy="1437840"/>
          </a:xfrm>
        </p:grpSpPr>
        <p:sp>
          <p:nvSpPr>
            <p:cNvPr id="275" name="Text Box 6"/>
            <p:cNvSpPr/>
            <p:nvPr/>
          </p:nvSpPr>
          <p:spPr>
            <a:xfrm>
              <a:off x="2302920" y="1057320"/>
              <a:ext cx="121824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a50021"/>
                  </a:solidFill>
                  <a:latin typeface="Comic Sans MS"/>
                </a:rPr>
                <a:t>H</a:t>
              </a:r>
              <a:r>
                <a:rPr b="0" lang="en-US" sz="4400" spc="-1" strike="noStrike" baseline="-25000">
                  <a:solidFill>
                    <a:srgbClr val="a50021"/>
                  </a:solidFill>
                  <a:latin typeface="Comic Sans MS"/>
                </a:rPr>
                <a:t>2</a:t>
              </a:r>
              <a:r>
                <a:rPr b="0" lang="en-US" sz="4400" spc="-1" strike="noStrike">
                  <a:solidFill>
                    <a:srgbClr val="a50021"/>
                  </a:solidFill>
                  <a:latin typeface="Comic Sans MS"/>
                </a:rPr>
                <a:t>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8"/>
            <p:cNvSpPr/>
            <p:nvPr/>
          </p:nvSpPr>
          <p:spPr>
            <a:xfrm>
              <a:off x="1608840" y="476280"/>
              <a:ext cx="2995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molecula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"/>
            <p:cNvSpPr/>
            <p:nvPr/>
          </p:nvSpPr>
          <p:spPr>
            <a:xfrm>
              <a:off x="4726080" y="476280"/>
              <a:ext cx="2806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 u="sng">
                  <a:solidFill>
                    <a:srgbClr val="9900cc"/>
                  </a:solidFill>
                  <a:uFillTx/>
                  <a:latin typeface="Comic Sans MS"/>
                </a:rPr>
                <a:t>empirical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 Box 10"/>
          <p:cNvSpPr/>
          <p:nvPr/>
        </p:nvSpPr>
        <p:spPr>
          <a:xfrm>
            <a:off x="1991880" y="2708280"/>
            <a:ext cx="21294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C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12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5191560" y="2708280"/>
            <a:ext cx="15721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CH</a:t>
            </a:r>
            <a:r>
              <a:rPr b="0" lang="en-US" sz="4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2424600" y="3890880"/>
            <a:ext cx="8038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5497200" y="389088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4"/>
          <p:cNvSpPr/>
          <p:nvPr/>
        </p:nvSpPr>
        <p:spPr>
          <a:xfrm>
            <a:off x="2270160" y="5043600"/>
            <a:ext cx="13917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5"/>
          <p:cNvSpPr/>
          <p:nvPr/>
        </p:nvSpPr>
        <p:spPr>
          <a:xfrm>
            <a:off x="5342760" y="5043600"/>
            <a:ext cx="12063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NH</a:t>
            </a:r>
            <a:r>
              <a:rPr b="0" lang="en-US" sz="4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3C33D-A1EA-4D84-ABE5-0FEF21F350A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Example 2.3 p5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Write the empirical formulas fo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following molec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Acetylene C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-25000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Nitrous oxide N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O → N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Practice Exercise: C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8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ar-SA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ar-SA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ar-SA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31E3F-E534-4991-AAF8-4AFB203002D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108000" y="475920"/>
            <a:ext cx="9036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3. Formula of Ionic Compounds: </a:t>
            </a:r>
            <a:r>
              <a:rPr b="1" lang="ar-SA" sz="3200" spc="-1" strike="noStrike">
                <a:solidFill>
                  <a:srgbClr val="00007d"/>
                </a:solidFill>
                <a:latin typeface="Comic Sans MS"/>
              </a:rPr>
              <a:t>الأيونية</a:t>
            </a: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ar-SA" sz="3200" spc="-1" strike="noStrike">
                <a:solidFill>
                  <a:srgbClr val="00007d"/>
                </a:solidFill>
                <a:latin typeface="Comic Sans MS"/>
              </a:rPr>
              <a:t>المركب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228600" y="1287360"/>
            <a:ext cx="8686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onic Compound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nsist of a combination of cations and an an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84360" y="256536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Na</a:t>
            </a:r>
            <a:r>
              <a:rPr b="0" lang="en-GB" sz="48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Cl</a:t>
            </a:r>
            <a:r>
              <a:rPr b="0" lang="en-GB" sz="48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95640" y="3341520"/>
            <a:ext cx="1584360" cy="94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229" y="-1734"/>
                </a:moveTo>
                <a:lnTo>
                  <a:pt x="20042" y="-1734"/>
                </a:lnTo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003640" y="3467160"/>
            <a:ext cx="1584360" cy="94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1818" y="-1734"/>
                </a:moveTo>
                <a:lnTo>
                  <a:pt x="20042" y="-1734"/>
                </a:lnTo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9B05D-A580-423D-BDAD-6299EDE2550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C:\Chang Powerpoint\Figures\f002_13l.jpg"/>
          <p:cNvPicPr/>
          <p:nvPr/>
        </p:nvPicPr>
        <p:blipFill>
          <a:blip r:embed="rId1"/>
          <a:srcRect l="0" t="30001" r="0" b="19500"/>
          <a:stretch/>
        </p:blipFill>
        <p:spPr>
          <a:xfrm>
            <a:off x="507960" y="1822320"/>
            <a:ext cx="8128080" cy="30783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4"/>
          <p:cNvSpPr/>
          <p:nvPr/>
        </p:nvSpPr>
        <p:spPr>
          <a:xfrm>
            <a:off x="2354040" y="1341360"/>
            <a:ext cx="44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onic compound 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689B3-E83D-4230-B2CA-15F18E485DE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um of the charges on the cation/s and anion/s in each formula unit must equal zero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formula of the ionic compound must be 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ow to make the formula neutr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subscript of the cation is numer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qual to the charge on the anion, a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bscript on the anion is numerically eq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the charge on the 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36720" y="5467320"/>
            <a:ext cx="52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496E9-B095-4688-AF52-6224F31F763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2 Atoms, Molecules and Ions: Outlin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3 Atomic Number, Mass Number and Isot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4 The Periodic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5 Molecules and 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6 Chemical Fo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7 Naming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cular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5ACC0-8FA8-4C69-9A33-33DC9BF600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3"/>
          <p:cNvSpPr/>
          <p:nvPr/>
        </p:nvSpPr>
        <p:spPr>
          <a:xfrm>
            <a:off x="2784960" y="1197000"/>
            <a:ext cx="344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a50021"/>
                </a:solidFill>
                <a:latin typeface="Comic Sans MS"/>
              </a:rPr>
              <a:t>K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6000" spc="-1" strike="noStrike">
                <a:solidFill>
                  <a:srgbClr val="9900cc"/>
                </a:solidFill>
                <a:latin typeface="Comic Sans MS"/>
              </a:rPr>
              <a:t>Br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62160" y="1801800"/>
            <a:ext cx="3240360" cy="133992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3796200" y="4724280"/>
            <a:ext cx="223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Comic Sans MS"/>
              </a:rPr>
              <a:t>K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B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76720" y="1773360"/>
            <a:ext cx="2735280" cy="81576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tassium Brom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227640" y="263700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A7539-8EEE-4515-842C-555488CA96A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3"/>
          <p:cNvSpPr/>
          <p:nvPr/>
        </p:nvSpPr>
        <p:spPr>
          <a:xfrm>
            <a:off x="2508840" y="1197000"/>
            <a:ext cx="399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a50021"/>
                </a:solidFill>
                <a:latin typeface="Comic Sans MS"/>
              </a:rPr>
              <a:t>Zn</a:t>
            </a:r>
            <a:r>
              <a:rPr b="0" lang="en-GB" sz="60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6000" spc="-1" strike="noStrike">
                <a:solidFill>
                  <a:srgbClr val="9900cc"/>
                </a:solidFill>
                <a:latin typeface="Comic Sans MS"/>
              </a:rPr>
              <a:t>Cl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08360" y="1700280"/>
            <a:ext cx="2808360" cy="136836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3352320" y="4724280"/>
            <a:ext cx="31204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Comic Sans MS"/>
              </a:rPr>
              <a:t>Zn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Cl</a:t>
            </a:r>
            <a:r>
              <a:rPr b="0" lang="en-US" sz="9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08360" y="1844640"/>
            <a:ext cx="2303640" cy="74448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inc 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227640" y="263700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F2A69-82AA-464E-8C42-EBFED4A4A68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3"/>
          <p:cNvSpPr/>
          <p:nvPr/>
        </p:nvSpPr>
        <p:spPr>
          <a:xfrm>
            <a:off x="2535480" y="1197000"/>
            <a:ext cx="394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60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62160" y="1801800"/>
            <a:ext cx="3240360" cy="133992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3349800" y="4724280"/>
            <a:ext cx="312516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ar-SA" sz="9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ar-SA" sz="96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76720" y="1773360"/>
            <a:ext cx="2735280" cy="81576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uminium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227640" y="263700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35F8D-BC2A-4A56-9C3B-A5F0060EAF1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3"/>
          <p:cNvSpPr/>
          <p:nvPr/>
        </p:nvSpPr>
        <p:spPr>
          <a:xfrm>
            <a:off x="2144520" y="1197000"/>
            <a:ext cx="47311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50021"/>
                </a:solidFill>
                <a:latin typeface="Comic Sans MS"/>
              </a:rPr>
              <a:t>Cr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6000" spc="-1" strike="noStrike">
                <a:solidFill>
                  <a:srgbClr val="9900cc"/>
                </a:solidFill>
                <a:latin typeface="Comic Sans MS"/>
              </a:rPr>
              <a:t>SO</a:t>
            </a:r>
            <a:r>
              <a:rPr b="0" lang="en-US" sz="60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00360" y="1773360"/>
            <a:ext cx="4176720" cy="136836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2384640" y="4724280"/>
            <a:ext cx="506520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a50021"/>
                </a:solidFill>
                <a:latin typeface="Comic Sans MS"/>
              </a:rPr>
              <a:t>Cr</a:t>
            </a:r>
            <a:r>
              <a:rPr b="0" lang="ar-SA" sz="9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9600" spc="-1" strike="noStrike">
                <a:solidFill>
                  <a:srgbClr val="9900cc"/>
                </a:solidFill>
                <a:latin typeface="Comic Sans MS"/>
              </a:rPr>
              <a:t>(S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9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9600" spc="-1" strike="noStrike">
                <a:solidFill>
                  <a:srgbClr val="9900cc"/>
                </a:solidFill>
                <a:latin typeface="Comic Sans MS"/>
              </a:rPr>
              <a:t>)</a:t>
            </a:r>
            <a:r>
              <a:rPr b="0" lang="en-GB" sz="96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76720" y="2060640"/>
            <a:ext cx="3240000" cy="79200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romium Sul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24720" y="263700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217C8-ACAF-4CD2-95A1-2000C193918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457200" y="558360"/>
            <a:ext cx="822960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Example 2.4 p5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rite the formula of magnesium nitr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ontaining the Mg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and N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3-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783720" y="3571920"/>
            <a:ext cx="24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g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3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273320" y="3932280"/>
            <a:ext cx="1871640" cy="158436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6200000">
            <a:off x="3635280" y="4220640"/>
            <a:ext cx="433080" cy="1008000"/>
          </a:xfrm>
          <a:prstGeom prst="downArrow">
            <a:avLst>
              <a:gd name="adj1" fmla="val 50000"/>
              <a:gd name="adj2" fmla="val 58188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537080" y="4221000"/>
            <a:ext cx="22003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Mg</a:t>
            </a:r>
            <a:r>
              <a:rPr b="0" lang="en-GB" sz="54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GB" sz="5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15880" y="4005360"/>
            <a:ext cx="1441800" cy="95868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547640" y="558972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D49D5-CAFB-4313-AF5E-0D50E7EBD76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7 Naming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 nomenclatur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naming the chemical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564000" y="2637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6200000">
            <a:off x="4139280" y="547920"/>
            <a:ext cx="649080" cy="6121440"/>
          </a:xfrm>
          <a:custGeom>
            <a:avLst/>
            <a:gdLst>
              <a:gd name="textAreaLeft" fmla="*/ 0 w 649080"/>
              <a:gd name="textAreaRight" fmla="*/ 234360 w 649080"/>
              <a:gd name="textAreaTop" fmla="*/ 159480 h 6121440"/>
              <a:gd name="textAreaBottom" fmla="*/ 5961960 h 612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79280" y="4076640"/>
            <a:ext cx="46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cc"/>
                </a:solidFill>
                <a:uFillTx/>
                <a:latin typeface="Comic Sans MS"/>
              </a:rPr>
              <a:t>Organic Compound: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contain carbon in combination with elements such as hydrogen,  oxygen, nitrogen and sulph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508720" y="4076640"/>
            <a:ext cx="36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Inorganic Compound: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all othe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5950080"/>
            <a:ext cx="8820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Also Inorganic compounds: CO, CO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, CS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, compounds containing CN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, CO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&amp; HCO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B33A5-39D9-4646-92A0-2EA45DEAB00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2340000" y="549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n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6200000">
            <a:off x="4104360" y="-999720"/>
            <a:ext cx="1079640" cy="5472360"/>
          </a:xfrm>
          <a:custGeom>
            <a:avLst/>
            <a:gdLst>
              <a:gd name="textAreaLeft" fmla="*/ 0 w 1079640"/>
              <a:gd name="textAreaRight" fmla="*/ 389880 w 1079640"/>
              <a:gd name="textAreaTop" fmla="*/ 142560 h 5472360"/>
              <a:gd name="textAreaBottom" fmla="*/ 532980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0" y="2276640"/>
            <a:ext cx="460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cc"/>
                </a:solidFill>
                <a:uFillTx/>
                <a:latin typeface="Comic Sans MS"/>
              </a:rPr>
              <a:t>Ionic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Metal cation + Nonmetal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64000" y="2276640"/>
            <a:ext cx="39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Non-metal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etaliod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0B51A-6A6C-4FB1-8BB0-7BABDB8CE0A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533520"/>
            <a:ext cx="9144000" cy="596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B5ECE-AA26-40B7-ACA8-C0EE198A20C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763120" cy="38876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76320" y="47242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st reactive </a:t>
            </a:r>
            <a:r>
              <a:rPr b="1" lang="en-US" sz="2800" spc="-1" strike="noStrike">
                <a:solidFill>
                  <a:srgbClr val="00cc66"/>
                </a:solidFill>
                <a:latin typeface="Comic Sans MS"/>
              </a:rPr>
              <a:t>meta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green) and the most reactive </a:t>
            </a: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nonmeta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blue) combine to form ionic com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804680" y="528480"/>
            <a:ext cx="355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cc"/>
                </a:solidFill>
                <a:uFillTx/>
                <a:latin typeface="Comic Sans MS"/>
              </a:rPr>
              <a:t>Io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B410A-E4DC-4550-BD54-D827C318475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324000" y="473040"/>
            <a:ext cx="861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Which of these pairs of elements would be most likely to form an ionic compound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 and B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 and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aae2ca"/>
                </a:solidFill>
                <a:latin typeface="Comic Sans MS"/>
              </a:rPr>
              <a:t>O and 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e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 and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4000" y="3284640"/>
            <a:ext cx="8569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66"/>
                </a:solidFill>
                <a:latin typeface="Comic Sans MS"/>
              </a:rPr>
              <a:t>Which of these pairs of elements would be most likely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66"/>
                </a:solidFill>
                <a:latin typeface="Comic Sans MS"/>
              </a:rPr>
              <a:t>form a molecular comp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a and Br            (b) </a:t>
            </a:r>
            <a:r>
              <a:rPr b="0" lang="en-GB" sz="2400" spc="-1" strike="noStrike">
                <a:solidFill>
                  <a:srgbClr val="aae2ca"/>
                </a:solidFill>
                <a:latin typeface="Comic Sans MS"/>
              </a:rPr>
              <a:t>C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 and O             (d) Zn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g and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CA9AA-7EF2-44BD-B12D-77599FDB62D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toms, Molecules and Ions: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031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om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basic unit of an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can enter into chemical comb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Electron (e) (-ve cha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oton (p) (+ve charg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Comic Sans MS"/>
              </a:rPr>
              <a:t>Neutron (n) (neut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64000" y="3429000"/>
            <a:ext cx="503280" cy="1655640"/>
          </a:xfrm>
          <a:custGeom>
            <a:avLst/>
            <a:gdLst>
              <a:gd name="textAreaLeft" fmla="*/ 0 w 503280"/>
              <a:gd name="textAreaRight" fmla="*/ 181800 w 50328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40360" y="3801960"/>
            <a:ext cx="26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batomic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061E4-6D1E-4D5E-86AF-A1536EB62B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2340000" y="549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n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16200000">
            <a:off x="4104360" y="-999720"/>
            <a:ext cx="1079640" cy="5472360"/>
          </a:xfrm>
          <a:custGeom>
            <a:avLst/>
            <a:gdLst>
              <a:gd name="textAreaLeft" fmla="*/ 0 w 1079640"/>
              <a:gd name="textAreaRight" fmla="*/ 389880 w 1079640"/>
              <a:gd name="textAreaTop" fmla="*/ 142560 h 5472360"/>
              <a:gd name="textAreaBottom" fmla="*/ 532980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4920" y="2276640"/>
            <a:ext cx="460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cc"/>
                </a:solidFill>
                <a:uFillTx/>
                <a:latin typeface="Comic Sans MS"/>
              </a:rPr>
              <a:t>Ionic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Metal cation + Nonmetal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64000" y="2276640"/>
            <a:ext cx="39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Non-metal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etaliod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16200000">
            <a:off x="2915280" y="908280"/>
            <a:ext cx="1152360" cy="5904000"/>
          </a:xfrm>
          <a:custGeom>
            <a:avLst/>
            <a:gdLst>
              <a:gd name="textAreaLeft" fmla="*/ 0 w 1152360"/>
              <a:gd name="textAreaRight" fmla="*/ 416160 w 1152360"/>
              <a:gd name="textAreaTop" fmla="*/ 153720 h 5904000"/>
              <a:gd name="textAreaBottom" fmla="*/ 5750280 h 590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920" y="4503600"/>
            <a:ext cx="41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Metal Cation: takes their names from th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724360" y="4437000"/>
            <a:ext cx="341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Nonmetal Anion: Take the first part of the element name and add -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67F2C-4118-4471-8B3E-7C6FDBFA42C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468360" y="476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Metal Cation: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takes their names from th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16200000">
            <a:off x="3960000" y="-1648440"/>
            <a:ext cx="1008000" cy="7274160"/>
          </a:xfrm>
          <a:custGeom>
            <a:avLst/>
            <a:gdLst>
              <a:gd name="textAreaLeft" fmla="*/ 0 w 1008000"/>
              <a:gd name="textAreaRight" fmla="*/ 363960 w 1008000"/>
              <a:gd name="textAreaTop" fmla="*/ 189360 h 7274160"/>
              <a:gd name="textAreaBottom" fmla="*/ 7084800 h 727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8360" y="2708280"/>
            <a:ext cx="4390920" cy="24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als form only one type of c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kali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kali earth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A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C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Z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92720" y="2565360"/>
            <a:ext cx="3851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etals form more than one type of cation (other metal cations e.g.Transition Met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4000" y="5746680"/>
            <a:ext cx="7705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on name of metal cation: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mmonium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64286-27A8-46CB-902E-530BD1CCEAD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1" descr="02_11"/>
          <p:cNvPicPr/>
          <p:nvPr/>
        </p:nvPicPr>
        <p:blipFill>
          <a:blip r:embed="rId1"/>
          <a:srcRect l="0" t="3812" r="0" b="0"/>
          <a:stretch/>
        </p:blipFill>
        <p:spPr>
          <a:xfrm>
            <a:off x="0" y="1523880"/>
            <a:ext cx="9144000" cy="39672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0" y="692280"/>
            <a:ext cx="22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tals form only type of 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03280" y="2367000"/>
            <a:ext cx="43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tals form more than one type of cation (Transition Meta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E0998-F5B3-4B73-BEFA-2D2D84CAE46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179280" y="1773360"/>
          <a:ext cx="8712360" cy="2735280"/>
        </p:xfrm>
        <a:graphic>
          <a:graphicData uri="http://schemas.openxmlformats.org/drawingml/2006/table">
            <a:tbl>
              <a:tblPr/>
              <a:tblGrid>
                <a:gridCol w="2521080"/>
                <a:gridCol w="6191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Na So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Na</a:t>
                      </a:r>
                      <a:r>
                        <a:rPr b="0" lang="en-GB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GB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Sodium ion (or sodium cation</a:t>
                      </a:r>
                      <a:r>
                        <a:rPr b="0" lang="ar-SA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(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K potass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K</a:t>
                      </a:r>
                      <a:r>
                        <a:rPr b="0" lang="en-US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potassium ion (or potassium 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Mg magnes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Mg</a:t>
                      </a:r>
                      <a:r>
                        <a:rPr b="0" lang="en-US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2+</a:t>
                      </a: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magnesium ion (or magnesium 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Al Alumin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Al</a:t>
                      </a:r>
                      <a:r>
                        <a:rPr b="0" lang="en-US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3+</a:t>
                      </a: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aluminium ion (or aluminium 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"/>
          <p:cNvSpPr/>
          <p:nvPr/>
        </p:nvSpPr>
        <p:spPr>
          <a:xfrm>
            <a:off x="539640" y="47628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als form only one type of 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9D579-730A-427C-9085-C61A518AD06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50920" y="620640"/>
            <a:ext cx="8497800" cy="56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etals form more than one type of cation (Transition Met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.g. Iron can form two cation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F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&amp; F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ow can we name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6600"/>
                </a:solidFill>
                <a:uFillTx/>
                <a:latin typeface="Comic Sans MS"/>
              </a:rPr>
              <a:t>Stock System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specify the ch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of the cation  with Roman num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e.g. FeCl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→ Iron (II) 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FeCl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→ Iron (III) 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7451640" y="3357720"/>
          <a:ext cx="1657440" cy="3095640"/>
        </p:xfrm>
        <a:graphic>
          <a:graphicData uri="http://schemas.openxmlformats.org/drawingml/2006/table">
            <a:tbl>
              <a:tblPr/>
              <a:tblGrid>
                <a:gridCol w="748800"/>
                <a:gridCol w="908640"/>
              </a:tblGrid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tw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Thr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F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F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6" name=""/>
          <p:cNvSpPr/>
          <p:nvPr/>
        </p:nvSpPr>
        <p:spPr>
          <a:xfrm>
            <a:off x="7233840" y="299736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Roman nume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A72E5-3FAD-4C8B-B473-A57F62B5310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68360" y="6206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Nonmetal Anion: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Take the first part of the element name and add -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16200000">
            <a:off x="4031280" y="-639000"/>
            <a:ext cx="1079640" cy="5472000"/>
          </a:xfrm>
          <a:custGeom>
            <a:avLst/>
            <a:gdLst>
              <a:gd name="textAreaLeft" fmla="*/ 0 w 1079640"/>
              <a:gd name="textAreaRight" fmla="*/ 389880 w 1079640"/>
              <a:gd name="textAreaTop" fmla="*/ 142560 h 5472000"/>
              <a:gd name="textAreaBottom" fmla="*/ 5329440 h 54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5280" y="2708280"/>
            <a:ext cx="4562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Monoatomic a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Cl</a:t>
            </a:r>
            <a:r>
              <a:rPr b="0" lang="en-GB" sz="28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Chlorine →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Br</a:t>
            </a:r>
            <a:r>
              <a:rPr b="0" lang="en-GB" sz="28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Bromine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Bro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0" lang="en-GB" sz="2800" spc="-1" strike="noStrike" baseline="30000">
                <a:solidFill>
                  <a:srgbClr val="006600"/>
                </a:solidFill>
                <a:latin typeface="Comic Sans MS"/>
              </a:rPr>
              <a:t>2-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Oxygen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50080" y="2708280"/>
            <a:ext cx="3878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olyatomic a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OH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N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yan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95280" y="5229360"/>
            <a:ext cx="87487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6633"/>
                </a:solidFill>
                <a:uFillTx/>
                <a:latin typeface="Comic Sans MS"/>
              </a:rPr>
              <a:t>Common names for some anions: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Carbonate    P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3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Phosphate      S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Sul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HC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Bicarbonate       N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Nitrate    S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Sulp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C8AC5-10FC-453C-8F60-274A35E384C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9" descr="02_02"/>
          <p:cNvPicPr/>
          <p:nvPr/>
        </p:nvPicPr>
        <p:blipFill>
          <a:blip r:embed="rId1"/>
          <a:srcRect l="0" t="5392" r="0" b="0"/>
          <a:stretch/>
        </p:blipFill>
        <p:spPr>
          <a:xfrm>
            <a:off x="360360" y="1905120"/>
            <a:ext cx="8388360" cy="296532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539640" y="62064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00"/>
                </a:solidFill>
                <a:latin typeface="Comic Sans MS"/>
              </a:rPr>
              <a:t>Monoatomic a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A62CD-D505-45D2-B511-E65673C020F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9" descr="02_03"/>
          <p:cNvPicPr/>
          <p:nvPr/>
        </p:nvPicPr>
        <p:blipFill>
          <a:blip r:embed="rId1"/>
          <a:srcRect l="0" t="2224" r="0" b="2126"/>
          <a:stretch/>
        </p:blipFill>
        <p:spPr>
          <a:xfrm>
            <a:off x="1577880" y="0"/>
            <a:ext cx="59882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35079-EC08-4B6A-A871-7F6E101DCAD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Example 2.5 p6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Name the following 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(a) Cu(NO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1. Cat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opper cation (can form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ypes of cat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ock system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pper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2. An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ion has a common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name of the compound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Copper (II) ni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12000" y="378936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41AFB-0A42-4BD1-A199-FB409D025B8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(b) KH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PO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1. Cat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K form only one type of 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tassium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te: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not potassium (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2. An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as a common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hydrogen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name of the compound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Potasium dihydroen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1A586-24A1-4FB9-B725-FD9C5061F26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2" descr="02_01"/>
          <p:cNvPicPr/>
          <p:nvPr/>
        </p:nvPicPr>
        <p:blipFill>
          <a:blip r:embed="rId1"/>
          <a:srcRect l="0" t="5427" r="0" b="0"/>
          <a:stretch/>
        </p:blipFill>
        <p:spPr>
          <a:xfrm>
            <a:off x="287280" y="765000"/>
            <a:ext cx="8748720" cy="29354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324000" y="4365720"/>
            <a:ext cx="823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mass p = mass n = 1840 x mass e</a:t>
            </a:r>
            <a:r>
              <a:rPr b="0" lang="en-US" sz="3200" spc="-1" strike="noStrike" baseline="30000">
                <a:solidFill>
                  <a:srgbClr val="cc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15A16-FA1C-470B-86EB-1D35320EF4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(c) NH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Cl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C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s a common name ammoni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An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s a common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lo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name of the compound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mmonium chlo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0920" y="6021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H.W. Solve the practice exercise p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EBD01-4812-4128-923B-3DCAE9A8C91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Example 2.6 p6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Write chemical formulas for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a) Mercury (I) nit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oman number (I) shows that mercury 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+1 charge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g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ite is a common name of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chemical formula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Hg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(NO</a:t>
            </a:r>
            <a:r>
              <a:rPr b="0" lang="ar-SA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FD321-7171-4534-820A-5F4D56340CF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79280" y="907920"/>
            <a:ext cx="8748720" cy="49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t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Mercury (Hg) is the only metal has this formula when it form cation with only one positive charg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Hg</a:t>
            </a:r>
            <a:r>
              <a:rPr b="0" lang="en-US" sz="3600" spc="-1" strike="noStrike" baseline="-25000">
                <a:solidFill>
                  <a:srgbClr val="666633"/>
                </a:solidFill>
                <a:latin typeface="Comic Sans MS"/>
              </a:rPr>
              <a:t>2</a:t>
            </a:r>
            <a:r>
              <a:rPr b="0" lang="en-US" sz="3600" spc="-1" strike="noStrike" baseline="30000">
                <a:solidFill>
                  <a:srgbClr val="666633"/>
                </a:solidFill>
                <a:latin typeface="Comic Sans MS"/>
              </a:rPr>
              <a:t>2+</a:t>
            </a: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 NOT Hg</a:t>
            </a:r>
            <a:r>
              <a:rPr b="0" lang="en-US" sz="3600" spc="-1" strike="noStrike" baseline="30000">
                <a:solidFill>
                  <a:srgbClr val="666633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The cation of two positive charges has the formula Hg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6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BF7BD-DAE3-4CE7-8B31-FF26B061BDF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b) Cesium sulp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sium Cs is in group 1A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lphide 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chemical formula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Cs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372360" y="177336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E107B-A671-4FB2-88BC-135B29CD303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(b) Calcium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ium Ca is in 2A C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osphate 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chemical formula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Ca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(P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0920" y="6021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H.W. Solve the practice exercise p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56360" y="177336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B3B5C-65BF-45C2-B3B8-1C3DF117E20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340000" y="549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n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16200000">
            <a:off x="4248000" y="-1143000"/>
            <a:ext cx="792000" cy="5472360"/>
          </a:xfrm>
          <a:custGeom>
            <a:avLst/>
            <a:gdLst>
              <a:gd name="textAreaLeft" fmla="*/ 0 w 792000"/>
              <a:gd name="textAreaRight" fmla="*/ 285840 w 792000"/>
              <a:gd name="textAreaTop" fmla="*/ 142560 h 5472360"/>
              <a:gd name="textAreaBottom" fmla="*/ 532980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920" y="1916280"/>
            <a:ext cx="460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Ionic Compou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Metal cation + Nonmetal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64000" y="1916280"/>
            <a:ext cx="39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olecula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Non-metal + non-me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etaliod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124000" y="3438360"/>
            <a:ext cx="5112000" cy="333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25572-7BB6-4823-8438-59835CEA917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441360" y="606600"/>
            <a:ext cx="85233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1" lang="en-US" sz="40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on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 further left in periodic table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 closest to bottom of group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124000" y="3438360"/>
            <a:ext cx="5112000" cy="333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8746D-2FCF-46EE-9DEE-C3581A277A1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539640" y="549360"/>
            <a:ext cx="8280360" cy="45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How can we name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Place the name of the first element in the formula first, and the second element is named by adding –ide at the last of th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763640" y="4054320"/>
          <a:ext cx="5832720" cy="2830680"/>
        </p:xfrm>
        <a:graphic>
          <a:graphicData uri="http://schemas.openxmlformats.org/drawingml/2006/table">
            <a:tbl>
              <a:tblPr/>
              <a:tblGrid>
                <a:gridCol w="1871640"/>
                <a:gridCol w="396108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ydrogen chlor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B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ydrogen brom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licone carb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6CFEB-108D-433A-8987-E6EFE7FEAEF4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468360" y="709560"/>
            <a:ext cx="784872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In the following cases: (one pair of elements form several different compoun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CO           C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S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         S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N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         N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How can we name these compou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D0EFD-97F1-4277-B159-5E880B09A17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24000" y="415800"/>
            <a:ext cx="648000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How can we name these compou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Also by placing the name of the first element in the formula first, and the second element is named by ad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–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ide at the last of th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+ By using of Greek prefixes to denote the number of atoms of each element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7" descr="02_04"/>
          <p:cNvPicPr/>
          <p:nvPr/>
        </p:nvPicPr>
        <p:blipFill>
          <a:blip r:embed="rId1"/>
          <a:srcRect l="5021" t="2087" r="4800" b="2087"/>
          <a:stretch/>
        </p:blipFill>
        <p:spPr>
          <a:xfrm>
            <a:off x="6877080" y="476280"/>
            <a:ext cx="2193840" cy="37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3E6F3-9D2B-449A-BEE4-5CBF36D77EF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685800" y="380880"/>
            <a:ext cx="79246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Use the following table and choose which of the species are </a:t>
            </a:r>
            <a:r>
              <a:rPr b="1" lang="en-US" sz="2800" spc="-1" strike="noStrike">
                <a:solidFill>
                  <a:srgbClr val="cc0066"/>
                </a:solidFill>
                <a:latin typeface="Comic Sans MS"/>
              </a:rPr>
              <a:t>neutral</a:t>
            </a: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14400" y="914400"/>
          <a:ext cx="6172200" cy="1219320"/>
        </p:xfrm>
        <a:graphic>
          <a:graphicData uri="http://schemas.openxmlformats.org/drawingml/2006/table">
            <a:tbl>
              <a:tblPr/>
              <a:tblGrid>
                <a:gridCol w="2468520"/>
                <a:gridCol w="617760"/>
                <a:gridCol w="617400"/>
                <a:gridCol w="617400"/>
                <a:gridCol w="615960"/>
                <a:gridCol w="617760"/>
                <a:gridCol w="617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ctrons (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protons (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neutrons (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Box 3"/>
          <p:cNvSpPr/>
          <p:nvPr/>
        </p:nvSpPr>
        <p:spPr>
          <a:xfrm>
            <a:off x="914400" y="2235240"/>
            <a:ext cx="5486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II and V                             C. II and 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V and V                              </a:t>
            </a:r>
            <a:r>
              <a:rPr b="0" lang="en-US" sz="1800" spc="-1" strike="noStrike">
                <a:solidFill>
                  <a:srgbClr val="4bacc6"/>
                </a:solidFill>
                <a:latin typeface="Comic Sans MS"/>
              </a:rPr>
              <a:t>D. I and 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762120" y="27813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Use the following table and choose which of the species are </a:t>
            </a: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negatively charged</a:t>
            </a: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14400" y="3578400"/>
          <a:ext cx="6172200" cy="1218960"/>
        </p:xfrm>
        <a:graphic>
          <a:graphicData uri="http://schemas.openxmlformats.org/drawingml/2006/table">
            <a:tbl>
              <a:tblPr/>
              <a:tblGrid>
                <a:gridCol w="2468520"/>
                <a:gridCol w="617760"/>
                <a:gridCol w="617400"/>
                <a:gridCol w="617400"/>
                <a:gridCol w="615960"/>
                <a:gridCol w="617760"/>
                <a:gridCol w="617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ctrons (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protons (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neutrons (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Box 7"/>
          <p:cNvSpPr/>
          <p:nvPr/>
        </p:nvSpPr>
        <p:spPr>
          <a:xfrm>
            <a:off x="990720" y="4863960"/>
            <a:ext cx="5486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II and V                             </a:t>
            </a:r>
            <a:r>
              <a:rPr b="0" lang="en-US" sz="1800" spc="-1" strike="noStrike">
                <a:solidFill>
                  <a:srgbClr val="4bacc6"/>
                </a:solidFill>
                <a:latin typeface="Comic Sans MS"/>
              </a:rPr>
              <a:t>C. II and I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V and V                              D. I and 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5373720"/>
            <a:ext cx="8424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Atoms with the </a:t>
            </a: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same number of electrons and number of protons</a:t>
            </a: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 are call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ons                                           B. isoto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omic Sans MS"/>
              </a:rPr>
              <a:t>C. neutral atoms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. different 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97038-91A4-442E-A8A3-06FDBEA0B2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539640" y="549360"/>
            <a:ext cx="20876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826920" y="1805040"/>
          <a:ext cx="6193080" cy="4719600"/>
        </p:xfrm>
        <a:graphic>
          <a:graphicData uri="http://schemas.openxmlformats.org/drawingml/2006/table">
            <a:tbl>
              <a:tblPr/>
              <a:tblGrid>
                <a:gridCol w="1810080"/>
                <a:gridCol w="43830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Monocarbon mono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→ </a:t>
                      </a:r>
                      <a:r>
                        <a:rPr b="0" lang="en-GB" sz="2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Carbon mon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ff"/>
                          </a:solidFill>
                          <a:latin typeface="Comic Sans MS"/>
                        </a:rPr>
                        <a:t>CO</a:t>
                      </a:r>
                      <a:r>
                        <a:rPr b="1" lang="en-US" sz="2800" spc="-1" strike="noStrike" baseline="-25000">
                          <a:solidFill>
                            <a:srgbClr val="9999ff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99ff"/>
                          </a:solidFill>
                          <a:latin typeface="Comic Sans MS"/>
                        </a:rPr>
                        <a:t>Carbon d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SO</a:t>
                      </a:r>
                      <a:r>
                        <a:rPr b="1" lang="en-US" sz="2800" spc="-1" strike="noStrike" baseline="-25000">
                          <a:solidFill>
                            <a:srgbClr val="0066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Sulphur d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SO</a:t>
                      </a:r>
                      <a:r>
                        <a:rPr b="1" lang="en-US" sz="28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Sulphur tr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33"/>
                          </a:solidFill>
                          <a:latin typeface="Comic Sans MS"/>
                        </a:rPr>
                        <a:t>NO</a:t>
                      </a:r>
                      <a:r>
                        <a:rPr b="1" lang="en-US" sz="2800" spc="-1" strike="noStrike" baseline="-25000">
                          <a:solidFill>
                            <a:srgbClr val="666633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6633"/>
                          </a:solidFill>
                          <a:latin typeface="Comic Sans MS"/>
                        </a:rPr>
                        <a:t>Nitrogen d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</a:t>
                      </a:r>
                      <a:r>
                        <a:rPr b="1" lang="en-US" sz="28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</a:t>
                      </a:r>
                      <a:r>
                        <a:rPr b="1" lang="en-US" sz="28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Dinitrogen tetr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1" name=""/>
          <p:cNvSpPr/>
          <p:nvPr/>
        </p:nvSpPr>
        <p:spPr>
          <a:xfrm>
            <a:off x="2484360" y="1844640"/>
            <a:ext cx="1150920" cy="432000"/>
          </a:xfrm>
          <a:prstGeom prst="wedgeRectCallout">
            <a:avLst>
              <a:gd name="adj1" fmla="val 4620"/>
              <a:gd name="adj2" fmla="val -1209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050920" y="765000"/>
            <a:ext cx="48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Note: Omitted if its in the first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999120" y="1916280"/>
            <a:ext cx="203688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te: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momo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o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372360" y="5508720"/>
            <a:ext cx="25207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te: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tetraoxide </a:t>
            </a:r>
            <a:r>
              <a:rPr b="0" lang="en-GB" sz="20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tetr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o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094AE-4B5E-4893-9A23-D2D00C642BA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Example 2.7 p6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Name the following molecular 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a) SiCl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ne silicon atom &amp; four chlorine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Monosilicon tetrachloride (or o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mo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Silicon </a:t>
            </a:r>
            <a:r>
              <a:rPr b="0" lang="en-GB" sz="4400" spc="-1" strike="noStrike">
                <a:solidFill>
                  <a:srgbClr val="9900cc"/>
                </a:solidFill>
                <a:latin typeface="Comic Sans MS"/>
              </a:rPr>
              <a:t>tetra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chlorid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B5D2A-B11F-4D63-B856-B5E84E507841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b) P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ur phosphourus atoms &amp; ten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Tetra</a:t>
            </a:r>
            <a:r>
              <a:rPr b="0" lang="en-GB" sz="4000" spc="-1" strike="noStrike">
                <a:solidFill>
                  <a:srgbClr val="a50021"/>
                </a:solidFill>
                <a:latin typeface="Comic Sans MS"/>
              </a:rPr>
              <a:t>phosphourus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dec</a:t>
            </a:r>
            <a:r>
              <a:rPr b="0" lang="en-GB" sz="4000" spc="-1" strike="noStrike">
                <a:solidFill>
                  <a:srgbClr val="a50021"/>
                </a:solidFill>
                <a:latin typeface="Comic Sans MS"/>
              </a:rPr>
              <a:t>ox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227640" y="3068640"/>
            <a:ext cx="203688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te: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dec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o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5DEA3-588F-4108-9DE5-F80AB64C99B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57200" y="433440"/>
            <a:ext cx="822960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xample 2.8 p6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Write chemical formulas for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molecular 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(a) carbon disulph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is one carbon atom &amp; two sulph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ms, Thus: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CS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(b) Disilicon hexabro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is two silicon atoms &amp; six bro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ms, Thus: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Br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39640" y="386064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58920" y="6021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H.W. Solve the practice exercise p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6E36C-D7F7-4615-9329-F640A7F63974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79280" y="981000"/>
            <a:ext cx="9145800" cy="51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1. Ioni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. Mole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Metal Cation                                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2. Non-metal A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Take the name of the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Common metal NH</a:t>
            </a:r>
            <a:r>
              <a:rPr b="0" lang="en-US" sz="20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Metal form one type of cation (1A, 2A, Ag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, Cd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, Al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3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, Zn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)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Metal form more than one type of cation (e.g.. Cr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&amp; Cr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3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Stock System 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 Roman numerals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(1 = I, 2 = II, 3 = III, 4 = IV, 5 = 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6200000">
            <a:off x="4572000" y="-243000"/>
            <a:ext cx="431640" cy="3743280"/>
          </a:xfrm>
          <a:custGeom>
            <a:avLst/>
            <a:gdLst>
              <a:gd name="textAreaLeft" fmla="*/ 0 w 431640"/>
              <a:gd name="textAreaRight" fmla="*/ 155880 w 43164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6200000">
            <a:off x="2916360" y="476280"/>
            <a:ext cx="576000" cy="4176720"/>
          </a:xfrm>
          <a:custGeom>
            <a:avLst/>
            <a:gdLst>
              <a:gd name="textAreaLeft" fmla="*/ 0 w 576000"/>
              <a:gd name="textAreaRight" fmla="*/ 208080 w 576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95280" y="38880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Naming Compounds: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68D46-96B3-4932-8E91-AF6B34CB9D94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79280" y="981000"/>
            <a:ext cx="8964720" cy="41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GB" sz="2000" spc="-1" strike="noStrike">
                <a:solidFill>
                  <a:srgbClr val="00007d"/>
                </a:solidFill>
                <a:latin typeface="Comic Sans MS"/>
              </a:rPr>
              <a:t>1. Ionic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2. Mole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2. Non-metal Anion                             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1. Metal 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ake the name of the element but change the last of the name to -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1. Common names, ClO</a:t>
            </a:r>
            <a:r>
              <a:rPr b="0" lang="en-GB" sz="20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6600"/>
                </a:solidFill>
                <a:latin typeface="Comic Sans MS"/>
              </a:rPr>
              <a:t>-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→</a:t>
            </a:r>
            <a:r>
              <a:rPr b="0" lang="ar-SA" sz="2000" spc="-1" strike="noStrike" baseline="30000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hlo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2. monoatomic non-metals, e.g. chlorine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hlor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3. Polyatoic non-metals, OH</a:t>
            </a:r>
            <a:r>
              <a:rPr b="0" lang="en-GB" sz="20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hydr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6200000">
            <a:off x="4572000" y="-243000"/>
            <a:ext cx="431640" cy="3743280"/>
          </a:xfrm>
          <a:custGeom>
            <a:avLst/>
            <a:gdLst>
              <a:gd name="textAreaLeft" fmla="*/ 0 w 431640"/>
              <a:gd name="textAreaRight" fmla="*/ 155880 w 43164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6200000">
            <a:off x="2916360" y="476280"/>
            <a:ext cx="576000" cy="4176720"/>
          </a:xfrm>
          <a:custGeom>
            <a:avLst/>
            <a:gdLst>
              <a:gd name="textAreaLeft" fmla="*/ 0 w 576000"/>
              <a:gd name="textAreaRight" fmla="*/ 208080 w 576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D4DA7-1DD8-4CB9-A6D7-10CF67D4504C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79280" y="981000"/>
            <a:ext cx="8964720" cy="46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2. Molecula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GB" sz="2000" spc="-1" strike="noStrike">
                <a:solidFill>
                  <a:srgbClr val="00007d"/>
                </a:solidFill>
                <a:latin typeface="Comic Sans MS"/>
              </a:rPr>
              <a:t>1. Io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0000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Pairs form one type of compound</a:t>
            </a:r>
            <a:r>
              <a:rPr b="0" lang="ar-SA" sz="18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     2. Pairs form several type   of compounds</a:t>
            </a:r>
            <a:r>
              <a:rPr b="0" lang="ar-SA" sz="18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Put the name of the first element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first and change the name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second element  but change the l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of the name to -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e.g. HCl Hydrogen chlor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6200000">
            <a:off x="4572000" y="-243000"/>
            <a:ext cx="431640" cy="3743280"/>
          </a:xfrm>
          <a:custGeom>
            <a:avLst/>
            <a:gdLst>
              <a:gd name="textAreaLeft" fmla="*/ 0 w 431640"/>
              <a:gd name="textAreaRight" fmla="*/ 155880 w 43164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2916360" y="476280"/>
            <a:ext cx="576000" cy="4176720"/>
          </a:xfrm>
          <a:custGeom>
            <a:avLst/>
            <a:gdLst>
              <a:gd name="textAreaLeft" fmla="*/ 0 w 576000"/>
              <a:gd name="textAreaRight" fmla="*/ 208080 w 576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00720" y="3141720"/>
            <a:ext cx="46432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Put the name of the first element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first and change the name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second element  but change the l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of the name to –ide, &amp; use the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Greek prefixes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(mono- = 1, di- = 2 ……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e.g. CO carbon mon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CO</a:t>
            </a:r>
            <a:r>
              <a:rPr b="0" lang="en-GB" sz="1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carbon di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0BC79-BB27-475A-94EF-D87261285744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2"/>
          <p:cNvSpPr/>
          <p:nvPr/>
        </p:nvSpPr>
        <p:spPr>
          <a:xfrm>
            <a:off x="611280" y="549360"/>
            <a:ext cx="78469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The correct name for NH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NO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 is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4bacc6"/>
                </a:solidFill>
                <a:latin typeface="Comic Sans MS"/>
              </a:rPr>
              <a:t>ammonium nit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mmonium nitrogen tri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mmonia nitrogen 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ydrogen nitrogen 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e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ydrogen nit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3"/>
          <p:cNvSpPr/>
          <p:nvPr/>
        </p:nvSpPr>
        <p:spPr>
          <a:xfrm>
            <a:off x="611280" y="3789360"/>
            <a:ext cx="78469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The correct name for PCl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 is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phosphate penta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hosphorus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loro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    monophosphate tetra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e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4bacc6"/>
                </a:solidFill>
                <a:latin typeface="Comic Sans MS"/>
              </a:rPr>
              <a:t>phosphorus penta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0796C-78EA-498E-BEA9-217815CC4A9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51" descr="02_11"/>
          <p:cNvPicPr/>
          <p:nvPr/>
        </p:nvPicPr>
        <p:blipFill>
          <a:blip r:embed="rId1"/>
          <a:srcRect l="0" t="3812" r="0" b="0"/>
          <a:stretch/>
        </p:blipFill>
        <p:spPr>
          <a:xfrm>
            <a:off x="0" y="476280"/>
            <a:ext cx="9144000" cy="39672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611280" y="379440"/>
            <a:ext cx="626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50021"/>
                </a:solidFill>
                <a:uFillTx/>
                <a:latin typeface="Comic Sans MS"/>
              </a:rPr>
              <a:t>التكافؤ او عدد الاكسد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50021"/>
                </a:solidFill>
                <a:uFillTx/>
                <a:latin typeface="Comic Sans MS"/>
              </a:rPr>
              <a:t> </a:t>
            </a:r>
            <a:r>
              <a:rPr b="1" lang="ar-SA" sz="3600" spc="-1" strike="noStrike" u="sng">
                <a:solidFill>
                  <a:srgbClr val="a50021"/>
                </a:solidFill>
                <a:uFillTx/>
                <a:latin typeface="Comic Sans MS"/>
              </a:rPr>
              <a:t>للعناصر الشهير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79280" y="4383000"/>
            <a:ext cx="8964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1A (alkaline Metals): 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2A (alkaline Earth Metals): 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3A: 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5A: -3 (= 5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6A: -2 (= 6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7A (halogens): -1 (= 7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17918-0C73-4DC7-B8AE-E1DB8395551C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71280" y="115920"/>
            <a:ext cx="8893440" cy="65786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979640" y="260280"/>
            <a:ext cx="367200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BE0A4-44BD-4011-A892-5297C24F5215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2280" y="1706400"/>
            <a:ext cx="8991720" cy="51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Atomic number: is the number of protons in the nucleus of each atom of an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tomic number (Z) = number of protons in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 a neutral atom: Number of protons = number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Mass number: is the total number of neutrons and protons present in the nucleus of an atom of an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Mass number (A) = number of protons + number of neutr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=  atomic number (Z) + number of neu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hus: the number of neutrons = A -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2040" y="404640"/>
            <a:ext cx="857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2.3 Atomic number, Mass number and Isot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106D6-5069-4CEB-B360-A06145E8CA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4920" y="423720"/>
            <a:ext cx="4968720" cy="69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9900cc"/>
                </a:solidFill>
                <a:uFillTx/>
                <a:latin typeface="Comic Sans MS"/>
              </a:rPr>
              <a:t>Problems: 2.57 &amp; 2.58 p73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ame these compound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a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Cr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K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HP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HB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Li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C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K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Cr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H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PF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PF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24000" y="371520"/>
            <a:ext cx="7488360" cy="65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sodium chro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potassium hydrogen phosph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hydrogen brom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lithium carbo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potassium dichro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ammonium nit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phosphorus triflour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phosphorus pentaflour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tetraphosphourus hexox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9E8FF-8F23-4CE5-894F-83D5862A65EE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95280" y="-531720"/>
            <a:ext cx="4681440" cy="66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dI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SrS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l(OH)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Na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FeCl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F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556000" y="-544680"/>
            <a:ext cx="6443640" cy="76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cadmium iod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strontium sul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aluminium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sodium carbon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iron (II)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iron (II)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iron (III) ox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EDF51-34FB-4EE0-AA4A-DA92CA028E5F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108000" y="549360"/>
            <a:ext cx="633564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Problem 2.59 &amp; 2.30 p7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Write the formulas for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Rubidium nit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otassium sulph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agnesium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alcium hydrogen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otassium dihydrogen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iodine heptaflou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56360" y="2421000"/>
            <a:ext cx="2987640" cy="41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RbN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K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Mg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(P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CaHP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KH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P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F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361A7-D78A-4165-B240-CBEAFF74CE11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468360" y="549360"/>
            <a:ext cx="8675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mmonium sul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silver perchlo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boron tri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pper (I) cyan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pper (II) cyan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lead (II) carbo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lead (IV) carbo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37080" y="1197000"/>
            <a:ext cx="2987640" cy="47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(N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gCl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BCl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CuC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Cu(CN)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PbC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Pb(C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42886-FC75-496F-AF75-501B657370B7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68360" y="2205000"/>
            <a:ext cx="4881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360AE-3E0A-43B0-BFD3-824E68259A7A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3688560" y="1430280"/>
            <a:ext cx="728280" cy="816840"/>
            <a:chOff x="3688560" y="1430280"/>
            <a:chExt cx="728280" cy="816840"/>
          </a:xfrm>
        </p:grpSpPr>
        <p:sp>
          <p:nvSpPr>
            <p:cNvPr id="129" name=""/>
            <p:cNvSpPr/>
            <p:nvPr/>
          </p:nvSpPr>
          <p:spPr>
            <a:xfrm>
              <a:off x="3967920" y="1503360"/>
              <a:ext cx="44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88560" y="143028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28520" y="1787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956240" y="2529000"/>
            <a:ext cx="4671360" cy="751680"/>
            <a:chOff x="1956240" y="2529000"/>
            <a:chExt cx="4671360" cy="751680"/>
          </a:xfrm>
        </p:grpSpPr>
        <p:grpSp>
          <p:nvGrpSpPr>
            <p:cNvPr id="133" name=""/>
            <p:cNvGrpSpPr/>
            <p:nvPr/>
          </p:nvGrpSpPr>
          <p:grpSpPr>
            <a:xfrm>
              <a:off x="1956240" y="2529000"/>
              <a:ext cx="718560" cy="751680"/>
              <a:chOff x="1956240" y="2529000"/>
              <a:chExt cx="718560" cy="751680"/>
            </a:xfrm>
          </p:grpSpPr>
          <p:sp>
            <p:nvSpPr>
              <p:cNvPr id="134" name=""/>
              <p:cNvSpPr/>
              <p:nvPr/>
            </p:nvSpPr>
            <p:spPr>
              <a:xfrm>
                <a:off x="2155680" y="2603520"/>
                <a:ext cx="51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956240" y="252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956240" y="2820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3299400" y="2529000"/>
              <a:ext cx="1481400" cy="751680"/>
              <a:chOff x="3299400" y="2529000"/>
              <a:chExt cx="1481400" cy="751680"/>
            </a:xfrm>
          </p:grpSpPr>
          <p:sp>
            <p:nvSpPr>
              <p:cNvPr id="138" name=""/>
              <p:cNvSpPr/>
              <p:nvPr/>
            </p:nvSpPr>
            <p:spPr>
              <a:xfrm>
                <a:off x="3534840" y="2602080"/>
                <a:ext cx="1245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H (D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323880" y="252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299400" y="2820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5194800" y="2529000"/>
              <a:ext cx="1432800" cy="751680"/>
              <a:chOff x="5194800" y="2529000"/>
              <a:chExt cx="1432800" cy="751680"/>
            </a:xfrm>
          </p:grpSpPr>
          <p:sp>
            <p:nvSpPr>
              <p:cNvPr id="142" name=""/>
              <p:cNvSpPr/>
              <p:nvPr/>
            </p:nvSpPr>
            <p:spPr>
              <a:xfrm>
                <a:off x="5460840" y="2602080"/>
                <a:ext cx="1166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H (T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219280" y="252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194800" y="2820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2434320" y="3564000"/>
            <a:ext cx="3139200" cy="751680"/>
            <a:chOff x="2434320" y="3564000"/>
            <a:chExt cx="3139200" cy="751680"/>
          </a:xfrm>
        </p:grpSpPr>
        <p:grpSp>
          <p:nvGrpSpPr>
            <p:cNvPr id="146" name=""/>
            <p:cNvGrpSpPr/>
            <p:nvPr/>
          </p:nvGrpSpPr>
          <p:grpSpPr>
            <a:xfrm>
              <a:off x="2434320" y="3564000"/>
              <a:ext cx="1104120" cy="751680"/>
              <a:chOff x="2434320" y="3564000"/>
              <a:chExt cx="1104120" cy="751680"/>
            </a:xfrm>
          </p:grpSpPr>
          <p:sp>
            <p:nvSpPr>
              <p:cNvPr id="147" name=""/>
              <p:cNvSpPr/>
              <p:nvPr/>
            </p:nvSpPr>
            <p:spPr>
              <a:xfrm>
                <a:off x="3024000" y="3600360"/>
                <a:ext cx="514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434320" y="3564000"/>
                <a:ext cx="70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3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593440" y="3855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469400" y="3564000"/>
              <a:ext cx="1104120" cy="751680"/>
              <a:chOff x="4469400" y="3564000"/>
              <a:chExt cx="1104120" cy="751680"/>
            </a:xfrm>
          </p:grpSpPr>
          <p:sp>
            <p:nvSpPr>
              <p:cNvPr id="151" name=""/>
              <p:cNvSpPr/>
              <p:nvPr/>
            </p:nvSpPr>
            <p:spPr>
              <a:xfrm>
                <a:off x="5059080" y="3600360"/>
                <a:ext cx="514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69400" y="3564000"/>
                <a:ext cx="70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3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628520" y="3855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1467360" y="1413000"/>
            <a:ext cx="2241000" cy="398880"/>
            <a:chOff x="1467360" y="1413000"/>
            <a:chExt cx="2241000" cy="398880"/>
          </a:xfrm>
        </p:grpSpPr>
        <p:sp>
          <p:nvSpPr>
            <p:cNvPr id="155" name=""/>
            <p:cNvSpPr/>
            <p:nvPr/>
          </p:nvSpPr>
          <p:spPr>
            <a:xfrm>
              <a:off x="1467360" y="1413000"/>
              <a:ext cx="192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Comic Sans MS"/>
                </a:rPr>
                <a:t>Mass Number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74840" y="1622160"/>
              <a:ext cx="53352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321200" y="1809720"/>
            <a:ext cx="2386800" cy="398880"/>
            <a:chOff x="1321200" y="1809720"/>
            <a:chExt cx="2386800" cy="398880"/>
          </a:xfrm>
        </p:grpSpPr>
        <p:sp>
          <p:nvSpPr>
            <p:cNvPr id="158" name=""/>
            <p:cNvSpPr/>
            <p:nvPr/>
          </p:nvSpPr>
          <p:spPr>
            <a:xfrm>
              <a:off x="1321200" y="1809720"/>
              <a:ext cx="21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Comic Sans MS"/>
                </a:rPr>
                <a:t>Atomic Numbe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74840" y="2020680"/>
              <a:ext cx="53316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406400" y="1639800"/>
            <a:ext cx="2596680" cy="398880"/>
            <a:chOff x="4406400" y="1639800"/>
            <a:chExt cx="2596680" cy="398880"/>
          </a:xfrm>
        </p:grpSpPr>
        <p:sp>
          <p:nvSpPr>
            <p:cNvPr id="161" name=""/>
            <p:cNvSpPr/>
            <p:nvPr/>
          </p:nvSpPr>
          <p:spPr>
            <a:xfrm>
              <a:off x="4893120" y="1639800"/>
              <a:ext cx="210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Comic Sans MS"/>
                </a:rPr>
                <a:t>Element Symb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406400" y="1836720"/>
              <a:ext cx="53316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42051-D03D-4EC3-BBB6-6318B98AEA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2280" y="692280"/>
            <a:ext cx="838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sotop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e atoms of the same element (X) with different numbers of neutrons in their nuc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943280" y="2276640"/>
            <a:ext cx="7200720" cy="32875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16000" y="3274920"/>
            <a:ext cx="24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Isotopes of Hyd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43280" y="5229360"/>
            <a:ext cx="6300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1 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1 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1 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0 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1 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2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0D399-81C8-48D5-9635-E9FA0BB4E3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07T12:28:57Z</dcterms:modified>
  <cp:revision>206</cp:revision>
  <dc:subject/>
  <dc:title>General Chemistry CHEM 110</dc:title>
</cp:coreProperties>
</file>