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23BC8-D368-404C-A460-7EA634B7F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CAF50-6962-4DFF-BB2C-4C1BEA1CA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72BBB-939A-453E-ADFD-521ABF9B8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D928E-F9C7-487E-8194-CBB13D23C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36298-20D3-42C1-8C5F-FED9EF14F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4C36A-5A22-4957-A142-625AFC3FB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5B46E-2B10-43D0-B2DA-B3280EE3D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437AE-DF3B-4835-BF02-6486BDCED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0EE11-D4EE-4D05-BFCB-7BC8CC98F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3113E-2F56-42EE-97F5-C967B20B1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270B6-5CE6-42A8-9D74-F76BCDA0B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F7950-1840-49FB-B45C-3EFEF6219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6F04A-1B5A-4F35-A880-D0FACBCA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81D9E-2253-43D5-BFFB-BAC6CADD3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53B1D-7630-40DC-BAD8-E4379BF39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B0F07-3D53-4B65-8720-ED49690A4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BAE52-D627-4C60-B384-C262E2925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97850-6FFA-458E-8BA7-5245B7D59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4EEEC-CDB0-413C-80A3-07E4B28D9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3E342-C07E-4CC5-8DCD-C3039C092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CA68F-C038-440F-A281-E45F23ED3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DD61A-B3EA-481D-B5EE-FBE9130C4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4EB24-CE8A-4BAE-A9EF-4A143A7D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83891-43E4-422B-8F46-AB7282CDA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5F287-34B0-4F38-BBA8-C57EF19838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13E98-6336-4D1C-915A-2423E50990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48416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Reactions in Aqueous Solution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2F79E-04E1-4FFD-87A8-F64607920C6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7d"/>
                </a:solidFill>
                <a:uFillTx/>
                <a:latin typeface="Comic Sans MS"/>
              </a:rPr>
              <a:t>4.5 Concentration of Solutions:</a:t>
            </a:r>
            <a:br>
              <a:rPr sz="4000"/>
            </a:br>
            <a:r>
              <a:rPr b="1" lang="en-GB" sz="4000" spc="-1" strike="noStrike" u="sng">
                <a:solidFill>
                  <a:srgbClr val="00007d"/>
                </a:solidFill>
                <a:uFillTx/>
                <a:latin typeface="Comic Sans MS"/>
              </a:rPr>
              <a:t>Dilution </a:t>
            </a:r>
            <a:r>
              <a:rPr b="1" lang="ar-SA" sz="4000" spc="-1" strike="noStrike" u="sng">
                <a:solidFill>
                  <a:srgbClr val="00007d"/>
                </a:solidFill>
                <a:uFillTx/>
                <a:latin typeface="Comic Sans MS"/>
              </a:rPr>
              <a:t>التخفي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9152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Dilution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s the procedure for pre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 less concentrated solution from a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centrated 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Dilution law: </a:t>
            </a: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قانون التخفيف</a:t>
            </a: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6300720" y="2637000"/>
            <a:ext cx="2523960" cy="3415320"/>
            <a:chOff x="6300720" y="2637000"/>
            <a:chExt cx="2523960" cy="341532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6300720" y="2637000"/>
              <a:ext cx="2523960" cy="201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6550200" y="4696920"/>
              <a:ext cx="2117160" cy="13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Two KMn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4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solutions of different concentr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826920" y="3645000"/>
                <a:ext cx="4392720" cy="11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684360" y="4797360"/>
            <a:ext cx="2209680" cy="647640"/>
          </a:xfrm>
          <a:prstGeom prst="borderCallout1">
            <a:avLst>
              <a:gd name="adj1" fmla="val -2033"/>
              <a:gd name="adj2" fmla="val -2541"/>
              <a:gd name="adj3" fmla="val 20483"/>
              <a:gd name="adj4" fmla="val -2541"/>
            </a:avLst>
          </a:prstGeom>
          <a:solidFill>
            <a:srgbClr val="9999ff"/>
          </a:solidFill>
          <a:ln w="316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قبل التخفي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98680" y="4869000"/>
            <a:ext cx="2210040" cy="647640"/>
          </a:xfrm>
          <a:prstGeom prst="borderCallout1">
            <a:avLst>
              <a:gd name="adj1" fmla="val -2033"/>
              <a:gd name="adj2" fmla="val -2541"/>
              <a:gd name="adj3" fmla="val 20483"/>
              <a:gd name="adj4" fmla="val -2541"/>
            </a:avLst>
          </a:prstGeom>
          <a:solidFill>
            <a:srgbClr val="9999ff"/>
          </a:solidFill>
          <a:ln w="316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عد التخفي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7040" y="6132600"/>
            <a:ext cx="820404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The units of V</a:t>
            </a:r>
            <a:r>
              <a:rPr b="0" lang="en-US" sz="2800" spc="-1" strike="noStrike" baseline="-25000">
                <a:solidFill>
                  <a:srgbClr val="0066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 &amp; V</a:t>
            </a:r>
            <a:r>
              <a:rPr b="0" lang="en-US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 must be the same (ml or 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E5760-A1BF-464A-87C3-FA28FFAB468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496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4.8 p1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How you would prepare 5.00 x 10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mL of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1.75 M H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SO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solution, starting with 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8.61 M stock solution of H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SO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8360" y="2565360"/>
            <a:ext cx="813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2637000"/>
            <a:ext cx="7056360" cy="25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1.75 M; V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5.00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8.61 M; V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611280" y="4508640"/>
                <a:ext cx="8064360" cy="19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 x </m:t>
                            </m:r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l</m:t>
                            </m:r>
                          </m:num>
                          <m:den>
                            <m:r>
                              <m:t xml:space="preserve">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2</m:t>
                        </m:r>
                        <m:r>
                          <m:rPr>
                            <m:lit/>
                            <m:nor/>
                          </m:rPr>
                          <m:t xml:space="preserve"> m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-25200" y="1320840"/>
            <a:ext cx="683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M</a:t>
            </a:r>
            <a:r>
              <a:rPr b="0" lang="en-US" sz="3200" spc="-1" strike="noStrike" baseline="-25000">
                <a:solidFill>
                  <a:srgbClr val="ff3399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45920" y="404640"/>
            <a:ext cx="55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V</a:t>
            </a:r>
            <a:r>
              <a:rPr b="0" lang="en-US" sz="3200" spc="-1" strike="noStrike" baseline="-25000">
                <a:solidFill>
                  <a:srgbClr val="ff3399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-46440" y="1965240"/>
            <a:ext cx="683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M</a:t>
            </a:r>
            <a:r>
              <a:rPr b="0" lang="en-US" sz="3200" spc="-1" strike="noStrike" baseline="-25000">
                <a:solidFill>
                  <a:srgbClr val="ff3399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DACDB-0B7C-4216-AFAF-80AD298956E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47640" y="2276640"/>
            <a:ext cx="6105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nd of Chapter 4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irst Exam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hapters 1, 2, 3, &amp;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7F0A0-360F-4D57-A1CC-E1C0D1EEEC5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92104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Chapter 4</a:t>
            </a:r>
            <a:br>
              <a:rPr sz="4000"/>
            </a:b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00007d"/>
                </a:solidFill>
                <a:latin typeface="Comic Sans MS"/>
              </a:rPr>
              <a:t>Reactions in Aqueous Solution </a:t>
            </a:r>
            <a:br>
              <a:rPr sz="3600"/>
            </a:br>
            <a:r>
              <a:rPr b="1" lang="en-GB" sz="3200" spc="-1" strike="noStrike">
                <a:solidFill>
                  <a:srgbClr val="00007d"/>
                </a:solidFill>
                <a:latin typeface="Comic Sans MS"/>
              </a:rPr>
              <a:t>Chang Pages 147-151</a:t>
            </a: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163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4.60, 4.62, 4.64, 4.66, 4.70, 4.74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5DCB6-BC34-47A7-B342-9C95A6A8BA4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4: </a:t>
            </a:r>
            <a:r>
              <a:rPr b="1" lang="en-US" sz="3600" spc="-1" strike="noStrike">
                <a:solidFill>
                  <a:srgbClr val="00007d"/>
                </a:solidFill>
                <a:latin typeface="Comic Sans MS"/>
              </a:rPr>
              <a:t>Reactions in Aqueous Solution: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4.5 Concentration of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Mola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Dilution of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2F1C6-5E43-4381-9302-8803BF3EB9D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28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4.5 Concentration of Solutions:</a:t>
            </a:r>
            <a:br>
              <a:rPr sz="3600"/>
            </a:b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Molarity</a:t>
            </a:r>
            <a:r>
              <a:rPr b="1" lang="en-GB" sz="4400" spc="-1" strike="noStrike" u="sng">
                <a:solidFill>
                  <a:srgbClr val="00007d"/>
                </a:solidFill>
                <a:uFillTx/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8236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The concentration of solution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is the amount of solute (solid or liquid) present in a given amount of solvent (liquid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most common unit to express the concentration is the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olar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olarity (M)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is the number of moles of solute per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litre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f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unit of molarity is mol/L = Molar =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348000" y="4221000"/>
                <a:ext cx="3548160" cy="163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olarity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oles of solute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iters of solution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C6223-4FCF-4AE3-849C-F4BFB8ED20B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7d"/>
                </a:solidFill>
                <a:uFillTx/>
                <a:latin typeface="Comic Sans MS"/>
              </a:rPr>
              <a:t>Questions in Mola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3419640" y="1101600"/>
                <a:ext cx="1439640" cy="117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1042920" y="2349360"/>
            <a:ext cx="684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42920" y="2349360"/>
            <a:ext cx="0" cy="79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11640" y="2349360"/>
            <a:ext cx="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883640" y="2349360"/>
            <a:ext cx="0" cy="79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920" y="3213000"/>
            <a:ext cx="2736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Given: n &amp; 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916360" y="3211560"/>
            <a:ext cx="28796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Given: n &amp;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227640" y="3257640"/>
            <a:ext cx="2737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Comic Sans MS"/>
              </a:rPr>
              <a:t>Given:  V &amp;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Comic Sans MS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195640" y="5516640"/>
                <a:ext cx="403200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M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9F272-17F3-4376-ABAE-07BD76566C1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213560" y="811080"/>
            <a:ext cx="66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paring a Solution of Known Concen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04_16"/>
          <p:cNvPicPr/>
          <p:nvPr/>
        </p:nvPicPr>
        <p:blipFill>
          <a:blip r:embed="rId1"/>
          <a:stretch/>
        </p:blipFill>
        <p:spPr>
          <a:xfrm>
            <a:off x="228600" y="1989000"/>
            <a:ext cx="8686800" cy="3276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4E24A-24ED-41F1-8C8B-D8EFE8E5492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000" y="333000"/>
            <a:ext cx="8496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4.6 p148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ow many grams of potassium dichro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(K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r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7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) are required to prepare a 2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ml solution whose concentration is 2.16 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8360" y="2637000"/>
            <a:ext cx="86756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V = 250 ml = 250 ml/1000 = 0.25 L; M = 2.16 mol/L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059280" y="4143240"/>
                <a:ext cx="5976720" cy="26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 mol/L x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 L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 mol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xMM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rPr>
                            <m:lit/>
                            <m:nor/>
                          </m:rPr>
                          <m:t xml:space="preserve"> mol x 29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 g/mol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9 g of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468360" y="2565360"/>
            <a:ext cx="813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7A108-B87A-4D9D-AFE6-2B758BDCD3C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68000" y="333000"/>
            <a:ext cx="8496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4.7 p149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In a biochemical assay, a chemist needs to ad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3.81 g of glucose to a reaction mixture. Calcu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the volume in milliteres of a 2.53 M gluc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solution she should use for the add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8360" y="2921040"/>
            <a:ext cx="86756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m = 3.81 g ; M = 2.53 mol/L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 (L)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(m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2924280"/>
            <a:ext cx="813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1943280" y="4149720"/>
                <a:ext cx="6876720" cy="259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1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/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L x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 m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3372E-0120-4ACE-9242-97A3DE3B2EB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3656160" y="2500200"/>
            <a:ext cx="1752480" cy="856080"/>
            <a:chOff x="3656160" y="2500200"/>
            <a:chExt cx="1752480" cy="856080"/>
          </a:xfrm>
        </p:grpSpPr>
        <p:sp>
          <p:nvSpPr>
            <p:cNvPr id="136" name=""/>
            <p:cNvSpPr/>
            <p:nvPr/>
          </p:nvSpPr>
          <p:spPr>
            <a:xfrm>
              <a:off x="3656160" y="2917440"/>
              <a:ext cx="175248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05280" y="2500200"/>
              <a:ext cx="119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ilu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733200" y="2957400"/>
              <a:ext cx="155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99cc"/>
                  </a:solidFill>
                  <a:latin typeface="Arial"/>
                </a:rPr>
                <a:t>Add Solv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2678040" cy="32572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637240" y="1052640"/>
            <a:ext cx="2914560" cy="3390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05D14-CD18-4150-9E71-77FE7AA4656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0-07T12:27:27Z</dcterms:modified>
  <cp:revision>500</cp:revision>
  <dc:subject/>
  <dc:title>General Chemistry CHEM 110</dc:title>
</cp:coreProperties>
</file>