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51675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052400" cy="86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353600" y="650520"/>
            <a:ext cx="4343400" cy="32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82D3-4AB1-4A49-A471-18D7C89079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ED5C-B4D5-4C39-BD16-D91B65728B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F575-76E7-4BAB-87FC-CB81238EA1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2B61-7EAA-4327-808B-9C1DAB65BE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0178-29DA-4B0A-80A1-A301AD67D5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D0E7-6CED-4816-9A9A-3127AC85CE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DB1F-CF95-4980-8C70-F9D5D30913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6BDB-E5D5-4C9B-8B82-0E2E20BF98B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3DF7-22FB-42A0-A3A0-2C926342BC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E4C6-2103-461D-9E60-F78506CB37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5A60-14EA-4005-A0E3-72AEB0D723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2CE2-BCB6-4F88-801D-702EE5C5AE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E41E-05A3-4D20-A9B8-5181908FC5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1F546-1165-4C31-8D30-0E7F3710F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BD4FE-35AC-4D09-A1A8-45C9353E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40E43-7764-4BEE-A8C7-85E93C5F2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AD98F-79C5-49D8-80FE-1E7CF1892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C6C59-B9D1-4562-89A0-98934971F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3FBF0-DBFA-44F8-8892-552D4DF4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618AD-68C5-4762-93C6-E2999C03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FEE7-1AA5-4791-AE5D-7F0CBD48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65CE-0C8F-4EE8-AE16-39AAB3B2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4A6F3-CC1D-4960-882B-B85DFFB8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9545-0715-4197-9115-56073AA4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7332A-1910-4482-81EF-9B6B1B82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E174-5C85-4B57-A18D-348D0392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E876-FCD2-4F20-8D85-CBB51B68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41890-D75E-4843-A1CE-891FA4F3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9332-C3F2-40E9-9BF3-3579E4283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E1F2-0085-4399-B862-ED2F6F088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90892-5A09-4F8D-B88D-3DB3C8B2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D9B5B-6AC1-451B-8F0C-C907ABD7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F8F68-C73D-42D1-8BEE-FFFECED5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F35A0-B2EA-4FBB-9090-533A9992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DE98D-CDD8-4E09-A00D-EF9C7AF7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81A1F-0224-475F-B156-32E590E6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ED140-39E6-4405-A104-26632943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E450-DAA2-4A27-BD79-E3310AADA7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F45E-EEEB-466A-AAB1-7396C50490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Chapter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The Study of Change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E547-719A-448F-BACB-9DF8EF13A69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Physical or Chem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physical chang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oes not change the composition or identity of a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.g. ice melting or salt dissolving in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chemical chang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hanges the composition or identity of the substance/s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.g. hydrogen burn in air to form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219320" y="4876920"/>
            <a:ext cx="6476760" cy="1981080"/>
            <a:chOff x="1219320" y="4876920"/>
            <a:chExt cx="6476760" cy="198108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rcRect l="0" t="13748" r="0" b="0"/>
            <a:stretch/>
          </p:blipFill>
          <p:spPr>
            <a:xfrm>
              <a:off x="4046040" y="4876920"/>
              <a:ext cx="365004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219320" y="5564880"/>
              <a:ext cx="240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ydrogen burns in air to form wa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A5AFE-922B-4A33-9891-A0CCDC1703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8"/>
          <p:cNvSpPr/>
          <p:nvPr/>
        </p:nvSpPr>
        <p:spPr>
          <a:xfrm>
            <a:off x="457200" y="36504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Measurements and Un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380880" y="1371600"/>
            <a:ext cx="83822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easurements of Macroscopic Prope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croscopic Properties: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e.g.: length, weight, temperature, volu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2ACD0-7719-4DF0-BD04-3C053B71A8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5"/>
          <p:cNvSpPr/>
          <p:nvPr/>
        </p:nvSpPr>
        <p:spPr>
          <a:xfrm>
            <a:off x="304920" y="4572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SI Units: International System of Un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16000" y="1916280"/>
            <a:ext cx="8748720" cy="3531960"/>
          </a:xfrm>
          <a:prstGeom prst="rect">
            <a:avLst/>
          </a:prstGeom>
          <a:ln w="2844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EFC0D-B677-4932-8F36-5F4F0046D7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Content Placeholder 3"/>
          <p:cNvSpPr/>
          <p:nvPr/>
        </p:nvSpPr>
        <p:spPr>
          <a:xfrm>
            <a:off x="228600" y="1371600"/>
            <a:ext cx="4800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SI unit of mas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The p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The 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c) The kil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 The m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57200" y="38088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ontent Placeholder 3"/>
          <p:cNvSpPr/>
          <p:nvPr/>
        </p:nvSpPr>
        <p:spPr>
          <a:xfrm>
            <a:off x="4648320" y="137160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Kg is the SI unit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b)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 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8F897-B6F0-49DB-BFDA-2D5832C1DA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95" descr="01_03"/>
          <p:cNvPicPr/>
          <p:nvPr/>
        </p:nvPicPr>
        <p:blipFill>
          <a:blip r:embed="rId1"/>
          <a:srcRect l="0" t="3312" r="0" b="0"/>
          <a:stretch/>
        </p:blipFill>
        <p:spPr>
          <a:xfrm>
            <a:off x="228600" y="1297080"/>
            <a:ext cx="8686800" cy="4730760"/>
          </a:xfrm>
          <a:prstGeom prst="rect">
            <a:avLst/>
          </a:prstGeom>
          <a:ln w="28440">
            <a:solidFill>
              <a:srgbClr val="800000"/>
            </a:solidFill>
            <a:prstDash val="dash"/>
            <a:miter/>
          </a:ln>
        </p:spPr>
      </p:pic>
      <p:sp>
        <p:nvSpPr>
          <p:cNvPr id="151" name="Right Arrow 5"/>
          <p:cNvSpPr/>
          <p:nvPr/>
        </p:nvSpPr>
        <p:spPr>
          <a:xfrm>
            <a:off x="380880" y="3809880"/>
            <a:ext cx="5943600" cy="76320"/>
          </a:xfrm>
          <a:prstGeom prst="rightArrow">
            <a:avLst>
              <a:gd name="adj1" fmla="val 50000"/>
              <a:gd name="adj2" fmla="val 49755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4343400" y="3276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Up Arrow 7"/>
          <p:cNvSpPr/>
          <p:nvPr/>
        </p:nvSpPr>
        <p:spPr>
          <a:xfrm flipH="1">
            <a:off x="5105520" y="2438280"/>
            <a:ext cx="411120" cy="1295640"/>
          </a:xfrm>
          <a:prstGeom prst="upArrow">
            <a:avLst>
              <a:gd name="adj1" fmla="val 50000"/>
              <a:gd name="adj2" fmla="val 50015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Down Arrow 9"/>
          <p:cNvSpPr/>
          <p:nvPr/>
        </p:nvSpPr>
        <p:spPr>
          <a:xfrm>
            <a:off x="5105520" y="4038480"/>
            <a:ext cx="380880" cy="152424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380880" y="30492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Prefi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4A16D-04CA-439E-B4FF-3EDD745F77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76320" y="1295280"/>
            <a:ext cx="90676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SI prefixes giga- and micro represent, respectively: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(d)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10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9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380880" y="44136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4BB8D-03DA-4531-A0C5-57190C402B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Units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99cc"/>
                </a:solidFill>
                <a:latin typeface="Comic Sans MS"/>
              </a:rPr>
              <a:t>Prefix </a:t>
            </a:r>
            <a:r>
              <a:rPr b="0" lang="en-US" sz="3200" spc="-1" strike="noStrike">
                <a:solidFill>
                  <a:srgbClr val="9999cc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9999cc"/>
                </a:solidFill>
                <a:latin typeface="Comic Sans MS"/>
              </a:rPr>
              <a:t>Base Unit  (e.g. km → 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ase Uni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Prefix (e.g. m → k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Prefix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 Prefix (e.g. km → n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00996-3B5E-4EE2-A387-306B0D08417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Units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Prefix </a:t>
            </a:r>
            <a:r>
              <a:rPr b="0" lang="en-GB" sz="2800" spc="-1" strike="noStrike">
                <a:solidFill>
                  <a:srgbClr val="9999cc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Base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e.g. 6km → ?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6 x 10</a:t>
            </a:r>
            <a:r>
              <a:rPr b="0" lang="en-GB" sz="2800" spc="-1" strike="noStrike" baseline="30000">
                <a:solidFill>
                  <a:srgbClr val="9999cc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 m (km is 10</a:t>
            </a:r>
            <a:r>
              <a:rPr b="0" lang="en-GB" sz="2800" spc="-1" strike="noStrike" baseline="30000">
                <a:solidFill>
                  <a:srgbClr val="9999cc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 m from th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of prefi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Base Uni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Prefi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e.g. 6m → ? k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6 x 10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-3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m (m is 10</a:t>
            </a:r>
            <a:r>
              <a:rPr b="0" lang="ar-SA" sz="28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km (reverse the power sign from the table of prefi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Prefix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→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Prefi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e.g. 6 km → ?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6 x 1</a:t>
            </a:r>
            <a:r>
              <a:rPr b="0" lang="ar-SA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3 </a:t>
            </a:r>
            <a:r>
              <a:rPr b="1" lang="en-GB" sz="2800" spc="-1" strike="noStrike" baseline="30000">
                <a:solidFill>
                  <a:srgbClr val="008000"/>
                </a:solidFill>
                <a:latin typeface="Comic Sans MS"/>
              </a:rPr>
              <a:t>-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 (-9)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nm = 6 x 10</a:t>
            </a:r>
            <a:r>
              <a:rPr b="0" lang="ar-SA" sz="2800" spc="-1" strike="noStrike" baseline="30000">
                <a:solidFill>
                  <a:srgbClr val="008000"/>
                </a:solidFill>
                <a:latin typeface="Comic Sans MS"/>
              </a:rPr>
              <a:t>-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nm (km is 1</a:t>
            </a:r>
            <a:r>
              <a:rPr b="0" lang="ar-SA" sz="2800" spc="-1" strike="noStrike">
                <a:solidFill>
                  <a:srgbClr val="008000"/>
                </a:solidFill>
                <a:latin typeface="Comic Sans MS"/>
              </a:rPr>
              <a:t>0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m put negative sign (the nm is 10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-9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m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4D048-58ED-4EDF-A24E-52A09229D3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Content Placeholder 1"/>
          <p:cNvSpPr/>
          <p:nvPr/>
        </p:nvSpPr>
        <p:spPr>
          <a:xfrm>
            <a:off x="380880" y="1219320"/>
            <a:ext cx="76201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ow many microseconds are in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 secon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(d) 1 x 10 </a:t>
            </a:r>
            <a:r>
              <a:rPr b="0" lang="en-US" sz="2800" spc="-1" strike="noStrike" baseline="30000">
                <a:solidFill>
                  <a:srgbClr val="cccce6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380880" y="30492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C24C8-C5B1-4AFA-8B04-EA46A94C54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Content Placeholder 1"/>
          <p:cNvSpPr/>
          <p:nvPr/>
        </p:nvSpPr>
        <p:spPr>
          <a:xfrm>
            <a:off x="380880" y="685800"/>
            <a:ext cx="83059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of the following is the small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st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 21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2.1 x 10</a:t>
            </a:r>
            <a:r>
              <a:rPr b="0" lang="pl-PL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 21 m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d) 2.1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Put all of them in the same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78781-64D3-4D52-AB7E-AED030582DB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0" y="990720"/>
            <a:ext cx="8964720" cy="44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omic Sans MS"/>
              </a:rPr>
              <a:t>Course Code/Numb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hem 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omic Sans MS"/>
              </a:rPr>
              <a:t>Course Instruct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r. Nuha Wazz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Assistant Professor of Physical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Office: Building 7 /2</a:t>
            </a:r>
            <a:r>
              <a:rPr b="1" lang="en-GB" sz="28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Floor/ Office 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omic Sans MS"/>
              </a:rPr>
              <a:t>Office hours: S.M.W.. 12-1 &amp; ...T.. 9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ebsite: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wazzan.kau.edu.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mail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em110_nwazzan@hot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AF7E6-C599-4757-8681-9F94D498E8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Content Placeholder 1"/>
          <p:cNvSpPr/>
          <p:nvPr/>
        </p:nvSpPr>
        <p:spPr>
          <a:xfrm>
            <a:off x="304920" y="609480"/>
            <a:ext cx="8229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of the following is the small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st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 21 m   →  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21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2.1 x 10</a:t>
            </a:r>
            <a:r>
              <a:rPr b="0" lang="pl-PL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→  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2.1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 21 mm →  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0.021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d) 2.1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m →  </a:t>
            </a: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2.1 x 10</a:t>
            </a:r>
            <a:r>
              <a:rPr b="1" lang="en-US" sz="2800" spc="-1" strike="noStrike" baseline="30000">
                <a:solidFill>
                  <a:srgbClr val="0070c0"/>
                </a:solidFill>
                <a:latin typeface="Comic Sans MS"/>
              </a:rPr>
              <a:t>-8</a:t>
            </a: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Put all of them in the same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3232"/>
                </a:solidFill>
                <a:latin typeface="Comic Sans MS"/>
              </a:rPr>
              <a:t>Explanation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en though 2.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rgest number in this question, the units of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picometers) are the smallest units he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ing it the smallest di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B8619-7E05-4D08-93F2-B2EEB68C8E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04560" y="457200"/>
            <a:ext cx="845820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diameter of an atom is approximately 1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</a:rPr>
              <a:t>-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m. What is this diameter when expressed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anometers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8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  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(d)</a:t>
            </a: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cccce6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cccce6"/>
                </a:solidFill>
                <a:latin typeface="Comic Sans MS"/>
              </a:rPr>
              <a:t>-1</a:t>
            </a: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1E2E9-5559-40A7-B4A0-D354819CF5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04920" y="457200"/>
            <a:ext cx="807696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H.W.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Which of these quantities represents the largest mass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0.0010 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(d)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2.0 </a:t>
            </a:r>
            <a:r>
              <a:rPr b="0" lang="en-US" sz="2800" spc="-1" strike="noStrike">
                <a:solidFill>
                  <a:srgbClr val="666699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666699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 c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Put all of them in the same un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F299D-DDB4-497F-97AB-A3A30276BBD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228240" y="1066320"/>
            <a:ext cx="6629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Mass: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s the measure of the amount of matter in an objec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b050"/>
                </a:solidFill>
                <a:latin typeface="Comic Sans MS"/>
              </a:rPr>
              <a:t>SI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unit of mass is the 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kilogram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(kg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1 kg = 1000 g = 1 x 10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Weight: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is the measurement of the pull of gravity on an objec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700" spc="-1" strike="noStrike">
                <a:solidFill>
                  <a:srgbClr val="00b050"/>
                </a:solidFill>
                <a:latin typeface="Comic Sans MS"/>
              </a:rPr>
              <a:t>Mass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an object doesn't change when an object's location changes. </a:t>
            </a:r>
            <a:r>
              <a:rPr b="1" lang="en-US" sz="2700" spc="-1" strike="noStrike">
                <a:solidFill>
                  <a:srgbClr val="00b050"/>
                </a:solidFill>
                <a:latin typeface="Comic Sans MS"/>
              </a:rPr>
              <a:t>Weight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, on the other hand does change with location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hemist are interested primarily in </a:t>
            </a:r>
            <a:r>
              <a:rPr b="1" lang="en-US" sz="2700" spc="-1" strike="noStrike">
                <a:solidFill>
                  <a:srgbClr val="00b050"/>
                </a:solidFill>
                <a:latin typeface="Comic Sans MS"/>
              </a:rPr>
              <a:t>mass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01_03"/>
          <p:cNvPicPr/>
          <p:nvPr/>
        </p:nvPicPr>
        <p:blipFill>
          <a:blip r:embed="rId1"/>
          <a:srcRect l="0" t="0" r="20710" b="0"/>
          <a:stretch/>
        </p:blipFill>
        <p:spPr>
          <a:xfrm>
            <a:off x="6781680" y="533520"/>
            <a:ext cx="2133720" cy="20872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1600200" y="37339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d3232"/>
                </a:solidFill>
                <a:latin typeface="Comic Sans MS"/>
              </a:rPr>
              <a:t>weight = </a:t>
            </a:r>
            <a:r>
              <a:rPr b="0" i="1" lang="en-US" sz="2800" spc="-1" strike="noStrike">
                <a:solidFill>
                  <a:srgbClr val="9d3232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9d3232"/>
                </a:solidFill>
                <a:latin typeface="Comic Sans MS"/>
              </a:rPr>
              <a:t> x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791320" y="34290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d3232"/>
                </a:solidFill>
                <a:latin typeface="Comic Sans MS"/>
              </a:rPr>
              <a:t>The weight of man on earth is 5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u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d3232"/>
                </a:solidFill>
                <a:latin typeface="Comic Sans MS"/>
              </a:rPr>
              <a:t>is 8.25 pounds on mo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380880" y="3808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Mass and 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09A7B-E411-45EA-9B88-D43F7F242D8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04560" y="1295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I Derived Unit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re defined in terms of the seven base quantities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vi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 system of quantity equ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Are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dth x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it of width = 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it of length = 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it of Area = m× m 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5267160" y="4648320"/>
            <a:ext cx="366912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eat units like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304920" y="38088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SI Derived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/>
          <p:cNvSpPr/>
          <p:nvPr/>
        </p:nvSpPr>
        <p:spPr>
          <a:xfrm>
            <a:off x="3276720" y="5638680"/>
            <a:ext cx="3276360" cy="990720"/>
          </a:xfrm>
          <a:prstGeom prst="wedgeRectCallout">
            <a:avLst>
              <a:gd name="adj1" fmla="val -3050"/>
              <a:gd name="adj2" fmla="val -10176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 derived unit fo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9"/>
          <p:cNvSpPr/>
          <p:nvPr/>
        </p:nvSpPr>
        <p:spPr>
          <a:xfrm>
            <a:off x="5257800" y="3657600"/>
            <a:ext cx="2590920" cy="609480"/>
          </a:xfrm>
          <a:prstGeom prst="wedgeRectCallout">
            <a:avLst>
              <a:gd name="adj1" fmla="val -90504"/>
              <a:gd name="adj2" fmla="val 1900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 Base un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86200" y="3733920"/>
            <a:ext cx="304920" cy="685800"/>
          </a:xfrm>
          <a:custGeom>
            <a:avLst/>
            <a:gdLst>
              <a:gd name="textAreaLeft" fmla="*/ 0 w 304920"/>
              <a:gd name="textAreaRight" fmla="*/ 110160 w 3049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DC35A-79F0-43A0-9BBD-E0F46376308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3"/>
          <p:cNvSpPr/>
          <p:nvPr/>
        </p:nvSpPr>
        <p:spPr>
          <a:xfrm>
            <a:off x="2743200" y="414360"/>
            <a:ext cx="6629400" cy="42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Volume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olume = width × length × heig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m × m × m = 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050280" y="4114800"/>
            <a:ext cx="562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1 cm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= (1 x 10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-2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m)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= 1 x 10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-6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m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092400" y="4724280"/>
            <a:ext cx="566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1 dm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= (1 x 10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-1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m)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= 1 x 10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-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m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2728800" cy="495288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9"/>
          <p:cNvSpPr/>
          <p:nvPr/>
        </p:nvSpPr>
        <p:spPr>
          <a:xfrm>
            <a:off x="3581280" y="2590920"/>
            <a:ext cx="5181840" cy="990360"/>
          </a:xfrm>
          <a:prstGeom prst="wedgeRectCallout">
            <a:avLst>
              <a:gd name="adj1" fmla="val 6708"/>
              <a:gd name="adj2" fmla="val -9599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bic meter (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is the SI derived unit for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6FCD9-436C-4F4B-A6CE-07664678108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3"/>
          <p:cNvSpPr/>
          <p:nvPr/>
        </p:nvSpPr>
        <p:spPr>
          <a:xfrm>
            <a:off x="266760" y="338040"/>
            <a:ext cx="9029520" cy="64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Volu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on  unit of volume is liter (L) and milliliter (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lation ship between liter (L) and m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1L= 1000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lation ship between liter (L) and metric syste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1 L = 1dm</a:t>
            </a:r>
            <a:r>
              <a:rPr b="1" lang="en-US" sz="2800" spc="-1" strike="noStrike" baseline="30000">
                <a:solidFill>
                  <a:srgbClr val="008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ff0000"/>
                </a:solidFill>
                <a:latin typeface="Comic Sans MS"/>
              </a:rPr>
              <a:t>A liter: is the volume occupied by one cubic decimeter</a:t>
            </a:r>
            <a:r>
              <a:rPr b="1" lang="en-GB" sz="4400" spc="-1" strike="noStrike" baseline="30000">
                <a:solidFill>
                  <a:srgbClr val="ff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lation ship between milliliter (ml) and metric syste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1 mL = 1cm</a:t>
            </a:r>
            <a:r>
              <a:rPr b="1" lang="en-US" sz="2800" spc="-1" strike="noStrike" baseline="30000">
                <a:solidFill>
                  <a:srgbClr val="008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0FFAE-E953-4666-9D4A-747BB4748CD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0456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How many cubic centimeters are there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exactly one cubic meter?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 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-6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Comic Sans MS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omic Sans MS"/>
              </a:rPr>
              <a:t>1 </a:t>
            </a:r>
            <a:r>
              <a:rPr b="0" lang="en-US" sz="3000" spc="-1" strike="noStrike">
                <a:solidFill>
                  <a:srgbClr val="0070c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70c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70c0"/>
                </a:solidFill>
                <a:latin typeface="Comic Sans MS"/>
              </a:rPr>
              <a:t>6</a:t>
            </a:r>
            <a:r>
              <a:rPr b="0" lang="en-US" sz="3000" spc="-1" strike="noStrike">
                <a:solidFill>
                  <a:srgbClr val="0070c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70c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Comic Sans MS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50"/>
                </a:solidFill>
                <a:latin typeface="Comic Sans MS"/>
              </a:rPr>
              <a:t>Sol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1m 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= (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= 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380880" y="3808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B4697-9EC6-4A8B-8AD4-3ADEE9976F6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-360" y="1066320"/>
            <a:ext cx="6172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ensity: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the amount of matter in a given amount of sp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omic Sans MS"/>
              </a:rPr>
              <a:t>             </a:t>
            </a:r>
            <a:r>
              <a:rPr b="0" lang="en-US" sz="3600" spc="-1" strike="noStrike">
                <a:solidFill>
                  <a:srgbClr val="00b0f0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omic Sans MS"/>
              </a:rPr>
              <a:t>SI derived unit for density is kg/m</a:t>
            </a:r>
            <a:r>
              <a:rPr b="1" lang="en-US" sz="3600" spc="-1" strike="noStrike" baseline="30000">
                <a:solidFill>
                  <a:srgbClr val="00b05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8"/>
          <p:cNvGrpSpPr/>
          <p:nvPr/>
        </p:nvGrpSpPr>
        <p:grpSpPr>
          <a:xfrm>
            <a:off x="995400" y="3048120"/>
            <a:ext cx="3034800" cy="779760"/>
            <a:chOff x="995400" y="3048120"/>
            <a:chExt cx="3034800" cy="779760"/>
          </a:xfrm>
        </p:grpSpPr>
        <p:sp>
          <p:nvSpPr>
            <p:cNvPr id="189" name="Text Box 4"/>
            <p:cNvSpPr/>
            <p:nvPr/>
          </p:nvSpPr>
          <p:spPr>
            <a:xfrm>
              <a:off x="995400" y="3229200"/>
              <a:ext cx="155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density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5"/>
            <p:cNvSpPr/>
            <p:nvPr/>
          </p:nvSpPr>
          <p:spPr>
            <a:xfrm>
              <a:off x="2833200" y="3048120"/>
              <a:ext cx="92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ma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6"/>
            <p:cNvSpPr/>
            <p:nvPr/>
          </p:nvSpPr>
          <p:spPr>
            <a:xfrm>
              <a:off x="2680920" y="336816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volu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7"/>
            <p:cNvSpPr/>
            <p:nvPr/>
          </p:nvSpPr>
          <p:spPr>
            <a:xfrm>
              <a:off x="2734920" y="3438000"/>
              <a:ext cx="1295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80880" y="3492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Den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019920" y="609480"/>
            <a:ext cx="300168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7B864-3B8A-441C-8B7D-E74ADB0C633E}" type="slidenum">
              <a:t>28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Comic Sans MS"/>
              </a:rPr>
              <a:t>Density decrease with temp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700e2a"/>
                </a:solidFill>
                <a:latin typeface="Comic Sans MS"/>
              </a:rPr>
              <a:t>g/ml  &amp; </a:t>
            </a:r>
            <a:r>
              <a:rPr b="0" lang="ar-SA" sz="3600" spc="-1" strike="noStrike">
                <a:solidFill>
                  <a:srgbClr val="700e2a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700e2a"/>
                </a:solidFill>
                <a:latin typeface="Comic Sans MS"/>
              </a:rPr>
              <a:t>g/cm</a:t>
            </a:r>
            <a:r>
              <a:rPr b="0" lang="en-US" sz="3600" spc="-1" strike="noStrike" baseline="30000">
                <a:solidFill>
                  <a:srgbClr val="700e2a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700e2a"/>
                </a:solidFill>
                <a:latin typeface="Comic Sans MS"/>
              </a:rPr>
              <a:t> for liquid and sol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g/L = 0.001 g/ml for gases (Because density of gases are very low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77B50-AD81-4E5E-86A3-D5CB3E143DB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Required Textbook and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457200" y="2209680"/>
            <a:ext cx="6095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hemis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By: R. Chang, 10</a:t>
            </a:r>
            <a:r>
              <a:rPr b="0" lang="en-GB" sz="36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 editio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cGraw Hill interna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Handouts (PPt slid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i_vv4-0" descr="http://i.ebayimg.com/21/!B)7q8lQ!Wk~$(KGrHqEOKnQEw8ojvO2CBMPkKfyHb!~~_12.JPG"/>
          <p:cNvPicPr/>
          <p:nvPr/>
        </p:nvPicPr>
        <p:blipFill>
          <a:blip r:embed="rId3"/>
          <a:stretch/>
        </p:blipFill>
        <p:spPr>
          <a:xfrm>
            <a:off x="6248520" y="2057400"/>
            <a:ext cx="281916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74A55-5570-4549-94DB-C202983534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Questions in Density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1752480"/>
            <a:ext cx="6400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1752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62520" y="175248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391520" y="1752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2280" y="2895480"/>
            <a:ext cx="2286000" cy="31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Given</a:t>
            </a: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m &amp; 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? </a:t>
            </a: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48520" y="2971800"/>
            <a:ext cx="2286000" cy="31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Given</a:t>
            </a: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m &amp; 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? </a:t>
            </a: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V = m /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95480" y="3201840"/>
            <a:ext cx="2286000" cy="31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Given</a:t>
            </a: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V &amp; 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? </a:t>
            </a: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m = d x 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B4232-97B0-4C57-A53E-8387F9B1DC7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04560" y="10666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A piece of Gold metal has a volume o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15.6 cm</a:t>
            </a:r>
            <a:r>
              <a:rPr b="1" lang="en-US" sz="31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, with a mass of 301 g  What i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its density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533520" y="4829040"/>
            <a:ext cx="51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 = 301g /  15.6 c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 = 19.3 g/c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38088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xample 1.1 p19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ADCB7-257F-4521-9547-844F563BEFF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3805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ractice Exercise p19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A piece of platinum metal with a densit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of 21.5 g/cm</a:t>
            </a:r>
            <a:r>
              <a:rPr b="1" lang="en-US" sz="31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 has a volume of 4.49 cm</a:t>
            </a:r>
            <a:r>
              <a:rPr b="1" lang="en-US" sz="31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What is its mass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2"/>
          <p:cNvSpPr/>
          <p:nvPr/>
        </p:nvSpPr>
        <p:spPr>
          <a:xfrm>
            <a:off x="3513240" y="4114800"/>
            <a:ext cx="213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2764080" y="5715000"/>
            <a:ext cx="423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= 21.5 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x 4.49 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= 96.5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3"/>
          <p:cNvSpPr/>
          <p:nvPr/>
        </p:nvSpPr>
        <p:spPr>
          <a:xfrm flipV="1">
            <a:off x="4114800" y="57913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4"/>
          <p:cNvSpPr/>
          <p:nvPr/>
        </p:nvSpPr>
        <p:spPr>
          <a:xfrm flipV="1">
            <a:off x="6095880" y="57913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14B2A-ABC3-4B0E-B871-7DFA74AB05D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80520" y="42696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xample 1.2 p19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The density of mercury is 13.6 g/mL ha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a volume of 5.50 mL.  What is its mass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2"/>
          <p:cNvSpPr/>
          <p:nvPr/>
        </p:nvSpPr>
        <p:spPr>
          <a:xfrm>
            <a:off x="3513240" y="3962520"/>
            <a:ext cx="213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0"/>
          <p:cNvSpPr/>
          <p:nvPr/>
        </p:nvSpPr>
        <p:spPr>
          <a:xfrm>
            <a:off x="2209680" y="545472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 = 13.6 g/mL x 5.5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 = 74.8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3"/>
          <p:cNvSpPr/>
          <p:nvPr/>
        </p:nvSpPr>
        <p:spPr>
          <a:xfrm flipV="1">
            <a:off x="4191120" y="55627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4"/>
          <p:cNvSpPr/>
          <p:nvPr/>
        </p:nvSpPr>
        <p:spPr>
          <a:xfrm flipV="1">
            <a:off x="5867280" y="55627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96DFF-C209-4A6C-B920-AD31CC7823B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36504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Temperature Sc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329080" y="1400040"/>
            <a:ext cx="2210040" cy="4335480"/>
            <a:chOff x="5329080" y="1400040"/>
            <a:chExt cx="2210040" cy="433548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5329080" y="1400040"/>
              <a:ext cx="2041560" cy="41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2"/>
            <a:stretch/>
          </p:blipFill>
          <p:spPr>
            <a:xfrm>
              <a:off x="6838920" y="5209920"/>
              <a:ext cx="700200" cy="52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7029360" y="5200560"/>
            <a:ext cx="533520" cy="3142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8186760" y="3867120"/>
            <a:ext cx="271440" cy="2635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3728880" y="1352520"/>
            <a:ext cx="860760" cy="4162320"/>
          </a:xfrm>
          <a:prstGeom prst="rect">
            <a:avLst/>
          </a:prstGeom>
          <a:ln w="0">
            <a:noFill/>
          </a:ln>
        </p:spPr>
      </p:pic>
      <p:grpSp>
        <p:nvGrpSpPr>
          <p:cNvPr id="224" name=""/>
          <p:cNvGrpSpPr/>
          <p:nvPr/>
        </p:nvGrpSpPr>
        <p:grpSpPr>
          <a:xfrm>
            <a:off x="6929280" y="1628640"/>
            <a:ext cx="547920" cy="2633760"/>
            <a:chOff x="6929280" y="1628640"/>
            <a:chExt cx="547920" cy="2633760"/>
          </a:xfrm>
        </p:grpSpPr>
        <p:pic>
          <p:nvPicPr>
            <p:cNvPr id="225" name="" descr=""/>
            <p:cNvPicPr/>
            <p:nvPr/>
          </p:nvPicPr>
          <p:blipFill>
            <a:blip r:embed="rId6"/>
            <a:stretch/>
          </p:blipFill>
          <p:spPr>
            <a:xfrm>
              <a:off x="7143840" y="1628640"/>
              <a:ext cx="304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7"/>
            <a:stretch/>
          </p:blipFill>
          <p:spPr>
            <a:xfrm>
              <a:off x="7110360" y="3166920"/>
              <a:ext cx="304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8"/>
            <a:stretch/>
          </p:blipFill>
          <p:spPr>
            <a:xfrm>
              <a:off x="6929280" y="3395520"/>
              <a:ext cx="45720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9"/>
            <a:stretch/>
          </p:blipFill>
          <p:spPr>
            <a:xfrm>
              <a:off x="7172280" y="4033800"/>
              <a:ext cx="30492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9" name=""/>
          <p:cNvGrpSpPr/>
          <p:nvPr/>
        </p:nvGrpSpPr>
        <p:grpSpPr>
          <a:xfrm>
            <a:off x="7116840" y="1371600"/>
            <a:ext cx="1312920" cy="4185720"/>
            <a:chOff x="7116840" y="1371600"/>
            <a:chExt cx="1312920" cy="4185720"/>
          </a:xfrm>
        </p:grpSpPr>
        <p:pic>
          <p:nvPicPr>
            <p:cNvPr id="230" name="" descr=""/>
            <p:cNvPicPr/>
            <p:nvPr/>
          </p:nvPicPr>
          <p:blipFill>
            <a:blip r:embed="rId10"/>
            <a:stretch/>
          </p:blipFill>
          <p:spPr>
            <a:xfrm>
              <a:off x="7388280" y="1371600"/>
              <a:ext cx="1041480" cy="39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11"/>
            <a:stretch/>
          </p:blipFill>
          <p:spPr>
            <a:xfrm>
              <a:off x="7116840" y="5367240"/>
              <a:ext cx="761760" cy="19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2" name=""/>
          <p:cNvSpPr/>
          <p:nvPr/>
        </p:nvSpPr>
        <p:spPr>
          <a:xfrm>
            <a:off x="2362320" y="5715000"/>
            <a:ext cx="647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Kelvin is the SI Base Unit of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1447920"/>
            <a:ext cx="3733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ff"/>
                </a:solidFill>
                <a:latin typeface="Comic Sans MS"/>
              </a:rPr>
              <a:t>These thermometers defined the Freezing Point (F.P.) &amp; the Boiling  Point (B.P.)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ECD27-C8C2-47CD-A497-7CA42068761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457200" y="36504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Temperature Sc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6091200" y="2522520"/>
            <a:ext cx="2209320" cy="4335480"/>
            <a:chOff x="6091200" y="2522520"/>
            <a:chExt cx="2209320" cy="4335480"/>
          </a:xfrm>
        </p:grpSpPr>
        <p:pic>
          <p:nvPicPr>
            <p:cNvPr id="236" name="" descr=""/>
            <p:cNvPicPr/>
            <p:nvPr/>
          </p:nvPicPr>
          <p:blipFill>
            <a:blip r:embed="rId1"/>
            <a:stretch/>
          </p:blipFill>
          <p:spPr>
            <a:xfrm>
              <a:off x="6091200" y="2522520"/>
              <a:ext cx="2041200" cy="41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2"/>
            <a:stretch/>
          </p:blipFill>
          <p:spPr>
            <a:xfrm>
              <a:off x="7600680" y="6332400"/>
              <a:ext cx="699840" cy="52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7791480" y="6323040"/>
            <a:ext cx="533520" cy="314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8948880" y="4989600"/>
            <a:ext cx="271440" cy="2635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4491000" y="2475000"/>
            <a:ext cx="860400" cy="4162320"/>
          </a:xfrm>
          <a:prstGeom prst="rect">
            <a:avLst/>
          </a:prstGeom>
          <a:ln w="0">
            <a:noFill/>
          </a:ln>
        </p:spPr>
      </p:pic>
      <p:grpSp>
        <p:nvGrpSpPr>
          <p:cNvPr id="241" name=""/>
          <p:cNvGrpSpPr/>
          <p:nvPr/>
        </p:nvGrpSpPr>
        <p:grpSpPr>
          <a:xfrm>
            <a:off x="7691400" y="2751120"/>
            <a:ext cx="547200" cy="2633760"/>
            <a:chOff x="7691400" y="2751120"/>
            <a:chExt cx="547200" cy="2633760"/>
          </a:xfrm>
        </p:grpSpPr>
        <p:pic>
          <p:nvPicPr>
            <p:cNvPr id="242" name="" descr=""/>
            <p:cNvPicPr/>
            <p:nvPr/>
          </p:nvPicPr>
          <p:blipFill>
            <a:blip r:embed="rId6"/>
            <a:stretch/>
          </p:blipFill>
          <p:spPr>
            <a:xfrm>
              <a:off x="7905600" y="2751120"/>
              <a:ext cx="3042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7"/>
            <a:stretch/>
          </p:blipFill>
          <p:spPr>
            <a:xfrm>
              <a:off x="7872120" y="4289400"/>
              <a:ext cx="304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8"/>
            <a:stretch/>
          </p:blipFill>
          <p:spPr>
            <a:xfrm>
              <a:off x="7691400" y="4518000"/>
              <a:ext cx="45684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9"/>
            <a:stretch/>
          </p:blipFill>
          <p:spPr>
            <a:xfrm>
              <a:off x="7934040" y="5156280"/>
              <a:ext cx="30456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6" name=""/>
          <p:cNvGrpSpPr/>
          <p:nvPr/>
        </p:nvGrpSpPr>
        <p:grpSpPr>
          <a:xfrm>
            <a:off x="7878600" y="2494080"/>
            <a:ext cx="1312920" cy="4185720"/>
            <a:chOff x="7878600" y="2494080"/>
            <a:chExt cx="1312920" cy="4185720"/>
          </a:xfrm>
        </p:grpSpPr>
        <p:pic>
          <p:nvPicPr>
            <p:cNvPr id="247" name="" descr=""/>
            <p:cNvPicPr/>
            <p:nvPr/>
          </p:nvPicPr>
          <p:blipFill>
            <a:blip r:embed="rId10"/>
            <a:stretch/>
          </p:blipFill>
          <p:spPr>
            <a:xfrm>
              <a:off x="8150040" y="2494080"/>
              <a:ext cx="1041480" cy="39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11"/>
            <a:stretch/>
          </p:blipFill>
          <p:spPr>
            <a:xfrm>
              <a:off x="7878600" y="6489720"/>
              <a:ext cx="761760" cy="19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"/>
          <p:cNvSpPr/>
          <p:nvPr/>
        </p:nvSpPr>
        <p:spPr>
          <a:xfrm>
            <a:off x="152280" y="1295280"/>
            <a:ext cx="85345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are three temperature scales, their units a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Degrees Celsius </a:t>
            </a:r>
            <a:r>
              <a:rPr b="0" lang="en-US" sz="2800" spc="-1" strike="noStrike" baseline="30000">
                <a:solidFill>
                  <a:srgbClr val="666699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Degrees Fahrenheit </a:t>
            </a:r>
            <a:r>
              <a:rPr b="0" lang="en-US" sz="2800" spc="-1" strike="noStrike" baseline="30000">
                <a:solidFill>
                  <a:srgbClr val="008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Kelvin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02C3E-B898-493F-BA0F-616BC3EA3F9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57200" y="3808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emperature Units Conve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088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Degrees Celsius </a:t>
            </a:r>
            <a:r>
              <a:rPr b="0" lang="en-GB" sz="3200" spc="-1" strike="noStrike" baseline="30000">
                <a:solidFill>
                  <a:srgbClr val="9999ff"/>
                </a:solidFill>
                <a:latin typeface="Comic Sans MS"/>
              </a:rPr>
              <a:t>0</a:t>
            </a: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C:</a:t>
            </a:r>
            <a:r>
              <a:rPr b="0" lang="ar-SA" sz="3200" spc="-1" strike="noStrike">
                <a:solidFill>
                  <a:srgbClr val="9999ff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 Scale 0 </a:t>
            </a:r>
            <a:r>
              <a:rPr b="0" lang="en-GB" sz="3200" spc="-1" strike="noStrike">
                <a:solidFill>
                  <a:srgbClr val="9999ff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100 Thus: 100 divisions or 100 deg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Kelvin K: Scale 273 </a:t>
            </a:r>
            <a:r>
              <a:rPr b="0" lang="en-GB" sz="3200" spc="-1" strike="noStrike">
                <a:solidFill>
                  <a:srgbClr val="008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3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Thus: 100 divisions or 100 deg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1K = 1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Degrees Fahrenheit 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0" lang="ar-SA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: Scale from 32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21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Thus: 180 divisions or 180 deg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Thus: the size of degree in 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F scale is only 100/180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5/9 of a degree on the 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 scale</a:t>
            </a:r>
            <a:r>
              <a:rPr b="0" lang="ar-SA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1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F = (5/9) 1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B4B60-D941-4ADF-887D-4661E32DAF8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7030a0"/>
                </a:solidFill>
                <a:latin typeface="Comic Sans MS"/>
              </a:rPr>
              <a:t>K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fi-FI" sz="2800" spc="-1" strike="noStrike">
                <a:solidFill>
                  <a:srgbClr val="00b0f0"/>
                </a:solidFill>
                <a:latin typeface="Comic Sans MS"/>
              </a:rPr>
              <a:t>°C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fi-FI" sz="2800" spc="-1" strike="noStrike">
                <a:solidFill>
                  <a:srgbClr val="00b0f0"/>
                </a:solidFill>
                <a:latin typeface="Comic Sans MS"/>
              </a:rPr>
              <a:t> °C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fi-FI" sz="2800" spc="-1" strike="noStrike">
                <a:solidFill>
                  <a:srgbClr val="7030a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7030a0"/>
                </a:solidFill>
                <a:latin typeface="Comic Sans MS"/>
              </a:rPr>
              <a:t>K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fi-FI" sz="2800" spc="-1" strike="noStrike">
                <a:solidFill>
                  <a:srgbClr val="00b0f0"/>
                </a:solidFill>
                <a:latin typeface="Comic Sans MS"/>
              </a:rPr>
              <a:t>°C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+ 273.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b0f0"/>
                </a:solidFill>
                <a:latin typeface="Comic Sans MS"/>
              </a:rPr>
              <a:t>°C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fi-FI" sz="2800" spc="-1" strike="noStrike">
                <a:solidFill>
                  <a:srgbClr val="7030a0"/>
                </a:solidFill>
                <a:latin typeface="Comic Sans MS"/>
              </a:rPr>
              <a:t>K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- 273.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Fahrenheit °F → </a:t>
            </a:r>
            <a:r>
              <a:rPr b="1" lang="de-DE" sz="2800" spc="-1" strike="noStrike">
                <a:solidFill>
                  <a:srgbClr val="00b0f0"/>
                </a:solidFill>
                <a:latin typeface="Comic Sans MS"/>
              </a:rPr>
              <a:t>°C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 or </a:t>
            </a:r>
            <a:r>
              <a:rPr b="1" lang="de-DE" sz="2800" spc="-1" strike="noStrike">
                <a:solidFill>
                  <a:srgbClr val="00b0f0"/>
                </a:solidFill>
                <a:latin typeface="Comic Sans MS"/>
              </a:rPr>
              <a:t>°C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de-DE" sz="2800" spc="-1" strike="noStrike">
                <a:solidFill>
                  <a:srgbClr val="c00000"/>
                </a:solidFill>
                <a:latin typeface="Comic Sans MS"/>
              </a:rPr>
              <a:t>°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00000"/>
                </a:solidFill>
                <a:latin typeface="Comic Sans MS"/>
              </a:rPr>
              <a:t>°F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= [ (9/5) × </a:t>
            </a:r>
            <a:r>
              <a:rPr b="1" lang="de-DE" sz="2800" spc="-1" strike="noStrike">
                <a:solidFill>
                  <a:srgbClr val="00b0f0"/>
                </a:solidFill>
                <a:latin typeface="Comic Sans MS"/>
              </a:rPr>
              <a:t>°C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] + 3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b0f0"/>
                </a:solidFill>
                <a:latin typeface="Comic Sans MS"/>
              </a:rPr>
              <a:t>°C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= (5/9) (</a:t>
            </a:r>
            <a:r>
              <a:rPr b="1" lang="fr-FR" sz="2800" spc="-1" strike="noStrike">
                <a:solidFill>
                  <a:srgbClr val="c00000"/>
                </a:solidFill>
                <a:latin typeface="Comic Sans MS"/>
              </a:rPr>
              <a:t>°F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- 3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No relatationship betwe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030a0"/>
                </a:solidFill>
                <a:latin typeface="Comic Sans MS"/>
              </a:rPr>
              <a:t>          </a:t>
            </a:r>
            <a:r>
              <a:rPr b="0" lang="fr-FR" sz="2800" spc="-1" strike="noStrike">
                <a:solidFill>
                  <a:srgbClr val="7030a0"/>
                </a:solidFill>
                <a:latin typeface="Comic Sans MS"/>
              </a:rPr>
              <a:t>K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de-DE" sz="2800" spc="-1" strike="noStrike">
                <a:solidFill>
                  <a:srgbClr val="c00000"/>
                </a:solidFill>
                <a:latin typeface="Comic Sans MS"/>
              </a:rPr>
              <a:t>°F       </a:t>
            </a:r>
            <a:r>
              <a:rPr b="1" lang="de-DE" sz="28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1" lang="de-DE" sz="2800" spc="-1" strike="noStrike">
                <a:solidFill>
                  <a:srgbClr val="c00000"/>
                </a:solidFill>
                <a:latin typeface="Comic Sans MS"/>
              </a:rPr>
              <a:t>      °F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fr-FR" sz="2800" spc="-1" strike="noStrike">
                <a:solidFill>
                  <a:srgbClr val="7030a0"/>
                </a:solidFill>
                <a:latin typeface="Comic Sans MS"/>
              </a:rPr>
              <a:t>K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Thus:  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F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4572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emperature Units Conve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1600200"/>
            <a:ext cx="2971800" cy="1143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3733920"/>
            <a:ext cx="3886200" cy="99036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23880" y="6248520"/>
            <a:ext cx="2362320" cy="457200"/>
          </a:xfrm>
          <a:prstGeom prst="wedgeRectCallout">
            <a:avLst>
              <a:gd name="adj1" fmla="val -25805"/>
              <a:gd name="adj2" fmla="val -74305"/>
            </a:avLst>
          </a:prstGeom>
          <a:noFill/>
          <a:ln w="255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43400" y="6248520"/>
            <a:ext cx="2438280" cy="457200"/>
          </a:xfrm>
          <a:prstGeom prst="wedgeRectCallout">
            <a:avLst>
              <a:gd name="adj1" fmla="val 523"/>
              <a:gd name="adj2" fmla="val -83333"/>
            </a:avLst>
          </a:prstGeom>
          <a:noFill/>
          <a:ln w="255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F0103-C4B6-4896-A3F2-F237423E494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8088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(a) Convert 224 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C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→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F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°F = [(9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/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) × 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°C </a:t>
            </a:r>
            <a:r>
              <a:rPr b="0" lang="de-DE" sz="2800" spc="-1" strike="noStrike">
                <a:solidFill>
                  <a:srgbClr val="00007d"/>
                </a:solidFill>
                <a:latin typeface="Comic Sans MS"/>
              </a:rPr>
              <a:t>]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+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[°F = (9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/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) × 224 °C] + 32 = 43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(b) Convert -452 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F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→ 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°C = (5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/9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 (°F - 32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°C = (5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/9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 (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-452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- 32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 = -269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(c) Convert </a:t>
            </a:r>
            <a:r>
              <a:rPr b="0" lang="en-US" sz="3200" spc="-1" strike="noStrike">
                <a:solidFill>
                  <a:srgbClr val="9999ff"/>
                </a:solidFill>
                <a:latin typeface="Comic Sans MS"/>
              </a:rPr>
              <a:t>-38.9 </a:t>
            </a:r>
            <a:r>
              <a:rPr b="0" lang="en-US" sz="3200" spc="-1" strike="noStrike" baseline="30000">
                <a:solidFill>
                  <a:srgbClr val="9999ff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9999ff"/>
                </a:solidFill>
                <a:latin typeface="Comic Sans MS"/>
              </a:rPr>
              <a:t>C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° </a:t>
            </a:r>
            <a:r>
              <a:rPr b="0" lang="fi-FI" sz="3200" spc="-1" strike="noStrike">
                <a:solidFill>
                  <a:srgbClr val="000000"/>
                </a:solidFill>
                <a:latin typeface="Comic Sans MS"/>
              </a:rPr>
              <a:t>K =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-38.9 </a:t>
            </a:r>
            <a:r>
              <a:rPr b="0" lang="fi-FI" sz="3200" spc="-1" strike="noStrike">
                <a:solidFill>
                  <a:srgbClr val="9999ff"/>
                </a:solidFill>
                <a:latin typeface="Comic Sans MS"/>
              </a:rPr>
              <a:t>°C</a:t>
            </a:r>
            <a:r>
              <a:rPr b="0" lang="fi-FI" sz="3200" spc="-1" strike="noStrike">
                <a:solidFill>
                  <a:srgbClr val="00b0f0"/>
                </a:solidFill>
                <a:latin typeface="Comic Sans MS"/>
              </a:rPr>
              <a:t> </a:t>
            </a:r>
            <a:r>
              <a:rPr b="0" lang="fi-FI" sz="3200" spc="-1" strike="noStrike">
                <a:solidFill>
                  <a:srgbClr val="000000"/>
                </a:solidFill>
                <a:latin typeface="Comic Sans MS"/>
              </a:rPr>
              <a:t>+ 273.15</a:t>
            </a:r>
            <a:r>
              <a:rPr b="0" lang="fi-FI" sz="3200" spc="-1" strike="noStrike">
                <a:solidFill>
                  <a:srgbClr val="00b0f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i-FI" sz="3200" spc="-1" strike="noStrike">
                <a:solidFill>
                  <a:srgbClr val="000000"/>
                </a:solidFill>
                <a:latin typeface="Comic Sans MS"/>
              </a:rPr>
              <a:t>= 234.3 </a:t>
            </a:r>
            <a:r>
              <a:rPr b="0" lang="fi-FI" sz="3200" spc="-1" strike="noStrike">
                <a:solidFill>
                  <a:srgbClr val="00007d"/>
                </a:solidFill>
                <a:latin typeface="Comic Sans M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" y="3808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1.3 p20 &amp; 21</a:t>
            </a: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C3FCA-17A6-4A36-A5E8-8C12768A7A0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533520" y="457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ff0000"/>
                </a:solidFill>
                <a:uFillTx/>
                <a:latin typeface="Comic Sans MS"/>
              </a:rPr>
              <a:t>H.W.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 Ammonia boils at -33.4</a:t>
            </a:r>
            <a:r>
              <a:rPr b="0" lang="en-US" sz="31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C. Wh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temperature is this in </a:t>
            </a:r>
            <a:r>
              <a:rPr b="0" lang="en-US" sz="31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F? 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-60.1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-92.1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(c)</a:t>
            </a: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-28.1</a:t>
            </a:r>
            <a:r>
              <a:rPr b="0" lang="en-US" sz="3100" spc="-1" strike="noStrike">
                <a:solidFill>
                  <a:srgbClr val="0070c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(d)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+13.5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457200" y="487692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°F = [(9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/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) × 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°C] 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+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°F = [(9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/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) × -33.4 °C] + 32 = 43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74108-C5DB-4E07-BDEB-13277522B28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Course Gr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304920" y="1295280"/>
            <a:ext cx="85881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wo exams during the te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First exam 30 mark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om lecture  1-1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 Chapters 1-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Second exam 30 mark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om lecture 12-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hapters 5,7-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00e2a"/>
                </a:solidFill>
                <a:latin typeface="Comic Sans MS"/>
              </a:rPr>
              <a:t>Final term exam 40 marks </a:t>
            </a:r>
            <a:r>
              <a:rPr b="0" lang="en-US" sz="3200" spc="-1" strike="noStrike">
                <a:solidFill>
                  <a:srgbClr val="700e2a"/>
                </a:solidFill>
                <a:latin typeface="Comic Sans MS"/>
                <a:ea typeface="Times New Roman"/>
              </a:rPr>
              <a:t>from lecture 1-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0e2a"/>
                </a:solidFill>
                <a:latin typeface="Comic Sans MS"/>
                <a:ea typeface="Times New Roman"/>
              </a:rPr>
              <a:t>(Chapters 1,2,3,4,5,7,8,9,10,14,15,24,2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DN for 25% absence according to college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6B8D4-50A2-4167-BB96-4D819500A8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81080" y="1981080"/>
            <a:ext cx="5105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A4E3D-CBBE-4448-9584-A8605D766A6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762120" y="2666880"/>
            <a:ext cx="708660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ges 16-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mework  Page 32 &amp; 3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17,1.22,1.23,1.25,1.26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219320" y="104940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Chapter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The Study of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6D197-A655-43D8-AB8B-B051958694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995120" y="1267920"/>
            <a:ext cx="6248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95560" indent="-20700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9999ff"/>
                </a:solidFill>
                <a:latin typeface="Comic Sans MS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5560" indent="-20700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996633"/>
                </a:solidFill>
                <a:latin typeface="Comic Sans MS"/>
              </a:rPr>
              <a:t>Measur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SI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Prefi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Units con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Derive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Mass and We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D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Temperature s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5560" indent="-207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457200" y="3636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1 The Study of Change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57412-D7C9-431E-A0EC-2336285CF3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0"/>
          <p:cNvSpPr/>
          <p:nvPr/>
        </p:nvSpPr>
        <p:spPr>
          <a:xfrm>
            <a:off x="380880" y="3808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Introduction: 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Study of Chemis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4412" r="0" b="0"/>
          <a:stretch/>
        </p:blipFill>
        <p:spPr>
          <a:xfrm>
            <a:off x="304920" y="2351160"/>
            <a:ext cx="8458200" cy="3516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6320" y="16002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Comic Sans MS"/>
              </a:rPr>
              <a:t>Macrosc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16444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Microsc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BB4E7-359E-4164-BC3A-825C248E3C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8088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stry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study of matter and the changes it underg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tter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anything that occupies space and has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ubstanc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a form of matter that has a definite composition and distinct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380880" y="380880"/>
            <a:ext cx="632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43F40-0654-4643-8699-1A9AE11802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8088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are three stat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12"/>
          <p:cNvGrpSpPr/>
          <p:nvPr/>
        </p:nvGrpSpPr>
        <p:grpSpPr>
          <a:xfrm>
            <a:off x="1371600" y="1905120"/>
            <a:ext cx="6095520" cy="4647600"/>
            <a:chOff x="1371600" y="1905120"/>
            <a:chExt cx="6095520" cy="4647600"/>
          </a:xfrm>
        </p:grpSpPr>
        <p:pic>
          <p:nvPicPr>
            <p:cNvPr id="133" name="Picture 8" descr="01_07"/>
            <p:cNvPicPr/>
            <p:nvPr/>
          </p:nvPicPr>
          <p:blipFill>
            <a:blip r:embed="rId1"/>
            <a:srcRect l="13542" t="2780" r="14581" b="0"/>
            <a:stretch/>
          </p:blipFill>
          <p:spPr>
            <a:xfrm>
              <a:off x="1371600" y="1905120"/>
              <a:ext cx="6095520" cy="46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9"/>
            <p:cNvSpPr/>
            <p:nvPr/>
          </p:nvSpPr>
          <p:spPr>
            <a:xfrm>
              <a:off x="5961240" y="570024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ol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0"/>
            <p:cNvSpPr/>
            <p:nvPr/>
          </p:nvSpPr>
          <p:spPr>
            <a:xfrm>
              <a:off x="1532160" y="5493240"/>
              <a:ext cx="78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iqu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1"/>
            <p:cNvSpPr/>
            <p:nvPr/>
          </p:nvSpPr>
          <p:spPr>
            <a:xfrm>
              <a:off x="4890960" y="1947600"/>
              <a:ext cx="55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g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80880" y="3808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States of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928B1-6195-4061-A442-0D1B3FDC95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1-31T20:09:25Z</dcterms:modified>
  <cp:revision>218</cp:revision>
  <dc:subject/>
  <dc:title>General Chemistry CHEM 110</dc:title>
</cp:coreProperties>
</file>