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FFCFA-E040-487D-A850-88ABA8C77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DB315-BB5F-4CE1-9740-0ACB90CE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43791-81CC-45D2-A25F-2286FCE27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FF53B-A811-4BEB-A007-C1EE385CD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33D7-6023-46B8-B38C-A163E82E4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858F-2DDD-49C7-9919-6A92D091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8037-1C6C-4429-8518-F276DE25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6F96-0056-44D0-8DE6-D84DC602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824E-E246-4669-80D7-91D02548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C026-CD76-45E6-BAAD-A174FA6F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6D5F-0317-4C69-B3D6-38472C86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D0FAD-23E1-4A20-9F8E-6AF46F07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7CE8-404F-4789-B251-8D682192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EA5E-EA0B-4715-86E9-C65D3F49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5BFD-3061-401D-89F2-73C8A052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6DED-1A56-4F45-9AAD-D2ABAAE71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F8A9-BD47-4BA4-9996-35CF43C8E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E4B73-6876-400C-AFB9-A21EEFFF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6C152-A2B9-4094-8D57-DC350AFB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4E89E-501C-449E-AEBB-3B2E2DB4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E6113-DA09-4E5E-B280-0DA69A23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9B389-F8B7-4791-8BF2-49962AE4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709DA-8C21-4B94-B694-F906FC57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A675E-582E-467E-B4A8-3612C14A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D2C2-084D-4CBB-8C7B-C9CCD15C15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10BC-DF1B-4A87-ABD4-E3BD97E4EC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Reactions in Aqueous Solu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63E9-0527-4B32-AFFF-F3D1B6EBE8D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7d"/>
                </a:solidFill>
                <a:uFillTx/>
                <a:latin typeface="Comic Sans MS"/>
              </a:rPr>
              <a:t>4.5 Concentration of Solutions:</a:t>
            </a:r>
            <a:br>
              <a:rPr sz="4000"/>
            </a:br>
            <a:r>
              <a:rPr b="1" lang="en-GB" sz="4000" spc="-1" strike="noStrike" u="sng">
                <a:solidFill>
                  <a:srgbClr val="00007d"/>
                </a:solidFill>
                <a:uFillTx/>
                <a:latin typeface="Comic Sans MS"/>
              </a:rPr>
              <a:t>Dilution </a:t>
            </a:r>
            <a:r>
              <a:rPr b="1" lang="ar-SA" sz="4000" spc="-1" strike="noStrike" u="sng">
                <a:solidFill>
                  <a:srgbClr val="00007d"/>
                </a:solidFill>
                <a:uFillTx/>
                <a:latin typeface="Comic Sans MS"/>
              </a:rPr>
              <a:t>التخفي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9152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ilutio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procedure for 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less concentrated solution from a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centrated 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ilution law: 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قانون التخفيف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300720" y="2637000"/>
            <a:ext cx="2523960" cy="3415320"/>
            <a:chOff x="6300720" y="2637000"/>
            <a:chExt cx="2523960" cy="341532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6300720" y="2637000"/>
              <a:ext cx="2523960" cy="20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6550200" y="4696920"/>
              <a:ext cx="2117160" cy="13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wo KMn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solutions of different concentr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826920" y="3645000"/>
                <a:ext cx="439272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4797360"/>
            <a:ext cx="2209680" cy="647640"/>
          </a:xfrm>
          <a:prstGeom prst="borderCallout1">
            <a:avLst>
              <a:gd name="adj1" fmla="val -2033"/>
              <a:gd name="adj2" fmla="val -2541"/>
              <a:gd name="adj3" fmla="val 20483"/>
              <a:gd name="adj4" fmla="val -2541"/>
            </a:avLst>
          </a:prstGeom>
          <a:solidFill>
            <a:srgbClr val="9999ff"/>
          </a:solidFill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بل التخفي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98680" y="4869000"/>
            <a:ext cx="2210040" cy="647640"/>
          </a:xfrm>
          <a:prstGeom prst="borderCallout1">
            <a:avLst>
              <a:gd name="adj1" fmla="val -2033"/>
              <a:gd name="adj2" fmla="val -2541"/>
              <a:gd name="adj3" fmla="val 20483"/>
              <a:gd name="adj4" fmla="val -2541"/>
            </a:avLst>
          </a:prstGeom>
          <a:solidFill>
            <a:srgbClr val="9999ff"/>
          </a:solidFill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عد التخفي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7040" y="6132600"/>
            <a:ext cx="820404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units of V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 &amp; V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 must be the same (ml or 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6A5BC-7E04-4158-BDBA-B1ADAA405A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4.8 p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How you would prepare 5.00 x 10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mL of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1.75 M H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S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solution, starting with 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8.61 M stock solution of H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S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2565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2637000"/>
            <a:ext cx="7056360" cy="25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.75 M; V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5.0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8.61 M; V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11280" y="4508640"/>
                <a:ext cx="8064360" cy="19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l</m:t>
                            </m:r>
                          </m:num>
                          <m:den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2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-25200" y="1320840"/>
            <a:ext cx="683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45920" y="404640"/>
            <a:ext cx="55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V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46440" y="1965240"/>
            <a:ext cx="683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B4F5A-7760-4FB5-8573-216B1BBFF1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7640" y="2276640"/>
            <a:ext cx="6105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Chapter 4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rst Exam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pters 1, 2, 3, &amp;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60EDE-FAFF-4FDF-B681-2A1D1DCC82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4</a:t>
            </a:r>
            <a:br>
              <a:rPr sz="4000"/>
            </a:b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Reactions in Aqueous Solution </a:t>
            </a:r>
            <a:br>
              <a:rPr sz="3600"/>
            </a:b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Chang Pages 147-151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163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4.60, 4.62, 4.64, 4.66, 4.70, 4.74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EBA55-5F18-42A0-B2DE-422F5EEF6D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4: </a:t>
            </a: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Reactions in Aqueous Solution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4.5 Concentration of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ol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Dilution of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82F6B-5B1B-416E-9014-CF099880E3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4.5 Concentration of Solutions:</a:t>
            </a:r>
            <a:br>
              <a:rPr sz="3600"/>
            </a:b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Molarity</a:t>
            </a: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8236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he concentration of solution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amount of solute (solid or liquid) present in a given amount of solvent (liqui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most common unit to express the concentration is the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ola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olarity (M)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number of moles of solute per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litr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f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unit of molarity is mol/L = Molar =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348000" y="4221000"/>
                <a:ext cx="3548160" cy="16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olarit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oles of solut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iters of solution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EBD22-F20D-4A2C-B940-549D02C045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Questions in Mol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419640" y="1101600"/>
                <a:ext cx="1439640" cy="11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1042920" y="2349360"/>
            <a:ext cx="684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234936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11640" y="234936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883640" y="234936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920" y="3213000"/>
            <a:ext cx="2736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Given: n &amp;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16360" y="3211560"/>
            <a:ext cx="2879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Given: n &amp;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27640" y="3257640"/>
            <a:ext cx="2737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Given:  V &amp;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195640" y="5516640"/>
                <a:ext cx="40320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M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E99E8-5681-40A4-A31D-C4B9A5A220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13560" y="811080"/>
            <a:ext cx="66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paring a Solution of Known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04_16"/>
          <p:cNvPicPr/>
          <p:nvPr/>
        </p:nvPicPr>
        <p:blipFill>
          <a:blip r:embed="rId1"/>
          <a:stretch/>
        </p:blipFill>
        <p:spPr>
          <a:xfrm>
            <a:off x="228600" y="1989000"/>
            <a:ext cx="8686800" cy="327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387C1-8574-4D44-A0AC-3E6C3F262F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4.6 p148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grams of potassium dichro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K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r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 are required to prepare a 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ml solution whose concentration is 2.16 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2637000"/>
            <a:ext cx="8675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V = 250 ml = 250 ml/1000 = 0.25 L; M = 2.16 mol/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059280" y="4143240"/>
                <a:ext cx="5976720" cy="26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 mol/L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 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 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mol x 29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9 g of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468360" y="2565360"/>
            <a:ext cx="813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5E5D1-1F5B-4E8D-9FD1-49686C2BB1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4.7 p149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In a biochemical assay, a chemist needs to a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3.81 g of glucose to a reaction mixture. Cal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volume in milliteres of a 2.53 M gluc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solution she should use for the add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2921040"/>
            <a:ext cx="8675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m = 3.81 g ; M = 2.53 mol/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 (L)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(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2924280"/>
            <a:ext cx="813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943280" y="4149720"/>
                <a:ext cx="6876720" cy="259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/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L 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4EB6F-70B7-4DAC-8826-30890DE529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3656160" y="2500200"/>
            <a:ext cx="1752480" cy="856080"/>
            <a:chOff x="3656160" y="2500200"/>
            <a:chExt cx="1752480" cy="856080"/>
          </a:xfrm>
        </p:grpSpPr>
        <p:sp>
          <p:nvSpPr>
            <p:cNvPr id="136" name=""/>
            <p:cNvSpPr/>
            <p:nvPr/>
          </p:nvSpPr>
          <p:spPr>
            <a:xfrm>
              <a:off x="3656160" y="2917440"/>
              <a:ext cx="175248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5280" y="2500200"/>
              <a:ext cx="11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ilu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33200" y="295740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99cc"/>
                  </a:solidFill>
                  <a:latin typeface="Arial"/>
                </a:rPr>
                <a:t>Add Sol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2678040" cy="3257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637240" y="1052640"/>
            <a:ext cx="2914560" cy="339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CF17F-07AC-45F1-980A-E137B84CA9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07T12:27:27Z</dcterms:modified>
  <cp:revision>500</cp:revision>
  <dc:subject/>
  <dc:title>General Chemistry CHEM 110</dc:title>
</cp:coreProperties>
</file>