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B4F92-3589-46FE-A61B-1D12DF89E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55583-E0AF-4DB3-952F-E326C49F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2DCFE-034A-4793-9998-C30171ABF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4B7D5-51FF-4ECF-AF38-81ED9DC98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0F0F-7D3A-4D62-B5D2-FB5574EBF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0EBB-E7A6-4E3B-93AE-C9B564D2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8846-46FC-44E1-A949-9A802E46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01D7-B557-446F-9F14-D240E6A6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74BE-8CD4-433A-B112-9066C217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9B17-D37A-4D1E-854D-9A7DA5BD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6D36-DA67-4661-89A0-ACF0EB26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C32A6-FB26-4BA4-82D6-9292085E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597F-4752-4747-8C06-11AA0C07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771A-3C25-44AF-A72C-987FC9B0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D928-4A1A-4E45-AAE3-9241B129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1BA9-5AED-4B11-B859-78F07E462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FDB4-4015-4B3C-9EE4-27AFE0A67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9A11D-64D8-4E93-A59A-8CC1CFD9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14EA3-4BD0-4007-926C-9C63DD3C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13A6F-71D8-4139-ADA9-14FE07FB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A622A-13FC-4D29-AEF5-6DBF3EFA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9CC6B-B1D3-427B-8732-B59CEE36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57037-BAD4-4756-9D3B-5595BC64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BA1B5-5E3B-43D9-B3A9-16B6F041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2585-2DCF-4D77-BAB9-3BAB8D1BD9D7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F7E7-FBF5-4388-9C2C-F72A5E403A20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Erwin_Schrodinger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3BE8-94AF-4BB2-9715-AB2D5C9307D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692280"/>
            <a:ext cx="856908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or any value of 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re is (2l+1)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0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0)+1 = 1 one value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1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1) + 1 = 3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-1, 0, 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EA5E0-16AC-4A06-BFFC-69BE1957B9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7800" y="669960"/>
            <a:ext cx="33465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-1, 0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4640" y="59688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1680" y="2087640"/>
            <a:ext cx="301788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83040" y="2130480"/>
            <a:ext cx="2828880" cy="3233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14960" y="2087640"/>
            <a:ext cx="292104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654F6-9181-405A-89C3-48D7E9B9C9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3941640"/>
            <a:ext cx="2720880" cy="2943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360" y="941400"/>
            <a:ext cx="2476440" cy="2819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23880" y="365040"/>
            <a:ext cx="314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-2, -1, 0, 1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9920" y="36504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048120" y="1170000"/>
            <a:ext cx="2660400" cy="3029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867280" y="941400"/>
            <a:ext cx="2908440" cy="3171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066680" y="3989520"/>
            <a:ext cx="250056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00D92-A3BB-4FE3-A57E-FD2674B9F3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60360" y="29520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Electron Spin 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s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081080"/>
            <a:ext cx="81356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Spin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½ or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termines the electron sp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2745000" cy="33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696AF-8EEF-484E-B09F-F35A93476E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476280"/>
            <a:ext cx="8351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6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List the values of n, l and 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for orbitals in 4d sub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133720"/>
            <a:ext cx="561636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4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4-1) = 0, 1, 2,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B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 means l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2, -1, 0, +1,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720" y="2276640"/>
            <a:ext cx="2521080" cy="31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f it’s a mu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choices ques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B550E-5DFE-42EF-9DD1-A31842D3A7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60360" y="1066680"/>
            <a:ext cx="8604360" cy="4308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4000" y="2708280"/>
            <a:ext cx="8820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724280"/>
            <a:ext cx="882000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3429000"/>
            <a:ext cx="8820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70479-63EC-49DE-A959-31F3064317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47628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7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total number of orbitals associated with the principal quantum number n = 3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981080"/>
            <a:ext cx="932508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           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3-1) = 0, 1,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 = 0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0   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           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ne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l = 1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1, 0, +1</a:t>
            </a:r>
            <a:r>
              <a:rPr b="0" lang="ar-SA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ree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l = 2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+2, -1, 0, +1, +2 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Five Orbital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tal Number of Orbitals:  9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OR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Total Number of Orbitals = n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3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734080"/>
            <a:ext cx="871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42C0D-8C42-4065-A10E-D7817EB00A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48680" y="933480"/>
            <a:ext cx="5345640" cy="602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n = 1, 2 , 3, 4 …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l = 0 to (n-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ff00ff"/>
                </a:solidFill>
                <a:latin typeface="Comic Sans MS"/>
              </a:rPr>
              <a:t>l</a:t>
            </a: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 = -l to 0 to +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9999ff"/>
                </a:solidFill>
                <a:latin typeface="Comic Sans MS"/>
              </a:rPr>
              <a:t>s</a:t>
            </a:r>
            <a:r>
              <a:rPr b="0" lang="ar-SA" sz="4800" spc="-1" strike="noStrike">
                <a:solidFill>
                  <a:srgbClr val="9999ff"/>
                </a:solidFill>
                <a:latin typeface="Comic Sans MS"/>
              </a:rPr>
              <a:t> = </a:t>
            </a: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+½ or -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620640"/>
            <a:ext cx="18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4E12F-77D5-4164-B0AB-B2464161DA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351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ich of the following is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impossible to b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quantum number set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3, -2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2, -1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5, 0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1, -2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73360"/>
            <a:ext cx="3529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Comic Sans MS"/>
              </a:rPr>
              <a:t>لايمكن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 ان يكون مجموعة صحيحه من  ارقام الكم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D81F5-477B-4BFA-A88F-449ABF0430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5267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2s &amp; 2p are in the same shell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ub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subshel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 جزئي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bita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electrons with the same values of n, l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orbita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د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27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8508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4364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24400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75480" y="141300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2400" y="141300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84720" y="2846520"/>
          <a:ext cx="2664000" cy="5173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 flipV="1">
            <a:off x="6516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524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50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8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962680" y="4933800"/>
          <a:ext cx="2663640" cy="51768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 flipV="1">
            <a:off x="6394320" y="5078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88000" y="5078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5510160"/>
            <a:ext cx="110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244000" y="5589720"/>
            <a:ext cx="734760" cy="126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7D90B-530D-4253-A41E-E5B061D69C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suggestion that the energy of the an electron in an atom is Quantized was a significant contribution,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theory did not provide a complete description of electronic behaviour in atom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26 Erwi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rote an equation that specifies the energy states of the electron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identifies the corresponding wave functions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These energy states and wave functions are characterized by a set of Quantum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’s equation can only be solved exactly for the hydrogen atom.  Must approximate its solution for multi-electr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21600" y="115920"/>
            <a:ext cx="91440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68360" y="4292640"/>
                <a:ext cx="579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C24F6-1003-4701-945E-65B0379AD0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89960" y="38880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2p orbitals are there in a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02560" y="17226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203840" y="996840"/>
            <a:ext cx="717120" cy="755640"/>
            <a:chOff x="1203840" y="996840"/>
            <a:chExt cx="717120" cy="755640"/>
          </a:xfrm>
        </p:grpSpPr>
        <p:sp>
          <p:nvSpPr>
            <p:cNvPr id="200" name=""/>
            <p:cNvSpPr/>
            <p:nvPr/>
          </p:nvSpPr>
          <p:spPr>
            <a:xfrm>
              <a:off x="1203840" y="99684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70320" y="144756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68720" y="2209680"/>
            <a:ext cx="766080" cy="694440"/>
            <a:chOff x="1368720" y="2209680"/>
            <a:chExt cx="766080" cy="694440"/>
          </a:xfrm>
        </p:grpSpPr>
        <p:sp>
          <p:nvSpPr>
            <p:cNvPr id="203" name=""/>
            <p:cNvSpPr/>
            <p:nvPr/>
          </p:nvSpPr>
          <p:spPr>
            <a:xfrm>
              <a:off x="1368720" y="24444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765080" y="22096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462760" y="1378080"/>
            <a:ext cx="412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1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1, 0, or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61320" y="19875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8862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electrons can be placed in the 3d subsh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3800" y="549288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397520" y="4767120"/>
            <a:ext cx="717120" cy="755640"/>
            <a:chOff x="1397520" y="4767120"/>
            <a:chExt cx="717120" cy="755640"/>
          </a:xfrm>
        </p:grpSpPr>
        <p:sp>
          <p:nvSpPr>
            <p:cNvPr id="210" name=""/>
            <p:cNvSpPr/>
            <p:nvPr/>
          </p:nvSpPr>
          <p:spPr>
            <a:xfrm>
              <a:off x="1397520" y="47671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64000" y="52178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559880" y="5979960"/>
            <a:ext cx="766080" cy="694440"/>
            <a:chOff x="1559880" y="5979960"/>
            <a:chExt cx="766080" cy="694440"/>
          </a:xfrm>
        </p:grpSpPr>
        <p:sp>
          <p:nvSpPr>
            <p:cNvPr id="213" name=""/>
            <p:cNvSpPr/>
            <p:nvPr/>
          </p:nvSpPr>
          <p:spPr>
            <a:xfrm>
              <a:off x="1559880" y="621468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931760" y="597996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513160" y="4883040"/>
            <a:ext cx="506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2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2, -1, 0, +1, or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0320" y="549288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orbitals which can hold a total of 10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38480" y="1863720"/>
            <a:ext cx="4724640" cy="1819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95280" y="393372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1164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6021360"/>
            <a:ext cx="576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6400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5128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0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6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645336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2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6692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328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2997360"/>
            <a:ext cx="57600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35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27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8000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347652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F96B3-6644-452D-9BBF-0587741CAB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944720"/>
            <a:ext cx="88200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derived from the mathematical solution of the Schrödinger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 a full description of the electron of the hydrogen atom and other a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hat are these Quantum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The Principal Quantum Number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Angular Momentum Quantum Number 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Magnetic Quantum Number (m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Spin Quantum Number (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1125360"/>
            <a:ext cx="345600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, l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21403-0FAA-483E-A71E-BB1F66BE6B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84360" y="3951360"/>
            <a:ext cx="5394240" cy="2921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3336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Principal Quantum Number (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14880" y="4869000"/>
            <a:ext cx="1445760" cy="520560"/>
            <a:chOff x="1514880" y="4869000"/>
            <a:chExt cx="1445760" cy="520560"/>
          </a:xfrm>
        </p:grpSpPr>
        <p:sp>
          <p:nvSpPr>
            <p:cNvPr id="118" name=""/>
            <p:cNvSpPr/>
            <p:nvPr/>
          </p:nvSpPr>
          <p:spPr>
            <a:xfrm>
              <a:off x="1514880" y="4869000"/>
              <a:ext cx="107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1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5116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179160" y="4795920"/>
            <a:ext cx="1537200" cy="520560"/>
            <a:chOff x="3179160" y="4795920"/>
            <a:chExt cx="1537200" cy="520560"/>
          </a:xfrm>
        </p:grpSpPr>
        <p:sp>
          <p:nvSpPr>
            <p:cNvPr id="121" name=""/>
            <p:cNvSpPr/>
            <p:nvPr/>
          </p:nvSpPr>
          <p:spPr>
            <a:xfrm>
              <a:off x="3179160" y="479592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2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06880" y="504684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627160" y="4869000"/>
            <a:ext cx="1537200" cy="520560"/>
            <a:chOff x="5627160" y="4869000"/>
            <a:chExt cx="1537200" cy="520560"/>
          </a:xfrm>
        </p:grpSpPr>
        <p:sp>
          <p:nvSpPr>
            <p:cNvPr id="124" name=""/>
            <p:cNvSpPr/>
            <p:nvPr/>
          </p:nvSpPr>
          <p:spPr>
            <a:xfrm>
              <a:off x="5627160" y="486900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3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488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4000" y="1052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principal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 = 1, 2 , 3, 4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energy of an orbital → determines the distance of the electron from the nucleu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igger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energ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rther from the nucleu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9BA91-8321-4633-A901-0058296CB6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5824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Angular Momentum  Quantum Number (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4000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Angular Momentum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pends on the value of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 = 0 to (n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.g. for n = 1; there is one value of l; l =0 to  (n-1) = (1-1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for n =2; two values of l; l = 0 to (2-1); l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e.g. for n = 3; three values of l; l = 0 to (3-1); l = 0, 1, 2 and so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alue of l is designated by let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shape of the orb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4986360"/>
          <a:ext cx="5472000" cy="1035000"/>
        </p:xfrm>
        <a:graphic>
          <a:graphicData uri="http://schemas.openxmlformats.org/drawingml/2006/table">
            <a:tbl>
              <a:tblPr/>
              <a:tblGrid>
                <a:gridCol w="2882880"/>
                <a:gridCol w="576360"/>
                <a:gridCol w="503280"/>
                <a:gridCol w="503280"/>
                <a:gridCol w="5029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orbi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0C839-CA73-4F0D-885D-79A5594143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933480"/>
            <a:ext cx="5181840" cy="2806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67760" y="43344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0 (s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58920" y="3917880"/>
            <a:ext cx="6553080" cy="2895480"/>
            <a:chOff x="1258920" y="3917880"/>
            <a:chExt cx="6553080" cy="28954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258920" y="4290840"/>
              <a:ext cx="655308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111840" y="39178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1 (p orbital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564000" y="4437000"/>
            <a:ext cx="5329080" cy="24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6381720"/>
            <a:ext cx="720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1484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كر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51577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الفصوص او الاجر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478A5-32CB-4CCE-973C-D02616FE10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10200" y="10126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2 (d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081160"/>
            <a:ext cx="8991720" cy="2102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8000" y="2133720"/>
            <a:ext cx="792036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789360"/>
            <a:ext cx="136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18F5D-B68D-4207-ADC9-14D41FDA19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5640" y="765000"/>
            <a:ext cx="71294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n = 1; l = 0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1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n = 2; l = 0 &amp; 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2s &amp; 2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n = 3; l = 0, 1,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3s, 3p,  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0106E-AAE4-42DA-A278-B10AB3D5DA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0360" y="2602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Magnetic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l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863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gnetic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pends on the value of 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-l to 0 to +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for l = 0; there is one value of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 for l =1; three values of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Comic Sans MS"/>
              </a:rPr>
              <a:t>=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-1, 0,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e.g. for l = 2; five values of 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 = -2, -1, 0, +1, 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e.g. for l = 3; seven values of 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 = -3,-2, -1, 0, +1, +2, +3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termines the orientation of the orb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6D927-A2E4-4C9E-B0A6-4ECCF65043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5:48Z</dcterms:modified>
  <cp:revision>939</cp:revision>
  <dc:subject/>
  <dc:title>General Chemistry CHEM 110</dc:title>
</cp:coreProperties>
</file>