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7051675" cy="8686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7052400" cy="868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99528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353600" y="650520"/>
            <a:ext cx="4343400" cy="325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704880" y="4125600"/>
            <a:ext cx="5643360" cy="39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99528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A333B-D5DF-4B00-920D-B2119F541C4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9528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5FB64-E20F-4F1A-9A9B-45633E623AD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-36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-36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9528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35396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704880" y="4125600"/>
            <a:ext cx="5643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995640" y="8250120"/>
            <a:ext cx="30560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3DF0E-26FA-4E0F-8B4C-C9BECFA303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399528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01B61-04ED-4D79-9FCA-7745E45219E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-36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-36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99528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35396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04880" y="4125600"/>
            <a:ext cx="5643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995640" y="8250120"/>
            <a:ext cx="30560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41F7D-3791-4A68-96B0-A5CCE04CAD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399528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C90BD-DB23-4D33-928E-D6AF2858161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-36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-36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99528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35396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04880" y="4125600"/>
            <a:ext cx="5643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995640" y="8250120"/>
            <a:ext cx="30560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ACAC7-BC3C-45F1-923F-9A489A9284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399528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55A9F-30B3-432C-979A-42ACAFDF5F6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-36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-36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99528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35396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704880" y="4125600"/>
            <a:ext cx="5643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995640" y="8250120"/>
            <a:ext cx="30560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C4C4F-0E3E-4776-8F57-2860CE9524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399528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C219C-2405-4B70-AA27-4A50C39D969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-36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-36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99528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35396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704880" y="4125600"/>
            <a:ext cx="5643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995640" y="8250120"/>
            <a:ext cx="30560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051A5-0066-4906-847E-71BE6D89D4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399528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D21AA-A8F9-4F21-9F8D-460282A36F9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-36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-36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99528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35396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04880" y="4125600"/>
            <a:ext cx="5643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995640" y="8250120"/>
            <a:ext cx="30560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55237-10F2-4F1F-9861-C2753B2FA5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D0B95-BA50-44FD-94CB-BDC3841ED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E3C3C-B0DD-4EE9-91F1-097D2769E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36478-4556-43FC-A2CD-1B9CFD86C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6F216-A08F-479B-AF01-F88E9848A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72B9D-FCF0-49A2-BB73-D075187E6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981F9-863B-4E0B-BF44-DF2439EC1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3120C-5C3D-46D4-B8BE-D701F4CFE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FF858-D0E0-4D61-8FF5-2615CD014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A345A-E5CC-466F-9983-381108AEA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8FDB0-7CBD-41F2-8AF9-409F196A6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76715-0A5D-44CF-81C6-8DA60209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EF1AA-C32E-4625-A6EC-CA7E19B3D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2C289-2D47-4C56-A590-0E90995FD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DF7D4-6729-4540-BAF1-8153DBE3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EC36A-F6F6-477E-A15B-8D819AD7F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D6A05-0CC4-4CEE-B4E9-0B934BB08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2F7AA-7127-4C88-B4E8-9CDF4B66F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D7E86-F482-4BC6-B2B0-C10F546AA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B9E8E-0417-4A72-8B6C-5A895C0EA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C72F5-B460-4EB9-B763-3B3EC8A6E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72E70-AB4E-4695-868F-38FF75D15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19C0D-FDF0-4207-BC2C-29D19904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F3BDB-15E2-445E-AA9E-977A94087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10743-03C6-4DFA-AA49-11701500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EFE89-0CCE-4C1B-B046-0FED777488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5110F-6FE6-42C4-83D5-B696F0B796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48416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Comic Sans MS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Comic Sans MS"/>
              </a:rPr>
              <a:t>Chapter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Comic Sans MS"/>
              </a:rPr>
              <a:t>The Study of Change</a:t>
            </a: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C97F4-827C-44B7-8BBC-544E89C8F93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Physical or Chemic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physical change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oes not change the composition or identity of a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.g. ice melting or salt dissolving in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chemical change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hanges the composition or identity of the substance/s inv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.g. hydrogen burn in air to form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219320" y="4876920"/>
            <a:ext cx="6476760" cy="1981080"/>
            <a:chOff x="1219320" y="4876920"/>
            <a:chExt cx="6476760" cy="1981080"/>
          </a:xfrm>
        </p:grpSpPr>
        <p:pic>
          <p:nvPicPr>
            <p:cNvPr id="141" name="" descr=""/>
            <p:cNvPicPr/>
            <p:nvPr/>
          </p:nvPicPr>
          <p:blipFill>
            <a:blip r:embed="rId1"/>
            <a:srcRect l="0" t="13748" r="0" b="0"/>
            <a:stretch/>
          </p:blipFill>
          <p:spPr>
            <a:xfrm>
              <a:off x="4046040" y="4876920"/>
              <a:ext cx="365004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1219320" y="5564880"/>
              <a:ext cx="2403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ydrogen burns in air to form wat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1EBD3-2433-4055-8337-18DF4E5A2B3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8"/>
          <p:cNvSpPr/>
          <p:nvPr/>
        </p:nvSpPr>
        <p:spPr>
          <a:xfrm>
            <a:off x="457200" y="36504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Measurements and Uni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380880" y="1371600"/>
            <a:ext cx="838224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easurements of Macroscopic Proper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acroscopic Properties: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e.g.: length, weight, temperature, volu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6ABFB-6253-479F-9549-76B0A89B0CD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5"/>
          <p:cNvSpPr/>
          <p:nvPr/>
        </p:nvSpPr>
        <p:spPr>
          <a:xfrm>
            <a:off x="304920" y="45720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SI Units: International System of Un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16000" y="1916280"/>
            <a:ext cx="8748720" cy="3531960"/>
          </a:xfrm>
          <a:prstGeom prst="rect">
            <a:avLst/>
          </a:prstGeom>
          <a:ln w="28440">
            <a:solidFill>
              <a:srgbClr val="800000"/>
            </a:solidFill>
            <a:prstDash val="dash"/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D4A81-2D18-4B11-A020-B810D625786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Content Placeholder 3"/>
          <p:cNvSpPr/>
          <p:nvPr/>
        </p:nvSpPr>
        <p:spPr>
          <a:xfrm>
            <a:off x="228600" y="1371600"/>
            <a:ext cx="4800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e SI unit of mass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 The p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 The 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c) The kil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d) The m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457200" y="380880"/>
            <a:ext cx="662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Content Placeholder 3"/>
          <p:cNvSpPr/>
          <p:nvPr/>
        </p:nvSpPr>
        <p:spPr>
          <a:xfrm>
            <a:off x="4648320" y="137160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e Kg is the SI unit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 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b)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 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d) 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FC2D6-EE05-4C20-A8A5-436513FB25F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95" descr="01_03"/>
          <p:cNvPicPr/>
          <p:nvPr/>
        </p:nvPicPr>
        <p:blipFill>
          <a:blip r:embed="rId1"/>
          <a:srcRect l="0" t="3312" r="0" b="0"/>
          <a:stretch/>
        </p:blipFill>
        <p:spPr>
          <a:xfrm>
            <a:off x="228600" y="1297080"/>
            <a:ext cx="8686800" cy="4730760"/>
          </a:xfrm>
          <a:prstGeom prst="rect">
            <a:avLst/>
          </a:prstGeom>
          <a:ln w="28440">
            <a:solidFill>
              <a:srgbClr val="800000"/>
            </a:solidFill>
            <a:prstDash val="dash"/>
            <a:miter/>
          </a:ln>
        </p:spPr>
      </p:pic>
      <p:sp>
        <p:nvSpPr>
          <p:cNvPr id="151" name="Right Arrow 5"/>
          <p:cNvSpPr/>
          <p:nvPr/>
        </p:nvSpPr>
        <p:spPr>
          <a:xfrm>
            <a:off x="380880" y="3809880"/>
            <a:ext cx="5943600" cy="76320"/>
          </a:xfrm>
          <a:prstGeom prst="rightArrow">
            <a:avLst>
              <a:gd name="adj1" fmla="val 50000"/>
              <a:gd name="adj2" fmla="val 49755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4343400" y="32767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Up Arrow 7"/>
          <p:cNvSpPr/>
          <p:nvPr/>
        </p:nvSpPr>
        <p:spPr>
          <a:xfrm flipH="1">
            <a:off x="5105520" y="2438280"/>
            <a:ext cx="411120" cy="1295640"/>
          </a:xfrm>
          <a:prstGeom prst="upArrow">
            <a:avLst>
              <a:gd name="adj1" fmla="val 50000"/>
              <a:gd name="adj2" fmla="val 50015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Down Arrow 9"/>
          <p:cNvSpPr/>
          <p:nvPr/>
        </p:nvSpPr>
        <p:spPr>
          <a:xfrm>
            <a:off x="5105520" y="4038480"/>
            <a:ext cx="380880" cy="152424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380880" y="304920"/>
            <a:ext cx="708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Prefix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EF38D-1176-48F6-9F9A-913533BAB29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76320" y="1295280"/>
            <a:ext cx="906768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e SI prefixes giga- and micro represent, respectively: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9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(d)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10</a:t>
            </a:r>
            <a:r>
              <a:rPr b="0" lang="en-US" sz="2800" spc="-1" strike="noStrike" baseline="30000">
                <a:solidFill>
                  <a:srgbClr val="0070c0"/>
                </a:solidFill>
                <a:latin typeface="Comic Sans MS"/>
              </a:rPr>
              <a:t>9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 and 10</a:t>
            </a:r>
            <a:r>
              <a:rPr b="0" lang="en-US" sz="2800" spc="-1" strike="noStrike" baseline="30000">
                <a:solidFill>
                  <a:srgbClr val="0070c0"/>
                </a:solidFill>
                <a:latin typeface="Comic Sans MS"/>
              </a:rPr>
              <a:t>-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380880" y="44136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Ex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A302D-38BE-4DA4-A0E1-1459167248A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Units Con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9999cc"/>
                </a:solidFill>
                <a:latin typeface="Comic Sans MS"/>
              </a:rPr>
              <a:t>Prefix </a:t>
            </a:r>
            <a:r>
              <a:rPr b="0" lang="en-US" sz="3200" spc="-1" strike="noStrike">
                <a:solidFill>
                  <a:srgbClr val="9999cc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9999cc"/>
                </a:solidFill>
                <a:latin typeface="Comic Sans MS"/>
              </a:rPr>
              <a:t>Base Unit  (e.g. km → 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Base Uni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→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Prefix (e.g. m → k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Prefix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→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 Prefix (e.g. km → n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D9693-BE39-473E-A42B-A088C4A5364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Units Con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99cc"/>
                </a:solidFill>
                <a:latin typeface="Comic Sans MS"/>
              </a:rPr>
              <a:t>Prefix </a:t>
            </a:r>
            <a:r>
              <a:rPr b="0" lang="en-GB" sz="2800" spc="-1" strike="noStrike">
                <a:solidFill>
                  <a:srgbClr val="9999cc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9999cc"/>
                </a:solidFill>
                <a:latin typeface="Comic Sans MS"/>
              </a:rPr>
              <a:t>Base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99cc"/>
                </a:solidFill>
                <a:latin typeface="Comic Sans MS"/>
              </a:rPr>
              <a:t>e.g. 6km → ? 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99cc"/>
                </a:solidFill>
                <a:latin typeface="Comic Sans MS"/>
              </a:rPr>
              <a:t>6 x 10</a:t>
            </a:r>
            <a:r>
              <a:rPr b="0" lang="en-GB" sz="2800" spc="-1" strike="noStrike" baseline="30000">
                <a:solidFill>
                  <a:srgbClr val="9999cc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9999cc"/>
                </a:solidFill>
                <a:latin typeface="Comic Sans MS"/>
              </a:rPr>
              <a:t> m (km is 10</a:t>
            </a:r>
            <a:r>
              <a:rPr b="0" lang="en-GB" sz="2800" spc="-1" strike="noStrike" baseline="30000">
                <a:solidFill>
                  <a:srgbClr val="9999cc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9999cc"/>
                </a:solidFill>
                <a:latin typeface="Comic Sans MS"/>
              </a:rPr>
              <a:t> m from th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99cc"/>
                </a:solidFill>
                <a:latin typeface="Comic Sans MS"/>
              </a:rPr>
              <a:t>of prefix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Base Uni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→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 Prefi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e.g. 6m → ? k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6 x 10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-3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 m (m is 10</a:t>
            </a:r>
            <a:r>
              <a:rPr b="0" lang="ar-SA" sz="2800" spc="-1" strike="noStrike" baseline="30000">
                <a:solidFill>
                  <a:srgbClr val="ff0000"/>
                </a:solidFill>
                <a:latin typeface="Comic Sans MS"/>
              </a:rPr>
              <a:t>-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 km (reverse the power sign from the table of prefix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Prefix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→</a:t>
            </a: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 Prefi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e.g. 6 km → ? n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6 x 1</a:t>
            </a:r>
            <a:r>
              <a:rPr b="0" lang="ar-SA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8000"/>
                </a:solidFill>
                <a:latin typeface="Comic Sans MS"/>
              </a:rPr>
              <a:t>3 </a:t>
            </a:r>
            <a:r>
              <a:rPr b="1" lang="en-GB" sz="2800" spc="-1" strike="noStrike" baseline="30000">
                <a:solidFill>
                  <a:srgbClr val="008000"/>
                </a:solidFill>
                <a:latin typeface="Comic Sans MS"/>
              </a:rPr>
              <a:t>-</a:t>
            </a:r>
            <a:r>
              <a:rPr b="0" lang="en-GB" sz="2800" spc="-1" strike="noStrike" baseline="30000">
                <a:solidFill>
                  <a:srgbClr val="008000"/>
                </a:solidFill>
                <a:latin typeface="Comic Sans MS"/>
              </a:rPr>
              <a:t> (-9)</a:t>
            </a: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 nm = 6 x 10</a:t>
            </a:r>
            <a:r>
              <a:rPr b="0" lang="ar-SA" sz="2800" spc="-1" strike="noStrike" baseline="30000">
                <a:solidFill>
                  <a:srgbClr val="008000"/>
                </a:solidFill>
                <a:latin typeface="Comic Sans MS"/>
              </a:rPr>
              <a:t>-</a:t>
            </a:r>
            <a:r>
              <a:rPr b="0" lang="en-GB" sz="2800" spc="-1" strike="noStrike" baseline="30000">
                <a:solidFill>
                  <a:srgbClr val="008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 nm (km is 1</a:t>
            </a:r>
            <a:r>
              <a:rPr b="0" lang="ar-SA" sz="2800" spc="-1" strike="noStrike">
                <a:solidFill>
                  <a:srgbClr val="008000"/>
                </a:solidFill>
                <a:latin typeface="Comic Sans MS"/>
              </a:rPr>
              <a:t>0</a:t>
            </a:r>
            <a:r>
              <a:rPr b="0" lang="en-GB" sz="2800" spc="-1" strike="noStrike" baseline="30000">
                <a:solidFill>
                  <a:srgbClr val="008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 m put negative sign (the nm is 10</a:t>
            </a:r>
            <a:r>
              <a:rPr b="0" lang="en-GB" sz="2800" spc="-1" strike="noStrike" baseline="30000">
                <a:solidFill>
                  <a:srgbClr val="008000"/>
                </a:solidFill>
                <a:latin typeface="Comic Sans MS"/>
              </a:rPr>
              <a:t>-9</a:t>
            </a: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 m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694FD-C3E2-4F28-AF19-E3303D9970C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Content Placeholder 1"/>
          <p:cNvSpPr/>
          <p:nvPr/>
        </p:nvSpPr>
        <p:spPr>
          <a:xfrm>
            <a:off x="380880" y="1219320"/>
            <a:ext cx="762012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ow many microseconds are in</a:t>
            </a: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 second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 1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 1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 1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e6"/>
                </a:solidFill>
                <a:latin typeface="Comic Sans MS"/>
              </a:rPr>
              <a:t>(d) 1 x 10 </a:t>
            </a:r>
            <a:r>
              <a:rPr b="0" lang="en-US" sz="2800" spc="-1" strike="noStrike" baseline="30000">
                <a:solidFill>
                  <a:srgbClr val="cccce6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0"/>
          <p:cNvSpPr/>
          <p:nvPr/>
        </p:nvSpPr>
        <p:spPr>
          <a:xfrm>
            <a:off x="380880" y="30492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Ex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E55A9-C967-4269-B1A4-683FF00C197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Content Placeholder 1"/>
          <p:cNvSpPr/>
          <p:nvPr/>
        </p:nvSpPr>
        <p:spPr>
          <a:xfrm>
            <a:off x="380880" y="685800"/>
            <a:ext cx="83059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hich of the following is the small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ista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  21 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 2.1 x 10</a:t>
            </a:r>
            <a:r>
              <a:rPr b="0" lang="pl-PL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  21 m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d) 2.1 x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mic Sans MS"/>
              </a:rPr>
              <a:t>Put all of them in the same un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DAAB4-E8CC-40C7-9C44-722F7B3A240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0" y="990720"/>
            <a:ext cx="8964720" cy="44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Comic Sans MS"/>
              </a:rPr>
              <a:t>Course Code/Numb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Chem 1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Comic Sans MS"/>
              </a:rPr>
              <a:t>Course Instruct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Dr. Nuha Wazz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mic Sans MS"/>
              </a:rPr>
              <a:t>Assistant Professor of Physical Chem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Office: Building 7 /2</a:t>
            </a:r>
            <a:r>
              <a:rPr b="1" lang="en-GB" sz="2800" spc="-1" strike="noStrike" baseline="30000">
                <a:solidFill>
                  <a:srgbClr val="000000"/>
                </a:solidFill>
                <a:latin typeface="Comic Sans MS"/>
              </a:rPr>
              <a:t>nd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Floor/ Office 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Comic Sans MS"/>
              </a:rPr>
              <a:t>Office hours: S.M.W.. 12-1 &amp; ...T.. 9-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ebsite: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nwazzan.kau.edu.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Email: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em110_nwazzan@hotmail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D2E02-7A80-45F2-A268-1D032851B11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Content Placeholder 1"/>
          <p:cNvSpPr/>
          <p:nvPr/>
        </p:nvSpPr>
        <p:spPr>
          <a:xfrm>
            <a:off x="304920" y="609480"/>
            <a:ext cx="82296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hich of the following is the small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ista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  21 m   →  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21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 2.1 x 10</a:t>
            </a:r>
            <a:r>
              <a:rPr b="0" lang="pl-PL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 c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→  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2.1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  21 mm →  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0.021 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d) 2.1 x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pm →  </a:t>
            </a:r>
            <a:r>
              <a:rPr b="1" lang="en-US" sz="2800" spc="-1" strike="noStrike">
                <a:solidFill>
                  <a:srgbClr val="0070c0"/>
                </a:solidFill>
                <a:latin typeface="Comic Sans MS"/>
              </a:rPr>
              <a:t>2.1 x 10</a:t>
            </a:r>
            <a:r>
              <a:rPr b="1" lang="en-US" sz="2800" spc="-1" strike="noStrike" baseline="30000">
                <a:solidFill>
                  <a:srgbClr val="0070c0"/>
                </a:solidFill>
                <a:latin typeface="Comic Sans MS"/>
              </a:rPr>
              <a:t>-8</a:t>
            </a:r>
            <a:r>
              <a:rPr b="1" lang="en-US" sz="2800" spc="-1" strike="noStrike">
                <a:solidFill>
                  <a:srgbClr val="0070c0"/>
                </a:solidFill>
                <a:latin typeface="Comic Sans MS"/>
              </a:rPr>
              <a:t> 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mic Sans MS"/>
              </a:rPr>
              <a:t>Put all of them in the same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3232"/>
                </a:solidFill>
                <a:latin typeface="Comic Sans MS"/>
              </a:rPr>
              <a:t>Explanation: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ven though 2.1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rgest number in this question, the units of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picometers) are the smallest units he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king it the smallest dist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5122E-9780-418F-8411-23AFAA4DB87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04560" y="457200"/>
            <a:ext cx="8458200" cy="55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e diameter of an atom is approximately 1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1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Comic Sans MS"/>
              </a:rPr>
              <a:t>-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m. What is this diameter when expressed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nanometers?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18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n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   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15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n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9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n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e6"/>
                </a:solidFill>
                <a:latin typeface="Comic Sans MS"/>
              </a:rPr>
              <a:t>(d)</a:t>
            </a:r>
            <a:r>
              <a:rPr b="0" lang="en-US" sz="2800" spc="-1" strike="noStrike">
                <a:solidFill>
                  <a:srgbClr val="cccce6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cccce6"/>
                </a:solidFill>
                <a:latin typeface="Comic Sans MS"/>
              </a:rPr>
              <a:t>1 </a:t>
            </a:r>
            <a:r>
              <a:rPr b="0" lang="en-US" sz="2800" spc="-1" strike="noStrike">
                <a:solidFill>
                  <a:srgbClr val="cccce6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cccce6"/>
                </a:solidFill>
                <a:latin typeface="Comic Sans MS"/>
              </a:rPr>
              <a:t> 10</a:t>
            </a:r>
            <a:r>
              <a:rPr b="0" lang="en-US" sz="2800" spc="-1" strike="noStrike" baseline="30000">
                <a:solidFill>
                  <a:srgbClr val="cccce6"/>
                </a:solidFill>
                <a:latin typeface="Comic Sans MS"/>
              </a:rPr>
              <a:t>-1</a:t>
            </a:r>
            <a:r>
              <a:rPr b="0" lang="en-US" sz="2800" spc="-1" strike="noStrike">
                <a:solidFill>
                  <a:srgbClr val="cccce6"/>
                </a:solidFill>
                <a:latin typeface="Comic Sans MS"/>
              </a:rPr>
              <a:t> n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5646A-C829-47BE-813F-9E52EDACE0B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04920" y="457200"/>
            <a:ext cx="8076960" cy="55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H.W.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Which of these quantities represents the largest mass?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0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0.0010 k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0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(d)</a:t>
            </a: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2.0 </a:t>
            </a:r>
            <a:r>
              <a:rPr b="0" lang="en-US" sz="2800" spc="-1" strike="noStrike">
                <a:solidFill>
                  <a:srgbClr val="666699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 10</a:t>
            </a:r>
            <a:r>
              <a:rPr b="0" lang="en-US" sz="2800" spc="-1" strike="noStrike" baseline="30000">
                <a:solidFill>
                  <a:srgbClr val="666699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 c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Put all of them in the same un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E3422-1AB6-4DDC-A33D-B6F5CA5DFAE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228240" y="1066320"/>
            <a:ext cx="6629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Mass: 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s the measure of the amount of matter in an object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b050"/>
                </a:solidFill>
                <a:latin typeface="Comic Sans MS"/>
              </a:rPr>
              <a:t>SI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unit of mass is the 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kilogram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(kg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1 kg = 1000 g = 1 x 10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Weight: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is the measurement of the pull of gravity on an object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700" spc="-1" strike="noStrike">
                <a:solidFill>
                  <a:srgbClr val="00b050"/>
                </a:solidFill>
                <a:latin typeface="Comic Sans MS"/>
              </a:rPr>
              <a:t>Mass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an object doesn't change when an object's location changes. </a:t>
            </a:r>
            <a:r>
              <a:rPr b="1" lang="en-US" sz="2700" spc="-1" strike="noStrike">
                <a:solidFill>
                  <a:srgbClr val="00b050"/>
                </a:solidFill>
                <a:latin typeface="Comic Sans MS"/>
              </a:rPr>
              <a:t>Weight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, on the other hand does change with location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Chemist are interested primarily in </a:t>
            </a:r>
            <a:r>
              <a:rPr b="1" lang="en-US" sz="2700" spc="-1" strike="noStrike">
                <a:solidFill>
                  <a:srgbClr val="00b050"/>
                </a:solidFill>
                <a:latin typeface="Comic Sans MS"/>
              </a:rPr>
              <a:t>mass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01_03"/>
          <p:cNvPicPr/>
          <p:nvPr/>
        </p:nvPicPr>
        <p:blipFill>
          <a:blip r:embed="rId1"/>
          <a:srcRect l="0" t="0" r="20710" b="0"/>
          <a:stretch/>
        </p:blipFill>
        <p:spPr>
          <a:xfrm>
            <a:off x="6781680" y="533520"/>
            <a:ext cx="2133720" cy="208728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7"/>
          <p:cNvSpPr/>
          <p:nvPr/>
        </p:nvSpPr>
        <p:spPr>
          <a:xfrm>
            <a:off x="1600200" y="37339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d3232"/>
                </a:solidFill>
                <a:latin typeface="Comic Sans MS"/>
              </a:rPr>
              <a:t>weight = </a:t>
            </a:r>
            <a:r>
              <a:rPr b="0" i="1" lang="en-US" sz="2800" spc="-1" strike="noStrike">
                <a:solidFill>
                  <a:srgbClr val="9d3232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9d3232"/>
                </a:solidFill>
                <a:latin typeface="Comic Sans MS"/>
              </a:rPr>
              <a:t> x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5791320" y="342900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d3232"/>
                </a:solidFill>
                <a:latin typeface="Comic Sans MS"/>
              </a:rPr>
              <a:t>The weight of man on earth is 50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u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d3232"/>
                </a:solidFill>
                <a:latin typeface="Comic Sans MS"/>
              </a:rPr>
              <a:t>is 8.25 pounds on mo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380880" y="38088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Mass and We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CCBB5-2572-4CD1-AD86-728361470765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304560" y="12952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I Derived Unit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re defined in terms of the seven base quantities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vi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 system of quantity equa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Comic Sans MS"/>
              </a:rPr>
              <a:t>Area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=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width x 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it of width = 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it of length = 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it of Area = m× m 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5267160" y="4648320"/>
            <a:ext cx="366912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eat units like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304920" y="380880"/>
            <a:ext cx="78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SI Derived Un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9"/>
          <p:cNvSpPr/>
          <p:nvPr/>
        </p:nvSpPr>
        <p:spPr>
          <a:xfrm>
            <a:off x="3276720" y="5638680"/>
            <a:ext cx="3276360" cy="990720"/>
          </a:xfrm>
          <a:prstGeom prst="wedgeRectCallout">
            <a:avLst>
              <a:gd name="adj1" fmla="val -3050"/>
              <a:gd name="adj2" fmla="val -101763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 derived unit fo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9"/>
          <p:cNvSpPr/>
          <p:nvPr/>
        </p:nvSpPr>
        <p:spPr>
          <a:xfrm>
            <a:off x="5257800" y="3657600"/>
            <a:ext cx="2590920" cy="609480"/>
          </a:xfrm>
          <a:prstGeom prst="wedgeRectCallout">
            <a:avLst>
              <a:gd name="adj1" fmla="val -90504"/>
              <a:gd name="adj2" fmla="val 1900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 Base un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86200" y="3733920"/>
            <a:ext cx="304920" cy="685800"/>
          </a:xfrm>
          <a:custGeom>
            <a:avLst/>
            <a:gdLst>
              <a:gd name="textAreaLeft" fmla="*/ 0 w 304920"/>
              <a:gd name="textAreaRight" fmla="*/ 110160 w 3049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F5AAC-1906-4417-9501-F548250F1D2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3"/>
          <p:cNvSpPr/>
          <p:nvPr/>
        </p:nvSpPr>
        <p:spPr>
          <a:xfrm>
            <a:off x="2743200" y="414360"/>
            <a:ext cx="6629400" cy="42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Volume</a:t>
            </a: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Volume = width × length × heigh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 m × m × m = 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050280" y="4114800"/>
            <a:ext cx="562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1 cm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3</a:t>
            </a: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 = (1 x 10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-2</a:t>
            </a: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 m)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3</a:t>
            </a: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 = 1 x 10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-6</a:t>
            </a: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 m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092400" y="4724280"/>
            <a:ext cx="566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1 dm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3</a:t>
            </a: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 = (1 x 10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-1</a:t>
            </a: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 m)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3</a:t>
            </a: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 = 1 x 10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-3</a:t>
            </a: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 m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2728800" cy="4952880"/>
          </a:xfrm>
          <a:prstGeom prst="rect">
            <a:avLst/>
          </a:prstGeom>
          <a:ln w="0">
            <a:noFill/>
          </a:ln>
        </p:spPr>
      </p:pic>
      <p:sp>
        <p:nvSpPr>
          <p:cNvPr id="183" name="AutoShape 9"/>
          <p:cNvSpPr/>
          <p:nvPr/>
        </p:nvSpPr>
        <p:spPr>
          <a:xfrm>
            <a:off x="3581280" y="2590920"/>
            <a:ext cx="5181840" cy="990360"/>
          </a:xfrm>
          <a:prstGeom prst="wedgeRectCallout">
            <a:avLst>
              <a:gd name="adj1" fmla="val 6708"/>
              <a:gd name="adj2" fmla="val -9599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bic meter (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is the SI derived unit for vol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F2DC9-AE19-479C-B20A-F199FEE9C88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3"/>
          <p:cNvSpPr/>
          <p:nvPr/>
        </p:nvSpPr>
        <p:spPr>
          <a:xfrm>
            <a:off x="266760" y="338040"/>
            <a:ext cx="9029520" cy="64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Volum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mon  unit of volume is liter (L) and milliliter (m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elation ship between liter (L) and m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1L= 1000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elation ship between liter (L) and metric system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1 L = 1dm</a:t>
            </a:r>
            <a:r>
              <a:rPr b="1" lang="en-US" sz="2800" spc="-1" strike="noStrike" baseline="30000">
                <a:solidFill>
                  <a:srgbClr val="008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ff0000"/>
                </a:solidFill>
                <a:latin typeface="Comic Sans MS"/>
              </a:rPr>
              <a:t>A liter: is the volume occupied by one cubic decimeter</a:t>
            </a:r>
            <a:r>
              <a:rPr b="1" lang="en-GB" sz="4400" spc="-1" strike="noStrike" baseline="30000">
                <a:solidFill>
                  <a:srgbClr val="ff00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elation ship between milliliter (ml) and metric system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1 mL = 1cm</a:t>
            </a:r>
            <a:r>
              <a:rPr b="1" lang="en-US" sz="2800" spc="-1" strike="noStrike" baseline="30000">
                <a:solidFill>
                  <a:srgbClr val="008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2A8F1-A2DE-46BD-8CEB-01838A66EA7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0456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450000" indent="-373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omic Sans MS"/>
              </a:rPr>
              <a:t>How many cubic centimeters are there 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omic Sans MS"/>
              </a:rPr>
              <a:t>exactly one cubic meter?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 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-6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(c)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Comic Sans MS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0c0"/>
                </a:solidFill>
                <a:latin typeface="Comic Sans MS"/>
              </a:rPr>
              <a:t>1 </a:t>
            </a:r>
            <a:r>
              <a:rPr b="0" lang="en-US" sz="3000" spc="-1" strike="noStrike">
                <a:solidFill>
                  <a:srgbClr val="0070c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70c0"/>
                </a:solidFill>
                <a:latin typeface="Comic Sans MS"/>
              </a:rPr>
              <a:t> 10</a:t>
            </a:r>
            <a:r>
              <a:rPr b="0" lang="en-US" sz="3000" spc="-1" strike="noStrike" baseline="30000">
                <a:solidFill>
                  <a:srgbClr val="0070c0"/>
                </a:solidFill>
                <a:latin typeface="Comic Sans MS"/>
              </a:rPr>
              <a:t>6</a:t>
            </a:r>
            <a:r>
              <a:rPr b="0" lang="en-US" sz="3000" spc="-1" strike="noStrike">
                <a:solidFill>
                  <a:srgbClr val="0070c0"/>
                </a:solidFill>
                <a:latin typeface="Comic Sans MS"/>
              </a:rPr>
              <a:t> cm</a:t>
            </a:r>
            <a:r>
              <a:rPr b="0" lang="en-US" sz="3000" spc="-1" strike="noStrike" baseline="30000">
                <a:solidFill>
                  <a:srgbClr val="0070c0"/>
                </a:solidFill>
                <a:latin typeface="Comic Sans MS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Comic Sans MS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b050"/>
                </a:solidFill>
                <a:latin typeface="Comic Sans MS"/>
              </a:rPr>
              <a:t>Solu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(1m 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= (1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1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= 1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 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380880" y="38088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29A6E-B0AA-42CA-9C86-7708177736B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-360" y="1066320"/>
            <a:ext cx="61722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ensity: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is the amount of matter in a given amount of spa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Comic Sans MS"/>
              </a:rPr>
              <a:t>             </a:t>
            </a:r>
            <a:r>
              <a:rPr b="0" lang="en-US" sz="3600" spc="-1" strike="noStrike">
                <a:solidFill>
                  <a:srgbClr val="00b0f0"/>
                </a:solidFill>
                <a:latin typeface="Comic Sans MS"/>
              </a:rPr>
              <a:t>d = m/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Comic Sans MS"/>
              </a:rPr>
              <a:t>SI derived unit for density is kg/m</a:t>
            </a:r>
            <a:r>
              <a:rPr b="1" lang="en-US" sz="3600" spc="-1" strike="noStrike" baseline="30000">
                <a:solidFill>
                  <a:srgbClr val="00b050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8"/>
          <p:cNvGrpSpPr/>
          <p:nvPr/>
        </p:nvGrpSpPr>
        <p:grpSpPr>
          <a:xfrm>
            <a:off x="995400" y="3048120"/>
            <a:ext cx="3034800" cy="779760"/>
            <a:chOff x="995400" y="3048120"/>
            <a:chExt cx="3034800" cy="779760"/>
          </a:xfrm>
        </p:grpSpPr>
        <p:sp>
          <p:nvSpPr>
            <p:cNvPr id="189" name="Text Box 4"/>
            <p:cNvSpPr/>
            <p:nvPr/>
          </p:nvSpPr>
          <p:spPr>
            <a:xfrm>
              <a:off x="995400" y="3229200"/>
              <a:ext cx="155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density =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5"/>
            <p:cNvSpPr/>
            <p:nvPr/>
          </p:nvSpPr>
          <p:spPr>
            <a:xfrm>
              <a:off x="2833200" y="3048120"/>
              <a:ext cx="92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ma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6"/>
            <p:cNvSpPr/>
            <p:nvPr/>
          </p:nvSpPr>
          <p:spPr>
            <a:xfrm>
              <a:off x="2680920" y="3368160"/>
              <a:ext cx="124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volu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7"/>
            <p:cNvSpPr/>
            <p:nvPr/>
          </p:nvSpPr>
          <p:spPr>
            <a:xfrm>
              <a:off x="2734920" y="3438000"/>
              <a:ext cx="12952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380880" y="34920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Dens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6019920" y="609480"/>
            <a:ext cx="3001680" cy="525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57F88-1158-4DC0-95D2-66C7A87C7885}" type="slidenum">
              <a:t>28</a:t>
            </a:fld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56840" y="457200"/>
            <a:ext cx="84582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7d"/>
                </a:solidFill>
                <a:latin typeface="Comic Sans MS"/>
              </a:rPr>
              <a:t>Density decrease with tempera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700e2a"/>
                </a:solidFill>
                <a:latin typeface="Comic Sans MS"/>
              </a:rPr>
              <a:t>g/ml  &amp; </a:t>
            </a:r>
            <a:r>
              <a:rPr b="0" lang="ar-SA" sz="3600" spc="-1" strike="noStrike">
                <a:solidFill>
                  <a:srgbClr val="700e2a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700e2a"/>
                </a:solidFill>
                <a:latin typeface="Comic Sans MS"/>
              </a:rPr>
              <a:t>g/cm</a:t>
            </a:r>
            <a:r>
              <a:rPr b="0" lang="en-US" sz="3600" spc="-1" strike="noStrike" baseline="30000">
                <a:solidFill>
                  <a:srgbClr val="700e2a"/>
                </a:solidFill>
                <a:latin typeface="Comic Sans MS"/>
              </a:rPr>
              <a:t>3</a:t>
            </a:r>
            <a:r>
              <a:rPr b="0" lang="en-US" sz="3600" spc="-1" strike="noStrike">
                <a:solidFill>
                  <a:srgbClr val="700e2a"/>
                </a:solidFill>
                <a:latin typeface="Comic Sans MS"/>
              </a:rPr>
              <a:t> for liquid and sol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g/L = 0.001 g/ml for gases (Because density of gases are very low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56618-F1C4-45E9-AD3A-FF29B467E570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Required Textbook and 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457200" y="2209680"/>
            <a:ext cx="6095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Chemis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By: R. Chang, 10</a:t>
            </a:r>
            <a:r>
              <a:rPr b="0" lang="en-GB" sz="36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 editio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cGraw Hill interna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Handouts (PPt slid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i_vv4-0" descr="http://i.ebayimg.com/21/!B)7q8lQ!Wk~$(KGrHqEOKnQEw8ojvO2CBMPkKfyHb!~~_12.JPG"/>
          <p:cNvPicPr/>
          <p:nvPr/>
        </p:nvPicPr>
        <p:blipFill>
          <a:blip r:embed="rId3"/>
          <a:stretch/>
        </p:blipFill>
        <p:spPr>
          <a:xfrm>
            <a:off x="6248520" y="2057400"/>
            <a:ext cx="2819160" cy="3352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7565F-B8DF-42BB-94E9-D47A12881DA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Questions in Density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90720" y="1752480"/>
            <a:ext cx="6400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17524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62520" y="1752480"/>
            <a:ext cx="0" cy="129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391520" y="17524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52280" y="2895480"/>
            <a:ext cx="2286000" cy="314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ff"/>
                </a:solidFill>
                <a:latin typeface="Comic Sans MS"/>
              </a:rPr>
              <a:t>Given</a:t>
            </a:r>
            <a:r>
              <a:rPr b="0" lang="en-US" sz="3600" spc="-1" strike="noStrike">
                <a:solidFill>
                  <a:srgbClr val="9999ff"/>
                </a:solidFill>
                <a:latin typeface="Comic Sans MS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ff"/>
                </a:solidFill>
                <a:latin typeface="Comic Sans MS"/>
              </a:rPr>
              <a:t>m &amp; 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ff"/>
                </a:solidFill>
                <a:latin typeface="Comic Sans MS"/>
              </a:rPr>
              <a:t>? </a:t>
            </a:r>
            <a:r>
              <a:rPr b="0" lang="en-US" sz="3600" spc="-1" strike="noStrike">
                <a:solidFill>
                  <a:srgbClr val="9999ff"/>
                </a:solidFill>
                <a:latin typeface="Comic Sans MS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ff"/>
                </a:solidFill>
                <a:latin typeface="Comic Sans MS"/>
              </a:rPr>
              <a:t>d = m/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248520" y="2971800"/>
            <a:ext cx="2286000" cy="314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33"/>
                </a:solidFill>
                <a:latin typeface="Comic Sans MS"/>
              </a:rPr>
              <a:t>Given</a:t>
            </a:r>
            <a:r>
              <a:rPr b="0" lang="en-US" sz="3600" spc="-1" strike="noStrike">
                <a:solidFill>
                  <a:srgbClr val="996633"/>
                </a:solidFill>
                <a:latin typeface="Comic Sans MS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33"/>
                </a:solidFill>
                <a:latin typeface="Comic Sans MS"/>
              </a:rPr>
              <a:t>m &amp; 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33"/>
                </a:solidFill>
                <a:latin typeface="Comic Sans MS"/>
              </a:rPr>
              <a:t>? </a:t>
            </a:r>
            <a:r>
              <a:rPr b="0" lang="en-US" sz="3600" spc="-1" strike="noStrike">
                <a:solidFill>
                  <a:srgbClr val="996633"/>
                </a:solidFill>
                <a:latin typeface="Comic Sans MS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33"/>
                </a:solidFill>
                <a:latin typeface="Comic Sans MS"/>
              </a:rPr>
              <a:t>V = m /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895480" y="3201840"/>
            <a:ext cx="2286000" cy="314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Comic Sans MS"/>
              </a:rPr>
              <a:t>Given</a:t>
            </a:r>
            <a:r>
              <a:rPr b="0" lang="en-US" sz="3600" spc="-1" strike="noStrike">
                <a:solidFill>
                  <a:srgbClr val="008000"/>
                </a:solidFill>
                <a:latin typeface="Comic Sans MS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Comic Sans MS"/>
              </a:rPr>
              <a:t>V &amp; 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Comic Sans MS"/>
              </a:rPr>
              <a:t>? </a:t>
            </a:r>
            <a:r>
              <a:rPr b="0" lang="en-US" sz="3600" spc="-1" strike="noStrike">
                <a:solidFill>
                  <a:srgbClr val="008000"/>
                </a:solidFill>
                <a:latin typeface="Comic Sans MS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Comic Sans MS"/>
              </a:rPr>
              <a:t>m = d x 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FB04A-2BBA-416B-AAC5-1168BA7C3C2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04560" y="10666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A piece of Gold metal has a volume of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15.6 cm</a:t>
            </a:r>
            <a:r>
              <a:rPr b="1" lang="en-US" sz="31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, with a mass of 301 g  What i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its density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d = m/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533520" y="4829040"/>
            <a:ext cx="510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 = 301g /  15.6 cm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 = 19.3 g/cm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80880" y="38088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xample 1.1 p19</a:t>
            </a: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B9044-5300-4F5C-8DFE-8397F541700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57200" y="3805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Practice Exercise p19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A piece of platinum metal with a densit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of 21.5 g/cm</a:t>
            </a:r>
            <a:r>
              <a:rPr b="1" lang="en-US" sz="31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 has a volume of 4.49 cm</a:t>
            </a:r>
            <a:r>
              <a:rPr b="1" lang="en-US" sz="31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What is its mass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2"/>
          <p:cNvSpPr/>
          <p:nvPr/>
        </p:nvSpPr>
        <p:spPr>
          <a:xfrm>
            <a:off x="3513240" y="4114800"/>
            <a:ext cx="213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d = m/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5"/>
          <p:cNvSpPr/>
          <p:nvPr/>
        </p:nvSpPr>
        <p:spPr>
          <a:xfrm>
            <a:off x="2764080" y="5715000"/>
            <a:ext cx="423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= 21.5 g/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x 4.49 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= 96.5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3"/>
          <p:cNvSpPr/>
          <p:nvPr/>
        </p:nvSpPr>
        <p:spPr>
          <a:xfrm flipV="1">
            <a:off x="4114800" y="5791320"/>
            <a:ext cx="457200" cy="304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24"/>
          <p:cNvSpPr/>
          <p:nvPr/>
        </p:nvSpPr>
        <p:spPr>
          <a:xfrm flipV="1">
            <a:off x="6095880" y="5791320"/>
            <a:ext cx="457200" cy="304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E955C-706D-460C-9154-E13F712D5B0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80520" y="42696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xample 1.2 p19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The density of mercury is 13.6 g/mL ha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a volume of 5.50 mL.  What is its mass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2"/>
          <p:cNvSpPr/>
          <p:nvPr/>
        </p:nvSpPr>
        <p:spPr>
          <a:xfrm>
            <a:off x="3513240" y="3962520"/>
            <a:ext cx="213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d = m/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20"/>
          <p:cNvSpPr/>
          <p:nvPr/>
        </p:nvSpPr>
        <p:spPr>
          <a:xfrm>
            <a:off x="2209680" y="545472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 = 13.6 g/mL x 5.50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 = 74.8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23"/>
          <p:cNvSpPr/>
          <p:nvPr/>
        </p:nvSpPr>
        <p:spPr>
          <a:xfrm flipV="1">
            <a:off x="4191120" y="5562720"/>
            <a:ext cx="457200" cy="304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24"/>
          <p:cNvSpPr/>
          <p:nvPr/>
        </p:nvSpPr>
        <p:spPr>
          <a:xfrm flipV="1">
            <a:off x="5867280" y="5562720"/>
            <a:ext cx="457200" cy="304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A1781-F5D1-41AD-A82C-28347D20EF6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57200" y="36504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Temperature Sc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5329080" y="1400040"/>
            <a:ext cx="2210040" cy="4335480"/>
            <a:chOff x="5329080" y="1400040"/>
            <a:chExt cx="2210040" cy="4335480"/>
          </a:xfrm>
        </p:grpSpPr>
        <p:pic>
          <p:nvPicPr>
            <p:cNvPr id="219" name="" descr=""/>
            <p:cNvPicPr/>
            <p:nvPr/>
          </p:nvPicPr>
          <p:blipFill>
            <a:blip r:embed="rId1"/>
            <a:stretch/>
          </p:blipFill>
          <p:spPr>
            <a:xfrm>
              <a:off x="5329080" y="1400040"/>
              <a:ext cx="2041560" cy="419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" descr=""/>
            <p:cNvPicPr/>
            <p:nvPr/>
          </p:nvPicPr>
          <p:blipFill>
            <a:blip r:embed="rId2"/>
            <a:stretch/>
          </p:blipFill>
          <p:spPr>
            <a:xfrm>
              <a:off x="6838920" y="5209920"/>
              <a:ext cx="700200" cy="525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7029360" y="5200560"/>
            <a:ext cx="533520" cy="31428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4"/>
          <a:stretch/>
        </p:blipFill>
        <p:spPr>
          <a:xfrm>
            <a:off x="8186760" y="3867120"/>
            <a:ext cx="271440" cy="2635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5"/>
          <a:stretch/>
        </p:blipFill>
        <p:spPr>
          <a:xfrm>
            <a:off x="3728880" y="1352520"/>
            <a:ext cx="860760" cy="4162320"/>
          </a:xfrm>
          <a:prstGeom prst="rect">
            <a:avLst/>
          </a:prstGeom>
          <a:ln w="0">
            <a:noFill/>
          </a:ln>
        </p:spPr>
      </p:pic>
      <p:grpSp>
        <p:nvGrpSpPr>
          <p:cNvPr id="224" name=""/>
          <p:cNvGrpSpPr/>
          <p:nvPr/>
        </p:nvGrpSpPr>
        <p:grpSpPr>
          <a:xfrm>
            <a:off x="6929280" y="1628640"/>
            <a:ext cx="547920" cy="2633760"/>
            <a:chOff x="6929280" y="1628640"/>
            <a:chExt cx="547920" cy="2633760"/>
          </a:xfrm>
        </p:grpSpPr>
        <p:pic>
          <p:nvPicPr>
            <p:cNvPr id="225" name="" descr=""/>
            <p:cNvPicPr/>
            <p:nvPr/>
          </p:nvPicPr>
          <p:blipFill>
            <a:blip r:embed="rId6"/>
            <a:stretch/>
          </p:blipFill>
          <p:spPr>
            <a:xfrm>
              <a:off x="7143840" y="1628640"/>
              <a:ext cx="3045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" descr=""/>
            <p:cNvPicPr/>
            <p:nvPr/>
          </p:nvPicPr>
          <p:blipFill>
            <a:blip r:embed="rId7"/>
            <a:stretch/>
          </p:blipFill>
          <p:spPr>
            <a:xfrm>
              <a:off x="7110360" y="3166920"/>
              <a:ext cx="30492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" descr=""/>
            <p:cNvPicPr/>
            <p:nvPr/>
          </p:nvPicPr>
          <p:blipFill>
            <a:blip r:embed="rId8"/>
            <a:stretch/>
          </p:blipFill>
          <p:spPr>
            <a:xfrm>
              <a:off x="6929280" y="3395520"/>
              <a:ext cx="457200" cy="2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9"/>
            <a:stretch/>
          </p:blipFill>
          <p:spPr>
            <a:xfrm>
              <a:off x="7172280" y="4033800"/>
              <a:ext cx="304920" cy="228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9" name=""/>
          <p:cNvGrpSpPr/>
          <p:nvPr/>
        </p:nvGrpSpPr>
        <p:grpSpPr>
          <a:xfrm>
            <a:off x="7116840" y="1371600"/>
            <a:ext cx="1312920" cy="4185720"/>
            <a:chOff x="7116840" y="1371600"/>
            <a:chExt cx="1312920" cy="4185720"/>
          </a:xfrm>
        </p:grpSpPr>
        <p:pic>
          <p:nvPicPr>
            <p:cNvPr id="230" name="" descr=""/>
            <p:cNvPicPr/>
            <p:nvPr/>
          </p:nvPicPr>
          <p:blipFill>
            <a:blip r:embed="rId10"/>
            <a:stretch/>
          </p:blipFill>
          <p:spPr>
            <a:xfrm>
              <a:off x="7388280" y="1371600"/>
              <a:ext cx="1041480" cy="39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11"/>
            <a:stretch/>
          </p:blipFill>
          <p:spPr>
            <a:xfrm>
              <a:off x="7116840" y="5367240"/>
              <a:ext cx="761760" cy="19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2" name=""/>
          <p:cNvSpPr/>
          <p:nvPr/>
        </p:nvSpPr>
        <p:spPr>
          <a:xfrm>
            <a:off x="2362320" y="5715000"/>
            <a:ext cx="6476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Kelvin is the SI Base Unit of 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1447920"/>
            <a:ext cx="37339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99ff"/>
                </a:solidFill>
                <a:latin typeface="Comic Sans MS"/>
              </a:rPr>
              <a:t>These thermometers defined the Freezing Point (F.P.) &amp; the Boiling  Point (B.P.) of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9D8E0-A143-461B-B0EA-9FA10388F5A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457200" y="36504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Temperature Sc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6091200" y="2522520"/>
            <a:ext cx="2209320" cy="4335480"/>
            <a:chOff x="6091200" y="2522520"/>
            <a:chExt cx="2209320" cy="4335480"/>
          </a:xfrm>
        </p:grpSpPr>
        <p:pic>
          <p:nvPicPr>
            <p:cNvPr id="236" name="" descr=""/>
            <p:cNvPicPr/>
            <p:nvPr/>
          </p:nvPicPr>
          <p:blipFill>
            <a:blip r:embed="rId1"/>
            <a:stretch/>
          </p:blipFill>
          <p:spPr>
            <a:xfrm>
              <a:off x="6091200" y="2522520"/>
              <a:ext cx="2041200" cy="419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" descr=""/>
            <p:cNvPicPr/>
            <p:nvPr/>
          </p:nvPicPr>
          <p:blipFill>
            <a:blip r:embed="rId2"/>
            <a:stretch/>
          </p:blipFill>
          <p:spPr>
            <a:xfrm>
              <a:off x="7600680" y="6332400"/>
              <a:ext cx="699840" cy="525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7791480" y="6323040"/>
            <a:ext cx="533520" cy="3142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8948880" y="4989600"/>
            <a:ext cx="271440" cy="2635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4491000" y="2475000"/>
            <a:ext cx="860400" cy="4162320"/>
          </a:xfrm>
          <a:prstGeom prst="rect">
            <a:avLst/>
          </a:prstGeom>
          <a:ln w="0">
            <a:noFill/>
          </a:ln>
        </p:spPr>
      </p:pic>
      <p:grpSp>
        <p:nvGrpSpPr>
          <p:cNvPr id="241" name=""/>
          <p:cNvGrpSpPr/>
          <p:nvPr/>
        </p:nvGrpSpPr>
        <p:grpSpPr>
          <a:xfrm>
            <a:off x="7691400" y="2751120"/>
            <a:ext cx="547200" cy="2633760"/>
            <a:chOff x="7691400" y="2751120"/>
            <a:chExt cx="547200" cy="2633760"/>
          </a:xfrm>
        </p:grpSpPr>
        <p:pic>
          <p:nvPicPr>
            <p:cNvPr id="242" name="" descr=""/>
            <p:cNvPicPr/>
            <p:nvPr/>
          </p:nvPicPr>
          <p:blipFill>
            <a:blip r:embed="rId6"/>
            <a:stretch/>
          </p:blipFill>
          <p:spPr>
            <a:xfrm>
              <a:off x="7905600" y="2751120"/>
              <a:ext cx="30420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" descr=""/>
            <p:cNvPicPr/>
            <p:nvPr/>
          </p:nvPicPr>
          <p:blipFill>
            <a:blip r:embed="rId7"/>
            <a:stretch/>
          </p:blipFill>
          <p:spPr>
            <a:xfrm>
              <a:off x="7872120" y="4289400"/>
              <a:ext cx="3045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/>
            <p:cNvPicPr/>
            <p:nvPr/>
          </p:nvPicPr>
          <p:blipFill>
            <a:blip r:embed="rId8"/>
            <a:stretch/>
          </p:blipFill>
          <p:spPr>
            <a:xfrm>
              <a:off x="7691400" y="4518000"/>
              <a:ext cx="456840" cy="2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/>
            <p:cNvPicPr/>
            <p:nvPr/>
          </p:nvPicPr>
          <p:blipFill>
            <a:blip r:embed="rId9"/>
            <a:stretch/>
          </p:blipFill>
          <p:spPr>
            <a:xfrm>
              <a:off x="7934040" y="5156280"/>
              <a:ext cx="304560" cy="228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6" name=""/>
          <p:cNvGrpSpPr/>
          <p:nvPr/>
        </p:nvGrpSpPr>
        <p:grpSpPr>
          <a:xfrm>
            <a:off x="7878600" y="2494080"/>
            <a:ext cx="1312920" cy="4185720"/>
            <a:chOff x="7878600" y="2494080"/>
            <a:chExt cx="1312920" cy="4185720"/>
          </a:xfrm>
        </p:grpSpPr>
        <p:pic>
          <p:nvPicPr>
            <p:cNvPr id="247" name="" descr=""/>
            <p:cNvPicPr/>
            <p:nvPr/>
          </p:nvPicPr>
          <p:blipFill>
            <a:blip r:embed="rId10"/>
            <a:stretch/>
          </p:blipFill>
          <p:spPr>
            <a:xfrm>
              <a:off x="8150040" y="2494080"/>
              <a:ext cx="1041480" cy="39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" descr=""/>
            <p:cNvPicPr/>
            <p:nvPr/>
          </p:nvPicPr>
          <p:blipFill>
            <a:blip r:embed="rId11"/>
            <a:stretch/>
          </p:blipFill>
          <p:spPr>
            <a:xfrm>
              <a:off x="7878600" y="6489720"/>
              <a:ext cx="761760" cy="19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"/>
          <p:cNvSpPr/>
          <p:nvPr/>
        </p:nvSpPr>
        <p:spPr>
          <a:xfrm>
            <a:off x="152280" y="1295280"/>
            <a:ext cx="85345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 are three temperature scales, their units ar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. </a:t>
            </a: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Degrees Celsius </a:t>
            </a:r>
            <a:r>
              <a:rPr b="0" lang="en-US" sz="2800" spc="-1" strike="noStrike" baseline="30000">
                <a:solidFill>
                  <a:srgbClr val="666699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. 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Degrees Fahrenheit </a:t>
            </a:r>
            <a:r>
              <a:rPr b="0" lang="en-US" sz="2800" spc="-1" strike="noStrike" baseline="30000">
                <a:solidFill>
                  <a:srgbClr val="00800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.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Kelvin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86309-207F-4D7D-A62D-BC9422BBCC6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457200" y="3808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Temperature Units Conver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8088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-554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99ff"/>
                </a:solidFill>
                <a:latin typeface="Comic Sans MS"/>
              </a:rPr>
              <a:t>Degrees Celsius </a:t>
            </a:r>
            <a:r>
              <a:rPr b="0" lang="en-GB" sz="3200" spc="-1" strike="noStrike" baseline="30000">
                <a:solidFill>
                  <a:srgbClr val="9999ff"/>
                </a:solidFill>
                <a:latin typeface="Comic Sans MS"/>
              </a:rPr>
              <a:t>0</a:t>
            </a:r>
            <a:r>
              <a:rPr b="0" lang="en-GB" sz="3200" spc="-1" strike="noStrike">
                <a:solidFill>
                  <a:srgbClr val="9999ff"/>
                </a:solidFill>
                <a:latin typeface="Comic Sans MS"/>
              </a:rPr>
              <a:t>C:</a:t>
            </a:r>
            <a:r>
              <a:rPr b="0" lang="ar-SA" sz="3200" spc="-1" strike="noStrike">
                <a:solidFill>
                  <a:srgbClr val="9999ff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9999ff"/>
                </a:solidFill>
                <a:latin typeface="Comic Sans MS"/>
              </a:rPr>
              <a:t> Scale 0 </a:t>
            </a:r>
            <a:r>
              <a:rPr b="0" lang="en-GB" sz="3200" spc="-1" strike="noStrike">
                <a:solidFill>
                  <a:srgbClr val="9999ff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9999ff"/>
                </a:solidFill>
                <a:latin typeface="Comic Sans MS"/>
              </a:rPr>
              <a:t>100 Thus: 100 divisions or 100 degr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GB" sz="3200" spc="-1" strike="noStrike">
                <a:solidFill>
                  <a:srgbClr val="008000"/>
                </a:solidFill>
                <a:latin typeface="Comic Sans MS"/>
              </a:rPr>
              <a:t>Kelvin K: Scale 273 </a:t>
            </a:r>
            <a:r>
              <a:rPr b="0" lang="en-GB" sz="3200" spc="-1" strike="noStrike">
                <a:solidFill>
                  <a:srgbClr val="008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8000"/>
                </a:solidFill>
                <a:latin typeface="Comic Sans MS"/>
              </a:rPr>
              <a:t>37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Comic Sans MS"/>
              </a:rPr>
              <a:t>Thus: 100 divisions or 100 degr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Comic Sans MS"/>
              </a:rPr>
              <a:t>1K = 1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Degrees Fahrenheit </a:t>
            </a:r>
            <a:r>
              <a:rPr b="0" lang="en-GB" sz="32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F</a:t>
            </a:r>
            <a:r>
              <a:rPr b="0" lang="ar-SA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: Scale from 32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→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21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Thus: 180 divisions or 180 degr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Thus: the size of degree in </a:t>
            </a:r>
            <a:r>
              <a:rPr b="0" lang="en-GB" sz="24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F scale is only 100/180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5/9 of a degree on the </a:t>
            </a:r>
            <a:r>
              <a:rPr b="0" lang="en-GB" sz="24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C scale</a:t>
            </a:r>
            <a:r>
              <a:rPr b="0" lang="ar-SA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  1</a:t>
            </a:r>
            <a:r>
              <a:rPr b="0" lang="en-GB" sz="24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F = (5/9) 1</a:t>
            </a:r>
            <a:r>
              <a:rPr b="0" lang="en-GB" sz="24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85444-C0A2-4A38-A3A5-286FA628F88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38088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7030a0"/>
                </a:solidFill>
                <a:latin typeface="Comic Sans MS"/>
              </a:rPr>
              <a:t>K</a:t>
            </a: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→ </a:t>
            </a:r>
            <a:r>
              <a:rPr b="0" lang="fi-FI" sz="2800" spc="-1" strike="noStrike">
                <a:solidFill>
                  <a:srgbClr val="00b0f0"/>
                </a:solidFill>
                <a:latin typeface="Comic Sans MS"/>
              </a:rPr>
              <a:t>°C </a:t>
            </a: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fi-FI" sz="2800" spc="-1" strike="noStrike">
                <a:solidFill>
                  <a:srgbClr val="00b0f0"/>
                </a:solidFill>
                <a:latin typeface="Comic Sans MS"/>
              </a:rPr>
              <a:t> °C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→ </a:t>
            </a:r>
            <a:r>
              <a:rPr b="0" lang="fi-FI" sz="2800" spc="-1" strike="noStrike">
                <a:solidFill>
                  <a:srgbClr val="7030a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7030a0"/>
                </a:solidFill>
                <a:latin typeface="Comic Sans MS"/>
              </a:rPr>
              <a:t>K </a:t>
            </a: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fi-FI" sz="2800" spc="-1" strike="noStrike">
                <a:solidFill>
                  <a:srgbClr val="00b0f0"/>
                </a:solidFill>
                <a:latin typeface="Comic Sans MS"/>
              </a:rPr>
              <a:t>°C </a:t>
            </a: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+ 273.1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b0f0"/>
                </a:solidFill>
                <a:latin typeface="Comic Sans MS"/>
              </a:rPr>
              <a:t>°C </a:t>
            </a: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fi-FI" sz="2800" spc="-1" strike="noStrike">
                <a:solidFill>
                  <a:srgbClr val="7030a0"/>
                </a:solidFill>
                <a:latin typeface="Comic Sans MS"/>
              </a:rPr>
              <a:t>K </a:t>
            </a: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- 273.1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Fahrenheit °F → </a:t>
            </a:r>
            <a:r>
              <a:rPr b="1" lang="de-DE" sz="2800" spc="-1" strike="noStrike">
                <a:solidFill>
                  <a:srgbClr val="00b0f0"/>
                </a:solidFill>
                <a:latin typeface="Comic Sans MS"/>
              </a:rPr>
              <a:t>°C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  or </a:t>
            </a:r>
            <a:r>
              <a:rPr b="1" lang="de-DE" sz="2800" spc="-1" strike="noStrike">
                <a:solidFill>
                  <a:srgbClr val="00b0f0"/>
                </a:solidFill>
                <a:latin typeface="Comic Sans MS"/>
              </a:rPr>
              <a:t>°C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de-DE" sz="2800" spc="-1" strike="noStrike">
                <a:solidFill>
                  <a:srgbClr val="c00000"/>
                </a:solidFill>
                <a:latin typeface="Comic Sans MS"/>
              </a:rPr>
              <a:t>°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00000"/>
                </a:solidFill>
                <a:latin typeface="Comic Sans MS"/>
              </a:rPr>
              <a:t>°F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= [ (9/5) × </a:t>
            </a:r>
            <a:r>
              <a:rPr b="1" lang="de-DE" sz="2800" spc="-1" strike="noStrike">
                <a:solidFill>
                  <a:srgbClr val="00b0f0"/>
                </a:solidFill>
                <a:latin typeface="Comic Sans MS"/>
              </a:rPr>
              <a:t>°C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] + 3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b0f0"/>
                </a:solidFill>
                <a:latin typeface="Comic Sans MS"/>
              </a:rPr>
              <a:t>°C 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= (5/9) (</a:t>
            </a:r>
            <a:r>
              <a:rPr b="1" lang="fr-FR" sz="2800" spc="-1" strike="noStrike">
                <a:solidFill>
                  <a:srgbClr val="c00000"/>
                </a:solidFill>
                <a:latin typeface="Comic Sans MS"/>
              </a:rPr>
              <a:t>°F 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- 3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No relatationship betwe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030a0"/>
                </a:solidFill>
                <a:latin typeface="Comic Sans MS"/>
              </a:rPr>
              <a:t>          </a:t>
            </a:r>
            <a:r>
              <a:rPr b="0" lang="fr-FR" sz="2800" spc="-1" strike="noStrike">
                <a:solidFill>
                  <a:srgbClr val="7030a0"/>
                </a:solidFill>
                <a:latin typeface="Comic Sans MS"/>
              </a:rPr>
              <a:t>K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de-DE" sz="2800" spc="-1" strike="noStrike">
                <a:solidFill>
                  <a:srgbClr val="c00000"/>
                </a:solidFill>
                <a:latin typeface="Comic Sans MS"/>
              </a:rPr>
              <a:t>°F       </a:t>
            </a:r>
            <a:r>
              <a:rPr b="1" lang="de-DE" sz="28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1" lang="de-DE" sz="2800" spc="-1" strike="noStrike">
                <a:solidFill>
                  <a:srgbClr val="c00000"/>
                </a:solidFill>
                <a:latin typeface="Comic Sans MS"/>
              </a:rPr>
              <a:t>      °F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fr-FR" sz="2800" spc="-1" strike="noStrike">
                <a:solidFill>
                  <a:srgbClr val="7030a0"/>
                </a:solidFill>
                <a:latin typeface="Comic Sans MS"/>
              </a:rPr>
              <a:t>K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Thus:  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K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fr-FR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C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F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C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" y="4572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Temperature Units Conver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04920" y="1600200"/>
            <a:ext cx="2971800" cy="114300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80880" y="3733920"/>
            <a:ext cx="3886200" cy="99036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523880" y="6248520"/>
            <a:ext cx="2362320" cy="457200"/>
          </a:xfrm>
          <a:prstGeom prst="wedgeRectCallout">
            <a:avLst>
              <a:gd name="adj1" fmla="val -25805"/>
              <a:gd name="adj2" fmla="val -74305"/>
            </a:avLst>
          </a:prstGeom>
          <a:noFill/>
          <a:ln w="255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343400" y="6248520"/>
            <a:ext cx="2438280" cy="457200"/>
          </a:xfrm>
          <a:prstGeom prst="wedgeRectCallout">
            <a:avLst>
              <a:gd name="adj1" fmla="val 523"/>
              <a:gd name="adj2" fmla="val -83333"/>
            </a:avLst>
          </a:prstGeom>
          <a:noFill/>
          <a:ln w="255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7304A-23D2-4EDE-90B4-259FC9047A9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38088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(a) Convert 224 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C 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→</a:t>
            </a: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F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°F = [(9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/5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) × </a:t>
            </a:r>
            <a:r>
              <a:rPr b="0" lang="de-DE" sz="2800" spc="-1" strike="noStrike">
                <a:solidFill>
                  <a:srgbClr val="0070c0"/>
                </a:solidFill>
                <a:latin typeface="Comic Sans MS"/>
              </a:rPr>
              <a:t>°C </a:t>
            </a:r>
            <a:r>
              <a:rPr b="0" lang="de-DE" sz="2800" spc="-1" strike="noStrike">
                <a:solidFill>
                  <a:srgbClr val="00007d"/>
                </a:solidFill>
                <a:latin typeface="Comic Sans MS"/>
              </a:rPr>
              <a:t>]</a:t>
            </a:r>
            <a:r>
              <a:rPr b="0" lang="de-DE" sz="2800" spc="-1" strike="noStrike">
                <a:solidFill>
                  <a:srgbClr val="0070c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+ 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[°F = (9</a:t>
            </a:r>
            <a:r>
              <a:rPr b="0" lang="en-US" sz="2800" spc="-1" strike="noStrike" baseline="30000">
                <a:solidFill>
                  <a:srgbClr val="0070c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70c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/5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) × 224 °C] + 32 = 435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2800" spc="-1" strike="noStrike" baseline="30000">
                <a:solidFill>
                  <a:srgbClr val="0070c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(b) Convert -452 </a:t>
            </a:r>
            <a:r>
              <a:rPr b="0" lang="en-US" sz="3200" spc="-1" strike="noStrike" baseline="30000">
                <a:solidFill>
                  <a:srgbClr val="00b050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F </a:t>
            </a: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→ 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°C = (5</a:t>
            </a:r>
            <a:r>
              <a:rPr b="0" lang="en-US" sz="32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/9</a:t>
            </a:r>
            <a:r>
              <a:rPr b="0" lang="en-US" sz="32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) (°F - 32</a:t>
            </a:r>
            <a:r>
              <a:rPr b="0" lang="en-US" sz="32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°C = (5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/9</a:t>
            </a:r>
            <a:r>
              <a:rPr b="0" lang="en-US" sz="32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) (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-452</a:t>
            </a:r>
            <a:r>
              <a:rPr b="0" lang="fr-FR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- 32</a:t>
            </a:r>
            <a:r>
              <a:rPr b="0" lang="en-US" sz="32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) = -269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(c) Convert </a:t>
            </a:r>
            <a:r>
              <a:rPr b="0" lang="en-US" sz="3200" spc="-1" strike="noStrike">
                <a:solidFill>
                  <a:srgbClr val="9999ff"/>
                </a:solidFill>
                <a:latin typeface="Comic Sans MS"/>
              </a:rPr>
              <a:t>-38.9 </a:t>
            </a:r>
            <a:r>
              <a:rPr b="0" lang="en-US" sz="3200" spc="-1" strike="noStrike" baseline="30000">
                <a:solidFill>
                  <a:srgbClr val="9999ff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9999ff"/>
                </a:solidFill>
                <a:latin typeface="Comic Sans MS"/>
              </a:rPr>
              <a:t>C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→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° </a:t>
            </a:r>
            <a:r>
              <a:rPr b="0" lang="fi-FI" sz="3200" spc="-1" strike="noStrike">
                <a:solidFill>
                  <a:srgbClr val="000000"/>
                </a:solidFill>
                <a:latin typeface="Comic Sans MS"/>
              </a:rPr>
              <a:t>K = 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-38.9 </a:t>
            </a:r>
            <a:r>
              <a:rPr b="0" lang="fi-FI" sz="3200" spc="-1" strike="noStrike">
                <a:solidFill>
                  <a:srgbClr val="9999ff"/>
                </a:solidFill>
                <a:latin typeface="Comic Sans MS"/>
              </a:rPr>
              <a:t>°C</a:t>
            </a:r>
            <a:r>
              <a:rPr b="0" lang="fi-FI" sz="3200" spc="-1" strike="noStrike">
                <a:solidFill>
                  <a:srgbClr val="00b0f0"/>
                </a:solidFill>
                <a:latin typeface="Comic Sans MS"/>
              </a:rPr>
              <a:t> </a:t>
            </a:r>
            <a:r>
              <a:rPr b="0" lang="fi-FI" sz="3200" spc="-1" strike="noStrike">
                <a:solidFill>
                  <a:srgbClr val="000000"/>
                </a:solidFill>
                <a:latin typeface="Comic Sans MS"/>
              </a:rPr>
              <a:t>+ 273.15</a:t>
            </a:r>
            <a:r>
              <a:rPr b="0" lang="fi-FI" sz="3200" spc="-1" strike="noStrike">
                <a:solidFill>
                  <a:srgbClr val="00b0f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fi-FI" sz="3200" spc="-1" strike="noStrike">
                <a:solidFill>
                  <a:srgbClr val="000000"/>
                </a:solidFill>
                <a:latin typeface="Comic Sans MS"/>
              </a:rPr>
              <a:t>= 234.3 </a:t>
            </a:r>
            <a:r>
              <a:rPr b="0" lang="fi-FI" sz="3200" spc="-1" strike="noStrike">
                <a:solidFill>
                  <a:srgbClr val="00007d"/>
                </a:solidFill>
                <a:latin typeface="Comic Sans MS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57200" y="38088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Example 1.3 p20 &amp; 21</a:t>
            </a: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AAE73-7802-4BBD-8A3E-A417E394CFE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533520" y="457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ff0000"/>
                </a:solidFill>
                <a:uFillTx/>
                <a:latin typeface="Comic Sans MS"/>
              </a:rPr>
              <a:t>H.W.</a:t>
            </a:r>
            <a:r>
              <a:rPr b="0" lang="en-US" sz="3100" spc="-1" strike="noStrike">
                <a:solidFill>
                  <a:srgbClr val="ff0000"/>
                </a:solidFill>
                <a:latin typeface="Comic Sans MS"/>
              </a:rPr>
              <a:t> Ammonia boils at -33.4</a:t>
            </a:r>
            <a:r>
              <a:rPr b="0" lang="en-US" sz="3100" spc="-1" strike="noStrike">
                <a:solidFill>
                  <a:srgbClr val="ff0000"/>
                </a:solidFill>
                <a:latin typeface="Symbol"/>
                <a:ea typeface="Symbol"/>
              </a:rPr>
              <a:t></a:t>
            </a:r>
            <a:r>
              <a:rPr b="0" lang="en-US" sz="3100" spc="-1" strike="noStrike">
                <a:solidFill>
                  <a:srgbClr val="ff0000"/>
                </a:solidFill>
                <a:latin typeface="Comic Sans MS"/>
              </a:rPr>
              <a:t>C. Wh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0000"/>
                </a:solidFill>
                <a:latin typeface="Comic Sans MS"/>
              </a:rPr>
              <a:t>temperature is this in </a:t>
            </a:r>
            <a:r>
              <a:rPr b="0" lang="en-US" sz="3100" spc="-1" strike="noStrike">
                <a:solidFill>
                  <a:srgbClr val="ff0000"/>
                </a:solidFill>
                <a:latin typeface="Symbol"/>
                <a:ea typeface="Symbol"/>
              </a:rPr>
              <a:t></a:t>
            </a:r>
            <a:r>
              <a:rPr b="0" lang="en-US" sz="3100" spc="-1" strike="noStrike">
                <a:solidFill>
                  <a:srgbClr val="ff0000"/>
                </a:solidFill>
                <a:latin typeface="Comic Sans MS"/>
              </a:rPr>
              <a:t>F? 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-60.1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-92.1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70c0"/>
                </a:solidFill>
                <a:latin typeface="Comic Sans MS"/>
              </a:rPr>
              <a:t>(c)</a:t>
            </a:r>
            <a:r>
              <a:rPr b="0" lang="en-US" sz="3100" spc="-1" strike="noStrike">
                <a:solidFill>
                  <a:srgbClr val="0070c0"/>
                </a:solidFill>
                <a:latin typeface="Comic Sans MS"/>
              </a:rPr>
              <a:t>	</a:t>
            </a:r>
            <a:r>
              <a:rPr b="0" lang="en-US" sz="3100" spc="-1" strike="noStrike">
                <a:solidFill>
                  <a:srgbClr val="0070c0"/>
                </a:solidFill>
                <a:latin typeface="Comic Sans MS"/>
              </a:rPr>
              <a:t>-28.1</a:t>
            </a:r>
            <a:r>
              <a:rPr b="0" lang="en-US" sz="3100" spc="-1" strike="noStrike">
                <a:solidFill>
                  <a:srgbClr val="0070c0"/>
                </a:solidFill>
                <a:latin typeface="Symbol"/>
                <a:ea typeface="Symbol"/>
              </a:rPr>
              <a:t></a:t>
            </a:r>
            <a:r>
              <a:rPr b="0" lang="en-US" sz="3100" spc="-1" strike="noStrike">
                <a:solidFill>
                  <a:srgbClr val="0070c0"/>
                </a:solidFill>
                <a:latin typeface="Comic Sans MS"/>
              </a:rPr>
              <a:t>F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(d)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+13.5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457200" y="487692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°F = [(9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 /5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) × </a:t>
            </a:r>
            <a:r>
              <a:rPr b="0" lang="de-DE" sz="2800" spc="-1" strike="noStrike">
                <a:solidFill>
                  <a:srgbClr val="0070c0"/>
                </a:solidFill>
                <a:latin typeface="Comic Sans MS"/>
              </a:rPr>
              <a:t>°C] 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+ 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°F = [(9</a:t>
            </a:r>
            <a:r>
              <a:rPr b="0" lang="de-DE" sz="2800" spc="-1" strike="noStrike">
                <a:solidFill>
                  <a:srgbClr val="0070c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/5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) × -33.4 °C] + 32 = 435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2800" spc="-1" strike="noStrike" baseline="30000">
                <a:solidFill>
                  <a:srgbClr val="0070c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67B45-BD5F-4600-B871-C49688144BD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Course Gr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304920" y="1295280"/>
            <a:ext cx="858816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wo exams during the ter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First exam 30 mark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rom lecture  1-1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 Chapters 1-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Second exam 30 mark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rom lecture 12-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Chapters 5,7-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00e2a"/>
                </a:solidFill>
                <a:latin typeface="Comic Sans MS"/>
              </a:rPr>
              <a:t>Final term exam 40 marks </a:t>
            </a:r>
            <a:r>
              <a:rPr b="0" lang="en-US" sz="3200" spc="-1" strike="noStrike">
                <a:solidFill>
                  <a:srgbClr val="700e2a"/>
                </a:solidFill>
                <a:latin typeface="Comic Sans MS"/>
                <a:ea typeface="Times New Roman"/>
              </a:rPr>
              <a:t>from lecture 1-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0e2a"/>
                </a:solidFill>
                <a:latin typeface="Comic Sans MS"/>
                <a:ea typeface="Times New Roman"/>
              </a:rPr>
              <a:t>(Chapters 1,2,3,4,5,7,8,9,10,14,15,24,2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DN for 25% absence according to college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E5B34-0F85-48D2-9330-9BFCD902E8A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981080" y="1981080"/>
            <a:ext cx="5105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A886C-C366-43CA-B37C-C2860A5A850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762120" y="2666880"/>
            <a:ext cx="708660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ges 16-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mework  Page 32 &amp; 3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.17,1.22,1.23,1.25,1.26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1219320" y="1049400"/>
            <a:ext cx="6324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Chapter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The Study of Cha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4533C-2E2C-403D-9B1C-49A3C63F75A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995120" y="1267920"/>
            <a:ext cx="6248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95560" indent="-20700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9999ff"/>
                </a:solidFill>
                <a:latin typeface="Comic Sans MS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5560" indent="-20700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996633"/>
                </a:solidFill>
                <a:latin typeface="Comic Sans MS"/>
              </a:rPr>
              <a:t>Measur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SI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Prefi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Units con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Derive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Mass and We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Vol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Den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Temperature sc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5560" indent="-207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457200" y="36360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hapter 1 The Study of Change: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66629-D869-4294-8F43-D4B2761B6FB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10"/>
          <p:cNvSpPr/>
          <p:nvPr/>
        </p:nvSpPr>
        <p:spPr>
          <a:xfrm>
            <a:off x="380880" y="38088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Introduction: </a:t>
            </a: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Study of Chemis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0" t="4412" r="0" b="0"/>
          <a:stretch/>
        </p:blipFill>
        <p:spPr>
          <a:xfrm>
            <a:off x="304920" y="2351160"/>
            <a:ext cx="8458200" cy="3516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6320" y="160020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99"/>
                </a:solidFill>
                <a:latin typeface="Comic Sans MS"/>
              </a:rPr>
              <a:t>Macroscop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105520" y="16444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Microscop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BFFB1-6066-4F11-ADC0-BC0959CEB0E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8088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emistry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the study of matter and the changes it undergo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atter: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anything that occupies space and has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ubstance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a form of matter that has a definite composition and distinct prope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380880" y="380880"/>
            <a:ext cx="632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2565F-9F9C-477B-A71D-AB547E24578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38088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are three states of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12"/>
          <p:cNvGrpSpPr/>
          <p:nvPr/>
        </p:nvGrpSpPr>
        <p:grpSpPr>
          <a:xfrm>
            <a:off x="1371600" y="1905120"/>
            <a:ext cx="6095520" cy="4647600"/>
            <a:chOff x="1371600" y="1905120"/>
            <a:chExt cx="6095520" cy="4647600"/>
          </a:xfrm>
        </p:grpSpPr>
        <p:pic>
          <p:nvPicPr>
            <p:cNvPr id="133" name="Picture 8" descr="01_07"/>
            <p:cNvPicPr/>
            <p:nvPr/>
          </p:nvPicPr>
          <p:blipFill>
            <a:blip r:embed="rId1"/>
            <a:srcRect l="13542" t="2780" r="14581" b="0"/>
            <a:stretch/>
          </p:blipFill>
          <p:spPr>
            <a:xfrm>
              <a:off x="1371600" y="1905120"/>
              <a:ext cx="6095520" cy="464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 Box 9"/>
            <p:cNvSpPr/>
            <p:nvPr/>
          </p:nvSpPr>
          <p:spPr>
            <a:xfrm>
              <a:off x="5961240" y="570024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ol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10"/>
            <p:cNvSpPr/>
            <p:nvPr/>
          </p:nvSpPr>
          <p:spPr>
            <a:xfrm>
              <a:off x="1532160" y="5493240"/>
              <a:ext cx="78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iqu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11"/>
            <p:cNvSpPr/>
            <p:nvPr/>
          </p:nvSpPr>
          <p:spPr>
            <a:xfrm>
              <a:off x="4890960" y="1947600"/>
              <a:ext cx="55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g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380880" y="38088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States of Ma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A505D-DBED-471B-897D-FC6823D2CDD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1-31T20:09:25Z</dcterms:modified>
  <cp:revision>218</cp:revision>
  <dc:subject/>
  <dc:title>General Chemistry CHEM 110</dc:title>
</cp:coreProperties>
</file>