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5A73F-D159-42AA-ACDF-BCD2CFDF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3EEC5-CE8F-4089-9061-1FF7B801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8674C-5144-467A-B9E0-6C11252C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84A5F-6539-4C9E-998C-B7705616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AD96-6F7F-4B64-8599-39247FB5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D89B-583F-4530-9CFA-F3BA0FC7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CF85-A4DD-4AB4-BEC1-9E56F09B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367F-4569-4499-A0C4-AE55A71F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6DC4-8D5A-428C-A237-86B74078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81AA-69DB-41CC-99C9-AEE44013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BB6C-DE1B-4555-992D-F456DBC9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A0D90-0371-408F-853C-293F107D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96F5-55F1-408F-B909-F1F1C4D1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47EC-13D6-4ED9-A50D-F6527078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CA30-383F-4669-8549-1C654A09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0C79-67F9-4D74-A445-7898A29D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A425-8D45-47BB-B9BD-1800EB71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B9705-0DF4-4DAB-98BD-8D42E124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48592-D5EC-4274-946C-49B15601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CDE43-F316-4E50-9B2F-DFEAFBC9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883F7-A8D9-4818-9971-5F878F6E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4623B-C531-4E42-B0ED-709EFED1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7CE0D-7A20-4B66-9D7F-7FFBE4CF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CA3C5-A2B3-44FE-9F20-EB77AEAE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E7BB-8D92-4665-82BD-B1CC62E43D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0EE7-587E-4891-889F-808A33AF82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</a:t>
            </a:r>
            <a:r>
              <a:rPr b="1" lang="ar-SA" sz="4000" spc="-1" strike="noStrike">
                <a:solidFill>
                  <a:srgbClr val="00007d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Periodic Relationship Among th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5880-1BCC-4395-9B58-37CDC0DDAA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34920" y="533520"/>
            <a:ext cx="4699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1: Which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ets of elements is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ave similar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Sulfur and phospho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Sulfu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Sulfur and 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645080" y="765000"/>
            <a:ext cx="4464000" cy="2911680"/>
          </a:xfrm>
          <a:prstGeom prst="rect">
            <a:avLst/>
          </a:prstGeom>
          <a:ln w="0">
            <a:noFill/>
          </a:ln>
        </p:spPr>
      </p:pic>
      <p:sp>
        <p:nvSpPr>
          <p:cNvPr id="183" name="Content Placeholder 2"/>
          <p:cNvSpPr/>
          <p:nvPr/>
        </p:nvSpPr>
        <p:spPr>
          <a:xfrm>
            <a:off x="36360" y="3716280"/>
            <a:ext cx="36720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2: Titanium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ment is found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iodic tabl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 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 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 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 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645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637080" y="4005360"/>
            <a:ext cx="5688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3: Characteristics of noble gases include: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hel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monatomic gas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enerally unreactive chemical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3D6D7-581C-4367-8BF0-9C7D975D91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36640"/>
            <a:ext cx="8893080" cy="580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8000" y="1197000"/>
            <a:ext cx="1008000" cy="34560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700280"/>
            <a:ext cx="295272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708280"/>
            <a:ext cx="4753080" cy="1944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5129280"/>
            <a:ext cx="6913800" cy="96372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62064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2560" y="90792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4560" y="1844640"/>
            <a:ext cx="1225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mic Sans MS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623736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 Sans MS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6CDBD-A3F5-4881-B502-71731981AB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96760"/>
            <a:ext cx="8964720" cy="5845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ermost orbitals OR Outermost electrons OR 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1268280"/>
            <a:ext cx="1008000" cy="3529080"/>
          </a:xfrm>
          <a:prstGeom prst="rect">
            <a:avLst/>
          </a:pr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59640" y="1268280"/>
            <a:ext cx="57636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9640" y="119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773360"/>
            <a:ext cx="2879640" cy="29509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7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s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781360"/>
            <a:ext cx="4824360" cy="1942920"/>
          </a:xfrm>
          <a:prstGeom prst="rect">
            <a:avLst/>
          </a:pr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46480"/>
            <a:ext cx="46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s (n-1)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04045-6C36-45AA-87F9-8728AC96AB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8893080" cy="520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9079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FFF8A-82DE-47FC-B318-C540D29364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lose electrons so that cation has a noble-gas outer electron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6480" y="43560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3000" y="435600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3480" y="4927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 [Ar] 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39440" y="492768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A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000" y="5499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: 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0560" y="54990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C745E-60F8-4ACB-9AF5-DCB3FD1696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gain electrons so that anion has a noble-gas outer electr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6920" y="4227480"/>
            <a:ext cx="10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93240" y="4227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H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6600" y="4849920"/>
            <a:ext cx="18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41760" y="484344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or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45440" y="5472000"/>
            <a:ext cx="19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41760" y="546588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8680" y="609444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1760" y="608796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C0EF2-358E-4E4C-81F4-8AFF36B5F1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9600" y="1417680"/>
            <a:ext cx="921996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09600" y="2285280"/>
            <a:ext cx="459720" cy="2989800"/>
            <a:chOff x="309600" y="2285280"/>
            <a:chExt cx="459720" cy="2989800"/>
          </a:xfrm>
        </p:grpSpPr>
        <p:sp>
          <p:nvSpPr>
            <p:cNvPr id="227" name=""/>
            <p:cNvSpPr/>
            <p:nvPr/>
          </p:nvSpPr>
          <p:spPr>
            <a:xfrm rot="16200000">
              <a:off x="275400" y="2319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6400" y="2774880"/>
              <a:ext cx="0" cy="25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71480" y="1284120"/>
            <a:ext cx="459720" cy="3990960"/>
            <a:chOff x="771480" y="1284120"/>
            <a:chExt cx="459720" cy="3990960"/>
          </a:xfrm>
        </p:grpSpPr>
        <p:sp>
          <p:nvSpPr>
            <p:cNvPr id="230" name=""/>
            <p:cNvSpPr/>
            <p:nvPr/>
          </p:nvSpPr>
          <p:spPr>
            <a:xfrm rot="16200000">
              <a:off x="73728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360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81560" y="1284120"/>
            <a:ext cx="459720" cy="3990960"/>
            <a:chOff x="6181560" y="1284120"/>
            <a:chExt cx="459720" cy="3990960"/>
          </a:xfrm>
        </p:grpSpPr>
        <p:sp>
          <p:nvSpPr>
            <p:cNvPr id="233" name=""/>
            <p:cNvSpPr/>
            <p:nvPr/>
          </p:nvSpPr>
          <p:spPr>
            <a:xfrm rot="16200000">
              <a:off x="614736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368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180280" y="1321200"/>
            <a:ext cx="459720" cy="3953880"/>
            <a:chOff x="8180280" y="1321200"/>
            <a:chExt cx="459720" cy="3953880"/>
          </a:xfrm>
        </p:grpSpPr>
        <p:sp>
          <p:nvSpPr>
            <p:cNvPr id="236" name=""/>
            <p:cNvSpPr/>
            <p:nvPr/>
          </p:nvSpPr>
          <p:spPr>
            <a:xfrm rot="16200000">
              <a:off x="8183880" y="1317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03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77000" y="1320840"/>
            <a:ext cx="459720" cy="3954240"/>
            <a:chOff x="7677000" y="1320840"/>
            <a:chExt cx="459720" cy="3954240"/>
          </a:xfrm>
        </p:grpSpPr>
        <p:sp>
          <p:nvSpPr>
            <p:cNvPr id="239" name=""/>
            <p:cNvSpPr/>
            <p:nvPr/>
          </p:nvSpPr>
          <p:spPr>
            <a:xfrm rot="16200000">
              <a:off x="768060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056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72280" y="1320840"/>
            <a:ext cx="459720" cy="3954240"/>
            <a:chOff x="7172280" y="1320840"/>
            <a:chExt cx="459720" cy="3954240"/>
          </a:xfrm>
        </p:grpSpPr>
        <p:sp>
          <p:nvSpPr>
            <p:cNvPr id="242" name=""/>
            <p:cNvSpPr/>
            <p:nvPr/>
          </p:nvSpPr>
          <p:spPr>
            <a:xfrm rot="16200000">
              <a:off x="717588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95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5240" y="573120"/>
            <a:ext cx="81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ions and Anions Of Representat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813D5-1272-418C-94BB-78759D186A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9600" y="16876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5240" y="2335320"/>
            <a:ext cx="17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9640" y="3616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7280" y="420696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298296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08000" y="5146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US: 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F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O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nd N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are all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soelectronic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with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539640" y="533520"/>
            <a:ext cx="7777440" cy="10688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electronic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es with the sam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989000"/>
            <a:ext cx="3276720" cy="502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 (1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 (13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(7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 (9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 (8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e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All are isolelctronic to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73E92-353A-4F61-A985-163F98836F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324000" y="62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1: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neutral atom is isoelectronic with H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710280" y="124308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38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400" spc="-1" strike="noStrike" baseline="38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087280" y="11970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e electron configuration as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844640"/>
            <a:ext cx="435780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 (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He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He is isolelctronic to 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46400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2: Which of the following species is isoelectronic with Cl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15280" y="47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5229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1840" y="5589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6200" y="6021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BE32B-5738-4052-8E25-7EEFC44487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57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tion is formed from an atom of a transition met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 are always removed first from the ns orbital and then from the (n – 1)d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51CDD-636D-408D-81D4-8CF723BCA8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8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Periodic Relationship Among the Elements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326-378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357 &amp; 35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5, 8.8, 8.12, 8.20, 8.24, 8.26, 8.28, 8.30, 8.32, 8.36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38, 8.40, 8.44, 8.46, 8.52, 8.54, 8.62, 8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01CD7-3E94-4E96-8157-F593B058CA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81080" y="1125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7000" y="1844640"/>
            <a:ext cx="28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: [Ar]4s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+</a:t>
            </a:r>
            <a:r>
              <a:rPr b="0" lang="ar-SA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:  ????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24000" y="2563920"/>
            <a:ext cx="78246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 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00007d"/>
                </a:solidFill>
                <a:latin typeface="Comic Sans MS"/>
              </a:rPr>
              <a:t>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1550880"/>
            <a:ext cx="5508720" cy="1572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7CE60-80C4-46B3-BADE-3DA9908050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8760" y="981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829080" y="1714680"/>
            <a:ext cx="30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:    [Ar]4s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877320" y="3098880"/>
            <a:ext cx="556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 [Ar]4s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881280" y="5442120"/>
            <a:ext cx="5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800640" y="4797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ar-SA" sz="3200" spc="-1" strike="noStrike" baseline="30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1550880"/>
            <a:ext cx="3349440" cy="1936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039D3-D220-40EC-A210-456F93E8B5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549360"/>
            <a:ext cx="8675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 the electronic configuration for C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[Ar]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92360" y="1197000"/>
            <a:ext cx="5365800" cy="35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97080" y="5083200"/>
            <a:ext cx="68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: [Ar] 4s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(transition me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: [Ar]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D2FC8-ACE2-4B45-A49F-E571C488AB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3 Periodic Variation in Physical Properties: Outl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 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  <a:cs typeface="Times New Roman"/>
              </a:rPr>
              <a:t>شحنه النواه الفعليه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tomic Radius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نصف قطر الذ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</a:t>
            </a:r>
            <a:r>
              <a:rPr b="0" lang="en-GB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 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cs typeface="Times New Roman"/>
              </a:rPr>
              <a:t>نصف قطر الا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133B0-2196-416D-8570-34B7C5F319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effective nuclear charge (Z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nuclear charge felt by an electron when both the actual nuclear charge (Z) and the repulsive effects (shielding) of the other electrons are take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ans that electrons in an atom shield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حجب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971640" y="3645000"/>
                <a:ext cx="612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is called shielding constan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σ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771640" y="270828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حج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58079-CE44-46E4-ADA4-BECFE591093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6040" y="1852560"/>
            <a:ext cx="8229600" cy="3089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76360" y="620640"/>
            <a:ext cx="70563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Example: 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A0000-3BD5-4A3A-9F97-4051BA32E74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3600" spc="-1" strike="noStrike">
                <a:solidFill>
                  <a:srgbClr val="666633"/>
                </a:solidFill>
                <a:latin typeface="Comic Sans MS"/>
              </a:rPr>
              <a:t>core electrons </a:t>
            </a:r>
            <a:r>
              <a:rPr b="1" lang="ar-SA" sz="3600" spc="-1" strike="noStrike">
                <a:solidFill>
                  <a:srgbClr val="666633"/>
                </a:solidFill>
                <a:latin typeface="Comic Sans MS"/>
              </a:rPr>
              <a:t>الالكترونات الداخليه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closer to nucleus than the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valence electrons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الكترونات التكافؤ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core electrons shield valence electrons MUCH MORE than valence electrons shield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85693-28BE-4E08-8B7D-4B9615FEA0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 as we go from left to r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11280" y="2421000"/>
          <a:ext cx="7632720" cy="1728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36720"/>
                <a:gridCol w="792360"/>
                <a:gridCol w="934920"/>
                <a:gridCol w="865080"/>
                <a:gridCol w="792360"/>
                <a:gridCol w="934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e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CCDE5-E991-4194-84AD-F2B63BE2ED7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8319960" cy="3822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8560" y="635040"/>
            <a:ext cx="613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ffective Nuclear Ch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120" y="170028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612000" y="394272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1AD16-8688-4ABF-8B0F-ED7B7548D3E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334800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059A2-8A21-4227-98D6-CFFA4AE63A4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8 Periodic Relationship Among the Elements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8.2 Periodic Classification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8.3 Periodic variation in physic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Ion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8.4 Ioniz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.5 Electron 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(ch.9 p. 377-3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B909C-4B17-4465-BECB-3F1D260D6C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Atom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ze of the atom is defined by the ATOMIC RAD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Radiu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½ the distance between the two nuclei in two adjacent metal atoms or in a diatomic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629320" y="693720"/>
            <a:ext cx="3622680" cy="55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20EDE-6860-47A9-971B-71FC8B1F2F4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tomic Radius: RU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ffective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rge increases from left to righ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dded valence electron i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attracted by the nucleus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the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radius decreases from left to right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incre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atomic radius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82E17-AD16-4792-B498-E17527B2E6C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4720" y="314172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F4984-6D5C-4529-A9EA-86C9F790A58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68360" y="40644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 8.2 p33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erring to a periodic table, arrange the following atoms in order of increasing atomic radius: P, Si,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244620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amp; P are in the sam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smaller tha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P &amp; Si are in the sa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 is smaller tha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rrangement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ic radiu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lt; P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421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53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الصغير الى الكب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88FE1-6106-4F93-8E87-7EDCF2CAEB9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692280"/>
            <a:ext cx="8820000" cy="575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948360" y="206208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155736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206064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7D8E3-F4AF-4967-990F-6D6036445A9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95280" y="-17136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hoice below correctly lists the elements in order of increasing atomic rad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1341360"/>
            <a:ext cx="761976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&lt; Mg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g &lt; Na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Na &lt;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Mg &lt;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635280" y="134136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63528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256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242100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270972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2920" y="4869000"/>
            <a:ext cx="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36360" y="5157720"/>
            <a:ext cx="133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9080" y="5160960"/>
            <a:ext cx="718920" cy="101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4761000"/>
            <a:ext cx="3024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            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5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292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F1097-DDB6-4341-AA0D-6EFD56CC990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Ion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125360"/>
            <a:ext cx="8785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c Radiu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radius of cation or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ain electrons →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radius in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the nuclear charge remain the same but the repulsion resulting from the additional electrons increases th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se electron →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 de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removing one or more electron from an atom reduces electron-electron repulsion but the nuclear charge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5381640"/>
            <a:ext cx="8807400" cy="1008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lar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tions &lt; A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3735360" y="4005360"/>
            <a:ext cx="472428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1F521-4CA4-4E76-BD5C-7F5835A06A4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c Radius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ionic radius increases from the top to the bottom of the group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like the 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ions in different groups: they should be iso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electronic 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tions &lt; anions: example Na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&lt; F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solelectronic cations: example 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&lt;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&lt;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Isoelectronic anoins: example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, 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&lt;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6222960"/>
            <a:ext cx="424836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Comic Sans MS"/>
              </a:rPr>
              <a:t>الاصغر ذو الشحنه السالبه الاص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0" y="5203800"/>
            <a:ext cx="410364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اصغر ذو الشحنه الموجبه الا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13440" y="3429000"/>
            <a:ext cx="2195640" cy="13737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AC873-106D-4730-939A-6B0B02828E0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2997360"/>
            <a:ext cx="0" cy="30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943520"/>
            <a:ext cx="4752720" cy="22885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37AD1-F2A1-4B4A-B501-D0FC722069C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6360" y="549360"/>
            <a:ext cx="885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Example 8.3 p33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For each of the following pairs, indicate which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is lar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30200" y="2490840"/>
            <a:ext cx="6957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solelctronic anions 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N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n the same group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Mg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Ca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cations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AAF1F-7649-4907-A6D1-380D57CB4AF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2 Periodic Classification of the elements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989000"/>
            <a:ext cx="57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round State Electron Configurations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</a:rPr>
              <a:t>Electron configuration of cations and 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representativ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258C8-3776-4AA9-B262-993FA5C554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8360" y="404640"/>
            <a:ext cx="828036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omic Sans MS"/>
              </a:rPr>
              <a:t>Isoelectronic 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645000"/>
            <a:ext cx="777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Isoelectronic a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57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664A1-C867-4A22-BCD8-64F48A7C0E8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7200" y="4762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Order the following according to increasing atomic/ionic rad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57200" y="2297160"/>
            <a:ext cx="4402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C &lt; O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024720" y="15573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Li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C    O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2205000"/>
            <a:ext cx="4753080" cy="1557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EC723-079E-4885-AFA3-F88764D3810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طاقة التأ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74760" y="1197000"/>
            <a:ext cx="8229600" cy="1295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zation Energy (IE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minimum energy (kJ/mol) required to remove an electron from a gaseous atom in its grou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263700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ionization energy, the more difficult is to remove the electron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ما كانت طاقة التأين اكبر اصبح نزع الاكترون اص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irst ionization energ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mount of energy required to remov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lectron from an atom in the gaseou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us: if there is a first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E22CB-1E92-4819-B901-EA0B18E8F70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99308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11C31-5075-496A-BBC8-30C36955E21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E of metals is lower than non-metals, metalloid IE is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a given group, IE decreases from the top to the bottom of th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 given period, the IE increases from left to right in perio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exceptions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ستثناءا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Group 2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3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 in the same perio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. Example (Be &amp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Group 5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6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in the same period. Example (N &amp;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17D8C-0496-4FBA-9805-13533435BEC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68360" y="476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E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3A &lt; 2A) &amp; (6A &lt; 5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1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3A &lt; 2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4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6A &lt; 5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7A &lt; 8A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DE445-FDB5-4FCD-8403-76AA845A4C9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213000"/>
            <a:ext cx="0" cy="28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1773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E8378-6998-4583-A881-A1B86D7E5F7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8360" y="549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549360"/>
            <a:ext cx="44640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8.4 (a) p3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ich atom should have a smaller first ionization energy: oxygen or sulph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&amp; S are in 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: [Ne] 3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The valence electrons in sulphur are farther </a:t>
            </a:r>
            <a:r>
              <a:rPr b="0" lang="ar-SA" sz="2400" spc="-1" strike="noStrike">
                <a:solidFill>
                  <a:srgbClr val="666633"/>
                </a:solidFill>
                <a:latin typeface="Comic Sans MS"/>
              </a:rPr>
              <a:t>ابعد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from the nucleus </a:t>
            </a:r>
            <a:r>
              <a:rPr b="0" lang="en-GB" sz="2400" spc="-1" strike="noStrike">
                <a:solidFill>
                  <a:srgbClr val="666633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removing of them is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S) &lt;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753080" y="1197000"/>
            <a:ext cx="4356000" cy="2841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8360" y="1628640"/>
            <a:ext cx="216000" cy="21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8360" y="1844640"/>
            <a:ext cx="21600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A1DAB-560F-4272-960A-C36C9C73C85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9528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H.W: Q 8.52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Arrange the following in order of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increasing first ionization energy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F, K, P, Ca, and Ne.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&lt; Ca &lt; P &lt; F &lt; 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619280" y="2725560"/>
            <a:ext cx="6337440" cy="4132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19280" y="400536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79640" y="400680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371628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96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0A76D-8F5D-4199-A9E1-1864DB73591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Electron Affinit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الالفه الاكترون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197000"/>
            <a:ext cx="8229600" cy="216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lectron affinity (EA): the ability of atom to accep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: The negative of the energy change that occurs when an electron is accepted by an atom in the gaseous state to form an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3645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electron affinity, the greater affinity to accept the electr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5380E-E865-40CA-A319-1CBEFAAC988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3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Q1: What is the trend in the period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Q2: What is the trend in the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25600"/>
            <a:ext cx="21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ميل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توجه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trend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95280" y="40194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1: Within a Period number of electron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  <a:ea typeface="Times New Roman"/>
              </a:rPr>
              <a:t>A2: Within a group (n) 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97AED-BF78-47CD-AB4D-6BD63C0D5D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ontent Placeholder 1"/>
          <p:cNvSpPr/>
          <p:nvPr/>
        </p:nvSpPr>
        <p:spPr>
          <a:xfrm>
            <a:off x="304920" y="-17136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 EA for non-metal is higher than metal , EA for metalloid fall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decreases from top to the bottom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increase from left to right in period. With some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2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5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ABA4E-AA90-46CF-BC90-52E2BA25385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476280"/>
            <a:ext cx="875016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 Affinit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2A &lt; 1A) &amp; (5A &lt; 4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8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A &lt; 1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3A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A &lt; 4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6A &lt; 7A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FCF5C-55A0-4427-8C39-E505FD4DCCC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95280" y="162864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6836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812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0188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BCC3D-E78A-4ACB-9118-56A9451F8C6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457280"/>
            <a:ext cx="40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IE are betwee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2A &amp; 3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5A &amp; 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71120" y="1413000"/>
            <a:ext cx="39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EA ar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A &amp;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4A &amp;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oble gases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he lowest affi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4800" y="484200"/>
            <a:ext cx="57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ceptions in the IE &amp; 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6E8D8-1147-4352-8396-4059894B106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80880" y="404640"/>
            <a:ext cx="830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correctly lists the elements in order of decreasing electron affi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8360" y="1341360"/>
            <a:ext cx="7543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, O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, O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484280"/>
            <a:ext cx="6227640" cy="4060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10108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59640" y="242100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93080" y="2060640"/>
            <a:ext cx="2872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8000" y="3800520"/>
            <a:ext cx="280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ing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crea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s?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rule of the period until you find a group apply the rule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945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 &lt; C &lt; O &lt;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562A8-52E5-41B1-B456-3804AAAE334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476280"/>
            <a:ext cx="8424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H.W. Q 8.62: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 Specify which of the following elements you would expect to have the greatest electron affinity and which have the lea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He, K, Co, S,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76720" y="3149640"/>
            <a:ext cx="5688000" cy="370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11280" y="28526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04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2800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1528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3789360"/>
            <a:ext cx="2881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rrangement of increasing 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&lt; K &lt; Co &lt; S &lt;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eatest EA: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st EA: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5229360"/>
            <a:ext cx="1655640" cy="360360"/>
          </a:xfrm>
          <a:prstGeom prst="wedgeRectCallout">
            <a:avLst>
              <a:gd name="adj1" fmla="val -40412"/>
              <a:gd name="adj2" fmla="val -85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68660-92F6-40B3-8DE0-A7ADEABEDB1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ontent Placeholder 3"/>
          <p:cNvSpPr/>
          <p:nvPr/>
        </p:nvSpPr>
        <p:spPr>
          <a:xfrm>
            <a:off x="395280" y="990720"/>
            <a:ext cx="8424720" cy="2006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s the unequal sharing of electrons between two atom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hemical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ability of an atom in a molecule  to attract to themselves  the shared electrons in a chemical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egativity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كهربيه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سالب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3"/>
          <p:cNvSpPr/>
          <p:nvPr/>
        </p:nvSpPr>
        <p:spPr>
          <a:xfrm>
            <a:off x="324000" y="3160800"/>
            <a:ext cx="86868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 electronegativity →pick up electron eas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left to right in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op to bottom in grou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metals have high electronegativity, metals have low electroneg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A9428-D7D8-46AA-9D72-B6ADC033796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6036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3789360"/>
            <a:ext cx="396072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85840" y="1773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3240" y="5141880"/>
            <a:ext cx="48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1940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152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42360" y="2622600"/>
            <a:ext cx="47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9040" y="616572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de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76280"/>
            <a:ext cx="8280360" cy="2665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3213000"/>
            <a:ext cx="8785440" cy="345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08000" y="7650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pter 8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FB332-0A39-4A29-BFAE-6FCD67514BF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80880" y="-100080"/>
            <a:ext cx="87631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below correctly lists the elements in order of increasing electroneg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468360" y="1557360"/>
            <a:ext cx="7467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 &lt; N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&lt; N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708360" y="2200320"/>
            <a:ext cx="5364360" cy="3497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59636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8508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7092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45964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5157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kn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24000" y="5661000"/>
                <a:ext cx="33112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ctronegativity increases</m:t>
                            </m:r>
                          </m:e>
                        </m:acc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1AEB3-31AB-4AD2-80B4-036318DC82A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468360" y="260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will be the large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1052640"/>
            <a:ext cx="2602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577840" y="476280"/>
            <a:ext cx="307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851280" y="1557360"/>
            <a:ext cx="5041800" cy="3287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851280" y="234936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40360" y="2349360"/>
            <a:ext cx="2872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4869000"/>
            <a:ext cx="81360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g) is the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11280" y="5373720"/>
                <a:ext cx="2303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ncreaes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406CF-3D24-4916-BD11-2A228E897BA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5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56011_0802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5"/>
          <p:cNvGrpSpPr/>
          <p:nvPr/>
        </p:nvGrpSpPr>
        <p:grpSpPr>
          <a:xfrm>
            <a:off x="227160" y="842760"/>
            <a:ext cx="398880" cy="4332600"/>
            <a:chOff x="227160" y="842760"/>
            <a:chExt cx="398880" cy="4332600"/>
          </a:xfrm>
        </p:grpSpPr>
        <p:sp>
          <p:nvSpPr>
            <p:cNvPr id="122" name="Text Box 9"/>
            <p:cNvSpPr/>
            <p:nvPr/>
          </p:nvSpPr>
          <p:spPr>
            <a:xfrm rot="16200000">
              <a:off x="154800" y="91512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25520" y="1376280"/>
              <a:ext cx="0" cy="379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0"/>
          <p:cNvGrpSpPr/>
          <p:nvPr/>
        </p:nvGrpSpPr>
        <p:grpSpPr>
          <a:xfrm>
            <a:off x="722160" y="1360440"/>
            <a:ext cx="398880" cy="3814920"/>
            <a:chOff x="722160" y="1360440"/>
            <a:chExt cx="398880" cy="3814920"/>
          </a:xfrm>
        </p:grpSpPr>
        <p:sp>
          <p:nvSpPr>
            <p:cNvPr id="125" name="Text Box 15"/>
            <p:cNvSpPr/>
            <p:nvPr/>
          </p:nvSpPr>
          <p:spPr>
            <a:xfrm rot="16200000">
              <a:off x="649800" y="1432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92088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6180120" y="986400"/>
            <a:ext cx="398880" cy="4188960"/>
            <a:chOff x="6180120" y="986400"/>
            <a:chExt cx="398880" cy="4188960"/>
          </a:xfrm>
        </p:grpSpPr>
        <p:sp>
          <p:nvSpPr>
            <p:cNvPr id="128" name="Text Box 18"/>
            <p:cNvSpPr/>
            <p:nvPr/>
          </p:nvSpPr>
          <p:spPr>
            <a:xfrm rot="16200000">
              <a:off x="5908680" y="12574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63817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6703920" y="973440"/>
            <a:ext cx="398880" cy="4201920"/>
            <a:chOff x="6703920" y="973440"/>
            <a:chExt cx="398880" cy="4201920"/>
          </a:xfrm>
        </p:grpSpPr>
        <p:sp>
          <p:nvSpPr>
            <p:cNvPr id="131" name="Text Box 21"/>
            <p:cNvSpPr/>
            <p:nvPr/>
          </p:nvSpPr>
          <p:spPr>
            <a:xfrm rot="16200000">
              <a:off x="643248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9055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8"/>
          <p:cNvGrpSpPr/>
          <p:nvPr/>
        </p:nvGrpSpPr>
        <p:grpSpPr>
          <a:xfrm>
            <a:off x="7170840" y="973440"/>
            <a:ext cx="398880" cy="4201920"/>
            <a:chOff x="7170840" y="973440"/>
            <a:chExt cx="398880" cy="4201920"/>
          </a:xfrm>
        </p:grpSpPr>
        <p:sp>
          <p:nvSpPr>
            <p:cNvPr id="134" name="Text Box 24"/>
            <p:cNvSpPr/>
            <p:nvPr/>
          </p:nvSpPr>
          <p:spPr>
            <a:xfrm rot="16200000">
              <a:off x="6899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7372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9"/>
          <p:cNvGrpSpPr/>
          <p:nvPr/>
        </p:nvGrpSpPr>
        <p:grpSpPr>
          <a:xfrm>
            <a:off x="7694640" y="973440"/>
            <a:ext cx="398880" cy="4201920"/>
            <a:chOff x="7694640" y="973440"/>
            <a:chExt cx="398880" cy="4201920"/>
          </a:xfrm>
        </p:grpSpPr>
        <p:sp>
          <p:nvSpPr>
            <p:cNvPr id="137" name="Text Box 27"/>
            <p:cNvSpPr/>
            <p:nvPr/>
          </p:nvSpPr>
          <p:spPr>
            <a:xfrm rot="16200000">
              <a:off x="74232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>
              <a:off x="78962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1"/>
          <p:cNvGrpSpPr/>
          <p:nvPr/>
        </p:nvGrpSpPr>
        <p:grpSpPr>
          <a:xfrm>
            <a:off x="8151840" y="973440"/>
            <a:ext cx="398880" cy="4201920"/>
            <a:chOff x="8151840" y="973440"/>
            <a:chExt cx="398880" cy="4201920"/>
          </a:xfrm>
        </p:grpSpPr>
        <p:sp>
          <p:nvSpPr>
            <p:cNvPr id="140" name="Text Box 30"/>
            <p:cNvSpPr/>
            <p:nvPr/>
          </p:nvSpPr>
          <p:spPr>
            <a:xfrm rot="16200000">
              <a:off x="7880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8353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1"/>
          <p:cNvGrpSpPr/>
          <p:nvPr/>
        </p:nvGrpSpPr>
        <p:grpSpPr>
          <a:xfrm>
            <a:off x="8707320" y="-7560"/>
            <a:ext cx="398880" cy="4655880"/>
            <a:chOff x="8707320" y="-7560"/>
            <a:chExt cx="398880" cy="4655880"/>
          </a:xfrm>
        </p:grpSpPr>
        <p:sp>
          <p:nvSpPr>
            <p:cNvPr id="143" name="Text Box 33"/>
            <p:cNvSpPr/>
            <p:nvPr/>
          </p:nvSpPr>
          <p:spPr>
            <a:xfrm rot="16200000">
              <a:off x="8435880" y="263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8908920" y="914400"/>
              <a:ext cx="0" cy="373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5"/>
          <p:cNvGrpSpPr/>
          <p:nvPr/>
        </p:nvGrpSpPr>
        <p:grpSpPr>
          <a:xfrm>
            <a:off x="1204920" y="2575800"/>
            <a:ext cx="398880" cy="2637720"/>
            <a:chOff x="1204920" y="2575800"/>
            <a:chExt cx="398880" cy="2637720"/>
          </a:xfrm>
        </p:grpSpPr>
        <p:sp>
          <p:nvSpPr>
            <p:cNvPr id="146" name="Text Box 42"/>
            <p:cNvSpPr/>
            <p:nvPr/>
          </p:nvSpPr>
          <p:spPr>
            <a:xfrm rot="16200000">
              <a:off x="1193400" y="25869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1403280" y="300348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5"/>
          <p:cNvGrpSpPr/>
          <p:nvPr/>
        </p:nvGrpSpPr>
        <p:grpSpPr>
          <a:xfrm>
            <a:off x="3197160" y="2574000"/>
            <a:ext cx="398880" cy="2648880"/>
            <a:chOff x="3197160" y="2574000"/>
            <a:chExt cx="398880" cy="2648880"/>
          </a:xfrm>
        </p:grpSpPr>
        <p:sp>
          <p:nvSpPr>
            <p:cNvPr id="149" name="Text Box 56"/>
            <p:cNvSpPr/>
            <p:nvPr/>
          </p:nvSpPr>
          <p:spPr>
            <a:xfrm rot="16200000">
              <a:off x="3185640" y="25851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33955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0"/>
          <p:cNvGrpSpPr/>
          <p:nvPr/>
        </p:nvGrpSpPr>
        <p:grpSpPr>
          <a:xfrm>
            <a:off x="5722920" y="2492640"/>
            <a:ext cx="398880" cy="2730240"/>
            <a:chOff x="5722920" y="2492640"/>
            <a:chExt cx="398880" cy="2730240"/>
          </a:xfrm>
        </p:grpSpPr>
        <p:sp>
          <p:nvSpPr>
            <p:cNvPr id="152" name="Text Box 71"/>
            <p:cNvSpPr/>
            <p:nvPr/>
          </p:nvSpPr>
          <p:spPr>
            <a:xfrm rot="16200000">
              <a:off x="5669640" y="25459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59227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5"/>
          <p:cNvGrpSpPr/>
          <p:nvPr/>
        </p:nvGrpSpPr>
        <p:grpSpPr>
          <a:xfrm>
            <a:off x="620640" y="5845320"/>
            <a:ext cx="1512720" cy="398880"/>
            <a:chOff x="620640" y="5845320"/>
            <a:chExt cx="1512720" cy="398880"/>
          </a:xfrm>
        </p:grpSpPr>
        <p:sp>
          <p:nvSpPr>
            <p:cNvPr id="155" name="Text Box 73"/>
            <p:cNvSpPr/>
            <p:nvPr/>
          </p:nvSpPr>
          <p:spPr>
            <a:xfrm>
              <a:off x="620640" y="58453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4"/>
            <p:cNvSpPr/>
            <p:nvPr/>
          </p:nvSpPr>
          <p:spPr>
            <a:xfrm>
              <a:off x="990360" y="604332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6"/>
          <p:cNvGrpSpPr/>
          <p:nvPr/>
        </p:nvGrpSpPr>
        <p:grpSpPr>
          <a:xfrm>
            <a:off x="623880" y="6327720"/>
            <a:ext cx="1512720" cy="398880"/>
            <a:chOff x="623880" y="6327720"/>
            <a:chExt cx="1512720" cy="398880"/>
          </a:xfrm>
        </p:grpSpPr>
        <p:sp>
          <p:nvSpPr>
            <p:cNvPr id="158" name="Text Box 77"/>
            <p:cNvSpPr/>
            <p:nvPr/>
          </p:nvSpPr>
          <p:spPr>
            <a:xfrm>
              <a:off x="623880" y="63277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8"/>
            <p:cNvSpPr/>
            <p:nvPr/>
          </p:nvSpPr>
          <p:spPr>
            <a:xfrm>
              <a:off x="993600" y="652608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79"/>
          <p:cNvSpPr/>
          <p:nvPr/>
        </p:nvSpPr>
        <p:spPr>
          <a:xfrm>
            <a:off x="332280" y="33336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Ground State Electron Configuration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960480" y="76500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Within a Period number of electron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971640" y="1123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Within a group (n) 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68194-65A6-4F89-A304-25F9CF3E64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280" y="476280"/>
            <a:ext cx="81360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: Arrange the following  Li, Be, B, C, Si, N , S, 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order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ffective 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7640" y="1673280"/>
            <a:ext cx="47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C &lt; Si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S &lt; N &lt; C &lt; Si &lt; B &lt; Be &lt;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 &lt; Be &lt; Si &lt; C &lt; S &lt; N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Be &lt; Li &lt; B &lt; N &lt; Si &lt; C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Si &lt; C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26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44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63E58-BFC2-4C42-B331-77AE27E6F99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79280" y="692280"/>
            <a:ext cx="8785440" cy="5727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79280" y="155736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256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5280" y="206064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0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1640" y="206064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59640" y="1989000"/>
            <a:ext cx="505080" cy="503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1672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3D15D-67E1-42F2-8B85-9CBBEA9C4A3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84360" y="2276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11C37-864A-436C-A710-C328B33A270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85640"/>
            <a:ext cx="8209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THUS: from the electron configuration → we could know the position of the elem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 group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0560" y="2924280"/>
            <a:ext cx="4645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determine the period of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2 → 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3 → 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4 → 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5 → perio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6 → period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7 → 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7D1F1-8919-475E-B0C1-B08B439739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Example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element that h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ance electron configuration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19640" y="2706840"/>
            <a:ext cx="5580000" cy="36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36D31-1494-4439-B1B1-5CBCD0C595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ntent Placeholder 2"/>
          <p:cNvSpPr/>
          <p:nvPr/>
        </p:nvSpPr>
        <p:spPr>
          <a:xfrm>
            <a:off x="250920" y="399960"/>
            <a:ext cx="856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xample 8.1 p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n atom of a certain element has 15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ithout consulting a periodic table, answ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is the ground-state electron configuration of this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1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p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3s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 3p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b) How should be element b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eriod 3, group 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element is representative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c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s the element diamagnetic or 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209088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22760" y="3638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587700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308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14036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9272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588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6381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3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E44B4-6F12-446F-BFA4-DF40B512A5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5T14:21:30Z</dcterms:modified>
  <cp:revision>1174</cp:revision>
  <dc:subject/>
  <dc:title>General Chemistry CHEM 110</dc:title>
</cp:coreProperties>
</file>