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95C47-1C1C-4FFD-8A2C-050C65587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85DA4-A8BF-4381-8A6E-01DBA250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09406-9A59-47F7-91C7-E8A5D5EE2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B0D5E-0082-41DE-8886-9AC0F310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A14A-8729-4A93-9743-EA2850409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381C-2563-4CD0-8842-469FBAA6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8492-A110-45EE-B0EC-E889B849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C9F7-ED40-4059-9C00-662927C2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3B51-183E-4EB4-B115-F5EC7D47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FB49-E04F-4971-AD45-EC1942A9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11B8-BE08-4F94-8981-704A91D6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B8D4D-7E67-4AB1-AE88-337AC21C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8815-BA62-48A3-88D9-7A8834C8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C3CB-7A4E-48CB-8691-12F3B2A8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B596-F1B4-41F8-936D-42C8E29F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C4E2-D98E-4BC3-9FB9-0D872AE38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BA69-C3F3-4C1F-B185-EB6A987C3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279FA-5325-4A16-BC9C-14EC228E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BBC4E-D9BF-4EEF-A67D-B84DDE32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46EE7-9FDF-4A2F-BB91-3000617D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CFB7D-45A3-4DAE-8F7E-4928FA4A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58C22-C79F-4145-9ABA-5071B070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281E0-5D7C-4190-8FD1-E8D3435A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4966B-CEC4-46E5-8337-18DFEB65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5AFD-762F-4CFE-97C7-03C6D81AB342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162F-42F2-46BD-9DCE-BA2606CE8F30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7D3B-324C-4603-A819-E00C125F9D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182520"/>
            <a:ext cx="8610840" cy="40845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533520" y="4187880"/>
            <a:ext cx="7924680" cy="2079720"/>
            <a:chOff x="533520" y="4187880"/>
            <a:chExt cx="7924680" cy="2079720"/>
          </a:xfrm>
        </p:grpSpPr>
        <p:sp>
          <p:nvSpPr>
            <p:cNvPr id="133" name=""/>
            <p:cNvSpPr/>
            <p:nvPr/>
          </p:nvSpPr>
          <p:spPr>
            <a:xfrm>
              <a:off x="832320" y="4187880"/>
              <a:ext cx="751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ine Emission Spectrum of Hydrogen Ato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533520" y="4648320"/>
              <a:ext cx="7924680" cy="16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1BD86-9186-437C-A976-13FCE7CF43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329080" cy="516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59280" y="476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492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9079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852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28B6D-6965-4F26-9A93-82043C99CE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energies of the electron in the H atom are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1 Ground State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الحاله الارضي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2, 3, 4, … Excited State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الحالات المثار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1773360"/>
                <a:ext cx="7848360" cy="29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Rydberg constant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integer called the principal quantum number;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, 2, 3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8C780-885C-49B7-AFA1-919503E46D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83040" y="765000"/>
            <a:ext cx="51260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4000" y="620640"/>
                <a:ext cx="39052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24000" y="4653000"/>
            <a:ext cx="3024000" cy="1224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88BA3-AF6E-4EC8-86FF-3E9DE51AB1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5280" y="1015920"/>
                <a:ext cx="30243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39640" y="3141720"/>
            <a:ext cx="8353440" cy="35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(+ve)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a50021"/>
                </a:solidFill>
                <a:latin typeface="Comic Sans MS"/>
              </a:rPr>
              <a:t>Δ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E (+ve)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Energy is absorb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(-ve)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Δ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E (-ve)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Energy is emitt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1280" y="1052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1280" y="2276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588000" y="1052640"/>
            <a:ext cx="0" cy="1224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22920" y="1052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59640" y="1341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nergy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125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Energy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84720" y="691920"/>
            <a:ext cx="0" cy="1942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14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5954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24560" y="6206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2456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1FC50-6387-409A-BEA4-753955BC0A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333360"/>
            <a:ext cx="813744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4 p28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wavelength of a photon (in nm) emitted during a transition from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5 state to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2 state in the hydroge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2920" y="2421000"/>
            <a:ext cx="88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249228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gt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DFKai-SB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=-ve (energy is emit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in nm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37040" y="4149720"/>
                <a:ext cx="294336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E27EF-CE1B-449F-99E9-54562BA556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9280" y="549360"/>
                <a:ext cx="7848720" cy="55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x 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 x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4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508720" y="5157720"/>
            <a:ext cx="34560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لاحظي ان الطاقه اخذت باشاره موجبه لان الطول الموجي لايمكن ان يكون قيمه سالبه</a:t>
            </a: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A0746-C4FD-4E6A-A132-AE58086443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lank’s Quantum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66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solids are heated, they emit electromagnet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amount of radian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nergy emitted by an object at a certain temperature DEPENDS on the WAVELEN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 failed in explaining why this happ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: assumed that atoms or molecules could emit (or absorb) any amount of energ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ank explain this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ergy (light) is emitted or absorbed in discrete units (quant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524720" y="4581360"/>
            <a:ext cx="14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20000" y="12700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091280" y="44280"/>
            <a:ext cx="1728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9CA82-5C41-4D74-9EF7-C3FC454B14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Quantum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smallest quantity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ergy that can be emitted (or absor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form of electromagnetic rad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: is th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: Plank’s constant, h = 6.6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.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frequency of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Theory: energy is always emitted in integrals multiples of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2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3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………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0920" y="2532240"/>
                <a:ext cx="4249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∝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2952720" cy="2211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40720" y="2852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ntization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BE257-BD76-479A-B821-E1282CB11C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95640" y="836640"/>
                <a:ext cx="3654360" cy="576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ν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7C4AF-5147-4F20-A7BA-809667DA07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9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2 p280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energy (in J) of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a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IR region)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b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X-ray reg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213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284640"/>
            <a:ext cx="7705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308D4-CE92-49BA-BBDE-9F8E36F324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8360" y="549360"/>
                <a:ext cx="806436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8360" y="3141720"/>
                <a:ext cx="813600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7FAC5-B2A3-45C7-AC74-9956FCCD2C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3 Bohr’s Theory of Hydroge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mission Spect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toms are br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spectral lines) in the visible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ission spectrum of any atom is a finger print (lines appeared at specific waveleng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B59E1-8076-46E9-96A9-F637F3CD12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835200"/>
            <a:ext cx="8088480" cy="588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47640" y="3794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Emission Spectra of som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0046C-D52B-4F6F-9EC1-0A0B65B317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mission spectrum of Hydrogen At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il Boh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y the emission spectrum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hr postulates that the electron is occupied ONLY certain orbits of specific energ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energies of the electron are quant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emission spectrum of the H atom results from: the hydrogen atom is energi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 excited to higher energy orb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to a lower-energy orbit emits a quantum of energy (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42240" y="44280"/>
            <a:ext cx="1160640" cy="16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45B74-11A1-4BA7-A196-795D7BB31C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5Z</dcterms:modified>
  <cp:revision>940</cp:revision>
  <dc:subject/>
  <dc:title>General Chemistry CHEM 110</dc:title>
</cp:coreProperties>
</file>