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7051675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B14A6-6DA3-47BB-8759-B4B73E3D1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DC159-AA50-47EC-90A3-D39DE23A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9EE9B-ACBE-4CB5-8DB4-D1807DF19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95C1D-D19E-432A-B204-9FBFE5400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40FC-1A0D-495F-8DCC-6F47125D8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F954-008B-4EB6-9752-CC2D9E4E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4E36-79AF-456A-B32E-25CBC23B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6DE1-7421-40A2-A057-7128E5B0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5F00-26C3-4C40-BB96-BFC02474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ECD3-8B12-4C60-9EAC-4A5048F7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B007-AA18-452E-AF11-3374E6D9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D2E42-C403-4B67-8B46-61FCB3F0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1CD1-E864-49A5-96C1-E25E2D74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F5A5-1934-4508-92F3-6F15AA81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BAEC-A036-4501-8EC3-AD701C23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CEFB-6150-4068-A9DF-098D650DC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ED5D-4C1E-4DB0-A6D0-FD2F3287F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CC765-D716-456C-BAF4-B558FF3D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D2C5A-69E2-4A8C-B7BE-8AA1A9D6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3A5F1-2B35-4E92-973C-69E1A3E9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71A53-6660-4AF2-B82C-3F509F8F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C59F9-9F84-4874-8B64-04B9AED9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3B7DB-6D9D-4B0C-95D7-E0872F27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8FE4E-2637-4B81-ACE4-31C523D7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6647-DF93-4B27-956D-A701ACD571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1B39-219A-400A-8F25-BFEA31A81F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Ga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2D4A-1A27-49B9-AB58-BAF8DCB7F1D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9640" y="549360"/>
                <a:ext cx="8137800" cy="465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T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Boyle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971640" y="4365720"/>
            <a:ext cx="770400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E0AC0-EA10-474D-97BD-98169F438F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yle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11280" y="1268280"/>
                <a:ext cx="3529080" cy="346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00720" y="1268280"/>
                <a:ext cx="2735280" cy="453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61AA1-D355-4112-8C67-42071538B4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45960" y="333360"/>
            <a:ext cx="87631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hlorine gas occupies a volume of 946 mL at a pressure of 726 mmHg.  What is the pressure of the gas (in mmHg) if the volume is reduced at constant temperature to 154 m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2781360"/>
            <a:ext cx="7416720" cy="26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26 mmHg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946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? 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154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Boyle’s Law: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=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95280" y="5280120"/>
                <a:ext cx="81360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6</m:t>
                        </m:r>
                        <m:r>
                          <m:rPr>
                            <m:lit/>
                            <m:nor/>
                          </m:rPr>
                          <m:t xml:space="preserve"> mmHg x 946 m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4 m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460</m:t>
                    </m:r>
                    <m:r>
                      <m:rPr>
                        <m:lit/>
                        <m:nor/>
                      </m:rPr>
                      <m:t xml:space="preserve"> mmH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95280" y="2781360"/>
            <a:ext cx="792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B39F4-6B37-449D-8F0B-E32AF67A39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42920" y="4278240"/>
            <a:ext cx="7391520" cy="2895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-Volume Relationship: Charles’s and Gay-Lussac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48428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arles’s and Gay-Lussac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volume of a fixed amount of gas (n is constant) at a constant pressure is directly proportional to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bsolute temperatu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0E91D-B73C-44D4-B801-804A17452C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68360" y="549360"/>
                <a:ext cx="7488360" cy="581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Charles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468360" y="5661000"/>
            <a:ext cx="7488360" cy="719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E2A36-32E5-4F04-B3C5-ADB414C9D2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arles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900000" y="1341360"/>
                <a:ext cx="2359080" cy="412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140360" y="1557360"/>
                <a:ext cx="3816360" cy="37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A60D6-703C-4714-B678-30204AC3AE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53880" y="333360"/>
            <a:ext cx="86108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arbon monoxide gas occupies 3.20 L at 125 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.  At what temperature will the gas occupy a volume of 1.54 L if the pressure remains cons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2781360"/>
            <a:ext cx="856908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3.20 L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+ 273.15 = 398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.54 L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Charles’s Law: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=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619280" y="5877000"/>
                <a:ext cx="5040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L x 3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 K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  <m:r>
                      <m:rPr>
                        <m:lit/>
                        <m:nor/>
                      </m:rPr>
                      <m:t xml:space="preserve"> 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EF221-B9E0-4949-9B6C-7C2A1040B3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009a7"/>
                </a:solidFill>
                <a:uFillTx/>
                <a:latin typeface="Comic Sans MS"/>
              </a:rPr>
              <a:t>Amount-Volume relationship: Avogadro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83996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vogadro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t constant pressure and temperature, the volume is directly proportional to the number of moles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320" y="4135320"/>
            <a:ext cx="9067680" cy="3038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3932280"/>
            <a:ext cx="2843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C4A47-EA33-4EA6-9141-514DAC22D6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68360" y="549360"/>
                <a:ext cx="7848720" cy="57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T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Avogadro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6BEA5-B717-4C29-8950-9F15980030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41112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Gas Laws: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87280" y="1033560"/>
                <a:ext cx="6624720" cy="16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oyle's Law: constant T &amp;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187280" y="2924280"/>
                <a:ext cx="6697800" cy="15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les's Law: constant P &amp; 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187280" y="4911840"/>
                <a:ext cx="6697800" cy="13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ogadro's Law: Constant P &amp; 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15583-5AEE-4B3E-81FF-30A33D7279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Gases 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174-201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215-217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5.1, 5.2, 5.3, 5.8, 5.14, 5.22, 5.24, 5.32, 5.36, 5.38, 5.40, 5.44, 5.48, 5.50, 5.94, 5.52, 5.54, 5.64, 5.66, 5.68, &amp; 5.70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D131E-E3F2-452A-B134-A24F906FAA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7476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14920" y="5934240"/>
            <a:ext cx="36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al Gas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1092240"/>
            <a:ext cx="72007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yle’s Law: (at constant T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les’s Law: (at constant P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ogadro's Law: (at constant P &amp; 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bining the three la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229440" y="981000"/>
                <a:ext cx="8636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732720" y="1779480"/>
                <a:ext cx="115236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6948360" y="2349360"/>
                <a:ext cx="100836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65800" y="2852640"/>
                <a:ext cx="115092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363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763640" y="3789360"/>
                <a:ext cx="626436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ant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constant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as Constan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835280" y="5661000"/>
                <a:ext cx="36734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32DFE-B399-44C1-8316-BEF34AEF05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675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TP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Standard pressure and temperature con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temperature 0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73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pressure 1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ACT: One mole of any gas at the STP condition will occupy a volume equals 22.41 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2DBDB-29E3-4C10-B3F6-28AC456F849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8200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3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pressure (in atm) exerted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by 1.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moles of the sulphur hexaflouride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in a steel ves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volume 5.43 L at 69.5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349360"/>
            <a:ext cx="8820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 = 1.82 mol; V = 5.43 L; T =69.5 + 273.15 = 342.65 K ; R = 0.0821 L.atm/mol.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 ?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23493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403280" y="4581360"/>
                <a:ext cx="6264360" cy="218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 x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C64BB-2E37-4FC3-BFE7-D4B1A4BD3F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1989000"/>
            <a:ext cx="8820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1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835280" y="4483080"/>
                <a:ext cx="4968720" cy="22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27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 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at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D5E99-3BD2-439C-A7DD-0D8BA3378F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1989000"/>
            <a:ext cx="882000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2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mol of N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t STP occupy 22.4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124000" y="4005360"/>
                <a:ext cx="3600360" cy="27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t STP: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1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35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 mol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5CF33-6CAA-4047-B714-07473838FD2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mbined Ga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al gas equation is useful if we have only one condition, i.e. only one P , one V, one T, and one 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 knowing three of the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ou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other cases: if we have two conditions, i.e. 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and (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ified ideal gas equation (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combined gas law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B8C8B-638C-4A62-BE10-96389BED719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3836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 is constant, at two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052720" y="479520"/>
                <a:ext cx="439092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050920" y="2852640"/>
                <a:ext cx="4608720" cy="283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us: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3348000" y="4292640"/>
            <a:ext cx="2519280" cy="13683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C8C52-3E70-4501-80E9-DAB8FC61B24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79280" y="2852640"/>
                <a:ext cx="2664000" cy="15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3059280" y="907920"/>
            <a:ext cx="0" cy="540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59280" y="90792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59280" y="357336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59280" y="630864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32000" y="476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Constant  n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796000" y="503280"/>
                <a:ext cx="2592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3132000" y="31161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onstant  n &amp;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5805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Constant  P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529240" y="2975040"/>
                <a:ext cx="355752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564160" y="5621400"/>
                <a:ext cx="352584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6084720" y="1341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Boyle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41450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Charles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97440" y="5013360"/>
            <a:ext cx="31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Avogadro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63F74-3CD0-4593-91E9-F36571BBB2A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11779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50752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7 p1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 small bubble rises from the bottom of a lak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where the temperature and pressure are 8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.4 atm. Calculate the final volume (in mL)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bubble if its initial volume was 2.1 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619280" y="4892760"/>
                <a:ext cx="2665440" cy="18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95280" y="2781360"/>
            <a:ext cx="87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8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81K;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6.4 atm;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.1 m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1 atm;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5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73K;  Assume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in mL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427640" y="4430880"/>
                <a:ext cx="4500360" cy="23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 mLx 298 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81 K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539640" y="270828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66217-E856-475F-BF18-B693110C8F2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Density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686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Comic Sans MS"/>
              </a:rPr>
              <a:t>Density of the G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11280" y="2349360"/>
                <a:ext cx="3444840" cy="417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711680" y="1700280"/>
                <a:ext cx="2381400" cy="48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∵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xM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∵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5148360" y="5661000"/>
            <a:ext cx="194472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99285-3213-4BAD-A671-F3BCF4E1A66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Chapter 5 </a:t>
            </a: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Gases: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5.2 Pressure of a G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5.3 The Gas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9a7"/>
                </a:solidFill>
                <a:latin typeface="Comic Sans MS"/>
              </a:rPr>
              <a:t>5.5 Gas Stoichiomet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AE3A9-A2AF-42B3-ADFB-CC1216DC3A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497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8 p19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density of C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in g/L at 0.99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55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2276640"/>
            <a:ext cx="828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P = 0.990 atm; T = 5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28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d (in g/L)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2060640"/>
            <a:ext cx="763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738360" y="4278240"/>
                <a:ext cx="78818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 g/mo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28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rPr>
                            <m:lit/>
                            <m:nor/>
                          </m:rPr>
                          <m:t xml:space="preserve"> g/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835F4-00DE-4B05-8225-7388D047E82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Molar Mass of a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w substances → Unknown Molecular formula → Unknown Molar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ar Mass of gas!</a:t>
            </a:r>
            <a:r>
              <a:rPr b="1" lang="ar-SA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Arial"/>
              </a:rPr>
              <a:t>→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ecular formul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84360" y="4222800"/>
                <a:ext cx="720072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xM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4643280" y="4221000"/>
            <a:ext cx="3241800" cy="165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9713C-D0A7-4630-917B-78E8876B534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9 p19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A chemist has synthesised a green-yellow gaseous compound of chlorine and oxygen and finds that its density is 7.71 g/L at 36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2.88 atm. Calculate the molar mass of the compound and determine its molecular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2492280"/>
            <a:ext cx="82803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 = 7.71 g/L; T = 36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 309K; P = 2.88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4000" y="249228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50920" y="4581360"/>
            <a:ext cx="4500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99"/>
                </a:solidFill>
                <a:latin typeface="Comic Sans MS"/>
              </a:rPr>
              <a:t>الوزن المولاري = الوزن الجزيئي  ؟ الصيغه الجزيئيه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78575-D349-4E2B-B263-06F4AAC2841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826920" y="1700280"/>
                <a:ext cx="784872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684360" y="62064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1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&amp; T &amp; 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227640" y="404640"/>
                <a:ext cx="241164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755640" y="3359160"/>
            <a:ext cx="7705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2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= 7.71 g/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7.71 g &amp; V = 1.00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 &amp; V &amp; 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; n &amp; 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258920" y="5084640"/>
                <a:ext cx="676908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 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 g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7C491-C9E9-4F9D-B553-034E292DCE2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87280" y="476280"/>
            <a:ext cx="896472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Determination of the molecular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ar Mass (MM = 67.9 g/mol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Formu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Trail and error meth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he molecule contain Chlorine &amp;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 (Cl) = 35.45 g/mol; MM (O) = 16.00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) = 51.45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2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) = 86.90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hig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2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7.45 g/mol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C2298-B053-4C54-B81B-073C72C4929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0 p19</a:t>
            </a:r>
            <a:r>
              <a:rPr b="1" lang="ar-SA" sz="2400" spc="-1" strike="noStrike" u="sng">
                <a:solidFill>
                  <a:srgbClr val="00007d"/>
                </a:solidFill>
                <a:uFillTx/>
                <a:latin typeface="Comic Sans MS"/>
              </a:rPr>
              <a:t>3</a:t>
            </a: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hemical analysis of a gaseous compound showed tha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ontained 33.0 percent Si and 67.0 percent F by m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t 35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, 0.210 L of the compound exerted a pressur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1.70 atm. If the mass of 0.210 L of the compound was 2.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g, calculate the molar mass and determine the mole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formula of the comp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3500280"/>
            <a:ext cx="8280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3.0 % Si &amp; 67.0%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 = 3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08 K; V = 0.210 L; P=1.70 atm; m = 2.38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3429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A194B-ADF6-4391-B996-22413A3D298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79280" y="1620720"/>
          <a:ext cx="8785440" cy="3463920"/>
        </p:xfrm>
        <a:graphic>
          <a:graphicData uri="http://schemas.openxmlformats.org/drawingml/2006/table">
            <a:tbl>
              <a:tblPr/>
              <a:tblGrid>
                <a:gridCol w="3816360"/>
                <a:gridCol w="2376720"/>
                <a:gridCol w="259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/28.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 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/ 19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765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1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F0697-A799-4F30-B9ED-615A06C6455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33280" y="981000"/>
                <a:ext cx="867564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0 L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21 at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L/mo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K x 308 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4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250920" y="2276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3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:        n= m/MM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M = m/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40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2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deal gas equation → 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539640" y="2997360"/>
                <a:ext cx="7920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 g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41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9 g/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F6F24-1AA5-44FF-A01E-8E4FCEE61C4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24000" y="765000"/>
            <a:ext cx="8424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4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M of the empirical formula 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85.0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4000" y="191628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5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atio =  MM/ MM of the empirical formu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68360" y="2565360"/>
                <a:ext cx="82072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the compoun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emperical formul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9 g/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 g/ mol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68360" y="3860640"/>
            <a:ext cx="867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6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olecular formula is (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S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FC41D-8ED2-4264-A917-00F5FBEE18D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79280" y="1498680"/>
            <a:ext cx="8713800" cy="51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1. No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of the compound (compound = Molecular Formu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677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98382-D9AD-4AC4-B98E-1EE60D7D052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7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ments that exist as gases at 2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and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atm (blue bo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ble gases are monoatomic, e.g. He, Ne, 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ther gases are diatomic, e.g.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Content Placeholder 5" descr="05_01"/>
          <p:cNvPicPr/>
          <p:nvPr/>
        </p:nvPicPr>
        <p:blipFill>
          <a:blip r:embed="rId1"/>
          <a:srcRect l="0" t="3772" r="0" b="0"/>
          <a:stretch/>
        </p:blipFill>
        <p:spPr>
          <a:xfrm>
            <a:off x="900000" y="2060640"/>
            <a:ext cx="7056720" cy="36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50BE0-CFD2-4A6D-AA0D-D8736C50D8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79280" y="981000"/>
            <a:ext cx="8964720" cy="59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2.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P, T, V, &amp; m) of the compound (compound =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(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, T, V)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n = PV/RT; n  &amp; m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MM = m/n of the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R MM = mRT/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DCE63-6C34-481D-9AF1-1B44D193DF3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5 Gas Stoichiome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oichiometry: is the quantitative study of reactants and products in a chemical re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دراسه كميه (عدد مولات, كتله, او حجم) للمتفاعلات والنواتج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pter 3, relationship between n &amp; m of reactants and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chapter 5 (GASES), relationship between n &amp; V of reactants and produc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1EAF6-5DF1-4F71-A75C-4E584838A89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1 p1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volume of 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(in L) requir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complete combustion of 7.64 L of C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measured at the same temperatur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pres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719280" y="3068640"/>
                <a:ext cx="75247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468360" y="414972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57B89-2388-4941-918A-335B11D0568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8360" y="2077920"/>
            <a:ext cx="82072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stant T &amp; P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riables is n &amp; V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vogadro's law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α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2 mole of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 mol of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2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5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   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7.64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?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826920" y="5624640"/>
                <a:ext cx="698508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lume of 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rPr>
                            <m:lit/>
                            <m:nor/>
                          </m:rPr>
                          <m:t xml:space="preserve"> Lx 5 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539640" y="507960"/>
            <a:ext cx="83883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ملاحظه هامه: اذا متى نستطيع ان نساوي المولات باللترات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ذا كانت المواد في السؤال غازيه  و عند نفس درجة الحراره والضغط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حتى يتحقق قانون افوجادرو وهوان الحجم يتناسب طرديا مع عدد المولات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411280" y="2075040"/>
                <a:ext cx="534672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5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C3F19-42F3-4F58-9C3E-A1BA7C33FC1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57200" y="47628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2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 p19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volume of 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generated at 80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823 mmHg by the decomposition of 60.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Na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547640" y="2509920"/>
                <a:ext cx="6264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3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468360" y="3429000"/>
            <a:ext cx="820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46860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 = 80 + 273 = 353 K; P = 832 mmHg; m (Na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0.0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(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Step 1: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gram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n = m/MM) → moles of 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mole 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Step 2: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[n + T + P] (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)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V 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(using the 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277D7-1668-4785-9232-B3D2911B80C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68360" y="433440"/>
                <a:ext cx="8136000" cy="638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r>
                          <m:rPr>
                            <m:lit/>
                            <m:nor/>
                          </m:rPr>
                          <m:t xml:space="preserve">  mol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e ratio: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2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3 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53 K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/760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804000" y="5877000"/>
                <a:ext cx="22669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760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?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832 mmHg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 x 1 at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5C1AE-EFAF-43A5-AAEF-5322133CB1A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4920" y="41400"/>
            <a:ext cx="8497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re gas ONE g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xture of gas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than one gas each gas has a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Partial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Dalton’s law of partial pressure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total pressure of a mixture of gases is just the sum of the pressures that each gas would exert it were present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00000" y="5010120"/>
            <a:ext cx="7775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+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644640" y="5253120"/>
            <a:ext cx="51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Partial Pressure of gas 1 &amp;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00160" y="578952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tal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2B87D-3386-4573-A105-1CE7AEABAD2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cha56011_0514"/>
          <p:cNvPicPr/>
          <p:nvPr/>
        </p:nvPicPr>
        <p:blipFill>
          <a:blip r:embed="rId1"/>
          <a:srcRect l="0" t="6173" r="0" b="6173"/>
          <a:stretch/>
        </p:blipFill>
        <p:spPr>
          <a:xfrm>
            <a:off x="936720" y="1201680"/>
            <a:ext cx="7596000" cy="3595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260360" y="4797360"/>
            <a:ext cx="777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D34CC-1546-4791-A6DF-027E40DF7CF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3"/>
          <p:cNvSpPr/>
          <p:nvPr/>
        </p:nvSpPr>
        <p:spPr>
          <a:xfrm>
            <a:off x="324000" y="361800"/>
            <a:ext cx="72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we have two gases,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a container of volume V and at temperature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cha56011_0514"/>
          <p:cNvPicPr/>
          <p:nvPr/>
        </p:nvPicPr>
        <p:blipFill>
          <a:blip r:embed="rId1"/>
          <a:srcRect l="78340" t="6173" r="0" b="6173"/>
          <a:stretch/>
        </p:blipFill>
        <p:spPr>
          <a:xfrm>
            <a:off x="6281640" y="1484280"/>
            <a:ext cx="2394000" cy="52293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835280" y="1557360"/>
                <a:ext cx="3295440" cy="50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7CE12-4473-48F7-89A2-E0180284110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68360" y="469800"/>
                <a:ext cx="6912000" cy="533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7885080" y="763560"/>
            <a:ext cx="1224000" cy="936720"/>
          </a:xfrm>
          <a:prstGeom prst="wedgeRectCallout">
            <a:avLst>
              <a:gd name="adj1" fmla="val -107458"/>
              <a:gd name="adj2" fmla="val -2694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667640" y="2060640"/>
            <a:ext cx="1368360" cy="936720"/>
          </a:xfrm>
          <a:prstGeom prst="wedgeRectCallout">
            <a:avLst>
              <a:gd name="adj1" fmla="val -82944"/>
              <a:gd name="adj2" fmla="val -2508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4000" y="5826240"/>
            <a:ext cx="882000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ole fraction (X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كسر المولارى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s a dimensionless quantity that expresses the ratio of the number of moles of one component to the number of moles of all components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88000" y="620640"/>
            <a:ext cx="2592360" cy="1224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88000" y="1989000"/>
            <a:ext cx="2592360" cy="1152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71640" y="4437000"/>
            <a:ext cx="2016000" cy="72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71640" y="5229360"/>
            <a:ext cx="2016000" cy="57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43CE4-AE89-4146-A75C-5ED684F5083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29" descr="05_01"/>
          <p:cNvPicPr/>
          <p:nvPr/>
        </p:nvPicPr>
        <p:blipFill>
          <a:blip r:embed="rId1"/>
          <a:srcRect l="0" t="2816" r="0" b="0"/>
          <a:stretch/>
        </p:blipFill>
        <p:spPr>
          <a:xfrm>
            <a:off x="457200" y="60948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E49E9-5FEC-46D2-A471-7C18D590DC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179280" y="669960"/>
                <a:ext cx="4422960" cy="563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4788000" y="1519200"/>
                <a:ext cx="4248000" cy="298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44922-05C4-4A1C-BFCB-A8E8E9769C9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4 p1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 mixture of gasses contains 4.46 moles of 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0.74 mole of Ar, and 2.15 moles of Xe. Calc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partial pressures of the gases if the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pressure is 2.00 atm at a certain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95280" y="299736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4000" y="2997360"/>
            <a:ext cx="856908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4.46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0.74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15 mol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.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           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t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X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ar-SA" sz="36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5D63E-38B2-4A21-B81C-E90B7DFB884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09520" y="620640"/>
                <a:ext cx="872640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250920" y="2349360"/>
                <a:ext cx="864216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37960" y="4149720"/>
                <a:ext cx="869796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6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2B371-4D23-4490-AD39-FF1912FE6CF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alton’s law of partial pressures can be used to calculate 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 of a gas collected over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 collecting the gas in a graduated cylinder, we can measure the amount of gas produ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method is applicable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as that does not react with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as that 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soluble in water, e.g.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not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soluble in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AD26C-0F17-400E-B4D8-70561E1DB7C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2798640" y="5877000"/>
            <a:ext cx="3971880" cy="440640"/>
            <a:chOff x="2798640" y="5877000"/>
            <a:chExt cx="3971880" cy="440640"/>
          </a:xfrm>
        </p:grpSpPr>
        <p:sp>
          <p:nvSpPr>
            <p:cNvPr id="327" name=""/>
            <p:cNvSpPr/>
            <p:nvPr/>
          </p:nvSpPr>
          <p:spPr>
            <a:xfrm>
              <a:off x="2798640" y="5877000"/>
              <a:ext cx="3971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KCl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          2KCl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+ 3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81320" y="60739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733200" y="6334200"/>
            <a:ext cx="2016720" cy="552600"/>
            <a:chOff x="3733200" y="6334200"/>
            <a:chExt cx="2016720" cy="552600"/>
          </a:xfrm>
        </p:grpSpPr>
        <p:sp>
          <p:nvSpPr>
            <p:cNvPr id="330" name=""/>
            <p:cNvSpPr/>
            <p:nvPr/>
          </p:nvSpPr>
          <p:spPr>
            <a:xfrm>
              <a:off x="3733200" y="6334200"/>
              <a:ext cx="201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O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H 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3716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2448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928200" cy="48546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439920" y="404640"/>
            <a:ext cx="506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ollecting a Gas over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0E43B-E2F6-477B-8B95-5CA0E461046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as collected is referred to as “wet”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رطب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 since it also contains water vap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pplying Dalton’s l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2195640" y="3429000"/>
            <a:ext cx="3600360" cy="82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i="1" lang="en-US" sz="3600" spc="-1" strike="noStrike" baseline="-25000">
                <a:solidFill>
                  <a:srgbClr val="c00000"/>
                </a:solidFill>
                <a:latin typeface="Comic Sans MS"/>
              </a:rPr>
              <a:t>t</a:t>
            </a: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P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48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H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F85C1-7DC4-4DF2-A368-0805FF2B893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2111400" cy="655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4418F-26B8-4835-9E8C-A2D57EF6118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95280" y="3213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4000" y="3284640"/>
            <a:ext cx="8569080" cy="24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V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= 128 mL = 0.128 L; T = 24 + 273 = 297 K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62 mmHg;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H2O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22.4 mm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m 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68360" y="47628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5 p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xygen gas generated by the decomposition of potassium chlorate is collected. The volume of oxygen collected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atmospheric pressure of 762 mmHg is 128 ml. Calculate the mass (in g) of oxygen gas obtained. The pressure of the water vapour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is 22.4 mmH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84720" y="5516640"/>
            <a:ext cx="4390920" cy="1008000"/>
          </a:xfrm>
          <a:prstGeom prst="wedgeRectCallout">
            <a:avLst>
              <a:gd name="adj1" fmla="val -39407"/>
              <a:gd name="adj2" fmla="val -11141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Gas collected over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E67AB-A528-4CFD-B271-AA2BDB68C1C9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68360" y="549360"/>
                <a:ext cx="6767640" cy="611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62</m:t>
                        </m:r>
                        <m:r>
                          <m:rPr>
                            <m:lit/>
                            <m:nor/>
                          </m:rPr>
                          <m:t xml:space="preserve"> mmHg-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40 mmH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Ideal Gas Equation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8 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x 297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 x 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 g/mol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4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BDDD0-6CEA-41DA-8F14-E7507E2F0B5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0920" y="1913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BCDC6-7495-4E8F-8ABE-2096FC7E1375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2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ssume the volume and shape of their contai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re the most compressible state of ma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will mix evenly and completely when confined to the sam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have much lower densities than liquids and sol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40464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hysical Characteristics of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08B64-ACA7-4A51-930B-3AB6C9C238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2 Pressure of the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5545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is in constant moti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exert a pressure on the wall of th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Pascal (Pa) is the 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SI unit of pressur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ther units for pressure are: atmosphere (atm), millimetre of mercury (mmHg), Torr (torr)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24360" y="1535040"/>
            <a:ext cx="3311640" cy="290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FFD62-A688-4655-A2E9-92AFE40BF7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3 The Gas Laws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 gas has a </a:t>
            </a: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pressure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Volume 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emperature 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0" lang="en-US" sz="2800" spc="-1" strike="noStrike">
                <a:solidFill>
                  <a:srgbClr val="ff3399"/>
                </a:solidFill>
                <a:latin typeface="Comic Sans MS"/>
              </a:rPr>
              <a:t>amount (number of moles) 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tudy the relationship between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wo facto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he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remaining two factors must kept constant (unchang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Pressure- Volume Relationship: Boyle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emperature-Volume Relationship: Charles’s and Gay-Lussac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2009a7"/>
                </a:solidFill>
                <a:latin typeface="Comic Sans MS"/>
              </a:rPr>
              <a:t>Amount-Volume relationship: Avogadro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ombined Gas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Density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Molar Mass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5767D-D7C0-4CD3-BE92-7CCF93CFFF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ressure- Volume Relationship: Boyle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3532320"/>
            <a:ext cx="8915400" cy="3713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5280" y="155736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oyle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pressure of a fixed amount of gas (n is constant) at a constant temperature is inversely proportional to the volume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92A90-BD93-4176-95C2-F289F60281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16T15:28:29Z</dcterms:modified>
  <cp:revision>662</cp:revision>
  <dc:subject/>
  <dc:title>General Chemistry CHEM 110</dc:title>
</cp:coreProperties>
</file>