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CABC0-0A92-4A6F-9A49-A5B1425C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C36A2-B64B-4EC2-8AA9-93F6A02A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2C352-1614-4ABD-9742-8E5DAB95E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42CEE-E1CE-45CE-A916-8D0D693DD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BDEE-5E01-4176-A3F6-E0F85F897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1F6C-59B1-4AFA-938A-971CEE19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F75B-5F4A-47AD-A9C8-C582C864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98DC-F9BE-4B2E-946F-9D242EC2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6181-5ABD-4CA5-ACBD-5A35E8B3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E362-6AB4-4686-BEFF-05F4EE61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C256-6482-4EBF-A964-34496B04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87C36-7B64-4A8B-8D14-D7416C61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D5C7-E989-46FA-B3F7-CD53D276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95EF-2B45-47B9-91BA-DC4EA623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CD00-F565-49A2-A59B-112D3719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BDDE-1FDE-4BF0-94A7-82CC336A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92A7-22A0-4FED-9C26-EE09A97C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F38B7-6881-4E13-8041-3D3894C0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28CAB-EC37-46F7-B678-4BEAA1B4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7C229-710E-4CCA-9780-22311C47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BE403-63CE-4C22-AAAF-7698CE23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1518B-7FE5-4D57-960A-CF3B1E29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6B636-C8B3-45E1-9F75-F9FED362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ADF62-0A29-4FA6-97AD-8C3A7E1C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3109-3439-4C21-ADE7-B1B3C93928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884B-A6C0-40E6-A086-90B7D160D1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Mass Relationships in Chemical Reac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9C8C-E07F-4C25-8D3A-8C382DECC9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-252360" y="692280"/>
          <a:ext cx="8892720" cy="3415680"/>
        </p:xfrm>
        <a:graphic>
          <a:graphicData uri="http://schemas.openxmlformats.org/drawingml/2006/table">
            <a:tbl>
              <a:tblPr/>
              <a:tblGrid>
                <a:gridCol w="493920"/>
                <a:gridCol w="450720"/>
                <a:gridCol w="7948080"/>
              </a:tblGrid>
              <a:tr h="85392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What information would you need to calculate the average atomic mass of an elemen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 The number of neutrons in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 The atomic number of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4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The mass and abundance of each isotope of the elemen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3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 The position in the periodic table of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C566F-E0DB-439F-94EE-489F213763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theoretical yield of Ti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rate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: Masses of two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ing reagent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sses of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reac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to calculate the moles of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produc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s the less number of mo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limiting reag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produ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grams of product (theoretical yield of the produ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482920" y="1484280"/>
            <a:ext cx="5976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ي بمعنى اخر: احسبي وزنه التيتانيوم الناتجه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9E615-1AF0-484D-AD47-693C75978211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468360" y="620640"/>
            <a:ext cx="8351640" cy="51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ms of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97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l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n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(Ti) =1.87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593640" y="1268280"/>
                <a:ext cx="752472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iCl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F2977-70E5-446A-BC1A-83D4276CD79A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468360" y="620640"/>
            <a:ext cx="8351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of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s of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s of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ole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mole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64 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o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?n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482760" y="1197000"/>
                <a:ext cx="774828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1374840" y="4508640"/>
                <a:ext cx="5816520" cy="11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47502-EC70-43D2-A228-28412E008E73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539640" y="476280"/>
            <a:ext cx="80647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(Ti) is the less number of moles (limiting reagent) = 1.87 x10</a:t>
            </a:r>
            <a:r>
              <a:rPr b="0" lang="en-GB" sz="3200" spc="-1" strike="noStrike" baseline="30000">
                <a:solidFill>
                  <a:srgbClr val="a50021"/>
                </a:solidFill>
                <a:latin typeface="Comic Sans MS"/>
              </a:rPr>
              <a:t>5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s of Ti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rams of 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1" lang="en-GB" sz="3200" spc="-1" strike="noStrike" u="sng">
                <a:solidFill>
                  <a:srgbClr val="a50021"/>
                </a:solidFill>
                <a:uFillTx/>
                <a:latin typeface="Comic Sans MS"/>
              </a:rPr>
              <a:t>mass of Ti = theoretical yield of Ti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m =n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1042920" y="3933720"/>
                <a:ext cx="723276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lx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2C1BB-3F95-4426-9740-7836DCE543BD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468360" y="457200"/>
            <a:ext cx="8280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percent yield if 7.91 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 are actually obt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1066680" y="1773360"/>
                <a:ext cx="6910560" cy="28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 yield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ctual yiel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heoretical yield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468360" y="558972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.W. Solve the practice exercise p1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87045-ED3D-49C3-B721-59F6800AD572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2556000" y="220500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d of Chapter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783BB-6C63-44BF-8F0B-1771AF722356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476280"/>
            <a:ext cx="84978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2009a7"/>
                </a:solidFill>
                <a:uFillTx/>
                <a:latin typeface="Comic Sans MS"/>
              </a:rPr>
              <a:t>Example 3.1 p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tomic masses of the Copper isotop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re 62.93 amu &amp; 64.9278 amu, respectively. Calculate the average atomic mass of copp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692360" y="1916280"/>
                <a:ext cx="547056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61DB6-B0FE-4C7C-A62E-93574BF717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920" y="333360"/>
            <a:ext cx="8893080" cy="61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09a7"/>
                </a:solidFill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rcentag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ra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9.09% = 69.09/100 = 0.6909; 30.91% = 30.91/100 = 0.30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AM will be closer to the mass of the isotope with the largest natural abun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THUS: Average atomic mass of copp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= (0.6909 x 62.93)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63Cu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+ (0.3091 x 64.9278)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65Cu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= 63.55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0000" y="6467400"/>
            <a:ext cx="4284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Comic Sans MS"/>
              </a:rPr>
              <a:t>H.W. Solve the Practice Exercise p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FB15F-1E3A-4361-8031-7E4B509DFD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-108000" y="441360"/>
          <a:ext cx="8381880" cy="2555640"/>
        </p:xfrm>
        <a:graphic>
          <a:graphicData uri="http://schemas.openxmlformats.org/drawingml/2006/table">
            <a:tbl>
              <a:tblPr/>
              <a:tblGrid>
                <a:gridCol w="644400"/>
                <a:gridCol w="538200"/>
                <a:gridCol w="7199280"/>
              </a:tblGrid>
              <a:tr h="114804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odine has two isotopes </a:t>
                      </a:r>
                      <a:r>
                        <a:rPr b="0" lang="en-US" sz="2400" spc="-1" strike="noStrike" baseline="30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12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 and </a:t>
                      </a:r>
                      <a:r>
                        <a:rPr b="0" lang="en-US" sz="2400" spc="-1" strike="noStrike" baseline="30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127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,  with the equal abundan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Calculate the average atomic mass of Iodine (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53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126.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5.4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26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1.92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BD71F-5BAD-4B45-A557-80581ED0A3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8000" y="549360"/>
            <a:ext cx="8893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6633"/>
                </a:solidFill>
                <a:uFillTx/>
                <a:latin typeface="Comic Sans MS"/>
              </a:rPr>
              <a:t>NOTE: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 Atomic Mass of an isotop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e.g.  </a:t>
            </a:r>
            <a:r>
              <a:rPr b="0" lang="en-US" sz="4000" spc="-1" strike="noStrike" baseline="30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C &amp; </a:t>
            </a:r>
            <a:r>
              <a:rPr b="0" lang="en-US" sz="4000" spc="-1" strike="noStrike" baseline="30000">
                <a:solidFill>
                  <a:srgbClr val="666633"/>
                </a:solidFill>
                <a:latin typeface="Comic Sans MS"/>
              </a:rPr>
              <a:t>13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Atomic Mass of an el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e.g. C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= Average Atomic Ma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Als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Average Atomic Mass C = Atomic Mass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457FA-9AAD-4A80-A5BC-026A2B19C4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2 Avogadro’s Number and the Molar M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(mol) is the SI unit of the amount of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vogadro’s Number (N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ne mole of each substance contains 6.022 x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article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9999ff"/>
                </a:solidFill>
                <a:latin typeface="Comic Sans MS"/>
              </a:rPr>
              <a:t>atom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cu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ion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tc.),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6.022 x 10</a:t>
            </a:r>
            <a:r>
              <a:rPr b="0" lang="en-GB" sz="3200" spc="-1" strike="noStrike" baseline="30000">
                <a:solidFill>
                  <a:srgbClr val="a50021"/>
                </a:solidFill>
                <a:latin typeface="Comic Sans MS"/>
              </a:rPr>
              <a:t>23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 Avogadro's Number (N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6.022 x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3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rticles (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atom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molecul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ions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772D8-336C-48F1-86DA-13215C37F7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340000" y="620640"/>
            <a:ext cx="3816000" cy="3384360"/>
            <a:chOff x="2340000" y="620640"/>
            <a:chExt cx="3816000" cy="338436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2340000" y="1389960"/>
              <a:ext cx="3816000" cy="261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838240" y="620640"/>
              <a:ext cx="177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ozen = 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187280" y="4005360"/>
            <a:ext cx="640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 dozen = 12 Any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 mol = 6.022 x1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parti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D52E6-DB01-44F2-8AE8-13094DA4C9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atom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0D658-0FF0-48D1-B1B2-00EA3093A6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26" descr="03_01"/>
          <p:cNvPicPr/>
          <p:nvPr/>
        </p:nvPicPr>
        <p:blipFill>
          <a:blip r:embed="rId1"/>
          <a:srcRect l="0" t="11559" r="0" b="12764"/>
          <a:stretch/>
        </p:blipFill>
        <p:spPr>
          <a:xfrm>
            <a:off x="-108000" y="981000"/>
            <a:ext cx="9396360" cy="5332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7640" y="1197000"/>
            <a:ext cx="15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Car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51280" y="394020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3860640"/>
            <a:ext cx="15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Co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61440" y="365112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I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88360" y="127476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Sulp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5EE97-7D2F-4FAE-974C-80A87FD5E3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476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Molar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964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olar mass (M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ss (in g or kg) of one mole of a substanc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 = mass/mo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ONE MOLE: 1 amu = 1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e atomic mass of 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1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C is 12.00 amu = 12.0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of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= 12.00 amu = 12.00 g = has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atom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has 6.02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e Molar Mass (M)  of 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1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C = 12.00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0360" y="2060640"/>
            <a:ext cx="3959280" cy="647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95640" y="3139920"/>
            <a:ext cx="5040360" cy="576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39DF2-9EFB-4028-BB19-FC0C06F740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3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Mass Relationships in Chemical Reactions </a:t>
            </a:r>
            <a:br>
              <a:rPr sz="36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80-107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110-11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.5, 3.6, 3.7, 3.8, 3.14, 3.16, 3.18, 3.20, 3.22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.24, 3.26, 3.28, 3.40, 3.42, 3.44, 3.46, 3.48, 3.50, 3.52, 3.44, 3.46, 3.48, 3.50, 3.52, 3.60, 3.84, 3.86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F3FB9-00AA-47C8-9FAD-0B28AE4E9A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7640" y="549000"/>
            <a:ext cx="8893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Atomic Mass of an isotop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e.g.  </a:t>
            </a:r>
            <a:r>
              <a:rPr b="0" lang="en-US" sz="4400" spc="-1" strike="noStrike" baseline="30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C &amp; </a:t>
            </a:r>
            <a:r>
              <a:rPr b="0" lang="en-US" sz="4400" spc="-1" strike="noStrike" baseline="30000">
                <a:solidFill>
                  <a:srgbClr val="666633"/>
                </a:solidFill>
                <a:latin typeface="Comic Sans MS"/>
              </a:rPr>
              <a:t>13</a:t>
            </a: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Atomic Mass of an ele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e.g. 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is Average Atomic Mas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Also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Average Atomic Mass C = Atomic Mass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524E2-293A-4735-B9A9-C6E9FCE8A0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07280" cy="2016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Molar Mass (g/mo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Atomic Mass (am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2935440"/>
            <a:ext cx="820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009a7"/>
                </a:solidFill>
                <a:latin typeface="Comic Sans MS"/>
              </a:rPr>
              <a:t>1. The atomic mass of Na = 22.99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009a7"/>
                </a:solidFill>
                <a:latin typeface="Comic Sans MS"/>
              </a:rPr>
              <a:t>The molar mass of Na = 22.9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33"/>
                </a:solidFill>
                <a:latin typeface="Comic Sans MS"/>
              </a:rPr>
              <a:t>2. The atomic mass of P = 30.9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33"/>
                </a:solidFill>
                <a:latin typeface="Comic Sans MS"/>
              </a:rPr>
              <a:t>The molar mass of P = 30.97 g/mol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06461-3F09-4EEF-AD92-A7C73A8BD4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2 p8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mole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f He atoms are in 6.46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CB0F1-385C-4A4D-9ADB-A324FA3213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umber of moles =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 atomic mass of He = The Molar mass of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the atomic mass of He = The molar mass of He = 4.003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4.003 g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1 mole of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6.46 g of He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? Moles (?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there is 1.61 moles of He atoms in 6.46 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114560" y="3990960"/>
                <a:ext cx="590544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 x 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835280" y="6346800"/>
            <a:ext cx="6373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H.W. Solve the Practice Exercise p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33283-7442-4C6D-A6D5-E9E9F77C09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12720" y="476280"/>
            <a:ext cx="5832720" cy="302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mass (atom or molecu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molar mass (atomic mass or molecular m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730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024360" y="2565360"/>
                <a:ext cx="2592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512720" y="3645000"/>
            <a:ext cx="5832720" cy="306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atoms or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Avogadro's number (atoms (or molecules)/m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160720" y="5786280"/>
                <a:ext cx="453708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tom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molecule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tom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molecule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86077-7547-4EE4-A3EB-D20218A77A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11280" y="62064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How many mole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of He atoms are in 6.46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f H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11280" y="1916280"/>
                <a:ext cx="784836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BE0F4-2055-4825-BA56-BCE8072C19D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3 p8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gram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f Zn  are in 0.356 m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Z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E3363-4889-4A58-AD4E-CE2BC448CB2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umber of moles =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 atomic mass of Zn = The Molar mass of 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The Atomic mass of Zn = molar mass of Zn = 65.3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65.39 g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1 mole of 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g of He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0.356 m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there is 23.3 g of Zn atoms in 0.356 mole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55640" y="4005360"/>
                <a:ext cx="66945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s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 g x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g of Z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2158920" y="6237360"/>
            <a:ext cx="594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H.W. Solve the Practice Exercise p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B9C8E-9053-4234-BD16-020C26B748C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11280" y="62064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How many gram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of Zn  are in 0.356 m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f Z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42880" y="1916280"/>
                <a:ext cx="8275680" cy="22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1AA3C-A3D0-442F-8106-1E7C62F9C9D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95280" y="620640"/>
            <a:ext cx="8497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4 p8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S atoms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 are in 16.3 g of 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Strate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How many moles in 16.3 g of S = X</a:t>
            </a: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6.022 x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S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X moles </a:t>
            </a:r>
            <a:r>
              <a:rPr b="0" lang="en-GB" sz="32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?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2B806-C4CD-4545-88ED-175A45D1FF7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Chapter 3: Mass Relationships in Chemical Reactions: Outlin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Comic Sans MS"/>
              </a:rPr>
              <a:t>3.1 Atomic Mas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Comic Sans MS"/>
              </a:rPr>
              <a:t>3.2 Avogadro’s Number and Molar Mass of an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3.3 Molecular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3.5 Percent Composition of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3.6 Experimental Determination of 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9a7"/>
                </a:solidFill>
                <a:latin typeface="Comic Sans MS"/>
              </a:rPr>
              <a:t>3.9 Limiting 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3.10 Reaction Yi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2FD5F-D2C7-415D-A034-ACA1163FB8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The atomic mass of S = 32.0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molar mass of S = 32.07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us: 32.07 g 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 mole of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6.3 g of S 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? m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e know: 1 mol of S </a:t>
            </a: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022 x10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S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            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0.508 mole </a:t>
            </a: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? S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There is 3.06 x10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atoms of S in 16.3 g of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84720" y="6539040"/>
            <a:ext cx="4284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Comic Sans MS"/>
              </a:rPr>
              <a:t>H.W. Solve the Practice Exercise p8</a:t>
            </a:r>
            <a:r>
              <a:rPr b="1" lang="ar-SA" sz="1600" spc="-1" strike="noStrike">
                <a:solidFill>
                  <a:srgbClr val="a50021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979640" y="3429000"/>
                <a:ext cx="41767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 x 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835280" y="5229360"/>
                <a:ext cx="4176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umber of S atom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atoms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o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S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5082C-287D-4600-AADE-A2FB563CF1B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11280" y="620640"/>
            <a:ext cx="849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S atom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 are in 16.3 g of 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11280" y="1628640"/>
                <a:ext cx="780732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11280" y="3429000"/>
                <a:ext cx="7993080" cy="27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8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102C3-AB20-4A4F-A0DC-B4B645BCA75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Molecular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lecular Mass (molecular weight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sum of the atomic masses (in amu) in th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olecu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(MOLEC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lecular Mass: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ultiply the atomic mass of each element by the number of atoms of that element present in the molecule and sum over all the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e.g. Molecular Mass of H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O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(2 x atomic mass of H) + (1x atomic mass of 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(2 x 1.008 amu) + (1x 16.00 amu) = 18.02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A8235-8F25-49C3-9DD9-B2CBA5E3199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48708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5 p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molecular masses (in amu)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following 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(a) Sulphur dioxide (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(b) Caffeine (C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3141720"/>
            <a:ext cx="882000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cular mass of S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1 x 32.07) + (2 x 16.00) = 64.0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Molecular mass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8 x 12.01) + (10 x 1.008) 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4 x 14.01) + (2 x 16.00) =194.20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0BC94-3E1F-4021-8F3F-B6F20F1164A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620640"/>
            <a:ext cx="82296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 x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H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FC776-86AA-4802-A089-9E765BFD15B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981000"/>
            <a:ext cx="82296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O molecu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C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4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C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4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DBF27-15D1-484C-BEAA-BA7901E5E02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Example 3.6 p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oles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are present in 6.07 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2997360"/>
            <a:ext cx="882000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Mass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(1 x 12 .01) + (4 x 1.008) = 16.04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Molecular Mass (in amu) = Molar Mass (g/m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16.04 amu = 16.04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1 mole of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6.04 g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? mol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07 g of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476280"/>
            <a:ext cx="8496360" cy="1081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Atomic mass (in amu) = Molar Mass (g/mo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Molecular Mass (in amu) = Molar Mass (g/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684360" y="5805360"/>
                <a:ext cx="7632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umber of moles of 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e x 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ECCC2-334E-494E-A05F-CD1A3E3126A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39640" y="620640"/>
            <a:ext cx="76867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oles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are present in 6.07 g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11280" y="1700280"/>
                <a:ext cx="792000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3C04D-1318-456A-B1B2-7733E233DF2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-36360" y="476280"/>
          <a:ext cx="8640360" cy="2190240"/>
        </p:xfrm>
        <a:graphic>
          <a:graphicData uri="http://schemas.openxmlformats.org/drawingml/2006/table">
            <a:tbl>
              <a:tblPr/>
              <a:tblGrid>
                <a:gridCol w="664560"/>
                <a:gridCol w="665280"/>
                <a:gridCol w="7310520"/>
              </a:tblGrid>
              <a:tr h="83268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ow many molecules of ethane (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are present in 0.334 g of 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0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6.69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9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.89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D4ED4-5A04-4D1E-BC9F-2643B197CDB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68360" y="404640"/>
            <a:ext cx="8675640" cy="72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olecular mass of 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(2 x 12.01) + (6 x 1.008) = 30.068 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mass (amu) = Molar mass (g/mol) = 30.068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0.068 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 m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.334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e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022 x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olecules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.011 mole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 molecules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971640" y="3213000"/>
                <a:ext cx="770400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umber of moles of 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e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4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8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50920" y="5300640"/>
                <a:ext cx="860400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umber of molecules of 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22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olecule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ole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F5008-1CDF-4919-BDB5-39B207C2117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3.1 Atomic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ss of an atom = mass of p + mass of n + mass of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ss of p =mass of n = 1840 mass of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Mass of atom = mass of p + mass of 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tomic mass (or atomic weight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mass of the atom in atomic mass unit (amu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tomic mass unit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mass that exactly equal to one-twelfth the mass of one carbon-12 (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) a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The atomic mass of </a:t>
            </a:r>
            <a:r>
              <a:rPr b="1" lang="en-GB" sz="3200" spc="-1" strike="noStrike" baseline="30000">
                <a:solidFill>
                  <a:srgbClr val="ff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C = 12.00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D15EC-1311-40F5-8A80-C0F7468981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-36360" y="476280"/>
          <a:ext cx="8640360" cy="2190240"/>
        </p:xfrm>
        <a:graphic>
          <a:graphicData uri="http://schemas.openxmlformats.org/drawingml/2006/table">
            <a:tbl>
              <a:tblPr/>
              <a:tblGrid>
                <a:gridCol w="664560"/>
                <a:gridCol w="665280"/>
                <a:gridCol w="7310520"/>
              </a:tblGrid>
              <a:tr h="83268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ow many molecules of ethane (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are present in 0.334 g of 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0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6.69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9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.89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55640" y="2924280"/>
                <a:ext cx="748188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4 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1 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55640" y="4292640"/>
                <a:ext cx="6697800" cy="23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1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691FB-F142-4CDA-A0AC-CEF5ACC0D29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50752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3.7 p8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How many hydrogen atoms are present in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25.6 g of urea [(NH</a:t>
            </a:r>
            <a:r>
              <a:rPr b="0" lang="en-GB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)</a:t>
            </a:r>
            <a:r>
              <a:rPr b="0" lang="en-GB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]. The molar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mass of urea is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0.06 g/m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89080" y="1830240"/>
                <a:ext cx="8604000" cy="498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2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 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6 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g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6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/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7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molecule 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H atoms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67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?H atom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 of H atoms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 atomx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67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olecule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ecule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F176A-E7BD-4F95-99BA-AD20309811C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7"/>
          <p:cNvSpPr/>
          <p:nvPr/>
        </p:nvSpPr>
        <p:spPr>
          <a:xfrm>
            <a:off x="539640" y="54936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H.W.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What is the mass, in grams, of one copper atom? 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)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.055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2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b)   63.55 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)  1.6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e)  9.47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80927-043C-4894-9179-C6CF7C054E3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68360" y="549360"/>
            <a:ext cx="727236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ic mass of Cu = 63.55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ar mass of Cu = 63.55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3.55 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 of 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.02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u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3.55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.022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u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Cu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3520" y="5013360"/>
                <a:ext cx="779148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ms of Cu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atom x 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g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22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ato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5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</m:sSup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E31A2-A536-46BE-AF42-13B5BE071CD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7"/>
          <p:cNvSpPr/>
          <p:nvPr/>
        </p:nvSpPr>
        <p:spPr>
          <a:xfrm>
            <a:off x="539640" y="54936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H.W.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What is the mass, in grams, of one copper atom? 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)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.055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2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b)   63.55 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)  1.6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e)  9.47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708120" y="3706920"/>
                <a:ext cx="7608960" cy="29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om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22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atoms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 g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CD55C-0A36-4636-B7DF-F45732953DF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5 Percent Composition of Compound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640" y="1847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08520" y="289548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صيغة الجزي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F8EBC-0EF3-4595-BFBB-7E84D7820C4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5 Percent Composition of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ercent Composition by Mas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percent by mass of each element in a 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percent composition of an element in a compound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488240" y="4589640"/>
            <a:ext cx="5722560" cy="937800"/>
            <a:chOff x="1488240" y="4589640"/>
            <a:chExt cx="5722560" cy="937800"/>
          </a:xfrm>
        </p:grpSpPr>
        <p:sp>
          <p:nvSpPr>
            <p:cNvPr id="223" name=""/>
            <p:cNvSpPr/>
            <p:nvPr/>
          </p:nvSpPr>
          <p:spPr>
            <a:xfrm>
              <a:off x="1488240" y="4589640"/>
              <a:ext cx="462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x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ar mass of elem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03000" y="5006880"/>
              <a:ext cx="446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ar mass of compou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63480" y="5075280"/>
              <a:ext cx="42674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9280" y="4778280"/>
              <a:ext cx="136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4000" y="5734080"/>
            <a:ext cx="836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number of moles of the element i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1 mo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com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32000" y="4581360"/>
            <a:ext cx="6192720" cy="936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4BF7E-A5C3-4729-B5E6-54FB12167EE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147600" y="620640"/>
            <a:ext cx="3200400" cy="2568960"/>
            <a:chOff x="147600" y="620640"/>
            <a:chExt cx="3200400" cy="256896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147600" y="620640"/>
              <a:ext cx="3200400" cy="20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1156680" y="2610000"/>
              <a:ext cx="119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1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1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061720" y="3367080"/>
            <a:ext cx="5258520" cy="828000"/>
            <a:chOff x="2061720" y="3367080"/>
            <a:chExt cx="5258520" cy="828000"/>
          </a:xfrm>
        </p:grpSpPr>
        <p:sp>
          <p:nvSpPr>
            <p:cNvPr id="233" name=""/>
            <p:cNvSpPr/>
            <p:nvPr/>
          </p:nvSpPr>
          <p:spPr>
            <a:xfrm>
              <a:off x="2061720" y="3544920"/>
              <a:ext cx="87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C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31120" y="336708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2.01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82480" y="373536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62080" y="354492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52.14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95560" y="379260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069640" y="4116240"/>
            <a:ext cx="5226120" cy="828000"/>
            <a:chOff x="2069640" y="4116240"/>
            <a:chExt cx="5226120" cy="828000"/>
          </a:xfrm>
        </p:grpSpPr>
        <p:sp>
          <p:nvSpPr>
            <p:cNvPr id="239" name=""/>
            <p:cNvSpPr/>
            <p:nvPr/>
          </p:nvSpPr>
          <p:spPr>
            <a:xfrm>
              <a:off x="2069640" y="4294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H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55960" y="411624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.008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82480" y="448452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37600" y="429408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13.1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95560" y="454176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068200" y="4878360"/>
            <a:ext cx="5276520" cy="828000"/>
            <a:chOff x="2068200" y="4878360"/>
            <a:chExt cx="5276520" cy="828000"/>
          </a:xfrm>
        </p:grpSpPr>
        <p:sp>
          <p:nvSpPr>
            <p:cNvPr id="245" name=""/>
            <p:cNvSpPr/>
            <p:nvPr/>
          </p:nvSpPr>
          <p:spPr>
            <a:xfrm>
              <a:off x="2068200" y="505620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O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31120" y="487836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6.00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82480" y="524664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86560" y="505620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34.7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95560" y="530388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959480" y="5780160"/>
            <a:ext cx="52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2.14% + 13.13% + 34.73% = 100.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57405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Check the answ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19640" y="620640"/>
            <a:ext cx="5653080" cy="24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a50021"/>
                </a:solidFill>
                <a:uFillTx/>
                <a:latin typeface="Comic Sans MS"/>
              </a:rPr>
              <a:t>PERIODIC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Molar mass of C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O = Molecular mass C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(2 x 12.01) + (6 x 1.008) + (1 x16.00) = 46.07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009a7"/>
                </a:solidFill>
                <a:latin typeface="Comic Sans MS"/>
              </a:rPr>
              <a:t>Molar mass of C = Atomic mass of C = 12.01 g 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cc"/>
                </a:solidFill>
                <a:latin typeface="Comic Sans MS"/>
              </a:rPr>
              <a:t>Molar mass of H = Atomic mass of H = 1.008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Comic Sans MS"/>
              </a:rPr>
              <a:t>Molar mass of O = Atomic mass of O = 16.00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EBCD7-26DB-4BD7-A05E-BC255A669B6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8 p89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Calculate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H, P, and O in H</a:t>
            </a:r>
            <a:r>
              <a:rPr b="0" lang="en-US" sz="32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PO</a:t>
            </a:r>
            <a:r>
              <a:rPr b="0" lang="en-US" sz="32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2349360"/>
            <a:ext cx="8424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ar mass of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97.9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539640" y="3500280"/>
                <a:ext cx="4537080" cy="28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6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5076720" y="5529240"/>
            <a:ext cx="406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 the ans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08% + 31.61% + 65.31% = 100.0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7BE42-7228-4CD1-BE05-33425C00B7A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Content Placeholder 4"/>
          <p:cNvSpPr/>
          <p:nvPr/>
        </p:nvSpPr>
        <p:spPr>
          <a:xfrm>
            <a:off x="453960" y="620640"/>
            <a:ext cx="843912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alculate the percent of nitrogen in Ca(NO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.01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7.1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6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-38160" y="2967120"/>
          <a:ext cx="8077320" cy="2921040"/>
        </p:xfrm>
        <a:graphic>
          <a:graphicData uri="http://schemas.openxmlformats.org/drawingml/2006/table">
            <a:tbl>
              <a:tblPr/>
              <a:tblGrid>
                <a:gridCol w="533520"/>
                <a:gridCol w="709560"/>
                <a:gridCol w="6834240"/>
              </a:tblGrid>
              <a:tr h="1463400"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7d"/>
                          </a:solidFill>
                          <a:uFillTx/>
                          <a:latin typeface="Comic Sans MS"/>
                          <a:ea typeface="Times New Roman"/>
                        </a:rPr>
                        <a:t>H.W.</a:t>
                      </a:r>
                      <a:r>
                        <a:rPr b="0" lang="en-GB" sz="2400" spc="-1" strike="noStrike">
                          <a:solidFill>
                            <a:srgbClr val="00007d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All of the substances listed below are fertilizers that contribute nitrogen to the soil</a:t>
                      </a: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  <a:ea typeface="Times New Roman"/>
                        </a:rPr>
                        <a:t>Which</a:t>
                      </a: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 of these is the richest source of nitrogen on a mass percentage basis</a:t>
                      </a: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?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rea, (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mmonium nitrate, 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O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Guanidine, HNC(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  <a:ea typeface="Times New Roman"/>
                        </a:rPr>
                        <a:t>Ammonia, NH</a:t>
                      </a:r>
                      <a:r>
                        <a:rPr b="0" lang="en-US" sz="2400" spc="-1" strike="noStrike" baseline="-25000">
                          <a:solidFill>
                            <a:srgbClr val="9900cc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539640" y="5877000"/>
            <a:ext cx="59770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ايا من هذه المواد هواغنى مصدر للنيتروجين على اساس احتوائه على اكبر نسبه وزنيه من النيتروجين؟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88000" y="5137200"/>
            <a:ext cx="2305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46.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5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71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82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CB93D-E9A7-443C-A13E-8265F64B2CF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896472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The atomic mass of </a:t>
            </a:r>
            <a:r>
              <a:rPr b="1" lang="en-GB" sz="3200" spc="-1" strike="noStrike" baseline="30000">
                <a:solidFill>
                  <a:srgbClr val="ff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C = 12.00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baseline="30000">
                <a:solidFill>
                  <a:srgbClr val="9999ff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9999ff"/>
                </a:solidFill>
                <a:latin typeface="Comic Sans MS"/>
              </a:rPr>
              <a:t>C is the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.g. Hydrogen atom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is only 8.4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ssive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hus: the atomic mass of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 = 0.084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2.0 amu= 1.008 amu and so on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other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771F4-BE85-43AA-8887-2EF1E958EE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Empirical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2280" y="1557360"/>
            <a:ext cx="8686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Example: Determine the empirical formula of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compound that has the following percent composition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mass: K 24.75, Mn 34.77, O 40.51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227720" y="2924280"/>
            <a:ext cx="1916280" cy="39337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34920" y="3141720"/>
            <a:ext cx="7273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vert to grams &amp; divide by the molar mas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umber of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24.75g of K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34.77g of M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&amp;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40.51g of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627280" y="5084640"/>
                <a:ext cx="2741760" cy="173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  <m:r>
                          <m:rPr>
                            <m:lit/>
                            <m:nor/>
                          </m:rPr>
                          <m:t xml:space="preserve"> mol of K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mol of Mn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2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7308720" y="3500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308720" y="4653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57992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31A28-2A86-48F3-A719-AB64EA1EB3D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Divide by the smallest number of moles: 0.632 mo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 ratio of th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. All are integer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 the Empirical Formula of the compound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n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9900cc"/>
                </a:solidFill>
                <a:latin typeface="Comic Sans MS"/>
              </a:rPr>
              <a:t>KMnO</a:t>
            </a:r>
            <a:r>
              <a:rPr b="0" lang="en-GB" sz="6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755640" y="1506600"/>
                <a:ext cx="7711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O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A423F-511A-492F-8CFF-99FFFAFA449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95280" y="120600"/>
            <a:ext cx="80042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Percent Composition and Empirical Fo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omic Sans MS"/>
                <a:ea typeface="Times New Roman"/>
              </a:rPr>
              <a:t>Q: Determine the empirical formula of a compound that has the following percent composition by mass: K 24.75, Mn 34.77, O 40.51 perc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93920" y="313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592200" y="1484280"/>
          <a:ext cx="7364520" cy="2689200"/>
        </p:xfrm>
        <a:graphic>
          <a:graphicData uri="http://schemas.openxmlformats.org/drawingml/2006/table">
            <a:tbl>
              <a:tblPr/>
              <a:tblGrid>
                <a:gridCol w="2863800"/>
                <a:gridCol w="1459080"/>
                <a:gridCol w="1582560"/>
                <a:gridCol w="145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M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4.75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4.77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51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4.75/39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0.633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4.77/54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0.6329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51/1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2.532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633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6329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532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n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Mn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623880" y="4403880"/>
            <a:ext cx="76201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Comic Sans MS"/>
                <a:cs typeface="Times New Roman"/>
              </a:rPr>
              <a:t>خطوات الح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نشأ جدول نضع فيه العناصر المذكورة في السؤا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عتبر أن النسبة المئوية معبر عنها بالجرام فلو كان عندنا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ن المركب فهذه ال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وزعة على العناصر حسب نسبتها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وجد عدد المولات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لكل عنصر باستخدام القانون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=m/M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قسم عدد المولات على أصغر مول من العناص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الأرقام التي نحصل عليها تمثل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pirical formul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بشرط أن تكون أعداد صحيحة كما في المثال الساب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في حالة ظهور أعداد عشرية نقوم بضرب الأرقام التي في الأسفل الموجودة في الصيغة بأعداد بدأ من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،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...... حتى نحصل على أعداد صحيحة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8000" y="6508800"/>
            <a:ext cx="3743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cc"/>
                </a:solidFill>
                <a:latin typeface="Comic Sans MS"/>
              </a:rPr>
              <a:t>Courtesy of Dr. Fawzia Albelw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692D9-51C2-4C06-8939-17C1B64BF60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Empirical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22280" y="1557000"/>
            <a:ext cx="8686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3.9 p9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scorbic acid composed of 40.92% C, 4.58% H, and 54.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 by mass. Determine its empirical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227720" y="2924280"/>
            <a:ext cx="1916280" cy="39337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250920" y="3141720"/>
            <a:ext cx="6913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 40.92g of C, 4.58g of H, &amp; 54.50g of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826920" y="4216320"/>
                <a:ext cx="3745080" cy="25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7</m:t>
                        </m:r>
                        <m:r>
                          <m:rPr>
                            <m:lit/>
                            <m:nor/>
                          </m:rPr>
                          <m:t xml:space="preserve"> mol of C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mol of H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7308720" y="3500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308720" y="4653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08720" y="57992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82A34-8623-4986-9AE8-CB834484B79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. Not all numbers ar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Convert 1.33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ail-and error proced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33 x 2 = 2.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33 x 3 = 3.99 ≈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K. multiply all the numbers by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= 3             H =4         O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 the Empirical Formula of ascorbic acid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971640" y="620640"/>
                <a:ext cx="79214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7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O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FD844-C0A6-45C3-9CEC-9214AA1E2CD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393920" y="313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539640" y="1484280"/>
          <a:ext cx="7004160" cy="3268800"/>
        </p:xfrm>
        <a:graphic>
          <a:graphicData uri="http://schemas.openxmlformats.org/drawingml/2006/table">
            <a:tbl>
              <a:tblPr/>
              <a:tblGrid>
                <a:gridCol w="2503440"/>
                <a:gridCol w="1459080"/>
                <a:gridCol w="1582560"/>
                <a:gridCol w="145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92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58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4.5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92/12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.407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58/1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4.54.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4.50/1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3.406 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407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4.54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406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Convert into integer x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99 =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93" name=""/>
          <p:cNvSpPr/>
          <p:nvPr/>
        </p:nvSpPr>
        <p:spPr>
          <a:xfrm>
            <a:off x="1055520" y="4566240"/>
            <a:ext cx="762012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Comic Sans MS"/>
                <a:cs typeface="Times New Roman"/>
              </a:rPr>
              <a:t>خطوات الح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نشأ جدول نضع فيه العناصر المذكورة في السؤا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عتبر أن النسبة المئوية معبر عنها بالجرام فلو كان عندنا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ن المركب فهذه ال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وزعة على العناصر حسب نسبتها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وجد عدد المولات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لكل عنصر باستخدام القانون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=m/M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قسم عدد المولات على أصغر مول من العناص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الأرقام التي نحصل عليها تمثل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pirical formul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بشرط أن تكون أعداد صحيح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في حالة ظهور أعداد عشرية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ما في المثال السابق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نقوم بضرب الأرقام التي في الأسفل الموجودة في الصيغة بأعداد بدأ من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،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...... حتى نحصل على أعداد صحيحة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2280" y="333360"/>
            <a:ext cx="8686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Example 3.9 p9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scorbic acid composed of 40.92% C, 4.58% H, and 54.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O by mass. Determine its empirical formu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48B27-5E44-414A-87BA-6A57B8A5B79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Molecular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3.11 p9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sample compound contains 1.52g of N and 3.47g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. The molar mass of this compound is between 90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nd 95g. Determine the molecular formu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0920" y="3141720"/>
            <a:ext cx="6913440" cy="38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Thus the empirical formula is: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84360" y="3645000"/>
                <a:ext cx="345600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rPr>
                            <m:lit/>
                            <m:nor/>
                          </m:rPr>
                          <m:t xml:space="preserve"> mol of N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84360" y="5445000"/>
                <a:ext cx="58323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                           </m:t>
                    </m:r>
                    <m:r>
                      <m:t xml:space="preserve">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6588000" y="3213000"/>
            <a:ext cx="2484720" cy="2960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sent Composition by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lecular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5D635-3CA1-4931-B60F-570A96E7C07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. The molar mass of the empirical formula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14.01 + (2x16.00) = 46.01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5. The ratio between the empirical formula and the molecular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. The molecular formula is (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81160" y="3343320"/>
                <a:ext cx="50828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olar mass of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mpirical molar mas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435640" y="3284640"/>
                <a:ext cx="29527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7740720" y="327816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9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E8ADB-84AB-4210-8BDF-9845C787EFF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Content Placeholder 4"/>
          <p:cNvSpPr/>
          <p:nvPr/>
        </p:nvSpPr>
        <p:spPr>
          <a:xfrm>
            <a:off x="468360" y="549360"/>
            <a:ext cx="829476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Which of the following is an empirical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44600" y="2971800"/>
            <a:ext cx="85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A sample of acid compound contains 40.1 percent of C, 6.6 percent of H, and 53.3 percent of O. The molar mass of this compound is 60 g/mol . What is the molecular formula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324000" y="4611600"/>
            <a:ext cx="426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492360" y="105264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ايا منهم لايمكن تبسيطه اكثر مما هو عليه؟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3DE3C-0DAA-4B25-A479-77E9D65EEFA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604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7 Chemical Reactions and Chemical Eq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4920" y="1700280"/>
            <a:ext cx="642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Reac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process in which one or more substances is changed into one or more new substa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426888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Equation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ses chemical symbols to show what happens during a chemical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293920" y="6005520"/>
            <a:ext cx="4300560" cy="520560"/>
            <a:chOff x="2293920" y="6005520"/>
            <a:chExt cx="4300560" cy="520560"/>
          </a:xfrm>
        </p:grpSpPr>
        <p:sp>
          <p:nvSpPr>
            <p:cNvPr id="318" name=""/>
            <p:cNvSpPr/>
            <p:nvPr/>
          </p:nvSpPr>
          <p:spPr>
            <a:xfrm>
              <a:off x="2293920" y="6005520"/>
              <a:ext cx="174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reacta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44960" y="62578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27680" y="6005520"/>
              <a:ext cx="166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produc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1" name="" descr=""/>
          <p:cNvPicPr/>
          <p:nvPr/>
        </p:nvPicPr>
        <p:blipFill>
          <a:blip r:embed="rId1"/>
          <a:srcRect l="2012" t="1995" r="0" b="0"/>
          <a:stretch/>
        </p:blipFill>
        <p:spPr>
          <a:xfrm>
            <a:off x="6823080" y="476280"/>
            <a:ext cx="2141640" cy="21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C86D6-C567-451C-BCCE-2B37B5E66C9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03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B4646-5151-4867-B565-FC63399F0A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863640" y="4548240"/>
            <a:ext cx="7885080" cy="21938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79280" y="692280"/>
            <a:ext cx="87123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ways of representing the reaction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form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39640" y="3357720"/>
            <a:ext cx="8425080" cy="4968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826920" y="1916280"/>
            <a:ext cx="8137800" cy="62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EFE1A-1E99-4076-AD3F-9D2853509E4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576360" y="404640"/>
            <a:ext cx="8567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How to “Read” Chemical Equ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2734560" y="1614600"/>
            <a:ext cx="384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g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2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513320" y="191124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-324000" y="2535120"/>
            <a:ext cx="925200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atoms Mg + 1 molecule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kes 2 formula units M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oles Mg + 1 mole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akes 2 moles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48.6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Mg +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32.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ake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80.6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1177920" y="4797360"/>
            <a:ext cx="694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2 grams Mg + 1 gram 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makes 2 g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956720" y="4437000"/>
            <a:ext cx="100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50021"/>
                </a:solidFill>
                <a:latin typeface="Arial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531280" y="3603600"/>
            <a:ext cx="100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315280" y="2924280"/>
            <a:ext cx="10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242200" y="2276640"/>
            <a:ext cx="10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3640" y="42051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Molar m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732720" y="1557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Comic Sans MS"/>
              </a:rPr>
              <a:t>Read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EE0BA-4510-432E-8A3B-240DB873E39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3"/>
          <p:cNvSpPr/>
          <p:nvPr/>
        </p:nvSpPr>
        <p:spPr>
          <a:xfrm>
            <a:off x="212760" y="120816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Balancing Chemical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9640" y="30592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نكتب </a:t>
            </a:r>
            <a:r>
              <a:rPr b="0" lang="ar-SA" sz="2800" spc="-1" strike="noStrike" u="sng">
                <a:solidFill>
                  <a:srgbClr val="9900cc"/>
                </a:solidFill>
                <a:uFillTx/>
                <a:latin typeface="Arial"/>
              </a:rPr>
              <a:t>الصيغه الصحيحه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لكل متفاعل (على الطرف الايسر) ولكل ناتج (على الطرف الايم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42AF0-244D-475D-BA9E-5BD5F472236E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8"/>
          <p:cNvSpPr/>
          <p:nvPr/>
        </p:nvSpPr>
        <p:spPr>
          <a:xfrm>
            <a:off x="343080" y="476280"/>
            <a:ext cx="855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nge the numbers in front of the formulas (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oefficien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to make the number of atoms of each element the same on both sides of the equation.  Do not change the subscrip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4"/>
          <p:cNvGrpSpPr/>
          <p:nvPr/>
        </p:nvGrpSpPr>
        <p:grpSpPr>
          <a:xfrm>
            <a:off x="2626200" y="2395440"/>
            <a:ext cx="3627360" cy="680400"/>
            <a:chOff x="2626200" y="2395440"/>
            <a:chExt cx="3627360" cy="680400"/>
          </a:xfrm>
        </p:grpSpPr>
        <p:sp>
          <p:nvSpPr>
            <p:cNvPr id="342" name="Text Box 9"/>
            <p:cNvSpPr/>
            <p:nvPr/>
          </p:nvSpPr>
          <p:spPr>
            <a:xfrm>
              <a:off x="2626200" y="2427120"/>
              <a:ext cx="124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2C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2</a:t>
              </a: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H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2"/>
            <p:cNvSpPr/>
            <p:nvPr/>
          </p:nvSpPr>
          <p:spPr>
            <a:xfrm>
              <a:off x="3905640" y="2395440"/>
              <a:ext cx="95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O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3"/>
            <p:cNvSpPr/>
            <p:nvPr/>
          </p:nvSpPr>
          <p:spPr>
            <a:xfrm>
              <a:off x="5111280" y="2427120"/>
              <a:ext cx="114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C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4</a:t>
              </a: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H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468360" y="321300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وزن المعادله الكيميائيه يكون بتغير  الارقام التي بجانب الصيغه </a:t>
            </a:r>
            <a:r>
              <a:rPr b="0" lang="ar-SA" sz="3200" spc="-1" strike="noStrike" u="sng">
                <a:solidFill>
                  <a:srgbClr val="9900cc"/>
                </a:solidFill>
                <a:uFillTx/>
                <a:latin typeface="Arial"/>
              </a:rPr>
              <a:t>وليست التي تحتها</a:t>
            </a: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 بحيث يكون للعنصر نفس العدد على طرفي المعادله</a:t>
            </a: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ED301-38AD-4867-820E-956BCEE58FD0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3"/>
          <p:cNvSpPr/>
          <p:nvPr/>
        </p:nvSpPr>
        <p:spPr>
          <a:xfrm>
            <a:off x="212760" y="692280"/>
            <a:ext cx="855036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rt by balancing those elements that appear in only one reactant and one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55640" y="162864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00cc"/>
                </a:solidFill>
                <a:uFillTx/>
                <a:latin typeface="Arial"/>
              </a:rPr>
              <a:t>توزن اولا العناصر الاقل ظهور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979640" y="33638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00cc"/>
                </a:solidFill>
                <a:uFillTx/>
                <a:latin typeface="Arial"/>
              </a:rPr>
              <a:t>ثم توزن العناصر الاكثر ظهور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250920" y="42210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4000" y="5516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cc"/>
                </a:solidFill>
                <a:latin typeface="Arial"/>
              </a:rPr>
              <a:t>الخطوه الاخيره هي التأكد من ان لديك نفس العدد من الذرات لكل عنصر على طرفي المعادل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A50A0-C392-420C-8AD3-A07C850CC1B5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40788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24000" y="2421000"/>
            <a:ext cx="855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324000" y="9381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Nitrogen monoxide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reacts with oxygen to form nitrogen dioxide 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balance this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476360" y="4437000"/>
                <a:ext cx="540072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9D42A-533D-4AE0-B372-69B172B84D8F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3"/>
          <p:cNvSpPr/>
          <p:nvPr/>
        </p:nvSpPr>
        <p:spPr>
          <a:xfrm>
            <a:off x="281160" y="51912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Start by balancing those elements that appear in only one reactant and one produ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4994280" y="177336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tart with N  not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24"/>
          <p:cNvGrpSpPr/>
          <p:nvPr/>
        </p:nvGrpSpPr>
        <p:grpSpPr>
          <a:xfrm>
            <a:off x="271800" y="2276280"/>
            <a:ext cx="1671120" cy="1359000"/>
            <a:chOff x="271800" y="2276280"/>
            <a:chExt cx="1671120" cy="1359000"/>
          </a:xfrm>
        </p:grpSpPr>
        <p:sp>
          <p:nvSpPr>
            <p:cNvPr id="359" name="Line 17"/>
            <p:cNvSpPr/>
            <p:nvPr/>
          </p:nvSpPr>
          <p:spPr>
            <a:xfrm flipV="1">
              <a:off x="110484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18"/>
            <p:cNvSpPr/>
            <p:nvPr/>
          </p:nvSpPr>
          <p:spPr>
            <a:xfrm>
              <a:off x="271800" y="2809800"/>
              <a:ext cx="1671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nit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5"/>
          <p:cNvGrpSpPr/>
          <p:nvPr/>
        </p:nvGrpSpPr>
        <p:grpSpPr>
          <a:xfrm>
            <a:off x="3054600" y="2276280"/>
            <a:ext cx="1671120" cy="1359000"/>
            <a:chOff x="3054600" y="2276280"/>
            <a:chExt cx="1671120" cy="1359000"/>
          </a:xfrm>
        </p:grpSpPr>
        <p:sp>
          <p:nvSpPr>
            <p:cNvPr id="362" name="Line 21"/>
            <p:cNvSpPr/>
            <p:nvPr/>
          </p:nvSpPr>
          <p:spPr>
            <a:xfrm flipV="1">
              <a:off x="388908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2"/>
            <p:cNvSpPr/>
            <p:nvPr/>
          </p:nvSpPr>
          <p:spPr>
            <a:xfrm>
              <a:off x="3054600" y="2809800"/>
              <a:ext cx="1671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nit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755640" y="1628640"/>
                <a:ext cx="39607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5" name="Text Box 15"/>
          <p:cNvSpPr/>
          <p:nvPr/>
        </p:nvSpPr>
        <p:spPr>
          <a:xfrm>
            <a:off x="5485320" y="299736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 is balanc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9FEF8-7CD0-4A2B-AA28-395D35FEC219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30"/>
          <p:cNvGrpSpPr/>
          <p:nvPr/>
        </p:nvGrpSpPr>
        <p:grpSpPr>
          <a:xfrm>
            <a:off x="1260000" y="2276280"/>
            <a:ext cx="1483920" cy="1359000"/>
            <a:chOff x="1260000" y="2276280"/>
            <a:chExt cx="1483920" cy="1359000"/>
          </a:xfrm>
        </p:grpSpPr>
        <p:sp>
          <p:nvSpPr>
            <p:cNvPr id="367" name="Line 31"/>
            <p:cNvSpPr/>
            <p:nvPr/>
          </p:nvSpPr>
          <p:spPr>
            <a:xfrm flipV="1">
              <a:off x="199836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32"/>
            <p:cNvSpPr/>
            <p:nvPr/>
          </p:nvSpPr>
          <p:spPr>
            <a:xfrm>
              <a:off x="1260000" y="280980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3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33"/>
          <p:cNvGrpSpPr/>
          <p:nvPr/>
        </p:nvGrpSpPr>
        <p:grpSpPr>
          <a:xfrm>
            <a:off x="3490200" y="2205000"/>
            <a:ext cx="1483920" cy="1359000"/>
            <a:chOff x="3490200" y="2205000"/>
            <a:chExt cx="1483920" cy="1359000"/>
          </a:xfrm>
        </p:grpSpPr>
        <p:sp>
          <p:nvSpPr>
            <p:cNvPr id="370" name="Line 34"/>
            <p:cNvSpPr/>
            <p:nvPr/>
          </p:nvSpPr>
          <p:spPr>
            <a:xfrm flipV="1">
              <a:off x="4230360" y="22050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35"/>
            <p:cNvSpPr/>
            <p:nvPr/>
          </p:nvSpPr>
          <p:spPr>
            <a:xfrm>
              <a:off x="3490200" y="273852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Text Box 36"/>
          <p:cNvSpPr/>
          <p:nvPr/>
        </p:nvSpPr>
        <p:spPr>
          <a:xfrm>
            <a:off x="5364000" y="2205000"/>
            <a:ext cx="3311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NO by 2 and N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755640" y="1557360"/>
                <a:ext cx="39607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684360" y="3689280"/>
                <a:ext cx="45338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5" name="Text Box 3"/>
          <p:cNvSpPr/>
          <p:nvPr/>
        </p:nvSpPr>
        <p:spPr>
          <a:xfrm>
            <a:off x="212760" y="54936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30"/>
          <p:cNvGrpSpPr/>
          <p:nvPr/>
        </p:nvGrpSpPr>
        <p:grpSpPr>
          <a:xfrm>
            <a:off x="75960" y="4581360"/>
            <a:ext cx="3624840" cy="1359000"/>
            <a:chOff x="75960" y="4581360"/>
            <a:chExt cx="3624840" cy="1359000"/>
          </a:xfrm>
        </p:grpSpPr>
        <p:sp>
          <p:nvSpPr>
            <p:cNvPr id="377" name="Line 31"/>
            <p:cNvSpPr/>
            <p:nvPr/>
          </p:nvSpPr>
          <p:spPr>
            <a:xfrm flipV="1">
              <a:off x="1876320" y="45813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32"/>
            <p:cNvSpPr/>
            <p:nvPr/>
          </p:nvSpPr>
          <p:spPr>
            <a:xfrm>
              <a:off x="75960" y="5114880"/>
              <a:ext cx="362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 + 2 oxygen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30"/>
          <p:cNvGrpSpPr/>
          <p:nvPr/>
        </p:nvGrpSpPr>
        <p:grpSpPr>
          <a:xfrm>
            <a:off x="3800880" y="4737240"/>
            <a:ext cx="2483640" cy="1359000"/>
            <a:chOff x="3800880" y="4737240"/>
            <a:chExt cx="2483640" cy="1359000"/>
          </a:xfrm>
        </p:grpSpPr>
        <p:sp>
          <p:nvSpPr>
            <p:cNvPr id="380" name="Line 31"/>
            <p:cNvSpPr/>
            <p:nvPr/>
          </p:nvSpPr>
          <p:spPr>
            <a:xfrm flipV="1">
              <a:off x="5033880" y="473724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32"/>
            <p:cNvSpPr/>
            <p:nvPr/>
          </p:nvSpPr>
          <p:spPr>
            <a:xfrm>
              <a:off x="3800880" y="5270760"/>
              <a:ext cx="2483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x 2 = 4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 Box 15"/>
          <p:cNvSpPr/>
          <p:nvPr/>
        </p:nvSpPr>
        <p:spPr>
          <a:xfrm>
            <a:off x="6442920" y="508464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is balanc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B4260-D470-4703-A216-F49FC8762A70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3"/>
          <p:cNvSpPr/>
          <p:nvPr/>
        </p:nvSpPr>
        <p:spPr>
          <a:xfrm>
            <a:off x="212760" y="5922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34"/>
          <p:cNvGrpSpPr/>
          <p:nvPr/>
        </p:nvGrpSpPr>
        <p:grpSpPr>
          <a:xfrm>
            <a:off x="408600" y="2125800"/>
            <a:ext cx="3875760" cy="511560"/>
            <a:chOff x="408600" y="2125800"/>
            <a:chExt cx="3875760" cy="511560"/>
          </a:xfrm>
        </p:grpSpPr>
        <p:sp>
          <p:nvSpPr>
            <p:cNvPr id="385" name="Text Box 35"/>
            <p:cNvSpPr/>
            <p:nvPr/>
          </p:nvSpPr>
          <p:spPr>
            <a:xfrm>
              <a:off x="408600" y="2125800"/>
              <a:ext cx="149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7d"/>
                  </a:solidFill>
                  <a:latin typeface="Comic Sans MS"/>
                </a:rPr>
                <a:t>2NO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36"/>
            <p:cNvSpPr/>
            <p:nvPr/>
          </p:nvSpPr>
          <p:spPr>
            <a:xfrm>
              <a:off x="2374920" y="23544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37"/>
            <p:cNvSpPr/>
            <p:nvPr/>
          </p:nvSpPr>
          <p:spPr>
            <a:xfrm>
              <a:off x="3281040" y="2127240"/>
              <a:ext cx="1003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N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48"/>
          <p:cNvGrpSpPr/>
          <p:nvPr/>
        </p:nvGrpSpPr>
        <p:grpSpPr>
          <a:xfrm>
            <a:off x="5252040" y="3843360"/>
            <a:ext cx="3644640" cy="1789200"/>
            <a:chOff x="5252040" y="3843360"/>
            <a:chExt cx="3644640" cy="1789200"/>
          </a:xfrm>
        </p:grpSpPr>
        <p:sp>
          <p:nvSpPr>
            <p:cNvPr id="389" name="Text Box 38"/>
            <p:cNvSpPr/>
            <p:nvPr/>
          </p:nvSpPr>
          <p:spPr>
            <a:xfrm>
              <a:off x="5252040" y="38433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React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39"/>
            <p:cNvSpPr/>
            <p:nvPr/>
          </p:nvSpPr>
          <p:spPr>
            <a:xfrm>
              <a:off x="7441920" y="3843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40"/>
            <p:cNvSpPr/>
            <p:nvPr/>
          </p:nvSpPr>
          <p:spPr>
            <a:xfrm>
              <a:off x="5334120" y="426096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41"/>
            <p:cNvSpPr/>
            <p:nvPr/>
          </p:nvSpPr>
          <p:spPr>
            <a:xfrm>
              <a:off x="5690880" y="433692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42"/>
            <p:cNvSpPr/>
            <p:nvPr/>
          </p:nvSpPr>
          <p:spPr>
            <a:xfrm>
              <a:off x="5518080" y="47563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43"/>
            <p:cNvSpPr/>
            <p:nvPr/>
          </p:nvSpPr>
          <p:spPr>
            <a:xfrm>
              <a:off x="5486400" y="51753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44"/>
            <p:cNvSpPr/>
            <p:nvPr/>
          </p:nvSpPr>
          <p:spPr>
            <a:xfrm>
              <a:off x="7894440" y="433692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45"/>
            <p:cNvSpPr/>
            <p:nvPr/>
          </p:nvSpPr>
          <p:spPr>
            <a:xfrm>
              <a:off x="7721640" y="47563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6"/>
            <p:cNvSpPr/>
            <p:nvPr/>
          </p:nvSpPr>
          <p:spPr>
            <a:xfrm>
              <a:off x="7689960" y="51753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47"/>
            <p:cNvSpPr/>
            <p:nvPr/>
          </p:nvSpPr>
          <p:spPr>
            <a:xfrm>
              <a:off x="5334120" y="560700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52"/>
          <p:cNvGrpSpPr/>
          <p:nvPr/>
        </p:nvGrpSpPr>
        <p:grpSpPr>
          <a:xfrm>
            <a:off x="383400" y="2622600"/>
            <a:ext cx="3592800" cy="459720"/>
            <a:chOff x="383400" y="2622600"/>
            <a:chExt cx="3592800" cy="459720"/>
          </a:xfrm>
        </p:grpSpPr>
        <p:sp>
          <p:nvSpPr>
            <p:cNvPr id="400" name="Text Box 50"/>
            <p:cNvSpPr/>
            <p:nvPr/>
          </p:nvSpPr>
          <p:spPr>
            <a:xfrm>
              <a:off x="383400" y="262260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51"/>
            <p:cNvSpPr/>
            <p:nvPr/>
          </p:nvSpPr>
          <p:spPr>
            <a:xfrm>
              <a:off x="3310920" y="262260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55"/>
          <p:cNvGrpSpPr/>
          <p:nvPr/>
        </p:nvGrpSpPr>
        <p:grpSpPr>
          <a:xfrm>
            <a:off x="346680" y="3098880"/>
            <a:ext cx="4675680" cy="459720"/>
            <a:chOff x="346680" y="3098880"/>
            <a:chExt cx="4675680" cy="459720"/>
          </a:xfrm>
        </p:grpSpPr>
        <p:sp>
          <p:nvSpPr>
            <p:cNvPr id="403" name="Text Box 53"/>
            <p:cNvSpPr/>
            <p:nvPr/>
          </p:nvSpPr>
          <p:spPr>
            <a:xfrm>
              <a:off x="346680" y="3098880"/>
              <a:ext cx="200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 + 2 O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54"/>
            <p:cNvSpPr/>
            <p:nvPr/>
          </p:nvSpPr>
          <p:spPr>
            <a:xfrm>
              <a:off x="3421440" y="3098880"/>
              <a:ext cx="160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 (2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7B697-5D01-48C8-B686-0F309E07EC70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40788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324000" y="2421000"/>
            <a:ext cx="855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0"/>
          <p:cNvGrpSpPr/>
          <p:nvPr/>
        </p:nvGrpSpPr>
        <p:grpSpPr>
          <a:xfrm>
            <a:off x="2257920" y="4348080"/>
            <a:ext cx="4365000" cy="581400"/>
            <a:chOff x="2257920" y="4348080"/>
            <a:chExt cx="4365000" cy="581400"/>
          </a:xfrm>
        </p:grpSpPr>
        <p:sp>
          <p:nvSpPr>
            <p:cNvPr id="408" name="Text Box 5"/>
            <p:cNvSpPr/>
            <p:nvPr/>
          </p:nvSpPr>
          <p:spPr>
            <a:xfrm>
              <a:off x="2257920" y="4348080"/>
              <a:ext cx="1686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6"/>
            <p:cNvSpPr/>
            <p:nvPr/>
          </p:nvSpPr>
          <p:spPr>
            <a:xfrm>
              <a:off x="3867120" y="4576680"/>
              <a:ext cx="761760" cy="0"/>
            </a:xfrm>
            <a:prstGeom prst="line">
              <a:avLst/>
            </a:prstGeom>
            <a:ln w="38160">
              <a:solidFill>
                <a:srgbClr val="0000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7"/>
            <p:cNvSpPr/>
            <p:nvPr/>
          </p:nvSpPr>
          <p:spPr>
            <a:xfrm>
              <a:off x="4776480" y="4349880"/>
              <a:ext cx="1846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CO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4"/>
          <p:cNvSpPr/>
          <p:nvPr/>
        </p:nvSpPr>
        <p:spPr>
          <a:xfrm>
            <a:off x="324000" y="9381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thane reacts with oxygen to form carbon dioxide and water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balance this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167FE-7CF0-4F9D-8E40-2B4DC00B54E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Average Atomic Ma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0714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ic mass of carbon = 12.01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2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arbon exist in more than one form (isotopes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&amp;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bon is a mixture of Isot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Atomic Mass = Average Atomic M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03280" y="1128600"/>
            <a:ext cx="1944720" cy="30492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2.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24360" y="1052640"/>
            <a:ext cx="2955960" cy="3168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659640" y="1773360"/>
            <a:ext cx="2484360" cy="12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Natural Abun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طبيع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وف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1C09F-894A-41DE-9A81-18FB95B0EE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3"/>
          <p:cNvSpPr/>
          <p:nvPr/>
        </p:nvSpPr>
        <p:spPr>
          <a:xfrm>
            <a:off x="281160" y="51912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Start by balancing those elements that appear in only one reactant and one produ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5"/>
          <p:cNvGrpSpPr/>
          <p:nvPr/>
        </p:nvGrpSpPr>
        <p:grpSpPr>
          <a:xfrm>
            <a:off x="486000" y="1596960"/>
            <a:ext cx="4128120" cy="511920"/>
            <a:chOff x="486000" y="1596960"/>
            <a:chExt cx="4128120" cy="511920"/>
          </a:xfrm>
        </p:grpSpPr>
        <p:sp>
          <p:nvSpPr>
            <p:cNvPr id="414" name="Text Box 6"/>
            <p:cNvSpPr/>
            <p:nvPr/>
          </p:nvSpPr>
          <p:spPr>
            <a:xfrm>
              <a:off x="486000" y="15969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7"/>
            <p:cNvSpPr/>
            <p:nvPr/>
          </p:nvSpPr>
          <p:spPr>
            <a:xfrm>
              <a:off x="2106720" y="182556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8"/>
            <p:cNvSpPr/>
            <p:nvPr/>
          </p:nvSpPr>
          <p:spPr>
            <a:xfrm>
              <a:off x="3007440" y="1598760"/>
              <a:ext cx="160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15"/>
          <p:cNvSpPr/>
          <p:nvPr/>
        </p:nvSpPr>
        <p:spPr>
          <a:xfrm>
            <a:off x="4822920" y="1596960"/>
            <a:ext cx="39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tart with C or H but not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24"/>
          <p:cNvGrpSpPr/>
          <p:nvPr/>
        </p:nvGrpSpPr>
        <p:grpSpPr>
          <a:xfrm>
            <a:off x="99360" y="2054160"/>
            <a:ext cx="1438200" cy="1359000"/>
            <a:chOff x="99360" y="2054160"/>
            <a:chExt cx="1438200" cy="1359000"/>
          </a:xfrm>
        </p:grpSpPr>
        <p:sp>
          <p:nvSpPr>
            <p:cNvPr id="419" name="Line 17"/>
            <p:cNvSpPr/>
            <p:nvPr/>
          </p:nvSpPr>
          <p:spPr>
            <a:xfrm flipV="1">
              <a:off x="817560" y="20541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18"/>
            <p:cNvSpPr/>
            <p:nvPr/>
          </p:nvSpPr>
          <p:spPr>
            <a:xfrm>
              <a:off x="99360" y="2587680"/>
              <a:ext cx="143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carb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25"/>
          <p:cNvGrpSpPr/>
          <p:nvPr/>
        </p:nvGrpSpPr>
        <p:grpSpPr>
          <a:xfrm>
            <a:off x="2473560" y="1977840"/>
            <a:ext cx="1438200" cy="1359000"/>
            <a:chOff x="2473560" y="1977840"/>
            <a:chExt cx="1438200" cy="1359000"/>
          </a:xfrm>
        </p:grpSpPr>
        <p:sp>
          <p:nvSpPr>
            <p:cNvPr id="422" name="Line 21"/>
            <p:cNvSpPr/>
            <p:nvPr/>
          </p:nvSpPr>
          <p:spPr>
            <a:xfrm flipV="1">
              <a:off x="3192480" y="197784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2"/>
            <p:cNvSpPr/>
            <p:nvPr/>
          </p:nvSpPr>
          <p:spPr>
            <a:xfrm>
              <a:off x="2473560" y="2511360"/>
              <a:ext cx="143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carb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Text Box 23"/>
          <p:cNvSpPr/>
          <p:nvPr/>
        </p:nvSpPr>
        <p:spPr>
          <a:xfrm>
            <a:off x="5696280" y="2664000"/>
            <a:ext cx="262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C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26"/>
          <p:cNvGrpSpPr/>
          <p:nvPr/>
        </p:nvGrpSpPr>
        <p:grpSpPr>
          <a:xfrm>
            <a:off x="486000" y="3440160"/>
            <a:ext cx="4307760" cy="511560"/>
            <a:chOff x="486000" y="3440160"/>
            <a:chExt cx="4307760" cy="511560"/>
          </a:xfrm>
        </p:grpSpPr>
        <p:sp>
          <p:nvSpPr>
            <p:cNvPr id="426" name="Text Box 27"/>
            <p:cNvSpPr/>
            <p:nvPr/>
          </p:nvSpPr>
          <p:spPr>
            <a:xfrm>
              <a:off x="486000" y="34401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28"/>
            <p:cNvSpPr/>
            <p:nvPr/>
          </p:nvSpPr>
          <p:spPr>
            <a:xfrm>
              <a:off x="2106720" y="366840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29"/>
            <p:cNvSpPr/>
            <p:nvPr/>
          </p:nvSpPr>
          <p:spPr>
            <a:xfrm>
              <a:off x="3013560" y="3441600"/>
              <a:ext cx="178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30"/>
          <p:cNvGrpSpPr/>
          <p:nvPr/>
        </p:nvGrpSpPr>
        <p:grpSpPr>
          <a:xfrm>
            <a:off x="227880" y="3898800"/>
            <a:ext cx="1825200" cy="1359000"/>
            <a:chOff x="227880" y="3898800"/>
            <a:chExt cx="1825200" cy="1359000"/>
          </a:xfrm>
        </p:grpSpPr>
        <p:sp>
          <p:nvSpPr>
            <p:cNvPr id="430" name="Line 31"/>
            <p:cNvSpPr/>
            <p:nvPr/>
          </p:nvSpPr>
          <p:spPr>
            <a:xfrm flipV="1">
              <a:off x="1137960" y="38988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32"/>
            <p:cNvSpPr/>
            <p:nvPr/>
          </p:nvSpPr>
          <p:spPr>
            <a:xfrm>
              <a:off x="227880" y="4432320"/>
              <a:ext cx="182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6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33"/>
          <p:cNvGrpSpPr/>
          <p:nvPr/>
        </p:nvGrpSpPr>
        <p:grpSpPr>
          <a:xfrm>
            <a:off x="3507480" y="3898800"/>
            <a:ext cx="1825200" cy="1359000"/>
            <a:chOff x="3507480" y="3898800"/>
            <a:chExt cx="1825200" cy="1359000"/>
          </a:xfrm>
        </p:grpSpPr>
        <p:sp>
          <p:nvSpPr>
            <p:cNvPr id="433" name="Line 34"/>
            <p:cNvSpPr/>
            <p:nvPr/>
          </p:nvSpPr>
          <p:spPr>
            <a:xfrm flipV="1">
              <a:off x="4417560" y="38988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35"/>
            <p:cNvSpPr/>
            <p:nvPr/>
          </p:nvSpPr>
          <p:spPr>
            <a:xfrm>
              <a:off x="3507480" y="4432320"/>
              <a:ext cx="182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Text Box 36"/>
          <p:cNvSpPr/>
          <p:nvPr/>
        </p:nvSpPr>
        <p:spPr>
          <a:xfrm>
            <a:off x="5704200" y="4610160"/>
            <a:ext cx="266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b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37"/>
          <p:cNvGrpSpPr/>
          <p:nvPr/>
        </p:nvGrpSpPr>
        <p:grpSpPr>
          <a:xfrm>
            <a:off x="486000" y="5405400"/>
            <a:ext cx="4487400" cy="511920"/>
            <a:chOff x="486000" y="5405400"/>
            <a:chExt cx="4487400" cy="511920"/>
          </a:xfrm>
        </p:grpSpPr>
        <p:sp>
          <p:nvSpPr>
            <p:cNvPr id="437" name="Text Box 38"/>
            <p:cNvSpPr/>
            <p:nvPr/>
          </p:nvSpPr>
          <p:spPr>
            <a:xfrm>
              <a:off x="486000" y="540540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39"/>
            <p:cNvSpPr/>
            <p:nvPr/>
          </p:nvSpPr>
          <p:spPr>
            <a:xfrm>
              <a:off x="2106720" y="563400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40"/>
            <p:cNvSpPr/>
            <p:nvPr/>
          </p:nvSpPr>
          <p:spPr>
            <a:xfrm>
              <a:off x="3019320" y="540720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3772F-E4A7-40E9-9CC7-13D4027C205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3"/>
          <p:cNvSpPr/>
          <p:nvPr/>
        </p:nvSpPr>
        <p:spPr>
          <a:xfrm>
            <a:off x="212760" y="54936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10"/>
          <p:cNvGrpSpPr/>
          <p:nvPr/>
        </p:nvGrpSpPr>
        <p:grpSpPr>
          <a:xfrm>
            <a:off x="883800" y="2309760"/>
            <a:ext cx="1483920" cy="1359000"/>
            <a:chOff x="883800" y="2309760"/>
            <a:chExt cx="1483920" cy="1359000"/>
          </a:xfrm>
        </p:grpSpPr>
        <p:sp>
          <p:nvSpPr>
            <p:cNvPr id="442" name="Line 11"/>
            <p:cNvSpPr/>
            <p:nvPr/>
          </p:nvSpPr>
          <p:spPr>
            <a:xfrm flipV="1">
              <a:off x="162360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12"/>
            <p:cNvSpPr/>
            <p:nvPr/>
          </p:nvSpPr>
          <p:spPr>
            <a:xfrm>
              <a:off x="883800" y="284328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13"/>
          <p:cNvGrpSpPr/>
          <p:nvPr/>
        </p:nvGrpSpPr>
        <p:grpSpPr>
          <a:xfrm>
            <a:off x="2585520" y="2309760"/>
            <a:ext cx="1483920" cy="1359000"/>
            <a:chOff x="2585520" y="2309760"/>
            <a:chExt cx="1483920" cy="1359000"/>
          </a:xfrm>
        </p:grpSpPr>
        <p:sp>
          <p:nvSpPr>
            <p:cNvPr id="445" name="Line 14"/>
            <p:cNvSpPr/>
            <p:nvPr/>
          </p:nvSpPr>
          <p:spPr>
            <a:xfrm flipV="1">
              <a:off x="332568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5"/>
            <p:cNvSpPr/>
            <p:nvPr/>
          </p:nvSpPr>
          <p:spPr>
            <a:xfrm>
              <a:off x="2585520" y="284328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(2x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28"/>
          <p:cNvGrpSpPr/>
          <p:nvPr/>
        </p:nvGrpSpPr>
        <p:grpSpPr>
          <a:xfrm>
            <a:off x="417600" y="1852560"/>
            <a:ext cx="4487400" cy="511920"/>
            <a:chOff x="417600" y="1852560"/>
            <a:chExt cx="4487400" cy="511920"/>
          </a:xfrm>
        </p:grpSpPr>
        <p:sp>
          <p:nvSpPr>
            <p:cNvPr id="448" name="Text Box 29"/>
            <p:cNvSpPr/>
            <p:nvPr/>
          </p:nvSpPr>
          <p:spPr>
            <a:xfrm>
              <a:off x="417600" y="18525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30"/>
            <p:cNvSpPr/>
            <p:nvPr/>
          </p:nvSpPr>
          <p:spPr>
            <a:xfrm>
              <a:off x="2038320" y="208116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31"/>
            <p:cNvSpPr/>
            <p:nvPr/>
          </p:nvSpPr>
          <p:spPr>
            <a:xfrm>
              <a:off x="2950920" y="185436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44"/>
          <p:cNvGrpSpPr/>
          <p:nvPr/>
        </p:nvGrpSpPr>
        <p:grpSpPr>
          <a:xfrm>
            <a:off x="3882240" y="2309760"/>
            <a:ext cx="1736640" cy="1349280"/>
            <a:chOff x="3882240" y="2309760"/>
            <a:chExt cx="1736640" cy="1349280"/>
          </a:xfrm>
        </p:grpSpPr>
        <p:sp>
          <p:nvSpPr>
            <p:cNvPr id="452" name="Line 33"/>
            <p:cNvSpPr/>
            <p:nvPr/>
          </p:nvSpPr>
          <p:spPr>
            <a:xfrm flipV="1">
              <a:off x="474984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34"/>
            <p:cNvSpPr/>
            <p:nvPr/>
          </p:nvSpPr>
          <p:spPr>
            <a:xfrm>
              <a:off x="3882240" y="2833560"/>
              <a:ext cx="1736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+ 3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(3x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Group 54"/>
          <p:cNvGrpSpPr/>
          <p:nvPr/>
        </p:nvGrpSpPr>
        <p:grpSpPr>
          <a:xfrm>
            <a:off x="5578200" y="1700280"/>
            <a:ext cx="2427120" cy="764280"/>
            <a:chOff x="5578200" y="1700280"/>
            <a:chExt cx="2427120" cy="764280"/>
          </a:xfrm>
        </p:grpSpPr>
        <p:sp>
          <p:nvSpPr>
            <p:cNvPr id="455" name="Text Box 16"/>
            <p:cNvSpPr/>
            <p:nvPr/>
          </p:nvSpPr>
          <p:spPr>
            <a:xfrm>
              <a:off x="5578200" y="1852560"/>
              <a:ext cx="2422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multiply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by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42"/>
            <p:cNvGrpSpPr/>
            <p:nvPr/>
          </p:nvGrpSpPr>
          <p:grpSpPr>
            <a:xfrm>
              <a:off x="7624800" y="1700280"/>
              <a:ext cx="380520" cy="764280"/>
              <a:chOff x="7624800" y="1700280"/>
              <a:chExt cx="380520" cy="764280"/>
            </a:xfrm>
          </p:grpSpPr>
          <p:sp>
            <p:nvSpPr>
              <p:cNvPr id="457" name="Text Box 37"/>
              <p:cNvSpPr/>
              <p:nvPr/>
            </p:nvSpPr>
            <p:spPr>
              <a:xfrm>
                <a:off x="7644600" y="1700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38"/>
              <p:cNvSpPr/>
              <p:nvPr/>
            </p:nvSpPr>
            <p:spPr>
              <a:xfrm>
                <a:off x="7624800" y="2081160"/>
                <a:ext cx="380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41"/>
              <p:cNvSpPr/>
              <p:nvPr/>
            </p:nvSpPr>
            <p:spPr>
              <a:xfrm>
                <a:off x="7644600" y="20048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0" name="Text Box 45"/>
          <p:cNvSpPr/>
          <p:nvPr/>
        </p:nvSpPr>
        <p:spPr>
          <a:xfrm>
            <a:off x="5447520" y="2833560"/>
            <a:ext cx="173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= 7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n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55"/>
          <p:cNvGrpSpPr/>
          <p:nvPr/>
        </p:nvGrpSpPr>
        <p:grpSpPr>
          <a:xfrm>
            <a:off x="445680" y="3846600"/>
            <a:ext cx="4783320" cy="764280"/>
            <a:chOff x="445680" y="3846600"/>
            <a:chExt cx="4783320" cy="764280"/>
          </a:xfrm>
        </p:grpSpPr>
        <p:sp>
          <p:nvSpPr>
            <p:cNvPr id="462" name="Text Box 47"/>
            <p:cNvSpPr/>
            <p:nvPr/>
          </p:nvSpPr>
          <p:spPr>
            <a:xfrm>
              <a:off x="445680" y="3984480"/>
              <a:ext cx="186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    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48"/>
            <p:cNvSpPr/>
            <p:nvPr/>
          </p:nvSpPr>
          <p:spPr>
            <a:xfrm>
              <a:off x="2362320" y="421308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49"/>
            <p:cNvSpPr/>
            <p:nvPr/>
          </p:nvSpPr>
          <p:spPr>
            <a:xfrm>
              <a:off x="3274920" y="398628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Group 50"/>
            <p:cNvGrpSpPr/>
            <p:nvPr/>
          </p:nvGrpSpPr>
          <p:grpSpPr>
            <a:xfrm>
              <a:off x="1523880" y="3846600"/>
              <a:ext cx="380880" cy="764280"/>
              <a:chOff x="1523880" y="3846600"/>
              <a:chExt cx="380880" cy="764280"/>
            </a:xfrm>
          </p:grpSpPr>
          <p:sp>
            <p:nvSpPr>
              <p:cNvPr id="466" name="Text Box 51"/>
              <p:cNvSpPr/>
              <p:nvPr/>
            </p:nvSpPr>
            <p:spPr>
              <a:xfrm>
                <a:off x="1544040" y="38466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52"/>
              <p:cNvSpPr/>
              <p:nvPr/>
            </p:nvSpPr>
            <p:spPr>
              <a:xfrm>
                <a:off x="1523880" y="4227480"/>
                <a:ext cx="3808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53"/>
              <p:cNvSpPr/>
              <p:nvPr/>
            </p:nvSpPr>
            <p:spPr>
              <a:xfrm>
                <a:off x="1544040" y="4151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Text Box 56"/>
          <p:cNvSpPr/>
          <p:nvPr/>
        </p:nvSpPr>
        <p:spPr>
          <a:xfrm>
            <a:off x="5557320" y="3833640"/>
            <a:ext cx="358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remove 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both sides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61"/>
          <p:cNvGrpSpPr/>
          <p:nvPr/>
        </p:nvGrpSpPr>
        <p:grpSpPr>
          <a:xfrm>
            <a:off x="429480" y="4746600"/>
            <a:ext cx="4812120" cy="511560"/>
            <a:chOff x="429480" y="4746600"/>
            <a:chExt cx="4812120" cy="511560"/>
          </a:xfrm>
        </p:grpSpPr>
        <p:sp>
          <p:nvSpPr>
            <p:cNvPr id="471" name="Text Box 58"/>
            <p:cNvSpPr/>
            <p:nvPr/>
          </p:nvSpPr>
          <p:spPr>
            <a:xfrm>
              <a:off x="429480" y="4746600"/>
              <a:ext cx="181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7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59"/>
            <p:cNvSpPr/>
            <p:nvPr/>
          </p:nvSpPr>
          <p:spPr>
            <a:xfrm>
              <a:off x="2374920" y="49752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60"/>
            <p:cNvSpPr/>
            <p:nvPr/>
          </p:nvSpPr>
          <p:spPr>
            <a:xfrm>
              <a:off x="3287520" y="474804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6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7A65F-9F16-45D2-82B0-A8AD8E7FE36C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3"/>
          <p:cNvSpPr/>
          <p:nvPr/>
        </p:nvSpPr>
        <p:spPr>
          <a:xfrm>
            <a:off x="212760" y="5922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4"/>
          <p:cNvGrpSpPr/>
          <p:nvPr/>
        </p:nvGrpSpPr>
        <p:grpSpPr>
          <a:xfrm>
            <a:off x="429480" y="2125800"/>
            <a:ext cx="4812120" cy="511560"/>
            <a:chOff x="429480" y="2125800"/>
            <a:chExt cx="4812120" cy="511560"/>
          </a:xfrm>
        </p:grpSpPr>
        <p:sp>
          <p:nvSpPr>
            <p:cNvPr id="476" name="Text Box 35"/>
            <p:cNvSpPr/>
            <p:nvPr/>
          </p:nvSpPr>
          <p:spPr>
            <a:xfrm>
              <a:off x="429480" y="2125800"/>
              <a:ext cx="181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7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36"/>
            <p:cNvSpPr/>
            <p:nvPr/>
          </p:nvSpPr>
          <p:spPr>
            <a:xfrm>
              <a:off x="2374920" y="23544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37"/>
            <p:cNvSpPr/>
            <p:nvPr/>
          </p:nvSpPr>
          <p:spPr>
            <a:xfrm>
              <a:off x="3287520" y="212724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6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48"/>
          <p:cNvGrpSpPr/>
          <p:nvPr/>
        </p:nvGrpSpPr>
        <p:grpSpPr>
          <a:xfrm>
            <a:off x="5252040" y="3843360"/>
            <a:ext cx="3644640" cy="1791720"/>
            <a:chOff x="5252040" y="3843360"/>
            <a:chExt cx="3644640" cy="1791720"/>
          </a:xfrm>
        </p:grpSpPr>
        <p:sp>
          <p:nvSpPr>
            <p:cNvPr id="480" name="Text Box 38"/>
            <p:cNvSpPr/>
            <p:nvPr/>
          </p:nvSpPr>
          <p:spPr>
            <a:xfrm>
              <a:off x="5252040" y="38433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React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39"/>
            <p:cNvSpPr/>
            <p:nvPr/>
          </p:nvSpPr>
          <p:spPr>
            <a:xfrm>
              <a:off x="7441920" y="3843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40"/>
            <p:cNvSpPr/>
            <p:nvPr/>
          </p:nvSpPr>
          <p:spPr>
            <a:xfrm>
              <a:off x="5334120" y="426096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41"/>
            <p:cNvSpPr/>
            <p:nvPr/>
          </p:nvSpPr>
          <p:spPr>
            <a:xfrm>
              <a:off x="5681520" y="433692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42"/>
            <p:cNvSpPr/>
            <p:nvPr/>
          </p:nvSpPr>
          <p:spPr>
            <a:xfrm>
              <a:off x="5500080" y="4756320"/>
              <a:ext cx="83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43"/>
            <p:cNvSpPr/>
            <p:nvPr/>
          </p:nvSpPr>
          <p:spPr>
            <a:xfrm>
              <a:off x="5483880" y="517536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44"/>
            <p:cNvSpPr/>
            <p:nvPr/>
          </p:nvSpPr>
          <p:spPr>
            <a:xfrm>
              <a:off x="7885080" y="433692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45"/>
            <p:cNvSpPr/>
            <p:nvPr/>
          </p:nvSpPr>
          <p:spPr>
            <a:xfrm>
              <a:off x="7703640" y="4756320"/>
              <a:ext cx="83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46"/>
            <p:cNvSpPr/>
            <p:nvPr/>
          </p:nvSpPr>
          <p:spPr>
            <a:xfrm>
              <a:off x="7687080" y="517536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47"/>
            <p:cNvSpPr/>
            <p:nvPr/>
          </p:nvSpPr>
          <p:spPr>
            <a:xfrm>
              <a:off x="5334120" y="560700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52"/>
          <p:cNvGrpSpPr/>
          <p:nvPr/>
        </p:nvGrpSpPr>
        <p:grpSpPr>
          <a:xfrm>
            <a:off x="552600" y="2622600"/>
            <a:ext cx="3975120" cy="459720"/>
            <a:chOff x="552600" y="2622600"/>
            <a:chExt cx="3975120" cy="459720"/>
          </a:xfrm>
        </p:grpSpPr>
        <p:sp>
          <p:nvSpPr>
            <p:cNvPr id="491" name="Text Box 50"/>
            <p:cNvSpPr/>
            <p:nvPr/>
          </p:nvSpPr>
          <p:spPr>
            <a:xfrm>
              <a:off x="552600" y="2622600"/>
              <a:ext cx="15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 (2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51"/>
            <p:cNvSpPr/>
            <p:nvPr/>
          </p:nvSpPr>
          <p:spPr>
            <a:xfrm>
              <a:off x="3902040" y="262260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55"/>
          <p:cNvGrpSpPr/>
          <p:nvPr/>
        </p:nvGrpSpPr>
        <p:grpSpPr>
          <a:xfrm>
            <a:off x="464040" y="3098880"/>
            <a:ext cx="4638960" cy="459720"/>
            <a:chOff x="464040" y="3098880"/>
            <a:chExt cx="4638960" cy="459720"/>
          </a:xfrm>
        </p:grpSpPr>
        <p:sp>
          <p:nvSpPr>
            <p:cNvPr id="494" name="Text Box 53"/>
            <p:cNvSpPr/>
            <p:nvPr/>
          </p:nvSpPr>
          <p:spPr>
            <a:xfrm>
              <a:off x="464040" y="3098880"/>
              <a:ext cx="176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 (2 x 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54"/>
            <p:cNvSpPr/>
            <p:nvPr/>
          </p:nvSpPr>
          <p:spPr>
            <a:xfrm>
              <a:off x="3340440" y="3098880"/>
              <a:ext cx="176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 (6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58"/>
          <p:cNvGrpSpPr/>
          <p:nvPr/>
        </p:nvGrpSpPr>
        <p:grpSpPr>
          <a:xfrm>
            <a:off x="465840" y="3575160"/>
            <a:ext cx="4876560" cy="459720"/>
            <a:chOff x="465840" y="3575160"/>
            <a:chExt cx="4876560" cy="459720"/>
          </a:xfrm>
        </p:grpSpPr>
        <p:sp>
          <p:nvSpPr>
            <p:cNvPr id="497" name="Text Box 56"/>
            <p:cNvSpPr/>
            <p:nvPr/>
          </p:nvSpPr>
          <p:spPr>
            <a:xfrm>
              <a:off x="465840" y="3575160"/>
              <a:ext cx="177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 (7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57"/>
            <p:cNvSpPr/>
            <p:nvPr/>
          </p:nvSpPr>
          <p:spPr>
            <a:xfrm>
              <a:off x="3061440" y="3575160"/>
              <a:ext cx="228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 (4 x 2 + 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164DF-A70A-4976-8C98-3CE413BB4169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39672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Example 3.12 p98 : Balance the following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1"/>
          <p:cNvSpPr/>
          <p:nvPr/>
        </p:nvSpPr>
        <p:spPr>
          <a:xfrm>
            <a:off x="8936640" y="65610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395280" y="1022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itrogen monoxide reacts with oxygen to form nitrogen dioxide and balance this rea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506A3-F9B1-4524-8C00-470995DB937B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323640" y="411120"/>
            <a:ext cx="8512200" cy="24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What is the coefficient of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when the equation is balanc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_ 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 + _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</a:t>
            </a:r>
            <a:r>
              <a:rPr b="0" lang="en-US" sz="2400" spc="-1" strike="noStrike">
                <a:solidFill>
                  <a:srgbClr val="00007d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_ 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+   3C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ooter Placeholder 1"/>
          <p:cNvSpPr/>
          <p:nvPr/>
        </p:nvSpPr>
        <p:spPr>
          <a:xfrm>
            <a:off x="3124080" y="6248520"/>
            <a:ext cx="330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560" y="3505320"/>
            <a:ext cx="8512200" cy="24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51720" indent="-35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What are  the coefficients of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,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and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respectively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when the equation is balanc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_ 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 + _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</a:t>
            </a:r>
            <a:r>
              <a:rPr b="0" lang="en-US" sz="2400" spc="-1" strike="noStrike">
                <a:solidFill>
                  <a:srgbClr val="00007d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_ 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+   3C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,1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,12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,24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,12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22200" y="350028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F7D8C-69B6-459F-A14F-7568F4873303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-181080" y="620640"/>
            <a:ext cx="95410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mass (atom or molec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molar mass (atomic mass or molecular m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1258920" y="4076640"/>
                <a:ext cx="662472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40FB0-FAD3-45E2-92C2-38578FFA64DC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8 Amounts of Reactants and Prod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774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wo important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uch product will be formed from specific amount of reac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.g. 6.0 g reactant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?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How much starting reactants must be used to obtain a specific amount of produ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e.g. ? reacta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6.0 g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34698-37F5-46FF-AADA-F7FB1A1C6A6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4"/>
          <p:cNvSpPr/>
          <p:nvPr/>
        </p:nvSpPr>
        <p:spPr>
          <a:xfrm>
            <a:off x="611280" y="4221000"/>
            <a:ext cx="80769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rt quantities of known substances into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coefficients in balanced equation to calculate the number of moles of the sought 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rt moles of sought quantity into desired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7" descr="03_08"/>
          <p:cNvPicPr/>
          <p:nvPr/>
        </p:nvPicPr>
        <p:blipFill>
          <a:blip r:embed="rId1"/>
          <a:srcRect l="0" t="3039" r="0" b="0"/>
          <a:stretch/>
        </p:blipFill>
        <p:spPr>
          <a:xfrm>
            <a:off x="2195640" y="620640"/>
            <a:ext cx="6553080" cy="327348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179280" y="476280"/>
            <a:ext cx="208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</a:rPr>
              <a:t>Mol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179280" y="1557360"/>
                <a:ext cx="173196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8EDE4-A669-4CC7-9978-2C5BC2486AF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13 p10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If 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856g of C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12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is consumed by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person over a certain period, what is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mass of CO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produc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68360" y="1303200"/>
                <a:ext cx="79214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8A76E-B0B2-48E7-BD6A-0A5EB6A5A45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4358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quantities of known substances into mo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grams of 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6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s of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1258920" y="1628640"/>
                <a:ext cx="648000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2" name=""/>
          <p:cNvSpPr/>
          <p:nvPr/>
        </p:nvSpPr>
        <p:spPr>
          <a:xfrm>
            <a:off x="3564000" y="249228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Balanc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258920" y="4653000"/>
                <a:ext cx="583416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56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0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9E68B-5530-4223-9F85-45F61BC6A20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ow we get the Average Atomic M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erage atomic mass of natural carbo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Arial"/>
              </a:rPr>
              <a:t>∑ </a:t>
            </a:r>
            <a:r>
              <a:rPr b="1" lang="en-GB" sz="2000" spc="-1" strike="noStrike">
                <a:solidFill>
                  <a:srgbClr val="006600"/>
                </a:solidFill>
                <a:latin typeface="Comic Sans MS"/>
              </a:rPr>
              <a:t>(The natural abundance x Atomic Mass) </a:t>
            </a:r>
            <a:r>
              <a:rPr b="1" lang="en-GB" sz="2000" spc="-1" strike="noStrike" baseline="-25000">
                <a:solidFill>
                  <a:srgbClr val="006600"/>
                </a:solidFill>
                <a:latin typeface="Comic Sans MS"/>
              </a:rPr>
              <a:t>for each isot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isotopes of Carbon are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&amp;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natural abundance of each isotope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98.90% &amp; 1.10%, resp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Average Atomic Mass of natural carbo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0.9890 x 12.00 amu)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12C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+ (0.0110 x 13.00335 amu)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13C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12.0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Notes: 98.90% = 98.90/100 = 0.9890; 1.10% = 1.10/100 = 0.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Notes: carbon is mainly </a:t>
            </a:r>
            <a:r>
              <a:rPr b="0" lang="en-GB" sz="2400" spc="-1" strike="noStrike" baseline="30000">
                <a:solidFill>
                  <a:srgbClr val="2009a7"/>
                </a:solidFill>
                <a:latin typeface="Comic Sans MS"/>
              </a:rPr>
              <a:t>12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C </a:t>
            </a:r>
            <a:r>
              <a:rPr b="0" lang="en-GB" sz="2400" spc="-1" strike="noStrike">
                <a:solidFill>
                  <a:srgbClr val="2009a7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the Average Atomic Mass is 12.01 amu </a:t>
            </a:r>
            <a:r>
              <a:rPr b="0" lang="en-GB" sz="2400" spc="-1" strike="noStrike">
                <a:solidFill>
                  <a:srgbClr val="2009a7"/>
                </a:solidFill>
                <a:latin typeface="Arial"/>
              </a:rPr>
              <a:t>→ 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closer to 12 amu than 13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8245B-D64B-4779-94D9-85DD87DA0E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coefficients in balanced equation to calculate the number of moles of the sought quantity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ratio (from the balanced equation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6  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3200" spc="-1" strike="noStrike" baseline="-25000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6 mole of CO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4.754 mole 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? mole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539640" y="4292640"/>
                <a:ext cx="799164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85AB8-3F44-4ED1-8F75-7D0DEA1224A2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67564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moles of sought quantity into desired uni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the moles o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ms o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mmary: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grams of C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es of C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es of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grams of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684360" y="2349360"/>
                <a:ext cx="7921440" cy="18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B3FE3-75AE-4B8B-A507-74690F45E1A1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8036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4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0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How many grams of Li are need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produce 9.89g of H</a:t>
            </a:r>
            <a:r>
              <a:rPr b="0" lang="en-GB" sz="36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a50021"/>
                </a:solidFill>
                <a:uFillTx/>
                <a:latin typeface="Comic Sans MS"/>
              </a:rPr>
              <a:t>Strate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grams of H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H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of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i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grams of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395280" y="1268280"/>
                <a:ext cx="84978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O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E4112-330D-4F53-9499-900C07AEEDA0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4358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grams of 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2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s of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492360" y="228276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Balance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1706400" y="3860640"/>
                <a:ext cx="493884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9g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6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0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468360" y="1628640"/>
                <a:ext cx="82072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O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7DA41-E9E3-4EA1-A4A9-29ACC17B064E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ratio (from the balanced equation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s of 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2 mole of Li 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3200" spc="-1" strike="noStrike" baseline="-25000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?mole of Li 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4.927 mole 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755640" y="3141720"/>
                <a:ext cx="758340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7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4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>
            <a:off x="0" y="700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1187280" y="5084640"/>
                <a:ext cx="680436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4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3" name=""/>
          <p:cNvSpPr/>
          <p:nvPr/>
        </p:nvSpPr>
        <p:spPr>
          <a:xfrm>
            <a:off x="540000" y="4505400"/>
            <a:ext cx="77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the moles of Li → grams of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30F41-94B0-401E-B554-7FC3FDC3574A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3.9 Limiting Reagent </a:t>
            </a:r>
            <a:r>
              <a:rPr b="1" lang="ar-SA" sz="4000" spc="-1" strike="noStrike" u="sng">
                <a:solidFill>
                  <a:srgbClr val="00007d"/>
                </a:solidFill>
                <a:uFillTx/>
                <a:latin typeface="Comic Sans MS"/>
              </a:rPr>
              <a:t>الكاشف المحد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imiting Reagent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reactant used up first in a reaction and thus determine the amount of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xcess Reagent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الكاشف الفائض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reactant present in quantities greater than necessary to react with the quantity of the limiting reagent (the one that is left at the end of the reac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miting reagent is in a reaction of more than one reacta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B164D-3BDA-462F-99C1-7428CA36ADA0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6960" y="387360"/>
            <a:ext cx="37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009a7"/>
                </a:solidFill>
                <a:uFillTx/>
                <a:latin typeface="Comic Sans MS"/>
              </a:rPr>
              <a:t>Limiting Reag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rcRect l="18790" t="2707" r="18790" b="0"/>
          <a:stretch/>
        </p:blipFill>
        <p:spPr>
          <a:xfrm>
            <a:off x="5045040" y="260280"/>
            <a:ext cx="2622600" cy="6553440"/>
          </a:xfrm>
          <a:prstGeom prst="rect">
            <a:avLst/>
          </a:prstGeom>
          <a:ln w="0">
            <a:noFill/>
          </a:ln>
        </p:spPr>
      </p:pic>
      <p:grpSp>
        <p:nvGrpSpPr>
          <p:cNvPr id="548" name=""/>
          <p:cNvGrpSpPr/>
          <p:nvPr/>
        </p:nvGrpSpPr>
        <p:grpSpPr>
          <a:xfrm>
            <a:off x="1191600" y="2360520"/>
            <a:ext cx="3009240" cy="510120"/>
            <a:chOff x="1191600" y="2360520"/>
            <a:chExt cx="3009240" cy="510120"/>
          </a:xfrm>
        </p:grpSpPr>
        <p:sp>
          <p:nvSpPr>
            <p:cNvPr id="549" name=""/>
            <p:cNvSpPr/>
            <p:nvPr/>
          </p:nvSpPr>
          <p:spPr>
            <a:xfrm>
              <a:off x="1191600" y="2360520"/>
              <a:ext cx="3009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NO + 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2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62120" y="25812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762840" y="340848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is the limiting re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394240" y="4286160"/>
            <a:ext cx="1104840" cy="1206360"/>
            <a:chOff x="5394240" y="4286160"/>
            <a:chExt cx="1104840" cy="1206360"/>
          </a:xfrm>
        </p:grpSpPr>
        <p:sp>
          <p:nvSpPr>
            <p:cNvPr id="553" name=""/>
            <p:cNvSpPr/>
            <p:nvPr/>
          </p:nvSpPr>
          <p:spPr>
            <a:xfrm>
              <a:off x="6080040" y="4286160"/>
              <a:ext cx="41904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94240" y="4705200"/>
              <a:ext cx="41904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902200" y="5111640"/>
              <a:ext cx="41940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827280" y="4457880"/>
            <a:ext cx="360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9999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 is the excess re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4720" y="109872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ctant used up first in the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4CA09-6997-4539-B17B-7EC769E2E861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Limiting Reag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First: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we have to determine which reactant is the limiting reagent and which is the excess reag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econd: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after we know which one is the limiting reagent, we could  determine the amount of the produc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2009a7"/>
                </a:solidFill>
                <a:latin typeface="Comic Sans MS"/>
              </a:rPr>
              <a:t>Third:</a:t>
            </a: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 after we know the excess reagent, we could determine how much excess of it is left at the end of the reaction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E096B-CD0C-496E-9EA2-D01873275BEA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15 P10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637.2g of N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re treated with 1142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Which of the two reactants is the limiting reag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Calculate the mass of (NH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CO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uch excess reagent (in grams) is left at the end of the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539640" y="1125360"/>
                <a:ext cx="79200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D0F16-4353-4271-967A-88B90793C11B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Which of the two reactants is the limiting reagent? 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المتفاعل اللذي يعطي </a:t>
            </a:r>
            <a:r>
              <a:rPr b="0" lang="ar-SA" sz="3200" spc="-1" strike="noStrike" u="sng">
                <a:solidFill>
                  <a:srgbClr val="9900cc"/>
                </a:solidFill>
                <a:uFillTx/>
                <a:latin typeface="Comic Sans MS"/>
              </a:rPr>
              <a:t>مولات اقل من الناتج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 هو الكاشف المحدد, لانه يحد من كميه الناتج التي يمكن ان تتكون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 the first reactant NH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637.2 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vert to m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826920" y="4221000"/>
                <a:ext cx="6409080" cy="250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3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6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788000" y="292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تحول الى مو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2C34B-D13D-4E87-A462-47D98CA2E9FA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032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164360" y="-27000"/>
            <a:ext cx="1979640" cy="863640"/>
          </a:xfrm>
          <a:prstGeom prst="borderCallout1">
            <a:avLst>
              <a:gd name="adj1" fmla="val 18750"/>
              <a:gd name="adj2" fmla="val -8333"/>
              <a:gd name="adj3" fmla="val 186763"/>
              <a:gd name="adj4" fmla="val -2798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verage atomic mass (12.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E450C-ECF5-4D1A-BFE3-3DD26D53E2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ole rat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 moles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 1 mole of (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7.416moles of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  ?n (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395280" y="2924280"/>
                <a:ext cx="83534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6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CCE7B-07EE-486C-A47E-C8F499628AB0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or the second reactant C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1. 1142 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vert to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of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5.949 mol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n 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484360" y="1628640"/>
                <a:ext cx="388800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42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9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692360" y="4653000"/>
                <a:ext cx="5832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9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324000" y="5661000"/>
            <a:ext cx="81356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the limiting reagent is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ecause it produces a smaller amount of (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6000" y="549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تحول الى مو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DBD39-5A2A-46B3-8236-4E7E246BD561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75000"/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alculate the mass of (NH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O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have 18.71 mol of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  using 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limiting reag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vert to 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611280" y="2368440"/>
                <a:ext cx="7777080" cy="16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24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73898-CCF0-4D83-AE6A-D8E9DD939B58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686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much excess reagent (in grams) is left at the end of the rea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Excess reagent is CO</a:t>
            </a:r>
            <a:r>
              <a:rPr b="1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ms of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eft = initial grams – reacted 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1. moles of C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left = initial moles – reacted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2.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left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gram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Initial moles of C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5.95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Reacted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(calculated as follow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0078F-2C50-4247-B431-0206933439CD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Reacted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(calculated as follow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 that 18.71 mol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 is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1 mol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n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8.71 mol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reacted is 18.71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1835280" y="2708280"/>
                <a:ext cx="590544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9F126-DDF8-4873-95FD-BD1958FF330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eft = initial moles – reacted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= 25.95 – 18.71 = 7.24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2.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gram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 the mas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remaining (left) = 319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755640" y="2708280"/>
                <a:ext cx="741672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9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3BEE9-139C-494E-A08D-C7B1E12BB12B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Box 2"/>
          <p:cNvSpPr/>
          <p:nvPr/>
        </p:nvSpPr>
        <p:spPr>
          <a:xfrm>
            <a:off x="395280" y="404640"/>
            <a:ext cx="7848720" cy="30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.W. # 1: When 22.0 g NaCl and 21.0 g H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are mixed and react according to the   equation below, which is the limiting reagent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2NaCl + H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Na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+ 2HCl 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)   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c)     N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d)     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e)     No reagent is limi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-36360" y="3573360"/>
          <a:ext cx="8153280" cy="3048120"/>
        </p:xfrm>
        <a:graphic>
          <a:graphicData uri="http://schemas.openxmlformats.org/drawingml/2006/table">
            <a:tbl>
              <a:tblPr/>
              <a:tblGrid>
                <a:gridCol w="626760"/>
                <a:gridCol w="522360"/>
                <a:gridCol w="7004160"/>
              </a:tblGrid>
              <a:tr h="191340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.W. # 2: Consider the combustion of carbon monoxide (CO) in oxygen ga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CO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+ 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 2C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Starting with 3.60 moles of CO, calculate the number of moles of C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 produced </a:t>
                      </a:r>
                      <a:r>
                        <a:rPr b="0" lang="en-US" sz="2000" spc="-1" strike="noStrike" u="sng">
                          <a:solidFill>
                            <a:srgbClr val="006600"/>
                          </a:solidFill>
                          <a:uFillTx/>
                          <a:latin typeface="Comic Sans MS"/>
                          <a:ea typeface="Times New Roman"/>
                        </a:rPr>
                        <a:t>if there is enough oxygen gas to react with all of the C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.2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4.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3.6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8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6" name=""/>
          <p:cNvSpPr/>
          <p:nvPr/>
        </p:nvSpPr>
        <p:spPr>
          <a:xfrm flipH="1">
            <a:off x="324000" y="342900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51280" y="513252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he limiting Reagent is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B033B-C45E-4CD7-B9DD-94A51B997506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240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10 Reaction 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179280" y="1197000"/>
            <a:ext cx="852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oretical Yield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mount of product that would result if all the limiting reagent re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250920" y="34196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ctual Yield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mount of product actually obtained from a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11"/>
          <p:cNvGrpSpPr/>
          <p:nvPr/>
        </p:nvGrpSpPr>
        <p:grpSpPr>
          <a:xfrm>
            <a:off x="1779480" y="4587840"/>
            <a:ext cx="5089320" cy="941400"/>
            <a:chOff x="1779480" y="4587840"/>
            <a:chExt cx="5089320" cy="941400"/>
          </a:xfrm>
        </p:grpSpPr>
        <p:sp>
          <p:nvSpPr>
            <p:cNvPr id="592" name="Text Box 4"/>
            <p:cNvSpPr/>
            <p:nvPr/>
          </p:nvSpPr>
          <p:spPr>
            <a:xfrm>
              <a:off x="1779480" y="4829400"/>
              <a:ext cx="185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% Yield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Group 9"/>
            <p:cNvGrpSpPr/>
            <p:nvPr/>
          </p:nvGrpSpPr>
          <p:grpSpPr>
            <a:xfrm>
              <a:off x="3696120" y="4587840"/>
              <a:ext cx="2379240" cy="941400"/>
              <a:chOff x="3696120" y="4587840"/>
              <a:chExt cx="2379240" cy="941400"/>
            </a:xfrm>
          </p:grpSpPr>
          <p:sp>
            <p:nvSpPr>
              <p:cNvPr id="594" name="Text Box 5"/>
              <p:cNvSpPr/>
              <p:nvPr/>
            </p:nvSpPr>
            <p:spPr>
              <a:xfrm>
                <a:off x="4019400" y="4587840"/>
                <a:ext cx="142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ctual Yi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Text Box 6"/>
              <p:cNvSpPr/>
              <p:nvPr/>
            </p:nvSpPr>
            <p:spPr>
              <a:xfrm>
                <a:off x="3696120" y="5160960"/>
                <a:ext cx="1957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heoretical Yi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8"/>
              <p:cNvSpPr/>
              <p:nvPr/>
            </p:nvSpPr>
            <p:spPr>
              <a:xfrm>
                <a:off x="3713400" y="5102280"/>
                <a:ext cx="2361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10"/>
            <p:cNvSpPr/>
            <p:nvPr/>
          </p:nvSpPr>
          <p:spPr>
            <a:xfrm>
              <a:off x="6114960" y="4842000"/>
              <a:ext cx="7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 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Text Box 3"/>
          <p:cNvSpPr/>
          <p:nvPr/>
        </p:nvSpPr>
        <p:spPr>
          <a:xfrm>
            <a:off x="789120" y="5862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Actual Yield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 is  always le</a:t>
            </a: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ss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21331-EE86-4AE6-8B22-980B0AFBD789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240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10 Reaction 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"/>
          <p:cNvSpPr/>
          <p:nvPr/>
        </p:nvSpPr>
        <p:spPr>
          <a:xfrm>
            <a:off x="179280" y="1197000"/>
            <a:ext cx="852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heoretical Yield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 the amount of product that would result if all the limiting reagent react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Limiting regent mass 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moles of limiting reagent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moles of product 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grams of product (theoretical yield of the produc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FB882-8A51-48E2-BAB8-00E7FE20D6BF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2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16 p10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3.54 x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Cl</a:t>
            </a:r>
            <a:r>
              <a:rPr b="0" lang="en-GB" sz="32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are reacted with 1.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M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theoretical yield of Ti in 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percent yield if 7.91 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 are actually obt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395280" y="1066680"/>
                <a:ext cx="799308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iCl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T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A71B8-0368-4109-A7CF-71C1B780F315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09:20:31Z</dcterms:modified>
  <cp:revision>464</cp:revision>
  <dc:subject/>
  <dc:title>General Chemistry CHEM 110</dc:title>
</cp:coreProperties>
</file>