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AE27D-3339-4D3A-9F9B-D1747715E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85CAB-53D2-4273-9EAF-822AB3D0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97377-8235-4A99-B961-6AABFAAF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7E4A2-49EC-42E0-98FD-D0B1C2E02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111F-190E-4956-B120-606D6C24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BE13-30B5-4EA3-9266-06671918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47D6-4868-4F40-8D19-FA34E29B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4A86-EFC6-4D0A-A40F-5017A8EB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4D3E-960A-4652-9F13-0E5949F3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C1EF-2AD0-4962-8C63-9678DC9E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14E7-C7D9-4A4D-8B51-5F3061DE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19CCA-7898-42F8-9100-A34EBA30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7F52-A468-4EAD-9CF2-6DBFDA97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570C-3B54-4A2C-9157-ED7BFB46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1BF4-E320-44E7-A1EF-0FCE068E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36B5-960E-4E4C-89F1-9F11AB71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B218-C6E0-43A3-B72B-C3D36122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4E5CA-DC82-4468-95A3-0B7AC08F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79F6C-61D8-4565-AF56-F80F2C51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CE588-DF6A-4C63-BB48-DFB77B1A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1C134-C6CE-464E-8466-D27C939A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A6461-BBC6-4E83-8BF8-B7A7C895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08B11-BF4B-4557-9A05-B38FA56B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6C58B-612C-4CE3-9B0C-893652D1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8423-7602-494F-B756-F582A74DF4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8E3D-12B0-48B4-8C8B-B328647718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</a:t>
            </a:r>
            <a:r>
              <a:rPr b="1" lang="ar-SA" sz="4000" spc="-1" strike="noStrike">
                <a:solidFill>
                  <a:srgbClr val="00007d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Periodic Relationship Among the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D1F5-F9C4-44CA-AEC4-6F17186796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ontent Placeholder 2"/>
          <p:cNvSpPr/>
          <p:nvPr/>
        </p:nvSpPr>
        <p:spPr>
          <a:xfrm>
            <a:off x="34920" y="533520"/>
            <a:ext cx="4699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1: Which of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ets of elements is expe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have similar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) Sulfur and phospho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) Sulfu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) Sulfur and 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645080" y="765000"/>
            <a:ext cx="4464000" cy="2911680"/>
          </a:xfrm>
          <a:prstGeom prst="rect">
            <a:avLst/>
          </a:prstGeom>
          <a:ln w="0">
            <a:noFill/>
          </a:ln>
        </p:spPr>
      </p:pic>
      <p:sp>
        <p:nvSpPr>
          <p:cNvPr id="183" name="Content Placeholder 2"/>
          <p:cNvSpPr/>
          <p:nvPr/>
        </p:nvSpPr>
        <p:spPr>
          <a:xfrm>
            <a:off x="36360" y="3716280"/>
            <a:ext cx="36720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2: Titanium (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ment is found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eriodic tabl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 s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 P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 d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 f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364500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637080" y="4005360"/>
            <a:ext cx="56880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3: Characteristics of noble gases include:</a:t>
            </a:r>
            <a:br>
              <a:rPr sz="2400"/>
            </a:b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le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shell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monatomic gas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generally unreactive chemicall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20D41-01F1-45D4-AAD3-A99AD1C964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36640"/>
            <a:ext cx="8893080" cy="5800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08000" y="1197000"/>
            <a:ext cx="1008000" cy="345600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1700280"/>
            <a:ext cx="2952720" cy="2952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2708280"/>
            <a:ext cx="4753080" cy="194472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5129280"/>
            <a:ext cx="6913800" cy="96372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20" y="62064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omic Sans MS"/>
              </a:rPr>
              <a:t>s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02560" y="90792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4560" y="1844640"/>
            <a:ext cx="1225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mic Sans MS"/>
              </a:rPr>
              <a:t>d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2360" y="623736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omic Sans MS"/>
              </a:rPr>
              <a:t>f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F374D-029F-4300-A357-53989BAEB4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96760"/>
            <a:ext cx="8964720" cy="5845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763640" y="40464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ermost orbitals OR Outermost electrons OR 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8000" y="1268280"/>
            <a:ext cx="1008000" cy="3529080"/>
          </a:xfrm>
          <a:prstGeom prst="rect">
            <a:avLst/>
          </a:pr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9280" y="2492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459640" y="1268280"/>
            <a:ext cx="57636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59640" y="119700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1773360"/>
            <a:ext cx="2879640" cy="2950920"/>
          </a:xfrm>
          <a:prstGeom prst="rect">
            <a:avLst/>
          </a:prstGeom>
          <a:solidFill>
            <a:srgbClr val="ff99cc"/>
          </a:solidFill>
          <a:ln w="763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8720" y="2781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s 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60360" y="2781360"/>
            <a:ext cx="4824360" cy="1942920"/>
          </a:xfrm>
          <a:prstGeom prst="rect">
            <a:avLst/>
          </a:prstGeom>
          <a:solidFill>
            <a:srgbClr val="00ff00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3246480"/>
            <a:ext cx="468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s (n-1)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54BAC-8108-4A0D-91F8-78347F0436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465200"/>
            <a:ext cx="8893080" cy="5203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908000" y="90792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B9F4D-B302-480D-8933-81F21C32D6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lose electrons so that cation has a noble-gas outer electron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06480" y="435600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83000" y="4356000"/>
            <a:ext cx="14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33480" y="4927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:  [Ar] 4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39440" y="4927680"/>
            <a:ext cx="14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Ar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36000" y="5499000"/>
            <a:ext cx="23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: 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90560" y="549900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331A0-F2FD-4DCA-A733-CAAEE2922C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gain electrons so that anion has a noble-gas outer electron configu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6920" y="4227480"/>
            <a:ext cx="10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93240" y="422748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H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56600" y="4849920"/>
            <a:ext cx="18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41760" y="4843440"/>
            <a:ext cx="38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or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45440" y="5472000"/>
            <a:ext cx="19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41760" y="546588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48680" y="609444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41760" y="608796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6B8AF-356E-4300-A6F5-CA86826CA7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39600" y="1417680"/>
            <a:ext cx="9219960" cy="539604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309600" y="2285280"/>
            <a:ext cx="459720" cy="2989800"/>
            <a:chOff x="309600" y="2285280"/>
            <a:chExt cx="459720" cy="2989800"/>
          </a:xfrm>
        </p:grpSpPr>
        <p:sp>
          <p:nvSpPr>
            <p:cNvPr id="227" name=""/>
            <p:cNvSpPr/>
            <p:nvPr/>
          </p:nvSpPr>
          <p:spPr>
            <a:xfrm rot="16200000">
              <a:off x="275400" y="23194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6400" y="2774880"/>
              <a:ext cx="0" cy="2500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71480" y="1284120"/>
            <a:ext cx="459720" cy="3990960"/>
            <a:chOff x="771480" y="1284120"/>
            <a:chExt cx="459720" cy="3990960"/>
          </a:xfrm>
        </p:grpSpPr>
        <p:sp>
          <p:nvSpPr>
            <p:cNvPr id="230" name=""/>
            <p:cNvSpPr/>
            <p:nvPr/>
          </p:nvSpPr>
          <p:spPr>
            <a:xfrm rot="16200000">
              <a:off x="73728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9360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181560" y="1284120"/>
            <a:ext cx="459720" cy="3990960"/>
            <a:chOff x="6181560" y="1284120"/>
            <a:chExt cx="459720" cy="3990960"/>
          </a:xfrm>
        </p:grpSpPr>
        <p:sp>
          <p:nvSpPr>
            <p:cNvPr id="233" name=""/>
            <p:cNvSpPr/>
            <p:nvPr/>
          </p:nvSpPr>
          <p:spPr>
            <a:xfrm rot="16200000">
              <a:off x="614736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368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8180280" y="1321200"/>
            <a:ext cx="459720" cy="3953880"/>
            <a:chOff x="8180280" y="1321200"/>
            <a:chExt cx="459720" cy="3953880"/>
          </a:xfrm>
        </p:grpSpPr>
        <p:sp>
          <p:nvSpPr>
            <p:cNvPr id="236" name=""/>
            <p:cNvSpPr/>
            <p:nvPr/>
          </p:nvSpPr>
          <p:spPr>
            <a:xfrm rot="16200000">
              <a:off x="8183880" y="1317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03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677000" y="1320840"/>
            <a:ext cx="459720" cy="3954240"/>
            <a:chOff x="7677000" y="1320840"/>
            <a:chExt cx="459720" cy="3954240"/>
          </a:xfrm>
        </p:grpSpPr>
        <p:sp>
          <p:nvSpPr>
            <p:cNvPr id="239" name=""/>
            <p:cNvSpPr/>
            <p:nvPr/>
          </p:nvSpPr>
          <p:spPr>
            <a:xfrm rot="16200000">
              <a:off x="768060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0056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7172280" y="1320840"/>
            <a:ext cx="459720" cy="3954240"/>
            <a:chOff x="7172280" y="1320840"/>
            <a:chExt cx="459720" cy="3954240"/>
          </a:xfrm>
        </p:grpSpPr>
        <p:sp>
          <p:nvSpPr>
            <p:cNvPr id="242" name=""/>
            <p:cNvSpPr/>
            <p:nvPr/>
          </p:nvSpPr>
          <p:spPr>
            <a:xfrm rot="16200000">
              <a:off x="717588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95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15240" y="573120"/>
            <a:ext cx="81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ions and Anions Of Representativ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A752F-8900-4810-A7A8-BE59A6035D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79600" y="168768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15240" y="2335320"/>
            <a:ext cx="17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9640" y="36162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557280" y="420696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39640" y="2982960"/>
            <a:ext cx="41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108000" y="51465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US: 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F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O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2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nd N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are all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soelectronic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with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539640" y="533520"/>
            <a:ext cx="7777440" cy="10688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oelectronic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pecies with the same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1989000"/>
            <a:ext cx="3276720" cy="502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 (1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 (13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 (7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 (9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 (8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10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Ne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All are isolelctronic to 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CFCF8-8700-429E-85F3-9759E69FF1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9"/>
          <p:cNvSpPr/>
          <p:nvPr/>
        </p:nvSpPr>
        <p:spPr>
          <a:xfrm>
            <a:off x="324000" y="620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1: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neutral atom is isoelectronic with H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710280" y="1243080"/>
            <a:ext cx="11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38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400" spc="-1" strike="noStrike" baseline="38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2087280" y="119700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me electron configuration as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47640" y="1844640"/>
            <a:ext cx="4357800" cy="225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 (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He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He is isolelctronic to 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446400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2: Which of the following species is isoelectronic with Cl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315280" y="47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4869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76360" y="5229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01840" y="55897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6200" y="6021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93FD2-CBCC-408D-8C49-9A4F433CE1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557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transition met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a cation is formed from an atom of a transition metal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s are always removed first from the ns orbital and then from the (n – 1)d orbi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C1A7A-9EFF-42D3-90E1-41257DAD69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8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Periodic Relationship Among the Elements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326-378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357 &amp; 35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5, 8.8, 8.12, 8.20, 8.24, 8.26, 8.28, 8.30, 8.32, 8.36,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38, 8.40, 8.44, 8.46, 8.52, 8.54, 8.62, 8.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0E68C-1780-4A93-BEA4-D21C7CEC5F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-181080" y="1125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5"/>
          <p:cNvSpPr/>
          <p:nvPr/>
        </p:nvSpPr>
        <p:spPr>
          <a:xfrm>
            <a:off x="477000" y="1844640"/>
            <a:ext cx="289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: [Ar]4s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+</a:t>
            </a:r>
            <a:r>
              <a:rPr b="0" lang="ar-SA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:  ????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6"/>
          <p:cNvSpPr/>
          <p:nvPr/>
        </p:nvSpPr>
        <p:spPr>
          <a:xfrm>
            <a:off x="324000" y="2563920"/>
            <a:ext cx="782460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 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4400" spc="-1" strike="noStrike">
                <a:solidFill>
                  <a:srgbClr val="00007d"/>
                </a:solidFill>
                <a:latin typeface="Comic Sans MS"/>
              </a:rPr>
              <a:t>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92360" y="1550880"/>
            <a:ext cx="5508720" cy="1572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A4DE7-A1BD-4EF1-A26B-FF23DD4382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8760" y="981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829080" y="1714680"/>
            <a:ext cx="30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:    [Ar]4s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877320" y="3098880"/>
            <a:ext cx="556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 [Ar]4s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881280" y="5442120"/>
            <a:ext cx="560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800640" y="47973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ar-SA" sz="3200" spc="-1" strike="noStrike" baseline="30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1550880"/>
            <a:ext cx="3349440" cy="1936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6FA07-2998-4A32-89F2-75CE3B5457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68360" y="549360"/>
            <a:ext cx="867564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rite the electronic configuration for Co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[Ar]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92360" y="1197000"/>
            <a:ext cx="5365800" cy="3500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097080" y="5083200"/>
            <a:ext cx="68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: [Ar] 4s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(transition me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: [Ar]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2C427-D84B-43CB-98BC-597190287F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4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3 Periodic Variation in Physical Properties: Outli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 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  <a:cs typeface="Times New Roman"/>
              </a:rPr>
              <a:t>شحنه النواه الفعليه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tomic Radius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نصف قطر الذ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</a:t>
            </a:r>
            <a:r>
              <a:rPr b="0" lang="en-GB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 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cs typeface="Times New Roman"/>
              </a:rPr>
              <a:t>نصف قطر الاي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C6E81-62EB-4B95-84BB-17B51101B2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effective nuclear charge (Z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nuclear charge felt by an electron when both the actual nuclear charge (Z) and the repulsive effects (shielding) of the other electrons are taken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ans that electrons in an atom shield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حجب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an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971640" y="3645000"/>
                <a:ext cx="612144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gm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is called shielding constant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σ</m:t>
                        </m:r>
                        <m:r>
                          <m:t xml:space="preserve">&lt;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2771640" y="2708280"/>
            <a:ext cx="10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حج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0CA71-D016-4751-9A17-67FD9D6CF30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46040" y="1852560"/>
            <a:ext cx="8229600" cy="30891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76360" y="620640"/>
            <a:ext cx="705636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Example: He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C7A0A-2B14-4A4F-9AE3-C301DAE650D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3600" spc="-1" strike="noStrike">
                <a:solidFill>
                  <a:srgbClr val="666633"/>
                </a:solidFill>
                <a:latin typeface="Comic Sans MS"/>
              </a:rPr>
              <a:t>core electrons </a:t>
            </a:r>
            <a:r>
              <a:rPr b="1" lang="ar-SA" sz="3600" spc="-1" strike="noStrike">
                <a:solidFill>
                  <a:srgbClr val="666633"/>
                </a:solidFill>
                <a:latin typeface="Comic Sans MS"/>
              </a:rPr>
              <a:t>الالكترونات الداخليه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re closer to nucleus than the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valence electrons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الكترونات التكافؤ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core electrons shield valence electrons MUCH MORE than valence electrons shield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33490-35CE-41A0-AA7E-80FD12B9644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 as we go from left to r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11280" y="2421000"/>
          <a:ext cx="7632720" cy="172872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936720"/>
                <a:gridCol w="792360"/>
                <a:gridCol w="934920"/>
                <a:gridCol w="865080"/>
                <a:gridCol w="792360"/>
                <a:gridCol w="9349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e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.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12494-12AD-4346-ADFF-E66BAAED36C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57200" y="2174760"/>
            <a:ext cx="8319960" cy="38228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528560" y="635040"/>
            <a:ext cx="613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ffective Nuclear Char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6120" y="170028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-612000" y="394272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18C54-A0BF-4A28-BA44-FF5FD8810CA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4720" y="334800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E0B71-1377-451A-A3CF-86E2D20D71E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8 Periodic Relationship Among the Elements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8.2 Periodic Classification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8.3 Periodic variation in physical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Ion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8.4 Ionizati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8.5 Electron affi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(ch.9 p. 377-3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9A0C3-BD8E-4357-A1F8-A1DEA91E7A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Atom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ize of the atom is defined by the ATOMIC RADI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ic Radiu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½ the distance between the two nuclei in two adjacent metal atoms or in a diatomic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629320" y="693720"/>
            <a:ext cx="3622680" cy="554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B7396-4E36-44B3-9278-8FE1FC875EC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tomic Radius: RU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ffective nu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rge increases from left to righ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m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dded valence electron is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rongly attracted by the nucleus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the at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radius decreases from left to right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incre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3399ff"/>
                </a:solidFill>
                <a:latin typeface="Comic Sans MS"/>
              </a:rPr>
              <a:t>atomic radius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0C77C-B9F7-4CA7-B4BE-3B77B778B58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44720" y="314172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4C568-15A7-4ACE-84D1-A764B733500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68360" y="406440"/>
            <a:ext cx="8496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 8.2 p33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ferring to a periodic table, arrange the following atoms in order of increasing atomic radius: P, Si,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2446200"/>
            <a:ext cx="83534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amp; P are in the sam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smaller than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P &amp; Si are in the sam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 is smaller than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rrangement of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ic radius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lt; P &lt;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2421000"/>
            <a:ext cx="75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51280" y="5337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الصغير الى الكب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4BD64-CAB3-467F-85F4-8539DE766A1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692280"/>
            <a:ext cx="8820000" cy="5752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948360" y="206208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48360" y="155736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43640" y="206064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DFAF6-DE97-4A0D-B55C-3074E81E5BA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395280" y="-171360"/>
            <a:ext cx="82296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choice below correctly lists the elements in order of increasing atomic radi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50920" y="1341360"/>
            <a:ext cx="761976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 &lt; Mg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g &lt; Na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Na &lt;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Mg &lt;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635280" y="1341360"/>
            <a:ext cx="5257800" cy="3429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63528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2256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35280" y="242100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35280" y="270972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920" y="4076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k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42920" y="4869000"/>
            <a:ext cx="0" cy="15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36360" y="5157720"/>
            <a:ext cx="133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in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9080" y="5160960"/>
            <a:ext cx="718920" cy="101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4761000"/>
            <a:ext cx="302436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             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00000" y="458136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71640" y="4292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de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01435-8D91-4E1D-9AE4-81B1181AAAF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Ion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1125360"/>
            <a:ext cx="87854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c Radiu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radius of cation or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ain electrons →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radius in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the nuclear charge remain the same but the repulsion resulting from the additional electrons increases th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t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ose electron →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 de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removing one or more electron from an atom reduces electron-electron repulsion but the nuclear charge remain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5381640"/>
            <a:ext cx="8807400" cy="1008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An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lar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C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small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ations &lt; A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rcRect l="0" t="32005" r="0" b="30005"/>
          <a:stretch/>
        </p:blipFill>
        <p:spPr>
          <a:xfrm>
            <a:off x="3735360" y="4005360"/>
            <a:ext cx="4724280" cy="121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BAD24-4746-459A-BABD-B7B9FFE96E9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c Radius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ionic radius increases from the top to the bottom of the group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like the 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ions in different groups: they should be isoelectr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olelectronic 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tions &lt; anions: example Na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&lt; F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solelectronic cations: example 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&lt;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&lt;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Isoelectronic anoins: example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, 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&lt;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87640" y="6222960"/>
            <a:ext cx="424836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Comic Sans MS"/>
              </a:rPr>
              <a:t>الاصغر ذو الشحنه السالبه الاصغ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56000" y="5203800"/>
            <a:ext cx="410364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اصغر ذو الشحنه الموجبه الاكب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13440" y="3429000"/>
            <a:ext cx="2195640" cy="13737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93044-144F-4A44-B04D-0F7F39C17AC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2997360"/>
            <a:ext cx="0" cy="30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67280" y="4943520"/>
            <a:ext cx="4752720" cy="22885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6BC12-59F2-4F26-BC2A-0982948B4FE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6360" y="549360"/>
            <a:ext cx="8856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Example 8.3 p33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For each of the following pairs, indicate which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is larg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C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30200" y="2490840"/>
            <a:ext cx="6957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solelctronic anions 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N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n the same group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Mg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Ca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cations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64EFF-B5C6-4A93-BCE9-03B7726FA13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2 Periodic Classification of the elements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1989000"/>
            <a:ext cx="57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77336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round State Electron Configurations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</a:rPr>
              <a:t>Electron configuration of cations and 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representativ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transition m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54C1B-BAA6-406E-A9CA-FAACB1CDE5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468360" y="404640"/>
            <a:ext cx="828036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omic Sans MS"/>
              </a:rPr>
              <a:t>Isoelectronic 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" y="3645000"/>
            <a:ext cx="7777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Isoelectronic a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3573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75E62-120E-4179-9EB0-407CCE605E6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457200" y="47628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Order the following according to increasing atomic/ionic radi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57200" y="2297160"/>
            <a:ext cx="4402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C &lt; O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024720" y="155736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Li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C    O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84720" y="2205000"/>
            <a:ext cx="4753080" cy="1557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2DCE8-1301-4B2A-A9D9-76B5D0532A0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6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8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طاقة التأ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74760" y="1197000"/>
            <a:ext cx="8229600" cy="1295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zation Energy (IE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minimum energy (kJ/mol) required to remove an electron from a gaseous atom in its ground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4000" y="263700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ionization energy, the more difficult is to remove the electron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كلما كانت طاقة التأين اكبر اصبح نزع الاكترون اصع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irst ionization energy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amount of energy required to remove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electron from an atom in the gaseous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us: if there is a first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con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r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37349-86DD-4F02-9778-E12E7990F2E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993080" cy="300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3CCBB-3E00-41E7-B7B2-AFA8DD932C9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E of metals is lower than non-metals, metalloid IE is in the mid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a given group, IE decreases from the top to the bottom of the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 given period, the IE increases from left to right in perio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i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ome exceptions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ستثناءات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Group 2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3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 in the same perio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. Example (Be &amp;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Group 5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6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in the same period. Example (N &amp;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D933D-E781-4240-9EC4-4C85CD2FDAF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68360" y="476280"/>
            <a:ext cx="8532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onization Energ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E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3A &lt; 2A) &amp; (6A &lt; 5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1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3A &lt; 2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4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6A &lt; 5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7A &lt; 8A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F3E81-6E95-452D-813E-C0950299340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213000"/>
            <a:ext cx="0" cy="280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87280" y="177336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97DB6-2243-415B-877D-3DEC4204E9F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68360" y="549360"/>
            <a:ext cx="26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8360" y="549360"/>
            <a:ext cx="4464000" cy="62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8.4 (a) p34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hich atom should have a smaller first ionization energy: oxygen or sulph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 &amp; S are in 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: [Ne] 3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The valence electrons in sulphur are farther </a:t>
            </a:r>
            <a:r>
              <a:rPr b="0" lang="ar-SA" sz="2400" spc="-1" strike="noStrike">
                <a:solidFill>
                  <a:srgbClr val="666633"/>
                </a:solidFill>
                <a:latin typeface="Comic Sans MS"/>
              </a:rPr>
              <a:t>ابعد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from the nucleus </a:t>
            </a:r>
            <a:r>
              <a:rPr b="0" lang="en-GB" sz="2400" spc="-1" strike="noStrike">
                <a:solidFill>
                  <a:srgbClr val="666633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removing of them is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S) &lt;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753080" y="1197000"/>
            <a:ext cx="4356000" cy="28414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388360" y="1628640"/>
            <a:ext cx="216000" cy="21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88360" y="1844640"/>
            <a:ext cx="21600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48E05-8E03-4F32-9D36-EEE13F405AB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95280" y="1197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H.W: Q 8.52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Arrange the following in order of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increasing first ionization energy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F, K, P, Ca, and Ne.</a:t>
            </a: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&lt; Ca &lt; P &lt; F &lt; N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619280" y="2725560"/>
            <a:ext cx="6337440" cy="41324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619280" y="400536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79640" y="400680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516720" y="371628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23600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596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7FB6B-C2A5-444A-A594-7FFB59AC8C3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Electron Affinit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الالفه الاكترون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4760" y="1197000"/>
            <a:ext cx="8229600" cy="216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lectron affinity (EA): the ability of atom to accept one or more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R: The negative of the energy change that occurs when an electron is accepted by an atom in the gaseous state to form an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4000" y="3645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electron affinity, the greater affinity to accept the electr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6E5F8-9046-4809-ADB5-C60B189E354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33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Q1: What is the trend in the period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Q2: What is the trend in the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46920" y="525600"/>
            <a:ext cx="219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ميل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,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توجه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trend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395280" y="4019400"/>
            <a:ext cx="87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1: Within a Period number of electrons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  <a:ea typeface="Times New Roman"/>
              </a:rPr>
              <a:t>A2: Within a group (n) 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38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D8E03-A38F-4C1E-9F8E-866FB90D1F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Content Placeholder 1"/>
          <p:cNvSpPr/>
          <p:nvPr/>
        </p:nvSpPr>
        <p:spPr>
          <a:xfrm>
            <a:off x="304920" y="-171360"/>
            <a:ext cx="82296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17520" indent="-22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 EA for non-metal is higher than metal , EA for metalloid fall between metals and non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decreases from top to the bottom of th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increase from left to right in period. With some ex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2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5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55652-93C5-4D48-B86F-E771C1076F3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0920" y="476280"/>
            <a:ext cx="8750160" cy="59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 Affinit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2A &lt; 1A) &amp; (5A &lt; 4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8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2A &lt; 1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3A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5A &lt; 4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6A &lt; 7A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C185F-44C7-4A07-A310-B67DAA32BF6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0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2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95280" y="1628640"/>
            <a:ext cx="684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7280" y="46836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436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16000" y="1773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4812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0188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5F95D-DBA0-4CF5-B692-0C7D262176D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1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79280" y="1457280"/>
            <a:ext cx="403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IE are betwee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2A &amp; 3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5A &amp; 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71120" y="1413000"/>
            <a:ext cx="3909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EA are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A &amp; 2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4A &amp; 5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oble gases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he lowest affi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324800" y="484200"/>
            <a:ext cx="57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xceptions in the IE &amp; 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B5B85-F3ED-441C-94CF-BBABE2A0092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380880" y="404640"/>
            <a:ext cx="830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correctly lists the elements in order of decreasing electron affi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468360" y="1341360"/>
            <a:ext cx="7543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, O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, O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484280"/>
            <a:ext cx="6227640" cy="40608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810108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459640" y="242100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93080" y="2060640"/>
            <a:ext cx="2872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8036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08000" y="3800520"/>
            <a:ext cx="280836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ing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decreas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eptions??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y the rule of the period until you find a group apply the rule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59450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 &lt; C &lt; O &lt; 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1D0E2-8BE8-4E70-9DAA-06C96BAB961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7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8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68360" y="476280"/>
            <a:ext cx="84247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H.W. Q 8.62: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 Specify which of the following elements you would expect to have the greatest electron affinity and which have the leas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He, K, Co, S, 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76720" y="3149640"/>
            <a:ext cx="5688000" cy="37083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11280" y="285264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604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7672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79600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2800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1528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9280" y="3789360"/>
            <a:ext cx="28814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rrangement of increasing 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 &lt; K &lt; Co &lt; S &lt;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eatest EA: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ast EA: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4000" y="5229360"/>
            <a:ext cx="1655640" cy="360360"/>
          </a:xfrm>
          <a:prstGeom prst="wedgeRectCallout">
            <a:avLst>
              <a:gd name="adj1" fmla="val -40412"/>
              <a:gd name="adj2" fmla="val -8568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56043-829C-421D-8ED9-C2AB86864A1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ontent Placeholder 3"/>
          <p:cNvSpPr/>
          <p:nvPr/>
        </p:nvSpPr>
        <p:spPr>
          <a:xfrm>
            <a:off x="395280" y="990720"/>
            <a:ext cx="8424720" cy="2006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cribes the unequal sharing of electrons between two atom i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hemical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ability of an atom in a molecule  to attract to themselves  the shared electrons in a chemical b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5280" y="33336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egativity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كهربيه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سالبي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ontent Placeholder 3"/>
          <p:cNvSpPr/>
          <p:nvPr/>
        </p:nvSpPr>
        <p:spPr>
          <a:xfrm>
            <a:off x="324000" y="3160800"/>
            <a:ext cx="868680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igh electronegativity →pick up electron eas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ncre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left to right in peri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cre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top to bottom in group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-metals have high electronegativity, metals have low electronega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848B0-6830-4267-9AFA-DF5146DC1D7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26036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3200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528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788000" y="3789360"/>
            <a:ext cx="396072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85840" y="177336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43240" y="5141880"/>
            <a:ext cx="48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1940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4152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42360" y="2622600"/>
            <a:ext cx="47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in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99040" y="6165720"/>
            <a:ext cx="48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de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8720" y="476280"/>
            <a:ext cx="8280360" cy="26654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9280" y="3213000"/>
            <a:ext cx="8785440" cy="345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-108000" y="76500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apter 8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6D9EC-356C-4522-964C-2284D165FD2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80880" y="-100080"/>
            <a:ext cx="876312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below correctly lists the elements in order of increasing electronegativ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468360" y="1557360"/>
            <a:ext cx="746748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C &lt; N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&lt; N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708360" y="2200320"/>
            <a:ext cx="5364360" cy="34970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759636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88508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17092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45964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5157720"/>
            <a:ext cx="39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kn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324000" y="5661000"/>
                <a:ext cx="331128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lectronegativity increases</m:t>
                            </m:r>
                          </m:e>
                        </m:acc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E0528-A0E5-4508-9312-712399F8399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8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9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468360" y="260280"/>
            <a:ext cx="849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will be the larges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457200" y="1052640"/>
            <a:ext cx="2602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577840" y="476280"/>
            <a:ext cx="307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= 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851280" y="1557360"/>
            <a:ext cx="5041800" cy="32875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851280" y="234936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140360" y="2349360"/>
            <a:ext cx="2872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68360" y="4869000"/>
            <a:ext cx="813600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Mg) is the lar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611280" y="5373720"/>
                <a:ext cx="23032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increaes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7F253-65C8-4BDD-9A9D-248289EC503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507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ha56011_0802"/>
          <p:cNvPicPr/>
          <p:nvPr/>
        </p:nvPicPr>
        <p:blipFill>
          <a:blip r:embed="rId1"/>
          <a:stretch/>
        </p:blipFill>
        <p:spPr>
          <a:xfrm>
            <a:off x="0" y="1441440"/>
            <a:ext cx="9144000" cy="53722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5"/>
          <p:cNvGrpSpPr/>
          <p:nvPr/>
        </p:nvGrpSpPr>
        <p:grpSpPr>
          <a:xfrm>
            <a:off x="227160" y="842760"/>
            <a:ext cx="398880" cy="4332600"/>
            <a:chOff x="227160" y="842760"/>
            <a:chExt cx="398880" cy="4332600"/>
          </a:xfrm>
        </p:grpSpPr>
        <p:sp>
          <p:nvSpPr>
            <p:cNvPr id="122" name="Text Box 9"/>
            <p:cNvSpPr/>
            <p:nvPr/>
          </p:nvSpPr>
          <p:spPr>
            <a:xfrm rot="16200000">
              <a:off x="154800" y="91512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425520" y="1376280"/>
              <a:ext cx="0" cy="3799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80"/>
          <p:cNvGrpSpPr/>
          <p:nvPr/>
        </p:nvGrpSpPr>
        <p:grpSpPr>
          <a:xfrm>
            <a:off x="722160" y="1360440"/>
            <a:ext cx="398880" cy="3814920"/>
            <a:chOff x="722160" y="1360440"/>
            <a:chExt cx="398880" cy="3814920"/>
          </a:xfrm>
        </p:grpSpPr>
        <p:sp>
          <p:nvSpPr>
            <p:cNvPr id="125" name="Text Box 15"/>
            <p:cNvSpPr/>
            <p:nvPr/>
          </p:nvSpPr>
          <p:spPr>
            <a:xfrm rot="16200000">
              <a:off x="649800" y="143280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92088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6"/>
          <p:cNvGrpSpPr/>
          <p:nvPr/>
        </p:nvGrpSpPr>
        <p:grpSpPr>
          <a:xfrm>
            <a:off x="6180120" y="986400"/>
            <a:ext cx="398880" cy="4188960"/>
            <a:chOff x="6180120" y="986400"/>
            <a:chExt cx="398880" cy="4188960"/>
          </a:xfrm>
        </p:grpSpPr>
        <p:sp>
          <p:nvSpPr>
            <p:cNvPr id="128" name="Text Box 18"/>
            <p:cNvSpPr/>
            <p:nvPr/>
          </p:nvSpPr>
          <p:spPr>
            <a:xfrm rot="16200000">
              <a:off x="5908680" y="125748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63817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6703920" y="973440"/>
            <a:ext cx="398880" cy="4201920"/>
            <a:chOff x="6703920" y="973440"/>
            <a:chExt cx="398880" cy="4201920"/>
          </a:xfrm>
        </p:grpSpPr>
        <p:sp>
          <p:nvSpPr>
            <p:cNvPr id="131" name="Text Box 21"/>
            <p:cNvSpPr/>
            <p:nvPr/>
          </p:nvSpPr>
          <p:spPr>
            <a:xfrm rot="16200000">
              <a:off x="643248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69055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8"/>
          <p:cNvGrpSpPr/>
          <p:nvPr/>
        </p:nvGrpSpPr>
        <p:grpSpPr>
          <a:xfrm>
            <a:off x="7170840" y="973440"/>
            <a:ext cx="398880" cy="4201920"/>
            <a:chOff x="7170840" y="973440"/>
            <a:chExt cx="398880" cy="4201920"/>
          </a:xfrm>
        </p:grpSpPr>
        <p:sp>
          <p:nvSpPr>
            <p:cNvPr id="134" name="Text Box 24"/>
            <p:cNvSpPr/>
            <p:nvPr/>
          </p:nvSpPr>
          <p:spPr>
            <a:xfrm rot="16200000">
              <a:off x="6899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>
              <a:off x="7372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9"/>
          <p:cNvGrpSpPr/>
          <p:nvPr/>
        </p:nvGrpSpPr>
        <p:grpSpPr>
          <a:xfrm>
            <a:off x="7694640" y="973440"/>
            <a:ext cx="398880" cy="4201920"/>
            <a:chOff x="7694640" y="973440"/>
            <a:chExt cx="398880" cy="4201920"/>
          </a:xfrm>
        </p:grpSpPr>
        <p:sp>
          <p:nvSpPr>
            <p:cNvPr id="137" name="Text Box 27"/>
            <p:cNvSpPr/>
            <p:nvPr/>
          </p:nvSpPr>
          <p:spPr>
            <a:xfrm rot="16200000">
              <a:off x="74232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8"/>
            <p:cNvSpPr/>
            <p:nvPr/>
          </p:nvSpPr>
          <p:spPr>
            <a:xfrm>
              <a:off x="78962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81"/>
          <p:cNvGrpSpPr/>
          <p:nvPr/>
        </p:nvGrpSpPr>
        <p:grpSpPr>
          <a:xfrm>
            <a:off x="8151840" y="973440"/>
            <a:ext cx="398880" cy="4201920"/>
            <a:chOff x="8151840" y="973440"/>
            <a:chExt cx="398880" cy="4201920"/>
          </a:xfrm>
        </p:grpSpPr>
        <p:sp>
          <p:nvSpPr>
            <p:cNvPr id="140" name="Text Box 30"/>
            <p:cNvSpPr/>
            <p:nvPr/>
          </p:nvSpPr>
          <p:spPr>
            <a:xfrm rot="16200000">
              <a:off x="7880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1"/>
            <p:cNvSpPr/>
            <p:nvPr/>
          </p:nvSpPr>
          <p:spPr>
            <a:xfrm>
              <a:off x="8353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41"/>
          <p:cNvGrpSpPr/>
          <p:nvPr/>
        </p:nvGrpSpPr>
        <p:grpSpPr>
          <a:xfrm>
            <a:off x="8707320" y="-7560"/>
            <a:ext cx="398880" cy="4655880"/>
            <a:chOff x="8707320" y="-7560"/>
            <a:chExt cx="398880" cy="4655880"/>
          </a:xfrm>
        </p:grpSpPr>
        <p:sp>
          <p:nvSpPr>
            <p:cNvPr id="143" name="Text Box 33"/>
            <p:cNvSpPr/>
            <p:nvPr/>
          </p:nvSpPr>
          <p:spPr>
            <a:xfrm rot="16200000">
              <a:off x="8435880" y="263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8908920" y="914400"/>
              <a:ext cx="0" cy="3733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45"/>
          <p:cNvGrpSpPr/>
          <p:nvPr/>
        </p:nvGrpSpPr>
        <p:grpSpPr>
          <a:xfrm>
            <a:off x="1204920" y="2575800"/>
            <a:ext cx="398880" cy="2637720"/>
            <a:chOff x="1204920" y="2575800"/>
            <a:chExt cx="398880" cy="2637720"/>
          </a:xfrm>
        </p:grpSpPr>
        <p:sp>
          <p:nvSpPr>
            <p:cNvPr id="146" name="Text Box 42"/>
            <p:cNvSpPr/>
            <p:nvPr/>
          </p:nvSpPr>
          <p:spPr>
            <a:xfrm rot="16200000">
              <a:off x="1193400" y="25869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43"/>
            <p:cNvSpPr/>
            <p:nvPr/>
          </p:nvSpPr>
          <p:spPr>
            <a:xfrm>
              <a:off x="1403280" y="300348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55"/>
          <p:cNvGrpSpPr/>
          <p:nvPr/>
        </p:nvGrpSpPr>
        <p:grpSpPr>
          <a:xfrm>
            <a:off x="3197160" y="2574000"/>
            <a:ext cx="398880" cy="2648880"/>
            <a:chOff x="3197160" y="2574000"/>
            <a:chExt cx="398880" cy="2648880"/>
          </a:xfrm>
        </p:grpSpPr>
        <p:sp>
          <p:nvSpPr>
            <p:cNvPr id="149" name="Text Box 56"/>
            <p:cNvSpPr/>
            <p:nvPr/>
          </p:nvSpPr>
          <p:spPr>
            <a:xfrm rot="16200000">
              <a:off x="3185640" y="25851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7"/>
            <p:cNvSpPr/>
            <p:nvPr/>
          </p:nvSpPr>
          <p:spPr>
            <a:xfrm>
              <a:off x="33955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70"/>
          <p:cNvGrpSpPr/>
          <p:nvPr/>
        </p:nvGrpSpPr>
        <p:grpSpPr>
          <a:xfrm>
            <a:off x="5722920" y="2492640"/>
            <a:ext cx="398880" cy="2730240"/>
            <a:chOff x="5722920" y="2492640"/>
            <a:chExt cx="398880" cy="2730240"/>
          </a:xfrm>
        </p:grpSpPr>
        <p:sp>
          <p:nvSpPr>
            <p:cNvPr id="152" name="Text Box 71"/>
            <p:cNvSpPr/>
            <p:nvPr/>
          </p:nvSpPr>
          <p:spPr>
            <a:xfrm rot="16200000">
              <a:off x="5669640" y="254592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2"/>
            <p:cNvSpPr/>
            <p:nvPr/>
          </p:nvSpPr>
          <p:spPr>
            <a:xfrm>
              <a:off x="59227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75"/>
          <p:cNvGrpSpPr/>
          <p:nvPr/>
        </p:nvGrpSpPr>
        <p:grpSpPr>
          <a:xfrm>
            <a:off x="620640" y="5845320"/>
            <a:ext cx="1512720" cy="398880"/>
            <a:chOff x="620640" y="5845320"/>
            <a:chExt cx="1512720" cy="398880"/>
          </a:xfrm>
        </p:grpSpPr>
        <p:sp>
          <p:nvSpPr>
            <p:cNvPr id="155" name="Text Box 73"/>
            <p:cNvSpPr/>
            <p:nvPr/>
          </p:nvSpPr>
          <p:spPr>
            <a:xfrm>
              <a:off x="620640" y="58453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4"/>
            <p:cNvSpPr/>
            <p:nvPr/>
          </p:nvSpPr>
          <p:spPr>
            <a:xfrm>
              <a:off x="990360" y="604332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76"/>
          <p:cNvGrpSpPr/>
          <p:nvPr/>
        </p:nvGrpSpPr>
        <p:grpSpPr>
          <a:xfrm>
            <a:off x="623880" y="6327720"/>
            <a:ext cx="1512720" cy="398880"/>
            <a:chOff x="623880" y="6327720"/>
            <a:chExt cx="1512720" cy="398880"/>
          </a:xfrm>
        </p:grpSpPr>
        <p:sp>
          <p:nvSpPr>
            <p:cNvPr id="158" name="Text Box 77"/>
            <p:cNvSpPr/>
            <p:nvPr/>
          </p:nvSpPr>
          <p:spPr>
            <a:xfrm>
              <a:off x="623880" y="63277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8"/>
            <p:cNvSpPr/>
            <p:nvPr/>
          </p:nvSpPr>
          <p:spPr>
            <a:xfrm>
              <a:off x="993600" y="652608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79"/>
          <p:cNvSpPr/>
          <p:nvPr/>
        </p:nvSpPr>
        <p:spPr>
          <a:xfrm>
            <a:off x="332280" y="333360"/>
            <a:ext cx="83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Ground State Electron Configurations of th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960480" y="765000"/>
            <a:ext cx="50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Within a Period number of electrons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0"/>
          <p:cNvSpPr/>
          <p:nvPr/>
        </p:nvSpPr>
        <p:spPr>
          <a:xfrm>
            <a:off x="971640" y="1123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Within a group (n) 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C555D-29FE-4C33-A76D-1727FDAFD9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5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79280" y="476280"/>
            <a:ext cx="813600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: Arrange the following  Li, Be, B, C, Si, N , S, 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order 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ffective nuclear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eg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427640" y="1673280"/>
            <a:ext cx="471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C &lt; Si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S &lt; N &lt; C &lt; Si &lt; B &lt; Be &lt;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 &lt; Be &lt; Si &lt; C &lt; S &lt; N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Be &lt; Li &lt; B &lt; N &lt; Si &lt; C &lt;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Si &lt; C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0920" y="2060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0920" y="26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50920" y="3213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0920" y="378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50920" y="44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64099-46CB-4ACD-80D3-0DD0437523A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79280" y="692280"/>
            <a:ext cx="8785440" cy="57276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79280" y="155736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8256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12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15280" y="206064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20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451640" y="206064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459640" y="1989000"/>
            <a:ext cx="505080" cy="503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1672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B9F1A-2A19-4426-9AD1-7F390999715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84360" y="227664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507AB-D6D7-423D-A74E-5D7491D9203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485640"/>
            <a:ext cx="82090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THUS: from the electron configuration → we could know the position of the element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1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 group 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5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7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0560" y="2924280"/>
            <a:ext cx="46450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 determine the period of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i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2 → perio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3 → peri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4 → perio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5 → period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6 → period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7 → peri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4CD83-75F1-4001-8A90-FEC18B4F1D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Example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 element that ha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lance electron configuration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19640" y="2706840"/>
            <a:ext cx="5580000" cy="363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0C3D5-0AB0-4EB7-BD2A-69E6E3724D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ontent Placeholder 2"/>
          <p:cNvSpPr/>
          <p:nvPr/>
        </p:nvSpPr>
        <p:spPr>
          <a:xfrm>
            <a:off x="250920" y="399960"/>
            <a:ext cx="8569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xample 8.1 p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n atom of a certain element has 15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ithout consulting a periodic table, answe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a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hat is the ground-state electron configuration of this el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1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p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3s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 3p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b) How should be element be class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eriod 3, group 5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The element is representative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c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s the element diamagnetic or 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948360" y="1844640"/>
            <a:ext cx="2090880" cy="2160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22760" y="363852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ence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03640" y="587700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308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595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14036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9272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588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12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63817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3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D5A57-B8B6-4F8D-A2A7-783161AB20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5T14:21:30Z</dcterms:modified>
  <cp:revision>1174</cp:revision>
  <dc:subject/>
  <dc:title>General Chemistry CHEM 110</dc:title>
</cp:coreProperties>
</file>