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51675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524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353600" y="650520"/>
            <a:ext cx="4343400" cy="32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B171-9CDA-4C4E-AC91-825499AC10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1AD9-8486-4666-A65C-6F78035F7D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968E-6516-4A4A-AA7E-DBB34F5CC6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A441-E878-48AF-A1ED-1CCFD00570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1372-DEBA-4997-B546-A4614F3EB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E5F7-5B1D-4A57-9671-4C4823AA41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C75B-2752-401C-8B70-6EBB4655E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2B20-FCFF-4202-B3B1-BEAAACA746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0846-E1E8-4B4C-9423-3EE732190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7F61-6BE8-4B06-95A5-C83BD3EE3F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C973-1B70-4BD0-BA9C-C825FA887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D0C2-7DB3-4703-A5A5-7F5743C0B9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D715-09F1-4748-B20E-B568A8960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2C78D-E407-4BE7-B49D-C3F0FE95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1BBB3-6B6D-4353-AC03-D135B51B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01A1F-26DF-40B4-AAA7-8897C5D2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4BA28-90F4-4BA8-BFBF-2C1BC28A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C622-7D55-4020-AD82-F78B8CDD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F169-8CEE-4EDB-99F8-05E2F510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A55D-1E67-4508-A3EC-5A8595C0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C966-709F-4796-86DD-AAFE804B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0743-968D-4316-ACD9-CCE13345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65E1-7E3D-49B9-9674-52E6027E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DF3C-512C-4B68-8F6B-71E55FA0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78CED-3418-4612-B452-7AB1DE1E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EA6D-06F2-4ACF-839C-A5961BE7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6047-B314-443E-8211-410A93E4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9F41-D53B-4164-BB7D-88354F76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7C2A-ED10-4D7E-89C2-A430B6A1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3859-21D3-49C3-9274-7F9F3CA6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679E0-6286-4641-BD71-FD706776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33682-91F6-4602-8E66-7077365F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5ECE7-45C9-4676-B5D0-783F0087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F0F31-9B8D-4230-8B66-88C476AB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C1F59-701D-42EF-81A1-8EBD9E60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1729D-AC61-40DC-83DE-75A4C886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3AE78-E8DD-4FFB-B004-A747E057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8FA9-032E-4DF0-B121-8BD4EDC082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FA10-E98E-4C00-B6EB-6E25C3B0DB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The Study of Change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5FED-B664-444E-94F8-7F9F01117D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hysical or Chem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phys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es not change the composition or identity of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ice melting or salt dissolving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chem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anges the composition or identity of the substance/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hydrogen burn in air to fo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19320" y="4876920"/>
            <a:ext cx="6476760" cy="1981080"/>
            <a:chOff x="1219320" y="4876920"/>
            <a:chExt cx="6476760" cy="19810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rcRect l="0" t="13748" r="0" b="0"/>
            <a:stretch/>
          </p:blipFill>
          <p:spPr>
            <a:xfrm>
              <a:off x="4046040" y="4876920"/>
              <a:ext cx="36500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219320" y="5564880"/>
              <a:ext cx="240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ydrogen burns in air to form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F1B3D-0296-4A15-BE34-81EE4E39C1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8"/>
          <p:cNvSpPr/>
          <p:nvPr/>
        </p:nvSpPr>
        <p:spPr>
          <a:xfrm>
            <a:off x="457200" y="36504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Measurements and Un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0880" y="1371600"/>
            <a:ext cx="8382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surements of Macroscopic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croscopic Properties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.g.: length, weight, temperature,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9E1B0-6F64-4A23-A681-E8C20B565F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304920" y="4572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I Units: International System of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6000" y="1916280"/>
            <a:ext cx="8748720" cy="35319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FF827-C7FF-4874-8082-0FF728567F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Content Placeholder 3"/>
          <p:cNvSpPr/>
          <p:nvPr/>
        </p:nvSpPr>
        <p:spPr>
          <a:xfrm>
            <a:off x="228600" y="137160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unit of ma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The 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The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c) The 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The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57200" y="3808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3"/>
          <p:cNvSpPr/>
          <p:nvPr/>
        </p:nvSpPr>
        <p:spPr>
          <a:xfrm>
            <a:off x="4648320" y="137160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Kg is the SI uni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b)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0A462-99DB-4604-8C7F-603A92DF13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95" descr="01_03"/>
          <p:cNvPicPr/>
          <p:nvPr/>
        </p:nvPicPr>
        <p:blipFill>
          <a:blip r:embed="rId1"/>
          <a:srcRect l="0" t="3312" r="0" b="0"/>
          <a:stretch/>
        </p:blipFill>
        <p:spPr>
          <a:xfrm>
            <a:off x="228600" y="1297080"/>
            <a:ext cx="8686800" cy="47307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151" name="Right Arrow 5"/>
          <p:cNvSpPr/>
          <p:nvPr/>
        </p:nvSpPr>
        <p:spPr>
          <a:xfrm>
            <a:off x="380880" y="3809880"/>
            <a:ext cx="5943600" cy="76320"/>
          </a:xfrm>
          <a:prstGeom prst="rightArrow">
            <a:avLst>
              <a:gd name="adj1" fmla="val 50000"/>
              <a:gd name="adj2" fmla="val 4975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343400" y="3276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Up Arrow 7"/>
          <p:cNvSpPr/>
          <p:nvPr/>
        </p:nvSpPr>
        <p:spPr>
          <a:xfrm flipH="1">
            <a:off x="5105520" y="2438280"/>
            <a:ext cx="411120" cy="129564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own Arrow 9"/>
          <p:cNvSpPr/>
          <p:nvPr/>
        </p:nvSpPr>
        <p:spPr>
          <a:xfrm>
            <a:off x="5105520" y="4038480"/>
            <a:ext cx="380880" cy="152424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380880" y="3049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035AC-66BA-45F7-8FAC-22FFE9031F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320" y="1295280"/>
            <a:ext cx="90676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prefixes giga- and micro represent, respectively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80880" y="44136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9159-BFEA-4B4A-8431-A350091CEF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Base Unit  (e.g. km → 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refix (e.g. m → k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Prefix (e.g. km → 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5A385-1D86-44E6-9C6A-B5F0FA2409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Bas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e.g. 6km → ?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(km is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from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.g. 6m → ? k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m (m is 10</a:t>
            </a:r>
            <a:r>
              <a:rPr b="0" lang="ar-SA" sz="28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km (reverse the power sign from the table 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e.g. 6 km → ?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6 x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 </a:t>
            </a:r>
            <a:r>
              <a:rPr b="1" lang="en-GB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 (-9)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= 6 x 10</a:t>
            </a:r>
            <a:r>
              <a:rPr b="0" lang="ar-SA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(km is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 put negative sign (the nm is 1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8A07F-2743-487B-B0E1-03F207F3AC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t Placeholder 1"/>
          <p:cNvSpPr/>
          <p:nvPr/>
        </p:nvSpPr>
        <p:spPr>
          <a:xfrm>
            <a:off x="380880" y="1219320"/>
            <a:ext cx="7620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icroseconds are in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seco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 1 x 10 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380880" y="3049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16DD4-A72E-4608-8A2A-06CA63BCFB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Content Placeholder 1"/>
          <p:cNvSpPr/>
          <p:nvPr/>
        </p:nvSpPr>
        <p:spPr>
          <a:xfrm>
            <a:off x="380880" y="6858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D8339-979F-404F-91B2-EC528A4433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0" y="990720"/>
            <a:ext cx="896472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Code/Num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em 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Instru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r. Nuha Waz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Assistant Professor of Physical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Office: Building 7 /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Floor/ Office 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Office hours: S.M.W.. 12-1 &amp; ...T.. 9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ebsite: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wazzan.kau.edu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mail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110_nwazzan@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D2F4D-E380-4DB1-9823-AB08D1F484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Content Placeholder 1"/>
          <p:cNvSpPr/>
          <p:nvPr/>
        </p:nvSpPr>
        <p:spPr>
          <a:xfrm>
            <a:off x="304920" y="60948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 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.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0.0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 → 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2.1 x 10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omic Sans MS"/>
              </a:rPr>
              <a:t>-8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3232"/>
                </a:solidFill>
                <a:latin typeface="Comic Sans MS"/>
              </a:rPr>
              <a:t>Explana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though 2.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rgest number in this question, the units of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icometers) are the smallest units he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ing it the smallest d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E18C5-46B9-4584-8AEC-C2D23A61EA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560" y="457200"/>
            <a:ext cx="84582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diameter of an atom is approximately 1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m. What is this diameter when express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anometer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  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cccce6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C98B2-A32F-4B31-915C-482F716BF9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04920" y="457200"/>
            <a:ext cx="807696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Which of these quantities represents the largest mas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.0010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666699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c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99360-60C5-4E4F-90F3-5107B2CB25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28240" y="1066320"/>
            <a:ext cx="6629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Mass: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s the measure of the amount of matter i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omic Sans MS"/>
              </a:rPr>
              <a:t>SI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unit of mass is the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kilogram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(k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 kg = 1000 g = 1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Weight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is the measurement of the pull of gravity o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an object doesn't change when an object's location changes.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Weight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, on the other hand does change with loca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hemist are interested primarily in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01_03"/>
          <p:cNvPicPr/>
          <p:nvPr/>
        </p:nvPicPr>
        <p:blipFill>
          <a:blip r:embed="rId1"/>
          <a:srcRect l="0" t="0" r="20710" b="0"/>
          <a:stretch/>
        </p:blipFill>
        <p:spPr>
          <a:xfrm>
            <a:off x="6781680" y="533520"/>
            <a:ext cx="2133720" cy="2087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1600200" y="3733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weight = </a:t>
            </a:r>
            <a:r>
              <a:rPr b="0" i="1" lang="en-US" sz="2800" spc="-1" strike="noStrike">
                <a:solidFill>
                  <a:srgbClr val="9d3232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 x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791320" y="34290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The weight of man on earth is 5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is 8.25 pounds on mo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80880" y="3808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Mass and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848B4-FF38-4707-965E-023AAC40F03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I Derived Unit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defined in terms of the seven base quantiti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system of quantity eq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Are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dth x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wid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leng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Area = m× m 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5267160" y="4648320"/>
            <a:ext cx="36691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eat units lik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04920" y="3808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I Derived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3276720" y="5638680"/>
            <a:ext cx="3276360" cy="990720"/>
          </a:xfrm>
          <a:prstGeom prst="wedgeRectCallout">
            <a:avLst>
              <a:gd name="adj1" fmla="val -3050"/>
              <a:gd name="adj2" fmla="val -1017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derived unit fo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5257800" y="3657600"/>
            <a:ext cx="2590920" cy="609480"/>
          </a:xfrm>
          <a:prstGeom prst="wedgeRectCallout">
            <a:avLst>
              <a:gd name="adj1" fmla="val -90504"/>
              <a:gd name="adj2" fmla="val 1900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Bas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373392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0B607-EB9F-488E-9592-795E83A5CE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2743200" y="414360"/>
            <a:ext cx="662940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= width × length × he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m × m × m 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050280" y="4114800"/>
            <a:ext cx="56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c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2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6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092400" y="4724280"/>
            <a:ext cx="56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d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1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2728800" cy="49528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9"/>
          <p:cNvSpPr/>
          <p:nvPr/>
        </p:nvSpPr>
        <p:spPr>
          <a:xfrm>
            <a:off x="3581280" y="2590920"/>
            <a:ext cx="5181840" cy="990360"/>
          </a:xfrm>
          <a:prstGeom prst="wedgeRectCallout">
            <a:avLst>
              <a:gd name="adj1" fmla="val 6708"/>
              <a:gd name="adj2" fmla="val -9599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ic meter (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is the SI derived unit fo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081C0-C53A-4EBF-AEAD-6A4D55D1D1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266760" y="338040"/>
            <a:ext cx="902952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 unit of volume is liter (L) and milliliter 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L= 10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L = 1d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ff0000"/>
                </a:solidFill>
                <a:latin typeface="Comic Sans MS"/>
              </a:rPr>
              <a:t>A liter: is the volume occupied by one cubic decimeter</a:t>
            </a:r>
            <a:r>
              <a:rPr b="1" lang="en-GB" sz="4400" spc="-1" strike="noStrike" baseline="30000">
                <a:solidFill>
                  <a:srgbClr val="ff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milliliter (m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mL = 1c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1EB80-E16E-476C-818F-8A2C22CB70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How many cubic centimeters are there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exactly one cubic meter?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70c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omic Sans MS"/>
              </a:rPr>
              <a:t>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1m 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(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80880" y="380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0FC9B-643F-4406-A87E-96ABF30084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ensity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the amount of matter in a given amount of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             </a:t>
            </a: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SI derived unit for density is kg/m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995400" y="3048120"/>
            <a:ext cx="3034800" cy="779760"/>
            <a:chOff x="995400" y="3048120"/>
            <a:chExt cx="3034800" cy="779760"/>
          </a:xfrm>
        </p:grpSpPr>
        <p:sp>
          <p:nvSpPr>
            <p:cNvPr id="189" name="Text Box 4"/>
            <p:cNvSpPr/>
            <p:nvPr/>
          </p:nvSpPr>
          <p:spPr>
            <a:xfrm>
              <a:off x="995400" y="322920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density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2833200" y="3048120"/>
              <a:ext cx="9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2680920" y="336816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volu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>
              <a:off x="2734920" y="343800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80880" y="349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Den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3001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F478A-6AA9-4524-99BB-8A10F7DDBA37}" type="slidenum">
              <a:t>28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Comic Sans MS"/>
              </a:rPr>
              <a:t>Density decrease with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ml  &amp; </a:t>
            </a:r>
            <a:r>
              <a:rPr b="0" lang="ar-SA" sz="3600" spc="-1" strike="noStrike">
                <a:solidFill>
                  <a:srgbClr val="700e2a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cm</a:t>
            </a:r>
            <a:r>
              <a:rPr b="0" lang="en-US" sz="3600" spc="-1" strike="noStrike" baseline="30000">
                <a:solidFill>
                  <a:srgbClr val="700e2a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 for liquid and sol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/L = 0.001 g/ml for gases (Because density of gases are very l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112B1-BF52-4A3F-BC00-B55D9330A31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Required Textbook and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57200" y="2209680"/>
            <a:ext cx="6095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y: R. Chang, 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edi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cGraw Hill intern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andouts (PPt sl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_vv4-0" descr="http://i.ebayimg.com/21/!B)7q8lQ!Wk~$(KGrHqEOKnQEw8ojvO2CBMPkKfyHb!~~_12.JPG"/>
          <p:cNvPicPr/>
          <p:nvPr/>
        </p:nvPicPr>
        <p:blipFill>
          <a:blip r:embed="rId3"/>
          <a:stretch/>
        </p:blipFill>
        <p:spPr>
          <a:xfrm>
            <a:off x="6248520" y="2057400"/>
            <a:ext cx="281916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DF796-7804-45D7-BBF9-21210FD887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Densit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75248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17524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289548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m &amp;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97180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m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 = m /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320184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V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 = d x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70A83-FE4C-4AD9-A133-A387D5EC1F4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0456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Gold metal has a volume o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15.6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, with a mass of 301 g  What 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its density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533520" y="482904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301g /  15.6 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19.3 g/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808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1 p19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E42B8-4CFA-4A81-84CC-ED988AB2DB2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3805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actice Exercise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platinum metal with a dens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of 21.5 g/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 has a volume of 4.49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3513240" y="411480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764080" y="5715000"/>
            <a:ext cx="423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21.5 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x 4.49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96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 flipV="1">
            <a:off x="411480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4"/>
          <p:cNvSpPr/>
          <p:nvPr/>
        </p:nvSpPr>
        <p:spPr>
          <a:xfrm flipV="1">
            <a:off x="609588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1B084-322F-45B5-BFF1-906D52D64C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0520" y="4269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2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The density of mercury is 13.6 g/mL h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volume of 5.50 mL.  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3513240" y="396252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2209680" y="54547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13.6 g/mL x 5.5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74.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 flipV="1">
            <a:off x="419112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4"/>
          <p:cNvSpPr/>
          <p:nvPr/>
        </p:nvSpPr>
        <p:spPr>
          <a:xfrm flipV="1">
            <a:off x="586728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A4B04-0F34-40A9-B417-EB324FCA252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29080" y="1400040"/>
            <a:ext cx="2210040" cy="4335480"/>
            <a:chOff x="5329080" y="1400040"/>
            <a:chExt cx="2210040" cy="43354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5329080" y="1400040"/>
              <a:ext cx="204156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6838920" y="5209920"/>
              <a:ext cx="7002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7029360" y="520056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8186760" y="386712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3728880" y="1352520"/>
            <a:ext cx="86076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6929280" y="1628640"/>
            <a:ext cx="547920" cy="2633760"/>
            <a:chOff x="6929280" y="1628640"/>
            <a:chExt cx="547920" cy="2633760"/>
          </a:xfrm>
        </p:grpSpPr>
        <p:pic>
          <p:nvPicPr>
            <p:cNvPr id="225" name="" descr=""/>
            <p:cNvPicPr/>
            <p:nvPr/>
          </p:nvPicPr>
          <p:blipFill>
            <a:blip r:embed="rId6"/>
            <a:stretch/>
          </p:blipFill>
          <p:spPr>
            <a:xfrm>
              <a:off x="7143840" y="162864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7110360" y="316692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8"/>
            <a:stretch/>
          </p:blipFill>
          <p:spPr>
            <a:xfrm>
              <a:off x="6929280" y="3395520"/>
              <a:ext cx="4572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9"/>
            <a:stretch/>
          </p:blipFill>
          <p:spPr>
            <a:xfrm>
              <a:off x="7172280" y="4033800"/>
              <a:ext cx="3049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7116840" y="1371600"/>
            <a:ext cx="1312920" cy="4185720"/>
            <a:chOff x="7116840" y="1371600"/>
            <a:chExt cx="1312920" cy="4185720"/>
          </a:xfrm>
        </p:grpSpPr>
        <p:pic>
          <p:nvPicPr>
            <p:cNvPr id="230" name="" descr=""/>
            <p:cNvPicPr/>
            <p:nvPr/>
          </p:nvPicPr>
          <p:blipFill>
            <a:blip r:embed="rId10"/>
            <a:stretch/>
          </p:blipFill>
          <p:spPr>
            <a:xfrm>
              <a:off x="7388280" y="137160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1"/>
            <a:stretch/>
          </p:blipFill>
          <p:spPr>
            <a:xfrm>
              <a:off x="7116840" y="536724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"/>
          <p:cNvSpPr/>
          <p:nvPr/>
        </p:nvSpPr>
        <p:spPr>
          <a:xfrm>
            <a:off x="2362320" y="571500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Kelvin is the SI Base Unit of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44792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Comic Sans MS"/>
              </a:rPr>
              <a:t>These thermometers defined the Freezing Point (F.P.) &amp; the Boiling  Point (B.P.)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88704-A7E2-4D37-8754-DD8895A37FD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091200" y="2522520"/>
            <a:ext cx="2209320" cy="4335480"/>
            <a:chOff x="6091200" y="2522520"/>
            <a:chExt cx="2209320" cy="433548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6091200" y="2522520"/>
              <a:ext cx="204120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7600680" y="6332400"/>
              <a:ext cx="69984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7791480" y="632304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8948880" y="498960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4491000" y="2475000"/>
            <a:ext cx="86040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7691400" y="2751120"/>
            <a:ext cx="547200" cy="2633760"/>
            <a:chOff x="7691400" y="2751120"/>
            <a:chExt cx="547200" cy="2633760"/>
          </a:xfrm>
        </p:grpSpPr>
        <p:pic>
          <p:nvPicPr>
            <p:cNvPr id="242" name="" descr=""/>
            <p:cNvPicPr/>
            <p:nvPr/>
          </p:nvPicPr>
          <p:blipFill>
            <a:blip r:embed="rId6"/>
            <a:stretch/>
          </p:blipFill>
          <p:spPr>
            <a:xfrm>
              <a:off x="7905600" y="2751120"/>
              <a:ext cx="3042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7"/>
            <a:stretch/>
          </p:blipFill>
          <p:spPr>
            <a:xfrm>
              <a:off x="7872120" y="428940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8"/>
            <a:stretch/>
          </p:blipFill>
          <p:spPr>
            <a:xfrm>
              <a:off x="7691400" y="4518000"/>
              <a:ext cx="4568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9"/>
            <a:stretch/>
          </p:blipFill>
          <p:spPr>
            <a:xfrm>
              <a:off x="7934040" y="5156280"/>
              <a:ext cx="30456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"/>
          <p:cNvGrpSpPr/>
          <p:nvPr/>
        </p:nvGrpSpPr>
        <p:grpSpPr>
          <a:xfrm>
            <a:off x="7878600" y="2494080"/>
            <a:ext cx="1312920" cy="4185720"/>
            <a:chOff x="7878600" y="2494080"/>
            <a:chExt cx="1312920" cy="4185720"/>
          </a:xfrm>
        </p:grpSpPr>
        <p:pic>
          <p:nvPicPr>
            <p:cNvPr id="247" name="" descr=""/>
            <p:cNvPicPr/>
            <p:nvPr/>
          </p:nvPicPr>
          <p:blipFill>
            <a:blip r:embed="rId10"/>
            <a:stretch/>
          </p:blipFill>
          <p:spPr>
            <a:xfrm>
              <a:off x="8150040" y="249408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11"/>
            <a:stretch/>
          </p:blipFill>
          <p:spPr>
            <a:xfrm>
              <a:off x="7878600" y="648972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152280" y="1295280"/>
            <a:ext cx="85345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hree temperature scales, their units 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Degrees Celsius 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Degrees Fahrenheit 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Kelvin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57134-FAF9-4A63-B0F8-1D5F495CECB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Degrees Celsius </a:t>
            </a:r>
            <a:r>
              <a:rPr b="0" lang="en-GB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C:</a:t>
            </a:r>
            <a:r>
              <a:rPr b="0" lang="ar-SA" sz="3200" spc="-1" strike="noStrike">
                <a:solidFill>
                  <a:srgbClr val="9999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 Scale 0 </a:t>
            </a:r>
            <a:r>
              <a:rPr b="0" lang="en-GB" sz="3200" spc="-1" strike="noStrike">
                <a:solidFill>
                  <a:srgbClr val="9999ff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100 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Kelvin K: Scale 273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3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1K = 1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egrees Fahrenheit 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ar-SA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Scale from 32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2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Thus: 180 divisions or 18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us: the size of degree in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scale is only 100/180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5/9 of a degree on the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 scale</a:t>
            </a:r>
            <a:r>
              <a:rPr b="0" lang="ar-SA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= (5/9)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06403-1C65-442F-A97C-EF1BADDB1C1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 °C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+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-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Fahrenheit °F →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or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= [ (9/5) ×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] + 3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= (5/9) (</a:t>
            </a:r>
            <a:r>
              <a:rPr b="1" lang="fr-FR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- 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o relatationship betw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         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      </a:t>
            </a: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      °F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us: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1600200"/>
            <a:ext cx="2971800" cy="1143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733920"/>
            <a:ext cx="3886200" cy="990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6248520"/>
            <a:ext cx="2362320" cy="457200"/>
          </a:xfrm>
          <a:prstGeom prst="wedgeRectCallout">
            <a:avLst>
              <a:gd name="adj1" fmla="val -25805"/>
              <a:gd name="adj2" fmla="val -74305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6248520"/>
            <a:ext cx="2438280" cy="457200"/>
          </a:xfrm>
          <a:prstGeom prst="wedgeRectCallout">
            <a:avLst>
              <a:gd name="adj1" fmla="val 523"/>
              <a:gd name="adj2" fmla="val -83333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3FDC3-6EA1-4E59-9CB5-4B818441409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088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(a) Convert 224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F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 </a:t>
            </a:r>
            <a:r>
              <a:rPr b="0" lang="de-DE" sz="2800" spc="-1" strike="noStrike">
                <a:solidFill>
                  <a:srgbClr val="00007d"/>
                </a:solidFill>
                <a:latin typeface="Comic Sans MS"/>
              </a:rPr>
              <a:t>]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[°F = (9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22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b) Convert -452 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F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°F 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452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= -269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c) Convert 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-38.9 </a:t>
            </a:r>
            <a:r>
              <a:rPr b="0" lang="en-US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K =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38.9 </a:t>
            </a:r>
            <a:r>
              <a:rPr b="0" lang="fi-FI" sz="3200" spc="-1" strike="noStrike">
                <a:solidFill>
                  <a:srgbClr val="9999ff"/>
                </a:solidFill>
                <a:latin typeface="Comic Sans MS"/>
              </a:rPr>
              <a:t>°C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+ 273.15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= 234.3 </a:t>
            </a:r>
            <a:r>
              <a:rPr b="0" lang="fi-FI" sz="3200" spc="-1" strike="noStrike">
                <a:solidFill>
                  <a:srgbClr val="00007d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1.3 p20 &amp; 21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5F354-2470-49F9-830E-1C82C6984EE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33520" y="457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 Ammonia boils at -33.4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C. Wh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temperature is this in 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F? 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60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92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(c)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-28.1</a:t>
            </a:r>
            <a:r>
              <a:rPr b="0" lang="en-US" sz="3100" spc="-1" strike="noStrike">
                <a:solidFill>
                  <a:srgbClr val="0070c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+13.5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57200" y="4876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]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-33.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1F62-4E16-43D1-82B2-87CB3A1422B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ourse Gr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04920" y="1295280"/>
            <a:ext cx="8588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exams during the t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irst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 1-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 Chapters 1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econd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12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hapters 5,7-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0e2a"/>
                </a:solidFill>
                <a:latin typeface="Comic Sans MS"/>
              </a:rPr>
              <a:t>Final term exam 40 marks </a:t>
            </a: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from lecture 1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(Chapters 1,2,3,4,5,7,8,9,10,14,15,24,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N for 25% absence according to college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E7914-0853-4FD9-A078-7F7118B44F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81080" y="198108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2FBEB-AA19-4AB9-ADC7-5DCFC156A4E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762120" y="2666880"/>
            <a:ext cx="70866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ges 16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mework  Page 32 &amp; 3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17,1.22,1.23,1.25,1.26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219320" y="10494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6E784-C812-40B5-A704-752125D250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95120" y="1267920"/>
            <a:ext cx="6248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99ff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6633"/>
                </a:solidFill>
                <a:latin typeface="Comic Sans MS"/>
              </a:rPr>
              <a:t>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SI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Pre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Units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rive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Mass and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Temperatur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57200" y="363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 The Study of Change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456B5-E927-48FE-B174-CAB75BA2B4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0"/>
          <p:cNvSpPr/>
          <p:nvPr/>
        </p:nvSpPr>
        <p:spPr>
          <a:xfrm>
            <a:off x="3808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4412" r="0" b="0"/>
          <a:stretch/>
        </p:blipFill>
        <p:spPr>
          <a:xfrm>
            <a:off x="304920" y="2351160"/>
            <a:ext cx="8458200" cy="3516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320" y="16002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Comic Sans MS"/>
              </a:rPr>
              <a:t>Ma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644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i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9C9FB-FA79-4CCD-BAC0-AA93A5906E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str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study of matter and the changes it underg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ter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nything that occupies space and has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bstanc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form of matter that has a definite composition and distinct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380880" y="38088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BC8FC-51F0-45E8-A5A0-499AE0519C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08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hree stat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2"/>
          <p:cNvGrpSpPr/>
          <p:nvPr/>
        </p:nvGrpSpPr>
        <p:grpSpPr>
          <a:xfrm>
            <a:off x="1371600" y="1905120"/>
            <a:ext cx="6095520" cy="4647600"/>
            <a:chOff x="1371600" y="1905120"/>
            <a:chExt cx="6095520" cy="4647600"/>
          </a:xfrm>
        </p:grpSpPr>
        <p:pic>
          <p:nvPicPr>
            <p:cNvPr id="133" name="Picture 8" descr="01_07"/>
            <p:cNvPicPr/>
            <p:nvPr/>
          </p:nvPicPr>
          <p:blipFill>
            <a:blip r:embed="rId1"/>
            <a:srcRect l="13542" t="2780" r="14581" b="0"/>
            <a:stretch/>
          </p:blipFill>
          <p:spPr>
            <a:xfrm>
              <a:off x="1371600" y="1905120"/>
              <a:ext cx="6095520" cy="46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9"/>
            <p:cNvSpPr/>
            <p:nvPr/>
          </p:nvSpPr>
          <p:spPr>
            <a:xfrm>
              <a:off x="5961240" y="57002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0"/>
            <p:cNvSpPr/>
            <p:nvPr/>
          </p:nvSpPr>
          <p:spPr>
            <a:xfrm>
              <a:off x="1532160" y="549324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4890960" y="194760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0880" y="380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FDC23-F42E-4F29-9716-3C220B07F8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1-31T20:09:25Z</dcterms:modified>
  <cp:revision>218</cp:revision>
  <dc:subject/>
  <dc:title>General Chemistry CHEM 110</dc:title>
</cp:coreProperties>
</file>