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3720D-7880-4E74-A84B-DB4B7BE6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2CE3E-BE0C-4981-B37F-89137365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D5C6A-4B85-4E65-ACB2-72FB2939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07D09-4228-48F4-9CE6-29AF6D77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7476-0F5B-48C0-8603-88D9C6E6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2291-CA37-4FEC-9FEC-36A84281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000E-4FF0-4F60-933E-558311F5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B291-53C2-432E-B4DE-4D135F9F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96DA-21C9-4705-8979-3A0EC9CB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31A6-0FAC-49F4-8ED9-8FACC12D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1BFF-341F-48C8-953B-FF61123B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4AD00-9124-4F25-9DFD-C6E32CA8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7459-688B-4688-946D-23E93BDE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416A-DA13-49B2-9336-31B3AE41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B1E8-8FBC-44FC-80EB-0889142B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886A-7875-49DC-B12A-A8ACC861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97B3-16AB-4D88-8D92-C0D79682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73E1C-0186-47E3-9897-1FC4F29C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7ED46-8823-41FC-AA03-3140E1AA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6C37-A2A6-47A1-9A21-86CDB669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42037-E556-404A-A071-797AA871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5F123-E5E1-4AD1-A5D0-2FECA7FE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F2116-A0B0-40D1-9AE1-07CBFCB8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4FD5E-A21B-4B27-941F-C4F037FD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CAED-E74F-4380-ABF8-BCEC480B38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0939-CD00-4009-8E49-CBCA9C60B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Reactions in Aqueous Solu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CF64-4C07-4211-B9D1-A2D36EF952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4000"/>
            </a:b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Dilution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تخفي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procedure for 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less concentrated solution from a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entrated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 law: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قانون التخفيف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300720" y="2637000"/>
            <a:ext cx="2523960" cy="3415320"/>
            <a:chOff x="6300720" y="2637000"/>
            <a:chExt cx="2523960" cy="34153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300720" y="2637000"/>
              <a:ext cx="2523960" cy="20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550200" y="4696920"/>
              <a:ext cx="211716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wo KMn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solutions of different concent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26920" y="3645000"/>
                <a:ext cx="4392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4797360"/>
            <a:ext cx="220968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بل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98680" y="4869000"/>
            <a:ext cx="221004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132600"/>
            <a:ext cx="82040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units of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&amp;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must be the same (ml or 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89218-DADE-408D-A2AE-FB2D16AB00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8 p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ow you would prepare 5.00 x 10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mL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.75 M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solution, starting with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8.61 M stock solution of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637000"/>
            <a:ext cx="705636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75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5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.61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11280" y="4508640"/>
                <a:ext cx="806436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l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-25200" y="13208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45920" y="404640"/>
            <a:ext cx="55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46440" y="19652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B0E7E-D97D-445E-9CB8-762CFE9383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640" y="2276640"/>
            <a:ext cx="6105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4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rst Exa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1, 2, 3, &amp;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17FF4-6FE5-4ABC-AE46-BCB00CA725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Reactions in Aqueous Solution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147-15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6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.60, 4.62, 4.64, 4.66, 4.70, 4.74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4D102-2282-42FF-8B6B-1C4DEA17C8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: 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Reactions in Aqueous Solution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4.5 Concentra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Dilu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39C3A-1BD2-43AA-AAD8-E9AB5993A1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3600"/>
            </a:b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Molarity</a:t>
            </a: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concentration of solution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amount of solute (solid or liquid) present in a given amount of solvent (liqu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st common unit to express the concentration is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 (M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number of moles of solute p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tr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unit of molarity is mol/L = Molar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48000" y="4221000"/>
                <a:ext cx="354816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larit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es of solut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iters of solutio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DEEE3-EB09-477E-8A5B-7FDA424B07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Mo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419640" y="1101600"/>
                <a:ext cx="143964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042920" y="234936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2349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8364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0" y="3213000"/>
            <a:ext cx="273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iven: n &amp;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3211560"/>
            <a:ext cx="2879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iven: n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3257640"/>
            <a:ext cx="273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Given:  V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5640" y="5516640"/>
                <a:ext cx="403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FBB1E-DF3D-4CFD-BE1A-175600E905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3560" y="811080"/>
            <a:ext cx="66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ing a Solution of Known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04_16"/>
          <p:cNvPicPr/>
          <p:nvPr/>
        </p:nvPicPr>
        <p:blipFill>
          <a:blip r:embed="rId1"/>
          <a:stretch/>
        </p:blipFill>
        <p:spPr>
          <a:xfrm>
            <a:off x="228600" y="1989000"/>
            <a:ext cx="868680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DB6CB-BE8C-4C53-8E1A-50A3976FFD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6 p14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grams of potassium dichr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K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r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 are required to prepare a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l solution whose concentration is 2.16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63700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 = 250 ml = 250 ml/1000 = 0.25 L; M = 2.16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59280" y="4143240"/>
                <a:ext cx="5976720" cy="26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 mol/L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x 2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9 g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AD7E0-54AF-4723-A99B-0F2B2B9E4C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7 p14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biochemical assay, a chemist needs to 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3.81 g of glucose to a reaction mixtur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volume in milliteres of a 2.53 M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lution she should use for the ad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92104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m = 3.81 g ; M = 2.53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 (L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92428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943280" y="4149720"/>
                <a:ext cx="687672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/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 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7E453-0896-4A1B-8EA3-870B42E19E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656160" y="2500200"/>
            <a:ext cx="1752480" cy="856080"/>
            <a:chOff x="3656160" y="2500200"/>
            <a:chExt cx="1752480" cy="856080"/>
          </a:xfrm>
        </p:grpSpPr>
        <p:sp>
          <p:nvSpPr>
            <p:cNvPr id="136" name=""/>
            <p:cNvSpPr/>
            <p:nvPr/>
          </p:nvSpPr>
          <p:spPr>
            <a:xfrm>
              <a:off x="3656160" y="2917440"/>
              <a:ext cx="175248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5280" y="250020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33200" y="29574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99cc"/>
                  </a:solidFill>
                  <a:latin typeface="Arial"/>
                </a:rPr>
                <a:t>Add Sol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2678040" cy="3257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637240" y="1052640"/>
            <a:ext cx="2914560" cy="339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BF5F1-0021-4B76-8815-60CF6F8EC1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7:27Z</dcterms:modified>
  <cp:revision>500</cp:revision>
  <dc:subject/>
  <dc:title>General Chemistry CHEM 110</dc:title>
</cp:coreProperties>
</file>