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851C2-FEC8-4636-AF35-719EE34D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4BFA6-F40C-4946-AA4E-C7D5E661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EBB13-4963-4829-8BE4-0000B6A1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909F6-0004-4B10-A800-88F76AA9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19EA-5E35-4D29-A0F4-9E42C082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0382-CB12-4552-8029-3F4E90D3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4E3B-A844-461D-A7E5-436DC45C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80E8-26C0-44B8-B073-3F9E2DDD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4A41-4FB6-4E0A-89CA-0CA750A2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05F8-D968-4DE2-98F0-AD8FC70C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C486-44F2-45E7-BF02-34400B53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EBE8B-D19E-4F88-AF28-34ADCE59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C29B-F1A1-471F-A6AC-41F0DEFC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17ED-F9B9-47A3-9831-C122A6C1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C293-96BB-4475-A7AC-FF68B99E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D13F-4E33-498A-8958-AB89D5BE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6385-1513-4350-B2E7-C6628934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65855-FE7B-4055-8BA5-85097E52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179F5-A07A-4843-B5F2-49F3A419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A3058-DCC7-4525-A3CF-4AB0AAC1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59383-3F45-4FC6-A782-9D777EB7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7DFCA-BE03-44A6-ADEE-8E1F6FFE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A77F4-C9E2-4F52-B3A8-23D17677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6B971-34AA-42E6-B868-0E63C353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99A6-8461-4A68-95A2-C7DF405636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4B71-6D68-4C22-9BBC-B2F9EF5D6E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emical Bonding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BDC3-2BDF-4126-9418-8E9A3E55B2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Content Placeholder 2"/>
          <p:cNvSpPr/>
          <p:nvPr/>
        </p:nvSpPr>
        <p:spPr>
          <a:xfrm>
            <a:off x="380880" y="4046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An atom in the ground state has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atomic number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Z=5. Choose the correct electron-dot structure which represents this ato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8000" y="486900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8000" y="544356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66920" y="5156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00000" y="2565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35280" y="2494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30686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2400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8000" y="4221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66920" y="3932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6220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0920" y="595008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8000" y="65246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000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35280" y="5950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4944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37130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49370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00000" y="6021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03640" y="2205000"/>
            <a:ext cx="5616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lectron configuration Z 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lence electrons are in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AA0F7-CBC6-4A2C-9B8E-C46057D776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" y="83196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hemical bond in which two or more electrons are shared by two atoms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Non-metal-High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5480" y="2133720"/>
            <a:ext cx="58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Why should two atoms share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614680" y="2725560"/>
            <a:ext cx="444600" cy="480240"/>
            <a:chOff x="2614680" y="2725560"/>
            <a:chExt cx="444600" cy="480240"/>
          </a:xfrm>
        </p:grpSpPr>
        <p:sp>
          <p:nvSpPr>
            <p:cNvPr id="282" name=""/>
            <p:cNvSpPr/>
            <p:nvPr/>
          </p:nvSpPr>
          <p:spPr>
            <a:xfrm>
              <a:off x="2674440" y="274608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2614680" y="2852280"/>
              <a:ext cx="76320" cy="228600"/>
              <a:chOff x="2614680" y="2852280"/>
              <a:chExt cx="76320" cy="228600"/>
            </a:xfrm>
          </p:grpSpPr>
          <p:sp>
            <p:nvSpPr>
              <p:cNvPr id="284" name=""/>
              <p:cNvSpPr/>
              <p:nvPr/>
            </p:nvSpPr>
            <p:spPr>
              <a:xfrm>
                <a:off x="261468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614680" y="3004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2982960" y="2852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2715840" y="2725560"/>
              <a:ext cx="228600" cy="75960"/>
              <a:chOff x="2715840" y="2725560"/>
              <a:chExt cx="228600" cy="75960"/>
            </a:xfrm>
          </p:grpSpPr>
          <p:sp>
            <p:nvSpPr>
              <p:cNvPr id="288" name=""/>
              <p:cNvSpPr/>
              <p:nvPr/>
            </p:nvSpPr>
            <p:spPr>
              <a:xfrm rot="5400000">
                <a:off x="2868120" y="2725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2715840" y="2725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2715840" y="3119040"/>
              <a:ext cx="228600" cy="76320"/>
              <a:chOff x="2715840" y="3119040"/>
              <a:chExt cx="228600" cy="76320"/>
            </a:xfrm>
          </p:grpSpPr>
          <p:sp>
            <p:nvSpPr>
              <p:cNvPr id="291" name=""/>
              <p:cNvSpPr/>
              <p:nvPr/>
            </p:nvSpPr>
            <p:spPr>
              <a:xfrm rot="5400000">
                <a:off x="2868120" y="31190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400000">
                <a:off x="2715480" y="31190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3307320" y="2725560"/>
            <a:ext cx="1036080" cy="480240"/>
            <a:chOff x="3307320" y="2725560"/>
            <a:chExt cx="1036080" cy="480240"/>
          </a:xfrm>
        </p:grpSpPr>
        <p:grpSp>
          <p:nvGrpSpPr>
            <p:cNvPr id="294" name=""/>
            <p:cNvGrpSpPr/>
            <p:nvPr/>
          </p:nvGrpSpPr>
          <p:grpSpPr>
            <a:xfrm>
              <a:off x="3911760" y="2725560"/>
              <a:ext cx="431640" cy="480240"/>
              <a:chOff x="3911760" y="2725560"/>
              <a:chExt cx="431640" cy="480240"/>
            </a:xfrm>
          </p:grpSpPr>
          <p:sp>
            <p:nvSpPr>
              <p:cNvPr id="295" name=""/>
              <p:cNvSpPr/>
              <p:nvPr/>
            </p:nvSpPr>
            <p:spPr>
              <a:xfrm>
                <a:off x="395892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4267440" y="2852640"/>
                <a:ext cx="75960" cy="228600"/>
                <a:chOff x="4267440" y="2852640"/>
                <a:chExt cx="75960" cy="2286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26744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26744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391176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4000320" y="2725560"/>
                <a:ext cx="228600" cy="76320"/>
                <a:chOff x="4000320" y="2725560"/>
                <a:chExt cx="228600" cy="76320"/>
              </a:xfrm>
            </p:grpSpPr>
            <p:sp>
              <p:nvSpPr>
                <p:cNvPr id="301" name=""/>
                <p:cNvSpPr/>
                <p:nvPr/>
              </p:nvSpPr>
              <p:spPr>
                <a:xfrm rot="5400000">
                  <a:off x="415260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5400000">
                  <a:off x="399996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000320" y="3119400"/>
                <a:ext cx="228600" cy="75960"/>
                <a:chOff x="4000320" y="3119400"/>
                <a:chExt cx="228600" cy="75960"/>
              </a:xfrm>
            </p:grpSpPr>
            <p:sp>
              <p:nvSpPr>
                <p:cNvPr id="304" name=""/>
                <p:cNvSpPr/>
                <p:nvPr/>
              </p:nvSpPr>
              <p:spPr>
                <a:xfrm rot="5400000">
                  <a:off x="415260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5400000">
                  <a:off x="400032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"/>
            <p:cNvSpPr/>
            <p:nvPr/>
          </p:nvSpPr>
          <p:spPr>
            <a:xfrm>
              <a:off x="3307320" y="273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502000" y="2637000"/>
            <a:ext cx="685800" cy="1164240"/>
            <a:chOff x="2502000" y="2637000"/>
            <a:chExt cx="685800" cy="1164240"/>
          </a:xfrm>
        </p:grpSpPr>
        <p:sp>
          <p:nvSpPr>
            <p:cNvPr id="308" name=""/>
            <p:cNvSpPr/>
            <p:nvPr/>
          </p:nvSpPr>
          <p:spPr>
            <a:xfrm>
              <a:off x="250200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5384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784680" y="2637000"/>
            <a:ext cx="685800" cy="1164240"/>
            <a:chOff x="3784680" y="2637000"/>
            <a:chExt cx="685800" cy="1164240"/>
          </a:xfrm>
        </p:grpSpPr>
        <p:sp>
          <p:nvSpPr>
            <p:cNvPr id="311" name=""/>
            <p:cNvSpPr/>
            <p:nvPr/>
          </p:nvSpPr>
          <p:spPr>
            <a:xfrm>
              <a:off x="378468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3652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572000" y="295416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575320" y="2725560"/>
            <a:ext cx="799920" cy="480240"/>
            <a:chOff x="5575320" y="2725560"/>
            <a:chExt cx="799920" cy="480240"/>
          </a:xfrm>
        </p:grpSpPr>
        <p:grpSp>
          <p:nvGrpSpPr>
            <p:cNvPr id="315" name=""/>
            <p:cNvGrpSpPr/>
            <p:nvPr/>
          </p:nvGrpSpPr>
          <p:grpSpPr>
            <a:xfrm>
              <a:off x="5575320" y="2725560"/>
              <a:ext cx="444600" cy="480240"/>
              <a:chOff x="5575320" y="2725560"/>
              <a:chExt cx="444600" cy="480240"/>
            </a:xfrm>
          </p:grpSpPr>
          <p:sp>
            <p:nvSpPr>
              <p:cNvPr id="316" name=""/>
              <p:cNvSpPr/>
              <p:nvPr/>
            </p:nvSpPr>
            <p:spPr>
              <a:xfrm>
                <a:off x="563508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5575320" y="2852280"/>
                <a:ext cx="76320" cy="228600"/>
                <a:chOff x="5575320" y="2852280"/>
                <a:chExt cx="76320" cy="2286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575320" y="2852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75320" y="3004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594360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5676480" y="2725560"/>
                <a:ext cx="228600" cy="75960"/>
                <a:chOff x="5676480" y="2725560"/>
                <a:chExt cx="228600" cy="75960"/>
              </a:xfrm>
            </p:grpSpPr>
            <p:sp>
              <p:nvSpPr>
                <p:cNvPr id="322" name=""/>
                <p:cNvSpPr/>
                <p:nvPr/>
              </p:nvSpPr>
              <p:spPr>
                <a:xfrm rot="5400000">
                  <a:off x="5828760" y="2725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5400000">
                  <a:off x="5676480" y="27255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676480" y="3119040"/>
                <a:ext cx="228600" cy="76320"/>
                <a:chOff x="5676480" y="3119040"/>
                <a:chExt cx="228600" cy="76320"/>
              </a:xfrm>
            </p:grpSpPr>
            <p:sp>
              <p:nvSpPr>
                <p:cNvPr id="325" name=""/>
                <p:cNvSpPr/>
                <p:nvPr/>
              </p:nvSpPr>
              <p:spPr>
                <a:xfrm rot="5400000">
                  <a:off x="5828760" y="31190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5400000">
                  <a:off x="5676120" y="31190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7" name=""/>
            <p:cNvGrpSpPr/>
            <p:nvPr/>
          </p:nvGrpSpPr>
          <p:grpSpPr>
            <a:xfrm>
              <a:off x="5943600" y="2725560"/>
              <a:ext cx="431640" cy="480240"/>
              <a:chOff x="5943600" y="2725560"/>
              <a:chExt cx="431640" cy="480240"/>
            </a:xfrm>
          </p:grpSpPr>
          <p:sp>
            <p:nvSpPr>
              <p:cNvPr id="328" name=""/>
              <p:cNvSpPr/>
              <p:nvPr/>
            </p:nvSpPr>
            <p:spPr>
              <a:xfrm>
                <a:off x="599076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299280" y="2852640"/>
                <a:ext cx="75960" cy="228600"/>
                <a:chOff x="6299280" y="2852640"/>
                <a:chExt cx="75960" cy="2286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29928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29928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594360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6032160" y="2725560"/>
                <a:ext cx="228600" cy="76320"/>
                <a:chOff x="6032160" y="2725560"/>
                <a:chExt cx="228600" cy="76320"/>
              </a:xfrm>
            </p:grpSpPr>
            <p:sp>
              <p:nvSpPr>
                <p:cNvPr id="334" name=""/>
                <p:cNvSpPr/>
                <p:nvPr/>
              </p:nvSpPr>
              <p:spPr>
                <a:xfrm rot="5400000">
                  <a:off x="618444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rot="5400000">
                  <a:off x="603180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032160" y="3119400"/>
                <a:ext cx="228600" cy="75960"/>
                <a:chOff x="6032160" y="3119400"/>
                <a:chExt cx="228600" cy="75960"/>
              </a:xfrm>
            </p:grpSpPr>
            <p:sp>
              <p:nvSpPr>
                <p:cNvPr id="337" name=""/>
                <p:cNvSpPr/>
                <p:nvPr/>
              </p:nvSpPr>
              <p:spPr>
                <a:xfrm rot="5400000">
                  <a:off x="618444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5400000">
                  <a:off x="603216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9" name=""/>
          <p:cNvGrpSpPr/>
          <p:nvPr/>
        </p:nvGrpSpPr>
        <p:grpSpPr>
          <a:xfrm>
            <a:off x="5384880" y="2649600"/>
            <a:ext cx="685800" cy="1164600"/>
            <a:chOff x="5384880" y="2649600"/>
            <a:chExt cx="685800" cy="1164600"/>
          </a:xfrm>
        </p:grpSpPr>
        <p:sp>
          <p:nvSpPr>
            <p:cNvPr id="340" name=""/>
            <p:cNvSpPr/>
            <p:nvPr/>
          </p:nvSpPr>
          <p:spPr>
            <a:xfrm>
              <a:off x="538488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3672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918040" y="2649600"/>
            <a:ext cx="685800" cy="1164600"/>
            <a:chOff x="5918040" y="2649600"/>
            <a:chExt cx="685800" cy="1164600"/>
          </a:xfrm>
        </p:grpSpPr>
        <p:sp>
          <p:nvSpPr>
            <p:cNvPr id="343" name=""/>
            <p:cNvSpPr/>
            <p:nvPr/>
          </p:nvSpPr>
          <p:spPr>
            <a:xfrm>
              <a:off x="591804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6988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016000" y="5559480"/>
            <a:ext cx="799920" cy="482040"/>
            <a:chOff x="2016000" y="5559480"/>
            <a:chExt cx="799920" cy="482040"/>
          </a:xfrm>
        </p:grpSpPr>
        <p:grpSp>
          <p:nvGrpSpPr>
            <p:cNvPr id="346" name=""/>
            <p:cNvGrpSpPr/>
            <p:nvPr/>
          </p:nvGrpSpPr>
          <p:grpSpPr>
            <a:xfrm>
              <a:off x="2016000" y="5559480"/>
              <a:ext cx="444600" cy="480240"/>
              <a:chOff x="2016000" y="5559480"/>
              <a:chExt cx="444600" cy="480240"/>
            </a:xfrm>
          </p:grpSpPr>
          <p:sp>
            <p:nvSpPr>
              <p:cNvPr id="347" name=""/>
              <p:cNvSpPr/>
              <p:nvPr/>
            </p:nvSpPr>
            <p:spPr>
              <a:xfrm>
                <a:off x="2075760" y="55800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2016000" y="5686200"/>
                <a:ext cx="76320" cy="228600"/>
                <a:chOff x="2016000" y="5686200"/>
                <a:chExt cx="76320" cy="22860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016000" y="56862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016000" y="58388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2384280" y="56862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2117160" y="5559480"/>
                <a:ext cx="228600" cy="75960"/>
                <a:chOff x="2117160" y="5559480"/>
                <a:chExt cx="228600" cy="75960"/>
              </a:xfrm>
            </p:grpSpPr>
            <p:sp>
              <p:nvSpPr>
                <p:cNvPr id="353" name=""/>
                <p:cNvSpPr/>
                <p:nvPr/>
              </p:nvSpPr>
              <p:spPr>
                <a:xfrm rot="5400000">
                  <a:off x="2269440" y="5559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rot="5400000">
                  <a:off x="2117160" y="55594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2117160" y="5952960"/>
                <a:ext cx="228600" cy="76320"/>
                <a:chOff x="2117160" y="5952960"/>
                <a:chExt cx="228600" cy="76320"/>
              </a:xfrm>
            </p:grpSpPr>
            <p:sp>
              <p:nvSpPr>
                <p:cNvPr id="356" name=""/>
                <p:cNvSpPr/>
                <p:nvPr/>
              </p:nvSpPr>
              <p:spPr>
                <a:xfrm rot="5400000">
                  <a:off x="2269440" y="59529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rot="5400000">
                  <a:off x="2116800" y="59529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8" name=""/>
            <p:cNvGrpSpPr/>
            <p:nvPr/>
          </p:nvGrpSpPr>
          <p:grpSpPr>
            <a:xfrm>
              <a:off x="2384280" y="5561280"/>
              <a:ext cx="431640" cy="480240"/>
              <a:chOff x="2384280" y="5561280"/>
              <a:chExt cx="431640" cy="480240"/>
            </a:xfrm>
          </p:grpSpPr>
          <p:sp>
            <p:nvSpPr>
              <p:cNvPr id="359" name=""/>
              <p:cNvSpPr/>
              <p:nvPr/>
            </p:nvSpPr>
            <p:spPr>
              <a:xfrm>
                <a:off x="2431440" y="55818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2739960" y="5688360"/>
                <a:ext cx="75960" cy="228600"/>
                <a:chOff x="2739960" y="5688360"/>
                <a:chExt cx="75960" cy="2286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739960" y="56883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739960" y="584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2384280" y="58406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2472840" y="5561280"/>
                <a:ext cx="228600" cy="76320"/>
                <a:chOff x="2472840" y="5561280"/>
                <a:chExt cx="228600" cy="76320"/>
              </a:xfrm>
            </p:grpSpPr>
            <p:sp>
              <p:nvSpPr>
                <p:cNvPr id="365" name=""/>
                <p:cNvSpPr/>
                <p:nvPr/>
              </p:nvSpPr>
              <p:spPr>
                <a:xfrm rot="5400000">
                  <a:off x="2625120" y="5561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rot="5400000">
                  <a:off x="2472480" y="5561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2472840" y="5955120"/>
                <a:ext cx="228600" cy="75960"/>
                <a:chOff x="2472840" y="5955120"/>
                <a:chExt cx="228600" cy="75960"/>
              </a:xfrm>
            </p:grpSpPr>
            <p:sp>
              <p:nvSpPr>
                <p:cNvPr id="368" name=""/>
                <p:cNvSpPr/>
                <p:nvPr/>
              </p:nvSpPr>
              <p:spPr>
                <a:xfrm rot="5400000">
                  <a:off x="2625120" y="59547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5400000">
                  <a:off x="2472840" y="59551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5924520" y="4518000"/>
            <a:ext cx="1237680" cy="482040"/>
            <a:chOff x="5924520" y="4518000"/>
            <a:chExt cx="1237680" cy="482040"/>
          </a:xfrm>
        </p:grpSpPr>
        <p:grpSp>
          <p:nvGrpSpPr>
            <p:cNvPr id="371" name=""/>
            <p:cNvGrpSpPr/>
            <p:nvPr/>
          </p:nvGrpSpPr>
          <p:grpSpPr>
            <a:xfrm>
              <a:off x="5924520" y="4518000"/>
              <a:ext cx="398880" cy="480240"/>
              <a:chOff x="5924520" y="4518000"/>
              <a:chExt cx="398880" cy="480240"/>
            </a:xfrm>
          </p:grpSpPr>
          <p:sp>
            <p:nvSpPr>
              <p:cNvPr id="372" name=""/>
              <p:cNvSpPr/>
              <p:nvPr/>
            </p:nvSpPr>
            <p:spPr>
              <a:xfrm>
                <a:off x="5984280" y="45385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5924520" y="4645080"/>
                <a:ext cx="75960" cy="228600"/>
                <a:chOff x="5924520" y="4645080"/>
                <a:chExt cx="75960" cy="2286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924520" y="4645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924520" y="4797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6025680" y="4518000"/>
                <a:ext cx="228600" cy="76320"/>
                <a:chOff x="6025680" y="4518000"/>
                <a:chExt cx="228600" cy="76320"/>
              </a:xfrm>
            </p:grpSpPr>
            <p:sp>
              <p:nvSpPr>
                <p:cNvPr id="377" name=""/>
                <p:cNvSpPr/>
                <p:nvPr/>
              </p:nvSpPr>
              <p:spPr>
                <a:xfrm rot="5400000">
                  <a:off x="6177960" y="45180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5400000">
                  <a:off x="6025320" y="45180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025680" y="4911840"/>
                <a:ext cx="228600" cy="75960"/>
                <a:chOff x="6025680" y="4911840"/>
                <a:chExt cx="228600" cy="75960"/>
              </a:xfrm>
            </p:grpSpPr>
            <p:sp>
              <p:nvSpPr>
                <p:cNvPr id="380" name=""/>
                <p:cNvSpPr/>
                <p:nvPr/>
              </p:nvSpPr>
              <p:spPr>
                <a:xfrm rot="5400000">
                  <a:off x="6177960" y="4911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5400000">
                  <a:off x="6025680" y="4911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2" name=""/>
            <p:cNvGrpSpPr/>
            <p:nvPr/>
          </p:nvGrpSpPr>
          <p:grpSpPr>
            <a:xfrm>
              <a:off x="6777720" y="4519440"/>
              <a:ext cx="384480" cy="480600"/>
              <a:chOff x="6777720" y="4519440"/>
              <a:chExt cx="384480" cy="480600"/>
            </a:xfrm>
          </p:grpSpPr>
          <p:sp>
            <p:nvSpPr>
              <p:cNvPr id="383" name=""/>
              <p:cNvSpPr/>
              <p:nvPr/>
            </p:nvSpPr>
            <p:spPr>
              <a:xfrm>
                <a:off x="6777720" y="45403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7086240" y="4646520"/>
                <a:ext cx="75960" cy="228600"/>
                <a:chOff x="7086240" y="4646520"/>
                <a:chExt cx="75960" cy="2286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7086240" y="46465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086240" y="4799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819840" y="4519440"/>
                <a:ext cx="227880" cy="76320"/>
                <a:chOff x="6819840" y="4519440"/>
                <a:chExt cx="227880" cy="76320"/>
              </a:xfrm>
            </p:grpSpPr>
            <p:sp>
              <p:nvSpPr>
                <p:cNvPr id="388" name=""/>
                <p:cNvSpPr/>
                <p:nvPr/>
              </p:nvSpPr>
              <p:spPr>
                <a:xfrm rot="5400000">
                  <a:off x="6971400" y="45194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5400000">
                  <a:off x="6819480" y="45198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819840" y="4913280"/>
                <a:ext cx="227880" cy="76320"/>
                <a:chOff x="6819840" y="4913280"/>
                <a:chExt cx="227880" cy="76320"/>
              </a:xfrm>
            </p:grpSpPr>
            <p:sp>
              <p:nvSpPr>
                <p:cNvPr id="391" name=""/>
                <p:cNvSpPr/>
                <p:nvPr/>
              </p:nvSpPr>
              <p:spPr>
                <a:xfrm rot="5400000">
                  <a:off x="6971400" y="4913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5400000">
                  <a:off x="6819480" y="491364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>
              <a:off x="6323040" y="4754520"/>
              <a:ext cx="457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367920" y="3716280"/>
            <a:ext cx="32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F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25280" y="4267080"/>
            <a:ext cx="9020520" cy="2057400"/>
            <a:chOff x="125280" y="4267080"/>
            <a:chExt cx="9020520" cy="2057400"/>
          </a:xfrm>
        </p:grpSpPr>
        <p:grpSp>
          <p:nvGrpSpPr>
            <p:cNvPr id="396" name=""/>
            <p:cNvGrpSpPr/>
            <p:nvPr/>
          </p:nvGrpSpPr>
          <p:grpSpPr>
            <a:xfrm>
              <a:off x="7010280" y="4267080"/>
              <a:ext cx="2135520" cy="1015920"/>
              <a:chOff x="7010280" y="4267080"/>
              <a:chExt cx="2135520" cy="101592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7010280" y="4267080"/>
                <a:ext cx="838440" cy="1015920"/>
                <a:chOff x="7010280" y="4267080"/>
                <a:chExt cx="838440" cy="1015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7010280" y="426708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V="1">
                  <a:off x="7010280" y="48639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238880" y="476244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"/>
              <p:cNvSpPr/>
              <p:nvPr/>
            </p:nvSpPr>
            <p:spPr>
              <a:xfrm>
                <a:off x="7786800" y="45655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3998880" y="4267080"/>
              <a:ext cx="2097000" cy="1015920"/>
              <a:chOff x="3998880" y="4267080"/>
              <a:chExt cx="2097000" cy="101592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5257800" y="4267080"/>
                <a:ext cx="838080" cy="1015920"/>
                <a:chOff x="5257800" y="4267080"/>
                <a:chExt cx="838080" cy="1015920"/>
              </a:xfrm>
            </p:grpSpPr>
            <p:sp>
              <p:nvSpPr>
                <p:cNvPr id="404" name=""/>
                <p:cNvSpPr/>
                <p:nvPr/>
              </p:nvSpPr>
              <p:spPr>
                <a:xfrm flipH="1">
                  <a:off x="5257800" y="426708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 flipV="1">
                  <a:off x="5257800" y="486396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5258160" y="4762440"/>
                  <a:ext cx="60948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3998880" y="45529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701800" y="5308560"/>
              <a:ext cx="2135520" cy="1015920"/>
              <a:chOff x="2701800" y="5308560"/>
              <a:chExt cx="2135520" cy="1015920"/>
            </a:xfrm>
          </p:grpSpPr>
          <p:sp>
            <p:nvSpPr>
              <p:cNvPr id="409" name=""/>
              <p:cNvSpPr/>
              <p:nvPr/>
            </p:nvSpPr>
            <p:spPr>
              <a:xfrm>
                <a:off x="2701800" y="530856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2701800" y="590544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930400" y="5803920"/>
                <a:ext cx="6098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478320" y="56167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25280" y="5308560"/>
              <a:ext cx="2093760" cy="1015920"/>
              <a:chOff x="125280" y="5308560"/>
              <a:chExt cx="2093760" cy="101592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1380600" y="5308560"/>
                <a:ext cx="838440" cy="1015920"/>
                <a:chOff x="1380600" y="5308560"/>
                <a:chExt cx="838440" cy="1015920"/>
              </a:xfrm>
            </p:grpSpPr>
            <p:sp>
              <p:nvSpPr>
                <p:cNvPr id="415" name=""/>
                <p:cNvSpPr/>
                <p:nvPr/>
              </p:nvSpPr>
              <p:spPr>
                <a:xfrm flipH="1">
                  <a:off x="1380240" y="53085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 flipV="1">
                  <a:off x="1380240" y="590544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>
                  <a:off x="1380600" y="580392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>
                <a:off x="125280" y="561960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1105920" y="4654440"/>
            <a:ext cx="2652480" cy="1365480"/>
            <a:chOff x="1105920" y="4654440"/>
            <a:chExt cx="2652480" cy="1365480"/>
          </a:xfrm>
        </p:grpSpPr>
        <p:sp>
          <p:nvSpPr>
            <p:cNvPr id="420" name=""/>
            <p:cNvSpPr/>
            <p:nvPr/>
          </p:nvSpPr>
          <p:spPr>
            <a:xfrm>
              <a:off x="2336760" y="5562720"/>
              <a:ext cx="152280" cy="45720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05920" y="46544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13080" y="5029200"/>
              <a:ext cx="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208120" y="4876560"/>
            <a:ext cx="2652480" cy="862560"/>
            <a:chOff x="5208120" y="4876560"/>
            <a:chExt cx="2652480" cy="862560"/>
          </a:xfrm>
        </p:grpSpPr>
        <p:sp>
          <p:nvSpPr>
            <p:cNvPr id="424" name=""/>
            <p:cNvSpPr/>
            <p:nvPr/>
          </p:nvSpPr>
          <p:spPr>
            <a:xfrm>
              <a:off x="5208120" y="53402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6527880" y="4876560"/>
              <a:ext cx="0" cy="5331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32000" y="339840"/>
            <a:ext cx="52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4 The Co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C0CBD-81ED-4EE6-AD66-D2FE4E87EA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68360" y="907920"/>
            <a:ext cx="8424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wo shared electrons → one (single) 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Four shared electrons → two (double) covalent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Comic Sans MS"/>
              </a:rPr>
              <a:t>Six shared electrons → three (triple) covalent bo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A8CDB-2936-419D-9F91-9B41A11A97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4851360" y="1117440"/>
            <a:ext cx="685800" cy="1164600"/>
            <a:chOff x="4851360" y="1117440"/>
            <a:chExt cx="685800" cy="1164600"/>
          </a:xfrm>
        </p:grpSpPr>
        <p:sp>
          <p:nvSpPr>
            <p:cNvPr id="429" name=""/>
            <p:cNvSpPr/>
            <p:nvPr/>
          </p:nvSpPr>
          <p:spPr>
            <a:xfrm>
              <a:off x="4851360" y="11174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03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824400" y="1239840"/>
            <a:ext cx="431280" cy="459720"/>
            <a:chOff x="824400" y="1239840"/>
            <a:chExt cx="431280" cy="459720"/>
          </a:xfrm>
        </p:grpSpPr>
        <p:sp>
          <p:nvSpPr>
            <p:cNvPr id="432" name=""/>
            <p:cNvSpPr/>
            <p:nvPr/>
          </p:nvSpPr>
          <p:spPr>
            <a:xfrm>
              <a:off x="824400" y="1239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179360" y="13460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859120" y="1238400"/>
            <a:ext cx="430920" cy="459720"/>
            <a:chOff x="2859120" y="1238400"/>
            <a:chExt cx="430920" cy="459720"/>
          </a:xfrm>
        </p:grpSpPr>
        <p:sp>
          <p:nvSpPr>
            <p:cNvPr id="435" name=""/>
            <p:cNvSpPr/>
            <p:nvPr/>
          </p:nvSpPr>
          <p:spPr>
            <a:xfrm>
              <a:off x="2883600" y="12384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59120" y="1486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828800" y="1219320"/>
            <a:ext cx="444600" cy="480240"/>
            <a:chOff x="1828800" y="1219320"/>
            <a:chExt cx="444600" cy="480240"/>
          </a:xfrm>
        </p:grpSpPr>
        <p:sp>
          <p:nvSpPr>
            <p:cNvPr id="438" name=""/>
            <p:cNvSpPr/>
            <p:nvPr/>
          </p:nvSpPr>
          <p:spPr>
            <a:xfrm>
              <a:off x="1848960" y="1239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28800" y="14983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97080" y="13460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1930320" y="1219320"/>
              <a:ext cx="228600" cy="75960"/>
              <a:chOff x="1930320" y="1219320"/>
              <a:chExt cx="228600" cy="75960"/>
            </a:xfrm>
          </p:grpSpPr>
          <p:sp>
            <p:nvSpPr>
              <p:cNvPr id="442" name=""/>
              <p:cNvSpPr/>
              <p:nvPr/>
            </p:nvSpPr>
            <p:spPr>
              <a:xfrm rot="5400000">
                <a:off x="2082600" y="1218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5400000">
                <a:off x="1930320" y="1219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1930320" y="1612800"/>
              <a:ext cx="228600" cy="75960"/>
              <a:chOff x="1930320" y="1612800"/>
              <a:chExt cx="228600" cy="75960"/>
            </a:xfrm>
          </p:grpSpPr>
          <p:sp>
            <p:nvSpPr>
              <p:cNvPr id="445" name=""/>
              <p:cNvSpPr/>
              <p:nvPr/>
            </p:nvSpPr>
            <p:spPr>
              <a:xfrm rot="5400000">
                <a:off x="2082600" y="16124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5400000">
                <a:off x="1930320" y="16128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>
            <a:off x="135612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7240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441600" y="14605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634640" y="1219320"/>
            <a:ext cx="3671280" cy="480240"/>
            <a:chOff x="4634640" y="1219320"/>
            <a:chExt cx="3671280" cy="480240"/>
          </a:xfrm>
        </p:grpSpPr>
        <p:grpSp>
          <p:nvGrpSpPr>
            <p:cNvPr id="451" name=""/>
            <p:cNvGrpSpPr/>
            <p:nvPr/>
          </p:nvGrpSpPr>
          <p:grpSpPr>
            <a:xfrm>
              <a:off x="4634640" y="1219320"/>
              <a:ext cx="1144080" cy="480240"/>
              <a:chOff x="4634640" y="1219320"/>
              <a:chExt cx="1144080" cy="48024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4978080" y="1219320"/>
                <a:ext cx="443880" cy="480240"/>
                <a:chOff x="4978080" y="1219320"/>
                <a:chExt cx="443880" cy="4802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997520" y="12398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4978080" y="1346040"/>
                  <a:ext cx="75960" cy="228600"/>
                  <a:chOff x="4978080" y="1346040"/>
                  <a:chExt cx="75960" cy="22860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>
                    <a:off x="4978080" y="1346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978080" y="1498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7" name=""/>
                <p:cNvSpPr/>
                <p:nvPr/>
              </p:nvSpPr>
              <p:spPr>
                <a:xfrm>
                  <a:off x="5346000" y="1346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5079600" y="1219320"/>
                  <a:ext cx="227880" cy="75960"/>
                  <a:chOff x="5079600" y="1219320"/>
                  <a:chExt cx="227880" cy="7596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5400000">
                    <a:off x="5231520" y="1219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5400000">
                    <a:off x="5079240" y="1219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079600" y="1612800"/>
                  <a:ext cx="227880" cy="76320"/>
                  <a:chOff x="5079600" y="1612800"/>
                  <a:chExt cx="227880" cy="7632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5400000">
                    <a:off x="5231160" y="1612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5400000">
                    <a:off x="5079240" y="1613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4" name=""/>
              <p:cNvSpPr/>
              <p:nvPr/>
            </p:nvSpPr>
            <p:spPr>
              <a:xfrm>
                <a:off x="5346360" y="14986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63464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3722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6793200" y="1219320"/>
              <a:ext cx="1512720" cy="480240"/>
              <a:chOff x="6793200" y="1219320"/>
              <a:chExt cx="1512720" cy="480240"/>
            </a:xfrm>
          </p:grpSpPr>
          <p:sp>
            <p:nvSpPr>
              <p:cNvPr id="468" name=""/>
              <p:cNvSpPr/>
              <p:nvPr/>
            </p:nvSpPr>
            <p:spPr>
              <a:xfrm>
                <a:off x="7334640" y="12398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7416720" y="1219320"/>
                <a:ext cx="227880" cy="75960"/>
                <a:chOff x="7416720" y="1219320"/>
                <a:chExt cx="227880" cy="75960"/>
              </a:xfrm>
            </p:grpSpPr>
            <p:sp>
              <p:nvSpPr>
                <p:cNvPr id="470" name=""/>
                <p:cNvSpPr/>
                <p:nvPr/>
              </p:nvSpPr>
              <p:spPr>
                <a:xfrm rot="5400000">
                  <a:off x="7568640" y="1219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5400000">
                  <a:off x="7416360" y="121932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416720" y="1612800"/>
                <a:ext cx="227880" cy="76320"/>
                <a:chOff x="7416720" y="1612800"/>
                <a:chExt cx="227880" cy="76320"/>
              </a:xfrm>
            </p:grpSpPr>
            <p:sp>
              <p:nvSpPr>
                <p:cNvPr id="473" name=""/>
                <p:cNvSpPr/>
                <p:nvPr/>
              </p:nvSpPr>
              <p:spPr>
                <a:xfrm rot="5400000">
                  <a:off x="7568280" y="1612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5400000">
                  <a:off x="7416360" y="16131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7682760" y="1460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98840" y="1460520"/>
                <a:ext cx="30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8994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9320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6064920" y="1238400"/>
              <a:ext cx="49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563720" y="1130400"/>
            <a:ext cx="583200" cy="1151640"/>
            <a:chOff x="4563720" y="1130400"/>
            <a:chExt cx="583200" cy="1151640"/>
          </a:xfrm>
        </p:grpSpPr>
        <p:sp>
          <p:nvSpPr>
            <p:cNvPr id="481" name=""/>
            <p:cNvSpPr/>
            <p:nvPr/>
          </p:nvSpPr>
          <p:spPr>
            <a:xfrm>
              <a:off x="463536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6372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254200" y="1130400"/>
            <a:ext cx="583200" cy="1151640"/>
            <a:chOff x="5254200" y="1130400"/>
            <a:chExt cx="583200" cy="1151640"/>
          </a:xfrm>
        </p:grpSpPr>
        <p:sp>
          <p:nvSpPr>
            <p:cNvPr id="484" name=""/>
            <p:cNvSpPr/>
            <p:nvPr/>
          </p:nvSpPr>
          <p:spPr>
            <a:xfrm>
              <a:off x="532584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4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97040" y="49068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34680" y="2700360"/>
            <a:ext cx="78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uble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wo atoms share two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162840" y="603360"/>
            <a:ext cx="2774520" cy="755640"/>
            <a:chOff x="6162840" y="603360"/>
            <a:chExt cx="2774520" cy="755640"/>
          </a:xfrm>
        </p:grpSpPr>
        <p:sp>
          <p:nvSpPr>
            <p:cNvPr id="489" name=""/>
            <p:cNvSpPr/>
            <p:nvPr/>
          </p:nvSpPr>
          <p:spPr>
            <a:xfrm>
              <a:off x="6162840" y="603360"/>
              <a:ext cx="277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88120" y="901800"/>
              <a:ext cx="26604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7607160" y="901800"/>
              <a:ext cx="26640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395080" y="3492360"/>
            <a:ext cx="1405080" cy="491400"/>
            <a:chOff x="2395080" y="3492360"/>
            <a:chExt cx="1405080" cy="491400"/>
          </a:xfrm>
        </p:grpSpPr>
        <p:sp>
          <p:nvSpPr>
            <p:cNvPr id="493" name=""/>
            <p:cNvSpPr/>
            <p:nvPr/>
          </p:nvSpPr>
          <p:spPr>
            <a:xfrm>
              <a:off x="239508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4320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2476080" y="3492360"/>
              <a:ext cx="228600" cy="75960"/>
              <a:chOff x="2476080" y="3492360"/>
              <a:chExt cx="228600" cy="75960"/>
            </a:xfrm>
          </p:grpSpPr>
          <p:sp>
            <p:nvSpPr>
              <p:cNvPr id="497" name=""/>
              <p:cNvSpPr/>
              <p:nvPr/>
            </p:nvSpPr>
            <p:spPr>
              <a:xfrm rot="5400000">
                <a:off x="2628360" y="3492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5400000">
                <a:off x="2476080" y="3492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2476080" y="3885840"/>
              <a:ext cx="228600" cy="76320"/>
              <a:chOff x="2476080" y="3885840"/>
              <a:chExt cx="228600" cy="76320"/>
            </a:xfrm>
          </p:grpSpPr>
          <p:sp>
            <p:nvSpPr>
              <p:cNvPr id="500" name=""/>
              <p:cNvSpPr/>
              <p:nvPr/>
            </p:nvSpPr>
            <p:spPr>
              <a:xfrm rot="5400000">
                <a:off x="2628360" y="38858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5400000">
                <a:off x="2475720" y="38858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288288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8288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12400" y="3524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3317400" y="3492360"/>
              <a:ext cx="482760" cy="480240"/>
              <a:chOff x="3317400" y="3492360"/>
              <a:chExt cx="482760" cy="480240"/>
            </a:xfrm>
          </p:grpSpPr>
          <p:sp>
            <p:nvSpPr>
              <p:cNvPr id="506" name=""/>
              <p:cNvSpPr/>
              <p:nvPr/>
            </p:nvSpPr>
            <p:spPr>
              <a:xfrm>
                <a:off x="331884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45708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45708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3571560" y="3492360"/>
                <a:ext cx="228600" cy="76320"/>
                <a:chOff x="3571560" y="3492360"/>
                <a:chExt cx="228600" cy="76320"/>
              </a:xfrm>
            </p:grpSpPr>
            <p:sp>
              <p:nvSpPr>
                <p:cNvPr id="510" name=""/>
                <p:cNvSpPr/>
                <p:nvPr/>
              </p:nvSpPr>
              <p:spPr>
                <a:xfrm rot="5400000">
                  <a:off x="3723840" y="3492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5400000">
                  <a:off x="3571200" y="34923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571560" y="3886200"/>
                <a:ext cx="228600" cy="75960"/>
                <a:chOff x="3571560" y="3886200"/>
                <a:chExt cx="228600" cy="75960"/>
              </a:xfrm>
            </p:grpSpPr>
            <p:sp>
              <p:nvSpPr>
                <p:cNvPr id="513" name=""/>
                <p:cNvSpPr/>
                <p:nvPr/>
              </p:nvSpPr>
              <p:spPr>
                <a:xfrm rot="5400000">
                  <a:off x="3723840" y="38858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5400000">
                  <a:off x="3571560" y="38862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" name=""/>
              <p:cNvSpPr/>
              <p:nvPr/>
            </p:nvSpPr>
            <p:spPr>
              <a:xfrm>
                <a:off x="331740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31740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7" name=""/>
          <p:cNvSpPr/>
          <p:nvPr/>
        </p:nvSpPr>
        <p:spPr>
          <a:xfrm>
            <a:off x="4534920" y="35114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5765400" y="3498840"/>
            <a:ext cx="1897560" cy="478800"/>
            <a:chOff x="5765400" y="3498840"/>
            <a:chExt cx="1897560" cy="478800"/>
          </a:xfrm>
        </p:grpSpPr>
        <p:sp>
          <p:nvSpPr>
            <p:cNvPr id="519" name=""/>
            <p:cNvSpPr/>
            <p:nvPr/>
          </p:nvSpPr>
          <p:spPr>
            <a:xfrm>
              <a:off x="576540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5846400" y="3498840"/>
              <a:ext cx="228600" cy="469800"/>
              <a:chOff x="5846400" y="3498840"/>
              <a:chExt cx="228600" cy="46980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5846400" y="3498840"/>
                <a:ext cx="228600" cy="75960"/>
                <a:chOff x="5846400" y="3498840"/>
                <a:chExt cx="228600" cy="75960"/>
              </a:xfrm>
            </p:grpSpPr>
            <p:sp>
              <p:nvSpPr>
                <p:cNvPr id="522" name=""/>
                <p:cNvSpPr/>
                <p:nvPr/>
              </p:nvSpPr>
              <p:spPr>
                <a:xfrm rot="5400000">
                  <a:off x="5998680" y="3498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5400000">
                  <a:off x="5846400" y="3498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46400" y="3892320"/>
                <a:ext cx="228600" cy="76320"/>
                <a:chOff x="5846400" y="3892320"/>
                <a:chExt cx="228600" cy="76320"/>
              </a:xfrm>
            </p:grpSpPr>
            <p:sp>
              <p:nvSpPr>
                <p:cNvPr id="525" name=""/>
                <p:cNvSpPr/>
                <p:nvPr/>
              </p:nvSpPr>
              <p:spPr>
                <a:xfrm rot="5400000">
                  <a:off x="5998680" y="38923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5400000">
                  <a:off x="5846040" y="3892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7" name=""/>
            <p:cNvGrpSpPr/>
            <p:nvPr/>
          </p:nvGrpSpPr>
          <p:grpSpPr>
            <a:xfrm>
              <a:off x="6184800" y="3695400"/>
              <a:ext cx="381240" cy="76320"/>
              <a:chOff x="6184800" y="3695400"/>
              <a:chExt cx="381240" cy="76320"/>
            </a:xfrm>
          </p:grpSpPr>
          <p:sp>
            <p:nvSpPr>
              <p:cNvPr id="528" name=""/>
              <p:cNvSpPr/>
              <p:nvPr/>
            </p:nvSpPr>
            <p:spPr>
              <a:xfrm>
                <a:off x="6184800" y="369540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184800" y="37717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6532200" y="3517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6942960" y="3498840"/>
              <a:ext cx="720000" cy="473760"/>
              <a:chOff x="6942960" y="3498840"/>
              <a:chExt cx="720000" cy="473760"/>
            </a:xfrm>
          </p:grpSpPr>
          <p:sp>
            <p:nvSpPr>
              <p:cNvPr id="532" name=""/>
              <p:cNvSpPr/>
              <p:nvPr/>
            </p:nvSpPr>
            <p:spPr>
              <a:xfrm flipH="1">
                <a:off x="694296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7434360" y="3498840"/>
                <a:ext cx="228600" cy="469800"/>
                <a:chOff x="7434360" y="3498840"/>
                <a:chExt cx="228600" cy="469800"/>
              </a:xfrm>
            </p:grpSpPr>
            <p:grpSp>
              <p:nvGrpSpPr>
                <p:cNvPr id="534" name=""/>
                <p:cNvGrpSpPr/>
                <p:nvPr/>
              </p:nvGrpSpPr>
              <p:grpSpPr>
                <a:xfrm>
                  <a:off x="7434360" y="3498840"/>
                  <a:ext cx="228600" cy="75960"/>
                  <a:chOff x="7434360" y="3498840"/>
                  <a:chExt cx="228600" cy="7596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flipH="1" rot="16200000">
                    <a:off x="7434360" y="349848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rot="16200000">
                    <a:off x="7586640" y="3498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7434360" y="3892320"/>
                  <a:ext cx="228600" cy="76320"/>
                  <a:chOff x="7434360" y="3892320"/>
                  <a:chExt cx="228600" cy="7632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H="1" rot="16200000">
                    <a:off x="7434360" y="389232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 rot="16200000">
                    <a:off x="7586280" y="3892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0" name=""/>
              <p:cNvGrpSpPr/>
              <p:nvPr/>
            </p:nvGrpSpPr>
            <p:grpSpPr>
              <a:xfrm>
                <a:off x="6943320" y="3695400"/>
                <a:ext cx="380880" cy="75960"/>
                <a:chOff x="6943320" y="3695400"/>
                <a:chExt cx="380880" cy="75960"/>
              </a:xfrm>
            </p:grpSpPr>
            <p:sp>
              <p:nvSpPr>
                <p:cNvPr id="541" name=""/>
                <p:cNvSpPr/>
                <p:nvPr/>
              </p:nvSpPr>
              <p:spPr>
                <a:xfrm flipH="1">
                  <a:off x="6943320" y="36954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6943320" y="377136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43" name=""/>
          <p:cNvGrpSpPr/>
          <p:nvPr/>
        </p:nvGrpSpPr>
        <p:grpSpPr>
          <a:xfrm>
            <a:off x="2336760" y="3416400"/>
            <a:ext cx="685800" cy="1151640"/>
            <a:chOff x="2336760" y="3416400"/>
            <a:chExt cx="685800" cy="1151640"/>
          </a:xfrm>
        </p:grpSpPr>
        <p:sp>
          <p:nvSpPr>
            <p:cNvPr id="544" name=""/>
            <p:cNvSpPr/>
            <p:nvPr/>
          </p:nvSpPr>
          <p:spPr>
            <a:xfrm>
              <a:off x="233676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8896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200400" y="3416400"/>
            <a:ext cx="685800" cy="1151640"/>
            <a:chOff x="3200400" y="3416400"/>
            <a:chExt cx="685800" cy="1151640"/>
          </a:xfrm>
        </p:grpSpPr>
        <p:sp>
          <p:nvSpPr>
            <p:cNvPr id="547" name=""/>
            <p:cNvSpPr/>
            <p:nvPr/>
          </p:nvSpPr>
          <p:spPr>
            <a:xfrm>
              <a:off x="320040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5260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717640" y="3416400"/>
            <a:ext cx="761760" cy="1151640"/>
            <a:chOff x="2717640" y="3416400"/>
            <a:chExt cx="761760" cy="1151640"/>
          </a:xfrm>
        </p:grpSpPr>
        <p:sp>
          <p:nvSpPr>
            <p:cNvPr id="550" name=""/>
            <p:cNvSpPr/>
            <p:nvPr/>
          </p:nvSpPr>
          <p:spPr>
            <a:xfrm>
              <a:off x="2717640" y="3416400"/>
              <a:ext cx="76176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1088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2164320" y="3492360"/>
            <a:ext cx="1826640" cy="1074960"/>
            <a:chOff x="2164320" y="3492360"/>
            <a:chExt cx="1826640" cy="1074960"/>
          </a:xfrm>
        </p:grpSpPr>
        <p:sp>
          <p:nvSpPr>
            <p:cNvPr id="553" name=""/>
            <p:cNvSpPr/>
            <p:nvPr/>
          </p:nvSpPr>
          <p:spPr>
            <a:xfrm>
              <a:off x="265428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4964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64320" y="416844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5796360" y="3873240"/>
            <a:ext cx="1826640" cy="583560"/>
            <a:chOff x="5796360" y="3873240"/>
            <a:chExt cx="1826640" cy="583560"/>
          </a:xfrm>
        </p:grpSpPr>
        <p:sp>
          <p:nvSpPr>
            <p:cNvPr id="557" name=""/>
            <p:cNvSpPr/>
            <p:nvPr/>
          </p:nvSpPr>
          <p:spPr>
            <a:xfrm flipH="1" flipV="1">
              <a:off x="638784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676872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796360" y="405792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725040" y="4718160"/>
            <a:ext cx="81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ple bon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wo atoms share three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336760" y="5479920"/>
            <a:ext cx="1095840" cy="461160"/>
            <a:chOff x="2336760" y="5479920"/>
            <a:chExt cx="1095840" cy="461160"/>
          </a:xfrm>
        </p:grpSpPr>
        <p:grpSp>
          <p:nvGrpSpPr>
            <p:cNvPr id="562" name=""/>
            <p:cNvGrpSpPr/>
            <p:nvPr/>
          </p:nvGrpSpPr>
          <p:grpSpPr>
            <a:xfrm>
              <a:off x="2360160" y="5479920"/>
              <a:ext cx="1072440" cy="461160"/>
              <a:chOff x="2360160" y="5479920"/>
              <a:chExt cx="1072440" cy="461160"/>
            </a:xfrm>
          </p:grpSpPr>
          <p:sp>
            <p:nvSpPr>
              <p:cNvPr id="563" name=""/>
              <p:cNvSpPr/>
              <p:nvPr/>
            </p:nvSpPr>
            <p:spPr>
              <a:xfrm>
                <a:off x="2360160" y="548136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2718000" y="5587560"/>
                <a:ext cx="355320" cy="227880"/>
                <a:chOff x="2718000" y="5587560"/>
                <a:chExt cx="355320" cy="227880"/>
              </a:xfrm>
            </p:grpSpPr>
            <p:grpSp>
              <p:nvGrpSpPr>
                <p:cNvPr id="565" name=""/>
                <p:cNvGrpSpPr/>
                <p:nvPr/>
              </p:nvGrpSpPr>
              <p:grpSpPr>
                <a:xfrm>
                  <a:off x="2718000" y="5587560"/>
                  <a:ext cx="75960" cy="227880"/>
                  <a:chOff x="2718000" y="5587560"/>
                  <a:chExt cx="75960" cy="22788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271800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271800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2857680" y="5587560"/>
                  <a:ext cx="75960" cy="227880"/>
                  <a:chOff x="2857680" y="5587560"/>
                  <a:chExt cx="75960" cy="22788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>
                    <a:off x="285768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85768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1" name=""/>
                <p:cNvGrpSpPr/>
                <p:nvPr/>
              </p:nvGrpSpPr>
              <p:grpSpPr>
                <a:xfrm>
                  <a:off x="2997360" y="5587560"/>
                  <a:ext cx="75960" cy="227880"/>
                  <a:chOff x="2997360" y="5587560"/>
                  <a:chExt cx="75960" cy="22788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>
                    <a:off x="299736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299736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4" name=""/>
              <p:cNvSpPr/>
              <p:nvPr/>
            </p:nvSpPr>
            <p:spPr>
              <a:xfrm>
                <a:off x="3020400" y="547992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3340080" y="5587920"/>
              <a:ext cx="76320" cy="228600"/>
              <a:chOff x="3340080" y="5587920"/>
              <a:chExt cx="76320" cy="228600"/>
            </a:xfrm>
          </p:grpSpPr>
          <p:sp>
            <p:nvSpPr>
              <p:cNvPr id="576" name=""/>
              <p:cNvSpPr/>
              <p:nvPr/>
            </p:nvSpPr>
            <p:spPr>
              <a:xfrm>
                <a:off x="334008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34008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336760" y="5587920"/>
              <a:ext cx="76320" cy="228600"/>
              <a:chOff x="2336760" y="5587920"/>
              <a:chExt cx="76320" cy="228600"/>
            </a:xfrm>
          </p:grpSpPr>
          <p:sp>
            <p:nvSpPr>
              <p:cNvPr id="579" name=""/>
              <p:cNvSpPr/>
              <p:nvPr/>
            </p:nvSpPr>
            <p:spPr>
              <a:xfrm>
                <a:off x="233676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3676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"/>
          <p:cNvGrpSpPr/>
          <p:nvPr/>
        </p:nvGrpSpPr>
        <p:grpSpPr>
          <a:xfrm>
            <a:off x="2197080" y="5511960"/>
            <a:ext cx="990720" cy="847080"/>
            <a:chOff x="2197080" y="5511960"/>
            <a:chExt cx="990720" cy="847080"/>
          </a:xfrm>
        </p:grpSpPr>
        <p:sp>
          <p:nvSpPr>
            <p:cNvPr id="582" name=""/>
            <p:cNvSpPr/>
            <p:nvPr/>
          </p:nvSpPr>
          <p:spPr>
            <a:xfrm>
              <a:off x="219708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40156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577960" y="5511960"/>
            <a:ext cx="990720" cy="847080"/>
            <a:chOff x="2577960" y="5511960"/>
            <a:chExt cx="990720" cy="847080"/>
          </a:xfrm>
        </p:grpSpPr>
        <p:sp>
          <p:nvSpPr>
            <p:cNvPr id="585" name=""/>
            <p:cNvSpPr/>
            <p:nvPr/>
          </p:nvSpPr>
          <p:spPr>
            <a:xfrm>
              <a:off x="257796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8244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6146640" y="5479920"/>
            <a:ext cx="1159200" cy="461160"/>
            <a:chOff x="6146640" y="5479920"/>
            <a:chExt cx="1159200" cy="461160"/>
          </a:xfrm>
        </p:grpSpPr>
        <p:sp>
          <p:nvSpPr>
            <p:cNvPr id="588" name=""/>
            <p:cNvSpPr/>
            <p:nvPr/>
          </p:nvSpPr>
          <p:spPr>
            <a:xfrm>
              <a:off x="6169680" y="548136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93640" y="547992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13320" y="55879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13320" y="574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46640" y="5587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46640" y="5740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27520" y="562572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27520" y="570204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27520" y="577836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983200" y="5854320"/>
            <a:ext cx="1499040" cy="697680"/>
            <a:chOff x="5983200" y="5854320"/>
            <a:chExt cx="1499040" cy="697680"/>
          </a:xfrm>
        </p:grpSpPr>
        <p:sp>
          <p:nvSpPr>
            <p:cNvPr id="598" name=""/>
            <p:cNvSpPr/>
            <p:nvPr/>
          </p:nvSpPr>
          <p:spPr>
            <a:xfrm flipV="1">
              <a:off x="6730920" y="585432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983200" y="615312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135160" y="5511960"/>
            <a:ext cx="1499040" cy="824400"/>
            <a:chOff x="2135160" y="5511960"/>
            <a:chExt cx="1499040" cy="824400"/>
          </a:xfrm>
        </p:grpSpPr>
        <p:sp>
          <p:nvSpPr>
            <p:cNvPr id="601" name=""/>
            <p:cNvSpPr/>
            <p:nvPr/>
          </p:nvSpPr>
          <p:spPr>
            <a:xfrm>
              <a:off x="2629080" y="551196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35160" y="593748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4541400" y="54799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06A4A-A469-4BDA-B97E-D966C518E7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250920" y="2193840"/>
            <a:ext cx="5486400" cy="3584520"/>
            <a:chOff x="250920" y="2193840"/>
            <a:chExt cx="5486400" cy="3584520"/>
          </a:xfrm>
        </p:grpSpPr>
        <p:pic>
          <p:nvPicPr>
            <p:cNvPr id="605" name="" descr=""/>
            <p:cNvPicPr/>
            <p:nvPr/>
          </p:nvPicPr>
          <p:blipFill>
            <a:blip r:embed="rId1"/>
            <a:stretch/>
          </p:blipFill>
          <p:spPr>
            <a:xfrm>
              <a:off x="250920" y="2193840"/>
              <a:ext cx="5486400" cy="35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1465920" y="3777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06280" y="3740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6879240" y="2930400"/>
            <a:ext cx="1053360" cy="491400"/>
            <a:chOff x="6879240" y="2930400"/>
            <a:chExt cx="1053360" cy="491400"/>
          </a:xfrm>
        </p:grpSpPr>
        <p:sp>
          <p:nvSpPr>
            <p:cNvPr id="609" name=""/>
            <p:cNvSpPr/>
            <p:nvPr/>
          </p:nvSpPr>
          <p:spPr>
            <a:xfrm>
              <a:off x="7547760" y="2950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7856280" y="3057120"/>
              <a:ext cx="76320" cy="228600"/>
              <a:chOff x="7856280" y="3057120"/>
              <a:chExt cx="76320" cy="228600"/>
            </a:xfrm>
          </p:grpSpPr>
          <p:sp>
            <p:nvSpPr>
              <p:cNvPr id="611" name=""/>
              <p:cNvSpPr/>
              <p:nvPr/>
            </p:nvSpPr>
            <p:spPr>
              <a:xfrm>
                <a:off x="7856280" y="30571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856280" y="32097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7589520" y="2930400"/>
              <a:ext cx="228600" cy="75960"/>
              <a:chOff x="7589520" y="2930400"/>
              <a:chExt cx="228600" cy="75960"/>
            </a:xfrm>
          </p:grpSpPr>
          <p:sp>
            <p:nvSpPr>
              <p:cNvPr id="614" name=""/>
              <p:cNvSpPr/>
              <p:nvPr/>
            </p:nvSpPr>
            <p:spPr>
              <a:xfrm rot="5400000">
                <a:off x="7741800" y="29300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5400000">
                <a:off x="7589520" y="2930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7589520" y="3323880"/>
              <a:ext cx="228600" cy="76320"/>
              <a:chOff x="7589520" y="3323880"/>
              <a:chExt cx="228600" cy="76320"/>
            </a:xfrm>
          </p:grpSpPr>
          <p:sp>
            <p:nvSpPr>
              <p:cNvPr id="617" name=""/>
              <p:cNvSpPr/>
              <p:nvPr/>
            </p:nvSpPr>
            <p:spPr>
              <a:xfrm rot="5400000">
                <a:off x="7741800" y="33238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5400000">
                <a:off x="7589160" y="33238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6879240" y="2962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21240" y="31716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49200" y="357120"/>
            <a:ext cx="889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covalent bo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ovalent bond with greater electron density around one of the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076560" y="2773440"/>
            <a:ext cx="17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electron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4080" y="2925720"/>
            <a:ext cx="189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electron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477560" y="249228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323040" y="249228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9999cc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508720" y="4521240"/>
            <a:ext cx="3671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on-metal-High EN- &amp; non-metal-High EN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lar 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 have High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T: Significant difference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8521E-E32A-4AA9-BEB4-16FE1CD69B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264960" y="40464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.5 Electronegativity: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bility of an atom to attract toward itself the electrons in a chemical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087200" y="1860480"/>
            <a:ext cx="72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 Affin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eas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l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4120" y="3613320"/>
            <a:ext cx="65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egativ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lati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F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046320" y="2690640"/>
            <a:ext cx="3333960" cy="560880"/>
            <a:chOff x="3046320" y="2690640"/>
            <a:chExt cx="3333960" cy="560880"/>
          </a:xfrm>
        </p:grpSpPr>
        <p:sp>
          <p:nvSpPr>
            <p:cNvPr id="631" name=""/>
            <p:cNvSpPr/>
            <p:nvPr/>
          </p:nvSpPr>
          <p:spPr>
            <a:xfrm>
              <a:off x="3046320" y="2690640"/>
              <a:ext cx="33339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 + e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22840" y="291924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2700360" y="4221000"/>
            <a:ext cx="3460680" cy="236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6920D-49BF-440D-BD36-4A5A3D2987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32560" y="595440"/>
            <a:ext cx="874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lectronegativities of Common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250920" y="1866960"/>
            <a:ext cx="8785080" cy="361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42FBE-D8FE-4C94-9067-0ADF0AA210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"/>
          <p:cNvGrpSpPr/>
          <p:nvPr/>
        </p:nvGrpSpPr>
        <p:grpSpPr>
          <a:xfrm>
            <a:off x="660600" y="5299200"/>
            <a:ext cx="1433520" cy="1110600"/>
            <a:chOff x="660600" y="5299200"/>
            <a:chExt cx="1433520" cy="1110600"/>
          </a:xfrm>
        </p:grpSpPr>
        <p:sp>
          <p:nvSpPr>
            <p:cNvPr id="637" name=""/>
            <p:cNvSpPr/>
            <p:nvPr/>
          </p:nvSpPr>
          <p:spPr>
            <a:xfrm>
              <a:off x="660600" y="529920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5160" y="5950080"/>
              <a:ext cx="12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hare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220840" y="5299200"/>
            <a:ext cx="4089240" cy="1055160"/>
            <a:chOff x="2220840" y="5299200"/>
            <a:chExt cx="4089240" cy="1055160"/>
          </a:xfrm>
        </p:grpSpPr>
        <p:sp>
          <p:nvSpPr>
            <p:cNvPr id="640" name=""/>
            <p:cNvSpPr/>
            <p:nvPr/>
          </p:nvSpPr>
          <p:spPr>
            <a:xfrm>
              <a:off x="3547800" y="529920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olar 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86000" y="58946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artial transfer of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2084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031080" y="5299200"/>
            <a:ext cx="2757240" cy="1110600"/>
            <a:chOff x="6031080" y="5299200"/>
            <a:chExt cx="2757240" cy="1110600"/>
          </a:xfrm>
        </p:grpSpPr>
        <p:sp>
          <p:nvSpPr>
            <p:cNvPr id="644" name=""/>
            <p:cNvSpPr/>
            <p:nvPr/>
          </p:nvSpPr>
          <p:spPr>
            <a:xfrm>
              <a:off x="7345080" y="5299200"/>
              <a:ext cx="88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o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53560" y="595008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fer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03108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1611360" y="4346640"/>
            <a:ext cx="6149520" cy="487080"/>
            <a:chOff x="1611360" y="4346640"/>
            <a:chExt cx="6149520" cy="487080"/>
          </a:xfrm>
        </p:grpSpPr>
        <p:sp>
          <p:nvSpPr>
            <p:cNvPr id="648" name=""/>
            <p:cNvSpPr/>
            <p:nvPr/>
          </p:nvSpPr>
          <p:spPr>
            <a:xfrm>
              <a:off x="1611360" y="4833720"/>
              <a:ext cx="601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09640" y="4346640"/>
              <a:ext cx="605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creasing difference in electronega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441360" y="353880"/>
            <a:ext cx="859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lassification of bonds by difference in electroneg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2050920" y="1935000"/>
          <a:ext cx="4968720" cy="2070000"/>
        </p:xfrm>
        <a:graphic>
          <a:graphicData uri="http://schemas.openxmlformats.org/drawingml/2006/table">
            <a:tbl>
              <a:tblPr/>
              <a:tblGrid>
                <a:gridCol w="2341440"/>
                <a:gridCol w="262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iffer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Bon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&lt; and &lt;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ar 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EF7CE-65E3-4D9C-8250-785F1D0738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Content Placeholder 16"/>
          <p:cNvSpPr/>
          <p:nvPr/>
        </p:nvSpPr>
        <p:spPr>
          <a:xfrm>
            <a:off x="179280" y="1127160"/>
            <a:ext cx="40402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HCl = 3 - 2.1 = 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KF = 4 - 0.8 = 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C-C = 2.5 - 2.5 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Content Placeholder 18"/>
          <p:cNvSpPr/>
          <p:nvPr/>
        </p:nvSpPr>
        <p:spPr>
          <a:xfrm>
            <a:off x="4500720" y="530280"/>
            <a:ext cx="4437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 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CsCl = 3 – 1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= 2.5 - 2.1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N-N = 3 - 3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24000" y="5335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2 p37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284720" y="692280"/>
            <a:ext cx="0" cy="616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05C9E-9820-4FB4-9EF4-474CA49938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3060720" y="333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Chemical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16200000">
            <a:off x="4211640" y="-2114280"/>
            <a:ext cx="792000" cy="6840720"/>
          </a:xfrm>
          <a:custGeom>
            <a:avLst/>
            <a:gdLst>
              <a:gd name="textAreaLeft" fmla="*/ 0 w 792000"/>
              <a:gd name="textAreaRight" fmla="*/ 285840 w 792000"/>
              <a:gd name="textAreaTop" fmla="*/ 178200 h 6840720"/>
              <a:gd name="textAreaBottom" fmla="*/ 6662520 h 684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4360" y="17017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012000" y="1701720"/>
            <a:ext cx="29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4000" y="2349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932360" y="2278080"/>
            <a:ext cx="421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Metall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68360" y="2998800"/>
                <a:ext cx="25192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 rot="16200000">
            <a:off x="4823280" y="1017720"/>
            <a:ext cx="863640" cy="6408720"/>
          </a:xfrm>
          <a:custGeom>
            <a:avLst/>
            <a:gdLst>
              <a:gd name="textAreaLeft" fmla="*/ 0 w 863640"/>
              <a:gd name="textAreaRight" fmla="*/ 311760 w 863640"/>
              <a:gd name="textAreaTop" fmla="*/ 167040 h 6408720"/>
              <a:gd name="textAreaBottom" fmla="*/ 6241680 h 64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-36360" y="4654440"/>
            <a:ext cx="43192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on 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ame element: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F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572000" y="465444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Different element:  H-F, H-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755640" y="5662440"/>
                <a:ext cx="244800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5651640" y="5662440"/>
                <a:ext cx="3240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44360" y="6507000"/>
                <a:ext cx="8748720" cy="3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: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rPr>
                        <m:lit/>
                        <m:nor/>
                      </m:rPr>
                      <m:t xml:space="preserve"> is the difference in electronegativety between the two elemntes in the chemical bon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F0D4B-2DE4-41CB-8D27-E8E51E5429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Chemical Bonding I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br>
              <a:rPr sz="36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366-394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400-40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9.16, 9.18, 9.30, 9.36, 9.74, 9.44, 9.46, 9.48, 9.52, 9.56, 9.64, 9.80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12560-C117-4762-A78D-5A723A1524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31640" y="990720"/>
            <a:ext cx="830592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keletal structure of compound showing what atoms are bonded to each other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ut least electronegative element in the cen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t total number of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Add 1 for each negative charge.  Subtract 1 for each positiv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ingle covalent bond between the central atom and each of the surrounding atom, and complete an octet for all the surrounded atoms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xcep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ydrogen. Count and Compare it with the  # of electrons in step 2 if they are identical stop, if it is less add the remaining electrons to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still the central atom has no octet, use  lone pair/s on the one of the surrounded atom to form double or triple bond with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8FC18-500B-4AFE-8357-F679CAD598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431640" y="990720"/>
            <a:ext cx="8305920" cy="67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الهيكل العام . كقاعده عامه ضعي الذره التي لها اقل سالبيه كهربيه في المرك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حسبي  الاكترونا ت الخارجيه. اضيف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سالبه واطرح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موجب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رابطه احاديه بين الذرات المحيطه والذره المركزيه. واكملي القاعده الثمانيه لكل الذرات المحيطه ماعدا الهايدروجين. ثم عدي الالكترونات اذا كانت اقل من الالكترونات المحسوبه في الخطوه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(الكترونات التكافؤ) توضع الاكترونات الزائده على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ذا كانت الذره المركزيه لازالت لاتحتوي على ثمانيه الكترونات نستخدم زوج\ازواج الكترونيه غير رابطه من الذرات المحيطه لتكوين رابطه ثنائيه اوثلاثيه ( حسب الحاجه) مع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A671B-25DE-46CF-9627-15E532EDF9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4133880" y="4805280"/>
            <a:ext cx="3462480" cy="200844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324000" y="404640"/>
            <a:ext cx="8820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3 p38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nitrogen trifluoride (NF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 in which all three F atoms are bonded to the 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6320" y="1725480"/>
            <a:ext cx="68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N is less electronegative than F, put N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959760" y="5207040"/>
            <a:ext cx="1938960" cy="1272600"/>
            <a:chOff x="959760" y="5207040"/>
            <a:chExt cx="1938960" cy="1272600"/>
          </a:xfrm>
        </p:grpSpPr>
        <p:sp>
          <p:nvSpPr>
            <p:cNvPr id="677" name=""/>
            <p:cNvSpPr/>
            <p:nvPr/>
          </p:nvSpPr>
          <p:spPr>
            <a:xfrm>
              <a:off x="95976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13600" y="520704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5960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48520" y="6019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1268280" y="5427720"/>
            <a:ext cx="1295280" cy="621360"/>
            <a:chOff x="1268280" y="5427720"/>
            <a:chExt cx="1295280" cy="621360"/>
          </a:xfrm>
        </p:grpSpPr>
        <p:sp>
          <p:nvSpPr>
            <p:cNvPr id="682" name=""/>
            <p:cNvSpPr/>
            <p:nvPr/>
          </p:nvSpPr>
          <p:spPr>
            <a:xfrm>
              <a:off x="126828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0636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190332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147240" y="2182680"/>
            <a:ext cx="78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N - 5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F - 7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374120" y="2655720"/>
            <a:ext cx="40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+ (3 x 7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-25560" y="3021120"/>
            <a:ext cx="916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N and F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s on F atoms. Use all the e in step 2 (put the remaining 2 e on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933480" y="5175360"/>
            <a:ext cx="1980360" cy="1294920"/>
            <a:chOff x="933480" y="5175360"/>
            <a:chExt cx="1980360" cy="1294920"/>
          </a:xfrm>
        </p:grpSpPr>
        <p:grpSp>
          <p:nvGrpSpPr>
            <p:cNvPr id="689" name=""/>
            <p:cNvGrpSpPr/>
            <p:nvPr/>
          </p:nvGrpSpPr>
          <p:grpSpPr>
            <a:xfrm>
              <a:off x="2622600" y="5175360"/>
              <a:ext cx="227880" cy="75960"/>
              <a:chOff x="2622600" y="5175360"/>
              <a:chExt cx="227880" cy="75960"/>
            </a:xfrm>
          </p:grpSpPr>
          <p:sp>
            <p:nvSpPr>
              <p:cNvPr id="690" name=""/>
              <p:cNvSpPr/>
              <p:nvPr/>
            </p:nvSpPr>
            <p:spPr>
              <a:xfrm rot="5400000">
                <a:off x="27745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5400000">
                <a:off x="262224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37880" y="5328000"/>
              <a:ext cx="75960" cy="227880"/>
              <a:chOff x="2837880" y="5328000"/>
              <a:chExt cx="75960" cy="227880"/>
            </a:xfrm>
          </p:grpSpPr>
          <p:sp>
            <p:nvSpPr>
              <p:cNvPr id="693" name=""/>
              <p:cNvSpPr/>
              <p:nvPr/>
            </p:nvSpPr>
            <p:spPr>
              <a:xfrm rot="10800000">
                <a:off x="283788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0800000">
                <a:off x="283788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622600" y="5594040"/>
              <a:ext cx="227880" cy="75960"/>
              <a:chOff x="2622600" y="5594040"/>
              <a:chExt cx="227880" cy="75960"/>
            </a:xfrm>
          </p:grpSpPr>
          <p:sp>
            <p:nvSpPr>
              <p:cNvPr id="696" name=""/>
              <p:cNvSpPr/>
              <p:nvPr/>
            </p:nvSpPr>
            <p:spPr>
              <a:xfrm rot="5400000">
                <a:off x="277452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5400000">
                <a:off x="262224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1771920" y="6394320"/>
              <a:ext cx="227880" cy="75960"/>
              <a:chOff x="1771920" y="6394320"/>
              <a:chExt cx="227880" cy="75960"/>
            </a:xfrm>
          </p:grpSpPr>
          <p:sp>
            <p:nvSpPr>
              <p:cNvPr id="699" name=""/>
              <p:cNvSpPr/>
              <p:nvPr/>
            </p:nvSpPr>
            <p:spPr>
              <a:xfrm rot="5400000">
                <a:off x="192384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5400000">
                <a:off x="1771560" y="63943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1810080" y="5175360"/>
              <a:ext cx="227880" cy="75960"/>
              <a:chOff x="1810080" y="5175360"/>
              <a:chExt cx="227880" cy="75960"/>
            </a:xfrm>
          </p:grpSpPr>
          <p:sp>
            <p:nvSpPr>
              <p:cNvPr id="702" name=""/>
              <p:cNvSpPr/>
              <p:nvPr/>
            </p:nvSpPr>
            <p:spPr>
              <a:xfrm rot="5400000">
                <a:off x="196200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5400000">
                <a:off x="180972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1657080" y="6127560"/>
              <a:ext cx="75960" cy="227880"/>
              <a:chOff x="1657080" y="6127560"/>
              <a:chExt cx="75960" cy="227880"/>
            </a:xfrm>
          </p:grpSpPr>
          <p:sp>
            <p:nvSpPr>
              <p:cNvPr id="705" name=""/>
              <p:cNvSpPr/>
              <p:nvPr/>
            </p:nvSpPr>
            <p:spPr>
              <a:xfrm>
                <a:off x="16570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6570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2038320" y="6127560"/>
              <a:ext cx="75600" cy="227880"/>
              <a:chOff x="2038320" y="6127560"/>
              <a:chExt cx="75600" cy="227880"/>
            </a:xfrm>
          </p:grpSpPr>
          <p:sp>
            <p:nvSpPr>
              <p:cNvPr id="708" name=""/>
              <p:cNvSpPr/>
              <p:nvPr/>
            </p:nvSpPr>
            <p:spPr>
              <a:xfrm>
                <a:off x="2038320" y="61275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038320" y="627984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996840" y="5175360"/>
              <a:ext cx="227880" cy="75960"/>
              <a:chOff x="996840" y="5175360"/>
              <a:chExt cx="227880" cy="75960"/>
            </a:xfrm>
          </p:grpSpPr>
          <p:sp>
            <p:nvSpPr>
              <p:cNvPr id="711" name=""/>
              <p:cNvSpPr/>
              <p:nvPr/>
            </p:nvSpPr>
            <p:spPr>
              <a:xfrm flipH="1" rot="16200000">
                <a:off x="9964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 rot="16200000">
                <a:off x="114876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933480" y="5328000"/>
              <a:ext cx="75960" cy="227880"/>
              <a:chOff x="933480" y="5328000"/>
              <a:chExt cx="75960" cy="227880"/>
            </a:xfrm>
          </p:grpSpPr>
          <p:sp>
            <p:nvSpPr>
              <p:cNvPr id="714" name=""/>
              <p:cNvSpPr/>
              <p:nvPr/>
            </p:nvSpPr>
            <p:spPr>
              <a:xfrm flipH="1" rot="10800000">
                <a:off x="93312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rot="10800000">
                <a:off x="93312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996840" y="5594040"/>
              <a:ext cx="227880" cy="75960"/>
              <a:chOff x="996840" y="5594040"/>
              <a:chExt cx="227880" cy="75960"/>
            </a:xfrm>
          </p:grpSpPr>
          <p:sp>
            <p:nvSpPr>
              <p:cNvPr id="717" name=""/>
              <p:cNvSpPr/>
              <p:nvPr/>
            </p:nvSpPr>
            <p:spPr>
              <a:xfrm flipH="1" rot="16200000">
                <a:off x="9964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 rot="16200000">
                <a:off x="114876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9" name=""/>
          <p:cNvSpPr/>
          <p:nvPr/>
        </p:nvSpPr>
        <p:spPr>
          <a:xfrm>
            <a:off x="241920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559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300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58112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82080" y="3922560"/>
            <a:ext cx="51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if all the atoms has oct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520" y="4471920"/>
            <a:ext cx="78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single bonds (3x2) + 10 lone pairs (10x2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D17B6-C227-4A26-BF56-F39AB4AFC8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81320" y="1268280"/>
            <a:ext cx="68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 is less electronegative than O, put C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053720" y="5207040"/>
            <a:ext cx="2018520" cy="1272600"/>
            <a:chOff x="1053720" y="5207040"/>
            <a:chExt cx="2018520" cy="1272600"/>
          </a:xfrm>
        </p:grpSpPr>
        <p:sp>
          <p:nvSpPr>
            <p:cNvPr id="727" name=""/>
            <p:cNvSpPr/>
            <p:nvPr/>
          </p:nvSpPr>
          <p:spPr>
            <a:xfrm>
              <a:off x="10537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866240" y="5207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539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42480" y="6019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1401840" y="5427720"/>
            <a:ext cx="1295280" cy="621360"/>
            <a:chOff x="1401840" y="5427720"/>
            <a:chExt cx="1295280" cy="621360"/>
          </a:xfrm>
        </p:grpSpPr>
        <p:sp>
          <p:nvSpPr>
            <p:cNvPr id="732" name=""/>
            <p:cNvSpPr/>
            <p:nvPr/>
          </p:nvSpPr>
          <p:spPr>
            <a:xfrm>
              <a:off x="140184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3992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203688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555840" y="1725480"/>
            <a:ext cx="778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C - 4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O - 6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-2 charge – 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679040" y="2503440"/>
            <a:ext cx="44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 + (3 x 6) + 2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4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18240" y="3005280"/>
            <a:ext cx="80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C and O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 on O atoms. Use all the e in step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066680" y="5175360"/>
            <a:ext cx="1981440" cy="1294920"/>
            <a:chOff x="1066680" y="5175360"/>
            <a:chExt cx="1981440" cy="1294920"/>
          </a:xfrm>
        </p:grpSpPr>
        <p:grpSp>
          <p:nvGrpSpPr>
            <p:cNvPr id="739" name=""/>
            <p:cNvGrpSpPr/>
            <p:nvPr/>
          </p:nvGrpSpPr>
          <p:grpSpPr>
            <a:xfrm>
              <a:off x="2755440" y="5175360"/>
              <a:ext cx="228600" cy="75960"/>
              <a:chOff x="2755440" y="5175360"/>
              <a:chExt cx="228600" cy="75960"/>
            </a:xfrm>
          </p:grpSpPr>
          <p:sp>
            <p:nvSpPr>
              <p:cNvPr id="740" name=""/>
              <p:cNvSpPr/>
              <p:nvPr/>
            </p:nvSpPr>
            <p:spPr>
              <a:xfrm rot="5400000">
                <a:off x="290772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5400000">
                <a:off x="275544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2971800" y="5328000"/>
              <a:ext cx="76320" cy="227880"/>
              <a:chOff x="2971800" y="5328000"/>
              <a:chExt cx="76320" cy="227880"/>
            </a:xfrm>
          </p:grpSpPr>
          <p:sp>
            <p:nvSpPr>
              <p:cNvPr id="743" name=""/>
              <p:cNvSpPr/>
              <p:nvPr/>
            </p:nvSpPr>
            <p:spPr>
              <a:xfrm rot="10800000">
                <a:off x="297180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10800000">
                <a:off x="297180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2755440" y="5594040"/>
              <a:ext cx="228600" cy="75960"/>
              <a:chOff x="2755440" y="5594040"/>
              <a:chExt cx="228600" cy="75960"/>
            </a:xfrm>
          </p:grpSpPr>
          <p:sp>
            <p:nvSpPr>
              <p:cNvPr id="746" name=""/>
              <p:cNvSpPr/>
              <p:nvPr/>
            </p:nvSpPr>
            <p:spPr>
              <a:xfrm rot="5400000">
                <a:off x="290772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5400000">
                <a:off x="275544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1904760" y="6394320"/>
              <a:ext cx="228600" cy="75960"/>
              <a:chOff x="1904760" y="6394320"/>
              <a:chExt cx="228600" cy="75960"/>
            </a:xfrm>
          </p:grpSpPr>
          <p:sp>
            <p:nvSpPr>
              <p:cNvPr id="749" name=""/>
              <p:cNvSpPr/>
              <p:nvPr/>
            </p:nvSpPr>
            <p:spPr>
              <a:xfrm rot="5400000">
                <a:off x="2057040" y="6393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5400000">
                <a:off x="190476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1942920" y="5175360"/>
              <a:ext cx="228600" cy="75960"/>
              <a:chOff x="1942920" y="5175360"/>
              <a:chExt cx="228600" cy="75960"/>
            </a:xfrm>
          </p:grpSpPr>
          <p:sp>
            <p:nvSpPr>
              <p:cNvPr id="752" name=""/>
              <p:cNvSpPr/>
              <p:nvPr/>
            </p:nvSpPr>
            <p:spPr>
              <a:xfrm rot="5400000">
                <a:off x="20952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5400000">
                <a:off x="19429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1790640" y="6127560"/>
              <a:ext cx="76320" cy="227880"/>
              <a:chOff x="1790640" y="6127560"/>
              <a:chExt cx="76320" cy="227880"/>
            </a:xfrm>
          </p:grpSpPr>
          <p:sp>
            <p:nvSpPr>
              <p:cNvPr id="755" name=""/>
              <p:cNvSpPr/>
              <p:nvPr/>
            </p:nvSpPr>
            <p:spPr>
              <a:xfrm>
                <a:off x="1790640" y="6127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790640" y="627984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2171880" y="6127560"/>
              <a:ext cx="75960" cy="227880"/>
              <a:chOff x="2171880" y="6127560"/>
              <a:chExt cx="75960" cy="227880"/>
            </a:xfrm>
          </p:grpSpPr>
          <p:sp>
            <p:nvSpPr>
              <p:cNvPr id="758" name=""/>
              <p:cNvSpPr/>
              <p:nvPr/>
            </p:nvSpPr>
            <p:spPr>
              <a:xfrm>
                <a:off x="21718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1718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1130400" y="5175360"/>
              <a:ext cx="228600" cy="75960"/>
              <a:chOff x="1130400" y="5175360"/>
              <a:chExt cx="228600" cy="75960"/>
            </a:xfrm>
          </p:grpSpPr>
          <p:sp>
            <p:nvSpPr>
              <p:cNvPr id="761" name=""/>
              <p:cNvSpPr/>
              <p:nvPr/>
            </p:nvSpPr>
            <p:spPr>
              <a:xfrm flipH="1" rot="16200000">
                <a:off x="11304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 rot="16200000">
                <a:off x="12826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1066680" y="5328000"/>
              <a:ext cx="76320" cy="227880"/>
              <a:chOff x="1066680" y="5328000"/>
              <a:chExt cx="76320" cy="227880"/>
            </a:xfrm>
          </p:grpSpPr>
          <p:sp>
            <p:nvSpPr>
              <p:cNvPr id="764" name=""/>
              <p:cNvSpPr/>
              <p:nvPr/>
            </p:nvSpPr>
            <p:spPr>
              <a:xfrm flipH="1" rot="10800000">
                <a:off x="106668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 rot="10800000">
                <a:off x="106668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1130400" y="5594040"/>
              <a:ext cx="228600" cy="75960"/>
              <a:chOff x="1130400" y="5594040"/>
              <a:chExt cx="228600" cy="75960"/>
            </a:xfrm>
          </p:grpSpPr>
          <p:sp>
            <p:nvSpPr>
              <p:cNvPr id="767" name=""/>
              <p:cNvSpPr/>
              <p:nvPr/>
            </p:nvSpPr>
            <p:spPr>
              <a:xfrm flipH="1" rot="16200000">
                <a:off x="113040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rot="16200000">
                <a:off x="12826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9" name=""/>
          <p:cNvSpPr/>
          <p:nvPr/>
        </p:nvSpPr>
        <p:spPr>
          <a:xfrm>
            <a:off x="16891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6364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95280" y="36910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all the atoms has octet, C has no octet? Use one of the lone pair on the O to form double bond with th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7093080" y="5013360"/>
            <a:ext cx="1790640" cy="1625040"/>
            <a:chOff x="7093080" y="5013360"/>
            <a:chExt cx="1790640" cy="1625040"/>
          </a:xfrm>
        </p:grpSpPr>
        <p:pic>
          <p:nvPicPr>
            <p:cNvPr id="773" name="" descr=""/>
            <p:cNvPicPr/>
            <p:nvPr/>
          </p:nvPicPr>
          <p:blipFill>
            <a:blip r:embed="rId1"/>
            <a:srcRect l="9686" t="2498" r="8752" b="0"/>
            <a:stretch/>
          </p:blipFill>
          <p:spPr>
            <a:xfrm>
              <a:off x="7131240" y="5013360"/>
              <a:ext cx="175248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7854840" y="6410160"/>
              <a:ext cx="3049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93080" y="5470200"/>
              <a:ext cx="5331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360360" y="374760"/>
            <a:ext cx="882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5 p382: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carbonate ion (C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763640" y="4869000"/>
            <a:ext cx="863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7146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700360" y="4941720"/>
            <a:ext cx="358920" cy="43200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5276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68360" y="5300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4763520" y="5280120"/>
            <a:ext cx="2018520" cy="1272600"/>
            <a:chOff x="4763520" y="5280120"/>
            <a:chExt cx="2018520" cy="1272600"/>
          </a:xfrm>
        </p:grpSpPr>
        <p:sp>
          <p:nvSpPr>
            <p:cNvPr id="783" name=""/>
            <p:cNvSpPr/>
            <p:nvPr/>
          </p:nvSpPr>
          <p:spPr>
            <a:xfrm>
              <a:off x="47635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576040" y="5280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37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552280" y="6093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5111640" y="5500800"/>
            <a:ext cx="1295280" cy="621360"/>
            <a:chOff x="5111640" y="5500800"/>
            <a:chExt cx="1295280" cy="621360"/>
          </a:xfrm>
        </p:grpSpPr>
        <p:sp>
          <p:nvSpPr>
            <p:cNvPr id="788" name=""/>
            <p:cNvSpPr/>
            <p:nvPr/>
          </p:nvSpPr>
          <p:spPr>
            <a:xfrm>
              <a:off x="511164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4972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5746680" y="566532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4776840" y="5248440"/>
            <a:ext cx="1980360" cy="1294920"/>
            <a:chOff x="4776840" y="5248440"/>
            <a:chExt cx="1980360" cy="1294920"/>
          </a:xfrm>
        </p:grpSpPr>
        <p:grpSp>
          <p:nvGrpSpPr>
            <p:cNvPr id="792" name=""/>
            <p:cNvGrpSpPr/>
            <p:nvPr/>
          </p:nvGrpSpPr>
          <p:grpSpPr>
            <a:xfrm>
              <a:off x="6465960" y="5248440"/>
              <a:ext cx="227880" cy="75960"/>
              <a:chOff x="6465960" y="5248440"/>
              <a:chExt cx="227880" cy="75960"/>
            </a:xfrm>
          </p:grpSpPr>
          <p:sp>
            <p:nvSpPr>
              <p:cNvPr id="793" name=""/>
              <p:cNvSpPr/>
              <p:nvPr/>
            </p:nvSpPr>
            <p:spPr>
              <a:xfrm rot="5400000">
                <a:off x="661788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5400000">
                <a:off x="646560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6681240" y="5401080"/>
              <a:ext cx="75960" cy="227880"/>
              <a:chOff x="6681240" y="5401080"/>
              <a:chExt cx="75960" cy="227880"/>
            </a:xfrm>
          </p:grpSpPr>
          <p:sp>
            <p:nvSpPr>
              <p:cNvPr id="796" name=""/>
              <p:cNvSpPr/>
              <p:nvPr/>
            </p:nvSpPr>
            <p:spPr>
              <a:xfrm rot="10800000">
                <a:off x="668124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0800000">
                <a:off x="668124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6465960" y="5667120"/>
              <a:ext cx="227880" cy="75960"/>
              <a:chOff x="6465960" y="5667120"/>
              <a:chExt cx="227880" cy="75960"/>
            </a:xfrm>
          </p:grpSpPr>
          <p:sp>
            <p:nvSpPr>
              <p:cNvPr id="799" name=""/>
              <p:cNvSpPr/>
              <p:nvPr/>
            </p:nvSpPr>
            <p:spPr>
              <a:xfrm rot="5400000">
                <a:off x="661788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5400000">
                <a:off x="646560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5615280" y="6467400"/>
              <a:ext cx="227880" cy="75960"/>
              <a:chOff x="5615280" y="6467400"/>
              <a:chExt cx="227880" cy="75960"/>
            </a:xfrm>
          </p:grpSpPr>
          <p:sp>
            <p:nvSpPr>
              <p:cNvPr id="802" name=""/>
              <p:cNvSpPr/>
              <p:nvPr/>
            </p:nvSpPr>
            <p:spPr>
              <a:xfrm rot="5400000">
                <a:off x="5767200" y="6467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5400000">
                <a:off x="5614920" y="64674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5653440" y="5248440"/>
              <a:ext cx="227880" cy="75960"/>
              <a:chOff x="5653440" y="5248440"/>
              <a:chExt cx="227880" cy="75960"/>
            </a:xfrm>
          </p:grpSpPr>
          <p:sp>
            <p:nvSpPr>
              <p:cNvPr id="805" name=""/>
              <p:cNvSpPr/>
              <p:nvPr/>
            </p:nvSpPr>
            <p:spPr>
              <a:xfrm rot="5400000">
                <a:off x="580536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5400000">
                <a:off x="565308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500440" y="6200640"/>
              <a:ext cx="75960" cy="227880"/>
              <a:chOff x="5500440" y="6200640"/>
              <a:chExt cx="75960" cy="227880"/>
            </a:xfrm>
          </p:grpSpPr>
          <p:sp>
            <p:nvSpPr>
              <p:cNvPr id="808" name=""/>
              <p:cNvSpPr/>
              <p:nvPr/>
            </p:nvSpPr>
            <p:spPr>
              <a:xfrm>
                <a:off x="5500440" y="62006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500440" y="63529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5881680" y="6200640"/>
              <a:ext cx="75600" cy="227880"/>
              <a:chOff x="5881680" y="6200640"/>
              <a:chExt cx="75600" cy="227880"/>
            </a:xfrm>
          </p:grpSpPr>
          <p:sp>
            <p:nvSpPr>
              <p:cNvPr id="811" name=""/>
              <p:cNvSpPr/>
              <p:nvPr/>
            </p:nvSpPr>
            <p:spPr>
              <a:xfrm>
                <a:off x="5881680" y="620064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881680" y="635292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4840200" y="5248440"/>
              <a:ext cx="227880" cy="75960"/>
              <a:chOff x="4840200" y="5248440"/>
              <a:chExt cx="227880" cy="75960"/>
            </a:xfrm>
          </p:grpSpPr>
          <p:sp>
            <p:nvSpPr>
              <p:cNvPr id="814" name=""/>
              <p:cNvSpPr/>
              <p:nvPr/>
            </p:nvSpPr>
            <p:spPr>
              <a:xfrm flipH="1" rot="16200000">
                <a:off x="483984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 rot="16200000">
                <a:off x="499212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4776840" y="5401080"/>
              <a:ext cx="75960" cy="227880"/>
              <a:chOff x="4776840" y="5401080"/>
              <a:chExt cx="75960" cy="227880"/>
            </a:xfrm>
          </p:grpSpPr>
          <p:sp>
            <p:nvSpPr>
              <p:cNvPr id="817" name=""/>
              <p:cNvSpPr/>
              <p:nvPr/>
            </p:nvSpPr>
            <p:spPr>
              <a:xfrm flipH="1" rot="10800000">
                <a:off x="477648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rot="10800000">
                <a:off x="477648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4840200" y="5667120"/>
              <a:ext cx="227880" cy="75960"/>
              <a:chOff x="4840200" y="5667120"/>
              <a:chExt cx="227880" cy="75960"/>
            </a:xfrm>
          </p:grpSpPr>
          <p:sp>
            <p:nvSpPr>
              <p:cNvPr id="820" name=""/>
              <p:cNvSpPr/>
              <p:nvPr/>
            </p:nvSpPr>
            <p:spPr>
              <a:xfrm flipH="1" rot="16200000">
                <a:off x="483984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 rot="16200000">
                <a:off x="499212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5473800" y="4941720"/>
            <a:ext cx="863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40360" y="5373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4797360"/>
            <a:ext cx="50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348000" y="59500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E5D90-9DC3-4B38-B2F0-4F01DF051D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Content Placeholder 1"/>
          <p:cNvSpPr/>
          <p:nvPr/>
        </p:nvSpPr>
        <p:spPr>
          <a:xfrm>
            <a:off x="324000" y="40464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4 p382: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Write the Lewis structure for ni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acid (HN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) in which the three O atoms are bonded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central 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79280" y="1609560"/>
            <a:ext cx="849636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ut N in center ,surrounded by 3O atoms , H bonded to one of the 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unt the valence electrons  5 + (3 x 6) +1 = 24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raw single bonds betwee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O atoms and O and H complete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tet on O atoms. Use all the valence e (step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eck, all the atoms has octet, N has no octet? Use one of the lone pair on the O to form double bond with th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484360" y="56545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132000" y="566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84360" y="62308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835280" y="5661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1636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700360" y="6094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268360" y="58784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419640" y="56624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27672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419640" y="6094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27672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98108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12400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83672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836720" y="5950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916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916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98108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12400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629080" y="66708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771640" y="6669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84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84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780000" y="56466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6400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908000" y="5516640"/>
            <a:ext cx="432000" cy="36036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2266560" y="580536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588000" y="5511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236000" y="551808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588000" y="6087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938920" y="55180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02000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804000" y="59515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37236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52328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38036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52328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38036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94036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940360" y="58071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020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020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08472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22764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732720" y="65278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75640" y="652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588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588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883640" y="55040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667640" y="57355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370200" y="56624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427640" y="6308640"/>
            <a:ext cx="115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81C43-9206-4B29-8061-2DCBB2BA06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9.7 Formal Charge and Lewis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show how the charge distributed in a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difference between the number of valence electrons in an isolated atom and the number of electrons assigned to that atom in a Lewis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Group 23"/>
          <p:cNvGrpSpPr/>
          <p:nvPr/>
        </p:nvGrpSpPr>
        <p:grpSpPr>
          <a:xfrm>
            <a:off x="246240" y="3397320"/>
            <a:ext cx="8691480" cy="1191240"/>
            <a:chOff x="246240" y="3397320"/>
            <a:chExt cx="8691480" cy="1191240"/>
          </a:xfrm>
        </p:grpSpPr>
        <p:grpSp>
          <p:nvGrpSpPr>
            <p:cNvPr id="883" name="Group 37"/>
            <p:cNvGrpSpPr/>
            <p:nvPr/>
          </p:nvGrpSpPr>
          <p:grpSpPr>
            <a:xfrm>
              <a:off x="246240" y="3397320"/>
              <a:ext cx="2134800" cy="1191240"/>
              <a:chOff x="246240" y="3397320"/>
              <a:chExt cx="2134800" cy="1191240"/>
            </a:xfrm>
          </p:grpSpPr>
          <p:sp>
            <p:nvSpPr>
              <p:cNvPr id="884" name="Text Box 23"/>
              <p:cNvSpPr/>
              <p:nvPr/>
            </p:nvSpPr>
            <p:spPr>
              <a:xfrm>
                <a:off x="246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ormal charge on an atom in a Lewis struc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Text Box 27"/>
              <p:cNvSpPr/>
              <p:nvPr/>
            </p:nvSpPr>
            <p:spPr>
              <a:xfrm>
                <a:off x="2069280" y="3824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6" name="Group 40"/>
            <p:cNvGrpSpPr/>
            <p:nvPr/>
          </p:nvGrpSpPr>
          <p:grpSpPr>
            <a:xfrm>
              <a:off x="6558480" y="3549600"/>
              <a:ext cx="2379240" cy="1008360"/>
              <a:chOff x="6558480" y="3549600"/>
              <a:chExt cx="2379240" cy="1008360"/>
            </a:xfrm>
          </p:grpSpPr>
          <p:grpSp>
            <p:nvGrpSpPr>
              <p:cNvPr id="887" name="Group 33"/>
              <p:cNvGrpSpPr/>
              <p:nvPr/>
            </p:nvGrpSpPr>
            <p:grpSpPr>
              <a:xfrm>
                <a:off x="6558480" y="3595680"/>
                <a:ext cx="340920" cy="825120"/>
                <a:chOff x="6558480" y="3595680"/>
                <a:chExt cx="340920" cy="825120"/>
              </a:xfrm>
            </p:grpSpPr>
            <p:sp>
              <p:nvSpPr>
                <p:cNvPr id="888" name="Text Box 28"/>
                <p:cNvSpPr/>
                <p:nvPr/>
              </p:nvSpPr>
              <p:spPr>
                <a:xfrm>
                  <a:off x="6558480" y="359568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Text Box 29"/>
                <p:cNvSpPr/>
                <p:nvPr/>
              </p:nvSpPr>
              <p:spPr>
                <a:xfrm>
                  <a:off x="6576840" y="405252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30"/>
                <p:cNvSpPr/>
                <p:nvPr/>
              </p:nvSpPr>
              <p:spPr>
                <a:xfrm>
                  <a:off x="6594480" y="405252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Group 34"/>
              <p:cNvGrpSpPr/>
              <p:nvPr/>
            </p:nvGrpSpPr>
            <p:grpSpPr>
              <a:xfrm>
                <a:off x="6878880" y="3549600"/>
                <a:ext cx="2058840" cy="1008360"/>
                <a:chOff x="6878880" y="3549600"/>
                <a:chExt cx="2058840" cy="1008360"/>
              </a:xfrm>
            </p:grpSpPr>
            <p:sp>
              <p:nvSpPr>
                <p:cNvPr id="892" name="Text Box 26"/>
                <p:cNvSpPr/>
                <p:nvPr/>
              </p:nvSpPr>
              <p:spPr>
                <a:xfrm>
                  <a:off x="7104240" y="3549600"/>
                  <a:ext cx="18288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total number of bonding electro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Text Box 31"/>
                <p:cNvSpPr/>
                <p:nvPr/>
              </p:nvSpPr>
              <p:spPr>
                <a:xfrm>
                  <a:off x="6878880" y="3549600"/>
                  <a:ext cx="607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( 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Text Box 32"/>
                <p:cNvSpPr/>
                <p:nvPr/>
              </p:nvSpPr>
              <p:spPr>
                <a:xfrm>
                  <a:off x="8528400" y="3549600"/>
                  <a:ext cx="409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)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5" name="Group 38"/>
            <p:cNvGrpSpPr/>
            <p:nvPr/>
          </p:nvGrpSpPr>
          <p:grpSpPr>
            <a:xfrm>
              <a:off x="2532240" y="3397320"/>
              <a:ext cx="1856520" cy="1191240"/>
              <a:chOff x="2532240" y="3397320"/>
              <a:chExt cx="1856520" cy="1191240"/>
            </a:xfrm>
          </p:grpSpPr>
          <p:sp>
            <p:nvSpPr>
              <p:cNvPr id="896" name="Text Box 24"/>
              <p:cNvSpPr/>
              <p:nvPr/>
            </p:nvSpPr>
            <p:spPr>
              <a:xfrm>
                <a:off x="2532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valence electrons in the free at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Text Box 35"/>
              <p:cNvSpPr/>
              <p:nvPr/>
            </p:nvSpPr>
            <p:spPr>
              <a:xfrm>
                <a:off x="407700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39"/>
            <p:cNvGrpSpPr/>
            <p:nvPr/>
          </p:nvGrpSpPr>
          <p:grpSpPr>
            <a:xfrm>
              <a:off x="4437360" y="3549600"/>
              <a:ext cx="2096280" cy="916920"/>
              <a:chOff x="4437360" y="3549600"/>
              <a:chExt cx="2096280" cy="916920"/>
            </a:xfrm>
          </p:grpSpPr>
          <p:sp>
            <p:nvSpPr>
              <p:cNvPr id="899" name="Text Box 25"/>
              <p:cNvSpPr/>
              <p:nvPr/>
            </p:nvSpPr>
            <p:spPr>
              <a:xfrm>
                <a:off x="4437360" y="3549600"/>
                <a:ext cx="1828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nonbonding electr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Text Box 36"/>
              <p:cNvSpPr/>
              <p:nvPr/>
            </p:nvSpPr>
            <p:spPr>
              <a:xfrm>
                <a:off x="622188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79280" y="3357720"/>
            <a:ext cx="878544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03" name=""/>
          <p:cNvSpPr/>
          <p:nvPr/>
        </p:nvSpPr>
        <p:spPr>
          <a:xfrm>
            <a:off x="590400" y="5013360"/>
            <a:ext cx="82296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E3655-2D34-474D-90DA-D67B6E8312A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395280" y="404640"/>
            <a:ext cx="777708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zone molecule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wis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mal Charg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708360" y="119700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 – O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068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284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635280" y="1557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635280" y="1773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211640" y="220680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995640" y="220680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72436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940360" y="1197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45164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66908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308720" y="2205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524720" y="2205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68360" y="2708280"/>
            <a:ext cx="3456000" cy="1150920"/>
          </a:xfrm>
          <a:prstGeom prst="wedgeRectCallout">
            <a:avLst>
              <a:gd name="adj1" fmla="val 49634"/>
              <a:gd name="adj2" fmla="val -9965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6 –(½x2) =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56000" y="4005360"/>
            <a:ext cx="3456000" cy="1150920"/>
          </a:xfrm>
          <a:prstGeom prst="wedgeRectCallout">
            <a:avLst>
              <a:gd name="adj1" fmla="val 37324"/>
              <a:gd name="adj2" fmla="val -21331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2 –(½x6) =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651640" y="2781360"/>
            <a:ext cx="3456000" cy="1150920"/>
          </a:xfrm>
          <a:prstGeom prst="wedgeRectCallout">
            <a:avLst>
              <a:gd name="adj1" fmla="val 12287"/>
              <a:gd name="adj2" fmla="val -10406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4 –(½x4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836720" y="5587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197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413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763640" y="59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763640" y="616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40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124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41964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63528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58000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79744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437080" y="659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53080" y="659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42920" y="5805360"/>
            <a:ext cx="1260360" cy="648000"/>
          </a:xfrm>
          <a:prstGeom prst="rightArrow">
            <a:avLst>
              <a:gd name="adj1" fmla="val 50000"/>
              <a:gd name="adj2" fmla="val 4862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659640" y="4005360"/>
            <a:ext cx="2252520" cy="2692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1 +1 = 0   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3D4A8-19E4-46B0-939C-4E6618EAFFC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5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8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395280" y="333360"/>
            <a:ext cx="8424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6 p38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Write the formal charges for the carbonate ion (C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198900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24000" y="20606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9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843280" y="4083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745080" y="4875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8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09564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16872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338436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244764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4656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34656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84328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84328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12256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26692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906560" y="5084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906560" y="5227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1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26692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92256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06548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9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067280" y="5445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281480" y="5013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282920" y="5157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690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rot="10800000">
            <a:off x="4282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427640" y="36511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79280" y="4581360"/>
            <a:ext cx="1366920" cy="1872000"/>
          </a:xfrm>
          <a:prstGeom prst="wedgeRectCallout">
            <a:avLst>
              <a:gd name="adj1" fmla="val 74504"/>
              <a:gd name="adj2" fmla="val -1446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075280" y="4221000"/>
            <a:ext cx="1366920" cy="1872000"/>
          </a:xfrm>
          <a:prstGeom prst="wedgeRectCallout">
            <a:avLst>
              <a:gd name="adj1" fmla="val -101569"/>
              <a:gd name="adj2" fmla="val 979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80000" y="1844640"/>
            <a:ext cx="1366560" cy="1871640"/>
          </a:xfrm>
          <a:prstGeom prst="wedgeRectCallout">
            <a:avLst>
              <a:gd name="adj1" fmla="val -92740"/>
              <a:gd name="adj2" fmla="val 723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411280" y="6237360"/>
            <a:ext cx="2664000" cy="504720"/>
          </a:xfrm>
          <a:prstGeom prst="wedgeRectCallout">
            <a:avLst>
              <a:gd name="adj1" fmla="val -25504"/>
              <a:gd name="adj2" fmla="val -2169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– 0 –(½x8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8172360" y="2859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52328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759636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781164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87528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773840" y="24192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773840" y="227664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270920" y="227664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270920" y="241920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50200" y="2779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694560" y="2779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334200" y="306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33420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550200" y="34275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69456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835020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849312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835020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8494560" y="3429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70912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8710560" y="3141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118200" y="206208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0800000">
            <a:off x="8710200" y="206172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270920" y="2060640"/>
            <a:ext cx="11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372360" y="28591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307280" y="285912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084720" y="2492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8675640" y="25002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732720" y="4149720"/>
            <a:ext cx="1368360" cy="792000"/>
          </a:xfrm>
          <a:custGeom>
            <a:avLst/>
            <a:gdLst>
              <a:gd name="textAreaLeft" fmla="*/ 456120 w 1368360"/>
              <a:gd name="textAreaRight" fmla="*/ 1172160 w 136836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516720" y="5084640"/>
            <a:ext cx="2556000" cy="1681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-1 -1 = -2   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535A8-BBC5-468B-B4CD-4078387E69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re is more than one possible structure for a molecul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Formal charg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elp to decide which structure is the correct one, by applying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ewis structure with no formal charges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 with larger formal charges (+2, +3, -2, -3)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s with smaller negative charges, the favourable is one in which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egative formal charges are on the more electronegative atom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116000" y="6308640"/>
            <a:ext cx="6696000" cy="505080"/>
          </a:xfrm>
          <a:prstGeom prst="rightArrow">
            <a:avLst>
              <a:gd name="adj1" fmla="val 50000"/>
              <a:gd name="adj2" fmla="val 33143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5C3A0-EE0B-4CF4-8A45-EA0B93E2428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395280" y="374760"/>
            <a:ext cx="86043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9.7 p385:</a:t>
            </a:r>
            <a:r>
              <a:rPr b="0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the most likely Lewis structure for formaldehyde (CH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68360" y="184464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95280" y="184464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wo possible structur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11280" y="335772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 – C = O -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010200" y="3284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219640" y="2924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219640" y="37958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796000" y="3357720"/>
            <a:ext cx="28872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724360" y="3789360"/>
            <a:ext cx="287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61928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76364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34000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48436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948360" y="328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093080" y="328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09308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94836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79280" y="4076640"/>
            <a:ext cx="1366920" cy="1871640"/>
          </a:xfrm>
          <a:prstGeom prst="wedgeRectCallout">
            <a:avLst>
              <a:gd name="adj1" fmla="val 48953"/>
              <a:gd name="adj2" fmla="val -6179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012000" y="4149720"/>
            <a:ext cx="1366560" cy="1871640"/>
          </a:xfrm>
          <a:prstGeom prst="wedgeRectCallout">
            <a:avLst>
              <a:gd name="adj1" fmla="val -32462"/>
              <a:gd name="adj2" fmla="val -6475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835280" y="4076640"/>
            <a:ext cx="1366560" cy="1871640"/>
          </a:xfrm>
          <a:prstGeom prst="wedgeRectCallout">
            <a:avLst>
              <a:gd name="adj1" fmla="val -7143"/>
              <a:gd name="adj2" fmla="val -6068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596360" y="3789360"/>
            <a:ext cx="1366560" cy="1871640"/>
          </a:xfrm>
          <a:prstGeom prst="wedgeRectCallout">
            <a:avLst>
              <a:gd name="adj1" fmla="val -76481"/>
              <a:gd name="adj2" fmla="val -56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54764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26836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79280" y="29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57200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9280" y="606276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Structure (b) has no formal charges → THUS: it is the most likely structure of formaldehy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51604-1362-4C4A-8787-CFE88B6FC83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9 Chemical Bonding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1 Lewis dot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2 The 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4 The covalent bo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5 Electronegativ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6  Writing Lewis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7 formal charge and Lewis struc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8 the concept of reson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9 the exception of octet r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2A1B9-4EE1-40F4-8B35-B45E72C554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 </a:t>
            </a:r>
            <a:r>
              <a:rPr b="1" lang="ar-SA" sz="3200" spc="-1" strike="noStrike" u="sng">
                <a:solidFill>
                  <a:srgbClr val="00007d"/>
                </a:solidFill>
                <a:uFillTx/>
                <a:latin typeface="Comic Sans MS"/>
              </a:rPr>
              <a:t>الرن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055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ample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ewis structure of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68360" y="2455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828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044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95280" y="30322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971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55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050920" y="245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6692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21164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42908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068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284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6720" y="511956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 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757080" y="5048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97308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427640" y="5518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427640" y="5734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900000" y="612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4360" y="612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979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195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14036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35780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997440" y="612792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213080" y="612792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124000" y="3951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219640" y="2316240"/>
            <a:ext cx="39243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nd length of O-O &gt; O=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: experiments show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wo bonds are of equal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both structures represents the same molecul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6A59E-66E6-4885-AE0B-2FC5FB7D4FA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4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wis structure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68360" y="2239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828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044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95280" y="2600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971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55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050920" y="2239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26692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21164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42908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068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284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96720" y="504828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57080" y="4976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973080" y="497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24000" y="540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24000" y="5624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900000" y="605808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84360" y="60580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979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195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14036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35780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997440" y="605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213080" y="6056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916360" y="3716280"/>
            <a:ext cx="60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Resonance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rot="5400000">
            <a:off x="2086920" y="3823920"/>
            <a:ext cx="1224000" cy="576360"/>
          </a:xfrm>
          <a:prstGeom prst="leftRightArrow">
            <a:avLst>
              <a:gd name="adj1" fmla="val 50000"/>
              <a:gd name="adj2" fmla="val 4227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B5E74-6BA6-45CB-A47E-956D9F7BFB8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esonanc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ans the use of two or more Lewis structures to represent a particul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the carbonate 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(CO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benzene molecule (C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61000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77224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325080" y="2709720"/>
            <a:ext cx="2448000" cy="1475640"/>
            <a:chOff x="325080" y="2709720"/>
            <a:chExt cx="2448000" cy="1475640"/>
          </a:xfrm>
        </p:grpSpPr>
        <p:grpSp>
          <p:nvGrpSpPr>
            <p:cNvPr id="1093" name=""/>
            <p:cNvGrpSpPr/>
            <p:nvPr/>
          </p:nvGrpSpPr>
          <p:grpSpPr>
            <a:xfrm>
              <a:off x="514080" y="2887560"/>
              <a:ext cx="2044080" cy="1297800"/>
              <a:chOff x="514080" y="2887560"/>
              <a:chExt cx="2044080" cy="1297800"/>
            </a:xfrm>
          </p:grpSpPr>
          <p:grpSp>
            <p:nvGrpSpPr>
              <p:cNvPr id="1094" name=""/>
              <p:cNvGrpSpPr/>
              <p:nvPr/>
            </p:nvGrpSpPr>
            <p:grpSpPr>
              <a:xfrm>
                <a:off x="525600" y="2912760"/>
                <a:ext cx="2018160" cy="1272600"/>
                <a:chOff x="525600" y="2912760"/>
                <a:chExt cx="2018160" cy="127260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52560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132480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21254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131436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9" name=""/>
              <p:cNvSpPr/>
              <p:nvPr/>
            </p:nvSpPr>
            <p:spPr>
              <a:xfrm>
                <a:off x="87408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71216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148356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2" name=""/>
              <p:cNvGrpSpPr/>
              <p:nvPr/>
            </p:nvGrpSpPr>
            <p:grpSpPr>
              <a:xfrm>
                <a:off x="2228400" y="2887560"/>
                <a:ext cx="227880" cy="76320"/>
                <a:chOff x="2228400" y="2887560"/>
                <a:chExt cx="227880" cy="76320"/>
              </a:xfrm>
            </p:grpSpPr>
            <p:sp>
              <p:nvSpPr>
                <p:cNvPr id="1103" name=""/>
                <p:cNvSpPr/>
                <p:nvPr/>
              </p:nvSpPr>
              <p:spPr>
                <a:xfrm rot="5400000">
                  <a:off x="237996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rot="5400000">
                  <a:off x="222804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5" name=""/>
              <p:cNvGrpSpPr/>
              <p:nvPr/>
            </p:nvGrpSpPr>
            <p:grpSpPr>
              <a:xfrm>
                <a:off x="2482200" y="3027240"/>
                <a:ext cx="75960" cy="228600"/>
                <a:chOff x="2482200" y="3027240"/>
                <a:chExt cx="75960" cy="228600"/>
              </a:xfrm>
            </p:grpSpPr>
            <p:sp>
              <p:nvSpPr>
                <p:cNvPr id="1106" name=""/>
                <p:cNvSpPr/>
                <p:nvPr/>
              </p:nvSpPr>
              <p:spPr>
                <a:xfrm>
                  <a:off x="248220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248220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"/>
              <p:cNvGrpSpPr/>
              <p:nvPr/>
            </p:nvGrpSpPr>
            <p:grpSpPr>
              <a:xfrm>
                <a:off x="2228400" y="3306600"/>
                <a:ext cx="227880" cy="76320"/>
                <a:chOff x="2228400" y="3306600"/>
                <a:chExt cx="227880" cy="76320"/>
              </a:xfrm>
            </p:grpSpPr>
            <p:sp>
              <p:nvSpPr>
                <p:cNvPr id="1109" name=""/>
                <p:cNvSpPr/>
                <p:nvPr/>
              </p:nvSpPr>
              <p:spPr>
                <a:xfrm rot="5400000">
                  <a:off x="237996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rot="5400000">
                  <a:off x="222804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1288440" y="3840120"/>
                <a:ext cx="75600" cy="228600"/>
                <a:chOff x="1288440" y="3840120"/>
                <a:chExt cx="75600" cy="22860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128844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128844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4" name=""/>
              <p:cNvGrpSpPr/>
              <p:nvPr/>
            </p:nvGrpSpPr>
            <p:grpSpPr>
              <a:xfrm>
                <a:off x="1669320" y="3840120"/>
                <a:ext cx="75960" cy="228600"/>
                <a:chOff x="1669320" y="3840120"/>
                <a:chExt cx="75960" cy="22860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16693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16693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602640" y="2887560"/>
                <a:ext cx="227880" cy="76320"/>
                <a:chOff x="602640" y="2887560"/>
                <a:chExt cx="227880" cy="76320"/>
              </a:xfrm>
            </p:grpSpPr>
            <p:sp>
              <p:nvSpPr>
                <p:cNvPr id="1118" name=""/>
                <p:cNvSpPr/>
                <p:nvPr/>
              </p:nvSpPr>
              <p:spPr>
                <a:xfrm flipH="1" rot="16200000">
                  <a:off x="601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flipH="1" rot="16200000">
                  <a:off x="7545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514080" y="3026880"/>
                <a:ext cx="75600" cy="228600"/>
                <a:chOff x="514080" y="3026880"/>
                <a:chExt cx="75600" cy="228600"/>
              </a:xfrm>
            </p:grpSpPr>
            <p:sp>
              <p:nvSpPr>
                <p:cNvPr id="1121" name=""/>
                <p:cNvSpPr/>
                <p:nvPr/>
              </p:nvSpPr>
              <p:spPr>
                <a:xfrm flipH="1" rot="10800000">
                  <a:off x="514080" y="317916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H="1" rot="10800000">
                  <a:off x="514080" y="3026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3" name=""/>
              <p:cNvGrpSpPr/>
              <p:nvPr/>
            </p:nvGrpSpPr>
            <p:grpSpPr>
              <a:xfrm>
                <a:off x="602640" y="3306600"/>
                <a:ext cx="227880" cy="76320"/>
                <a:chOff x="602640" y="3306600"/>
                <a:chExt cx="227880" cy="76320"/>
              </a:xfrm>
            </p:grpSpPr>
            <p:sp>
              <p:nvSpPr>
                <p:cNvPr id="1124" name=""/>
                <p:cNvSpPr/>
                <p:nvPr/>
              </p:nvSpPr>
              <p:spPr>
                <a:xfrm flipH="1" rot="16200000">
                  <a:off x="601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H="1" rot="16200000">
                  <a:off x="7545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6" name=""/>
              <p:cNvSpPr/>
              <p:nvPr/>
            </p:nvSpPr>
            <p:spPr>
              <a:xfrm flipV="1">
                <a:off x="155520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3250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49012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3688920" y="2709720"/>
            <a:ext cx="2233800" cy="1653480"/>
            <a:chOff x="3688920" y="2709720"/>
            <a:chExt cx="2233800" cy="1653480"/>
          </a:xfrm>
        </p:grpSpPr>
        <p:grpSp>
          <p:nvGrpSpPr>
            <p:cNvPr id="1130" name=""/>
            <p:cNvGrpSpPr/>
            <p:nvPr/>
          </p:nvGrpSpPr>
          <p:grpSpPr>
            <a:xfrm>
              <a:off x="3688920" y="2887560"/>
              <a:ext cx="2031840" cy="1297800"/>
              <a:chOff x="3688920" y="2887560"/>
              <a:chExt cx="2031840" cy="1297800"/>
            </a:xfrm>
          </p:grpSpPr>
          <p:grpSp>
            <p:nvGrpSpPr>
              <p:cNvPr id="1131" name=""/>
              <p:cNvGrpSpPr/>
              <p:nvPr/>
            </p:nvGrpSpPr>
            <p:grpSpPr>
              <a:xfrm>
                <a:off x="4565880" y="4093920"/>
                <a:ext cx="227880" cy="76320"/>
                <a:chOff x="4565880" y="4093920"/>
                <a:chExt cx="227880" cy="76320"/>
              </a:xfrm>
            </p:grpSpPr>
            <p:sp>
              <p:nvSpPr>
                <p:cNvPr id="1132" name=""/>
                <p:cNvSpPr/>
                <p:nvPr/>
              </p:nvSpPr>
              <p:spPr>
                <a:xfrm rot="5400000">
                  <a:off x="471744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rot="5400000">
                  <a:off x="4565520" y="409428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3688920" y="2912760"/>
                <a:ext cx="2018520" cy="1272600"/>
                <a:chOff x="3688920" y="2912760"/>
                <a:chExt cx="2018520" cy="12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36889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4884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2891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4776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"/>
              <p:cNvSpPr/>
              <p:nvPr/>
            </p:nvSpPr>
            <p:spPr>
              <a:xfrm>
                <a:off x="4037040" y="311436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87512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469728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2" name=""/>
              <p:cNvGrpSpPr/>
              <p:nvPr/>
            </p:nvGrpSpPr>
            <p:grpSpPr>
              <a:xfrm>
                <a:off x="5391360" y="2887560"/>
                <a:ext cx="227880" cy="76320"/>
                <a:chOff x="5391360" y="2887560"/>
                <a:chExt cx="227880" cy="76320"/>
              </a:xfrm>
            </p:grpSpPr>
            <p:sp>
              <p:nvSpPr>
                <p:cNvPr id="1143" name=""/>
                <p:cNvSpPr/>
                <p:nvPr/>
              </p:nvSpPr>
              <p:spPr>
                <a:xfrm rot="5400000">
                  <a:off x="554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rot="5400000">
                  <a:off x="539100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5645160" y="3027240"/>
                <a:ext cx="75600" cy="228600"/>
                <a:chOff x="5645160" y="3027240"/>
                <a:chExt cx="75600" cy="2286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5645160" y="302724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645160" y="3179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5391360" y="3306600"/>
                <a:ext cx="227880" cy="76320"/>
                <a:chOff x="5391360" y="3306600"/>
                <a:chExt cx="227880" cy="76320"/>
              </a:xfrm>
            </p:grpSpPr>
            <p:sp>
              <p:nvSpPr>
                <p:cNvPr id="1149" name=""/>
                <p:cNvSpPr/>
                <p:nvPr/>
              </p:nvSpPr>
              <p:spPr>
                <a:xfrm rot="5400000">
                  <a:off x="554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rot="5400000">
                  <a:off x="539100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4451040" y="3840120"/>
                <a:ext cx="75960" cy="228600"/>
                <a:chOff x="4451040" y="3840120"/>
                <a:chExt cx="75960" cy="22860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445104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45104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4832280" y="3840120"/>
                <a:ext cx="75600" cy="228600"/>
                <a:chOff x="4832280" y="3840120"/>
                <a:chExt cx="75600" cy="22860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483228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83228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3765240" y="2887560"/>
                <a:ext cx="227880" cy="76320"/>
                <a:chOff x="3765240" y="2887560"/>
                <a:chExt cx="227880" cy="76320"/>
              </a:xfrm>
            </p:grpSpPr>
            <p:sp>
              <p:nvSpPr>
                <p:cNvPr id="1158" name=""/>
                <p:cNvSpPr/>
                <p:nvPr/>
              </p:nvSpPr>
              <p:spPr>
                <a:xfrm flipH="1" rot="16200000">
                  <a:off x="37645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H="1" rot="16200000">
                  <a:off x="39171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3765240" y="3306600"/>
                <a:ext cx="227880" cy="76320"/>
                <a:chOff x="3765240" y="3306600"/>
                <a:chExt cx="227880" cy="76320"/>
              </a:xfrm>
            </p:grpSpPr>
            <p:sp>
              <p:nvSpPr>
                <p:cNvPr id="1161" name=""/>
                <p:cNvSpPr/>
                <p:nvPr/>
              </p:nvSpPr>
              <p:spPr>
                <a:xfrm flipH="1" rot="16200000">
                  <a:off x="37645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flipH="1" rot="16200000">
                  <a:off x="39171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"/>
              <p:cNvSpPr/>
              <p:nvPr/>
            </p:nvSpPr>
            <p:spPr>
              <a:xfrm>
                <a:off x="4044960" y="31924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563976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79520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6605280" y="2709720"/>
            <a:ext cx="2213280" cy="1653480"/>
            <a:chOff x="6605280" y="2709720"/>
            <a:chExt cx="2213280" cy="1653480"/>
          </a:xfrm>
        </p:grpSpPr>
        <p:grpSp>
          <p:nvGrpSpPr>
            <p:cNvPr id="1167" name=""/>
            <p:cNvGrpSpPr/>
            <p:nvPr/>
          </p:nvGrpSpPr>
          <p:grpSpPr>
            <a:xfrm>
              <a:off x="6786000" y="2887560"/>
              <a:ext cx="2032560" cy="1297800"/>
              <a:chOff x="6786000" y="2887560"/>
              <a:chExt cx="2032560" cy="1297800"/>
            </a:xfrm>
          </p:grpSpPr>
          <p:grpSp>
            <p:nvGrpSpPr>
              <p:cNvPr id="1168" name=""/>
              <p:cNvGrpSpPr/>
              <p:nvPr/>
            </p:nvGrpSpPr>
            <p:grpSpPr>
              <a:xfrm>
                <a:off x="7713360" y="4093920"/>
                <a:ext cx="228600" cy="76320"/>
                <a:chOff x="7713360" y="4093920"/>
                <a:chExt cx="228600" cy="76320"/>
              </a:xfrm>
            </p:grpSpPr>
            <p:sp>
              <p:nvSpPr>
                <p:cNvPr id="1169" name=""/>
                <p:cNvSpPr/>
                <p:nvPr/>
              </p:nvSpPr>
              <p:spPr>
                <a:xfrm flipH="1" rot="16200000">
                  <a:off x="7713360" y="40939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H="1" rot="16200000">
                  <a:off x="786528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"/>
              <p:cNvGrpSpPr/>
              <p:nvPr/>
            </p:nvGrpSpPr>
            <p:grpSpPr>
              <a:xfrm>
                <a:off x="6800040" y="2912760"/>
                <a:ext cx="2018520" cy="1272600"/>
                <a:chOff x="6800040" y="2912760"/>
                <a:chExt cx="2018520" cy="1272600"/>
              </a:xfrm>
            </p:grpSpPr>
            <p:sp>
              <p:nvSpPr>
                <p:cNvPr id="1172" name=""/>
                <p:cNvSpPr/>
                <p:nvPr/>
              </p:nvSpPr>
              <p:spPr>
                <a:xfrm flipH="1">
                  <a:off x="84002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H="1">
                  <a:off x="76186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H="1">
                  <a:off x="68000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flipH="1">
                  <a:off x="76114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"/>
              <p:cNvSpPr/>
              <p:nvPr/>
            </p:nvSpPr>
            <p:spPr>
              <a:xfrm flipH="1">
                <a:off x="8012880" y="31143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7174800" y="31399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780984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9" name=""/>
              <p:cNvGrpSpPr/>
              <p:nvPr/>
            </p:nvGrpSpPr>
            <p:grpSpPr>
              <a:xfrm>
                <a:off x="6887880" y="2887560"/>
                <a:ext cx="228600" cy="76320"/>
                <a:chOff x="6887880" y="2887560"/>
                <a:chExt cx="228600" cy="76320"/>
              </a:xfrm>
            </p:grpSpPr>
            <p:sp>
              <p:nvSpPr>
                <p:cNvPr id="1180" name=""/>
                <p:cNvSpPr/>
                <p:nvPr/>
              </p:nvSpPr>
              <p:spPr>
                <a:xfrm flipH="1" rot="16200000">
                  <a:off x="688788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H="1" rot="16200000">
                  <a:off x="703980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6786000" y="3027240"/>
                <a:ext cx="75960" cy="228600"/>
                <a:chOff x="6786000" y="3027240"/>
                <a:chExt cx="75960" cy="228600"/>
              </a:xfrm>
            </p:grpSpPr>
            <p:sp>
              <p:nvSpPr>
                <p:cNvPr id="1183" name=""/>
                <p:cNvSpPr/>
                <p:nvPr/>
              </p:nvSpPr>
              <p:spPr>
                <a:xfrm flipH="1">
                  <a:off x="678564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H="1">
                  <a:off x="678564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6887880" y="3306600"/>
                <a:ext cx="228600" cy="76320"/>
                <a:chOff x="6887880" y="3306600"/>
                <a:chExt cx="228600" cy="76320"/>
              </a:xfrm>
            </p:grpSpPr>
            <p:sp>
              <p:nvSpPr>
                <p:cNvPr id="1186" name=""/>
                <p:cNvSpPr/>
                <p:nvPr/>
              </p:nvSpPr>
              <p:spPr>
                <a:xfrm flipH="1" rot="16200000">
                  <a:off x="688788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flipH="1" rot="16200000">
                  <a:off x="703980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7979760" y="3840120"/>
                <a:ext cx="76320" cy="228600"/>
                <a:chOff x="7979760" y="3840120"/>
                <a:chExt cx="76320" cy="228600"/>
              </a:xfrm>
            </p:grpSpPr>
            <p:sp>
              <p:nvSpPr>
                <p:cNvPr id="1189" name=""/>
                <p:cNvSpPr/>
                <p:nvPr/>
              </p:nvSpPr>
              <p:spPr>
                <a:xfrm flipH="1">
                  <a:off x="7979760" y="38401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flipH="1">
                  <a:off x="7979760" y="39927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"/>
              <p:cNvGrpSpPr/>
              <p:nvPr/>
            </p:nvGrpSpPr>
            <p:grpSpPr>
              <a:xfrm>
                <a:off x="7598880" y="3840120"/>
                <a:ext cx="75960" cy="228600"/>
                <a:chOff x="7598880" y="3840120"/>
                <a:chExt cx="75960" cy="228600"/>
              </a:xfrm>
            </p:grpSpPr>
            <p:sp>
              <p:nvSpPr>
                <p:cNvPr id="1192" name=""/>
                <p:cNvSpPr/>
                <p:nvPr/>
              </p:nvSpPr>
              <p:spPr>
                <a:xfrm flipH="1">
                  <a:off x="75985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 flipH="1">
                  <a:off x="75985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8513280" y="2887560"/>
                <a:ext cx="228600" cy="76320"/>
                <a:chOff x="8513280" y="2887560"/>
                <a:chExt cx="228600" cy="76320"/>
              </a:xfrm>
            </p:grpSpPr>
            <p:sp>
              <p:nvSpPr>
                <p:cNvPr id="1195" name=""/>
                <p:cNvSpPr/>
                <p:nvPr/>
              </p:nvSpPr>
              <p:spPr>
                <a:xfrm rot="5400000">
                  <a:off x="866556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rot="5400000">
                  <a:off x="851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8513280" y="3306600"/>
                <a:ext cx="228600" cy="76320"/>
                <a:chOff x="8513280" y="3306600"/>
                <a:chExt cx="228600" cy="76320"/>
              </a:xfrm>
            </p:grpSpPr>
            <p:sp>
              <p:nvSpPr>
                <p:cNvPr id="1198" name=""/>
                <p:cNvSpPr/>
                <p:nvPr/>
              </p:nvSpPr>
              <p:spPr>
                <a:xfrm rot="5400000">
                  <a:off x="866556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rot="5400000">
                  <a:off x="851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0" name=""/>
              <p:cNvSpPr/>
              <p:nvPr/>
            </p:nvSpPr>
            <p:spPr>
              <a:xfrm flipH="1">
                <a:off x="8004960" y="3192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66052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3872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3" name=""/>
          <p:cNvSpPr/>
          <p:nvPr/>
        </p:nvSpPr>
        <p:spPr>
          <a:xfrm>
            <a:off x="250920" y="2637000"/>
            <a:ext cx="8713800" cy="1655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Picture 5" descr="370px-Benzene-resonance-structures"/>
          <p:cNvPicPr/>
          <p:nvPr/>
        </p:nvPicPr>
        <p:blipFill>
          <a:blip r:embed="rId1"/>
          <a:srcRect l="0" t="0" r="0" b="47098"/>
          <a:stretch/>
        </p:blipFill>
        <p:spPr>
          <a:xfrm>
            <a:off x="3924360" y="4797360"/>
            <a:ext cx="4248000" cy="1792440"/>
          </a:xfrm>
          <a:prstGeom prst="rect">
            <a:avLst/>
          </a:prstGeom>
          <a:ln w="0">
            <a:noFill/>
          </a:ln>
        </p:spPr>
      </p:pic>
      <p:sp>
        <p:nvSpPr>
          <p:cNvPr id="1205" name=""/>
          <p:cNvSpPr/>
          <p:nvPr/>
        </p:nvSpPr>
        <p:spPr>
          <a:xfrm>
            <a:off x="3564000" y="4797360"/>
            <a:ext cx="5040360" cy="1871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0BEB5-93C5-44CB-A77B-1F74BDB8CFE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395280" y="333360"/>
            <a:ext cx="83520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8 p38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three resonance structures for the molecule nitrous oxide, N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O (the atomic arrangement is NNO). Indicate formal charges. Rank the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50920" y="206064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24000" y="2035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66560" y="270828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 =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41964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1128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4200" y="263700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75420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6112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1938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338560" y="270828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33856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19384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50920" y="242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332000" y="242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92436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92436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92436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72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41964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41964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003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836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21964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21964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93236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07672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21164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19640" y="2349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51528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020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66908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66764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766764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1528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51528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659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80400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831528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831528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73272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68770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730728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156360" y="24670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795672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114560" y="350028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067280" y="34974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236000" y="34290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08000" y="4149720"/>
            <a:ext cx="8964720" cy="22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structures show formal 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b) is the most important, because the –ve charge is on the more electronegative oxyge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c) is the least important one, because larger formal charge, also the +ve charge is on the more electronegative oxygen atom. </a:t>
            </a:r>
            <a:r>
              <a:rPr b="1" lang="en-GB" sz="2000" spc="-1" strike="noStrike">
                <a:solidFill>
                  <a:srgbClr val="cc3300"/>
                </a:solidFill>
                <a:latin typeface="Comic Sans MS"/>
              </a:rPr>
              <a:t>Arrangement of importance (b) &gt; (a) &gt;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698920" y="2924280"/>
            <a:ext cx="504720" cy="144360"/>
          </a:xfrm>
          <a:prstGeom prst="leftRightArrow">
            <a:avLst>
              <a:gd name="adj1" fmla="val 50000"/>
              <a:gd name="adj2" fmla="val 6960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724360" y="2924280"/>
            <a:ext cx="505080" cy="144360"/>
          </a:xfrm>
          <a:prstGeom prst="leftRightArrow">
            <a:avLst>
              <a:gd name="adj1" fmla="val 50000"/>
              <a:gd name="adj2" fmla="val 6965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3F34B-5C31-47AD-A663-83AC1B7AC23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9 Exceptions to the Octet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omplete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dd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8 valenc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86F13-E1AA-4D8D-A96D-285FACE5337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1. Incomplete Oct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complete octet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number of electrons surrounding the central atom in stable molecule is less than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BeH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Lewis structure is:       H –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–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4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3A (B &amp; Al); BF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Lewis structur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6 e</a:t>
            </a:r>
            <a:r>
              <a:rPr b="0" lang="en-US" sz="3200" spc="-1" strike="noStrike" u="sng" baseline="30000">
                <a:solidFill>
                  <a:srgbClr val="cc3300"/>
                </a:solidFill>
                <a:uFillTx/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012000" y="5300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–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659640" y="60166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875640" y="58039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08328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227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012000" y="5445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012000" y="55897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08328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227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7451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7596360" y="530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7738920" y="5445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738920" y="5589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7451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596360" y="5805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6730920" y="652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875640" y="65246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65964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65964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702000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702000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5C162-C866-46BA-8CCB-58126F0A360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/>
          <p:nvPr/>
        </p:nvSpPr>
        <p:spPr>
          <a:xfrm>
            <a:off x="395280" y="404640"/>
            <a:ext cx="8748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9 p3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Draw the Lewis structure for aluminium triiodide (AlI</a:t>
            </a:r>
            <a:r>
              <a:rPr b="0" lang="en-GB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95280" y="20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24000" y="206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346560" y="2708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– Al 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994200" y="34243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210200" y="32115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41784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562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34656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34656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41784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562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4786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93092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07348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07348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786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930920" y="3213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06548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210200" y="3932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99420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99420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35456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3545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39640" y="4653000"/>
            <a:ext cx="806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 atom is surrounded by ONLY 6 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l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example of incomplete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C7A08-6D46-40E2-8A40-6C20EE3CB28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2. Odd-Electrons Molec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dd-electrons molecules = RAD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adical: atom has one electron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xample: NO &amp;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wis structur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971640" y="38592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 = 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116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332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187280" y="4578480"/>
            <a:ext cx="289080" cy="2905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195640" y="3789360"/>
            <a:ext cx="14580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41128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195640" y="4578480"/>
            <a:ext cx="14580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411280" y="4578480"/>
            <a:ext cx="14472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861080" y="385920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 = N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003640" y="37893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221440" y="3789360"/>
            <a:ext cx="1425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148360" y="4578480"/>
            <a:ext cx="14436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156360" y="3646440"/>
            <a:ext cx="287280" cy="287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7451640" y="4506840"/>
            <a:ext cx="1429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766764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932360" y="4579920"/>
            <a:ext cx="1411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7670880" y="450684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886880" y="4005360"/>
            <a:ext cx="1411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886880" y="421956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745164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556000" y="2205000"/>
            <a:ext cx="2160360" cy="719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708360" y="3645000"/>
            <a:ext cx="0" cy="25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157BA-DF8A-492E-8B99-EF4A9A26AED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 The Expanded Oct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 and beyond (4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6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7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) may form molecules in which the central atom is surrounded by more than 8 electrons (expanded oct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reason of this: is the presence of the d orbital that can be used in bond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: SF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lphur is surrounded by 12 electro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29480" y="4726080"/>
            <a:ext cx="60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1676520" y="4359240"/>
            <a:ext cx="1523880" cy="1194480"/>
            <a:chOff x="1676520" y="4359240"/>
            <a:chExt cx="1523880" cy="1194480"/>
          </a:xfrm>
        </p:grpSpPr>
        <p:sp>
          <p:nvSpPr>
            <p:cNvPr id="1335" name=""/>
            <p:cNvSpPr/>
            <p:nvPr/>
          </p:nvSpPr>
          <p:spPr>
            <a:xfrm>
              <a:off x="2092320" y="435924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 – 6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753200" y="470052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F – 42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76520" y="51130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418480" y="509400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848040" y="3933720"/>
            <a:ext cx="1485360" cy="2028240"/>
            <a:chOff x="3848040" y="3933720"/>
            <a:chExt cx="1485360" cy="2028240"/>
          </a:xfrm>
        </p:grpSpPr>
        <p:grpSp>
          <p:nvGrpSpPr>
            <p:cNvPr id="1340" name=""/>
            <p:cNvGrpSpPr/>
            <p:nvPr/>
          </p:nvGrpSpPr>
          <p:grpSpPr>
            <a:xfrm>
              <a:off x="3886200" y="4289400"/>
              <a:ext cx="75960" cy="228600"/>
              <a:chOff x="3886200" y="4289400"/>
              <a:chExt cx="75960" cy="228600"/>
            </a:xfrm>
          </p:grpSpPr>
          <p:sp>
            <p:nvSpPr>
              <p:cNvPr id="1341" name=""/>
              <p:cNvSpPr/>
              <p:nvPr/>
            </p:nvSpPr>
            <p:spPr>
              <a:xfrm>
                <a:off x="3886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886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3987360" y="4162320"/>
              <a:ext cx="228600" cy="76320"/>
              <a:chOff x="3987360" y="4162320"/>
              <a:chExt cx="228600" cy="76320"/>
            </a:xfrm>
          </p:grpSpPr>
          <p:sp>
            <p:nvSpPr>
              <p:cNvPr id="1344" name=""/>
              <p:cNvSpPr/>
              <p:nvPr/>
            </p:nvSpPr>
            <p:spPr>
              <a:xfrm rot="5400000">
                <a:off x="413964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5400000">
                <a:off x="398700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6" name=""/>
            <p:cNvSpPr/>
            <p:nvPr/>
          </p:nvSpPr>
          <p:spPr>
            <a:xfrm>
              <a:off x="4412880" y="474012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89988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92688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98096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414320" y="39783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96836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414320" y="55022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4572000" y="43783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4572000" y="51404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471168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4203720" y="51530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 flipV="1">
              <a:off x="417636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4735080" y="51404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9" name=""/>
            <p:cNvGrpSpPr/>
            <p:nvPr/>
          </p:nvGrpSpPr>
          <p:grpSpPr>
            <a:xfrm>
              <a:off x="4203720" y="4289400"/>
              <a:ext cx="75960" cy="228600"/>
              <a:chOff x="4203720" y="4289400"/>
              <a:chExt cx="75960" cy="228600"/>
            </a:xfrm>
          </p:grpSpPr>
          <p:sp>
            <p:nvSpPr>
              <p:cNvPr id="1360" name=""/>
              <p:cNvSpPr/>
              <p:nvPr/>
            </p:nvSpPr>
            <p:spPr>
              <a:xfrm>
                <a:off x="420372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0372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4381560" y="4060800"/>
              <a:ext cx="75960" cy="228600"/>
              <a:chOff x="4381560" y="4060800"/>
              <a:chExt cx="75960" cy="228600"/>
            </a:xfrm>
          </p:grpSpPr>
          <p:sp>
            <p:nvSpPr>
              <p:cNvPr id="1363" name=""/>
              <p:cNvSpPr/>
              <p:nvPr/>
            </p:nvSpPr>
            <p:spPr>
              <a:xfrm>
                <a:off x="438156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38156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4482720" y="3933720"/>
              <a:ext cx="228600" cy="76320"/>
              <a:chOff x="4482720" y="3933720"/>
              <a:chExt cx="228600" cy="76320"/>
            </a:xfrm>
          </p:grpSpPr>
          <p:sp>
            <p:nvSpPr>
              <p:cNvPr id="1366" name=""/>
              <p:cNvSpPr/>
              <p:nvPr/>
            </p:nvSpPr>
            <p:spPr>
              <a:xfrm rot="5400000">
                <a:off x="4635000" y="3933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5400000">
                <a:off x="4482360" y="39337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4699080" y="4060800"/>
              <a:ext cx="75960" cy="228600"/>
              <a:chOff x="4699080" y="4060800"/>
              <a:chExt cx="75960" cy="228600"/>
            </a:xfrm>
          </p:grpSpPr>
          <p:sp>
            <p:nvSpPr>
              <p:cNvPr id="1369" name=""/>
              <p:cNvSpPr/>
              <p:nvPr/>
            </p:nvSpPr>
            <p:spPr>
              <a:xfrm>
                <a:off x="469908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69908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4927680" y="4289400"/>
              <a:ext cx="75960" cy="228600"/>
              <a:chOff x="4927680" y="4289400"/>
              <a:chExt cx="75960" cy="228600"/>
            </a:xfrm>
          </p:grpSpPr>
          <p:sp>
            <p:nvSpPr>
              <p:cNvPr id="1372" name=""/>
              <p:cNvSpPr/>
              <p:nvPr/>
            </p:nvSpPr>
            <p:spPr>
              <a:xfrm>
                <a:off x="492768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92768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5028840" y="4162320"/>
              <a:ext cx="228600" cy="76320"/>
              <a:chOff x="5028840" y="4162320"/>
              <a:chExt cx="228600" cy="76320"/>
            </a:xfrm>
          </p:grpSpPr>
          <p:sp>
            <p:nvSpPr>
              <p:cNvPr id="1375" name=""/>
              <p:cNvSpPr/>
              <p:nvPr/>
            </p:nvSpPr>
            <p:spPr>
              <a:xfrm rot="5400000">
                <a:off x="518112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5400000">
                <a:off x="502848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5245200" y="4289400"/>
              <a:ext cx="75960" cy="228600"/>
              <a:chOff x="5245200" y="4289400"/>
              <a:chExt cx="75960" cy="228600"/>
            </a:xfrm>
          </p:grpSpPr>
          <p:sp>
            <p:nvSpPr>
              <p:cNvPr id="1378" name=""/>
              <p:cNvSpPr/>
              <p:nvPr/>
            </p:nvSpPr>
            <p:spPr>
              <a:xfrm>
                <a:off x="5245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245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3848040" y="5382000"/>
              <a:ext cx="393840" cy="355320"/>
              <a:chOff x="3848040" y="5382000"/>
              <a:chExt cx="393840" cy="355320"/>
            </a:xfrm>
          </p:grpSpPr>
          <p:grpSp>
            <p:nvGrpSpPr>
              <p:cNvPr id="1381" name=""/>
              <p:cNvGrpSpPr/>
              <p:nvPr/>
            </p:nvGrpSpPr>
            <p:grpSpPr>
              <a:xfrm>
                <a:off x="3848040" y="5382000"/>
                <a:ext cx="76320" cy="228600"/>
                <a:chOff x="3848040" y="5382000"/>
                <a:chExt cx="76320" cy="228600"/>
              </a:xfrm>
            </p:grpSpPr>
            <p:sp>
              <p:nvSpPr>
                <p:cNvPr id="1382" name=""/>
                <p:cNvSpPr/>
                <p:nvPr/>
              </p:nvSpPr>
              <p:spPr>
                <a:xfrm flipV="1">
                  <a:off x="384804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V="1">
                  <a:off x="384804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3949560" y="5661360"/>
                <a:ext cx="228600" cy="75960"/>
                <a:chOff x="3949560" y="5661360"/>
                <a:chExt cx="228600" cy="75960"/>
              </a:xfrm>
            </p:grpSpPr>
            <p:sp>
              <p:nvSpPr>
                <p:cNvPr id="1385" name=""/>
                <p:cNvSpPr/>
                <p:nvPr/>
              </p:nvSpPr>
              <p:spPr>
                <a:xfrm flipV="1" rot="16200000">
                  <a:off x="4101840" y="5660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flipV="1" rot="16200000">
                  <a:off x="3949560" y="566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4165560" y="5382000"/>
                <a:ext cx="76320" cy="228600"/>
                <a:chOff x="4165560" y="5382000"/>
                <a:chExt cx="76320" cy="228600"/>
              </a:xfrm>
            </p:grpSpPr>
            <p:sp>
              <p:nvSpPr>
                <p:cNvPr id="1388" name=""/>
                <p:cNvSpPr/>
                <p:nvPr/>
              </p:nvSpPr>
              <p:spPr>
                <a:xfrm flipV="1">
                  <a:off x="416556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flipV="1">
                  <a:off x="416556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0" name=""/>
            <p:cNvGrpSpPr/>
            <p:nvPr/>
          </p:nvGrpSpPr>
          <p:grpSpPr>
            <a:xfrm>
              <a:off x="4940280" y="5368680"/>
              <a:ext cx="393120" cy="355320"/>
              <a:chOff x="4940280" y="5368680"/>
              <a:chExt cx="393120" cy="355320"/>
            </a:xfrm>
          </p:grpSpPr>
          <p:grpSp>
            <p:nvGrpSpPr>
              <p:cNvPr id="1391" name=""/>
              <p:cNvGrpSpPr/>
              <p:nvPr/>
            </p:nvGrpSpPr>
            <p:grpSpPr>
              <a:xfrm>
                <a:off x="4940280" y="5368680"/>
                <a:ext cx="75960" cy="228600"/>
                <a:chOff x="4940280" y="5368680"/>
                <a:chExt cx="75960" cy="228600"/>
              </a:xfrm>
            </p:grpSpPr>
            <p:sp>
              <p:nvSpPr>
                <p:cNvPr id="1392" name=""/>
                <p:cNvSpPr/>
                <p:nvPr/>
              </p:nvSpPr>
              <p:spPr>
                <a:xfrm flipV="1">
                  <a:off x="494028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flipV="1">
                  <a:off x="494028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5042160" y="5648040"/>
                <a:ext cx="227880" cy="75960"/>
                <a:chOff x="5042160" y="5648040"/>
                <a:chExt cx="227880" cy="75960"/>
              </a:xfrm>
            </p:grpSpPr>
            <p:sp>
              <p:nvSpPr>
                <p:cNvPr id="1395" name=""/>
                <p:cNvSpPr/>
                <p:nvPr/>
              </p:nvSpPr>
              <p:spPr>
                <a:xfrm flipV="1" rot="16200000">
                  <a:off x="5194080" y="5647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V="1" rot="16200000">
                  <a:off x="5041800" y="56476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7" name=""/>
              <p:cNvGrpSpPr/>
              <p:nvPr/>
            </p:nvGrpSpPr>
            <p:grpSpPr>
              <a:xfrm>
                <a:off x="5257440" y="5368680"/>
                <a:ext cx="75960" cy="228600"/>
                <a:chOff x="5257440" y="5368680"/>
                <a:chExt cx="75960" cy="228600"/>
              </a:xfrm>
            </p:grpSpPr>
            <p:sp>
              <p:nvSpPr>
                <p:cNvPr id="1398" name=""/>
                <p:cNvSpPr/>
                <p:nvPr/>
              </p:nvSpPr>
              <p:spPr>
                <a:xfrm flipV="1">
                  <a:off x="525744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flipV="1">
                  <a:off x="525744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0" name=""/>
            <p:cNvGrpSpPr/>
            <p:nvPr/>
          </p:nvGrpSpPr>
          <p:grpSpPr>
            <a:xfrm>
              <a:off x="4381560" y="5585040"/>
              <a:ext cx="393120" cy="355320"/>
              <a:chOff x="4381560" y="5585040"/>
              <a:chExt cx="393120" cy="355320"/>
            </a:xfrm>
          </p:grpSpPr>
          <p:grpSp>
            <p:nvGrpSpPr>
              <p:cNvPr id="1401" name=""/>
              <p:cNvGrpSpPr/>
              <p:nvPr/>
            </p:nvGrpSpPr>
            <p:grpSpPr>
              <a:xfrm>
                <a:off x="4381560" y="5585040"/>
                <a:ext cx="75960" cy="228600"/>
                <a:chOff x="4381560" y="5585040"/>
                <a:chExt cx="75960" cy="228600"/>
              </a:xfrm>
            </p:grpSpPr>
            <p:sp>
              <p:nvSpPr>
                <p:cNvPr id="1402" name=""/>
                <p:cNvSpPr/>
                <p:nvPr/>
              </p:nvSpPr>
              <p:spPr>
                <a:xfrm flipV="1">
                  <a:off x="438156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V="1">
                  <a:off x="438156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4483440" y="5864400"/>
                <a:ext cx="227880" cy="75960"/>
                <a:chOff x="4483440" y="5864400"/>
                <a:chExt cx="227880" cy="75960"/>
              </a:xfrm>
            </p:grpSpPr>
            <p:sp>
              <p:nvSpPr>
                <p:cNvPr id="1405" name=""/>
                <p:cNvSpPr/>
                <p:nvPr/>
              </p:nvSpPr>
              <p:spPr>
                <a:xfrm flipV="1" rot="16200000">
                  <a:off x="4635360" y="5864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flipV="1" rot="16200000">
                  <a:off x="4483080" y="58640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7" name=""/>
              <p:cNvGrpSpPr/>
              <p:nvPr/>
            </p:nvGrpSpPr>
            <p:grpSpPr>
              <a:xfrm>
                <a:off x="4698720" y="5585040"/>
                <a:ext cx="75960" cy="228600"/>
                <a:chOff x="4698720" y="5585040"/>
                <a:chExt cx="75960" cy="228600"/>
              </a:xfrm>
            </p:grpSpPr>
            <p:sp>
              <p:nvSpPr>
                <p:cNvPr id="1408" name=""/>
                <p:cNvSpPr/>
                <p:nvPr/>
              </p:nvSpPr>
              <p:spPr>
                <a:xfrm flipV="1">
                  <a:off x="469872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V="1">
                  <a:off x="469872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10" name=""/>
          <p:cNvGrpSpPr/>
          <p:nvPr/>
        </p:nvGrpSpPr>
        <p:grpSpPr>
          <a:xfrm>
            <a:off x="5410080" y="4429080"/>
            <a:ext cx="3519720" cy="1049760"/>
            <a:chOff x="5410080" y="4429080"/>
            <a:chExt cx="3519720" cy="1049760"/>
          </a:xfrm>
        </p:grpSpPr>
        <p:sp>
          <p:nvSpPr>
            <p:cNvPr id="1411" name=""/>
            <p:cNvSpPr/>
            <p:nvPr/>
          </p:nvSpPr>
          <p:spPr>
            <a:xfrm>
              <a:off x="5410080" y="44290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 single bonds (6x2) = 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2" name=""/>
            <p:cNvGrpSpPr/>
            <p:nvPr/>
          </p:nvGrpSpPr>
          <p:grpSpPr>
            <a:xfrm>
              <a:off x="5823720" y="4763880"/>
              <a:ext cx="3078000" cy="398880"/>
              <a:chOff x="5823720" y="4763880"/>
              <a:chExt cx="3078000" cy="398880"/>
            </a:xfrm>
          </p:grpSpPr>
          <p:sp>
            <p:nvSpPr>
              <p:cNvPr id="1413" name=""/>
              <p:cNvSpPr/>
              <p:nvPr/>
            </p:nvSpPr>
            <p:spPr>
              <a:xfrm>
                <a:off x="5823720" y="4763880"/>
                <a:ext cx="307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18 lone pairs (18x2) = 3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943600" y="510372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5" name=""/>
            <p:cNvSpPr/>
            <p:nvPr/>
          </p:nvSpPr>
          <p:spPr>
            <a:xfrm>
              <a:off x="7583040" y="5079960"/>
              <a:ext cx="134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otal = 4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"/>
          <p:cNvSpPr/>
          <p:nvPr/>
        </p:nvSpPr>
        <p:spPr>
          <a:xfrm>
            <a:off x="4038480" y="4429080"/>
            <a:ext cx="1067040" cy="1066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7B434-B95C-45D4-87C1-8284EBD0CD0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324000" y="812880"/>
            <a:ext cx="8496000" cy="52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xceptions to the Octet Ru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Incomplete octet: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Be, B, &amp; 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2. </a:t>
            </a:r>
            <a:r>
              <a:rPr b="1" lang="en-GB" sz="3200" spc="-1" strike="noStrike">
                <a:solidFill>
                  <a:srgbClr val="cc3300"/>
                </a:solidFill>
                <a:latin typeface="Comic Sans MS"/>
              </a:rPr>
              <a:t>Odd-electrons: 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NO, NO</a:t>
            </a:r>
            <a:r>
              <a:rPr b="0" lang="en-GB" sz="32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 ( or when the valance electrons is odd nu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 </a:t>
            </a: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Expanded octet: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 elements of 3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4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&amp; so on, may form expanded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90139-F161-420D-851F-44555F9FC8A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2120" y="480960"/>
            <a:ext cx="874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Valence electr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the outer shell electrons of an  atom.  The valence electrons are the electrons that participate in chemical bo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38360" y="2522520"/>
            <a:ext cx="5514480" cy="461160"/>
            <a:chOff x="1638360" y="2522520"/>
            <a:chExt cx="5514480" cy="461160"/>
          </a:xfrm>
        </p:grpSpPr>
        <p:sp>
          <p:nvSpPr>
            <p:cNvPr id="114" name=""/>
            <p:cNvSpPr/>
            <p:nvPr/>
          </p:nvSpPr>
          <p:spPr>
            <a:xfrm>
              <a:off x="1638360" y="252396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98240" y="252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81680" y="25225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62840" y="3057480"/>
            <a:ext cx="5514120" cy="475560"/>
            <a:chOff x="1662840" y="3057480"/>
            <a:chExt cx="5514120" cy="475560"/>
          </a:xfrm>
        </p:grpSpPr>
        <p:sp>
          <p:nvSpPr>
            <p:cNvPr id="118" name=""/>
            <p:cNvSpPr/>
            <p:nvPr/>
          </p:nvSpPr>
          <p:spPr>
            <a:xfrm>
              <a:off x="1662840" y="30574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2360" y="3073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96800" y="30733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662840" y="3605040"/>
            <a:ext cx="5514120" cy="480600"/>
            <a:chOff x="1662840" y="3605040"/>
            <a:chExt cx="5514120" cy="480600"/>
          </a:xfrm>
        </p:grpSpPr>
        <p:sp>
          <p:nvSpPr>
            <p:cNvPr id="122" name=""/>
            <p:cNvSpPr/>
            <p:nvPr/>
          </p:nvSpPr>
          <p:spPr>
            <a:xfrm>
              <a:off x="1662840" y="360504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2360" y="3625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63160" y="36259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662840" y="4154400"/>
            <a:ext cx="5514120" cy="483480"/>
            <a:chOff x="1662840" y="4154400"/>
            <a:chExt cx="5514120" cy="483480"/>
          </a:xfrm>
        </p:grpSpPr>
        <p:sp>
          <p:nvSpPr>
            <p:cNvPr id="126" name=""/>
            <p:cNvSpPr/>
            <p:nvPr/>
          </p:nvSpPr>
          <p:spPr>
            <a:xfrm>
              <a:off x="1662840" y="415440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22360" y="417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79000" y="4178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662840" y="4702320"/>
            <a:ext cx="5514120" cy="486720"/>
            <a:chOff x="1662840" y="4702320"/>
            <a:chExt cx="5514120" cy="486720"/>
          </a:xfrm>
        </p:grpSpPr>
        <p:sp>
          <p:nvSpPr>
            <p:cNvPr id="130" name=""/>
            <p:cNvSpPr/>
            <p:nvPr/>
          </p:nvSpPr>
          <p:spPr>
            <a:xfrm>
              <a:off x="1662840" y="4702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22360" y="4729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79000" y="47293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662840" y="5251320"/>
            <a:ext cx="5514120" cy="489960"/>
            <a:chOff x="1662840" y="5251320"/>
            <a:chExt cx="5514120" cy="489960"/>
          </a:xfrm>
        </p:grpSpPr>
        <p:sp>
          <p:nvSpPr>
            <p:cNvPr id="134" name=""/>
            <p:cNvSpPr/>
            <p:nvPr/>
          </p:nvSpPr>
          <p:spPr>
            <a:xfrm>
              <a:off x="1662840" y="5251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22360" y="5281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79000" y="52815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662840" y="5800680"/>
            <a:ext cx="5514120" cy="493200"/>
            <a:chOff x="1662840" y="5800680"/>
            <a:chExt cx="5514120" cy="493200"/>
          </a:xfrm>
        </p:grpSpPr>
        <p:sp>
          <p:nvSpPr>
            <p:cNvPr id="138" name=""/>
            <p:cNvSpPr/>
            <p:nvPr/>
          </p:nvSpPr>
          <p:spPr>
            <a:xfrm>
              <a:off x="1662840" y="58006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22360" y="583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79000" y="5834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368360" y="1989000"/>
            <a:ext cx="6952680" cy="459720"/>
            <a:chOff x="1368360" y="1989000"/>
            <a:chExt cx="6952680" cy="459720"/>
          </a:xfrm>
        </p:grpSpPr>
        <p:sp>
          <p:nvSpPr>
            <p:cNvPr id="142" name=""/>
            <p:cNvSpPr/>
            <p:nvPr/>
          </p:nvSpPr>
          <p:spPr>
            <a:xfrm>
              <a:off x="1368360" y="1989000"/>
              <a:ext cx="109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02720" y="1989000"/>
              <a:ext cx="22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# of valence 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18480" y="1989000"/>
              <a:ext cx="24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 configu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B88AA-1079-46CF-8547-71F20C3902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/>
          <p:nvPr/>
        </p:nvSpPr>
        <p:spPr>
          <a:xfrm>
            <a:off x="395280" y="333360"/>
            <a:ext cx="828216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0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Lewis structure for phosphorus pentaflouridde (PF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, in which all five F atoms are bounded to the central P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24000" y="213372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24000" y="227664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P is i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eriod can have expanded oct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Valance electrons = 5 + (7 x 5 )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electrons in Lewis structur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15 x 2) = 30 lone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5 x 2) = 10 e single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P has (5 x 2) = 10 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7237440" y="4505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8244000" y="4433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237440" y="3497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156360" y="42861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7237440" y="5657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156360" y="49370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453440" y="40734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7453440" y="50817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7669080" y="47214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661080" y="4576680"/>
            <a:ext cx="576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6660720" y="4865760"/>
            <a:ext cx="576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22944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37380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156360" y="4437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156360" y="458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37380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22944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227640" y="494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372360" y="49417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4560" y="5157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6154560" y="5302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372360" y="5518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6227640" y="5518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7597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597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165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7165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7383600" y="6237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23888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308720" y="342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453440" y="3429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236000" y="3645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236000" y="378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7597800" y="3716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759780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8317080" y="43639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8461440" y="43639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8677440" y="4581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675640" y="4724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8461440" y="4940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831708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812000" y="2997360"/>
            <a:ext cx="1187640" cy="119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mal Charg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 &amp; F is Zero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A778F-6D44-4E3B-B2B3-E0E5E811D0E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0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395280" y="333360"/>
            <a:ext cx="82821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1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Lewis structure for sulphate ion (S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, in which all four O atoms are bounded to the central S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50920" y="177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24000" y="1773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730520" y="356868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736720" y="3641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1730520" y="25606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649440" y="35672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730520" y="47214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946160" y="3137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946160" y="4145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162160" y="3933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1116000" y="386028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72216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86688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49440" y="37180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49440" y="3862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86688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72216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195640" y="5084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219564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1690560" y="486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69056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197820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83528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80180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94616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172872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72872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219564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195640" y="2852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80980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95416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1701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16872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95416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80980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835280" y="2060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835280" y="50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05928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2400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059280" y="4724280"/>
            <a:ext cx="23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627960" y="357192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7524720" y="35701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659640" y="2565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5546880" y="357012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627960" y="47242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6843600" y="31399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843600" y="414828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7059600" y="386064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6013440" y="386352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561960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576432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546880" y="37209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546880" y="38656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76432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61960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093080" y="50166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7093080" y="4871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588000" y="48736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6588000" y="50166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626160" y="271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626160" y="28558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7093080" y="27115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7093080" y="2855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759780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774216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7958160" y="3718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795672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774216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59780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7846920" y="321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221440" y="32878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948360" y="3144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948360" y="4152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068720" y="522936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ructure has an expanded octet on S, BUT it is more correct because, it has less formal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7B82A-C1F2-4AD9-A9EF-E4710804306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0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468360" y="333000"/>
            <a:ext cx="59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en acting as a central atom, which of the following cannot expand its oct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611280" y="1844640"/>
          <a:ext cx="2232000" cy="2587680"/>
        </p:xfrm>
        <a:graphic>
          <a:graphicData uri="http://schemas.openxmlformats.org/drawingml/2006/table">
            <a:tbl>
              <a:tblPr/>
              <a:tblGrid>
                <a:gridCol w="1081080"/>
                <a:gridCol w="115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0" name=""/>
          <p:cNvSpPr/>
          <p:nvPr/>
        </p:nvSpPr>
        <p:spPr>
          <a:xfrm>
            <a:off x="3157200" y="4206240"/>
            <a:ext cx="200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628640"/>
            <a:ext cx="6048360" cy="3945240"/>
          </a:xfrm>
          <a:prstGeom prst="rect">
            <a:avLst/>
          </a:prstGeom>
          <a:ln w="0">
            <a:noFill/>
          </a:ln>
        </p:spPr>
      </p:pic>
      <p:sp>
        <p:nvSpPr>
          <p:cNvPr id="1542" name=""/>
          <p:cNvSpPr/>
          <p:nvPr/>
        </p:nvSpPr>
        <p:spPr>
          <a:xfrm>
            <a:off x="468360" y="568152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e: Period 3 and beyond can expanded its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7236000" y="2205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824400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8604360" y="3213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7956720" y="2563920"/>
            <a:ext cx="28872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759636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51D9C-63DA-4471-9FCF-0C1108A3E12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395280" y="47628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ich of the following molecules is an exception for the octet rule of Lewi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511200" y="4011480"/>
            <a:ext cx="6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-43812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3956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2" name=""/>
          <p:cNvGraphicFramePr/>
          <p:nvPr/>
        </p:nvGraphicFramePr>
        <p:xfrm>
          <a:off x="539640" y="2203560"/>
          <a:ext cx="1944720" cy="2305080"/>
        </p:xfrm>
        <a:graphic>
          <a:graphicData uri="http://schemas.openxmlformats.org/drawingml/2006/table">
            <a:tbl>
              <a:tblPr/>
              <a:tblGrid>
                <a:gridCol w="719280"/>
                <a:gridCol w="12254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SF</a:t>
                      </a:r>
                      <a:r>
                        <a:rPr b="0" lang="en-US" sz="2800" spc="-1" strike="noStrike" baseline="-25000">
                          <a:solidFill>
                            <a:srgbClr val="cc33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10FC2-E783-490B-8CAA-3A0BAAE8373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"/>
          <p:cNvSpPr/>
          <p:nvPr/>
        </p:nvSpPr>
        <p:spPr>
          <a:xfrm>
            <a:off x="2411280" y="249228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3D0E1-EE5C-4481-A9CF-A81E7591E1C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9.1 Lewis Dot Symbols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cs typeface="Times New Roman"/>
              </a:rPr>
              <a:t>نظام النقط للويس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1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ctet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Rule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forming chemical bonds, atoms usually gain, lose or share electrons until they have </a:t>
            </a:r>
            <a:r>
              <a:rPr b="0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8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outer shell to reach the same electronic configuration of the noble gasses (ns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wis Dot Representation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representation of an atom, the valence electrons of an atom are represented by dot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re are two main types of chemical bonds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bond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ovalent bon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258E7-385D-411E-886A-058C3DB724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920" y="484200"/>
            <a:ext cx="85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Dot Symbols for the Representative Elements &amp; Noble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920960"/>
            <a:ext cx="9144000" cy="388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C14B1-1F9D-40C6-A6E1-06CADE9018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04920" y="1676520"/>
          <a:ext cx="8731080" cy="3089160"/>
        </p:xfrm>
        <a:graphic>
          <a:graphicData uri="http://schemas.openxmlformats.org/drawingml/2006/table">
            <a:tbl>
              <a:tblPr/>
              <a:tblGrid>
                <a:gridCol w="2898720"/>
                <a:gridCol w="2376360"/>
                <a:gridCol w="3456000"/>
              </a:tblGrid>
              <a:tr h="101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s of Ato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 of B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nd Characteri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etals 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lec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ransfer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lectron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a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68360" y="549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B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51577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Non-metals have high electronegativ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Metals have low electronega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FAE6A-BB1F-4453-89EB-775C8F834D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15080" y="393840"/>
            <a:ext cx="42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2 the ionic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53000" y="2260440"/>
            <a:ext cx="2640240" cy="581400"/>
            <a:chOff x="4653000" y="2260440"/>
            <a:chExt cx="2640240" cy="581400"/>
          </a:xfrm>
        </p:grpSpPr>
        <p:grpSp>
          <p:nvGrpSpPr>
            <p:cNvPr id="154" name=""/>
            <p:cNvGrpSpPr/>
            <p:nvPr/>
          </p:nvGrpSpPr>
          <p:grpSpPr>
            <a:xfrm>
              <a:off x="4653000" y="2371320"/>
              <a:ext cx="465120" cy="459720"/>
              <a:chOff x="4653000" y="2371320"/>
              <a:chExt cx="465120" cy="459720"/>
            </a:xfrm>
          </p:grpSpPr>
          <p:sp>
            <p:nvSpPr>
              <p:cNvPr id="155" name=""/>
              <p:cNvSpPr/>
              <p:nvPr/>
            </p:nvSpPr>
            <p:spPr>
              <a:xfrm>
                <a:off x="4698000" y="2371320"/>
                <a:ext cx="4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L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653000" y="25030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224320" y="26064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33240" y="2260440"/>
              <a:ext cx="12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e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785760" y="3003480"/>
            <a:ext cx="2869200" cy="705240"/>
            <a:chOff x="3785760" y="3003480"/>
            <a:chExt cx="2869200" cy="705240"/>
          </a:xfrm>
        </p:grpSpPr>
        <p:grpSp>
          <p:nvGrpSpPr>
            <p:cNvPr id="160" name=""/>
            <p:cNvGrpSpPr/>
            <p:nvPr/>
          </p:nvGrpSpPr>
          <p:grpSpPr>
            <a:xfrm>
              <a:off x="3785760" y="3121200"/>
              <a:ext cx="1348920" cy="587520"/>
              <a:chOff x="3785760" y="3121200"/>
              <a:chExt cx="1348920" cy="587520"/>
            </a:xfrm>
          </p:grpSpPr>
          <p:sp>
            <p:nvSpPr>
              <p:cNvPr id="161" name=""/>
              <p:cNvSpPr/>
              <p:nvPr/>
            </p:nvSpPr>
            <p:spPr>
              <a:xfrm>
                <a:off x="3785760" y="3127320"/>
                <a:ext cx="761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4691160" y="3121200"/>
                <a:ext cx="443520" cy="480240"/>
                <a:chOff x="4691160" y="3121200"/>
                <a:chExt cx="443520" cy="480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750200" y="314172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4691160" y="3247920"/>
                  <a:ext cx="75960" cy="228600"/>
                  <a:chOff x="4691160" y="3247920"/>
                  <a:chExt cx="75960" cy="2286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4691160" y="324792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4691160" y="3400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"/>
                <p:cNvSpPr/>
                <p:nvPr/>
              </p:nvSpPr>
              <p:spPr>
                <a:xfrm>
                  <a:off x="5058720" y="32479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"/>
                <p:cNvGrpSpPr/>
                <p:nvPr/>
              </p:nvGrpSpPr>
              <p:grpSpPr>
                <a:xfrm>
                  <a:off x="4792320" y="3121200"/>
                  <a:ext cx="227520" cy="75960"/>
                  <a:chOff x="4792320" y="3121200"/>
                  <a:chExt cx="227520" cy="759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5400000">
                    <a:off x="4943880" y="3121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5400000">
                    <a:off x="4791960" y="312120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4792320" y="3514680"/>
                  <a:ext cx="227520" cy="76320"/>
                  <a:chOff x="4792320" y="3514680"/>
                  <a:chExt cx="227520" cy="763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5400000">
                    <a:off x="4943520" y="35146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5400000">
                    <a:off x="4791960" y="351504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74" name=""/>
            <p:cNvSpPr/>
            <p:nvPr/>
          </p:nvSpPr>
          <p:spPr>
            <a:xfrm>
              <a:off x="5236920" y="3376800"/>
              <a:ext cx="68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960880" y="3003480"/>
              <a:ext cx="694080" cy="597600"/>
              <a:chOff x="5960880" y="3003480"/>
              <a:chExt cx="694080" cy="597600"/>
            </a:xfrm>
          </p:grpSpPr>
          <p:sp>
            <p:nvSpPr>
              <p:cNvPr id="176" name=""/>
              <p:cNvSpPr/>
              <p:nvPr/>
            </p:nvSpPr>
            <p:spPr>
              <a:xfrm>
                <a:off x="6328800" y="3400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5960880" y="3120840"/>
                <a:ext cx="443880" cy="480240"/>
                <a:chOff x="5960880" y="3120840"/>
                <a:chExt cx="443880" cy="480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019920" y="314136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"/>
                <p:cNvGrpSpPr/>
                <p:nvPr/>
              </p:nvGrpSpPr>
              <p:grpSpPr>
                <a:xfrm>
                  <a:off x="5960880" y="3247560"/>
                  <a:ext cx="75960" cy="228600"/>
                  <a:chOff x="5960880" y="3247560"/>
                  <a:chExt cx="75960" cy="22860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5960880" y="3247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960880" y="3400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6328800" y="32475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"/>
                <p:cNvGrpSpPr/>
                <p:nvPr/>
              </p:nvGrpSpPr>
              <p:grpSpPr>
                <a:xfrm>
                  <a:off x="6062400" y="3120840"/>
                  <a:ext cx="227880" cy="75960"/>
                  <a:chOff x="6062400" y="3120840"/>
                  <a:chExt cx="227880" cy="759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5400000">
                    <a:off x="6214320" y="3120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5400000">
                    <a:off x="6062040" y="3120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062400" y="3514320"/>
                  <a:ext cx="227880" cy="76320"/>
                  <a:chOff x="6062400" y="3514320"/>
                  <a:chExt cx="227880" cy="7632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5400000">
                    <a:off x="6213960" y="3514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5400000">
                    <a:off x="6062040" y="351468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9" name=""/>
              <p:cNvSpPr/>
              <p:nvPr/>
            </p:nvSpPr>
            <p:spPr>
              <a:xfrm>
                <a:off x="6359760" y="300348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3691440" y="3828960"/>
            <a:ext cx="3471840" cy="610560"/>
            <a:chOff x="3691440" y="3828960"/>
            <a:chExt cx="3471840" cy="610560"/>
          </a:xfrm>
        </p:grpSpPr>
        <p:sp>
          <p:nvSpPr>
            <p:cNvPr id="191" name=""/>
            <p:cNvSpPr/>
            <p:nvPr/>
          </p:nvSpPr>
          <p:spPr>
            <a:xfrm>
              <a:off x="5236920" y="41893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4691160" y="3828960"/>
              <a:ext cx="694080" cy="597600"/>
              <a:chOff x="4691160" y="3828960"/>
              <a:chExt cx="694080" cy="597600"/>
            </a:xfrm>
          </p:grpSpPr>
          <p:sp>
            <p:nvSpPr>
              <p:cNvPr id="193" name=""/>
              <p:cNvSpPr/>
              <p:nvPr/>
            </p:nvSpPr>
            <p:spPr>
              <a:xfrm>
                <a:off x="5059080" y="4225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4691160" y="3946320"/>
                <a:ext cx="443880" cy="480240"/>
                <a:chOff x="4691160" y="3946320"/>
                <a:chExt cx="443880" cy="4802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750200" y="39668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4691160" y="4073040"/>
                  <a:ext cx="75960" cy="228600"/>
                  <a:chOff x="4691160" y="4073040"/>
                  <a:chExt cx="75960" cy="2286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4691160" y="4073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691160" y="4225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>
                  <a:off x="5059080" y="4073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4792680" y="3946320"/>
                  <a:ext cx="227880" cy="75960"/>
                  <a:chOff x="4792680" y="3946320"/>
                  <a:chExt cx="227880" cy="7596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5400000">
                    <a:off x="4944600" y="3946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5400000">
                    <a:off x="4792320" y="3946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4792680" y="4339800"/>
                  <a:ext cx="227880" cy="76320"/>
                  <a:chOff x="4792680" y="4339800"/>
                  <a:chExt cx="227880" cy="763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5400000">
                    <a:off x="4944240" y="4339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5400000">
                    <a:off x="4792320" y="4340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6" name=""/>
              <p:cNvSpPr/>
              <p:nvPr/>
            </p:nvSpPr>
            <p:spPr>
              <a:xfrm>
                <a:off x="5090040" y="38289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3691440" y="3979800"/>
              <a:ext cx="8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95800" y="39654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6468840" y="3841560"/>
              <a:ext cx="694440" cy="597600"/>
              <a:chOff x="6468840" y="3841560"/>
              <a:chExt cx="694440" cy="597600"/>
            </a:xfrm>
          </p:grpSpPr>
          <p:sp>
            <p:nvSpPr>
              <p:cNvPr id="210" name=""/>
              <p:cNvSpPr/>
              <p:nvPr/>
            </p:nvSpPr>
            <p:spPr>
              <a:xfrm>
                <a:off x="6837120" y="4238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6468840" y="3958920"/>
                <a:ext cx="444600" cy="480240"/>
                <a:chOff x="6468840" y="3958920"/>
                <a:chExt cx="444600" cy="480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528600" y="39794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6468840" y="4085640"/>
                  <a:ext cx="76320" cy="228600"/>
                  <a:chOff x="6468840" y="4085640"/>
                  <a:chExt cx="76320" cy="2286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6468840" y="408564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468840" y="42382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6837120" y="4085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6570000" y="3958920"/>
                  <a:ext cx="228600" cy="75960"/>
                  <a:chOff x="6570000" y="3958920"/>
                  <a:chExt cx="228600" cy="7596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rot="5400000">
                    <a:off x="6722280" y="3958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rot="5400000">
                    <a:off x="6570000" y="39589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6570000" y="4352400"/>
                  <a:ext cx="228600" cy="76320"/>
                  <a:chOff x="6570000" y="4352400"/>
                  <a:chExt cx="228600" cy="76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5400000">
                    <a:off x="6722280" y="435240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5400000">
                    <a:off x="6569640" y="43524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"/>
              <p:cNvSpPr/>
              <p:nvPr/>
            </p:nvSpPr>
            <p:spPr>
              <a:xfrm>
                <a:off x="6868080" y="38415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6000" y="3541680"/>
            <a:ext cx="2911320" cy="3200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373760" y="40813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6000" y="10429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electrostatic force that holds ions together in an ionic compound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metal-LOW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19640" y="4653000"/>
            <a:ext cx="47527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Other 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Mg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7DB05-BB58-4CAD-8BAD-975278E2E3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Content Placeholder 1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1 p 368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Use Lewis dot symbol to show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f Al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206064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3213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 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4720" y="3213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299736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68360" y="38624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34290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48360" y="30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06920" y="3286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06920" y="3502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3429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64000" y="3068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19640" y="37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400536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40360" y="40053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32000" y="53704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+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53751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48360" y="52308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06920" y="5448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06920" y="5664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59280" y="5661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64000" y="52308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91280" y="58784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280" y="54468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76720" y="5877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601812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0360" y="60897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[N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9640" y="5370480"/>
            <a:ext cx="208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20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AD960-5652-45A5-8A37-3A8CB12677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9T20:37:30Z</dcterms:modified>
  <cp:revision>1348</cp:revision>
  <dc:subject/>
  <dc:title>General Chemistry CHEM 110</dc:title>
</cp:coreProperties>
</file>