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75A65-1ADE-434C-9CFA-1E4CF422F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C9C22-EFA4-4B7E-8257-7AF7A322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D4441-89C9-49F5-9E20-4CC4C2561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16CE7-62ED-46C9-A08C-4CBAA3FB6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641F-DBE5-4916-81A5-0C5DC4232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3381-6418-4D59-991D-ADDC265C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AB32-83DB-46AD-AD27-9F93C722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CB9B-0DA8-4C9F-A5E5-827F072E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E5BC-5FAF-4932-B9A2-25AADE7F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C038-8D69-40D3-91DF-FED7203A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13C4-422D-4523-BDDB-A8EB3C11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DE2B8-F421-404E-8830-436162E1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D939-CC9A-4EBA-873C-E4A45D49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FDD9-63EF-435E-80A0-C238880E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A522-5B03-4A75-8CBC-7BE24FAD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5267-F263-4925-9718-CA009274A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3631-F358-4AD1-BA4C-4E38BC54A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75B8D-6CD8-465F-9E58-6F86FE39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F8A9E-8507-4BDB-BA09-AC02EE3D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18C6D-CA1C-46F7-8180-C4F3A6B4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BBA24-9A27-4B02-9FD8-FDCC3B81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5D512-B195-4DD9-AA47-31616781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FB380-9ABE-40D4-AAE2-7E184266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0110A-A3E3-43FE-B253-08839501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3E53-2FF9-42CE-9984-9949661001EA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8E36-4560-4FCA-9969-D607E8F5D5FF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rwin_Schrodinger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FCB7-D066-4D2C-ACE0-2830156B490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692280"/>
            <a:ext cx="856908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or any value of 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re is (2l+1)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0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0)+1 = 1 one value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1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1) + 1 = 3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-1, 0, 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33625-B94A-4FA7-9AC5-D96A316751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7800" y="669960"/>
            <a:ext cx="33465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-1, 0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4640" y="59688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1680" y="2087640"/>
            <a:ext cx="301788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83040" y="2130480"/>
            <a:ext cx="2828880" cy="3233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4960" y="2087640"/>
            <a:ext cx="292104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062C7-930E-4147-A1A7-79E758DC62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941640"/>
            <a:ext cx="2720880" cy="2943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360" y="941400"/>
            <a:ext cx="247644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3880" y="365040"/>
            <a:ext cx="314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-2, -1, 0, 1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9920" y="36504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48120" y="1170000"/>
            <a:ext cx="2660400" cy="3029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867280" y="941400"/>
            <a:ext cx="2908440" cy="3171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066680" y="3989520"/>
            <a:ext cx="250056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234A0-63AA-485A-BE97-9D8FF0EB86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0360" y="29520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Electron Spin 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s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81080"/>
            <a:ext cx="8135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Spin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½ or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termines the electron sp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2745000" cy="33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5C5C9-9DD1-4986-8BF7-446F1EF6CF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351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6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List the values of n, l and 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for orbitals in 4d sub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133720"/>
            <a:ext cx="56163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4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4-1) = 0, 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B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 means 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2, -1, 0, +1,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2276640"/>
            <a:ext cx="2521080" cy="31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f it’s a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choices ques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66C1F-F56C-4AA2-8557-3C53C8F68F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0360" y="1066680"/>
            <a:ext cx="8604360" cy="4308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2708280"/>
            <a:ext cx="8820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724280"/>
            <a:ext cx="882000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429000"/>
            <a:ext cx="882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2A61A-6D51-44B3-9CBC-49F6152450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47628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7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total number of orbitals associated with the principal quantum number n = 3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981080"/>
            <a:ext cx="932508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           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3-1) = 0, 1,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 = 0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0   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           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ne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l = 1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1, 0, +1</a:t>
            </a:r>
            <a:r>
              <a:rPr b="0" lang="ar-SA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ree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l = 2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+2, -1, 0, +1, +2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Five Orbital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tal Number of Orbitals:  9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OR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Total Number of Orbitals = n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3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734080"/>
            <a:ext cx="871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77F30-D29A-44B1-BC27-D12604D110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48680" y="933480"/>
            <a:ext cx="5345640" cy="602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n = 1, 2 , 3, 4 …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l = 0 to (n-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ff00ff"/>
                </a:solidFill>
                <a:latin typeface="Comic Sans MS"/>
              </a:rPr>
              <a:t>l</a:t>
            </a: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 = -l to 0 to +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9999ff"/>
                </a:solidFill>
                <a:latin typeface="Comic Sans MS"/>
              </a:rPr>
              <a:t>s</a:t>
            </a:r>
            <a:r>
              <a:rPr b="0" lang="ar-SA" sz="4800" spc="-1" strike="noStrike">
                <a:solidFill>
                  <a:srgbClr val="9999ff"/>
                </a:solidFill>
                <a:latin typeface="Comic Sans MS"/>
              </a:rPr>
              <a:t> = </a:t>
            </a: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+½ or -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620640"/>
            <a:ext cx="18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9ABC3-F251-499E-AB41-D007012C39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351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ich of the following is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impossible to b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quantum number set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3, -2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2, -1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5, 0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1, -2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73360"/>
            <a:ext cx="352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Comic Sans MS"/>
              </a:rPr>
              <a:t>لايمكن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 ان يكون مجموعة صحيحه من  ارقام الكم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85401-3B39-4B2F-BD71-1D9C680E87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5267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2s &amp; 2p are in the same shell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b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subshel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 جزئي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bit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electrons with the same values of n, l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orbita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8508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4364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44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75480" y="141300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2400" y="141300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84720" y="2846520"/>
          <a:ext cx="2664000" cy="5173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 flipV="1">
            <a:off x="6516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24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50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8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62680" y="4933800"/>
          <a:ext cx="2663640" cy="51768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 flipV="1">
            <a:off x="6394320" y="5078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0" y="5078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5510160"/>
            <a:ext cx="110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244000" y="5589720"/>
            <a:ext cx="73476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85B2D-2380-49AB-B10B-9E23A54BB1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suggestion that the energy of the an electron in an atom is Quantized was a significant contribution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theory did not provide a complete description of electronic behaviour in atom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26 Erwi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rote an equation that specifies the energy states of the electron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identifies the corresponding wave functions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These energy states and wave functions are characterized by a set of Quantum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’s equation can only be solved exactly for the hydrogen atom.  Must approximate its solution for multi-electr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21600" y="115920"/>
            <a:ext cx="91440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68360" y="4292640"/>
                <a:ext cx="579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27909-9608-45D1-8F82-C4DCDEDCAE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89960" y="38880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2p orbitals are there in a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2560" y="17226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203840" y="996840"/>
            <a:ext cx="717120" cy="755640"/>
            <a:chOff x="1203840" y="996840"/>
            <a:chExt cx="717120" cy="755640"/>
          </a:xfrm>
        </p:grpSpPr>
        <p:sp>
          <p:nvSpPr>
            <p:cNvPr id="200" name=""/>
            <p:cNvSpPr/>
            <p:nvPr/>
          </p:nvSpPr>
          <p:spPr>
            <a:xfrm>
              <a:off x="1203840" y="9968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0320" y="144756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68720" y="2209680"/>
            <a:ext cx="766080" cy="694440"/>
            <a:chOff x="1368720" y="2209680"/>
            <a:chExt cx="766080" cy="694440"/>
          </a:xfrm>
        </p:grpSpPr>
        <p:sp>
          <p:nvSpPr>
            <p:cNvPr id="203" name=""/>
            <p:cNvSpPr/>
            <p:nvPr/>
          </p:nvSpPr>
          <p:spPr>
            <a:xfrm>
              <a:off x="1368720" y="24444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765080" y="22096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462760" y="1378080"/>
            <a:ext cx="412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1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1, 0, or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61320" y="19875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886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electrons can be placed in the 3d subsh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3800" y="54928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397520" y="4767120"/>
            <a:ext cx="717120" cy="755640"/>
            <a:chOff x="1397520" y="4767120"/>
            <a:chExt cx="717120" cy="755640"/>
          </a:xfrm>
        </p:grpSpPr>
        <p:sp>
          <p:nvSpPr>
            <p:cNvPr id="210" name=""/>
            <p:cNvSpPr/>
            <p:nvPr/>
          </p:nvSpPr>
          <p:spPr>
            <a:xfrm>
              <a:off x="1397520" y="47671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64000" y="52178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59880" y="5979960"/>
            <a:ext cx="766080" cy="694440"/>
            <a:chOff x="1559880" y="5979960"/>
            <a:chExt cx="766080" cy="694440"/>
          </a:xfrm>
        </p:grpSpPr>
        <p:sp>
          <p:nvSpPr>
            <p:cNvPr id="213" name=""/>
            <p:cNvSpPr/>
            <p:nvPr/>
          </p:nvSpPr>
          <p:spPr>
            <a:xfrm>
              <a:off x="1559880" y="62146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931760" y="597996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3160" y="4883040"/>
            <a:ext cx="506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2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2, -1, 0, +1, or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0320" y="549288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orbitals which can hold a total of 10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38480" y="1863720"/>
            <a:ext cx="4724640" cy="1819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5280" y="393372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6021360"/>
            <a:ext cx="576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6400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5128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645336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2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6692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2997360"/>
            <a:ext cx="57600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27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347652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AC6DB-6B8D-4171-BF69-E699E90E36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944720"/>
            <a:ext cx="88200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derived from the mathematical solution of the Schrödinger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 a full description of the electron of the hydrogen atom and other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hat are these Quantum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The Principal Quantum Number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Angular Momentum Quantum Number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Magnetic Quantum Number (m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Spin Quantum Number (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1125360"/>
            <a:ext cx="345600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, l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9E7A5-27EE-4DFF-B0FE-37FA3D5B4C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4360" y="3951360"/>
            <a:ext cx="5394240" cy="2921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3336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Principal Quantum Number (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14880" y="4869000"/>
            <a:ext cx="1445760" cy="520560"/>
            <a:chOff x="1514880" y="4869000"/>
            <a:chExt cx="1445760" cy="520560"/>
          </a:xfrm>
        </p:grpSpPr>
        <p:sp>
          <p:nvSpPr>
            <p:cNvPr id="118" name=""/>
            <p:cNvSpPr/>
            <p:nvPr/>
          </p:nvSpPr>
          <p:spPr>
            <a:xfrm>
              <a:off x="1514880" y="4869000"/>
              <a:ext cx="107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1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116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79160" y="4795920"/>
            <a:ext cx="1537200" cy="520560"/>
            <a:chOff x="3179160" y="4795920"/>
            <a:chExt cx="1537200" cy="520560"/>
          </a:xfrm>
        </p:grpSpPr>
        <p:sp>
          <p:nvSpPr>
            <p:cNvPr id="121" name=""/>
            <p:cNvSpPr/>
            <p:nvPr/>
          </p:nvSpPr>
          <p:spPr>
            <a:xfrm>
              <a:off x="3179160" y="479592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2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6880" y="504684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627160" y="4869000"/>
            <a:ext cx="1537200" cy="520560"/>
            <a:chOff x="5627160" y="4869000"/>
            <a:chExt cx="1537200" cy="520560"/>
          </a:xfrm>
        </p:grpSpPr>
        <p:sp>
          <p:nvSpPr>
            <p:cNvPr id="124" name=""/>
            <p:cNvSpPr/>
            <p:nvPr/>
          </p:nvSpPr>
          <p:spPr>
            <a:xfrm>
              <a:off x="5627160" y="486900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3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488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4000" y="1052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incipal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 = 1, 2 , 3, 4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energy of an orbital → determines the distance of the electron from the nucleu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igger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energ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rther from the nucleu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54934-6A0B-43A5-A7AE-2098F4BEA0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5824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Angular Momentum  Quantum Number (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4000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Angular Momentum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pends on the value of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 = 0 to 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.g. for n = 1; there is one value of l; l =0 to  (n-1) = (1-1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for n =2; two values of l; l = 0 to (2-1); l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e.g. for n = 3; three values of l; l = 0 to (3-1); l = 0, 1, 2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alue of l is designated by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shape of the orb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4986360"/>
          <a:ext cx="5472000" cy="1035000"/>
        </p:xfrm>
        <a:graphic>
          <a:graphicData uri="http://schemas.openxmlformats.org/drawingml/2006/table">
            <a:tbl>
              <a:tblPr/>
              <a:tblGrid>
                <a:gridCol w="2882880"/>
                <a:gridCol w="576360"/>
                <a:gridCol w="503280"/>
                <a:gridCol w="503280"/>
                <a:gridCol w="5029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orbi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A2504-125C-4E30-94B0-E4A705F035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933480"/>
            <a:ext cx="5181840" cy="2806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67760" y="4334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0 (s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58920" y="3917880"/>
            <a:ext cx="6553080" cy="2895480"/>
            <a:chOff x="1258920" y="3917880"/>
            <a:chExt cx="6553080" cy="28954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258920" y="4290840"/>
              <a:ext cx="655308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111840" y="39178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1 (p orbital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64000" y="4437000"/>
            <a:ext cx="5329080" cy="24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6381720"/>
            <a:ext cx="720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1484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كر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51577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الفصوص او الاجر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57E68-869B-4405-AD63-436FD68FC1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10200" y="1012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2 (d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081160"/>
            <a:ext cx="8991720" cy="2102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8000" y="2133720"/>
            <a:ext cx="792036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789360"/>
            <a:ext cx="136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152E4-C113-4A70-B0C9-6CFE8C7280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765000"/>
            <a:ext cx="71294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n = 1; l = 0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1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n = 2; l = 0 &amp; 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2s &amp; 2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n = 3; l = 0, 1,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3s, 3p,  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937B2-6526-4A99-B5ED-257E0C2961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0360" y="2602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Magnetic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l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863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gnetic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pends on the value of 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-l to 0 to +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for l = 0; there is one value of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 for l =1; three values of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Comic Sans MS"/>
              </a:rPr>
              <a:t>=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-1, 0,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e.g. for l = 2; five values of 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 = -2, -1, 0, +1, 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e.g. for l = 3; seven values of 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 = -3,-2, -1, 0, +1, +2, +3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termines the orientation of the orb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77D87-FF2E-48B1-814C-B6624F676F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5:48Z</dcterms:modified>
  <cp:revision>939</cp:revision>
  <dc:subject/>
  <dc:title>General Chemistry CHEM 110</dc:title>
</cp:coreProperties>
</file>