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DB3FB-155B-495C-9AC8-CFFD4F78E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B74E3-99CC-4AAD-AA65-8CC4008A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F6144-D256-4B5C-9D26-357138916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5607E-5743-44D4-BC96-F10B19E9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A7D3-DD75-470D-8AFC-B955E2BD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46D0-5568-4304-B42C-519F6E00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1787-331B-4A74-A499-88463ED3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F3EB-BFBD-46AD-AC8B-3BDB2C95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CDD7-2CAC-453B-93E3-48816827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188F-93DA-4A09-A48C-9D8995E8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5EE6-72C4-4701-80A9-EDD3C18F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8C392-C903-427B-AA89-BB0EB6D9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23AB-9A9D-442F-8A96-2F1A0E04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8E8B-E550-48B7-868E-C14B55DA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5329-11CF-430A-918C-F523FA67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89A2-4F7A-402B-99B9-ABE353BD0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6044-CDC1-47DC-AB28-ED864C62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1B00B-565D-450B-AF9E-4B23B2B8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0ADC2-86C1-4428-8FF0-3D910E19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D3E37-4DA9-43C8-BB9A-7DBDB180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D1254-A372-46DB-877F-FE7DFEDB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8BEBF-20E4-4131-9E55-5E72B89F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AE2C6-1BB6-4391-BFA1-099B9F35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70D11-2004-4C1A-AA0B-E2D1488B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C484-9701-49A8-A972-7502E1D8A2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72A3-6335-4AD3-8D68-1C5102F456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</a:t>
            </a:r>
            <a:br>
              <a:rPr sz="4000"/>
            </a:b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Atoms, Molecules and 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783A-133B-4461-8269-95AC8E9D2E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39996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xample 2.1 p5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ive the number of protons, neutrons, and electrons in each of the following spec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79280" y="3357720"/>
          <a:ext cx="8820360" cy="3120840"/>
        </p:xfrm>
        <a:graphic>
          <a:graphicData uri="http://schemas.openxmlformats.org/drawingml/2006/table">
            <a:tbl>
              <a:tblPr/>
              <a:tblGrid>
                <a:gridCol w="1764000"/>
                <a:gridCol w="1620720"/>
                <a:gridCol w="1800000"/>
                <a:gridCol w="1513080"/>
                <a:gridCol w="2122560"/>
              </a:tblGrid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Atomic number (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number of elec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mass number 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number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– 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20 – 1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95280" y="4797360"/>
                <a:ext cx="13194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258920" y="1976400"/>
                <a:ext cx="648180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O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D0049-7C9A-48F0-B6E3-EF06344DCA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042920" y="620640"/>
                <a:ext cx="648180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O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 rot="5400000">
            <a:off x="2915640" y="1052280"/>
            <a:ext cx="503280" cy="2087640"/>
          </a:xfrm>
          <a:custGeom>
            <a:avLst/>
            <a:gdLst>
              <a:gd name="textAreaLeft" fmla="*/ 0 w 503280"/>
              <a:gd name="textAreaRight" fmla="*/ 181800 w 5032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2346480"/>
            <a:ext cx="417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otopes of So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11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11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9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11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8360" y="443700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ractice Exercise p5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w many protons, neutrons, and electrons are in the following isotope of copper: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63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can I get the atomic number: look at the periodic table →           then find the number of p, n &amp; e.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132000" y="5950080"/>
                <a:ext cx="1008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52817-CD5B-43C1-813C-06907DAAA1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24000" y="40464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.4 The Periodic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9080" y="1041480"/>
            <a:ext cx="8675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periodic Tabl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chart in which elements having similar chemical and physical properties are group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elements in the modern periodic table are arranged by atomic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24360" y="3173400"/>
            <a:ext cx="5580000" cy="36403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68360" y="3132000"/>
            <a:ext cx="1800000" cy="13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4DA63-ED23-45CB-B7A0-949512F81C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533520"/>
            <a:ext cx="9144000" cy="596412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4"/>
          <p:cNvGrpSpPr/>
          <p:nvPr/>
        </p:nvGrpSpPr>
        <p:grpSpPr>
          <a:xfrm>
            <a:off x="1789200" y="2984400"/>
            <a:ext cx="2448000" cy="402840"/>
            <a:chOff x="1789200" y="2984400"/>
            <a:chExt cx="2448000" cy="402840"/>
          </a:xfrm>
        </p:grpSpPr>
        <p:sp>
          <p:nvSpPr>
            <p:cNvPr id="184" name="Text Box 4"/>
            <p:cNvSpPr/>
            <p:nvPr/>
          </p:nvSpPr>
          <p:spPr>
            <a:xfrm>
              <a:off x="2464560" y="2984400"/>
              <a:ext cx="102636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eri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5"/>
            <p:cNvSpPr/>
            <p:nvPr/>
          </p:nvSpPr>
          <p:spPr>
            <a:xfrm>
              <a:off x="3399120" y="3187440"/>
              <a:ext cx="838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6"/>
            <p:cNvSpPr/>
            <p:nvPr/>
          </p:nvSpPr>
          <p:spPr>
            <a:xfrm>
              <a:off x="1789200" y="3187440"/>
              <a:ext cx="6858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9"/>
          <p:cNvGrpSpPr/>
          <p:nvPr/>
        </p:nvGrpSpPr>
        <p:grpSpPr>
          <a:xfrm>
            <a:off x="6653520" y="1619280"/>
            <a:ext cx="402840" cy="2419200"/>
            <a:chOff x="6653520" y="1619280"/>
            <a:chExt cx="402840" cy="2419200"/>
          </a:xfrm>
        </p:grpSpPr>
        <p:sp>
          <p:nvSpPr>
            <p:cNvPr id="188" name="Text Box 16"/>
            <p:cNvSpPr/>
            <p:nvPr/>
          </p:nvSpPr>
          <p:spPr>
            <a:xfrm rot="5400000">
              <a:off x="6354000" y="2545920"/>
              <a:ext cx="100188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7"/>
            <p:cNvSpPr/>
            <p:nvPr/>
          </p:nvSpPr>
          <p:spPr>
            <a:xfrm>
              <a:off x="6856560" y="320040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6856560" y="16192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24"/>
          <p:cNvGrpSpPr/>
          <p:nvPr/>
        </p:nvGrpSpPr>
        <p:grpSpPr>
          <a:xfrm>
            <a:off x="57600" y="1185840"/>
            <a:ext cx="402840" cy="3171960"/>
            <a:chOff x="57600" y="1185840"/>
            <a:chExt cx="402840" cy="3171960"/>
          </a:xfrm>
        </p:grpSpPr>
        <p:sp>
          <p:nvSpPr>
            <p:cNvPr id="192" name="Text Box 21"/>
            <p:cNvSpPr/>
            <p:nvPr/>
          </p:nvSpPr>
          <p:spPr>
            <a:xfrm rot="5400000">
              <a:off x="-613800" y="2561760"/>
              <a:ext cx="17456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lkali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2"/>
            <p:cNvSpPr/>
            <p:nvPr/>
          </p:nvSpPr>
          <p:spPr>
            <a:xfrm>
              <a:off x="263880" y="351972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3"/>
            <p:cNvSpPr/>
            <p:nvPr/>
          </p:nvSpPr>
          <p:spPr>
            <a:xfrm>
              <a:off x="263880" y="118584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29"/>
          <p:cNvGrpSpPr/>
          <p:nvPr/>
        </p:nvGrpSpPr>
        <p:grpSpPr>
          <a:xfrm>
            <a:off x="8669520" y="1295280"/>
            <a:ext cx="402840" cy="2928960"/>
            <a:chOff x="8669520" y="1295280"/>
            <a:chExt cx="402840" cy="2928960"/>
          </a:xfrm>
        </p:grpSpPr>
        <p:sp>
          <p:nvSpPr>
            <p:cNvPr id="196" name="Text Box 26"/>
            <p:cNvSpPr/>
            <p:nvPr/>
          </p:nvSpPr>
          <p:spPr>
            <a:xfrm rot="5400000">
              <a:off x="8087760" y="2535840"/>
              <a:ext cx="156600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ble 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7"/>
            <p:cNvSpPr/>
            <p:nvPr/>
          </p:nvSpPr>
          <p:spPr>
            <a:xfrm>
              <a:off x="8874000" y="3385800"/>
              <a:ext cx="0" cy="838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8"/>
            <p:cNvSpPr/>
            <p:nvPr/>
          </p:nvSpPr>
          <p:spPr>
            <a:xfrm>
              <a:off x="8874000" y="12952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34"/>
          <p:cNvGrpSpPr/>
          <p:nvPr/>
        </p:nvGrpSpPr>
        <p:grpSpPr>
          <a:xfrm>
            <a:off x="8160120" y="1671480"/>
            <a:ext cx="402840" cy="2671920"/>
            <a:chOff x="8160120" y="1671480"/>
            <a:chExt cx="402840" cy="2671920"/>
          </a:xfrm>
        </p:grpSpPr>
        <p:sp>
          <p:nvSpPr>
            <p:cNvPr id="200" name="Text Box 31"/>
            <p:cNvSpPr/>
            <p:nvPr/>
          </p:nvSpPr>
          <p:spPr>
            <a:xfrm rot="5400000">
              <a:off x="7711200" y="2755440"/>
              <a:ext cx="130068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al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32"/>
            <p:cNvSpPr/>
            <p:nvPr/>
          </p:nvSpPr>
          <p:spPr>
            <a:xfrm>
              <a:off x="8366040" y="350532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3"/>
            <p:cNvSpPr/>
            <p:nvPr/>
          </p:nvSpPr>
          <p:spPr>
            <a:xfrm>
              <a:off x="8366040" y="16714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9"/>
          <p:cNvGrpSpPr/>
          <p:nvPr/>
        </p:nvGrpSpPr>
        <p:grpSpPr>
          <a:xfrm>
            <a:off x="598680" y="760320"/>
            <a:ext cx="402840" cy="3978360"/>
            <a:chOff x="598680" y="760320"/>
            <a:chExt cx="402840" cy="3978360"/>
          </a:xfrm>
        </p:grpSpPr>
        <p:sp>
          <p:nvSpPr>
            <p:cNvPr id="204" name="Text Box 36"/>
            <p:cNvSpPr/>
            <p:nvPr/>
          </p:nvSpPr>
          <p:spPr>
            <a:xfrm rot="5400000">
              <a:off x="-494640" y="2586600"/>
              <a:ext cx="25898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lkali Earth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37"/>
            <p:cNvSpPr/>
            <p:nvPr/>
          </p:nvSpPr>
          <p:spPr>
            <a:xfrm>
              <a:off x="803160" y="390060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38"/>
            <p:cNvSpPr/>
            <p:nvPr/>
          </p:nvSpPr>
          <p:spPr>
            <a:xfrm>
              <a:off x="803160" y="76032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CB7E7-56F2-4A4C-A80A-ABA5C21DCF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7138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are arranged by atomic number (Z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eriod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the horizontal ro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are 7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roup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the vertical rows, elements in the same group have similar chemical and physic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are 8 groups, assigned as 1A-to-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so 8 groups are assigned as 1B-to-8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me groups are given special nam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groups 1B-to-8B are called the </a:t>
            </a:r>
            <a:r>
              <a:rPr b="1" lang="en-GB" sz="2000" spc="-1" strike="noStrike">
                <a:solidFill>
                  <a:srgbClr val="9900cc"/>
                </a:solidFill>
                <a:latin typeface="Comic Sans MS"/>
              </a:rPr>
              <a:t>Transition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Group 1A elements (Li, Na, K, Rb, Cs and Fr) are called </a:t>
            </a:r>
            <a:r>
              <a:rPr b="1" lang="en-GB" sz="2000" spc="-1" strike="noStrike">
                <a:solidFill>
                  <a:srgbClr val="a50021"/>
                </a:solidFill>
                <a:latin typeface="Comic Sans MS"/>
              </a:rPr>
              <a:t>Alkali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Group 2A elements (Be, Mg, Ca, Sr, Ba and Ra) are called </a:t>
            </a:r>
            <a:r>
              <a:rPr b="1" lang="en-GB" sz="2000" spc="-1" strike="noStrike">
                <a:solidFill>
                  <a:srgbClr val="006600"/>
                </a:solidFill>
                <a:latin typeface="Comic Sans MS"/>
              </a:rPr>
              <a:t>Alkaline Earth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Group 7A elements (F, Cl, Br, I and At) are as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Halo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9999ff"/>
                </a:solidFill>
                <a:latin typeface="Comic Sans MS"/>
              </a:rPr>
              <a:t>Group 8A elements (He, Ne, Ar, Kr, Xe and Rn) are called </a:t>
            </a:r>
            <a:r>
              <a:rPr b="1" lang="en-GB" sz="2000" spc="-1" strike="noStrike">
                <a:solidFill>
                  <a:srgbClr val="9999ff"/>
                </a:solidFill>
                <a:latin typeface="Comic Sans MS"/>
              </a:rPr>
              <a:t>Noble Gases or Rare g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DD9A8-1EBE-4157-94C3-9140A71EA1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lements in the periodic table are divided into three categ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ta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green colour, Most elements) is a good conductor of heat and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onmeta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blue colour, 17 elements) is a poor conductor of heat and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talloi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brown colour, 8 elements) has properties that are intermediate between those of metals and nonmet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D833B-0C89-40F9-93C4-9AB5F113B4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of these elements is most likely to be a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conductor of electricity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4bacc6"/>
                </a:solidFill>
                <a:latin typeface="Comic Sans MS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element is the 15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 element in period  #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 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927C5-8F87-4511-BEB9-CECBF86229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112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5 Molecules and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324000" y="1268280"/>
            <a:ext cx="795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molec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n aggregate of two or more atoms in a definite arrangement held together by chemical forces, a molecule may contain atoms of the same element or atoms of two or more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1476360" y="3573360"/>
            <a:ext cx="6116760" cy="1796040"/>
            <a:chOff x="1476360" y="3573360"/>
            <a:chExt cx="6116760" cy="1796040"/>
          </a:xfrm>
        </p:grpSpPr>
        <p:pic>
          <p:nvPicPr>
            <p:cNvPr id="213" name="Picture 3" descr="C:\Chang Powerpoint\Figures\f002_12.jpg"/>
            <p:cNvPicPr/>
            <p:nvPr/>
          </p:nvPicPr>
          <p:blipFill>
            <a:blip r:embed="rId1"/>
            <a:srcRect l="24750" t="55501" r="0" b="21000"/>
            <a:stretch/>
          </p:blipFill>
          <p:spPr>
            <a:xfrm>
              <a:off x="1476360" y="3573360"/>
              <a:ext cx="611676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4"/>
            <p:cNvSpPr/>
            <p:nvPr/>
          </p:nvSpPr>
          <p:spPr>
            <a:xfrm>
              <a:off x="1733400" y="485928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5"/>
            <p:cNvSpPr/>
            <p:nvPr/>
          </p:nvSpPr>
          <p:spPr>
            <a:xfrm>
              <a:off x="3145680" y="4859280"/>
              <a:ext cx="744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6"/>
            <p:cNvSpPr/>
            <p:nvPr/>
          </p:nvSpPr>
          <p:spPr>
            <a:xfrm>
              <a:off x="4939560" y="4859280"/>
              <a:ext cx="73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7"/>
            <p:cNvSpPr/>
            <p:nvPr/>
          </p:nvSpPr>
          <p:spPr>
            <a:xfrm>
              <a:off x="6516000" y="4859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15"/>
          <p:cNvSpPr/>
          <p:nvPr/>
        </p:nvSpPr>
        <p:spPr>
          <a:xfrm>
            <a:off x="8539560" y="64008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B7B99-6091-4986-A3D5-AA9BA4733F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5 Molecules and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179280" y="270828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Diatomic molecule: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contains only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352080" y="4292640"/>
            <a:ext cx="333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Br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HCl,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859280" y="2703600"/>
            <a:ext cx="428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olyatomic molecule: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contains more than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5450760" y="4221000"/>
            <a:ext cx="2642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, 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O, N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, C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8539560" y="64008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2360" y="1268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3959280" y="-1071360"/>
            <a:ext cx="720720" cy="6553440"/>
          </a:xfrm>
          <a:custGeom>
            <a:avLst/>
            <a:gdLst>
              <a:gd name="textAreaLeft" fmla="*/ 0 w 720720"/>
              <a:gd name="textAreaRight" fmla="*/ 260280 w 720720"/>
              <a:gd name="textAreaTop" fmla="*/ 170640 h 6553440"/>
              <a:gd name="textAreaBottom" fmla="*/ 6382800 h 655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CC8FE-812A-4464-A594-6DE1E19A36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8930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n 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an atom or a group of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at has a net positive (+ve) or negative (-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79280" y="376380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ation: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an ion with a +ve charge (lose electron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254520" y="61405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Mg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4859280" y="3759120"/>
            <a:ext cx="428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Anion: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an ion with a -ve charge ( Gain electron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24360" y="23241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3959280" y="-15480"/>
            <a:ext cx="720720" cy="6553440"/>
          </a:xfrm>
          <a:custGeom>
            <a:avLst/>
            <a:gdLst>
              <a:gd name="textAreaLeft" fmla="*/ 0 w 720720"/>
              <a:gd name="textAreaRight" fmla="*/ 260280 w 720720"/>
              <a:gd name="textAreaTop" fmla="*/ 170640 h 6553440"/>
              <a:gd name="textAreaBottom" fmla="*/ 6382800 h 655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1944000" y="3393000"/>
            <a:ext cx="576360" cy="3095640"/>
          </a:xfrm>
          <a:custGeom>
            <a:avLst/>
            <a:gdLst>
              <a:gd name="textAreaLeft" fmla="*/ 0 w 576360"/>
              <a:gd name="textAreaRight" fmla="*/ 208080 w 576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" y="530064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noatomic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43280" y="530064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olyatomic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6517440" y="3393000"/>
            <a:ext cx="576360" cy="3095640"/>
          </a:xfrm>
          <a:custGeom>
            <a:avLst/>
            <a:gdLst>
              <a:gd name="textAreaLeft" fmla="*/ 0 w 576360"/>
              <a:gd name="textAreaRight" fmla="*/ 208080 w 576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97440" y="5299200"/>
            <a:ext cx="197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l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, Br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,S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36000" y="5235480"/>
            <a:ext cx="1908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olyatomic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H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,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O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3134880" y="6140520"/>
            <a:ext cx="83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E39D1-C6F2-4B3D-9AC1-1D554ADB81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2921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2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Atoms, Molecules and Ions</a:t>
            </a:r>
            <a:br>
              <a:rPr sz="40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49-6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71-73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2.10, 2.11, 2.12, 2.14, 2.16, 2.18, 2.26, 2.34, 2.36, 2.44, 2.46, 2.50, 2.57 (a,e,f,g,h,I,j,k,l,m), 2.58 (b,c,d,g,h,I,k), 2.59 (a,b,d,g,h,j), 2.60 (a,e,f,g,h,k),2.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NA00119_"/>
          <p:cNvPicPr/>
          <p:nvPr/>
        </p:nvPicPr>
        <p:blipFill>
          <a:blip r:embed="rId1"/>
          <a:stretch/>
        </p:blipFill>
        <p:spPr>
          <a:xfrm>
            <a:off x="0" y="576360"/>
            <a:ext cx="1627200" cy="1628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NA00121_"/>
          <p:cNvPicPr/>
          <p:nvPr/>
        </p:nvPicPr>
        <p:blipFill>
          <a:blip r:embed="rId2"/>
          <a:stretch/>
        </p:blipFill>
        <p:spPr>
          <a:xfrm>
            <a:off x="7380360" y="5746680"/>
            <a:ext cx="1763640" cy="111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C4142-49A8-496E-AA82-3218BCC7CE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7"/>
          <p:cNvGrpSpPr/>
          <p:nvPr/>
        </p:nvGrpSpPr>
        <p:grpSpPr>
          <a:xfrm>
            <a:off x="974880" y="1476360"/>
            <a:ext cx="3167640" cy="1295280"/>
            <a:chOff x="974880" y="1476360"/>
            <a:chExt cx="3167640" cy="1295280"/>
          </a:xfrm>
        </p:grpSpPr>
        <p:grpSp>
          <p:nvGrpSpPr>
            <p:cNvPr id="241" name="Group 10"/>
            <p:cNvGrpSpPr/>
            <p:nvPr/>
          </p:nvGrpSpPr>
          <p:grpSpPr>
            <a:xfrm>
              <a:off x="974880" y="1476360"/>
              <a:ext cx="1295280" cy="1295280"/>
              <a:chOff x="974880" y="1476360"/>
              <a:chExt cx="1295280" cy="1295280"/>
            </a:xfrm>
          </p:grpSpPr>
          <p:sp>
            <p:nvSpPr>
              <p:cNvPr id="242" name="Oval 6"/>
              <p:cNvSpPr/>
              <p:nvPr/>
            </p:nvSpPr>
            <p:spPr>
              <a:xfrm>
                <a:off x="974880" y="147636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7"/>
              <p:cNvSpPr/>
              <p:nvPr/>
            </p:nvSpPr>
            <p:spPr>
              <a:xfrm>
                <a:off x="1270440" y="1863720"/>
                <a:ext cx="884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Comic Sans MS"/>
                  </a:rPr>
                  <a:t>1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Text Box 20"/>
            <p:cNvSpPr/>
            <p:nvPr/>
          </p:nvSpPr>
          <p:spPr>
            <a:xfrm>
              <a:off x="2500200" y="177300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28"/>
          <p:cNvGrpSpPr/>
          <p:nvPr/>
        </p:nvGrpSpPr>
        <p:grpSpPr>
          <a:xfrm>
            <a:off x="5508720" y="1628640"/>
            <a:ext cx="2970360" cy="1143000"/>
            <a:chOff x="5508720" y="1628640"/>
            <a:chExt cx="2970360" cy="1143000"/>
          </a:xfrm>
        </p:grpSpPr>
        <p:grpSp>
          <p:nvGrpSpPr>
            <p:cNvPr id="246" name="Group 11"/>
            <p:cNvGrpSpPr/>
            <p:nvPr/>
          </p:nvGrpSpPr>
          <p:grpSpPr>
            <a:xfrm>
              <a:off x="5508720" y="1628640"/>
              <a:ext cx="1201320" cy="1143000"/>
              <a:chOff x="5508720" y="1628640"/>
              <a:chExt cx="1201320" cy="1143000"/>
            </a:xfrm>
          </p:grpSpPr>
          <p:sp>
            <p:nvSpPr>
              <p:cNvPr id="247" name="Oval 8"/>
              <p:cNvSpPr/>
              <p:nvPr/>
            </p:nvSpPr>
            <p:spPr>
              <a:xfrm>
                <a:off x="5508720" y="1628640"/>
                <a:ext cx="1142640" cy="1143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9"/>
              <p:cNvSpPr/>
              <p:nvPr/>
            </p:nvSpPr>
            <p:spPr>
              <a:xfrm>
                <a:off x="5689440" y="1941480"/>
                <a:ext cx="1020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Na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Text Box 21"/>
            <p:cNvSpPr/>
            <p:nvPr/>
          </p:nvSpPr>
          <p:spPr>
            <a:xfrm>
              <a:off x="6836760" y="184140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9"/>
          <p:cNvGrpSpPr/>
          <p:nvPr/>
        </p:nvGrpSpPr>
        <p:grpSpPr>
          <a:xfrm>
            <a:off x="1042920" y="4013280"/>
            <a:ext cx="3111840" cy="1143000"/>
            <a:chOff x="1042920" y="4013280"/>
            <a:chExt cx="3111840" cy="1143000"/>
          </a:xfrm>
        </p:grpSpPr>
        <p:grpSp>
          <p:nvGrpSpPr>
            <p:cNvPr id="251" name="Group 23"/>
            <p:cNvGrpSpPr/>
            <p:nvPr/>
          </p:nvGrpSpPr>
          <p:grpSpPr>
            <a:xfrm>
              <a:off x="1042920" y="4013280"/>
              <a:ext cx="1143000" cy="1143000"/>
              <a:chOff x="1042920" y="4013280"/>
              <a:chExt cx="1143000" cy="1143000"/>
            </a:xfrm>
          </p:grpSpPr>
          <p:sp>
            <p:nvSpPr>
              <p:cNvPr id="252" name="Oval 14"/>
              <p:cNvSpPr/>
              <p:nvPr/>
            </p:nvSpPr>
            <p:spPr>
              <a:xfrm>
                <a:off x="1042920" y="4013280"/>
                <a:ext cx="1143000" cy="114300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15"/>
              <p:cNvSpPr/>
              <p:nvPr/>
            </p:nvSpPr>
            <p:spPr>
              <a:xfrm>
                <a:off x="1357560" y="4324680"/>
                <a:ext cx="7581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800" spc="-1" strike="noStrike" baseline="-25000">
                    <a:solidFill>
                      <a:srgbClr val="000000"/>
                    </a:solidFill>
                    <a:latin typeface="Comic Sans MS"/>
                  </a:rPr>
                  <a:t>17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Text Box 22"/>
            <p:cNvSpPr/>
            <p:nvPr/>
          </p:nvSpPr>
          <p:spPr>
            <a:xfrm>
              <a:off x="2512440" y="423396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30"/>
          <p:cNvGrpSpPr/>
          <p:nvPr/>
        </p:nvGrpSpPr>
        <p:grpSpPr>
          <a:xfrm>
            <a:off x="5348160" y="3860640"/>
            <a:ext cx="3123000" cy="1447560"/>
            <a:chOff x="5348160" y="3860640"/>
            <a:chExt cx="3123000" cy="1447560"/>
          </a:xfrm>
        </p:grpSpPr>
        <p:grpSp>
          <p:nvGrpSpPr>
            <p:cNvPr id="256" name="Group 24"/>
            <p:cNvGrpSpPr/>
            <p:nvPr/>
          </p:nvGrpSpPr>
          <p:grpSpPr>
            <a:xfrm>
              <a:off x="5348160" y="3860640"/>
              <a:ext cx="1447920" cy="1447560"/>
              <a:chOff x="5348160" y="3860640"/>
              <a:chExt cx="1447920" cy="1447560"/>
            </a:xfrm>
          </p:grpSpPr>
          <p:sp>
            <p:nvSpPr>
              <p:cNvPr id="257" name="Oval 18"/>
              <p:cNvSpPr/>
              <p:nvPr/>
            </p:nvSpPr>
            <p:spPr>
              <a:xfrm>
                <a:off x="5348160" y="3860640"/>
                <a:ext cx="1447920" cy="144756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19"/>
              <p:cNvSpPr/>
              <p:nvPr/>
            </p:nvSpPr>
            <p:spPr>
              <a:xfrm>
                <a:off x="5787720" y="4400280"/>
                <a:ext cx="8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 Box 26"/>
            <p:cNvSpPr/>
            <p:nvPr/>
          </p:nvSpPr>
          <p:spPr>
            <a:xfrm>
              <a:off x="6828840" y="422568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8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5256360" y="907920"/>
            <a:ext cx="18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435640" y="3213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0D873-2846-4C07-A75E-DFF9A294F5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468360" y="470520"/>
            <a:ext cx="86043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A magnesium ion, </a:t>
            </a:r>
            <a:r>
              <a:rPr b="0" lang="en-US" sz="2400" spc="-1" strike="noStrike" baseline="-25000">
                <a:solidFill>
                  <a:srgbClr val="cc0066"/>
                </a:solidFill>
                <a:latin typeface="Comic Sans MS"/>
                <a:ea typeface="Times New Roman"/>
              </a:rPr>
              <a:t>12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Mg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, has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 protons and 13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 protons and 26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  <a:ea typeface="Times New Roman"/>
              </a:rPr>
              <a:t>12 protons and 10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 protons and 22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 protons and 14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468360" y="3113640"/>
            <a:ext cx="70279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A sulfide ion, </a:t>
            </a:r>
            <a:r>
              <a:rPr b="0" lang="en-US" sz="2400" spc="-1" strike="noStrike" baseline="-25000">
                <a:solidFill>
                  <a:srgbClr val="cc0066"/>
                </a:solidFill>
                <a:latin typeface="Comic Sans MS"/>
                <a:ea typeface="Times New Roman"/>
              </a:rPr>
              <a:t>16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S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 , has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6 protons and 16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2 protons and 16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6 protons and 14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  <a:ea typeface="Times New Roman"/>
              </a:rPr>
              <a:t>16 protons and 18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2 protons and 18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A75D5-5BF4-44F8-ADDE-946341A3BE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95280" y="61920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How many protons and electrons ar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3 protons, 10 (13 – 3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7020000" y="692280"/>
                <a:ext cx="1871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l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71484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How many protons and electrons ar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4 protons, 36 (34 + 2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093080" y="3789360"/>
                <a:ext cx="17287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1014F-DD5D-4B12-89B3-13A2D4510E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6 Chemical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7476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1. A molecular formula:</a:t>
            </a:r>
            <a:r>
              <a:rPr b="0" lang="en-US" sz="36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ows the exact number of atoms of each element in the smallest unit of a subs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, 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25BDE-AF81-43B9-B837-507A0922B3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747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2. An empirical formula: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s the simplest whole-number ratio of the atoms in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mpirical Formula may the same or different from the 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can we get the Empirical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vi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 numbers by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ar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on devis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e.g. The empirical formula of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is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the empirical formula of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6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12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is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H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divide the numbers 6, 12 and 6 by the largest common devisor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7C504-4362-431E-90BC-9762BC6B4FA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7"/>
          <p:cNvSpPr/>
          <p:nvPr/>
        </p:nvSpPr>
        <p:spPr>
          <a:xfrm>
            <a:off x="5328720" y="1268280"/>
            <a:ext cx="12182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6"/>
          <p:cNvGrpSpPr/>
          <p:nvPr/>
        </p:nvGrpSpPr>
        <p:grpSpPr>
          <a:xfrm>
            <a:off x="1608840" y="476280"/>
            <a:ext cx="5923800" cy="1437840"/>
            <a:chOff x="1608840" y="476280"/>
            <a:chExt cx="5923800" cy="1437840"/>
          </a:xfrm>
        </p:grpSpPr>
        <p:sp>
          <p:nvSpPr>
            <p:cNvPr id="275" name="Text Box 6"/>
            <p:cNvSpPr/>
            <p:nvPr/>
          </p:nvSpPr>
          <p:spPr>
            <a:xfrm>
              <a:off x="2302920" y="1057320"/>
              <a:ext cx="121824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a50021"/>
                  </a:solidFill>
                  <a:latin typeface="Comic Sans MS"/>
                </a:rPr>
                <a:t>H</a:t>
              </a:r>
              <a:r>
                <a:rPr b="0" lang="en-US" sz="4400" spc="-1" strike="noStrike" baseline="-25000">
                  <a:solidFill>
                    <a:srgbClr val="a50021"/>
                  </a:solidFill>
                  <a:latin typeface="Comic Sans MS"/>
                </a:rPr>
                <a:t>2</a:t>
              </a:r>
              <a:r>
                <a:rPr b="0" lang="en-US" sz="4400" spc="-1" strike="noStrike">
                  <a:solidFill>
                    <a:srgbClr val="a50021"/>
                  </a:solidFill>
                  <a:latin typeface="Comic Sans MS"/>
                </a:rPr>
                <a:t>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8"/>
            <p:cNvSpPr/>
            <p:nvPr/>
          </p:nvSpPr>
          <p:spPr>
            <a:xfrm>
              <a:off x="1608840" y="476280"/>
              <a:ext cx="2995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molecula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4726080" y="476280"/>
              <a:ext cx="280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u="sng">
                  <a:solidFill>
                    <a:srgbClr val="9900cc"/>
                  </a:solidFill>
                  <a:uFillTx/>
                  <a:latin typeface="Comic Sans MS"/>
                </a:rPr>
                <a:t>empirical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10"/>
          <p:cNvSpPr/>
          <p:nvPr/>
        </p:nvSpPr>
        <p:spPr>
          <a:xfrm>
            <a:off x="1991880" y="2708280"/>
            <a:ext cx="21294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5191560" y="2708280"/>
            <a:ext cx="15721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C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2424600" y="3890880"/>
            <a:ext cx="8038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5497200" y="389088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4"/>
          <p:cNvSpPr/>
          <p:nvPr/>
        </p:nvSpPr>
        <p:spPr>
          <a:xfrm>
            <a:off x="2270160" y="5043600"/>
            <a:ext cx="13917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5"/>
          <p:cNvSpPr/>
          <p:nvPr/>
        </p:nvSpPr>
        <p:spPr>
          <a:xfrm>
            <a:off x="5342760" y="5043600"/>
            <a:ext cx="12063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N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8986B-3BA3-4D6E-A6BA-C7101BD69CA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Example 2.3 p5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Write the empirical formulas fo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following molec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Acetylene C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-25000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itrous oxide 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 → 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Practice Exercise: C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EDF3E-C8EB-4A32-84E1-04EA2FBBB14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108000" y="475920"/>
            <a:ext cx="9036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3. Formula of Ionic Compounds: </a:t>
            </a: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أيونية</a:t>
            </a: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مركب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228600" y="1287360"/>
            <a:ext cx="8686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onic Compound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nsist of a combination of cations and an an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84360" y="256536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4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Cl</a:t>
            </a:r>
            <a:r>
              <a:rPr b="0" lang="en-GB" sz="48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95640" y="3341520"/>
            <a:ext cx="1584360" cy="94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229" y="-1734"/>
                </a:moveTo>
                <a:lnTo>
                  <a:pt x="20042" y="-1734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003640" y="3467160"/>
            <a:ext cx="1584360" cy="94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818" y="-1734"/>
                </a:moveTo>
                <a:lnTo>
                  <a:pt x="20042" y="-1734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0BF89-3F9C-4A61-AAD4-67097F0BDC0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C:\Chang Powerpoint\Figures\f002_13l.jpg"/>
          <p:cNvPicPr/>
          <p:nvPr/>
        </p:nvPicPr>
        <p:blipFill>
          <a:blip r:embed="rId1"/>
          <a:srcRect l="0" t="30001" r="0" b="19500"/>
          <a:stretch/>
        </p:blipFill>
        <p:spPr>
          <a:xfrm>
            <a:off x="507960" y="1822320"/>
            <a:ext cx="8128080" cy="30783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4"/>
          <p:cNvSpPr/>
          <p:nvPr/>
        </p:nvSpPr>
        <p:spPr>
          <a:xfrm>
            <a:off x="2354040" y="1341360"/>
            <a:ext cx="44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onic compound 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4B1BE-49D7-4E3A-AF59-5D0D7C0A169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um of the charges on the cation/s and anion/s in each formula unit must equal zer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formula of the ionic compound must be 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to make the formula neut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subscript of the cation is numer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qual to the charge on the anion, 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bscript on the anion is numerically eq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the charge on the 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36720" y="5467320"/>
            <a:ext cx="52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7D1C4-884B-4AD9-8737-A7A98CF69D5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 Atoms, Molecules and Ions: Outlin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3 Atomic Number, Mass Number and Isot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4 The Periodic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5 Molecules and 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6 Chemical Fo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7 Naming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cular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BF2EA-ADF6-48D8-8618-D359F94A0D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"/>
          <p:cNvSpPr/>
          <p:nvPr/>
        </p:nvSpPr>
        <p:spPr>
          <a:xfrm>
            <a:off x="2784960" y="1197000"/>
            <a:ext cx="344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6000" spc="-1" strike="noStrike">
                <a:solidFill>
                  <a:srgbClr val="9900cc"/>
                </a:solidFill>
                <a:latin typeface="Comic Sans MS"/>
              </a:rPr>
              <a:t>Br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62160" y="1801800"/>
            <a:ext cx="3240360" cy="133992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3796200" y="4724280"/>
            <a:ext cx="223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B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1773360"/>
            <a:ext cx="2735280" cy="81576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tassium Bro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32CA7-7F82-404F-B057-93D8BBEC67D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3"/>
          <p:cNvSpPr/>
          <p:nvPr/>
        </p:nvSpPr>
        <p:spPr>
          <a:xfrm>
            <a:off x="2508840" y="1197000"/>
            <a:ext cx="399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a50021"/>
                </a:solidFill>
                <a:latin typeface="Comic Sans MS"/>
              </a:rPr>
              <a:t>Zn</a:t>
            </a:r>
            <a:r>
              <a:rPr b="0" lang="en-GB" sz="6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Cl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08360" y="1700280"/>
            <a:ext cx="2808360" cy="1368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352320" y="4724280"/>
            <a:ext cx="31204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Zn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Cl</a:t>
            </a:r>
            <a:r>
              <a:rPr b="0" lang="en-US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08360" y="1844640"/>
            <a:ext cx="2303640" cy="74448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inc 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A9062-689C-4FBC-8009-0EDCE6708BD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3"/>
          <p:cNvSpPr/>
          <p:nvPr/>
        </p:nvSpPr>
        <p:spPr>
          <a:xfrm>
            <a:off x="2535480" y="1197000"/>
            <a:ext cx="394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62160" y="1801800"/>
            <a:ext cx="3240360" cy="133992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3349800" y="4724280"/>
            <a:ext cx="312516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ar-SA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ar-SA" sz="96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76720" y="1773360"/>
            <a:ext cx="2735280" cy="81576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uminium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5FD05-B502-4625-B3D5-9D52DBC5F99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3"/>
          <p:cNvSpPr/>
          <p:nvPr/>
        </p:nvSpPr>
        <p:spPr>
          <a:xfrm>
            <a:off x="2144520" y="1197000"/>
            <a:ext cx="47311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0021"/>
                </a:solidFill>
                <a:latin typeface="Comic Sans MS"/>
              </a:rPr>
              <a:t>Cr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SO</a:t>
            </a:r>
            <a:r>
              <a:rPr b="0" lang="en-US" sz="6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00360" y="1773360"/>
            <a:ext cx="4176720" cy="1368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2384640" y="4724280"/>
            <a:ext cx="506520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a50021"/>
                </a:solidFill>
                <a:latin typeface="Comic Sans MS"/>
              </a:rPr>
              <a:t>Cr</a:t>
            </a:r>
            <a:r>
              <a:rPr b="0" lang="ar-SA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9600" spc="-1" strike="noStrike">
                <a:solidFill>
                  <a:srgbClr val="9900cc"/>
                </a:solidFill>
                <a:latin typeface="Comic Sans MS"/>
              </a:rPr>
              <a:t>(S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9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9600" spc="-1" strike="noStrike">
                <a:solidFill>
                  <a:srgbClr val="9900cc"/>
                </a:solidFill>
                <a:latin typeface="Comic Sans MS"/>
              </a:rPr>
              <a:t>)</a:t>
            </a:r>
            <a:r>
              <a:rPr b="0" lang="en-GB" sz="96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76720" y="2060640"/>
            <a:ext cx="3240000" cy="79200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romium Sul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24720" y="263700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F36E9-662B-44A2-9D8E-D7C928662A4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57200" y="558360"/>
            <a:ext cx="822960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Example 2.4 p5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rite the formula of magnesium nitr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ontaining the Mg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and N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3-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783720" y="3571920"/>
            <a:ext cx="24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273320" y="3932280"/>
            <a:ext cx="1871640" cy="1584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3635280" y="4220640"/>
            <a:ext cx="433080" cy="1008000"/>
          </a:xfrm>
          <a:prstGeom prst="downArrow">
            <a:avLst>
              <a:gd name="adj1" fmla="val 50000"/>
              <a:gd name="adj2" fmla="val 5818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537080" y="4221000"/>
            <a:ext cx="2200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GB" sz="54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GB" sz="5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15880" y="4005360"/>
            <a:ext cx="1441800" cy="95868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547640" y="558972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101AA-678E-4FD6-B18A-AFE10645441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7 Naming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nomenclatur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naming the chemical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64000" y="2637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6200000">
            <a:off x="4139280" y="547920"/>
            <a:ext cx="649080" cy="6121440"/>
          </a:xfrm>
          <a:custGeom>
            <a:avLst/>
            <a:gdLst>
              <a:gd name="textAreaLeft" fmla="*/ 0 w 649080"/>
              <a:gd name="textAreaRight" fmla="*/ 234360 w 649080"/>
              <a:gd name="textAreaTop" fmla="*/ 159480 h 6121440"/>
              <a:gd name="textAreaBottom" fmla="*/ 5961960 h 612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79280" y="4076640"/>
            <a:ext cx="46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cc"/>
                </a:solidFill>
                <a:uFillTx/>
                <a:latin typeface="Comic Sans MS"/>
              </a:rPr>
              <a:t>Organic Compound: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contain carbon in combination with elements such as hydrogen,  oxygen, nitrogen and sulph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508720" y="4076640"/>
            <a:ext cx="36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Inorganic Compound: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all othe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5950080"/>
            <a:ext cx="8820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Also Inorganic compounds: CO, 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S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ompounds containing CN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&amp; H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76222-802A-4463-8FD8-FDEFACBF68E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6200000">
            <a:off x="4104360" y="-999720"/>
            <a:ext cx="1079640" cy="547236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0" y="227664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64000" y="227664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2273D-F0FA-4767-8E72-F9604EF6E8C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533520"/>
            <a:ext cx="9144000" cy="596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4FB21-BCCD-43AB-92F7-6860CA278BC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763120" cy="38876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76320" y="47242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st reactive </a:t>
            </a:r>
            <a:r>
              <a:rPr b="1" lang="en-US" sz="2800" spc="-1" strike="noStrike">
                <a:solidFill>
                  <a:srgbClr val="00cc66"/>
                </a:solidFill>
                <a:latin typeface="Comic Sans MS"/>
              </a:rPr>
              <a:t>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green) and the most reactive </a:t>
            </a: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non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blue) combine to form ionic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04680" y="528480"/>
            <a:ext cx="355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B4840-EE34-439A-A5BF-1AE56EFCEAD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324000" y="47304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of these pairs of elements would be most likely to form an ionic compound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 and B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 and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aae2ca"/>
                </a:solidFill>
                <a:latin typeface="Comic Sans MS"/>
              </a:rPr>
              <a:t>O and 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 and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4000" y="3284640"/>
            <a:ext cx="8569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66"/>
                </a:solidFill>
                <a:latin typeface="Comic Sans MS"/>
              </a:rPr>
              <a:t>Which of these pairs of elements would be most likely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66"/>
                </a:solidFill>
                <a:latin typeface="Comic Sans MS"/>
              </a:rPr>
              <a:t>form a molecular comp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a and Br            (b) </a:t>
            </a:r>
            <a:r>
              <a:rPr b="0" lang="en-GB" sz="2400" spc="-1" strike="noStrike">
                <a:solidFill>
                  <a:srgbClr val="aae2ca"/>
                </a:solidFill>
                <a:latin typeface="Comic Sans MS"/>
              </a:rPr>
              <a:t>C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 and O             (d) Zn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g and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4BEDD-0576-4116-8A1B-60235DC7F4D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toms, Molecules and Ions: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31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basic unit of an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can enter into chemical 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Electron (e) (-ve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oton (p) (+ve charg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Comic Sans MS"/>
              </a:rPr>
              <a:t>Neutron (n) (neut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64000" y="3429000"/>
            <a:ext cx="503280" cy="1655640"/>
          </a:xfrm>
          <a:custGeom>
            <a:avLst/>
            <a:gdLst>
              <a:gd name="textAreaLeft" fmla="*/ 0 w 503280"/>
              <a:gd name="textAreaRight" fmla="*/ 181800 w 5032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40360" y="3801960"/>
            <a:ext cx="26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batomic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2969A-A19E-476A-BAE9-D9CFF74861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4104360" y="-999720"/>
            <a:ext cx="1079640" cy="547236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920" y="227664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64000" y="227664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16200000">
            <a:off x="2915280" y="908280"/>
            <a:ext cx="1152360" cy="5904000"/>
          </a:xfrm>
          <a:custGeom>
            <a:avLst/>
            <a:gdLst>
              <a:gd name="textAreaLeft" fmla="*/ 0 w 1152360"/>
              <a:gd name="textAreaRight" fmla="*/ 416160 w 1152360"/>
              <a:gd name="textAreaTop" fmla="*/ 153720 h 5904000"/>
              <a:gd name="textAreaBottom" fmla="*/ 5750280 h 590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920" y="4503600"/>
            <a:ext cx="41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Metal Cation: takes their names from th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24360" y="4437000"/>
            <a:ext cx="34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Nonmetal Anion: Take the first part of the element name and add -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F535F-5879-48BF-8698-C3D873E1AE2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68360" y="476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Metal Cation: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takes their names from th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16200000">
            <a:off x="3960000" y="-1648440"/>
            <a:ext cx="1008000" cy="7274160"/>
          </a:xfrm>
          <a:custGeom>
            <a:avLst/>
            <a:gdLst>
              <a:gd name="textAreaLeft" fmla="*/ 0 w 1008000"/>
              <a:gd name="textAreaRight" fmla="*/ 363960 w 1008000"/>
              <a:gd name="textAreaTop" fmla="*/ 189360 h 7274160"/>
              <a:gd name="textAreaBottom" fmla="*/ 7084800 h 727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8360" y="2708280"/>
            <a:ext cx="4390920" cy="24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als form only one type of c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kali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kali earth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A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C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Z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92720" y="2565360"/>
            <a:ext cx="385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etals form more than one type of cation (other metal cations e.g.Transition Me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4000" y="5746680"/>
            <a:ext cx="7705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on name of metal cation: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mmonium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9B896-BAEC-41E3-BCEE-617EBAD76A3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1" descr="02_11"/>
          <p:cNvPicPr/>
          <p:nvPr/>
        </p:nvPicPr>
        <p:blipFill>
          <a:blip r:embed="rId1"/>
          <a:srcRect l="0" t="3812" r="0" b="0"/>
          <a:stretch/>
        </p:blipFill>
        <p:spPr>
          <a:xfrm>
            <a:off x="0" y="1523880"/>
            <a:ext cx="9144000" cy="39672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0" y="692280"/>
            <a:ext cx="22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tals form only type of 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03280" y="2367000"/>
            <a:ext cx="43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tals form more than one type of cation (Transition Meta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7FCCC-30AC-4D4B-8BCB-8E2722BC563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179280" y="1773360"/>
          <a:ext cx="8712360" cy="2735280"/>
        </p:xfrm>
        <a:graphic>
          <a:graphicData uri="http://schemas.openxmlformats.org/drawingml/2006/table">
            <a:tbl>
              <a:tblPr/>
              <a:tblGrid>
                <a:gridCol w="2521080"/>
                <a:gridCol w="6191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 So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</a:t>
                      </a:r>
                      <a:r>
                        <a:rPr b="0" lang="en-GB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GB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Sodium ion (or sodium cation</a:t>
                      </a:r>
                      <a:r>
                        <a:rPr b="0" lang="ar-SA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K potass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potassium ion (or potass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g magnes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g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2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magnesium ion (or magnes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Al Alumin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Al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3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aluminium ion (or alumin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539640" y="47628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als form only one type of 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58513-EE58-4690-A588-8C5433798EC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50920" y="620640"/>
            <a:ext cx="849780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etals form more than one type of cation (Transition Me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.g. Iron can form two cation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F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&amp; F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can we nam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6600"/>
                </a:solidFill>
                <a:uFillTx/>
                <a:latin typeface="Comic Sans MS"/>
              </a:rPr>
              <a:t>Stock System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specify the ch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of the cation  with Roman num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e.g. FeCl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→ Iron (II)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FeCl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→ Iron (III)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7451640" y="3357720"/>
          <a:ext cx="1657440" cy="3095640"/>
        </p:xfrm>
        <a:graphic>
          <a:graphicData uri="http://schemas.openxmlformats.org/drawingml/2006/table">
            <a:tbl>
              <a:tblPr/>
              <a:tblGrid>
                <a:gridCol w="748800"/>
                <a:gridCol w="908640"/>
              </a:tblGrid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tw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Thr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F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F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6" name=""/>
          <p:cNvSpPr/>
          <p:nvPr/>
        </p:nvSpPr>
        <p:spPr>
          <a:xfrm>
            <a:off x="7233840" y="299736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Roman num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EB35A-7E8A-4B77-8D59-9CC098E93E3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8360" y="620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Nonmetal Anion: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Take the first part of the element name and add -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4031280" y="-639000"/>
            <a:ext cx="1079640" cy="547200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000"/>
              <a:gd name="textAreaBottom" fmla="*/ 5329440 h 54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5280" y="2708280"/>
            <a:ext cx="4562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l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Chlorine →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Br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Bromine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Oxygen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50080" y="2708280"/>
            <a:ext cx="3878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lyatomic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H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N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5229360"/>
            <a:ext cx="87487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6633"/>
                </a:solidFill>
                <a:uFillTx/>
                <a:latin typeface="Comic Sans MS"/>
              </a:rPr>
              <a:t>Common names for some anions: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Carbonate    P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Phosphate      S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Sul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HC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Bicarbonate       N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Nitrate    S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Sulp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0D372-11E0-42FC-8B15-E87744B2739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9" descr="02_02"/>
          <p:cNvPicPr/>
          <p:nvPr/>
        </p:nvPicPr>
        <p:blipFill>
          <a:blip r:embed="rId1"/>
          <a:srcRect l="0" t="5392" r="0" b="0"/>
          <a:stretch/>
        </p:blipFill>
        <p:spPr>
          <a:xfrm>
            <a:off x="360360" y="1905120"/>
            <a:ext cx="8388360" cy="29653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539640" y="62064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F815B-1702-4D13-9019-B1CB6142B69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9" descr="02_03"/>
          <p:cNvPicPr/>
          <p:nvPr/>
        </p:nvPicPr>
        <p:blipFill>
          <a:blip r:embed="rId1"/>
          <a:srcRect l="0" t="2224" r="0" b="2126"/>
          <a:stretch/>
        </p:blipFill>
        <p:spPr>
          <a:xfrm>
            <a:off x="1577880" y="0"/>
            <a:ext cx="59882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6A011-0AAD-4A01-A976-61B3C5C5657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5 p6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ame the following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a) Cu(NO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pper cation (can form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ypes of ca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ck system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pper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ion 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Copper (II) 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12000" y="3789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C6DAA-5FA8-4510-9E05-E1363FF345D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b) KH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PO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K form only one type of 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tassium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te: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not potassium (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hydrogen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Potasium dihydroen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A5D12-BDEA-4FD1-A050-B085C7B202D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2" descr="02_01"/>
          <p:cNvPicPr/>
          <p:nvPr/>
        </p:nvPicPr>
        <p:blipFill>
          <a:blip r:embed="rId1"/>
          <a:srcRect l="0" t="5427" r="0" b="0"/>
          <a:stretch/>
        </p:blipFill>
        <p:spPr>
          <a:xfrm>
            <a:off x="287280" y="765000"/>
            <a:ext cx="8748720" cy="29354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324000" y="4365720"/>
            <a:ext cx="823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mass p = mass n = 1840 x mass e</a:t>
            </a:r>
            <a:r>
              <a:rPr b="0" lang="en-US" sz="3200" spc="-1" strike="noStrike" baseline="30000">
                <a:solidFill>
                  <a:srgbClr val="cc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7F53D-FEAA-4DE8-BCAE-DDEB16C792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(c) N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l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s a common name ammoni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l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mmonium chl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0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DCEF7-FE6A-47CB-99CE-250E90A3F4A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6 p6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Write chemical formulas for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a) Mercury (I) nit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oman number (I) shows that mercury 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+1 charg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g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ite is a common name of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Hg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NO</a:t>
            </a:r>
            <a:r>
              <a:rPr b="0" lang="ar-SA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F0C7E-D998-4EDA-BC7B-B3E3EC30364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79280" y="907920"/>
            <a:ext cx="8748720" cy="49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Mercury (Hg) is the only metal has this formula when it form cation with only one positive charg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Hg</a:t>
            </a:r>
            <a:r>
              <a:rPr b="0" lang="en-US" sz="3600" spc="-1" strike="noStrike" baseline="-25000">
                <a:solidFill>
                  <a:srgbClr val="666633"/>
                </a:solidFill>
                <a:latin typeface="Comic Sans MS"/>
              </a:rPr>
              <a:t>2</a:t>
            </a:r>
            <a:r>
              <a:rPr b="0" lang="en-US" sz="3600" spc="-1" strike="noStrike" baseline="30000">
                <a:solidFill>
                  <a:srgbClr val="666633"/>
                </a:solidFill>
                <a:latin typeface="Comic Sans MS"/>
              </a:rPr>
              <a:t>2+</a:t>
            </a: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 NOT Hg</a:t>
            </a:r>
            <a:r>
              <a:rPr b="0" lang="en-US" sz="3600" spc="-1" strike="noStrike" baseline="30000">
                <a:solidFill>
                  <a:srgbClr val="666633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he cation of two positive charges has the formula Hg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6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B28E3-9955-425D-AE40-0EB996F5B5B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b) Cesium sulp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sium Cs is in group 1A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lphide 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Cs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372360" y="1773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D92A4-DAAE-4E5A-9FAB-93501C73AA1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(b) Calcium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ium Ca is in 2A 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osphate 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(P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0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56360" y="1773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A1F9E-BE69-4E10-ACD5-831A0573338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16200000">
            <a:off x="4248000" y="-1143000"/>
            <a:ext cx="792000" cy="5472360"/>
          </a:xfrm>
          <a:custGeom>
            <a:avLst/>
            <a:gdLst>
              <a:gd name="textAreaLeft" fmla="*/ 0 w 792000"/>
              <a:gd name="textAreaRight" fmla="*/ 285840 w 79200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920" y="191628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Ionic Compo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64000" y="191628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124000" y="3438360"/>
            <a:ext cx="5112000" cy="333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EA35F-8F75-4226-8BD7-4690E42655F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41360" y="606600"/>
            <a:ext cx="85233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1" lang="en-US" sz="40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on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 further left in periodic table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 closest to bottom of group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124000" y="3438360"/>
            <a:ext cx="5112000" cy="333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D883D-4710-4AE8-AA87-3B9189DE467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539640" y="549360"/>
            <a:ext cx="8280360" cy="45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How can we nam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Place the name of the first element in the formula first, and the second element is named by adding –ide at the last of th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763640" y="4054320"/>
          <a:ext cx="5832720" cy="2830680"/>
        </p:xfrm>
        <a:graphic>
          <a:graphicData uri="http://schemas.openxmlformats.org/drawingml/2006/table">
            <a:tbl>
              <a:tblPr/>
              <a:tblGrid>
                <a:gridCol w="1871640"/>
                <a:gridCol w="396108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drogen chlo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B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drogen brom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licone carb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D4442-CB01-474A-8040-643F9B4F5E2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468360" y="709560"/>
            <a:ext cx="784872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In the following cases: (one pair of elements form several different compoun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CO           C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S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        S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N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        N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How can we name these compou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C4BA4-EF03-45F7-BB72-ABADAB3D4E7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24000" y="415800"/>
            <a:ext cx="648000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How can we name these compou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Also by placing the name of the first element in the formula first, and the second element is named by ad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–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ide at the last of th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+ By using of Greek prefixes to denote the number of atoms of each element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7" descr="02_04"/>
          <p:cNvPicPr/>
          <p:nvPr/>
        </p:nvPicPr>
        <p:blipFill>
          <a:blip r:embed="rId1"/>
          <a:srcRect l="5021" t="2087" r="4800" b="2087"/>
          <a:stretch/>
        </p:blipFill>
        <p:spPr>
          <a:xfrm>
            <a:off x="6877080" y="476280"/>
            <a:ext cx="2193840" cy="37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5047A-BC93-4C02-BA71-A415731BA3A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685800" y="380880"/>
            <a:ext cx="79246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Use the following table and choose which of the species are </a:t>
            </a:r>
            <a:r>
              <a:rPr b="1" lang="en-US" sz="2800" spc="-1" strike="noStrike">
                <a:solidFill>
                  <a:srgbClr val="cc0066"/>
                </a:solidFill>
                <a:latin typeface="Comic Sans MS"/>
              </a:rPr>
              <a:t>neutral</a:t>
            </a: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14400" y="914400"/>
          <a:ext cx="6172200" cy="1219320"/>
        </p:xfrm>
        <a:graphic>
          <a:graphicData uri="http://schemas.openxmlformats.org/drawingml/2006/table">
            <a:tbl>
              <a:tblPr/>
              <a:tblGrid>
                <a:gridCol w="2468520"/>
                <a:gridCol w="617760"/>
                <a:gridCol w="617400"/>
                <a:gridCol w="617400"/>
                <a:gridCol w="615960"/>
                <a:gridCol w="617760"/>
                <a:gridCol w="61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ctrons (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protons (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neutrons (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Box 3"/>
          <p:cNvSpPr/>
          <p:nvPr/>
        </p:nvSpPr>
        <p:spPr>
          <a:xfrm>
            <a:off x="914400" y="2235240"/>
            <a:ext cx="5486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II and V                             C. II and 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V and V                              </a:t>
            </a: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D. I and 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62120" y="27813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Use the following table and choose which of the species are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negatively charged</a:t>
            </a: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14400" y="3578400"/>
          <a:ext cx="6172200" cy="1218960"/>
        </p:xfrm>
        <a:graphic>
          <a:graphicData uri="http://schemas.openxmlformats.org/drawingml/2006/table">
            <a:tbl>
              <a:tblPr/>
              <a:tblGrid>
                <a:gridCol w="2468520"/>
                <a:gridCol w="617760"/>
                <a:gridCol w="617400"/>
                <a:gridCol w="617400"/>
                <a:gridCol w="615960"/>
                <a:gridCol w="617760"/>
                <a:gridCol w="61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ctrons (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protons (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neutrons (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Box 7"/>
          <p:cNvSpPr/>
          <p:nvPr/>
        </p:nvSpPr>
        <p:spPr>
          <a:xfrm>
            <a:off x="990720" y="4863960"/>
            <a:ext cx="5486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II and V                             </a:t>
            </a: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C. II and I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V and V                              D. I and 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5373720"/>
            <a:ext cx="8424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Atoms with the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same number of electrons and number of protons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 are call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ons                                           B. isoto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C. neutral atoms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. different 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DCF30-47E8-44F2-9CAF-47D9010FCE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539640" y="549360"/>
            <a:ext cx="20876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826920" y="1805040"/>
          <a:ext cx="6193080" cy="4719600"/>
        </p:xfrm>
        <a:graphic>
          <a:graphicData uri="http://schemas.openxmlformats.org/drawingml/2006/table">
            <a:tbl>
              <a:tblPr/>
              <a:tblGrid>
                <a:gridCol w="1810080"/>
                <a:gridCol w="43830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onocarbon mono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→ </a:t>
                      </a: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Carbon mon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ff"/>
                          </a:solidFill>
                          <a:latin typeface="Comic Sans MS"/>
                        </a:rPr>
                        <a:t>CO</a:t>
                      </a:r>
                      <a:r>
                        <a:rPr b="1" lang="en-US" sz="2800" spc="-1" strike="noStrike" baseline="-25000">
                          <a:solidFill>
                            <a:srgbClr val="9999ff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99ff"/>
                          </a:solidFill>
                          <a:latin typeface="Comic Sans MS"/>
                        </a:rPr>
                        <a:t>Carbon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0066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Sulphur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Sulphur tr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33"/>
                          </a:solidFill>
                          <a:latin typeface="Comic Sans MS"/>
                        </a:rPr>
                        <a:t>NO</a:t>
                      </a:r>
                      <a:r>
                        <a:rPr b="1" lang="en-US" sz="2800" spc="-1" strike="noStrike" baseline="-25000">
                          <a:solidFill>
                            <a:srgbClr val="666633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6633"/>
                          </a:solidFill>
                          <a:latin typeface="Comic Sans MS"/>
                        </a:rPr>
                        <a:t>Nitrogen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Dinitrogen tetr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1" name=""/>
          <p:cNvSpPr/>
          <p:nvPr/>
        </p:nvSpPr>
        <p:spPr>
          <a:xfrm>
            <a:off x="2484360" y="1844640"/>
            <a:ext cx="1150920" cy="432000"/>
          </a:xfrm>
          <a:prstGeom prst="wedgeRectCallout">
            <a:avLst>
              <a:gd name="adj1" fmla="val 4620"/>
              <a:gd name="adj2" fmla="val -1209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050920" y="765000"/>
            <a:ext cx="48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Note: Omitted if its in the first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999120" y="1916280"/>
            <a:ext cx="203688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momo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372360" y="5508720"/>
            <a:ext cx="25207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tetraoxide </a:t>
            </a:r>
            <a:r>
              <a:rPr b="0" lang="en-GB" sz="20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tetr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E041F-7C19-4FF7-8A5B-A249556377C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7 p6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ame the following molecular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a) SiCl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ne silicon atom &amp; four chlorine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Monosilicon tetrachloride (or o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mo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Silicon 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tetra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chlorid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3537E-51D3-46A6-8F70-C9C8094FD88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b) P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ur phosphourus atoms &amp; ten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Tetra</a:t>
            </a:r>
            <a:r>
              <a:rPr b="0" lang="en-GB" sz="4000" spc="-1" strike="noStrike">
                <a:solidFill>
                  <a:srgbClr val="a50021"/>
                </a:solidFill>
                <a:latin typeface="Comic Sans MS"/>
              </a:rPr>
              <a:t>phosphourus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dec</a:t>
            </a:r>
            <a:r>
              <a:rPr b="0" lang="en-GB" sz="4000" spc="-1" strike="noStrike">
                <a:solidFill>
                  <a:srgbClr val="a50021"/>
                </a:solidFill>
                <a:latin typeface="Comic Sans MS"/>
              </a:rPr>
              <a:t>ox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227640" y="3068640"/>
            <a:ext cx="203688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dec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86095-401D-4CDE-983E-A0F53CBB649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57200" y="433440"/>
            <a:ext cx="822960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xample 2.8 p6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Write chemical formulas for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molecular 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a) carbon disulph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is one carbon atom &amp; two sulph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s, Thus: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S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b) Disilicon hexa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is two silicon atoms &amp; six bro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s, Thus: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Br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9640" y="386064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58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11B89-7131-4C8D-8B68-255553D1EF0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79280" y="981000"/>
            <a:ext cx="9145800" cy="51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1. Ioni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Cation                                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2. Non-metal A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Take the name of the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Common metal NH</a:t>
            </a:r>
            <a:r>
              <a:rPr b="0" lang="en-US" sz="2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form one type of cation (1A, 2A, Ag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, Cd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, Al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, Zn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)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form more than one type of cation (e.g.. Cr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&amp; Cr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Stock System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 Roman numerals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(1 = I, 2 = II, 3 = III, 4 = IV, 5 =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5280" y="38880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Naming Compounds: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DF186-BB37-4249-99C0-E18BCA863774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79280" y="981000"/>
            <a:ext cx="8964720" cy="41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GB" sz="2000" spc="-1" strike="noStrike">
                <a:solidFill>
                  <a:srgbClr val="00007d"/>
                </a:solidFill>
                <a:latin typeface="Comic Sans MS"/>
              </a:rPr>
              <a:t>1. Ionic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2. Non-metal Anion                             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1. Metal 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ake the name of the element but change the last of the name to -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1. Common names, ClO</a:t>
            </a:r>
            <a:r>
              <a:rPr b="0" lang="en-GB" sz="20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6600"/>
                </a:solidFill>
                <a:latin typeface="Comic Sans MS"/>
              </a:rPr>
              <a:t>-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ar-SA" sz="2000" spc="-1" strike="noStrike" baseline="30000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hl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2. monoatomic non-metals, e.g. chlorine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hlor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3. Polyatoic non-metals, OH</a:t>
            </a:r>
            <a:r>
              <a:rPr b="0" lang="en-GB" sz="20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hydr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DC88C-3D46-477B-AD65-CD0E6EE747E1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79280" y="981000"/>
            <a:ext cx="8964720" cy="46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GB" sz="2000" spc="-1" strike="noStrike">
                <a:solidFill>
                  <a:srgbClr val="00007d"/>
                </a:solidFill>
                <a:latin typeface="Comic Sans MS"/>
              </a:rPr>
              <a:t>1. Io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0000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airs form one type of compound</a:t>
            </a:r>
            <a:r>
              <a:rPr b="0" lang="ar-SA" sz="18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     2. Pairs form several type   of compounds</a:t>
            </a:r>
            <a:r>
              <a:rPr b="0" lang="ar-SA" sz="18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ut the name of the first element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first and change the nam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second element  but change the l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of the name to -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e.g. HCl Hydrogen chlor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00720" y="3141720"/>
            <a:ext cx="46432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ut the name of the first element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first and change the nam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second element  but change the l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of the name to –ide, &amp; use the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Greek prefixes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(mono- = 1, di- = 2 ……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e.g. CO carbon mon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CO</a:t>
            </a:r>
            <a:r>
              <a:rPr b="0" lang="en-GB" sz="1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carbon di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1ED38-90B0-4F16-98CB-18C8C7FBABD1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2"/>
          <p:cNvSpPr/>
          <p:nvPr/>
        </p:nvSpPr>
        <p:spPr>
          <a:xfrm>
            <a:off x="611280" y="549360"/>
            <a:ext cx="78469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he correct name for NH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NO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 i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Comic Sans MS"/>
              </a:rPr>
              <a:t>ammonium nit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monium nitrogen tri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monia nitrogen 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drogen nitrogen 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drogen nit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3"/>
          <p:cNvSpPr/>
          <p:nvPr/>
        </p:nvSpPr>
        <p:spPr>
          <a:xfrm>
            <a:off x="611280" y="3789360"/>
            <a:ext cx="78469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he correct name for PCl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 i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phosphate pent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hosphorus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loro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   monophosphate tetr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Comic Sans MS"/>
              </a:rPr>
              <a:t>phosphorus pent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C581E-F1DF-4662-A725-54D7A4A85A9D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51" descr="02_11"/>
          <p:cNvPicPr/>
          <p:nvPr/>
        </p:nvPicPr>
        <p:blipFill>
          <a:blip r:embed="rId1"/>
          <a:srcRect l="0" t="3812" r="0" b="0"/>
          <a:stretch/>
        </p:blipFill>
        <p:spPr>
          <a:xfrm>
            <a:off x="0" y="476280"/>
            <a:ext cx="9144000" cy="3967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611280" y="379440"/>
            <a:ext cx="626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التكافؤ او عدد الاكسد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للعناصر الشهير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79280" y="4383000"/>
            <a:ext cx="8964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1A (alkaline Metals): 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2A (alkaline Earth Metals): 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3A: 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5A: -3 (= 5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6A: -2 (= 6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7A (halogens): -1 (= 7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CAA85-5EFD-4199-A127-150D4690CFFE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71280" y="115920"/>
            <a:ext cx="8893440" cy="65786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979640" y="260280"/>
            <a:ext cx="367200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2CA52-1386-494A-B2DF-84BAA5AE146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280" y="1706400"/>
            <a:ext cx="8991720" cy="51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Atomic number: is the number of protons in the nucleus of each atom of an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tomic number (Z) = number of protons in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 a neutral atom: Number of protons = number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Mass number: is the total number of neutrons and protons present in the nucleus of an atom of an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Mass number (A) = number of protons + number of neutr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=  atomic number (Z) + number of neu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hus: the number of neutrons = A -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040" y="404640"/>
            <a:ext cx="857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.3 Atomic number, Mass number and Isot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06267-239B-4C35-867E-C073492159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4920" y="423720"/>
            <a:ext cx="4968720" cy="69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9900cc"/>
                </a:solidFill>
                <a:uFillTx/>
                <a:latin typeface="Comic Sans MS"/>
              </a:rPr>
              <a:t>Problems: 2.57 &amp; 2.58 p73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ame these compound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r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K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HP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HB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Li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K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r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H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F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F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24000" y="371520"/>
            <a:ext cx="7488360" cy="65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sodium chr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potassium hydrogen phosph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hydrogen brom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lithium carbo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potassium dichr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ammonium nit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phosphorus triflour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phosphorus pentaflour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tetraphosphourus hexox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03819-6A57-4930-9858-2BB131BC2C34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95280" y="-531720"/>
            <a:ext cx="4681440" cy="66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dI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SrS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l(OH)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Cl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556000" y="-544680"/>
            <a:ext cx="6443640" cy="76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cadmium iod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strontium sul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alumin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sodium carbon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)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)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I) ox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497CA-2504-4E7A-8F3C-F0A55A54110F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08000" y="549360"/>
            <a:ext cx="63356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Problem 2.59 &amp; 2.30 p7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Write the formulas for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Rubidium nit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tassium sulph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agnesium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lcium hydrogen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tassium dihydrogen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iodine heptaflou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56360" y="2421000"/>
            <a:ext cx="2987640" cy="41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RbN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(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CaH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KH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F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D8974-569B-41C0-A5EB-D576F77E9236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468360" y="549360"/>
            <a:ext cx="8675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mmonium sul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silver perchl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boron tri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pper (I) 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pper (II) 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lead (II) 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lead (IV) 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37080" y="1197000"/>
            <a:ext cx="2987640" cy="47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N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gCl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BCl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u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u(CN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PbC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Pb(C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4DCFA-F313-4A3D-BCFD-40E2BC9283B8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68360" y="2205000"/>
            <a:ext cx="4881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A9F90-FEEC-49C2-8A34-2C1A39F83D1D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3688560" y="1430280"/>
            <a:ext cx="728280" cy="816840"/>
            <a:chOff x="3688560" y="1430280"/>
            <a:chExt cx="728280" cy="816840"/>
          </a:xfrm>
        </p:grpSpPr>
        <p:sp>
          <p:nvSpPr>
            <p:cNvPr id="129" name=""/>
            <p:cNvSpPr/>
            <p:nvPr/>
          </p:nvSpPr>
          <p:spPr>
            <a:xfrm>
              <a:off x="3967920" y="1503360"/>
              <a:ext cx="44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88560" y="14302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28520" y="1787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956240" y="2529000"/>
            <a:ext cx="4671360" cy="751680"/>
            <a:chOff x="1956240" y="2529000"/>
            <a:chExt cx="4671360" cy="751680"/>
          </a:xfrm>
        </p:grpSpPr>
        <p:grpSp>
          <p:nvGrpSpPr>
            <p:cNvPr id="133" name=""/>
            <p:cNvGrpSpPr/>
            <p:nvPr/>
          </p:nvGrpSpPr>
          <p:grpSpPr>
            <a:xfrm>
              <a:off x="1956240" y="2529000"/>
              <a:ext cx="718560" cy="751680"/>
              <a:chOff x="1956240" y="2529000"/>
              <a:chExt cx="718560" cy="751680"/>
            </a:xfrm>
          </p:grpSpPr>
          <p:sp>
            <p:nvSpPr>
              <p:cNvPr id="134" name=""/>
              <p:cNvSpPr/>
              <p:nvPr/>
            </p:nvSpPr>
            <p:spPr>
              <a:xfrm>
                <a:off x="2155680" y="2603520"/>
                <a:ext cx="51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5624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5624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3299400" y="2529000"/>
              <a:ext cx="1481400" cy="751680"/>
              <a:chOff x="3299400" y="2529000"/>
              <a:chExt cx="1481400" cy="751680"/>
            </a:xfrm>
          </p:grpSpPr>
          <p:sp>
            <p:nvSpPr>
              <p:cNvPr id="138" name=""/>
              <p:cNvSpPr/>
              <p:nvPr/>
            </p:nvSpPr>
            <p:spPr>
              <a:xfrm>
                <a:off x="3534840" y="2602080"/>
                <a:ext cx="1245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 (D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2388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9940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194800" y="2529000"/>
              <a:ext cx="1432800" cy="751680"/>
              <a:chOff x="5194800" y="2529000"/>
              <a:chExt cx="1432800" cy="751680"/>
            </a:xfrm>
          </p:grpSpPr>
          <p:sp>
            <p:nvSpPr>
              <p:cNvPr id="142" name=""/>
              <p:cNvSpPr/>
              <p:nvPr/>
            </p:nvSpPr>
            <p:spPr>
              <a:xfrm>
                <a:off x="5460840" y="2602080"/>
                <a:ext cx="1166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 (T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21928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19480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2434320" y="3564000"/>
            <a:ext cx="3139200" cy="751680"/>
            <a:chOff x="2434320" y="3564000"/>
            <a:chExt cx="3139200" cy="751680"/>
          </a:xfrm>
        </p:grpSpPr>
        <p:grpSp>
          <p:nvGrpSpPr>
            <p:cNvPr id="146" name=""/>
            <p:cNvGrpSpPr/>
            <p:nvPr/>
          </p:nvGrpSpPr>
          <p:grpSpPr>
            <a:xfrm>
              <a:off x="2434320" y="3564000"/>
              <a:ext cx="1104120" cy="751680"/>
              <a:chOff x="2434320" y="3564000"/>
              <a:chExt cx="1104120" cy="751680"/>
            </a:xfrm>
          </p:grpSpPr>
          <p:sp>
            <p:nvSpPr>
              <p:cNvPr id="147" name=""/>
              <p:cNvSpPr/>
              <p:nvPr/>
            </p:nvSpPr>
            <p:spPr>
              <a:xfrm>
                <a:off x="3024000" y="3600360"/>
                <a:ext cx="514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434320" y="356400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3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593440" y="3855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469400" y="3564000"/>
              <a:ext cx="1104120" cy="751680"/>
              <a:chOff x="4469400" y="3564000"/>
              <a:chExt cx="1104120" cy="751680"/>
            </a:xfrm>
          </p:grpSpPr>
          <p:sp>
            <p:nvSpPr>
              <p:cNvPr id="151" name=""/>
              <p:cNvSpPr/>
              <p:nvPr/>
            </p:nvSpPr>
            <p:spPr>
              <a:xfrm>
                <a:off x="5059080" y="3600360"/>
                <a:ext cx="514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69400" y="356400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3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628520" y="3855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1467360" y="1413000"/>
            <a:ext cx="2241000" cy="398880"/>
            <a:chOff x="1467360" y="1413000"/>
            <a:chExt cx="2241000" cy="398880"/>
          </a:xfrm>
        </p:grpSpPr>
        <p:sp>
          <p:nvSpPr>
            <p:cNvPr id="155" name=""/>
            <p:cNvSpPr/>
            <p:nvPr/>
          </p:nvSpPr>
          <p:spPr>
            <a:xfrm>
              <a:off x="1467360" y="1413000"/>
              <a:ext cx="192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Mass Number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74840" y="1622160"/>
              <a:ext cx="53352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321200" y="1809720"/>
            <a:ext cx="2386800" cy="398880"/>
            <a:chOff x="1321200" y="1809720"/>
            <a:chExt cx="2386800" cy="398880"/>
          </a:xfrm>
        </p:grpSpPr>
        <p:sp>
          <p:nvSpPr>
            <p:cNvPr id="158" name=""/>
            <p:cNvSpPr/>
            <p:nvPr/>
          </p:nvSpPr>
          <p:spPr>
            <a:xfrm>
              <a:off x="1321200" y="1809720"/>
              <a:ext cx="21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Atomic Numbe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74840" y="202068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406400" y="1639800"/>
            <a:ext cx="2596680" cy="398880"/>
            <a:chOff x="4406400" y="1639800"/>
            <a:chExt cx="2596680" cy="398880"/>
          </a:xfrm>
        </p:grpSpPr>
        <p:sp>
          <p:nvSpPr>
            <p:cNvPr id="161" name=""/>
            <p:cNvSpPr/>
            <p:nvPr/>
          </p:nvSpPr>
          <p:spPr>
            <a:xfrm>
              <a:off x="4893120" y="1639800"/>
              <a:ext cx="210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Element Symb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406400" y="183672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F88ED-684A-4E85-A297-AD62884F34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2280" y="692280"/>
            <a:ext cx="838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otop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atoms of the same element (X) with different numbers of neutrons in their nuc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43280" y="2276640"/>
            <a:ext cx="7200720" cy="3287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16000" y="3274920"/>
            <a:ext cx="24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Isotopes of Hyd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3280" y="5229360"/>
            <a:ext cx="630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1 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1 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1 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0 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1 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2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B80AE-8D0A-4E27-B375-B9785C5472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12:28:57Z</dcterms:modified>
  <cp:revision>206</cp:revision>
  <dc:subject/>
  <dc:title>General Chemistry CHEM 110</dc:title>
</cp:coreProperties>
</file>