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6F534E-EDF9-4305-AD27-416D3385C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A678E3-4F47-4067-978A-80B5F2F3E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26544E-FCB3-4E00-8938-4D56E7139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CC7904-B14E-4508-84BF-58C33B2B3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3BF39-A145-4257-B1DB-AB26D8232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B7D7D-E605-4126-B9E7-CCA0B926B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04A40-C90D-4285-9194-F595955C6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A99F7-FCC1-49CE-B7A5-CF29FEC89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C98A3-8E57-4E8F-ACDB-085725C7C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23EB1-3F69-4426-BF82-DBA6CA61F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C70FC-4AF7-4036-AF18-C9D629CB1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5C937F-F386-4861-B7BA-132A05B83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27951-8011-47CE-BA66-284BBFC27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68762-8926-4E2F-9D14-DE0E7C82A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F9175-51F4-40FD-B841-8355DFB1F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40379-0030-4D10-9244-3E9DFAB21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50699-906F-4DA5-A88D-774C1D3E9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D7FEEF-5A4C-4DB3-AFE4-9CC7B529A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A74A6E-51A0-4750-A345-A7B2D3F3F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8711B4-1E77-4287-8710-B78BACDED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51933A-C19F-472B-AF22-CBA301B1F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BE9840-5457-44C9-B3DC-193772AC2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4DFCC1-DA3C-4801-B87D-18F4EDBEA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D251CD-E8A6-4F51-8AC9-E24B253EB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CAC58-2EF8-4B5D-939F-B105D506E9DD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7BC44-1A7A-4B3D-876F-A255732A363B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General Chemistry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CHEM 110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Dr. Nuha Wazzan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755640" y="4292640"/>
            <a:ext cx="8236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Chapter 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Quantum Theory and Electronic Structure of Ato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6D05F-1837-4CD1-8588-508C4B9ABC8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380880" y="182520"/>
            <a:ext cx="8610840" cy="4084560"/>
          </a:xfrm>
          <a:prstGeom prst="rect">
            <a:avLst/>
          </a:prstGeom>
          <a:ln w="0">
            <a:noFill/>
          </a:ln>
        </p:spPr>
      </p:pic>
      <p:grpSp>
        <p:nvGrpSpPr>
          <p:cNvPr id="132" name=""/>
          <p:cNvGrpSpPr/>
          <p:nvPr/>
        </p:nvGrpSpPr>
        <p:grpSpPr>
          <a:xfrm>
            <a:off x="533520" y="4187880"/>
            <a:ext cx="7924680" cy="2079720"/>
            <a:chOff x="533520" y="4187880"/>
            <a:chExt cx="7924680" cy="2079720"/>
          </a:xfrm>
        </p:grpSpPr>
        <p:sp>
          <p:nvSpPr>
            <p:cNvPr id="133" name=""/>
            <p:cNvSpPr/>
            <p:nvPr/>
          </p:nvSpPr>
          <p:spPr>
            <a:xfrm>
              <a:off x="832320" y="4187880"/>
              <a:ext cx="7511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Line Emission Spectrum of Hydrogen Atom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4" name="" descr=""/>
            <p:cNvPicPr/>
            <p:nvPr/>
          </p:nvPicPr>
          <p:blipFill>
            <a:blip r:embed="rId2"/>
            <a:stretch/>
          </p:blipFill>
          <p:spPr>
            <a:xfrm>
              <a:off x="533520" y="4648320"/>
              <a:ext cx="7924680" cy="1619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44372D-9954-4937-AD41-69C71FE4217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2195640" y="1052640"/>
            <a:ext cx="5329080" cy="516240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4859280" y="476280"/>
            <a:ext cx="115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859280" y="2492280"/>
            <a:ext cx="115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572000" y="907920"/>
            <a:ext cx="360360" cy="360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572000" y="2852640"/>
            <a:ext cx="360360" cy="360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301384-22F7-4236-96DF-579F1C12695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36280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e energies of the electron in the H atom are given b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n = 1 Ground State </a:t>
            </a:r>
            <a:r>
              <a:rPr b="1" lang="ar-SA" sz="3200" spc="-1" strike="noStrike">
                <a:solidFill>
                  <a:srgbClr val="9900cc"/>
                </a:solidFill>
                <a:latin typeface="Comic Sans MS"/>
              </a:rPr>
              <a:t>الحاله الارضيه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n = 2, 3, 4, … Excited States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ar-SA" sz="3200" spc="-1" strike="noStrike">
                <a:solidFill>
                  <a:srgbClr val="a50021"/>
                </a:solidFill>
                <a:latin typeface="Comic Sans MS"/>
              </a:rPr>
              <a:t>الحالات المثاره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971640" y="1773360"/>
                <a:ext cx="7848360" cy="290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n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 Rydberg constant 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8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J</m:t>
                        </m:r>
                      </m:e>
                      <m:e>
                        <m:r>
                          <m:t xml:space="preserve">n</m:t>
                        </m:r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 integer called the principal quantum number;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1, 2, 3,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35C3F1-4D41-4073-8B41-47C46EF09D3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983040" y="765000"/>
            <a:ext cx="5126040" cy="56167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324000" y="620640"/>
                <a:ext cx="3905280" cy="525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E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Sup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Sup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  <m:r>
                          <m:t xml:space="preserve">)</m:t>
                        </m:r>
                      </m:e>
                      <m:e>
                        <m:r>
                          <m:t xml:space="preserve">⇒</m:t>
                        </m:r>
                        <m:r>
                          <m:t xml:space="preserve">ΔE</m:t>
                        </m:r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H</m:t>
                                    </m:r>
                                  </m:sub>
                                </m:sSub>
                              </m:num>
                              <m:den>
                                <m:sSubSup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</m:e>
                        </m:d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H</m:t>
                                    </m:r>
                                  </m:sub>
                                </m:sSub>
                              </m:num>
                              <m:den>
                                <m:sSubSup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</m:e>
                        </m:d>
                      </m:e>
                      <m:e>
                        <m:r>
                          <m:t xml:space="preserve">ΔE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Sup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Sup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44" name=""/>
          <p:cNvSpPr/>
          <p:nvPr/>
        </p:nvSpPr>
        <p:spPr>
          <a:xfrm>
            <a:off x="324000" y="4653000"/>
            <a:ext cx="3024000" cy="1224000"/>
          </a:xfrm>
          <a:prstGeom prst="rect">
            <a:avLst/>
          </a:prstGeom>
          <a:noFill/>
          <a:ln w="3816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F9DE54-0714-4F24-830A-B96BB82BF80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395280" y="1015920"/>
                <a:ext cx="3024360" cy="126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E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Sup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Sup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46" name=""/>
          <p:cNvSpPr/>
          <p:nvPr/>
        </p:nvSpPr>
        <p:spPr>
          <a:xfrm>
            <a:off x="539640" y="3141720"/>
            <a:ext cx="8353440" cy="356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9900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1" lang="en-GB" sz="3600" spc="-1" strike="noStrike">
                <a:solidFill>
                  <a:srgbClr val="a50021"/>
                </a:solidFill>
                <a:latin typeface="Comic Sans MS"/>
              </a:rPr>
              <a:t>If n</a:t>
            </a:r>
            <a:r>
              <a:rPr b="1" lang="en-GB" sz="3600" spc="-1" strike="noStrike" baseline="-25000">
                <a:solidFill>
                  <a:srgbClr val="a50021"/>
                </a:solidFill>
                <a:latin typeface="Comic Sans MS"/>
              </a:rPr>
              <a:t>f</a:t>
            </a:r>
            <a:r>
              <a:rPr b="1" lang="en-GB" sz="3600" spc="-1" strike="noStrike">
                <a:solidFill>
                  <a:srgbClr val="a50021"/>
                </a:solidFill>
                <a:latin typeface="Comic Sans MS"/>
              </a:rPr>
              <a:t> &gt; n</a:t>
            </a:r>
            <a:r>
              <a:rPr b="1" lang="en-GB" sz="3600" spc="-1" strike="noStrike" baseline="-25000">
                <a:solidFill>
                  <a:srgbClr val="a50021"/>
                </a:solidFill>
                <a:latin typeface="Comic Sans MS"/>
              </a:rPr>
              <a:t>i</a:t>
            </a:r>
            <a:r>
              <a:rPr b="1" lang="en-GB" sz="3600" spc="-1" strike="noStrike">
                <a:solidFill>
                  <a:srgbClr val="a50021"/>
                </a:solidFill>
                <a:latin typeface="Comic Sans MS"/>
              </a:rPr>
              <a:t> →</a:t>
            </a:r>
            <a:r>
              <a:rPr b="1" lang="ar-SA" sz="36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1" lang="en-GB" sz="3600" spc="-1" strike="noStrike">
                <a:solidFill>
                  <a:srgbClr val="a50021"/>
                </a:solidFill>
                <a:latin typeface="Comic Sans MS"/>
              </a:rPr>
              <a:t>(+ve) →</a:t>
            </a:r>
            <a:r>
              <a:rPr b="1" lang="ar-SA" sz="36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1" lang="el-GR" sz="3600" spc="-1" strike="noStrike">
                <a:solidFill>
                  <a:srgbClr val="a50021"/>
                </a:solidFill>
                <a:latin typeface="Comic Sans MS"/>
              </a:rPr>
              <a:t>Δ</a:t>
            </a:r>
            <a:r>
              <a:rPr b="1" lang="en-GB" sz="3600" spc="-1" strike="noStrike">
                <a:solidFill>
                  <a:srgbClr val="a50021"/>
                </a:solidFill>
                <a:latin typeface="Comic Sans MS"/>
              </a:rPr>
              <a:t>E (+ve)</a:t>
            </a:r>
            <a:r>
              <a:rPr b="1" lang="ar-SA" sz="36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1" lang="en-GB" sz="3600" spc="-1" strike="noStrike">
                <a:solidFill>
                  <a:srgbClr val="a50021"/>
                </a:solidFill>
                <a:latin typeface="Comic Sans MS"/>
              </a:rPr>
              <a:t>→</a:t>
            </a:r>
            <a:r>
              <a:rPr b="1" lang="ar-SA" sz="36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1" lang="en-GB" sz="3600" spc="-1" strike="noStrike">
                <a:solidFill>
                  <a:srgbClr val="a50021"/>
                </a:solidFill>
                <a:latin typeface="Comic Sans MS"/>
              </a:rPr>
              <a:t> Energy is absorbed</a:t>
            </a:r>
            <a:r>
              <a:rPr b="0" lang="en-GB" sz="3600" spc="-1" strike="noStrike">
                <a:solidFill>
                  <a:srgbClr val="a50021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a50021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1" lang="en-GB" sz="3600" spc="-1" strike="noStrike">
                <a:solidFill>
                  <a:srgbClr val="9900cc"/>
                </a:solidFill>
                <a:latin typeface="Comic Sans MS"/>
              </a:rPr>
              <a:t>If n</a:t>
            </a:r>
            <a:r>
              <a:rPr b="1" lang="en-GB" sz="3600" spc="-1" strike="noStrike" baseline="-25000">
                <a:solidFill>
                  <a:srgbClr val="9900cc"/>
                </a:solidFill>
                <a:latin typeface="Comic Sans MS"/>
              </a:rPr>
              <a:t>i</a:t>
            </a:r>
            <a:r>
              <a:rPr b="1" lang="en-GB" sz="3600" spc="-1" strike="noStrike">
                <a:solidFill>
                  <a:srgbClr val="9900cc"/>
                </a:solidFill>
                <a:latin typeface="Comic Sans MS"/>
              </a:rPr>
              <a:t> &gt; n</a:t>
            </a:r>
            <a:r>
              <a:rPr b="1" lang="en-GB" sz="3600" spc="-1" strike="noStrike" baseline="-25000">
                <a:solidFill>
                  <a:srgbClr val="9900cc"/>
                </a:solidFill>
                <a:latin typeface="Comic Sans MS"/>
              </a:rPr>
              <a:t>f</a:t>
            </a:r>
            <a:r>
              <a:rPr b="1" lang="en-GB" sz="3600" spc="-1" strike="noStrike">
                <a:solidFill>
                  <a:srgbClr val="9900cc"/>
                </a:solidFill>
                <a:latin typeface="Comic Sans MS"/>
              </a:rPr>
              <a:t> →</a:t>
            </a:r>
            <a:r>
              <a:rPr b="1" lang="ar-SA" sz="36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1" lang="en-GB" sz="3600" spc="-1" strike="noStrike">
                <a:solidFill>
                  <a:srgbClr val="9900cc"/>
                </a:solidFill>
                <a:latin typeface="Comic Sans MS"/>
              </a:rPr>
              <a:t>(-ve) →</a:t>
            </a:r>
            <a:r>
              <a:rPr b="1" lang="ar-SA" sz="36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1" lang="el-GR" sz="3600" spc="-1" strike="noStrike">
                <a:solidFill>
                  <a:srgbClr val="9900cc"/>
                </a:solidFill>
                <a:latin typeface="Comic Sans MS"/>
                <a:ea typeface="DFKai-SB"/>
              </a:rPr>
              <a:t>Δ</a:t>
            </a:r>
            <a:r>
              <a:rPr b="1" lang="en-GB" sz="3600" spc="-1" strike="noStrike">
                <a:solidFill>
                  <a:srgbClr val="9900cc"/>
                </a:solidFill>
                <a:latin typeface="Comic Sans MS"/>
                <a:ea typeface="DFKai-SB"/>
              </a:rPr>
              <a:t>E (-ve)</a:t>
            </a:r>
            <a:r>
              <a:rPr b="1" lang="ar-SA" sz="3600" spc="-1" strike="noStrike">
                <a:solidFill>
                  <a:srgbClr val="9900cc"/>
                </a:solidFill>
                <a:latin typeface="Comic Sans MS"/>
                <a:ea typeface="DFKai-SB"/>
              </a:rPr>
              <a:t> </a:t>
            </a:r>
            <a:r>
              <a:rPr b="1" lang="en-GB" sz="3600" spc="-1" strike="noStrike">
                <a:solidFill>
                  <a:srgbClr val="9900cc"/>
                </a:solidFill>
                <a:latin typeface="Comic Sans MS"/>
                <a:ea typeface="DFKai-SB"/>
              </a:rPr>
              <a:t>→</a:t>
            </a:r>
            <a:r>
              <a:rPr b="1" lang="ar-SA" sz="3600" spc="-1" strike="noStrike">
                <a:solidFill>
                  <a:srgbClr val="9900cc"/>
                </a:solidFill>
                <a:latin typeface="Comic Sans MS"/>
                <a:ea typeface="DFKai-SB"/>
              </a:rPr>
              <a:t> </a:t>
            </a:r>
            <a:r>
              <a:rPr b="1" lang="en-GB" sz="3600" spc="-1" strike="noStrike">
                <a:solidFill>
                  <a:srgbClr val="9900cc"/>
                </a:solidFill>
                <a:latin typeface="Comic Sans MS"/>
                <a:ea typeface="DFKai-SB"/>
              </a:rPr>
              <a:t> Energy is emitted</a:t>
            </a:r>
            <a:r>
              <a:rPr b="0" lang="en-GB" sz="3600" spc="-1" strike="noStrike">
                <a:solidFill>
                  <a:srgbClr val="a50021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a50021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291280" y="1052640"/>
            <a:ext cx="21715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291280" y="2276640"/>
            <a:ext cx="21715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6588000" y="1052640"/>
            <a:ext cx="0" cy="122400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722920" y="1052640"/>
            <a:ext cx="0" cy="12240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659640" y="1341360"/>
            <a:ext cx="194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Energy absorb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427640" y="1125360"/>
            <a:ext cx="194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Energy emit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4284720" y="691920"/>
            <a:ext cx="0" cy="1942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780000" y="141300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443640" y="2179800"/>
            <a:ext cx="631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n</a:t>
            </a:r>
            <a:r>
              <a:rPr b="0" lang="en-US" sz="2400" spc="-1" strike="noStrike" baseline="-25000">
                <a:solidFill>
                  <a:srgbClr val="a50021"/>
                </a:solidFill>
                <a:latin typeface="Comic Sans MS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443640" y="595440"/>
            <a:ext cx="631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n</a:t>
            </a:r>
            <a:r>
              <a:rPr b="0" lang="en-US" sz="2400" spc="-1" strike="noStrike" baseline="-25000">
                <a:solidFill>
                  <a:srgbClr val="a50021"/>
                </a:solidFill>
                <a:latin typeface="Comic Sans MS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524560" y="620640"/>
            <a:ext cx="631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n</a:t>
            </a:r>
            <a:r>
              <a:rPr b="0" lang="en-US" sz="2400" spc="-1" strike="noStrike" baseline="-25000">
                <a:solidFill>
                  <a:srgbClr val="9900cc"/>
                </a:solidFill>
                <a:latin typeface="Comic Sans MS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524560" y="2179800"/>
            <a:ext cx="631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n</a:t>
            </a:r>
            <a:r>
              <a:rPr b="0" lang="en-US" sz="2400" spc="-1" strike="noStrike" baseline="-25000">
                <a:solidFill>
                  <a:srgbClr val="9900cc"/>
                </a:solidFill>
                <a:latin typeface="Comic Sans MS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7F787D-5688-4A31-821D-22E1C943487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" dur="8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" dur="8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" dur="8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" dur="8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" dur="8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" dur="8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395280" y="333360"/>
            <a:ext cx="8137440" cy="21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 7.4 p287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What is the wavelength of a photon (in nm) emitted during a transition from the n</a:t>
            </a:r>
            <a:r>
              <a:rPr b="0" lang="en-US" sz="2800" spc="-1" strike="noStrike" baseline="-25000">
                <a:solidFill>
                  <a:srgbClr val="00007d"/>
                </a:solidFill>
                <a:latin typeface="Comic Sans MS"/>
              </a:rPr>
              <a:t>i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= 5 state to the n</a:t>
            </a:r>
            <a:r>
              <a:rPr b="0" lang="en-US" sz="2800" spc="-1" strike="noStrike" baseline="-25000">
                <a:solidFill>
                  <a:srgbClr val="00007d"/>
                </a:solidFill>
                <a:latin typeface="Comic Sans MS"/>
              </a:rPr>
              <a:t>f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= 2 state in the hydrogen ato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42920" y="2421000"/>
            <a:ext cx="8893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08000" y="2492280"/>
            <a:ext cx="889308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Given n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 5; n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f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 2; n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&gt; n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f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→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  <a:ea typeface="DFKai-SB"/>
              </a:rPr>
              <a:t>Δ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 =-ve (energy is emitt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Find: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λ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(in nm)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?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4037040" y="4149720"/>
                <a:ext cx="2943360" cy="222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E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Sup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Sup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</m:e>
                        </m:d>
                      </m:e>
                      <m:e>
                        <m:r>
                          <m:t xml:space="preserve">ΔE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hc</m:t>
                            </m:r>
                          </m:num>
                          <m:den>
                            <m:r>
                              <m:t xml:space="preserve">λ</m:t>
                            </m:r>
                          </m:den>
                        </m:f>
                        <m:r>
                          <m:t xml:space="preserve">⇒</m:t>
                        </m:r>
                        <m:r>
                          <m:t xml:space="preserve">λ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hc</m:t>
                            </m:r>
                          </m:num>
                          <m:den>
                            <m:r>
                              <m:t xml:space="preserve">ΔE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18E2C1-D476-4550-B668-75E60D4C699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179280" y="549360"/>
                <a:ext cx="7848720" cy="558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ΔE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Sup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Sup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8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J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p>
                                  <m:e>
                                    <m:r>
                                      <m:t xml:space="preserve">5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p>
                                  <m:e>
                                    <m:r>
                                      <m:t xml:space="preserve">2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</m:e>
                        </m:d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8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9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J</m:t>
                        </m:r>
                      </m:e>
                      <m:e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ΔE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hc</m:t>
                            </m:r>
                          </m:num>
                          <m:den>
                            <m:r>
                              <m:t xml:space="preserve">λ</m:t>
                            </m:r>
                          </m:den>
                        </m:f>
                        <m:r>
                          <m:t xml:space="preserve">⇒</m:t>
                        </m:r>
                      </m:e>
                      <m:e>
                        <m:r>
                          <m:t xml:space="preserve">λ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hc</m:t>
                            </m:r>
                          </m:num>
                          <m:den>
                            <m:r>
                              <m:t xml:space="preserve">ΔE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3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34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J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 x 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0 x10</m:t>
                                </m:r>
                              </m:e>
                              <m:sup>
                                <m:r>
                                  <m:t xml:space="preserve">8</m:t>
                                </m:r>
                              </m:sup>
                            </m:s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m</m:t>
                                </m:r>
                              </m:num>
                              <m:den>
                                <m:r>
                                  <m:t xml:space="preserve">s</m:t>
                                </m:r>
                              </m:den>
                            </m:f>
                          </m:num>
                          <m:den>
                            <m:r>
                              <m:t xml:space="preserve">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58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9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J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4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7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m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434 nm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64" name=""/>
          <p:cNvSpPr/>
          <p:nvPr/>
        </p:nvSpPr>
        <p:spPr>
          <a:xfrm>
            <a:off x="5508720" y="5157720"/>
            <a:ext cx="3456000" cy="19227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66"/>
                </a:solidFill>
                <a:latin typeface="Comic Sans MS"/>
              </a:rPr>
              <a:t>لاحظي ان الطاقه اخذت باشاره موجبه لان الطول الموجي لايمكن ان يكون قيمه سالبه</a:t>
            </a:r>
            <a:r>
              <a:rPr b="1" lang="ar-SA" sz="2400" spc="-1" strike="noStrike">
                <a:solidFill>
                  <a:srgbClr val="003366"/>
                </a:solidFill>
                <a:latin typeface="Comic Sans MS"/>
              </a:rPr>
              <a:t>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63814D-C3B7-45BA-916B-FACD7523985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14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Plank’s Quantum The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196640"/>
            <a:ext cx="663588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When solids are heated, they emit electromagnetic radi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FACT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the amount of radiant 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energy emitted by an object at a certain temperature DEPENDS on the WAVELENGH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lassical physics failed in explaining why this happen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lassical physics: assumed that atoms or molecules could emit (or absorb) any amount of energy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Plank explain this: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Energy (light) is emitted or absorbed in discrete units (quantum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2" descr="C:\Documents and Settings\DELL-XPS\Desktop\chem110\Max_Planck.png"/>
          <p:cNvPicPr/>
          <p:nvPr/>
        </p:nvPicPr>
        <p:blipFill>
          <a:blip r:embed="rId1"/>
          <a:stretch/>
        </p:blipFill>
        <p:spPr>
          <a:xfrm>
            <a:off x="7524720" y="4581360"/>
            <a:ext cx="1403280" cy="208764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7020000" y="1270080"/>
            <a:ext cx="1871640" cy="187164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7091280" y="44280"/>
            <a:ext cx="1728720" cy="1136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3A3996-588A-4867-9B6D-A0400EE05ED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9152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Quantum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is the smallest quantity 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nergy that can be emitted (or absorb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in the form of electromagnetic radi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Quantum is given b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Wher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: is the ener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h: Plank’s constant, h = 6.63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-3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J.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ν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: frequency of radi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Quantum Theory: energy is always emitted in integrals multiples of h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.g. h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ν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, 2h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ν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, 3h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ν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, ……………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250920" y="2532240"/>
                <a:ext cx="4249800" cy="70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r>
                      <m:t xml:space="preserve">hν</m:t>
                    </m:r>
                    <m:r>
                      <m:t xml:space="preserve">⇒</m:t>
                    </m:r>
                    <m:r>
                      <m:t xml:space="preserve">E</m:t>
                    </m:r>
                    <m:r>
                      <m:t xml:space="preserve">∝</m:t>
                    </m:r>
                    <m:r>
                      <m:t xml:space="preserve">ν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4716360" y="2060640"/>
            <a:ext cx="2952720" cy="221148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7740720" y="2852640"/>
            <a:ext cx="1871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Quantization Princip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84A91D-0633-4CBE-8E71-DB413CDBEB9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362800" cy="53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nc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2195640" y="836640"/>
                <a:ext cx="3654360" cy="576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ν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c</m:t>
                            </m:r>
                          </m:num>
                          <m:den>
                            <m:r>
                              <m:t xml:space="preserve">λ</m:t>
                            </m:r>
                          </m:den>
                        </m:f>
                      </m:e>
                      <m:e>
                        <m:r>
                          <m:t xml:space="preserve">E</m:t>
                        </m:r>
                        <m:r>
                          <m:t xml:space="preserve">=</m:t>
                        </m:r>
                        <m:r>
                          <m:t xml:space="preserve">hν</m:t>
                        </m:r>
                      </m:e>
                      <m:e>
                        <m:r>
                          <m:t xml:space="preserve">⇒</m:t>
                        </m:r>
                        <m:r>
                          <m:t xml:space="preserve">E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hc</m:t>
                            </m:r>
                          </m:num>
                          <m:den>
                            <m:r>
                              <m:t xml:space="preserve">λ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AF0A91-0BFD-4AD6-8D4A-0C9D6B5C5DA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9376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 7.2 p280:</a:t>
            </a:r>
            <a:br>
              <a:rPr sz="2800"/>
            </a:b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Calculate the energy (in J) of:</a:t>
            </a:r>
            <a:br>
              <a:rPr sz="2800"/>
            </a:b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(a) a photon with a wavelength of 5.00 x 10</a:t>
            </a:r>
            <a:r>
              <a:rPr b="0" lang="en-US" sz="2800" spc="-1" strike="noStrike" baseline="30000">
                <a:solidFill>
                  <a:srgbClr val="00007d"/>
                </a:solidFill>
                <a:latin typeface="Comic Sans MS"/>
              </a:rPr>
              <a:t>4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nm (IR region)</a:t>
            </a:r>
            <a:br>
              <a:rPr sz="2800"/>
            </a:b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(b) a photon with a wavelength of 5.00 x 10</a:t>
            </a:r>
            <a:r>
              <a:rPr b="0" lang="en-US" sz="2800" spc="-1" strike="noStrike" baseline="30000">
                <a:solidFill>
                  <a:srgbClr val="00007d"/>
                </a:solidFill>
                <a:latin typeface="Comic Sans MS"/>
              </a:rPr>
              <a:t>-2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nm (X-ray region)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24000" y="3213000"/>
            <a:ext cx="8280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95280" y="3284640"/>
            <a:ext cx="77058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λ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=5.0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  <a:ea typeface="Malgun Gothic"/>
              </a:rPr>
              <a:t>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n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Malgun Gothic"/>
              </a:rPr>
              <a:t>→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Malgun Gothic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5.0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  <a:ea typeface="Malgun Gothic"/>
              </a:rPr>
              <a:t>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  <a:ea typeface="Malgun Gothic"/>
              </a:rPr>
              <a:t>-9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= 5.0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  <a:ea typeface="Malgun Gothic"/>
              </a:rPr>
              <a:t>-5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m → E (J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(b)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λ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5.0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-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n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→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5.0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-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-9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 5.0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-11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m → E (J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407E63-45DA-4EC1-B005-5639B5EF8E8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468360" y="549360"/>
                <a:ext cx="8064360" cy="204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E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hc</m:t>
                            </m:r>
                          </m:num>
                          <m:den>
                            <m:r>
                              <m:t xml:space="preserve">λ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3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34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J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 </m:t>
                            </m:r>
                            <m:r>
                              <m:t xml:space="preserve">x</m:t>
                            </m:r>
                            <m:r>
                              <m:t xml:space="preserve">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0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8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m/s</m:t>
                            </m:r>
                          </m:num>
                          <m:den>
                            <m:r>
                              <m:t xml:space="preserve">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0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5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m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8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J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468360" y="3141720"/>
                <a:ext cx="8136000" cy="205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E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hc</m:t>
                            </m:r>
                          </m:num>
                          <m:den>
                            <m:r>
                              <m:t xml:space="preserve">λ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3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34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J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 </m:t>
                            </m:r>
                            <m:r>
                              <m:t xml:space="preserve">x</m:t>
                            </m:r>
                            <m:r>
                              <m:t xml:space="preserve">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0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8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m/s</m:t>
                            </m:r>
                          </m:num>
                          <m:den>
                            <m:r>
                              <m:t xml:space="preserve">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0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1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m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8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J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FFFFCF-7FCF-4908-9809-6D39B4CBB13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95280" y="2570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7.3 Bohr’s Theory of Hydrogen Ato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41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Emission Spectra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of atoms are bright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line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(spectral lines) in the visible spectr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mission spectrum of any atom is a finger print (lines appeared at specific wavelength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5B4FD0-022B-4B17-9BDE-09FD860F2BF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539640" y="835200"/>
            <a:ext cx="8088480" cy="588312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1547640" y="379440"/>
            <a:ext cx="640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cc"/>
                </a:solidFill>
                <a:latin typeface="Comic Sans MS"/>
              </a:rPr>
              <a:t>Emission Spectra of some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10FDF4-332F-49A0-BCE4-E2BD57062E8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6174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Emission spectrum of Hydrogen Atom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Neil Bohr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study the emission spectrum of th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Hydrogen At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ohr postulates that the electron is occupied ONLY certain orbits of specific energie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The energies of the electron are quantiz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US: the emission spectrum of the H atom results from: the hydrogen atom is energised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lectron excited to higher energy orbit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rop to a lower-energy orbit emits a quantum of energy (ligh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7842240" y="44280"/>
            <a:ext cx="1160640" cy="165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7BBD1C-55ED-49AF-9502-4D3EF7B8A88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6T16:44:59Z</dcterms:created>
  <dc:creator>suha</dc:creator>
  <dc:description/>
  <dc:language>en-US</dc:language>
  <cp:lastModifiedBy>suha</cp:lastModifiedBy>
  <dcterms:modified xsi:type="dcterms:W3CDTF">2012-02-28T20:14:15Z</dcterms:modified>
  <cp:revision>940</cp:revision>
  <dc:subject/>
  <dc:title>General Chemistry CHEM 110</dc:title>
</cp:coreProperties>
</file>