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0DC3D-EE70-47F2-AA34-AFEF73546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C1E24-CF2F-41D4-A5E6-562A1854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D9F78-2372-4DF7-A133-2C77B46A9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6CEAC-327D-4EB8-942E-FF2495DB4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2D3B-AF43-45C5-A27D-04CC27093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2911-B77C-4922-81D1-ADF87833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E615-F7A0-4E47-8FF3-B02B4C4A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C859-4F07-47AE-A0EF-07921A7B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BCCE-474B-439A-81B0-C2901928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DE92-A15A-47D8-BA2E-84718951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DB45-6C84-4032-A16C-FAE765CB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D2379-8CEC-433E-8811-C512559D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F31D-3E61-44C1-91F8-33874FB3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2B4C-D56B-4A53-9272-748AA49A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EA66-6EED-46CA-B6EE-B963C7F3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CF33-B4BB-4AFE-A7EF-499965AA1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5E85-695E-421F-AF6E-63230AE90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85BB7-051D-4917-8956-B9F03418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F51EB-0DE5-4BAF-9D6C-3FEBA388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FAD9B-2FF3-47B1-82F6-9B4EB17E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2CE6D-CF40-4905-8061-0F53558E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6987E-DCFB-487D-8003-8AAF4065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58323-3EBC-42C9-AE57-416909FF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27D31-67B4-409F-BF57-7838E00A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8875-7085-418A-800B-6A2F6E1430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00B0-6368-4F4F-BFDE-5DC7A0630F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emical Bonding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Basic Conce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D3B3-EEF5-4EC3-B615-322D9A523CA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Content Placeholder 2"/>
          <p:cNvSpPr/>
          <p:nvPr/>
        </p:nvSpPr>
        <p:spPr>
          <a:xfrm>
            <a:off x="380880" y="40464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An atom in the ground state has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atomic number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Z=5. Choose the correct electron-dot structure which represents this atom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08000" y="4869000"/>
            <a:ext cx="144720" cy="1425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8000" y="544356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66920" y="51562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00000" y="25653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835280" y="24940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35280" y="306864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24000" y="27813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19280" y="27813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79640" y="364644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08000" y="422100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66920" y="39322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62200" y="364644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050920" y="595008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08000" y="652464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40000" y="62355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835280" y="59500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549440" y="62355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00000" y="37130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71640" y="493704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00000" y="60213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03640" y="2205000"/>
            <a:ext cx="5616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lectron configuration Z =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lence electrons are in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 = 3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E736B-8766-46B0-A0E4-08C27FBE68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28600" y="83196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valent bo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chemical bond in which two or more electrons are shared by two atoms. </a:t>
            </a: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(Non-metal-High EN- &amp; non-metal-High EN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85480" y="2133720"/>
            <a:ext cx="58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cc"/>
                </a:solidFill>
                <a:latin typeface="Comic Sans MS"/>
              </a:rPr>
              <a:t>Why should two atoms share electr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614680" y="2725560"/>
            <a:ext cx="444600" cy="480240"/>
            <a:chOff x="2614680" y="2725560"/>
            <a:chExt cx="444600" cy="480240"/>
          </a:xfrm>
        </p:grpSpPr>
        <p:sp>
          <p:nvSpPr>
            <p:cNvPr id="282" name=""/>
            <p:cNvSpPr/>
            <p:nvPr/>
          </p:nvSpPr>
          <p:spPr>
            <a:xfrm>
              <a:off x="2674440" y="274608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2614680" y="2852280"/>
              <a:ext cx="76320" cy="228600"/>
              <a:chOff x="2614680" y="2852280"/>
              <a:chExt cx="76320" cy="228600"/>
            </a:xfrm>
          </p:grpSpPr>
          <p:sp>
            <p:nvSpPr>
              <p:cNvPr id="284" name=""/>
              <p:cNvSpPr/>
              <p:nvPr/>
            </p:nvSpPr>
            <p:spPr>
              <a:xfrm>
                <a:off x="2614680" y="28522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614680" y="30049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2982960" y="28522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2715840" y="2725560"/>
              <a:ext cx="228600" cy="75960"/>
              <a:chOff x="2715840" y="2725560"/>
              <a:chExt cx="228600" cy="75960"/>
            </a:xfrm>
          </p:grpSpPr>
          <p:sp>
            <p:nvSpPr>
              <p:cNvPr id="288" name=""/>
              <p:cNvSpPr/>
              <p:nvPr/>
            </p:nvSpPr>
            <p:spPr>
              <a:xfrm rot="5400000">
                <a:off x="2868120" y="27252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5400000">
                <a:off x="2715840" y="27255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2715840" y="3119040"/>
              <a:ext cx="228600" cy="76320"/>
              <a:chOff x="2715840" y="3119040"/>
              <a:chExt cx="228600" cy="76320"/>
            </a:xfrm>
          </p:grpSpPr>
          <p:sp>
            <p:nvSpPr>
              <p:cNvPr id="291" name=""/>
              <p:cNvSpPr/>
              <p:nvPr/>
            </p:nvSpPr>
            <p:spPr>
              <a:xfrm rot="5400000">
                <a:off x="2868120" y="31190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5400000">
                <a:off x="2715480" y="31190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3307320" y="2725560"/>
            <a:ext cx="1036080" cy="480240"/>
            <a:chOff x="3307320" y="2725560"/>
            <a:chExt cx="1036080" cy="480240"/>
          </a:xfrm>
        </p:grpSpPr>
        <p:grpSp>
          <p:nvGrpSpPr>
            <p:cNvPr id="294" name=""/>
            <p:cNvGrpSpPr/>
            <p:nvPr/>
          </p:nvGrpSpPr>
          <p:grpSpPr>
            <a:xfrm>
              <a:off x="3911760" y="2725560"/>
              <a:ext cx="431640" cy="480240"/>
              <a:chOff x="3911760" y="2725560"/>
              <a:chExt cx="431640" cy="480240"/>
            </a:xfrm>
          </p:grpSpPr>
          <p:sp>
            <p:nvSpPr>
              <p:cNvPr id="295" name=""/>
              <p:cNvSpPr/>
              <p:nvPr/>
            </p:nvSpPr>
            <p:spPr>
              <a:xfrm>
                <a:off x="3958920" y="27460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4267440" y="2852640"/>
                <a:ext cx="75960" cy="228600"/>
                <a:chOff x="4267440" y="2852640"/>
                <a:chExt cx="75960" cy="2286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4267440" y="28526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267440" y="30052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9" name=""/>
              <p:cNvSpPr/>
              <p:nvPr/>
            </p:nvSpPr>
            <p:spPr>
              <a:xfrm>
                <a:off x="3911760" y="3004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4000320" y="2725560"/>
                <a:ext cx="228600" cy="76320"/>
                <a:chOff x="4000320" y="2725560"/>
                <a:chExt cx="228600" cy="76320"/>
              </a:xfrm>
            </p:grpSpPr>
            <p:sp>
              <p:nvSpPr>
                <p:cNvPr id="301" name=""/>
                <p:cNvSpPr/>
                <p:nvPr/>
              </p:nvSpPr>
              <p:spPr>
                <a:xfrm rot="5400000">
                  <a:off x="4152600" y="2725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rot="5400000">
                  <a:off x="3999960" y="2725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000320" y="3119400"/>
                <a:ext cx="228600" cy="75960"/>
                <a:chOff x="4000320" y="3119400"/>
                <a:chExt cx="228600" cy="75960"/>
              </a:xfrm>
            </p:grpSpPr>
            <p:sp>
              <p:nvSpPr>
                <p:cNvPr id="304" name=""/>
                <p:cNvSpPr/>
                <p:nvPr/>
              </p:nvSpPr>
              <p:spPr>
                <a:xfrm rot="5400000">
                  <a:off x="4152600" y="3119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5400000">
                  <a:off x="4000320" y="31194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6" name=""/>
            <p:cNvSpPr/>
            <p:nvPr/>
          </p:nvSpPr>
          <p:spPr>
            <a:xfrm>
              <a:off x="3307320" y="2738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502000" y="2637000"/>
            <a:ext cx="685800" cy="1164240"/>
            <a:chOff x="2502000" y="2637000"/>
            <a:chExt cx="685800" cy="1164240"/>
          </a:xfrm>
        </p:grpSpPr>
        <p:sp>
          <p:nvSpPr>
            <p:cNvPr id="308" name=""/>
            <p:cNvSpPr/>
            <p:nvPr/>
          </p:nvSpPr>
          <p:spPr>
            <a:xfrm>
              <a:off x="2502000" y="2637000"/>
              <a:ext cx="685800" cy="6854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53840" y="33415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7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784680" y="2637000"/>
            <a:ext cx="685800" cy="1164240"/>
            <a:chOff x="3784680" y="2637000"/>
            <a:chExt cx="685800" cy="1164240"/>
          </a:xfrm>
        </p:grpSpPr>
        <p:sp>
          <p:nvSpPr>
            <p:cNvPr id="311" name=""/>
            <p:cNvSpPr/>
            <p:nvPr/>
          </p:nvSpPr>
          <p:spPr>
            <a:xfrm>
              <a:off x="3784680" y="2637000"/>
              <a:ext cx="685800" cy="6854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36520" y="33415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7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4572000" y="2954160"/>
            <a:ext cx="7621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5575320" y="2725560"/>
            <a:ext cx="799920" cy="480240"/>
            <a:chOff x="5575320" y="2725560"/>
            <a:chExt cx="799920" cy="480240"/>
          </a:xfrm>
        </p:grpSpPr>
        <p:grpSp>
          <p:nvGrpSpPr>
            <p:cNvPr id="315" name=""/>
            <p:cNvGrpSpPr/>
            <p:nvPr/>
          </p:nvGrpSpPr>
          <p:grpSpPr>
            <a:xfrm>
              <a:off x="5575320" y="2725560"/>
              <a:ext cx="444600" cy="480240"/>
              <a:chOff x="5575320" y="2725560"/>
              <a:chExt cx="444600" cy="480240"/>
            </a:xfrm>
          </p:grpSpPr>
          <p:sp>
            <p:nvSpPr>
              <p:cNvPr id="316" name=""/>
              <p:cNvSpPr/>
              <p:nvPr/>
            </p:nvSpPr>
            <p:spPr>
              <a:xfrm>
                <a:off x="5635080" y="27460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7" name=""/>
              <p:cNvGrpSpPr/>
              <p:nvPr/>
            </p:nvGrpSpPr>
            <p:grpSpPr>
              <a:xfrm>
                <a:off x="5575320" y="2852280"/>
                <a:ext cx="76320" cy="228600"/>
                <a:chOff x="5575320" y="2852280"/>
                <a:chExt cx="76320" cy="22860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5575320" y="2852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575320" y="3004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5943600" y="28522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1" name=""/>
              <p:cNvGrpSpPr/>
              <p:nvPr/>
            </p:nvGrpSpPr>
            <p:grpSpPr>
              <a:xfrm>
                <a:off x="5676480" y="2725560"/>
                <a:ext cx="228600" cy="75960"/>
                <a:chOff x="5676480" y="2725560"/>
                <a:chExt cx="228600" cy="75960"/>
              </a:xfrm>
            </p:grpSpPr>
            <p:sp>
              <p:nvSpPr>
                <p:cNvPr id="322" name=""/>
                <p:cNvSpPr/>
                <p:nvPr/>
              </p:nvSpPr>
              <p:spPr>
                <a:xfrm rot="5400000">
                  <a:off x="5828760" y="27252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rot="5400000">
                  <a:off x="5676480" y="27255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5676480" y="3119040"/>
                <a:ext cx="228600" cy="76320"/>
                <a:chOff x="5676480" y="3119040"/>
                <a:chExt cx="228600" cy="76320"/>
              </a:xfrm>
            </p:grpSpPr>
            <p:sp>
              <p:nvSpPr>
                <p:cNvPr id="325" name=""/>
                <p:cNvSpPr/>
                <p:nvPr/>
              </p:nvSpPr>
              <p:spPr>
                <a:xfrm rot="5400000">
                  <a:off x="5828760" y="31190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rot="5400000">
                  <a:off x="5676120" y="31190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7" name=""/>
            <p:cNvGrpSpPr/>
            <p:nvPr/>
          </p:nvGrpSpPr>
          <p:grpSpPr>
            <a:xfrm>
              <a:off x="5943600" y="2725560"/>
              <a:ext cx="431640" cy="480240"/>
              <a:chOff x="5943600" y="2725560"/>
              <a:chExt cx="431640" cy="480240"/>
            </a:xfrm>
          </p:grpSpPr>
          <p:sp>
            <p:nvSpPr>
              <p:cNvPr id="328" name=""/>
              <p:cNvSpPr/>
              <p:nvPr/>
            </p:nvSpPr>
            <p:spPr>
              <a:xfrm>
                <a:off x="5990760" y="27460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6299280" y="2852640"/>
                <a:ext cx="75960" cy="228600"/>
                <a:chOff x="6299280" y="2852640"/>
                <a:chExt cx="75960" cy="22860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6299280" y="28526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299280" y="30052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5943600" y="3004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6032160" y="2725560"/>
                <a:ext cx="228600" cy="76320"/>
                <a:chOff x="6032160" y="2725560"/>
                <a:chExt cx="228600" cy="76320"/>
              </a:xfrm>
            </p:grpSpPr>
            <p:sp>
              <p:nvSpPr>
                <p:cNvPr id="334" name=""/>
                <p:cNvSpPr/>
                <p:nvPr/>
              </p:nvSpPr>
              <p:spPr>
                <a:xfrm rot="5400000">
                  <a:off x="6184440" y="2725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rot="5400000">
                  <a:off x="6031800" y="2725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6032160" y="3119400"/>
                <a:ext cx="228600" cy="75960"/>
                <a:chOff x="6032160" y="3119400"/>
                <a:chExt cx="228600" cy="75960"/>
              </a:xfrm>
            </p:grpSpPr>
            <p:sp>
              <p:nvSpPr>
                <p:cNvPr id="337" name=""/>
                <p:cNvSpPr/>
                <p:nvPr/>
              </p:nvSpPr>
              <p:spPr>
                <a:xfrm rot="5400000">
                  <a:off x="6184440" y="3119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5400000">
                  <a:off x="6032160" y="31194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9" name=""/>
          <p:cNvGrpSpPr/>
          <p:nvPr/>
        </p:nvGrpSpPr>
        <p:grpSpPr>
          <a:xfrm>
            <a:off x="5384880" y="2649600"/>
            <a:ext cx="685800" cy="1164600"/>
            <a:chOff x="5384880" y="2649600"/>
            <a:chExt cx="685800" cy="1164600"/>
          </a:xfrm>
        </p:grpSpPr>
        <p:sp>
          <p:nvSpPr>
            <p:cNvPr id="340" name=""/>
            <p:cNvSpPr/>
            <p:nvPr/>
          </p:nvSpPr>
          <p:spPr>
            <a:xfrm>
              <a:off x="5384880" y="264960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36720" y="335448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918040" y="2649600"/>
            <a:ext cx="685800" cy="1164600"/>
            <a:chOff x="5918040" y="2649600"/>
            <a:chExt cx="685800" cy="1164600"/>
          </a:xfrm>
        </p:grpSpPr>
        <p:sp>
          <p:nvSpPr>
            <p:cNvPr id="343" name=""/>
            <p:cNvSpPr/>
            <p:nvPr/>
          </p:nvSpPr>
          <p:spPr>
            <a:xfrm>
              <a:off x="5918040" y="264960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969880" y="335448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016000" y="5559480"/>
            <a:ext cx="799920" cy="482040"/>
            <a:chOff x="2016000" y="5559480"/>
            <a:chExt cx="799920" cy="482040"/>
          </a:xfrm>
        </p:grpSpPr>
        <p:grpSp>
          <p:nvGrpSpPr>
            <p:cNvPr id="346" name=""/>
            <p:cNvGrpSpPr/>
            <p:nvPr/>
          </p:nvGrpSpPr>
          <p:grpSpPr>
            <a:xfrm>
              <a:off x="2016000" y="5559480"/>
              <a:ext cx="444600" cy="480240"/>
              <a:chOff x="2016000" y="5559480"/>
              <a:chExt cx="444600" cy="480240"/>
            </a:xfrm>
          </p:grpSpPr>
          <p:sp>
            <p:nvSpPr>
              <p:cNvPr id="347" name=""/>
              <p:cNvSpPr/>
              <p:nvPr/>
            </p:nvSpPr>
            <p:spPr>
              <a:xfrm>
                <a:off x="2075760" y="558000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2016000" y="5686200"/>
                <a:ext cx="76320" cy="228600"/>
                <a:chOff x="2016000" y="5686200"/>
                <a:chExt cx="76320" cy="22860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2016000" y="56862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016000" y="58388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" name=""/>
              <p:cNvSpPr/>
              <p:nvPr/>
            </p:nvSpPr>
            <p:spPr>
              <a:xfrm>
                <a:off x="2384280" y="56862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2" name=""/>
              <p:cNvGrpSpPr/>
              <p:nvPr/>
            </p:nvGrpSpPr>
            <p:grpSpPr>
              <a:xfrm>
                <a:off x="2117160" y="5559480"/>
                <a:ext cx="228600" cy="75960"/>
                <a:chOff x="2117160" y="5559480"/>
                <a:chExt cx="228600" cy="75960"/>
              </a:xfrm>
            </p:grpSpPr>
            <p:sp>
              <p:nvSpPr>
                <p:cNvPr id="353" name=""/>
                <p:cNvSpPr/>
                <p:nvPr/>
              </p:nvSpPr>
              <p:spPr>
                <a:xfrm rot="5400000">
                  <a:off x="2269440" y="5559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rot="5400000">
                  <a:off x="2117160" y="55594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2117160" y="5952960"/>
                <a:ext cx="228600" cy="76320"/>
                <a:chOff x="2117160" y="5952960"/>
                <a:chExt cx="228600" cy="76320"/>
              </a:xfrm>
            </p:grpSpPr>
            <p:sp>
              <p:nvSpPr>
                <p:cNvPr id="356" name=""/>
                <p:cNvSpPr/>
                <p:nvPr/>
              </p:nvSpPr>
              <p:spPr>
                <a:xfrm rot="5400000">
                  <a:off x="2269440" y="59529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rot="5400000">
                  <a:off x="2116800" y="59529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8" name=""/>
            <p:cNvGrpSpPr/>
            <p:nvPr/>
          </p:nvGrpSpPr>
          <p:grpSpPr>
            <a:xfrm>
              <a:off x="2384280" y="5561280"/>
              <a:ext cx="431640" cy="480240"/>
              <a:chOff x="2384280" y="5561280"/>
              <a:chExt cx="431640" cy="480240"/>
            </a:xfrm>
          </p:grpSpPr>
          <p:sp>
            <p:nvSpPr>
              <p:cNvPr id="359" name=""/>
              <p:cNvSpPr/>
              <p:nvPr/>
            </p:nvSpPr>
            <p:spPr>
              <a:xfrm>
                <a:off x="2431440" y="558180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2739960" y="5688360"/>
                <a:ext cx="75960" cy="228600"/>
                <a:chOff x="2739960" y="5688360"/>
                <a:chExt cx="75960" cy="22860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2739960" y="56883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739960" y="58410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3" name=""/>
              <p:cNvSpPr/>
              <p:nvPr/>
            </p:nvSpPr>
            <p:spPr>
              <a:xfrm>
                <a:off x="2384280" y="58406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4" name=""/>
              <p:cNvGrpSpPr/>
              <p:nvPr/>
            </p:nvGrpSpPr>
            <p:grpSpPr>
              <a:xfrm>
                <a:off x="2472840" y="5561280"/>
                <a:ext cx="228600" cy="76320"/>
                <a:chOff x="2472840" y="5561280"/>
                <a:chExt cx="228600" cy="76320"/>
              </a:xfrm>
            </p:grpSpPr>
            <p:sp>
              <p:nvSpPr>
                <p:cNvPr id="365" name=""/>
                <p:cNvSpPr/>
                <p:nvPr/>
              </p:nvSpPr>
              <p:spPr>
                <a:xfrm rot="5400000">
                  <a:off x="2625120" y="5561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rot="5400000">
                  <a:off x="2472480" y="556128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2472840" y="5955120"/>
                <a:ext cx="228600" cy="75960"/>
                <a:chOff x="2472840" y="5955120"/>
                <a:chExt cx="228600" cy="75960"/>
              </a:xfrm>
            </p:grpSpPr>
            <p:sp>
              <p:nvSpPr>
                <p:cNvPr id="368" name=""/>
                <p:cNvSpPr/>
                <p:nvPr/>
              </p:nvSpPr>
              <p:spPr>
                <a:xfrm rot="5400000">
                  <a:off x="2625120" y="59547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5400000">
                  <a:off x="2472840" y="59551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0" name=""/>
          <p:cNvGrpSpPr/>
          <p:nvPr/>
        </p:nvGrpSpPr>
        <p:grpSpPr>
          <a:xfrm>
            <a:off x="5924520" y="4518000"/>
            <a:ext cx="1237680" cy="482040"/>
            <a:chOff x="5924520" y="4518000"/>
            <a:chExt cx="1237680" cy="482040"/>
          </a:xfrm>
        </p:grpSpPr>
        <p:grpSp>
          <p:nvGrpSpPr>
            <p:cNvPr id="371" name=""/>
            <p:cNvGrpSpPr/>
            <p:nvPr/>
          </p:nvGrpSpPr>
          <p:grpSpPr>
            <a:xfrm>
              <a:off x="5924520" y="4518000"/>
              <a:ext cx="398880" cy="480240"/>
              <a:chOff x="5924520" y="4518000"/>
              <a:chExt cx="398880" cy="480240"/>
            </a:xfrm>
          </p:grpSpPr>
          <p:sp>
            <p:nvSpPr>
              <p:cNvPr id="372" name=""/>
              <p:cNvSpPr/>
              <p:nvPr/>
            </p:nvSpPr>
            <p:spPr>
              <a:xfrm>
                <a:off x="5984280" y="453852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3" name=""/>
              <p:cNvGrpSpPr/>
              <p:nvPr/>
            </p:nvGrpSpPr>
            <p:grpSpPr>
              <a:xfrm>
                <a:off x="5924520" y="4645080"/>
                <a:ext cx="75960" cy="228600"/>
                <a:chOff x="5924520" y="4645080"/>
                <a:chExt cx="75960" cy="22860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5924520" y="46450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924520" y="47977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6025680" y="4518000"/>
                <a:ext cx="228600" cy="76320"/>
                <a:chOff x="6025680" y="4518000"/>
                <a:chExt cx="228600" cy="76320"/>
              </a:xfrm>
            </p:grpSpPr>
            <p:sp>
              <p:nvSpPr>
                <p:cNvPr id="377" name=""/>
                <p:cNvSpPr/>
                <p:nvPr/>
              </p:nvSpPr>
              <p:spPr>
                <a:xfrm rot="5400000">
                  <a:off x="6177960" y="45180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5400000">
                  <a:off x="6025320" y="45180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6025680" y="4911840"/>
                <a:ext cx="228600" cy="75960"/>
                <a:chOff x="6025680" y="4911840"/>
                <a:chExt cx="228600" cy="75960"/>
              </a:xfrm>
            </p:grpSpPr>
            <p:sp>
              <p:nvSpPr>
                <p:cNvPr id="380" name=""/>
                <p:cNvSpPr/>
                <p:nvPr/>
              </p:nvSpPr>
              <p:spPr>
                <a:xfrm rot="5400000">
                  <a:off x="6177960" y="49114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rot="5400000">
                  <a:off x="6025680" y="49118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2" name=""/>
            <p:cNvGrpSpPr/>
            <p:nvPr/>
          </p:nvGrpSpPr>
          <p:grpSpPr>
            <a:xfrm>
              <a:off x="6777720" y="4519440"/>
              <a:ext cx="384480" cy="480600"/>
              <a:chOff x="6777720" y="4519440"/>
              <a:chExt cx="384480" cy="480600"/>
            </a:xfrm>
          </p:grpSpPr>
          <p:sp>
            <p:nvSpPr>
              <p:cNvPr id="383" name=""/>
              <p:cNvSpPr/>
              <p:nvPr/>
            </p:nvSpPr>
            <p:spPr>
              <a:xfrm>
                <a:off x="6777720" y="454032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4" name=""/>
              <p:cNvGrpSpPr/>
              <p:nvPr/>
            </p:nvGrpSpPr>
            <p:grpSpPr>
              <a:xfrm>
                <a:off x="7086240" y="4646520"/>
                <a:ext cx="75960" cy="228600"/>
                <a:chOff x="7086240" y="4646520"/>
                <a:chExt cx="75960" cy="2286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7086240" y="46465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086240" y="47991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819840" y="4519440"/>
                <a:ext cx="227880" cy="76320"/>
                <a:chOff x="6819840" y="4519440"/>
                <a:chExt cx="227880" cy="76320"/>
              </a:xfrm>
            </p:grpSpPr>
            <p:sp>
              <p:nvSpPr>
                <p:cNvPr id="388" name=""/>
                <p:cNvSpPr/>
                <p:nvPr/>
              </p:nvSpPr>
              <p:spPr>
                <a:xfrm rot="5400000">
                  <a:off x="6971400" y="45194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rot="5400000">
                  <a:off x="6819480" y="451980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6819840" y="4913280"/>
                <a:ext cx="227880" cy="76320"/>
                <a:chOff x="6819840" y="4913280"/>
                <a:chExt cx="227880" cy="76320"/>
              </a:xfrm>
            </p:grpSpPr>
            <p:sp>
              <p:nvSpPr>
                <p:cNvPr id="391" name=""/>
                <p:cNvSpPr/>
                <p:nvPr/>
              </p:nvSpPr>
              <p:spPr>
                <a:xfrm rot="5400000">
                  <a:off x="6971400" y="491328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rot="5400000">
                  <a:off x="6819480" y="491364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3" name=""/>
            <p:cNvSpPr/>
            <p:nvPr/>
          </p:nvSpPr>
          <p:spPr>
            <a:xfrm>
              <a:off x="6323040" y="4754520"/>
              <a:ext cx="4572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367920" y="3716280"/>
            <a:ext cx="327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ewis structure of F</a:t>
            </a:r>
            <a:r>
              <a:rPr b="1" lang="en-US" sz="2400" spc="-1" strike="noStrike" u="sng" baseline="-25000">
                <a:solidFill>
                  <a:srgbClr val="000000"/>
                </a:solidFill>
                <a:uFillTx/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25280" y="4267080"/>
            <a:ext cx="9020520" cy="2057400"/>
            <a:chOff x="125280" y="4267080"/>
            <a:chExt cx="9020520" cy="2057400"/>
          </a:xfrm>
        </p:grpSpPr>
        <p:grpSp>
          <p:nvGrpSpPr>
            <p:cNvPr id="396" name=""/>
            <p:cNvGrpSpPr/>
            <p:nvPr/>
          </p:nvGrpSpPr>
          <p:grpSpPr>
            <a:xfrm>
              <a:off x="7010280" y="4267080"/>
              <a:ext cx="2135520" cy="1015920"/>
              <a:chOff x="7010280" y="4267080"/>
              <a:chExt cx="2135520" cy="1015920"/>
            </a:xfrm>
          </p:grpSpPr>
          <p:grpSp>
            <p:nvGrpSpPr>
              <p:cNvPr id="397" name=""/>
              <p:cNvGrpSpPr/>
              <p:nvPr/>
            </p:nvGrpSpPr>
            <p:grpSpPr>
              <a:xfrm>
                <a:off x="7010280" y="4267080"/>
                <a:ext cx="838440" cy="1015920"/>
                <a:chOff x="7010280" y="4267080"/>
                <a:chExt cx="838440" cy="10159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7010280" y="426708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flipV="1">
                  <a:off x="7010280" y="486396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238880" y="4762440"/>
                  <a:ext cx="6098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1" name=""/>
              <p:cNvSpPr/>
              <p:nvPr/>
            </p:nvSpPr>
            <p:spPr>
              <a:xfrm>
                <a:off x="7786800" y="456552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3998880" y="4267080"/>
              <a:ext cx="2097000" cy="1015920"/>
              <a:chOff x="3998880" y="4267080"/>
              <a:chExt cx="2097000" cy="1015920"/>
            </a:xfrm>
          </p:grpSpPr>
          <p:grpSp>
            <p:nvGrpSpPr>
              <p:cNvPr id="403" name=""/>
              <p:cNvGrpSpPr/>
              <p:nvPr/>
            </p:nvGrpSpPr>
            <p:grpSpPr>
              <a:xfrm>
                <a:off x="5257800" y="4267080"/>
                <a:ext cx="838080" cy="1015920"/>
                <a:chOff x="5257800" y="4267080"/>
                <a:chExt cx="838080" cy="1015920"/>
              </a:xfrm>
            </p:grpSpPr>
            <p:sp>
              <p:nvSpPr>
                <p:cNvPr id="404" name=""/>
                <p:cNvSpPr/>
                <p:nvPr/>
              </p:nvSpPr>
              <p:spPr>
                <a:xfrm flipH="1">
                  <a:off x="5257800" y="4267080"/>
                  <a:ext cx="83808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H="1" flipV="1">
                  <a:off x="5257800" y="4863960"/>
                  <a:ext cx="83808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>
                  <a:off x="5258160" y="4762440"/>
                  <a:ext cx="60948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7" name=""/>
              <p:cNvSpPr/>
              <p:nvPr/>
            </p:nvSpPr>
            <p:spPr>
              <a:xfrm>
                <a:off x="3998880" y="455292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701800" y="5308560"/>
              <a:ext cx="2135520" cy="1015920"/>
              <a:chOff x="2701800" y="5308560"/>
              <a:chExt cx="2135520" cy="1015920"/>
            </a:xfrm>
          </p:grpSpPr>
          <p:sp>
            <p:nvSpPr>
              <p:cNvPr id="409" name=""/>
              <p:cNvSpPr/>
              <p:nvPr/>
            </p:nvSpPr>
            <p:spPr>
              <a:xfrm>
                <a:off x="2701800" y="5308560"/>
                <a:ext cx="838440" cy="419040"/>
              </a:xfrm>
              <a:custGeom>
                <a:avLst/>
                <a:gdLst/>
                <a:ahLst/>
                <a:rect l="l" t="t" r="r" b="b"/>
                <a:pathLst>
                  <a:path w="528" h="264">
                    <a:moveTo>
                      <a:pt x="0" y="120"/>
                    </a:moveTo>
                    <a:cubicBezTo>
                      <a:pt x="28" y="60"/>
                      <a:pt x="56" y="0"/>
                      <a:pt x="144" y="24"/>
                    </a:cubicBezTo>
                    <a:cubicBezTo>
                      <a:pt x="232" y="48"/>
                      <a:pt x="380" y="156"/>
                      <a:pt x="528" y="264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2701800" y="5905440"/>
                <a:ext cx="838440" cy="419040"/>
              </a:xfrm>
              <a:custGeom>
                <a:avLst/>
                <a:gdLst/>
                <a:ahLst/>
                <a:rect l="l" t="t" r="r" b="b"/>
                <a:pathLst>
                  <a:path w="528" h="264">
                    <a:moveTo>
                      <a:pt x="0" y="120"/>
                    </a:moveTo>
                    <a:cubicBezTo>
                      <a:pt x="28" y="60"/>
                      <a:pt x="56" y="0"/>
                      <a:pt x="144" y="24"/>
                    </a:cubicBezTo>
                    <a:cubicBezTo>
                      <a:pt x="232" y="48"/>
                      <a:pt x="380" y="156"/>
                      <a:pt x="528" y="264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930400" y="5803920"/>
                <a:ext cx="6098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478320" y="561672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125280" y="5308560"/>
              <a:ext cx="2093760" cy="1015920"/>
              <a:chOff x="125280" y="5308560"/>
              <a:chExt cx="2093760" cy="1015920"/>
            </a:xfrm>
          </p:grpSpPr>
          <p:grpSp>
            <p:nvGrpSpPr>
              <p:cNvPr id="414" name=""/>
              <p:cNvGrpSpPr/>
              <p:nvPr/>
            </p:nvGrpSpPr>
            <p:grpSpPr>
              <a:xfrm>
                <a:off x="1380600" y="5308560"/>
                <a:ext cx="838440" cy="1015920"/>
                <a:chOff x="1380600" y="5308560"/>
                <a:chExt cx="838440" cy="1015920"/>
              </a:xfrm>
            </p:grpSpPr>
            <p:sp>
              <p:nvSpPr>
                <p:cNvPr id="415" name=""/>
                <p:cNvSpPr/>
                <p:nvPr/>
              </p:nvSpPr>
              <p:spPr>
                <a:xfrm flipH="1">
                  <a:off x="1380240" y="530856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flipH="1" flipV="1">
                  <a:off x="1380240" y="590544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H="1">
                  <a:off x="1380600" y="5803920"/>
                  <a:ext cx="6098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8" name=""/>
              <p:cNvSpPr/>
              <p:nvPr/>
            </p:nvSpPr>
            <p:spPr>
              <a:xfrm>
                <a:off x="125280" y="561960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"/>
          <p:cNvGrpSpPr/>
          <p:nvPr/>
        </p:nvGrpSpPr>
        <p:grpSpPr>
          <a:xfrm>
            <a:off x="1105920" y="4654440"/>
            <a:ext cx="2652480" cy="1365480"/>
            <a:chOff x="1105920" y="4654440"/>
            <a:chExt cx="2652480" cy="1365480"/>
          </a:xfrm>
        </p:grpSpPr>
        <p:sp>
          <p:nvSpPr>
            <p:cNvPr id="420" name=""/>
            <p:cNvSpPr/>
            <p:nvPr/>
          </p:nvSpPr>
          <p:spPr>
            <a:xfrm>
              <a:off x="2336760" y="5562720"/>
              <a:ext cx="152280" cy="45720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05920" y="4654440"/>
              <a:ext cx="26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ingle covalent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413080" y="5029200"/>
              <a:ext cx="0" cy="457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208120" y="4876560"/>
            <a:ext cx="2652480" cy="862560"/>
            <a:chOff x="5208120" y="4876560"/>
            <a:chExt cx="2652480" cy="862560"/>
          </a:xfrm>
        </p:grpSpPr>
        <p:sp>
          <p:nvSpPr>
            <p:cNvPr id="424" name=""/>
            <p:cNvSpPr/>
            <p:nvPr/>
          </p:nvSpPr>
          <p:spPr>
            <a:xfrm>
              <a:off x="5208120" y="5340240"/>
              <a:ext cx="26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ingle covalent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6527880" y="4876560"/>
              <a:ext cx="0" cy="5331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432000" y="339840"/>
            <a:ext cx="520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4 The Co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9C6DC-0AAC-4E4D-9D83-1001FC927F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468360" y="907920"/>
            <a:ext cx="84247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valent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Two shared electrons → one (single) covalent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Four shared electrons → two (double) covalent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Comic Sans MS"/>
              </a:rPr>
              <a:t>Six shared electrons → three (triple) covalent bon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BD17E-77C6-4D1E-9B98-71C9B1F02C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"/>
          <p:cNvGrpSpPr/>
          <p:nvPr/>
        </p:nvGrpSpPr>
        <p:grpSpPr>
          <a:xfrm>
            <a:off x="4851360" y="1117440"/>
            <a:ext cx="685800" cy="1164600"/>
            <a:chOff x="4851360" y="1117440"/>
            <a:chExt cx="685800" cy="1164600"/>
          </a:xfrm>
        </p:grpSpPr>
        <p:sp>
          <p:nvSpPr>
            <p:cNvPr id="429" name=""/>
            <p:cNvSpPr/>
            <p:nvPr/>
          </p:nvSpPr>
          <p:spPr>
            <a:xfrm>
              <a:off x="4851360" y="111744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903200" y="1822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824400" y="1239840"/>
            <a:ext cx="431280" cy="459720"/>
            <a:chOff x="824400" y="1239840"/>
            <a:chExt cx="431280" cy="459720"/>
          </a:xfrm>
        </p:grpSpPr>
        <p:sp>
          <p:nvSpPr>
            <p:cNvPr id="432" name=""/>
            <p:cNvSpPr/>
            <p:nvPr/>
          </p:nvSpPr>
          <p:spPr>
            <a:xfrm>
              <a:off x="824400" y="12398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179360" y="13460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859120" y="1238400"/>
            <a:ext cx="430920" cy="459720"/>
            <a:chOff x="2859120" y="1238400"/>
            <a:chExt cx="430920" cy="459720"/>
          </a:xfrm>
        </p:grpSpPr>
        <p:sp>
          <p:nvSpPr>
            <p:cNvPr id="435" name=""/>
            <p:cNvSpPr/>
            <p:nvPr/>
          </p:nvSpPr>
          <p:spPr>
            <a:xfrm>
              <a:off x="2883600" y="12384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859120" y="14860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1828800" y="1219320"/>
            <a:ext cx="444600" cy="480240"/>
            <a:chOff x="1828800" y="1219320"/>
            <a:chExt cx="444600" cy="480240"/>
          </a:xfrm>
        </p:grpSpPr>
        <p:sp>
          <p:nvSpPr>
            <p:cNvPr id="438" name=""/>
            <p:cNvSpPr/>
            <p:nvPr/>
          </p:nvSpPr>
          <p:spPr>
            <a:xfrm>
              <a:off x="1848960" y="12398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828800" y="14983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197080" y="13460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1930320" y="1219320"/>
              <a:ext cx="228600" cy="75960"/>
              <a:chOff x="1930320" y="1219320"/>
              <a:chExt cx="228600" cy="75960"/>
            </a:xfrm>
          </p:grpSpPr>
          <p:sp>
            <p:nvSpPr>
              <p:cNvPr id="442" name=""/>
              <p:cNvSpPr/>
              <p:nvPr/>
            </p:nvSpPr>
            <p:spPr>
              <a:xfrm rot="5400000">
                <a:off x="2082600" y="121896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5400000">
                <a:off x="1930320" y="1219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1930320" y="1612800"/>
              <a:ext cx="228600" cy="75960"/>
              <a:chOff x="1930320" y="1612800"/>
              <a:chExt cx="228600" cy="75960"/>
            </a:xfrm>
          </p:grpSpPr>
          <p:sp>
            <p:nvSpPr>
              <p:cNvPr id="445" name=""/>
              <p:cNvSpPr/>
              <p:nvPr/>
            </p:nvSpPr>
            <p:spPr>
              <a:xfrm rot="5400000">
                <a:off x="2082600" y="16124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5400000">
                <a:off x="1930320" y="16128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7" name=""/>
          <p:cNvSpPr/>
          <p:nvPr/>
        </p:nvSpPr>
        <p:spPr>
          <a:xfrm>
            <a:off x="1356120" y="1225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372400" y="1225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441600" y="14605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4634640" y="1219320"/>
            <a:ext cx="3671280" cy="480240"/>
            <a:chOff x="4634640" y="1219320"/>
            <a:chExt cx="3671280" cy="480240"/>
          </a:xfrm>
        </p:grpSpPr>
        <p:grpSp>
          <p:nvGrpSpPr>
            <p:cNvPr id="451" name=""/>
            <p:cNvGrpSpPr/>
            <p:nvPr/>
          </p:nvGrpSpPr>
          <p:grpSpPr>
            <a:xfrm>
              <a:off x="4634640" y="1219320"/>
              <a:ext cx="1144080" cy="480240"/>
              <a:chOff x="4634640" y="1219320"/>
              <a:chExt cx="1144080" cy="480240"/>
            </a:xfrm>
          </p:grpSpPr>
          <p:grpSp>
            <p:nvGrpSpPr>
              <p:cNvPr id="452" name=""/>
              <p:cNvGrpSpPr/>
              <p:nvPr/>
            </p:nvGrpSpPr>
            <p:grpSpPr>
              <a:xfrm>
                <a:off x="4978080" y="1219320"/>
                <a:ext cx="443880" cy="480240"/>
                <a:chOff x="4978080" y="1219320"/>
                <a:chExt cx="443880" cy="48024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4997520" y="12398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4" name=""/>
                <p:cNvGrpSpPr/>
                <p:nvPr/>
              </p:nvGrpSpPr>
              <p:grpSpPr>
                <a:xfrm>
                  <a:off x="4978080" y="1346040"/>
                  <a:ext cx="75960" cy="228600"/>
                  <a:chOff x="4978080" y="1346040"/>
                  <a:chExt cx="75960" cy="228600"/>
                </a:xfrm>
              </p:grpSpPr>
              <p:sp>
                <p:nvSpPr>
                  <p:cNvPr id="455" name=""/>
                  <p:cNvSpPr/>
                  <p:nvPr/>
                </p:nvSpPr>
                <p:spPr>
                  <a:xfrm>
                    <a:off x="4978080" y="134604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4978080" y="149868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7" name=""/>
                <p:cNvSpPr/>
                <p:nvPr/>
              </p:nvSpPr>
              <p:spPr>
                <a:xfrm>
                  <a:off x="5346000" y="1346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8" name=""/>
                <p:cNvGrpSpPr/>
                <p:nvPr/>
              </p:nvGrpSpPr>
              <p:grpSpPr>
                <a:xfrm>
                  <a:off x="5079600" y="1219320"/>
                  <a:ext cx="227880" cy="75960"/>
                  <a:chOff x="5079600" y="1219320"/>
                  <a:chExt cx="227880" cy="7596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rot="5400000">
                    <a:off x="5231520" y="121932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rot="5400000">
                    <a:off x="5079240" y="121932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5079600" y="1612800"/>
                  <a:ext cx="227880" cy="76320"/>
                  <a:chOff x="5079600" y="1612800"/>
                  <a:chExt cx="227880" cy="7632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rot="5400000">
                    <a:off x="5231160" y="161280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rot="5400000">
                    <a:off x="5079240" y="161316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4" name=""/>
              <p:cNvSpPr/>
              <p:nvPr/>
            </p:nvSpPr>
            <p:spPr>
              <a:xfrm>
                <a:off x="5346360" y="149868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63464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37228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6793200" y="1219320"/>
              <a:ext cx="1512720" cy="480240"/>
              <a:chOff x="6793200" y="1219320"/>
              <a:chExt cx="1512720" cy="480240"/>
            </a:xfrm>
          </p:grpSpPr>
          <p:sp>
            <p:nvSpPr>
              <p:cNvPr id="468" name=""/>
              <p:cNvSpPr/>
              <p:nvPr/>
            </p:nvSpPr>
            <p:spPr>
              <a:xfrm>
                <a:off x="7334640" y="123984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9" name=""/>
              <p:cNvGrpSpPr/>
              <p:nvPr/>
            </p:nvGrpSpPr>
            <p:grpSpPr>
              <a:xfrm>
                <a:off x="7416720" y="1219320"/>
                <a:ext cx="227880" cy="75960"/>
                <a:chOff x="7416720" y="1219320"/>
                <a:chExt cx="227880" cy="75960"/>
              </a:xfrm>
            </p:grpSpPr>
            <p:sp>
              <p:nvSpPr>
                <p:cNvPr id="470" name=""/>
                <p:cNvSpPr/>
                <p:nvPr/>
              </p:nvSpPr>
              <p:spPr>
                <a:xfrm rot="5400000">
                  <a:off x="7568640" y="1219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5400000">
                  <a:off x="7416360" y="121932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7416720" y="1612800"/>
                <a:ext cx="227880" cy="76320"/>
                <a:chOff x="7416720" y="1612800"/>
                <a:chExt cx="227880" cy="76320"/>
              </a:xfrm>
            </p:grpSpPr>
            <p:sp>
              <p:nvSpPr>
                <p:cNvPr id="473" name=""/>
                <p:cNvSpPr/>
                <p:nvPr/>
              </p:nvSpPr>
              <p:spPr>
                <a:xfrm rot="5400000">
                  <a:off x="7568280" y="16128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rot="5400000">
                  <a:off x="7416360" y="16131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5" name=""/>
              <p:cNvSpPr/>
              <p:nvPr/>
            </p:nvSpPr>
            <p:spPr>
              <a:xfrm>
                <a:off x="7682760" y="146052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098840" y="1460520"/>
                <a:ext cx="304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89948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79320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6064920" y="1238400"/>
              <a:ext cx="49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4563720" y="1130400"/>
            <a:ext cx="583200" cy="1151640"/>
            <a:chOff x="4563720" y="1130400"/>
            <a:chExt cx="583200" cy="1151640"/>
          </a:xfrm>
        </p:grpSpPr>
        <p:sp>
          <p:nvSpPr>
            <p:cNvPr id="481" name=""/>
            <p:cNvSpPr/>
            <p:nvPr/>
          </p:nvSpPr>
          <p:spPr>
            <a:xfrm>
              <a:off x="4635360" y="1130400"/>
              <a:ext cx="45684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63720" y="1822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5254200" y="1130400"/>
            <a:ext cx="583200" cy="1151640"/>
            <a:chOff x="5254200" y="1130400"/>
            <a:chExt cx="583200" cy="1151640"/>
          </a:xfrm>
        </p:grpSpPr>
        <p:sp>
          <p:nvSpPr>
            <p:cNvPr id="484" name=""/>
            <p:cNvSpPr/>
            <p:nvPr/>
          </p:nvSpPr>
          <p:spPr>
            <a:xfrm>
              <a:off x="5325840" y="1130400"/>
              <a:ext cx="45684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54200" y="1822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97040" y="490680"/>
            <a:ext cx="39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ewis structure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34680" y="2700360"/>
            <a:ext cx="78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uble bo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wo atoms share two pairs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6162840" y="603360"/>
            <a:ext cx="2774520" cy="755640"/>
            <a:chOff x="6162840" y="603360"/>
            <a:chExt cx="2774520" cy="755640"/>
          </a:xfrm>
        </p:grpSpPr>
        <p:sp>
          <p:nvSpPr>
            <p:cNvPr id="489" name=""/>
            <p:cNvSpPr/>
            <p:nvPr/>
          </p:nvSpPr>
          <p:spPr>
            <a:xfrm>
              <a:off x="6162840" y="603360"/>
              <a:ext cx="277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ingle covalent bo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88120" y="901800"/>
              <a:ext cx="266040" cy="4572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168" y="0"/>
                  </a:moveTo>
                  <a:cubicBezTo>
                    <a:pt x="108" y="48"/>
                    <a:pt x="48" y="96"/>
                    <a:pt x="24" y="144"/>
                  </a:cubicBezTo>
                  <a:cubicBezTo>
                    <a:pt x="0" y="192"/>
                    <a:pt x="12" y="240"/>
                    <a:pt x="24" y="28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7607160" y="901800"/>
              <a:ext cx="266400" cy="4572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168" y="0"/>
                  </a:moveTo>
                  <a:cubicBezTo>
                    <a:pt x="108" y="48"/>
                    <a:pt x="48" y="96"/>
                    <a:pt x="24" y="144"/>
                  </a:cubicBezTo>
                  <a:cubicBezTo>
                    <a:pt x="0" y="192"/>
                    <a:pt x="12" y="240"/>
                    <a:pt x="24" y="28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2395080" y="3492360"/>
            <a:ext cx="1405080" cy="491400"/>
            <a:chOff x="2395080" y="3492360"/>
            <a:chExt cx="1405080" cy="491400"/>
          </a:xfrm>
        </p:grpSpPr>
        <p:sp>
          <p:nvSpPr>
            <p:cNvPr id="493" name=""/>
            <p:cNvSpPr/>
            <p:nvPr/>
          </p:nvSpPr>
          <p:spPr>
            <a:xfrm>
              <a:off x="2395080" y="3512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43200" y="37717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43200" y="361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2476080" y="3492360"/>
              <a:ext cx="228600" cy="75960"/>
              <a:chOff x="2476080" y="3492360"/>
              <a:chExt cx="228600" cy="75960"/>
            </a:xfrm>
          </p:grpSpPr>
          <p:sp>
            <p:nvSpPr>
              <p:cNvPr id="497" name=""/>
              <p:cNvSpPr/>
              <p:nvPr/>
            </p:nvSpPr>
            <p:spPr>
              <a:xfrm rot="5400000">
                <a:off x="2628360" y="3492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5400000">
                <a:off x="2476080" y="3492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2476080" y="3885840"/>
              <a:ext cx="228600" cy="76320"/>
              <a:chOff x="2476080" y="3885840"/>
              <a:chExt cx="228600" cy="76320"/>
            </a:xfrm>
          </p:grpSpPr>
          <p:sp>
            <p:nvSpPr>
              <p:cNvPr id="500" name=""/>
              <p:cNvSpPr/>
              <p:nvPr/>
            </p:nvSpPr>
            <p:spPr>
              <a:xfrm rot="5400000">
                <a:off x="2628360" y="38858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5400000">
                <a:off x="2475720" y="38858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2882880" y="37717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882880" y="361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912400" y="35240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3317400" y="3492360"/>
              <a:ext cx="482760" cy="480240"/>
              <a:chOff x="3317400" y="3492360"/>
              <a:chExt cx="482760" cy="480240"/>
            </a:xfrm>
          </p:grpSpPr>
          <p:sp>
            <p:nvSpPr>
              <p:cNvPr id="506" name=""/>
              <p:cNvSpPr/>
              <p:nvPr/>
            </p:nvSpPr>
            <p:spPr>
              <a:xfrm>
                <a:off x="3318840" y="35128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457080" y="37717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457080" y="36194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9" name=""/>
              <p:cNvGrpSpPr/>
              <p:nvPr/>
            </p:nvGrpSpPr>
            <p:grpSpPr>
              <a:xfrm>
                <a:off x="3571560" y="3492360"/>
                <a:ext cx="228600" cy="76320"/>
                <a:chOff x="3571560" y="3492360"/>
                <a:chExt cx="228600" cy="76320"/>
              </a:xfrm>
            </p:grpSpPr>
            <p:sp>
              <p:nvSpPr>
                <p:cNvPr id="510" name=""/>
                <p:cNvSpPr/>
                <p:nvPr/>
              </p:nvSpPr>
              <p:spPr>
                <a:xfrm rot="5400000">
                  <a:off x="3723840" y="34923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rot="5400000">
                  <a:off x="3571200" y="34923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3571560" y="3886200"/>
                <a:ext cx="228600" cy="75960"/>
                <a:chOff x="3571560" y="3886200"/>
                <a:chExt cx="228600" cy="75960"/>
              </a:xfrm>
            </p:grpSpPr>
            <p:sp>
              <p:nvSpPr>
                <p:cNvPr id="513" name=""/>
                <p:cNvSpPr/>
                <p:nvPr/>
              </p:nvSpPr>
              <p:spPr>
                <a:xfrm rot="5400000">
                  <a:off x="3723840" y="38858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rot="5400000">
                  <a:off x="3571560" y="38862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5" name=""/>
              <p:cNvSpPr/>
              <p:nvPr/>
            </p:nvSpPr>
            <p:spPr>
              <a:xfrm>
                <a:off x="3317400" y="37717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317400" y="36194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7" name=""/>
          <p:cNvSpPr/>
          <p:nvPr/>
        </p:nvSpPr>
        <p:spPr>
          <a:xfrm>
            <a:off x="4534920" y="35114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5765400" y="3498840"/>
            <a:ext cx="1897560" cy="478800"/>
            <a:chOff x="5765400" y="3498840"/>
            <a:chExt cx="1897560" cy="478800"/>
          </a:xfrm>
        </p:grpSpPr>
        <p:sp>
          <p:nvSpPr>
            <p:cNvPr id="519" name=""/>
            <p:cNvSpPr/>
            <p:nvPr/>
          </p:nvSpPr>
          <p:spPr>
            <a:xfrm>
              <a:off x="5765400" y="3512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5846400" y="3498840"/>
              <a:ext cx="228600" cy="469800"/>
              <a:chOff x="5846400" y="3498840"/>
              <a:chExt cx="228600" cy="469800"/>
            </a:xfrm>
          </p:grpSpPr>
          <p:grpSp>
            <p:nvGrpSpPr>
              <p:cNvPr id="521" name=""/>
              <p:cNvGrpSpPr/>
              <p:nvPr/>
            </p:nvGrpSpPr>
            <p:grpSpPr>
              <a:xfrm>
                <a:off x="5846400" y="3498840"/>
                <a:ext cx="228600" cy="75960"/>
                <a:chOff x="5846400" y="3498840"/>
                <a:chExt cx="228600" cy="75960"/>
              </a:xfrm>
            </p:grpSpPr>
            <p:sp>
              <p:nvSpPr>
                <p:cNvPr id="522" name=""/>
                <p:cNvSpPr/>
                <p:nvPr/>
              </p:nvSpPr>
              <p:spPr>
                <a:xfrm rot="5400000">
                  <a:off x="5998680" y="34984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5400000">
                  <a:off x="5846400" y="34988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5846400" y="3892320"/>
                <a:ext cx="228600" cy="76320"/>
                <a:chOff x="5846400" y="3892320"/>
                <a:chExt cx="228600" cy="76320"/>
              </a:xfrm>
            </p:grpSpPr>
            <p:sp>
              <p:nvSpPr>
                <p:cNvPr id="525" name=""/>
                <p:cNvSpPr/>
                <p:nvPr/>
              </p:nvSpPr>
              <p:spPr>
                <a:xfrm rot="5400000">
                  <a:off x="5998680" y="38923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5400000">
                  <a:off x="5846040" y="38923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7" name=""/>
            <p:cNvGrpSpPr/>
            <p:nvPr/>
          </p:nvGrpSpPr>
          <p:grpSpPr>
            <a:xfrm>
              <a:off x="6184800" y="3695400"/>
              <a:ext cx="381240" cy="76320"/>
              <a:chOff x="6184800" y="3695400"/>
              <a:chExt cx="381240" cy="76320"/>
            </a:xfrm>
          </p:grpSpPr>
          <p:sp>
            <p:nvSpPr>
              <p:cNvPr id="528" name=""/>
              <p:cNvSpPr/>
              <p:nvPr/>
            </p:nvSpPr>
            <p:spPr>
              <a:xfrm>
                <a:off x="6184800" y="369540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184800" y="377172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6532200" y="35179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"/>
            <p:cNvGrpSpPr/>
            <p:nvPr/>
          </p:nvGrpSpPr>
          <p:grpSpPr>
            <a:xfrm>
              <a:off x="6942960" y="3498840"/>
              <a:ext cx="720000" cy="473760"/>
              <a:chOff x="6942960" y="3498840"/>
              <a:chExt cx="720000" cy="473760"/>
            </a:xfrm>
          </p:grpSpPr>
          <p:sp>
            <p:nvSpPr>
              <p:cNvPr id="532" name=""/>
              <p:cNvSpPr/>
              <p:nvPr/>
            </p:nvSpPr>
            <p:spPr>
              <a:xfrm flipH="1">
                <a:off x="6942960" y="35128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3" name=""/>
              <p:cNvGrpSpPr/>
              <p:nvPr/>
            </p:nvGrpSpPr>
            <p:grpSpPr>
              <a:xfrm>
                <a:off x="7434360" y="3498840"/>
                <a:ext cx="228600" cy="469800"/>
                <a:chOff x="7434360" y="3498840"/>
                <a:chExt cx="228600" cy="469800"/>
              </a:xfrm>
            </p:grpSpPr>
            <p:grpSp>
              <p:nvGrpSpPr>
                <p:cNvPr id="534" name=""/>
                <p:cNvGrpSpPr/>
                <p:nvPr/>
              </p:nvGrpSpPr>
              <p:grpSpPr>
                <a:xfrm>
                  <a:off x="7434360" y="3498840"/>
                  <a:ext cx="228600" cy="75960"/>
                  <a:chOff x="7434360" y="3498840"/>
                  <a:chExt cx="228600" cy="75960"/>
                </a:xfrm>
              </p:grpSpPr>
              <p:sp>
                <p:nvSpPr>
                  <p:cNvPr id="535" name=""/>
                  <p:cNvSpPr/>
                  <p:nvPr/>
                </p:nvSpPr>
                <p:spPr>
                  <a:xfrm flipH="1" rot="16200000">
                    <a:off x="7434360" y="349848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flipH="1" rot="16200000">
                    <a:off x="7586640" y="349884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7" name=""/>
                <p:cNvGrpSpPr/>
                <p:nvPr/>
              </p:nvGrpSpPr>
              <p:grpSpPr>
                <a:xfrm>
                  <a:off x="7434360" y="3892320"/>
                  <a:ext cx="228600" cy="76320"/>
                  <a:chOff x="7434360" y="3892320"/>
                  <a:chExt cx="228600" cy="76320"/>
                </a:xfrm>
              </p:grpSpPr>
              <p:sp>
                <p:nvSpPr>
                  <p:cNvPr id="538" name=""/>
                  <p:cNvSpPr/>
                  <p:nvPr/>
                </p:nvSpPr>
                <p:spPr>
                  <a:xfrm flipH="1" rot="16200000">
                    <a:off x="7434360" y="3892320"/>
                    <a:ext cx="7632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 flipH="1" rot="16200000">
                    <a:off x="7586280" y="389232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0" name=""/>
              <p:cNvGrpSpPr/>
              <p:nvPr/>
            </p:nvGrpSpPr>
            <p:grpSpPr>
              <a:xfrm>
                <a:off x="6943320" y="3695400"/>
                <a:ext cx="380880" cy="75960"/>
                <a:chOff x="6943320" y="3695400"/>
                <a:chExt cx="380880" cy="75960"/>
              </a:xfrm>
            </p:grpSpPr>
            <p:sp>
              <p:nvSpPr>
                <p:cNvPr id="541" name=""/>
                <p:cNvSpPr/>
                <p:nvPr/>
              </p:nvSpPr>
              <p:spPr>
                <a:xfrm flipH="1">
                  <a:off x="6943320" y="369540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6943320" y="377136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43" name=""/>
          <p:cNvGrpSpPr/>
          <p:nvPr/>
        </p:nvGrpSpPr>
        <p:grpSpPr>
          <a:xfrm>
            <a:off x="2336760" y="3416400"/>
            <a:ext cx="685800" cy="1151640"/>
            <a:chOff x="2336760" y="3416400"/>
            <a:chExt cx="685800" cy="1151640"/>
          </a:xfrm>
        </p:grpSpPr>
        <p:sp>
          <p:nvSpPr>
            <p:cNvPr id="544" name=""/>
            <p:cNvSpPr/>
            <p:nvPr/>
          </p:nvSpPr>
          <p:spPr>
            <a:xfrm>
              <a:off x="2336760" y="3416400"/>
              <a:ext cx="685800" cy="609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388960" y="4108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3200400" y="3416400"/>
            <a:ext cx="685800" cy="1151640"/>
            <a:chOff x="3200400" y="3416400"/>
            <a:chExt cx="685800" cy="1151640"/>
          </a:xfrm>
        </p:grpSpPr>
        <p:sp>
          <p:nvSpPr>
            <p:cNvPr id="547" name=""/>
            <p:cNvSpPr/>
            <p:nvPr/>
          </p:nvSpPr>
          <p:spPr>
            <a:xfrm>
              <a:off x="3200400" y="3416400"/>
              <a:ext cx="685800" cy="609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252600" y="4108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2717640" y="3416400"/>
            <a:ext cx="761760" cy="1151640"/>
            <a:chOff x="2717640" y="3416400"/>
            <a:chExt cx="761760" cy="1151640"/>
          </a:xfrm>
        </p:grpSpPr>
        <p:sp>
          <p:nvSpPr>
            <p:cNvPr id="550" name=""/>
            <p:cNvSpPr/>
            <p:nvPr/>
          </p:nvSpPr>
          <p:spPr>
            <a:xfrm>
              <a:off x="2717640" y="3416400"/>
              <a:ext cx="761760" cy="609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810880" y="4108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2164320" y="3492360"/>
            <a:ext cx="1826640" cy="1074960"/>
            <a:chOff x="2164320" y="3492360"/>
            <a:chExt cx="1826640" cy="1074960"/>
          </a:xfrm>
        </p:grpSpPr>
        <p:sp>
          <p:nvSpPr>
            <p:cNvPr id="553" name=""/>
            <p:cNvSpPr/>
            <p:nvPr/>
          </p:nvSpPr>
          <p:spPr>
            <a:xfrm>
              <a:off x="2654280" y="3492360"/>
              <a:ext cx="381240" cy="457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149640" y="3492360"/>
              <a:ext cx="381240" cy="457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164320" y="4168440"/>
              <a:ext cx="182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ouble bo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5796360" y="3873240"/>
            <a:ext cx="1826640" cy="583560"/>
            <a:chOff x="5796360" y="3873240"/>
            <a:chExt cx="1826640" cy="583560"/>
          </a:xfrm>
        </p:grpSpPr>
        <p:sp>
          <p:nvSpPr>
            <p:cNvPr id="557" name=""/>
            <p:cNvSpPr/>
            <p:nvPr/>
          </p:nvSpPr>
          <p:spPr>
            <a:xfrm flipH="1" flipV="1">
              <a:off x="6387840" y="3873240"/>
              <a:ext cx="22824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6768720" y="3873240"/>
              <a:ext cx="22824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796360" y="4057920"/>
              <a:ext cx="182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ouble bo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725040" y="4718160"/>
            <a:ext cx="81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iple bond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two atoms share three pairs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2336760" y="5479920"/>
            <a:ext cx="1095840" cy="461160"/>
            <a:chOff x="2336760" y="5479920"/>
            <a:chExt cx="1095840" cy="461160"/>
          </a:xfrm>
        </p:grpSpPr>
        <p:grpSp>
          <p:nvGrpSpPr>
            <p:cNvPr id="562" name=""/>
            <p:cNvGrpSpPr/>
            <p:nvPr/>
          </p:nvGrpSpPr>
          <p:grpSpPr>
            <a:xfrm>
              <a:off x="2360160" y="5479920"/>
              <a:ext cx="1072440" cy="461160"/>
              <a:chOff x="2360160" y="5479920"/>
              <a:chExt cx="1072440" cy="461160"/>
            </a:xfrm>
          </p:grpSpPr>
          <p:sp>
            <p:nvSpPr>
              <p:cNvPr id="563" name=""/>
              <p:cNvSpPr/>
              <p:nvPr/>
            </p:nvSpPr>
            <p:spPr>
              <a:xfrm>
                <a:off x="2360160" y="5481360"/>
                <a:ext cx="41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4" name=""/>
              <p:cNvGrpSpPr/>
              <p:nvPr/>
            </p:nvGrpSpPr>
            <p:grpSpPr>
              <a:xfrm>
                <a:off x="2718000" y="5587560"/>
                <a:ext cx="355320" cy="227880"/>
                <a:chOff x="2718000" y="5587560"/>
                <a:chExt cx="355320" cy="227880"/>
              </a:xfrm>
            </p:grpSpPr>
            <p:grpSp>
              <p:nvGrpSpPr>
                <p:cNvPr id="565" name=""/>
                <p:cNvGrpSpPr/>
                <p:nvPr/>
              </p:nvGrpSpPr>
              <p:grpSpPr>
                <a:xfrm>
                  <a:off x="2718000" y="5587560"/>
                  <a:ext cx="75960" cy="227880"/>
                  <a:chOff x="2718000" y="5587560"/>
                  <a:chExt cx="75960" cy="227880"/>
                </a:xfrm>
              </p:grpSpPr>
              <p:sp>
                <p:nvSpPr>
                  <p:cNvPr id="566" name=""/>
                  <p:cNvSpPr/>
                  <p:nvPr/>
                </p:nvSpPr>
                <p:spPr>
                  <a:xfrm>
                    <a:off x="2718000" y="5587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2718000" y="5739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8" name=""/>
                <p:cNvGrpSpPr/>
                <p:nvPr/>
              </p:nvGrpSpPr>
              <p:grpSpPr>
                <a:xfrm>
                  <a:off x="2857680" y="5587560"/>
                  <a:ext cx="75960" cy="227880"/>
                  <a:chOff x="2857680" y="5587560"/>
                  <a:chExt cx="75960" cy="227880"/>
                </a:xfrm>
              </p:grpSpPr>
              <p:sp>
                <p:nvSpPr>
                  <p:cNvPr id="569" name=""/>
                  <p:cNvSpPr/>
                  <p:nvPr/>
                </p:nvSpPr>
                <p:spPr>
                  <a:xfrm>
                    <a:off x="2857680" y="5587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2857680" y="5739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1" name=""/>
                <p:cNvGrpSpPr/>
                <p:nvPr/>
              </p:nvGrpSpPr>
              <p:grpSpPr>
                <a:xfrm>
                  <a:off x="2997360" y="5587560"/>
                  <a:ext cx="75960" cy="227880"/>
                  <a:chOff x="2997360" y="5587560"/>
                  <a:chExt cx="75960" cy="22788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>
                    <a:off x="2997360" y="5587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2997360" y="5739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74" name=""/>
              <p:cNvSpPr/>
              <p:nvPr/>
            </p:nvSpPr>
            <p:spPr>
              <a:xfrm>
                <a:off x="3020400" y="5479920"/>
                <a:ext cx="41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3340080" y="5587920"/>
              <a:ext cx="76320" cy="228600"/>
              <a:chOff x="3340080" y="5587920"/>
              <a:chExt cx="76320" cy="228600"/>
            </a:xfrm>
          </p:grpSpPr>
          <p:sp>
            <p:nvSpPr>
              <p:cNvPr id="576" name=""/>
              <p:cNvSpPr/>
              <p:nvPr/>
            </p:nvSpPr>
            <p:spPr>
              <a:xfrm>
                <a:off x="3340080" y="5587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340080" y="57405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2336760" y="5587920"/>
              <a:ext cx="76320" cy="228600"/>
              <a:chOff x="2336760" y="5587920"/>
              <a:chExt cx="76320" cy="228600"/>
            </a:xfrm>
          </p:grpSpPr>
          <p:sp>
            <p:nvSpPr>
              <p:cNvPr id="579" name=""/>
              <p:cNvSpPr/>
              <p:nvPr/>
            </p:nvSpPr>
            <p:spPr>
              <a:xfrm>
                <a:off x="2336760" y="5587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336760" y="57405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1" name=""/>
          <p:cNvGrpSpPr/>
          <p:nvPr/>
        </p:nvGrpSpPr>
        <p:grpSpPr>
          <a:xfrm>
            <a:off x="2197080" y="5511960"/>
            <a:ext cx="990720" cy="847080"/>
            <a:chOff x="2197080" y="5511960"/>
            <a:chExt cx="990720" cy="847080"/>
          </a:xfrm>
        </p:grpSpPr>
        <p:sp>
          <p:nvSpPr>
            <p:cNvPr id="582" name=""/>
            <p:cNvSpPr/>
            <p:nvPr/>
          </p:nvSpPr>
          <p:spPr>
            <a:xfrm>
              <a:off x="2197080" y="5511960"/>
              <a:ext cx="990720" cy="3812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401560" y="5899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2577960" y="5511960"/>
            <a:ext cx="990720" cy="847080"/>
            <a:chOff x="2577960" y="5511960"/>
            <a:chExt cx="990720" cy="847080"/>
          </a:xfrm>
        </p:grpSpPr>
        <p:sp>
          <p:nvSpPr>
            <p:cNvPr id="585" name=""/>
            <p:cNvSpPr/>
            <p:nvPr/>
          </p:nvSpPr>
          <p:spPr>
            <a:xfrm>
              <a:off x="2577960" y="5511960"/>
              <a:ext cx="990720" cy="3812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782440" y="5899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6146640" y="5479920"/>
            <a:ext cx="1159200" cy="461160"/>
            <a:chOff x="6146640" y="5479920"/>
            <a:chExt cx="1159200" cy="461160"/>
          </a:xfrm>
        </p:grpSpPr>
        <p:sp>
          <p:nvSpPr>
            <p:cNvPr id="588" name=""/>
            <p:cNvSpPr/>
            <p:nvPr/>
          </p:nvSpPr>
          <p:spPr>
            <a:xfrm>
              <a:off x="6169680" y="548136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893640" y="547992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213320" y="55879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213320" y="5740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146640" y="5587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46640" y="5740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527520" y="562572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527520" y="570204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527520" y="577836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5983200" y="5854320"/>
            <a:ext cx="1499040" cy="697680"/>
            <a:chOff x="5983200" y="5854320"/>
            <a:chExt cx="1499040" cy="697680"/>
          </a:xfrm>
        </p:grpSpPr>
        <p:sp>
          <p:nvSpPr>
            <p:cNvPr id="598" name=""/>
            <p:cNvSpPr/>
            <p:nvPr/>
          </p:nvSpPr>
          <p:spPr>
            <a:xfrm flipV="1">
              <a:off x="6730920" y="5854320"/>
              <a:ext cx="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983200" y="6153120"/>
              <a:ext cx="149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riple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135160" y="5511960"/>
            <a:ext cx="1499040" cy="824400"/>
            <a:chOff x="2135160" y="5511960"/>
            <a:chExt cx="1499040" cy="824400"/>
          </a:xfrm>
        </p:grpSpPr>
        <p:sp>
          <p:nvSpPr>
            <p:cNvPr id="601" name=""/>
            <p:cNvSpPr/>
            <p:nvPr/>
          </p:nvSpPr>
          <p:spPr>
            <a:xfrm>
              <a:off x="2629080" y="5511960"/>
              <a:ext cx="5331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135160" y="5937480"/>
              <a:ext cx="149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riple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4541400" y="54799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093E9-148E-4B77-92A7-CE6DBFE39F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"/>
          <p:cNvGrpSpPr/>
          <p:nvPr/>
        </p:nvGrpSpPr>
        <p:grpSpPr>
          <a:xfrm>
            <a:off x="250920" y="2193840"/>
            <a:ext cx="5486400" cy="3584520"/>
            <a:chOff x="250920" y="2193840"/>
            <a:chExt cx="5486400" cy="3584520"/>
          </a:xfrm>
        </p:grpSpPr>
        <p:pic>
          <p:nvPicPr>
            <p:cNvPr id="605" name="" descr=""/>
            <p:cNvPicPr/>
            <p:nvPr/>
          </p:nvPicPr>
          <p:blipFill>
            <a:blip r:embed="rId1"/>
            <a:stretch/>
          </p:blipFill>
          <p:spPr>
            <a:xfrm>
              <a:off x="250920" y="2193840"/>
              <a:ext cx="5486400" cy="35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"/>
            <p:cNvSpPr/>
            <p:nvPr/>
          </p:nvSpPr>
          <p:spPr>
            <a:xfrm>
              <a:off x="1465920" y="37778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806280" y="37400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6879240" y="2930400"/>
            <a:ext cx="1053360" cy="491400"/>
            <a:chOff x="6879240" y="2930400"/>
            <a:chExt cx="1053360" cy="491400"/>
          </a:xfrm>
        </p:grpSpPr>
        <p:sp>
          <p:nvSpPr>
            <p:cNvPr id="609" name=""/>
            <p:cNvSpPr/>
            <p:nvPr/>
          </p:nvSpPr>
          <p:spPr>
            <a:xfrm>
              <a:off x="7547760" y="295092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7856280" y="3057120"/>
              <a:ext cx="76320" cy="228600"/>
              <a:chOff x="7856280" y="3057120"/>
              <a:chExt cx="76320" cy="228600"/>
            </a:xfrm>
          </p:grpSpPr>
          <p:sp>
            <p:nvSpPr>
              <p:cNvPr id="611" name=""/>
              <p:cNvSpPr/>
              <p:nvPr/>
            </p:nvSpPr>
            <p:spPr>
              <a:xfrm>
                <a:off x="7856280" y="30571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856280" y="32097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7589520" y="2930400"/>
              <a:ext cx="228600" cy="75960"/>
              <a:chOff x="7589520" y="2930400"/>
              <a:chExt cx="228600" cy="75960"/>
            </a:xfrm>
          </p:grpSpPr>
          <p:sp>
            <p:nvSpPr>
              <p:cNvPr id="614" name=""/>
              <p:cNvSpPr/>
              <p:nvPr/>
            </p:nvSpPr>
            <p:spPr>
              <a:xfrm rot="5400000">
                <a:off x="7741800" y="29300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5400000">
                <a:off x="7589520" y="2930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7589520" y="3323880"/>
              <a:ext cx="228600" cy="76320"/>
              <a:chOff x="7589520" y="3323880"/>
              <a:chExt cx="228600" cy="76320"/>
            </a:xfrm>
          </p:grpSpPr>
          <p:sp>
            <p:nvSpPr>
              <p:cNvPr id="617" name=""/>
              <p:cNvSpPr/>
              <p:nvPr/>
            </p:nvSpPr>
            <p:spPr>
              <a:xfrm rot="5400000">
                <a:off x="7741800" y="33238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5400000">
                <a:off x="7589160" y="332388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6879240" y="2962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21240" y="317160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349200" y="357120"/>
            <a:ext cx="889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lar covalent bo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lar bo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covalent bond with greater electron density around one of the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076560" y="2773440"/>
            <a:ext cx="179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electron r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94080" y="2925720"/>
            <a:ext cx="189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cc"/>
                </a:solidFill>
                <a:latin typeface="Comic Sans MS"/>
              </a:rPr>
              <a:t>electron p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cc"/>
                </a:solidFill>
                <a:latin typeface="Comic Sans MS"/>
              </a:rPr>
              <a:t>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477560" y="249228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r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323040" y="2492280"/>
            <a:ext cx="100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cc"/>
                </a:solidFill>
                <a:latin typeface="Comic Sans MS"/>
              </a:rPr>
              <a:t>e</a:t>
            </a:r>
            <a:r>
              <a:rPr b="0" lang="en-US" sz="2000" spc="-1" strike="noStrike" baseline="30000">
                <a:solidFill>
                  <a:srgbClr val="9999cc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9999cc"/>
                </a:solidFill>
                <a:latin typeface="Comic Sans MS"/>
              </a:rPr>
              <a:t> p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508720" y="4521240"/>
            <a:ext cx="3671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valent bo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on-metal-High EN- &amp; non-metal-High EN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olar covalent bo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h have High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T: Significant difference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6ED81-7AD4-4BBE-93C4-66D70AFFA2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264960" y="40464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9.5 Electronegativity: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bility of an atom to attract toward itself the electrons in a chemical b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087200" y="1860480"/>
            <a:ext cx="729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 Affinity -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easura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Cl is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734120" y="3613320"/>
            <a:ext cx="65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egativity -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lativ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F is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046320" y="2690640"/>
            <a:ext cx="3333960" cy="560880"/>
            <a:chOff x="3046320" y="2690640"/>
            <a:chExt cx="3333960" cy="560880"/>
          </a:xfrm>
        </p:grpSpPr>
        <p:sp>
          <p:nvSpPr>
            <p:cNvPr id="631" name=""/>
            <p:cNvSpPr/>
            <p:nvPr/>
          </p:nvSpPr>
          <p:spPr>
            <a:xfrm>
              <a:off x="3046320" y="2690640"/>
              <a:ext cx="33339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g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 + e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     X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722840" y="291924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2700360" y="4221000"/>
            <a:ext cx="3460680" cy="2365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7B76B-52C5-4BF0-93E6-B81642EC6D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232560" y="595440"/>
            <a:ext cx="874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Electronegativities of Common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250920" y="1866960"/>
            <a:ext cx="8785080" cy="361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0008C-61F8-4945-9B5B-9C98740AF2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"/>
          <p:cNvGrpSpPr/>
          <p:nvPr/>
        </p:nvGrpSpPr>
        <p:grpSpPr>
          <a:xfrm>
            <a:off x="660600" y="5299200"/>
            <a:ext cx="1433520" cy="1110600"/>
            <a:chOff x="660600" y="5299200"/>
            <a:chExt cx="1433520" cy="1110600"/>
          </a:xfrm>
        </p:grpSpPr>
        <p:sp>
          <p:nvSpPr>
            <p:cNvPr id="637" name=""/>
            <p:cNvSpPr/>
            <p:nvPr/>
          </p:nvSpPr>
          <p:spPr>
            <a:xfrm>
              <a:off x="660600" y="5299200"/>
              <a:ext cx="14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oval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85160" y="5950080"/>
              <a:ext cx="129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hare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2220840" y="5299200"/>
            <a:ext cx="4089240" cy="1055160"/>
            <a:chOff x="2220840" y="5299200"/>
            <a:chExt cx="4089240" cy="1055160"/>
          </a:xfrm>
        </p:grpSpPr>
        <p:sp>
          <p:nvSpPr>
            <p:cNvPr id="640" name=""/>
            <p:cNvSpPr/>
            <p:nvPr/>
          </p:nvSpPr>
          <p:spPr>
            <a:xfrm>
              <a:off x="3547800" y="5299200"/>
              <a:ext cx="22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olar Coval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186000" y="589464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artial transfer of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220840" y="58248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6031080" y="5299200"/>
            <a:ext cx="2757240" cy="1110600"/>
            <a:chOff x="6031080" y="5299200"/>
            <a:chExt cx="2757240" cy="1110600"/>
          </a:xfrm>
        </p:grpSpPr>
        <p:sp>
          <p:nvSpPr>
            <p:cNvPr id="644" name=""/>
            <p:cNvSpPr/>
            <p:nvPr/>
          </p:nvSpPr>
          <p:spPr>
            <a:xfrm>
              <a:off x="7345080" y="5299200"/>
              <a:ext cx="88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on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153560" y="5950080"/>
              <a:ext cx="163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ransfer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031080" y="58248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1611360" y="4346640"/>
            <a:ext cx="6149520" cy="487080"/>
            <a:chOff x="1611360" y="4346640"/>
            <a:chExt cx="6149520" cy="487080"/>
          </a:xfrm>
        </p:grpSpPr>
        <p:sp>
          <p:nvSpPr>
            <p:cNvPr id="648" name=""/>
            <p:cNvSpPr/>
            <p:nvPr/>
          </p:nvSpPr>
          <p:spPr>
            <a:xfrm>
              <a:off x="1611360" y="4833720"/>
              <a:ext cx="6019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709640" y="4346640"/>
              <a:ext cx="605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ncreasing difference in electronegativ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441360" y="353880"/>
            <a:ext cx="859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lassification of bonds by difference in electronega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2050920" y="1935000"/>
          <a:ext cx="4968720" cy="2070000"/>
        </p:xfrm>
        <a:graphic>
          <a:graphicData uri="http://schemas.openxmlformats.org/drawingml/2006/table">
            <a:tbl>
              <a:tblPr/>
              <a:tblGrid>
                <a:gridCol w="2341440"/>
                <a:gridCol w="262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Differ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Bond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va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o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 &lt; and &lt;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lar Cova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28F41-B6FF-49E6-8CBB-F99EB5B5C7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Content Placeholder 16"/>
          <p:cNvSpPr/>
          <p:nvPr/>
        </p:nvSpPr>
        <p:spPr>
          <a:xfrm>
            <a:off x="179280" y="1127160"/>
            <a:ext cx="40402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Classify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bonds as ionic, p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covalent, or 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) HCl = 3 - 2.1 = 0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Polar coval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) KF = 4 - 0.8 = 3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I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) C-C = 2.5 - 2.5 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Content Placeholder 18"/>
          <p:cNvSpPr/>
          <p:nvPr/>
        </p:nvSpPr>
        <p:spPr>
          <a:xfrm>
            <a:off x="4500720" y="530280"/>
            <a:ext cx="4437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Classify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bonds as ionic, polar covalent, or 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) CsCl = 3 – 1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I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)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 = 2.5 - 2.1 = 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Polar coval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) N-N = 3 - 3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24000" y="53352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Example 9.2 p379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284720" y="692280"/>
            <a:ext cx="0" cy="6165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3D46C-88FE-4341-A82F-6F2959641B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3060720" y="333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Chemical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rot="16200000">
            <a:off x="4211640" y="-2114280"/>
            <a:ext cx="792000" cy="6840720"/>
          </a:xfrm>
          <a:custGeom>
            <a:avLst/>
            <a:gdLst>
              <a:gd name="textAreaLeft" fmla="*/ 0 w 792000"/>
              <a:gd name="textAreaRight" fmla="*/ 285840 w 792000"/>
              <a:gd name="textAreaTop" fmla="*/ 178200 h 6840720"/>
              <a:gd name="textAreaBottom" fmla="*/ 6662520 h 684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84360" y="170172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3300"/>
                </a:solidFill>
                <a:uFillTx/>
                <a:latin typeface="Comic Sans MS"/>
              </a:rPr>
              <a:t>Ionic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012000" y="1701720"/>
            <a:ext cx="29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ovalent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24000" y="234936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Metal + Non-m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932360" y="2278080"/>
            <a:ext cx="4211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on-metal + Non-m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on-metal + Metall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468360" y="2998800"/>
                <a:ext cx="25192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3" name=""/>
          <p:cNvSpPr/>
          <p:nvPr/>
        </p:nvSpPr>
        <p:spPr>
          <a:xfrm rot="16200000">
            <a:off x="4823280" y="1017720"/>
            <a:ext cx="863640" cy="6408720"/>
          </a:xfrm>
          <a:custGeom>
            <a:avLst/>
            <a:gdLst>
              <a:gd name="textAreaLeft" fmla="*/ 0 w 863640"/>
              <a:gd name="textAreaRight" fmla="*/ 311760 w 863640"/>
              <a:gd name="textAreaTop" fmla="*/ 167040 h 6408720"/>
              <a:gd name="textAreaBottom" fmla="*/ 6241680 h 640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-36360" y="4654440"/>
            <a:ext cx="43192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Non polar Covalent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Same element: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, F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, O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572000" y="4654440"/>
            <a:ext cx="47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Polar Covalent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Different element:  H-F, H-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755640" y="5662440"/>
                <a:ext cx="244800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5651640" y="5662440"/>
                <a:ext cx="3240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t xml:space="preserve">&l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144360" y="6507000"/>
                <a:ext cx="8748720" cy="3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: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rPr>
                        <m:lit/>
                        <m:nor/>
                      </m:rPr>
                      <m:t xml:space="preserve"> is the difference in electronegativety between the two elemntes in the chemical bon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0DB4F-D524-43D0-B2F4-2203ABF22D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9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Chemical Bonding I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Basic concepts</a:t>
            </a:r>
            <a:br>
              <a:rPr sz="36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366-394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400-402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9.16, 9.18, 9.30, 9.36, 9.74, 9.44, 9.46, 9.48, 9.52, 9.56, 9.64, 9.80</a:t>
            </a:r>
            <a:r>
              <a:rPr b="0" lang="en-US" sz="3200" spc="-1" strike="noStrike">
                <a:solidFill>
                  <a:srgbClr val="33996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4D0CF-0BF7-46C2-B71C-A5D72CB803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431640" y="990720"/>
            <a:ext cx="830592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aw skeletal structure of compound showing what atoms are bonded to each other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ut least electronegative element in the cent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nt total number of valence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Add 1 for each negative charge.  Subtract 1 for each positive ch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aw single covalent bond between the central atom and each of the surrounding atom, and complete an octet for all the surrounded atoms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excep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ydrogen. Count and Compare it with the  # of electrons in step 2 if they are identical stop, if it is less add the remaining electrons to the central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still the central atom has no octet, use  lone pair/s on the one of the surrounded atom to form double or triple bond with the central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92840" y="339840"/>
            <a:ext cx="66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6  Writing Lewis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17A8A-2C52-483A-B772-DF31CD62EFB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431640" y="990720"/>
            <a:ext cx="8305920" cy="67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رسمي الهيكل العام . كقاعده عامه ضعي الذره التي لها اقل سالبيه كهربيه في المرك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حسبي  الاكترونا ت الخارجيه. اضيفي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لكل شحنه سالبه واطرحي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لكل شحنه موجبه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رسمي رابطه احاديه بين الذرات المحيطه والذره المركزيه. واكملي القاعده الثمانيه لكل الذرات المحيطه ماعدا الهايدروجين. ثم عدي الالكترونات اذا كانت اقل من الالكترونات المحسوبه في الخطوه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(الكترونات التكافؤ) توضع الاكترونات الزائده على الذره المركزيه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ذا كانت الذره المركزيه لازالت لاتحتوي على ثمانيه الكترونات نستخدم زوج\ازواج الكترونيه غير رابطه من الذرات المحيطه لتكوين رابطه ثنائيه اوثلاثيه ( حسب الحاجه) مع الذره المركزيه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92840" y="339840"/>
            <a:ext cx="66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6  Writing Lewis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2A772-3E70-4D6B-9887-E321CFC37D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4133880" y="4805280"/>
            <a:ext cx="3462480" cy="200844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324000" y="404640"/>
            <a:ext cx="88200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3 p38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rite the Lewis structure of nitrogen trifluoride (NF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 in which all three F atoms are bonded to the 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6320" y="1725480"/>
            <a:ext cx="682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N is less electronegative than F, put N in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959760" y="5207040"/>
            <a:ext cx="1938960" cy="1272600"/>
            <a:chOff x="959760" y="5207040"/>
            <a:chExt cx="1938960" cy="1272600"/>
          </a:xfrm>
        </p:grpSpPr>
        <p:sp>
          <p:nvSpPr>
            <p:cNvPr id="677" name=""/>
            <p:cNvSpPr/>
            <p:nvPr/>
          </p:nvSpPr>
          <p:spPr>
            <a:xfrm>
              <a:off x="959760" y="52070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13600" y="520704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59600" y="52070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748520" y="601992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1268280" y="5427720"/>
            <a:ext cx="1295280" cy="621360"/>
            <a:chOff x="1268280" y="5427720"/>
            <a:chExt cx="1295280" cy="621360"/>
          </a:xfrm>
        </p:grpSpPr>
        <p:sp>
          <p:nvSpPr>
            <p:cNvPr id="682" name=""/>
            <p:cNvSpPr/>
            <p:nvPr/>
          </p:nvSpPr>
          <p:spPr>
            <a:xfrm>
              <a:off x="126828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10636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1903320" y="559224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147240" y="2182680"/>
            <a:ext cx="781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Count valence electrons  N - 5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and F - 7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374120" y="2655720"/>
            <a:ext cx="40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 + (3 x 7) =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6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-25560" y="3021120"/>
            <a:ext cx="916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Draw single bonds between N and F atoms and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ctets on F atoms. Use all the e in step 2 (put the remaining 2 e on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933480" y="5175360"/>
            <a:ext cx="1980360" cy="1294920"/>
            <a:chOff x="933480" y="5175360"/>
            <a:chExt cx="1980360" cy="1294920"/>
          </a:xfrm>
        </p:grpSpPr>
        <p:grpSp>
          <p:nvGrpSpPr>
            <p:cNvPr id="689" name=""/>
            <p:cNvGrpSpPr/>
            <p:nvPr/>
          </p:nvGrpSpPr>
          <p:grpSpPr>
            <a:xfrm>
              <a:off x="2622600" y="5175360"/>
              <a:ext cx="227880" cy="75960"/>
              <a:chOff x="2622600" y="5175360"/>
              <a:chExt cx="227880" cy="75960"/>
            </a:xfrm>
          </p:grpSpPr>
          <p:sp>
            <p:nvSpPr>
              <p:cNvPr id="690" name=""/>
              <p:cNvSpPr/>
              <p:nvPr/>
            </p:nvSpPr>
            <p:spPr>
              <a:xfrm rot="5400000">
                <a:off x="277452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5400000">
                <a:off x="2622240" y="517536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2837880" y="5328000"/>
              <a:ext cx="75960" cy="227880"/>
              <a:chOff x="2837880" y="5328000"/>
              <a:chExt cx="75960" cy="227880"/>
            </a:xfrm>
          </p:grpSpPr>
          <p:sp>
            <p:nvSpPr>
              <p:cNvPr id="693" name=""/>
              <p:cNvSpPr/>
              <p:nvPr/>
            </p:nvSpPr>
            <p:spPr>
              <a:xfrm rot="10800000">
                <a:off x="2837880" y="54799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10800000">
                <a:off x="2837880" y="532800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2622600" y="5594040"/>
              <a:ext cx="227880" cy="75960"/>
              <a:chOff x="2622600" y="5594040"/>
              <a:chExt cx="227880" cy="75960"/>
            </a:xfrm>
          </p:grpSpPr>
          <p:sp>
            <p:nvSpPr>
              <p:cNvPr id="696" name=""/>
              <p:cNvSpPr/>
              <p:nvPr/>
            </p:nvSpPr>
            <p:spPr>
              <a:xfrm rot="5400000">
                <a:off x="277452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5400000">
                <a:off x="2622240" y="55940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1771920" y="6394320"/>
              <a:ext cx="227880" cy="75960"/>
              <a:chOff x="1771920" y="6394320"/>
              <a:chExt cx="227880" cy="75960"/>
            </a:xfrm>
          </p:grpSpPr>
          <p:sp>
            <p:nvSpPr>
              <p:cNvPr id="699" name=""/>
              <p:cNvSpPr/>
              <p:nvPr/>
            </p:nvSpPr>
            <p:spPr>
              <a:xfrm rot="5400000">
                <a:off x="1923840" y="6394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5400000">
                <a:off x="1771560" y="63943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1810080" y="5175360"/>
              <a:ext cx="227880" cy="75960"/>
              <a:chOff x="1810080" y="5175360"/>
              <a:chExt cx="227880" cy="75960"/>
            </a:xfrm>
          </p:grpSpPr>
          <p:sp>
            <p:nvSpPr>
              <p:cNvPr id="702" name=""/>
              <p:cNvSpPr/>
              <p:nvPr/>
            </p:nvSpPr>
            <p:spPr>
              <a:xfrm rot="5400000">
                <a:off x="196200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5400000">
                <a:off x="1809720" y="517536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1657080" y="6127560"/>
              <a:ext cx="75960" cy="227880"/>
              <a:chOff x="1657080" y="6127560"/>
              <a:chExt cx="75960" cy="227880"/>
            </a:xfrm>
          </p:grpSpPr>
          <p:sp>
            <p:nvSpPr>
              <p:cNvPr id="705" name=""/>
              <p:cNvSpPr/>
              <p:nvPr/>
            </p:nvSpPr>
            <p:spPr>
              <a:xfrm>
                <a:off x="1657080" y="61275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657080" y="62798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2038320" y="6127560"/>
              <a:ext cx="75600" cy="227880"/>
              <a:chOff x="2038320" y="6127560"/>
              <a:chExt cx="75600" cy="227880"/>
            </a:xfrm>
          </p:grpSpPr>
          <p:sp>
            <p:nvSpPr>
              <p:cNvPr id="708" name=""/>
              <p:cNvSpPr/>
              <p:nvPr/>
            </p:nvSpPr>
            <p:spPr>
              <a:xfrm>
                <a:off x="2038320" y="612756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038320" y="6279840"/>
                <a:ext cx="7560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996840" y="5175360"/>
              <a:ext cx="227880" cy="75960"/>
              <a:chOff x="996840" y="5175360"/>
              <a:chExt cx="227880" cy="75960"/>
            </a:xfrm>
          </p:grpSpPr>
          <p:sp>
            <p:nvSpPr>
              <p:cNvPr id="711" name=""/>
              <p:cNvSpPr/>
              <p:nvPr/>
            </p:nvSpPr>
            <p:spPr>
              <a:xfrm flipH="1" rot="16200000">
                <a:off x="99648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 rot="16200000">
                <a:off x="1148760" y="517536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933480" y="5328000"/>
              <a:ext cx="75960" cy="227880"/>
              <a:chOff x="933480" y="5328000"/>
              <a:chExt cx="75960" cy="227880"/>
            </a:xfrm>
          </p:grpSpPr>
          <p:sp>
            <p:nvSpPr>
              <p:cNvPr id="714" name=""/>
              <p:cNvSpPr/>
              <p:nvPr/>
            </p:nvSpPr>
            <p:spPr>
              <a:xfrm flipH="1" rot="10800000">
                <a:off x="933120" y="54799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 rot="10800000">
                <a:off x="933120" y="532800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996840" y="5594040"/>
              <a:ext cx="227880" cy="75960"/>
              <a:chOff x="996840" y="5594040"/>
              <a:chExt cx="227880" cy="75960"/>
            </a:xfrm>
          </p:grpSpPr>
          <p:sp>
            <p:nvSpPr>
              <p:cNvPr id="717" name=""/>
              <p:cNvSpPr/>
              <p:nvPr/>
            </p:nvSpPr>
            <p:spPr>
              <a:xfrm flipH="1" rot="16200000">
                <a:off x="99648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H="1" rot="16200000">
                <a:off x="1148760" y="55940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9" name=""/>
          <p:cNvSpPr/>
          <p:nvPr/>
        </p:nvSpPr>
        <p:spPr>
          <a:xfrm>
            <a:off x="2419200" y="50990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555920" y="591192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3008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58112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82080" y="3922560"/>
            <a:ext cx="51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 Check, if all the atoms has octe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520" y="4471920"/>
            <a:ext cx="78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 single bonds (3x2) + 10 lone pairs (10x2) =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6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2C41F-2E34-4127-9238-7C478F2F312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481320" y="1268280"/>
            <a:ext cx="682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C is less electronegative than O, put C in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053720" y="5207040"/>
            <a:ext cx="2018520" cy="1272600"/>
            <a:chOff x="1053720" y="5207040"/>
            <a:chExt cx="2018520" cy="1272600"/>
          </a:xfrm>
        </p:grpSpPr>
        <p:sp>
          <p:nvSpPr>
            <p:cNvPr id="727" name=""/>
            <p:cNvSpPr/>
            <p:nvPr/>
          </p:nvSpPr>
          <p:spPr>
            <a:xfrm>
              <a:off x="1053720" y="52070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866240" y="52070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53920" y="52070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42480" y="60199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1401840" y="5427720"/>
            <a:ext cx="1295280" cy="621360"/>
            <a:chOff x="1401840" y="5427720"/>
            <a:chExt cx="1295280" cy="621360"/>
          </a:xfrm>
        </p:grpSpPr>
        <p:sp>
          <p:nvSpPr>
            <p:cNvPr id="732" name=""/>
            <p:cNvSpPr/>
            <p:nvPr/>
          </p:nvSpPr>
          <p:spPr>
            <a:xfrm>
              <a:off x="140184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23992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2036880" y="559224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555840" y="1725480"/>
            <a:ext cx="778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Count valence electrons  C - 4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and O - 6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-2 charge – 2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679040" y="2503440"/>
            <a:ext cx="444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 + (3 x 6) + 2 =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4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18240" y="3005280"/>
            <a:ext cx="806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Draw single bonds between C and O atoms and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ctet on O atoms. Use all the e in step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1066680" y="5175360"/>
            <a:ext cx="1981440" cy="1294920"/>
            <a:chOff x="1066680" y="5175360"/>
            <a:chExt cx="1981440" cy="1294920"/>
          </a:xfrm>
        </p:grpSpPr>
        <p:grpSp>
          <p:nvGrpSpPr>
            <p:cNvPr id="739" name=""/>
            <p:cNvGrpSpPr/>
            <p:nvPr/>
          </p:nvGrpSpPr>
          <p:grpSpPr>
            <a:xfrm>
              <a:off x="2755440" y="5175360"/>
              <a:ext cx="228600" cy="75960"/>
              <a:chOff x="2755440" y="5175360"/>
              <a:chExt cx="228600" cy="75960"/>
            </a:xfrm>
          </p:grpSpPr>
          <p:sp>
            <p:nvSpPr>
              <p:cNvPr id="740" name=""/>
              <p:cNvSpPr/>
              <p:nvPr/>
            </p:nvSpPr>
            <p:spPr>
              <a:xfrm rot="5400000">
                <a:off x="2907720" y="5175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5400000">
                <a:off x="275544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2971800" y="5328000"/>
              <a:ext cx="76320" cy="227880"/>
              <a:chOff x="2971800" y="5328000"/>
              <a:chExt cx="76320" cy="227880"/>
            </a:xfrm>
          </p:grpSpPr>
          <p:sp>
            <p:nvSpPr>
              <p:cNvPr id="743" name=""/>
              <p:cNvSpPr/>
              <p:nvPr/>
            </p:nvSpPr>
            <p:spPr>
              <a:xfrm rot="10800000">
                <a:off x="2971800" y="54799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rot="10800000">
                <a:off x="2971800" y="5328000"/>
                <a:ext cx="7632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5" name=""/>
            <p:cNvGrpSpPr/>
            <p:nvPr/>
          </p:nvGrpSpPr>
          <p:grpSpPr>
            <a:xfrm>
              <a:off x="2755440" y="5594040"/>
              <a:ext cx="228600" cy="75960"/>
              <a:chOff x="2755440" y="5594040"/>
              <a:chExt cx="228600" cy="75960"/>
            </a:xfrm>
          </p:grpSpPr>
          <p:sp>
            <p:nvSpPr>
              <p:cNvPr id="746" name=""/>
              <p:cNvSpPr/>
              <p:nvPr/>
            </p:nvSpPr>
            <p:spPr>
              <a:xfrm rot="5400000">
                <a:off x="2907720" y="55936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rot="5400000">
                <a:off x="275544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1904760" y="6394320"/>
              <a:ext cx="228600" cy="75960"/>
              <a:chOff x="1904760" y="6394320"/>
              <a:chExt cx="228600" cy="75960"/>
            </a:xfrm>
          </p:grpSpPr>
          <p:sp>
            <p:nvSpPr>
              <p:cNvPr id="749" name=""/>
              <p:cNvSpPr/>
              <p:nvPr/>
            </p:nvSpPr>
            <p:spPr>
              <a:xfrm rot="5400000">
                <a:off x="2057040" y="639396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5400000">
                <a:off x="1904760" y="6394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1" name=""/>
            <p:cNvGrpSpPr/>
            <p:nvPr/>
          </p:nvGrpSpPr>
          <p:grpSpPr>
            <a:xfrm>
              <a:off x="1942920" y="5175360"/>
              <a:ext cx="228600" cy="75960"/>
              <a:chOff x="1942920" y="5175360"/>
              <a:chExt cx="228600" cy="75960"/>
            </a:xfrm>
          </p:grpSpPr>
          <p:sp>
            <p:nvSpPr>
              <p:cNvPr id="752" name=""/>
              <p:cNvSpPr/>
              <p:nvPr/>
            </p:nvSpPr>
            <p:spPr>
              <a:xfrm rot="5400000">
                <a:off x="2095200" y="5175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5400000">
                <a:off x="194292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4" name=""/>
            <p:cNvGrpSpPr/>
            <p:nvPr/>
          </p:nvGrpSpPr>
          <p:grpSpPr>
            <a:xfrm>
              <a:off x="1790640" y="6127560"/>
              <a:ext cx="76320" cy="227880"/>
              <a:chOff x="1790640" y="6127560"/>
              <a:chExt cx="76320" cy="227880"/>
            </a:xfrm>
          </p:grpSpPr>
          <p:sp>
            <p:nvSpPr>
              <p:cNvPr id="755" name=""/>
              <p:cNvSpPr/>
              <p:nvPr/>
            </p:nvSpPr>
            <p:spPr>
              <a:xfrm>
                <a:off x="1790640" y="61275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790640" y="6279840"/>
                <a:ext cx="7632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2171880" y="6127560"/>
              <a:ext cx="75960" cy="227880"/>
              <a:chOff x="2171880" y="6127560"/>
              <a:chExt cx="75960" cy="227880"/>
            </a:xfrm>
          </p:grpSpPr>
          <p:sp>
            <p:nvSpPr>
              <p:cNvPr id="758" name=""/>
              <p:cNvSpPr/>
              <p:nvPr/>
            </p:nvSpPr>
            <p:spPr>
              <a:xfrm>
                <a:off x="2171880" y="61275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171880" y="62798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1130400" y="5175360"/>
              <a:ext cx="228600" cy="75960"/>
              <a:chOff x="1130400" y="5175360"/>
              <a:chExt cx="228600" cy="75960"/>
            </a:xfrm>
          </p:grpSpPr>
          <p:sp>
            <p:nvSpPr>
              <p:cNvPr id="761" name=""/>
              <p:cNvSpPr/>
              <p:nvPr/>
            </p:nvSpPr>
            <p:spPr>
              <a:xfrm flipH="1" rot="16200000">
                <a:off x="1130400" y="5175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 rot="16200000">
                <a:off x="128268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1066680" y="5328000"/>
              <a:ext cx="76320" cy="227880"/>
              <a:chOff x="1066680" y="5328000"/>
              <a:chExt cx="76320" cy="227880"/>
            </a:xfrm>
          </p:grpSpPr>
          <p:sp>
            <p:nvSpPr>
              <p:cNvPr id="764" name=""/>
              <p:cNvSpPr/>
              <p:nvPr/>
            </p:nvSpPr>
            <p:spPr>
              <a:xfrm flipH="1" rot="10800000">
                <a:off x="1066680" y="54799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 rot="10800000">
                <a:off x="1066680" y="5328000"/>
                <a:ext cx="7632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1130400" y="5594040"/>
              <a:ext cx="228600" cy="75960"/>
              <a:chOff x="1130400" y="5594040"/>
              <a:chExt cx="228600" cy="75960"/>
            </a:xfrm>
          </p:grpSpPr>
          <p:sp>
            <p:nvSpPr>
              <p:cNvPr id="767" name=""/>
              <p:cNvSpPr/>
              <p:nvPr/>
            </p:nvSpPr>
            <p:spPr>
              <a:xfrm flipH="1" rot="16200000">
                <a:off x="1130400" y="55936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 rot="16200000">
                <a:off x="128268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9" name=""/>
          <p:cNvSpPr/>
          <p:nvPr/>
        </p:nvSpPr>
        <p:spPr>
          <a:xfrm>
            <a:off x="1689120" y="591192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86364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95280" y="369108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 Check, all the atoms has octet, C has no octet? Use one of the lone pair on the O to form double bond with the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7093080" y="5013360"/>
            <a:ext cx="1790640" cy="1625040"/>
            <a:chOff x="7093080" y="5013360"/>
            <a:chExt cx="1790640" cy="1625040"/>
          </a:xfrm>
        </p:grpSpPr>
        <p:pic>
          <p:nvPicPr>
            <p:cNvPr id="773" name="" descr=""/>
            <p:cNvPicPr/>
            <p:nvPr/>
          </p:nvPicPr>
          <p:blipFill>
            <a:blip r:embed="rId1"/>
            <a:srcRect l="9686" t="2498" r="8752" b="0"/>
            <a:stretch/>
          </p:blipFill>
          <p:spPr>
            <a:xfrm>
              <a:off x="7131240" y="5013360"/>
              <a:ext cx="1752480" cy="15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"/>
            <p:cNvSpPr/>
            <p:nvPr/>
          </p:nvSpPr>
          <p:spPr>
            <a:xfrm>
              <a:off x="7854840" y="6410160"/>
              <a:ext cx="3049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093080" y="5470200"/>
              <a:ext cx="5331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360360" y="374760"/>
            <a:ext cx="882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5 p382:</a:t>
            </a:r>
            <a:r>
              <a:rPr b="1" lang="ar-SA" sz="2400" spc="-1" strike="noStrike" u="sng">
                <a:solidFill>
                  <a:srgbClr val="cc3300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rite the Lewis structure of carbonate ion (C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763640" y="4869000"/>
            <a:ext cx="863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71468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700360" y="4941720"/>
            <a:ext cx="358920" cy="432000"/>
          </a:xfrm>
          <a:prstGeom prst="ellipse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552760" y="50990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268360" y="53006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4763520" y="5280120"/>
            <a:ext cx="2018520" cy="1272600"/>
            <a:chOff x="4763520" y="5280120"/>
            <a:chExt cx="2018520" cy="1272600"/>
          </a:xfrm>
        </p:grpSpPr>
        <p:sp>
          <p:nvSpPr>
            <p:cNvPr id="783" name=""/>
            <p:cNvSpPr/>
            <p:nvPr/>
          </p:nvSpPr>
          <p:spPr>
            <a:xfrm>
              <a:off x="4763520" y="52801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576040" y="52801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63720" y="52801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552280" y="60930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5111640" y="5500800"/>
            <a:ext cx="1295280" cy="621360"/>
            <a:chOff x="5111640" y="5500800"/>
            <a:chExt cx="1295280" cy="621360"/>
          </a:xfrm>
        </p:grpSpPr>
        <p:sp>
          <p:nvSpPr>
            <p:cNvPr id="788" name=""/>
            <p:cNvSpPr/>
            <p:nvPr/>
          </p:nvSpPr>
          <p:spPr>
            <a:xfrm>
              <a:off x="5111640" y="5500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949720" y="5500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5746680" y="566532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4776840" y="5248440"/>
            <a:ext cx="1980360" cy="1294920"/>
            <a:chOff x="4776840" y="5248440"/>
            <a:chExt cx="1980360" cy="1294920"/>
          </a:xfrm>
        </p:grpSpPr>
        <p:grpSp>
          <p:nvGrpSpPr>
            <p:cNvPr id="792" name=""/>
            <p:cNvGrpSpPr/>
            <p:nvPr/>
          </p:nvGrpSpPr>
          <p:grpSpPr>
            <a:xfrm>
              <a:off x="6465960" y="5248440"/>
              <a:ext cx="227880" cy="75960"/>
              <a:chOff x="6465960" y="5248440"/>
              <a:chExt cx="227880" cy="75960"/>
            </a:xfrm>
          </p:grpSpPr>
          <p:sp>
            <p:nvSpPr>
              <p:cNvPr id="793" name=""/>
              <p:cNvSpPr/>
              <p:nvPr/>
            </p:nvSpPr>
            <p:spPr>
              <a:xfrm rot="5400000">
                <a:off x="6617880" y="5248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5400000">
                <a:off x="6465600" y="52484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6681240" y="5401080"/>
              <a:ext cx="75960" cy="227880"/>
              <a:chOff x="6681240" y="5401080"/>
              <a:chExt cx="75960" cy="227880"/>
            </a:xfrm>
          </p:grpSpPr>
          <p:sp>
            <p:nvSpPr>
              <p:cNvPr id="796" name=""/>
              <p:cNvSpPr/>
              <p:nvPr/>
            </p:nvSpPr>
            <p:spPr>
              <a:xfrm rot="10800000">
                <a:off x="6681240" y="55530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10800000">
                <a:off x="6681240" y="540108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6465960" y="5667120"/>
              <a:ext cx="227880" cy="75960"/>
              <a:chOff x="6465960" y="5667120"/>
              <a:chExt cx="227880" cy="75960"/>
            </a:xfrm>
          </p:grpSpPr>
          <p:sp>
            <p:nvSpPr>
              <p:cNvPr id="799" name=""/>
              <p:cNvSpPr/>
              <p:nvPr/>
            </p:nvSpPr>
            <p:spPr>
              <a:xfrm rot="5400000">
                <a:off x="6617880" y="56671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5400000">
                <a:off x="6465600" y="56671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5615280" y="6467400"/>
              <a:ext cx="227880" cy="75960"/>
              <a:chOff x="5615280" y="6467400"/>
              <a:chExt cx="227880" cy="75960"/>
            </a:xfrm>
          </p:grpSpPr>
          <p:sp>
            <p:nvSpPr>
              <p:cNvPr id="802" name=""/>
              <p:cNvSpPr/>
              <p:nvPr/>
            </p:nvSpPr>
            <p:spPr>
              <a:xfrm rot="5400000">
                <a:off x="5767200" y="6467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5400000">
                <a:off x="5614920" y="646740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4" name=""/>
            <p:cNvGrpSpPr/>
            <p:nvPr/>
          </p:nvGrpSpPr>
          <p:grpSpPr>
            <a:xfrm>
              <a:off x="5653440" y="5248440"/>
              <a:ext cx="227880" cy="75960"/>
              <a:chOff x="5653440" y="5248440"/>
              <a:chExt cx="227880" cy="75960"/>
            </a:xfrm>
          </p:grpSpPr>
          <p:sp>
            <p:nvSpPr>
              <p:cNvPr id="805" name=""/>
              <p:cNvSpPr/>
              <p:nvPr/>
            </p:nvSpPr>
            <p:spPr>
              <a:xfrm rot="5400000">
                <a:off x="5805360" y="5248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5400000">
                <a:off x="5653080" y="52484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5500440" y="6200640"/>
              <a:ext cx="75960" cy="227880"/>
              <a:chOff x="5500440" y="6200640"/>
              <a:chExt cx="75960" cy="227880"/>
            </a:xfrm>
          </p:grpSpPr>
          <p:sp>
            <p:nvSpPr>
              <p:cNvPr id="808" name=""/>
              <p:cNvSpPr/>
              <p:nvPr/>
            </p:nvSpPr>
            <p:spPr>
              <a:xfrm>
                <a:off x="5500440" y="62006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500440" y="63529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5881680" y="6200640"/>
              <a:ext cx="75600" cy="227880"/>
              <a:chOff x="5881680" y="6200640"/>
              <a:chExt cx="75600" cy="227880"/>
            </a:xfrm>
          </p:grpSpPr>
          <p:sp>
            <p:nvSpPr>
              <p:cNvPr id="811" name=""/>
              <p:cNvSpPr/>
              <p:nvPr/>
            </p:nvSpPr>
            <p:spPr>
              <a:xfrm>
                <a:off x="5881680" y="620064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881680" y="6352920"/>
                <a:ext cx="7560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4840200" y="5248440"/>
              <a:ext cx="227880" cy="75960"/>
              <a:chOff x="4840200" y="5248440"/>
              <a:chExt cx="227880" cy="75960"/>
            </a:xfrm>
          </p:grpSpPr>
          <p:sp>
            <p:nvSpPr>
              <p:cNvPr id="814" name=""/>
              <p:cNvSpPr/>
              <p:nvPr/>
            </p:nvSpPr>
            <p:spPr>
              <a:xfrm flipH="1" rot="16200000">
                <a:off x="4839840" y="5248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 rot="16200000">
                <a:off x="4992120" y="52484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4776840" y="5401080"/>
              <a:ext cx="75960" cy="227880"/>
              <a:chOff x="4776840" y="5401080"/>
              <a:chExt cx="75960" cy="227880"/>
            </a:xfrm>
          </p:grpSpPr>
          <p:sp>
            <p:nvSpPr>
              <p:cNvPr id="817" name=""/>
              <p:cNvSpPr/>
              <p:nvPr/>
            </p:nvSpPr>
            <p:spPr>
              <a:xfrm flipH="1" rot="10800000">
                <a:off x="4776480" y="55530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 rot="10800000">
                <a:off x="4776480" y="540108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4840200" y="5667120"/>
              <a:ext cx="227880" cy="75960"/>
              <a:chOff x="4840200" y="5667120"/>
              <a:chExt cx="227880" cy="75960"/>
            </a:xfrm>
          </p:grpSpPr>
          <p:sp>
            <p:nvSpPr>
              <p:cNvPr id="820" name=""/>
              <p:cNvSpPr/>
              <p:nvPr/>
            </p:nvSpPr>
            <p:spPr>
              <a:xfrm flipH="1" rot="16200000">
                <a:off x="4839840" y="56671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 rot="16200000">
                <a:off x="4992120" y="56671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2" name=""/>
          <p:cNvSpPr/>
          <p:nvPr/>
        </p:nvSpPr>
        <p:spPr>
          <a:xfrm>
            <a:off x="5473800" y="4941720"/>
            <a:ext cx="863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940360" y="537372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372360" y="4797360"/>
            <a:ext cx="504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348000" y="595008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C5C94-C3B3-4E44-8F4B-4EB1C7FB67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Content Placeholder 1"/>
          <p:cNvSpPr/>
          <p:nvPr/>
        </p:nvSpPr>
        <p:spPr>
          <a:xfrm>
            <a:off x="324000" y="404640"/>
            <a:ext cx="88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  <a:ea typeface="Times New Roman"/>
              </a:rPr>
              <a:t>Example 9.4 p382: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 Write the Lewis structure for ni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acid (HN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) in which the three O atoms are bonded to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central 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79280" y="1609560"/>
            <a:ext cx="849636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1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ut N in center ,surrounded by 3O atoms , H bonded to one of the 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2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unt the valence electrons  5 + (3 x 6) +1 = 24 valence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3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raw single bonds betwee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O atoms and O and H complete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ctet on O atoms. Use all the valence e (step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4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heck, all the atoms has octet, N has no octet? Use one of the lone pair on the O to form double bond with th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484360" y="56545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132000" y="5661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484360" y="62308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835280" y="566100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916360" y="58784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700360" y="60944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268360" y="58784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419640" y="56624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276720" y="56624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419640" y="60944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276720" y="6094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981080" y="566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124000" y="566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83672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836720" y="5950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91636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916360" y="6526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981080" y="6094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124000" y="6094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629080" y="66708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771640" y="6669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484360" y="6526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48436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780000" y="564660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564000" y="58784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908000" y="5516640"/>
            <a:ext cx="432000" cy="360360"/>
          </a:xfrm>
          <a:prstGeom prst="ellipse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2266560" y="580536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588000" y="55119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236000" y="551808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588000" y="60879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938920" y="55180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7020000" y="57355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804000" y="59515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372360" y="57355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523280" y="55198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380360" y="55198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52328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38036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940360" y="56624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940360" y="58071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020000" y="62388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020000" y="63831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08472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22764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732720" y="65278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875640" y="65260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588000" y="63831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588000" y="62388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883640" y="550404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667640" y="57355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6370200" y="566244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4427640" y="6308640"/>
            <a:ext cx="115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119F3-0FE5-4239-ACA3-18D6466E20A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7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9.7 Formal Charge and Lewis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ormal charg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show how the charge distributed in a molec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ormal charg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difference between the number of valence electrons in an isolated atom and the number of electrons assigned to that atom in a Lewis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Group 23"/>
          <p:cNvGrpSpPr/>
          <p:nvPr/>
        </p:nvGrpSpPr>
        <p:grpSpPr>
          <a:xfrm>
            <a:off x="246240" y="3397320"/>
            <a:ext cx="8691480" cy="1191240"/>
            <a:chOff x="246240" y="3397320"/>
            <a:chExt cx="8691480" cy="1191240"/>
          </a:xfrm>
        </p:grpSpPr>
        <p:grpSp>
          <p:nvGrpSpPr>
            <p:cNvPr id="883" name="Group 37"/>
            <p:cNvGrpSpPr/>
            <p:nvPr/>
          </p:nvGrpSpPr>
          <p:grpSpPr>
            <a:xfrm>
              <a:off x="246240" y="3397320"/>
              <a:ext cx="2134800" cy="1191240"/>
              <a:chOff x="246240" y="3397320"/>
              <a:chExt cx="2134800" cy="1191240"/>
            </a:xfrm>
          </p:grpSpPr>
          <p:sp>
            <p:nvSpPr>
              <p:cNvPr id="884" name="Text Box 23"/>
              <p:cNvSpPr/>
              <p:nvPr/>
            </p:nvSpPr>
            <p:spPr>
              <a:xfrm>
                <a:off x="246240" y="3397320"/>
                <a:ext cx="1828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ormal charge on an atom in a Lewis struct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Text Box 27"/>
              <p:cNvSpPr/>
              <p:nvPr/>
            </p:nvSpPr>
            <p:spPr>
              <a:xfrm>
                <a:off x="2069280" y="38242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6" name="Group 40"/>
            <p:cNvGrpSpPr/>
            <p:nvPr/>
          </p:nvGrpSpPr>
          <p:grpSpPr>
            <a:xfrm>
              <a:off x="6558480" y="3549600"/>
              <a:ext cx="2379240" cy="1008360"/>
              <a:chOff x="6558480" y="3549600"/>
              <a:chExt cx="2379240" cy="1008360"/>
            </a:xfrm>
          </p:grpSpPr>
          <p:grpSp>
            <p:nvGrpSpPr>
              <p:cNvPr id="887" name="Group 33"/>
              <p:cNvGrpSpPr/>
              <p:nvPr/>
            </p:nvGrpSpPr>
            <p:grpSpPr>
              <a:xfrm>
                <a:off x="6558480" y="3595680"/>
                <a:ext cx="340920" cy="825120"/>
                <a:chOff x="6558480" y="3595680"/>
                <a:chExt cx="340920" cy="825120"/>
              </a:xfrm>
            </p:grpSpPr>
            <p:sp>
              <p:nvSpPr>
                <p:cNvPr id="888" name="Text Box 28"/>
                <p:cNvSpPr/>
                <p:nvPr/>
              </p:nvSpPr>
              <p:spPr>
                <a:xfrm>
                  <a:off x="6558480" y="359568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Text Box 29"/>
                <p:cNvSpPr/>
                <p:nvPr/>
              </p:nvSpPr>
              <p:spPr>
                <a:xfrm>
                  <a:off x="6576840" y="405252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Line 30"/>
                <p:cNvSpPr/>
                <p:nvPr/>
              </p:nvSpPr>
              <p:spPr>
                <a:xfrm>
                  <a:off x="6594480" y="4052520"/>
                  <a:ext cx="304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Group 34"/>
              <p:cNvGrpSpPr/>
              <p:nvPr/>
            </p:nvGrpSpPr>
            <p:grpSpPr>
              <a:xfrm>
                <a:off x="6878880" y="3549600"/>
                <a:ext cx="2058840" cy="1008360"/>
                <a:chOff x="6878880" y="3549600"/>
                <a:chExt cx="2058840" cy="1008360"/>
              </a:xfrm>
            </p:grpSpPr>
            <p:sp>
              <p:nvSpPr>
                <p:cNvPr id="892" name="Text Box 26"/>
                <p:cNvSpPr/>
                <p:nvPr/>
              </p:nvSpPr>
              <p:spPr>
                <a:xfrm>
                  <a:off x="7104240" y="3549600"/>
                  <a:ext cx="18288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total number of bonding electron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Text Box 31"/>
                <p:cNvSpPr/>
                <p:nvPr/>
              </p:nvSpPr>
              <p:spPr>
                <a:xfrm>
                  <a:off x="6878880" y="3549600"/>
                  <a:ext cx="6073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0" spc="-1" strike="noStrike">
                      <a:solidFill>
                        <a:srgbClr val="000000"/>
                      </a:solidFill>
                      <a:latin typeface="Comic Sans MS"/>
                    </a:rPr>
                    <a:t>( </a:t>
                  </a: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Text Box 32"/>
                <p:cNvSpPr/>
                <p:nvPr/>
              </p:nvSpPr>
              <p:spPr>
                <a:xfrm>
                  <a:off x="8528400" y="3549600"/>
                  <a:ext cx="4093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0" spc="-1" strike="noStrike">
                      <a:solidFill>
                        <a:srgbClr val="000000"/>
                      </a:solidFill>
                      <a:latin typeface="Comic Sans MS"/>
                    </a:rPr>
                    <a:t>)</a:t>
                  </a: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5" name="Group 38"/>
            <p:cNvGrpSpPr/>
            <p:nvPr/>
          </p:nvGrpSpPr>
          <p:grpSpPr>
            <a:xfrm>
              <a:off x="2532240" y="3397320"/>
              <a:ext cx="1856520" cy="1191240"/>
              <a:chOff x="2532240" y="3397320"/>
              <a:chExt cx="1856520" cy="1191240"/>
            </a:xfrm>
          </p:grpSpPr>
          <p:sp>
            <p:nvSpPr>
              <p:cNvPr id="896" name="Text Box 24"/>
              <p:cNvSpPr/>
              <p:nvPr/>
            </p:nvSpPr>
            <p:spPr>
              <a:xfrm>
                <a:off x="2532240" y="3397320"/>
                <a:ext cx="1828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otal number of valence electrons in the free ato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Text Box 35"/>
              <p:cNvSpPr/>
              <p:nvPr/>
            </p:nvSpPr>
            <p:spPr>
              <a:xfrm>
                <a:off x="4077000" y="3762360"/>
                <a:ext cx="31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8" name="Group 39"/>
            <p:cNvGrpSpPr/>
            <p:nvPr/>
          </p:nvGrpSpPr>
          <p:grpSpPr>
            <a:xfrm>
              <a:off x="4437360" y="3549600"/>
              <a:ext cx="2096280" cy="916920"/>
              <a:chOff x="4437360" y="3549600"/>
              <a:chExt cx="2096280" cy="916920"/>
            </a:xfrm>
          </p:grpSpPr>
          <p:sp>
            <p:nvSpPr>
              <p:cNvPr id="899" name="Text Box 25"/>
              <p:cNvSpPr/>
              <p:nvPr/>
            </p:nvSpPr>
            <p:spPr>
              <a:xfrm>
                <a:off x="4437360" y="3549600"/>
                <a:ext cx="18284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otal number of nonbonding electron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Text Box 36"/>
              <p:cNvSpPr/>
              <p:nvPr/>
            </p:nvSpPr>
            <p:spPr>
              <a:xfrm>
                <a:off x="6221880" y="3762360"/>
                <a:ext cx="31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1" name=""/>
          <p:cNvSpPr/>
          <p:nvPr/>
        </p:nvSpPr>
        <p:spPr>
          <a:xfrm>
            <a:off x="179280" y="3357720"/>
            <a:ext cx="8785440" cy="12952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1523880" y="1397160"/>
                <a:ext cx="609624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03" name=""/>
          <p:cNvSpPr/>
          <p:nvPr/>
        </p:nvSpPr>
        <p:spPr>
          <a:xfrm>
            <a:off x="590400" y="5013360"/>
            <a:ext cx="822960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um of the formal charges of the atoms in a molecule or ion must equal the charge on the molecule or 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D24D6-A16F-4767-9A09-4D6F21F6FB0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395280" y="404640"/>
            <a:ext cx="7777080" cy="57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zone molecule 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ewis 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mal Charg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708360" y="119700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 – O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068720" y="112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284720" y="112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635280" y="1557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635280" y="1773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211640" y="220680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995640" y="2206800"/>
            <a:ext cx="1447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724360" y="1197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940360" y="1197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7451640" y="1197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7669080" y="1197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7308720" y="2205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7524720" y="2205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68360" y="2708280"/>
            <a:ext cx="3456000" cy="1150920"/>
          </a:xfrm>
          <a:prstGeom prst="wedgeRectCallout">
            <a:avLst>
              <a:gd name="adj1" fmla="val 49634"/>
              <a:gd name="adj2" fmla="val -9965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al charge = 6 – 6 –(½x2) =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556000" y="4005360"/>
            <a:ext cx="3456000" cy="1150920"/>
          </a:xfrm>
          <a:prstGeom prst="wedgeRectCallout">
            <a:avLst>
              <a:gd name="adj1" fmla="val 37324"/>
              <a:gd name="adj2" fmla="val -21331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al charge = 6 – 2 –(½x6) =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5651640" y="2781360"/>
            <a:ext cx="3456000" cy="1150920"/>
          </a:xfrm>
          <a:prstGeom prst="wedgeRectCallout">
            <a:avLst>
              <a:gd name="adj1" fmla="val 12287"/>
              <a:gd name="adj2" fmla="val -10406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al charge = 6 – 4 –(½x4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836720" y="558792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ar-SA" sz="7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197080" y="5516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413080" y="5516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763640" y="59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763640" y="6164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340000" y="6597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124000" y="6597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419640" y="558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635280" y="5587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5580000" y="558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5797440" y="5587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437080" y="6595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653080" y="659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42920" y="5805360"/>
            <a:ext cx="1260360" cy="648000"/>
          </a:xfrm>
          <a:prstGeom prst="rightArrow">
            <a:avLst>
              <a:gd name="adj1" fmla="val 50000"/>
              <a:gd name="adj2" fmla="val 4862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659640" y="4005360"/>
            <a:ext cx="2252520" cy="2692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um of the formal charges of the atoms in a molecule or ion must equal the charge on the molecule or 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-1 +1 = 0   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68E15-35D0-4EA7-9D96-0CFA59041C2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6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9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2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5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8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4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7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0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2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/>
          <p:nvPr/>
        </p:nvSpPr>
        <p:spPr>
          <a:xfrm>
            <a:off x="395280" y="333360"/>
            <a:ext cx="842472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Example 9.6 p38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Write the formal charges for the carbonate ion (CO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95280" y="198900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24000" y="206064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943280" y="48751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2843280" y="40831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745080" y="48751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2843280" y="48751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095640" y="45864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168720" y="45864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3384360" y="5162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2447640" y="5162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346560" y="4435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3346560" y="429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843280" y="429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2843280" y="4435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2122560" y="47959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266920" y="47959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1906560" y="5084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906560" y="5227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122560" y="5443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266920" y="5443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922560" y="4869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065480" y="4869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3922560" y="5443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4067280" y="54450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281480" y="50133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4282920" y="5157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690560" y="4078440"/>
            <a:ext cx="289080" cy="208728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280"/>
              <a:gd name="textAreaBottom" fmla="*/ 20005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rot="10800000">
            <a:off x="4282560" y="4078440"/>
            <a:ext cx="289080" cy="208728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280"/>
              <a:gd name="textAreaBottom" fmla="*/ 20005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427640" y="365112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179280" y="4581360"/>
            <a:ext cx="1366920" cy="1872000"/>
          </a:xfrm>
          <a:prstGeom prst="wedgeRectCallout">
            <a:avLst>
              <a:gd name="adj1" fmla="val 74504"/>
              <a:gd name="adj2" fmla="val -1446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075280" y="4221000"/>
            <a:ext cx="1366920" cy="1872000"/>
          </a:xfrm>
          <a:prstGeom prst="wedgeRectCallout">
            <a:avLst>
              <a:gd name="adj1" fmla="val -101569"/>
              <a:gd name="adj2" fmla="val 979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780000" y="1844640"/>
            <a:ext cx="1366560" cy="1871640"/>
          </a:xfrm>
          <a:prstGeom prst="wedgeRectCallout">
            <a:avLst>
              <a:gd name="adj1" fmla="val -92740"/>
              <a:gd name="adj2" fmla="val 723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411280" y="6237360"/>
            <a:ext cx="2664000" cy="504720"/>
          </a:xfrm>
          <a:prstGeom prst="wedgeRectCallout">
            <a:avLst>
              <a:gd name="adj1" fmla="val -25504"/>
              <a:gd name="adj2" fmla="val -21698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– 0 –(½x8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8172360" y="28591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523280" y="25700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7596360" y="25700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7811640" y="3146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6875280" y="3146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773840" y="24192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7773840" y="227664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7270920" y="227664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270920" y="241920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550200" y="2779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694560" y="2779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334200" y="3068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33420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550200" y="342756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694560" y="34275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835020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849312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8350200" y="34275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8494560" y="34290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8709120" y="29973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8710560" y="3141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118200" y="2062080"/>
            <a:ext cx="289080" cy="208764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640"/>
              <a:gd name="textAreaBottom" fmla="*/ 20008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rot="10800000">
            <a:off x="8710200" y="2061720"/>
            <a:ext cx="289080" cy="208764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640"/>
              <a:gd name="textAreaBottom" fmla="*/ 20008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7270920" y="2060640"/>
            <a:ext cx="118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372360" y="28591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307280" y="285912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084720" y="249228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8675640" y="250020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732720" y="4149720"/>
            <a:ext cx="1368360" cy="792000"/>
          </a:xfrm>
          <a:custGeom>
            <a:avLst/>
            <a:gdLst>
              <a:gd name="textAreaLeft" fmla="*/ 456120 w 1368360"/>
              <a:gd name="textAreaRight" fmla="*/ 1172160 w 1368360"/>
              <a:gd name="textAreaTop" fmla="*/ 456120 h 792000"/>
              <a:gd name="textAreaBottom" fmla="*/ 678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516720" y="5084640"/>
            <a:ext cx="2556000" cy="1681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sum of the formal charges of the atoms in a molecule or ion must equal the charge on the molecule or 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-1 -1 = -2   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35D7B-C886-4E8F-836B-E42ADFCC69E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there is more than one possible structure for a molecule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Formal charg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elp to decide which structure is the correct one, by applying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ewis structure with no formal charges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favoura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wis structure with larger formal charges (+2, +3, -2, -3)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favoura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wis structures with smaller negative charges, the favourable is one in which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egative formal charges are on the more electronegative atom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116000" y="6308640"/>
            <a:ext cx="6696000" cy="505080"/>
          </a:xfrm>
          <a:prstGeom prst="rightArrow">
            <a:avLst>
              <a:gd name="adj1" fmla="val 50000"/>
              <a:gd name="adj2" fmla="val 33143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F317B-2C01-4F89-B824-0A1FF80F489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395280" y="374760"/>
            <a:ext cx="860436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</a:t>
            </a:r>
            <a:r>
              <a:rPr b="1" lang="ar-SA" sz="2400" spc="-1" strike="noStrike" u="sng">
                <a:solidFill>
                  <a:srgbClr val="cc3300"/>
                </a:solidFill>
                <a:uFillTx/>
                <a:latin typeface="Comic Sans MS"/>
              </a:rPr>
              <a:t> </a:t>
            </a: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 9.7 p385:</a:t>
            </a:r>
            <a:r>
              <a:rPr b="0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Draw the most likely Lewis structure for formaldehyde (CH</a:t>
            </a:r>
            <a:r>
              <a:rPr b="0" lang="en-GB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68360" y="184464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395280" y="1844640"/>
            <a:ext cx="842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wo possible structure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611280" y="335772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 – C = O - 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010200" y="328464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5219640" y="2924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5219640" y="37958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796000" y="3357720"/>
            <a:ext cx="288720" cy="14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5724360" y="3789360"/>
            <a:ext cx="28764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61928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76364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234000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48436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948360" y="32846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093080" y="32860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093080" y="3860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948360" y="386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79280" y="4076640"/>
            <a:ext cx="1366920" cy="1871640"/>
          </a:xfrm>
          <a:prstGeom prst="wedgeRectCallout">
            <a:avLst>
              <a:gd name="adj1" fmla="val 48953"/>
              <a:gd name="adj2" fmla="val -6179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012000" y="4149720"/>
            <a:ext cx="1366560" cy="1871640"/>
          </a:xfrm>
          <a:prstGeom prst="wedgeRectCallout">
            <a:avLst>
              <a:gd name="adj1" fmla="val -32462"/>
              <a:gd name="adj2" fmla="val -6475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835280" y="4076640"/>
            <a:ext cx="1366560" cy="1871640"/>
          </a:xfrm>
          <a:prstGeom prst="wedgeRectCallout">
            <a:avLst>
              <a:gd name="adj1" fmla="val -7143"/>
              <a:gd name="adj2" fmla="val -6068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7596360" y="3789360"/>
            <a:ext cx="1366560" cy="1871640"/>
          </a:xfrm>
          <a:prstGeom prst="wedgeRectCallout">
            <a:avLst>
              <a:gd name="adj1" fmla="val -76481"/>
              <a:gd name="adj2" fmla="val -5610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547640" y="2781360"/>
            <a:ext cx="6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2268360" y="2781360"/>
            <a:ext cx="6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79280" y="2924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4572000" y="299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79280" y="606276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Structure (b) has no formal charges → THUS: it is the most likely structure of formaldehy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AD99B-2281-479C-A863-5305C8A4A24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7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44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9 Chemical Bonding 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1 Lewis dot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2 The ionic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4 The covalent bo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5 Electronegativ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6  Writing Lewis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7 formal charge and Lewis struc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8 the concept of reson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9 the exception of octet r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79557-3BE7-4DAA-9149-7BE5B54D3B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9.8 The Concept of Resonance </a:t>
            </a:r>
            <a:r>
              <a:rPr b="1" lang="ar-SA" sz="3200" spc="-1" strike="noStrike" u="sng">
                <a:solidFill>
                  <a:srgbClr val="00007d"/>
                </a:solidFill>
                <a:uFillTx/>
                <a:latin typeface="Comic Sans MS"/>
              </a:rPr>
              <a:t>الرن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055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ample 1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Lewis structure of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468360" y="245592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ar-SA" sz="7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828720" y="2384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1044720" y="2384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395280" y="281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95280" y="303228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971640" y="346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755640" y="346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050920" y="2455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266920" y="245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211640" y="245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429080" y="245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4068720" y="3463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4284720" y="3463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96720" y="511956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=O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- O 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757080" y="50482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97308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427640" y="55180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4427640" y="57340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900000" y="6129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84360" y="612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97964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19564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14036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435780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3997440" y="612792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4213080" y="6127920"/>
            <a:ext cx="1447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2124000" y="3951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219640" y="2316240"/>
            <a:ext cx="39243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nd length of O-O &gt; O=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: experiments showed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wo bonds are of equal l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: both structures represents the same molecule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610BE-AC51-48A0-A3E9-1757E50B988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4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7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0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2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5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4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7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1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4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3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6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9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5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8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9.8 The Concept of Reso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wis structure of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68360" y="223992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ar-SA" sz="7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828720" y="216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044720" y="216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95280" y="2600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95280" y="281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971640" y="3249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55640" y="3249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2050920" y="2239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2266920" y="2239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4211640" y="2239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4429080" y="2239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4068720" y="324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284720" y="324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96720" y="504828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=O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- O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757080" y="49766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973080" y="4976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24000" y="540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24000" y="5624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900000" y="6058080"/>
            <a:ext cx="1447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684360" y="605808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97964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19564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14036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435780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997440" y="605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213080" y="60562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2916360" y="3716280"/>
            <a:ext cx="608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Resonance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rot="5400000">
            <a:off x="2086920" y="3823920"/>
            <a:ext cx="1224000" cy="576360"/>
          </a:xfrm>
          <a:prstGeom prst="leftRightArrow">
            <a:avLst>
              <a:gd name="adj1" fmla="val 50000"/>
              <a:gd name="adj2" fmla="val 4227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88289-0524-405E-A56A-697056A2FD6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2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9.8 The Concept of Reso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Resonanc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eans the use of two or more Lewis structures to represent a particular 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hat are the resonance structures of the carbonate 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(CO</a:t>
            </a:r>
            <a:r>
              <a:rPr b="0" lang="en-GB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GB" sz="24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hat are the resonance structures of benzene molecule (C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610000" y="362412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5772240" y="362412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325080" y="2709720"/>
            <a:ext cx="2448000" cy="1475640"/>
            <a:chOff x="325080" y="2709720"/>
            <a:chExt cx="2448000" cy="1475640"/>
          </a:xfrm>
        </p:grpSpPr>
        <p:grpSp>
          <p:nvGrpSpPr>
            <p:cNvPr id="1093" name=""/>
            <p:cNvGrpSpPr/>
            <p:nvPr/>
          </p:nvGrpSpPr>
          <p:grpSpPr>
            <a:xfrm>
              <a:off x="514080" y="2887560"/>
              <a:ext cx="2044080" cy="1297800"/>
              <a:chOff x="514080" y="2887560"/>
              <a:chExt cx="2044080" cy="1297800"/>
            </a:xfrm>
          </p:grpSpPr>
          <p:grpSp>
            <p:nvGrpSpPr>
              <p:cNvPr id="1094" name=""/>
              <p:cNvGrpSpPr/>
              <p:nvPr/>
            </p:nvGrpSpPr>
            <p:grpSpPr>
              <a:xfrm>
                <a:off x="525600" y="2912760"/>
                <a:ext cx="2018160" cy="1272600"/>
                <a:chOff x="525600" y="2912760"/>
                <a:chExt cx="2018160" cy="127260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52560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1324800" y="291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212544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1314360" y="3725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9" name=""/>
              <p:cNvSpPr/>
              <p:nvPr/>
            </p:nvSpPr>
            <p:spPr>
              <a:xfrm>
                <a:off x="874080" y="313992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712160" y="313992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flipV="1">
                <a:off x="148356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2" name=""/>
              <p:cNvGrpSpPr/>
              <p:nvPr/>
            </p:nvGrpSpPr>
            <p:grpSpPr>
              <a:xfrm>
                <a:off x="2228400" y="2887560"/>
                <a:ext cx="227880" cy="76320"/>
                <a:chOff x="2228400" y="2887560"/>
                <a:chExt cx="227880" cy="76320"/>
              </a:xfrm>
            </p:grpSpPr>
            <p:sp>
              <p:nvSpPr>
                <p:cNvPr id="1103" name=""/>
                <p:cNvSpPr/>
                <p:nvPr/>
              </p:nvSpPr>
              <p:spPr>
                <a:xfrm rot="5400000">
                  <a:off x="237996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 rot="5400000">
                  <a:off x="222804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5" name=""/>
              <p:cNvGrpSpPr/>
              <p:nvPr/>
            </p:nvGrpSpPr>
            <p:grpSpPr>
              <a:xfrm>
                <a:off x="2482200" y="3027240"/>
                <a:ext cx="75960" cy="228600"/>
                <a:chOff x="2482200" y="3027240"/>
                <a:chExt cx="75960" cy="228600"/>
              </a:xfrm>
            </p:grpSpPr>
            <p:sp>
              <p:nvSpPr>
                <p:cNvPr id="1106" name=""/>
                <p:cNvSpPr/>
                <p:nvPr/>
              </p:nvSpPr>
              <p:spPr>
                <a:xfrm>
                  <a:off x="2482200" y="30272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2482200" y="31798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8" name=""/>
              <p:cNvGrpSpPr/>
              <p:nvPr/>
            </p:nvGrpSpPr>
            <p:grpSpPr>
              <a:xfrm>
                <a:off x="2228400" y="3306600"/>
                <a:ext cx="227880" cy="76320"/>
                <a:chOff x="2228400" y="3306600"/>
                <a:chExt cx="227880" cy="76320"/>
              </a:xfrm>
            </p:grpSpPr>
            <p:sp>
              <p:nvSpPr>
                <p:cNvPr id="1109" name=""/>
                <p:cNvSpPr/>
                <p:nvPr/>
              </p:nvSpPr>
              <p:spPr>
                <a:xfrm rot="5400000">
                  <a:off x="237996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 rot="5400000">
                  <a:off x="222804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1" name=""/>
              <p:cNvGrpSpPr/>
              <p:nvPr/>
            </p:nvGrpSpPr>
            <p:grpSpPr>
              <a:xfrm>
                <a:off x="1288440" y="3840120"/>
                <a:ext cx="75600" cy="228600"/>
                <a:chOff x="1288440" y="3840120"/>
                <a:chExt cx="75600" cy="228600"/>
              </a:xfrm>
            </p:grpSpPr>
            <p:sp>
              <p:nvSpPr>
                <p:cNvPr id="1112" name=""/>
                <p:cNvSpPr/>
                <p:nvPr/>
              </p:nvSpPr>
              <p:spPr>
                <a:xfrm>
                  <a:off x="1288440" y="384012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1288440" y="399276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4" name=""/>
              <p:cNvGrpSpPr/>
              <p:nvPr/>
            </p:nvGrpSpPr>
            <p:grpSpPr>
              <a:xfrm>
                <a:off x="1669320" y="3840120"/>
                <a:ext cx="75960" cy="228600"/>
                <a:chOff x="1669320" y="3840120"/>
                <a:chExt cx="75960" cy="228600"/>
              </a:xfrm>
            </p:grpSpPr>
            <p:sp>
              <p:nvSpPr>
                <p:cNvPr id="1115" name=""/>
                <p:cNvSpPr/>
                <p:nvPr/>
              </p:nvSpPr>
              <p:spPr>
                <a:xfrm>
                  <a:off x="1669320" y="3840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1669320" y="39927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7" name=""/>
              <p:cNvGrpSpPr/>
              <p:nvPr/>
            </p:nvGrpSpPr>
            <p:grpSpPr>
              <a:xfrm>
                <a:off x="602640" y="2887560"/>
                <a:ext cx="227880" cy="76320"/>
                <a:chOff x="602640" y="2887560"/>
                <a:chExt cx="227880" cy="76320"/>
              </a:xfrm>
            </p:grpSpPr>
            <p:sp>
              <p:nvSpPr>
                <p:cNvPr id="1118" name=""/>
                <p:cNvSpPr/>
                <p:nvPr/>
              </p:nvSpPr>
              <p:spPr>
                <a:xfrm flipH="1" rot="16200000">
                  <a:off x="6019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 flipH="1" rot="16200000">
                  <a:off x="75456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0" name=""/>
              <p:cNvGrpSpPr/>
              <p:nvPr/>
            </p:nvGrpSpPr>
            <p:grpSpPr>
              <a:xfrm>
                <a:off x="514080" y="3026880"/>
                <a:ext cx="75600" cy="228600"/>
                <a:chOff x="514080" y="3026880"/>
                <a:chExt cx="75600" cy="228600"/>
              </a:xfrm>
            </p:grpSpPr>
            <p:sp>
              <p:nvSpPr>
                <p:cNvPr id="1121" name=""/>
                <p:cNvSpPr/>
                <p:nvPr/>
              </p:nvSpPr>
              <p:spPr>
                <a:xfrm flipH="1" rot="10800000">
                  <a:off x="514080" y="317916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 flipH="1" rot="10800000">
                  <a:off x="514080" y="302688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3" name=""/>
              <p:cNvGrpSpPr/>
              <p:nvPr/>
            </p:nvGrpSpPr>
            <p:grpSpPr>
              <a:xfrm>
                <a:off x="602640" y="3306600"/>
                <a:ext cx="227880" cy="76320"/>
                <a:chOff x="602640" y="3306600"/>
                <a:chExt cx="227880" cy="76320"/>
              </a:xfrm>
            </p:grpSpPr>
            <p:sp>
              <p:nvSpPr>
                <p:cNvPr id="1124" name=""/>
                <p:cNvSpPr/>
                <p:nvPr/>
              </p:nvSpPr>
              <p:spPr>
                <a:xfrm flipH="1" rot="16200000">
                  <a:off x="6019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 flipH="1" rot="16200000">
                  <a:off x="75456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6" name=""/>
              <p:cNvSpPr/>
              <p:nvPr/>
            </p:nvSpPr>
            <p:spPr>
              <a:xfrm flipV="1">
                <a:off x="155520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7" name=""/>
            <p:cNvSpPr/>
            <p:nvPr/>
          </p:nvSpPr>
          <p:spPr>
            <a:xfrm>
              <a:off x="32508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49012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3688920" y="2709720"/>
            <a:ext cx="2233800" cy="1653480"/>
            <a:chOff x="3688920" y="2709720"/>
            <a:chExt cx="2233800" cy="1653480"/>
          </a:xfrm>
        </p:grpSpPr>
        <p:grpSp>
          <p:nvGrpSpPr>
            <p:cNvPr id="1130" name=""/>
            <p:cNvGrpSpPr/>
            <p:nvPr/>
          </p:nvGrpSpPr>
          <p:grpSpPr>
            <a:xfrm>
              <a:off x="3688920" y="2887560"/>
              <a:ext cx="2031840" cy="1297800"/>
              <a:chOff x="3688920" y="2887560"/>
              <a:chExt cx="2031840" cy="1297800"/>
            </a:xfrm>
          </p:grpSpPr>
          <p:grpSp>
            <p:nvGrpSpPr>
              <p:cNvPr id="1131" name=""/>
              <p:cNvGrpSpPr/>
              <p:nvPr/>
            </p:nvGrpSpPr>
            <p:grpSpPr>
              <a:xfrm>
                <a:off x="4565880" y="4093920"/>
                <a:ext cx="227880" cy="76320"/>
                <a:chOff x="4565880" y="4093920"/>
                <a:chExt cx="227880" cy="76320"/>
              </a:xfrm>
            </p:grpSpPr>
            <p:sp>
              <p:nvSpPr>
                <p:cNvPr id="1132" name=""/>
                <p:cNvSpPr/>
                <p:nvPr/>
              </p:nvSpPr>
              <p:spPr>
                <a:xfrm rot="5400000">
                  <a:off x="4717440" y="4093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rot="5400000">
                  <a:off x="4565520" y="409428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3688920" y="2912760"/>
                <a:ext cx="2018520" cy="1272600"/>
                <a:chOff x="3688920" y="2912760"/>
                <a:chExt cx="2018520" cy="12726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368892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488480" y="291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528912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4477680" y="3725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"/>
              <p:cNvSpPr/>
              <p:nvPr/>
            </p:nvSpPr>
            <p:spPr>
              <a:xfrm>
                <a:off x="4037040" y="311436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4875120" y="313992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flipV="1">
                <a:off x="469728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2" name=""/>
              <p:cNvGrpSpPr/>
              <p:nvPr/>
            </p:nvGrpSpPr>
            <p:grpSpPr>
              <a:xfrm>
                <a:off x="5391360" y="2887560"/>
                <a:ext cx="227880" cy="76320"/>
                <a:chOff x="5391360" y="2887560"/>
                <a:chExt cx="227880" cy="76320"/>
              </a:xfrm>
            </p:grpSpPr>
            <p:sp>
              <p:nvSpPr>
                <p:cNvPr id="1143" name=""/>
                <p:cNvSpPr/>
                <p:nvPr/>
              </p:nvSpPr>
              <p:spPr>
                <a:xfrm rot="5400000">
                  <a:off x="55429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 rot="5400000">
                  <a:off x="539100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5645160" y="3027240"/>
                <a:ext cx="75600" cy="228600"/>
                <a:chOff x="5645160" y="3027240"/>
                <a:chExt cx="75600" cy="22860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5645160" y="302724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5645160" y="317988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8" name=""/>
              <p:cNvGrpSpPr/>
              <p:nvPr/>
            </p:nvGrpSpPr>
            <p:grpSpPr>
              <a:xfrm>
                <a:off x="5391360" y="3306600"/>
                <a:ext cx="227880" cy="76320"/>
                <a:chOff x="5391360" y="3306600"/>
                <a:chExt cx="227880" cy="76320"/>
              </a:xfrm>
            </p:grpSpPr>
            <p:sp>
              <p:nvSpPr>
                <p:cNvPr id="1149" name=""/>
                <p:cNvSpPr/>
                <p:nvPr/>
              </p:nvSpPr>
              <p:spPr>
                <a:xfrm rot="5400000">
                  <a:off x="55429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 rot="5400000">
                  <a:off x="539100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4451040" y="3840120"/>
                <a:ext cx="75960" cy="228600"/>
                <a:chOff x="4451040" y="3840120"/>
                <a:chExt cx="75960" cy="22860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4451040" y="3840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4451040" y="39927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4" name=""/>
              <p:cNvGrpSpPr/>
              <p:nvPr/>
            </p:nvGrpSpPr>
            <p:grpSpPr>
              <a:xfrm>
                <a:off x="4832280" y="3840120"/>
                <a:ext cx="75600" cy="228600"/>
                <a:chOff x="4832280" y="3840120"/>
                <a:chExt cx="75600" cy="22860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4832280" y="384012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4832280" y="399276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7" name=""/>
              <p:cNvGrpSpPr/>
              <p:nvPr/>
            </p:nvGrpSpPr>
            <p:grpSpPr>
              <a:xfrm>
                <a:off x="3765240" y="2887560"/>
                <a:ext cx="227880" cy="76320"/>
                <a:chOff x="3765240" y="2887560"/>
                <a:chExt cx="227880" cy="76320"/>
              </a:xfrm>
            </p:grpSpPr>
            <p:sp>
              <p:nvSpPr>
                <p:cNvPr id="1158" name=""/>
                <p:cNvSpPr/>
                <p:nvPr/>
              </p:nvSpPr>
              <p:spPr>
                <a:xfrm flipH="1" rot="16200000">
                  <a:off x="37645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flipH="1" rot="16200000">
                  <a:off x="391716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0" name=""/>
              <p:cNvGrpSpPr/>
              <p:nvPr/>
            </p:nvGrpSpPr>
            <p:grpSpPr>
              <a:xfrm>
                <a:off x="3765240" y="3306600"/>
                <a:ext cx="227880" cy="76320"/>
                <a:chOff x="3765240" y="3306600"/>
                <a:chExt cx="227880" cy="76320"/>
              </a:xfrm>
            </p:grpSpPr>
            <p:sp>
              <p:nvSpPr>
                <p:cNvPr id="1161" name=""/>
                <p:cNvSpPr/>
                <p:nvPr/>
              </p:nvSpPr>
              <p:spPr>
                <a:xfrm flipH="1" rot="16200000">
                  <a:off x="37645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 flipH="1" rot="16200000">
                  <a:off x="391716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3" name=""/>
              <p:cNvSpPr/>
              <p:nvPr/>
            </p:nvSpPr>
            <p:spPr>
              <a:xfrm>
                <a:off x="4044960" y="319248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4" name=""/>
            <p:cNvSpPr/>
            <p:nvPr/>
          </p:nvSpPr>
          <p:spPr>
            <a:xfrm>
              <a:off x="563976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795200" y="3903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6605280" y="2709720"/>
            <a:ext cx="2213280" cy="1653480"/>
            <a:chOff x="6605280" y="2709720"/>
            <a:chExt cx="2213280" cy="1653480"/>
          </a:xfrm>
        </p:grpSpPr>
        <p:grpSp>
          <p:nvGrpSpPr>
            <p:cNvPr id="1167" name=""/>
            <p:cNvGrpSpPr/>
            <p:nvPr/>
          </p:nvGrpSpPr>
          <p:grpSpPr>
            <a:xfrm>
              <a:off x="6786000" y="2887560"/>
              <a:ext cx="2032560" cy="1297800"/>
              <a:chOff x="6786000" y="2887560"/>
              <a:chExt cx="2032560" cy="1297800"/>
            </a:xfrm>
          </p:grpSpPr>
          <p:grpSp>
            <p:nvGrpSpPr>
              <p:cNvPr id="1168" name=""/>
              <p:cNvGrpSpPr/>
              <p:nvPr/>
            </p:nvGrpSpPr>
            <p:grpSpPr>
              <a:xfrm>
                <a:off x="7713360" y="4093920"/>
                <a:ext cx="228600" cy="76320"/>
                <a:chOff x="7713360" y="4093920"/>
                <a:chExt cx="228600" cy="76320"/>
              </a:xfrm>
            </p:grpSpPr>
            <p:sp>
              <p:nvSpPr>
                <p:cNvPr id="1169" name=""/>
                <p:cNvSpPr/>
                <p:nvPr/>
              </p:nvSpPr>
              <p:spPr>
                <a:xfrm flipH="1" rot="16200000">
                  <a:off x="7713360" y="40939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 flipH="1" rot="16200000">
                  <a:off x="7865280" y="4093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"/>
              <p:cNvGrpSpPr/>
              <p:nvPr/>
            </p:nvGrpSpPr>
            <p:grpSpPr>
              <a:xfrm>
                <a:off x="6800040" y="2912760"/>
                <a:ext cx="2018520" cy="1272600"/>
                <a:chOff x="6800040" y="2912760"/>
                <a:chExt cx="2018520" cy="1272600"/>
              </a:xfrm>
            </p:grpSpPr>
            <p:sp>
              <p:nvSpPr>
                <p:cNvPr id="1172" name=""/>
                <p:cNvSpPr/>
                <p:nvPr/>
              </p:nvSpPr>
              <p:spPr>
                <a:xfrm flipH="1">
                  <a:off x="840024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 flipH="1">
                  <a:off x="7618680" y="291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 flipH="1">
                  <a:off x="680004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 flipH="1">
                  <a:off x="7611480" y="3725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6" name=""/>
              <p:cNvSpPr/>
              <p:nvPr/>
            </p:nvSpPr>
            <p:spPr>
              <a:xfrm flipH="1">
                <a:off x="8012880" y="31143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H="1">
                <a:off x="7174800" y="313992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flipV="1">
                <a:off x="780984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9" name=""/>
              <p:cNvGrpSpPr/>
              <p:nvPr/>
            </p:nvGrpSpPr>
            <p:grpSpPr>
              <a:xfrm>
                <a:off x="6887880" y="2887560"/>
                <a:ext cx="228600" cy="76320"/>
                <a:chOff x="6887880" y="2887560"/>
                <a:chExt cx="228600" cy="76320"/>
              </a:xfrm>
            </p:grpSpPr>
            <p:sp>
              <p:nvSpPr>
                <p:cNvPr id="1180" name=""/>
                <p:cNvSpPr/>
                <p:nvPr/>
              </p:nvSpPr>
              <p:spPr>
                <a:xfrm flipH="1" rot="16200000">
                  <a:off x="6887880" y="2887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 flipH="1" rot="16200000">
                  <a:off x="703980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2" name=""/>
              <p:cNvGrpSpPr/>
              <p:nvPr/>
            </p:nvGrpSpPr>
            <p:grpSpPr>
              <a:xfrm>
                <a:off x="6786000" y="3027240"/>
                <a:ext cx="75960" cy="228600"/>
                <a:chOff x="6786000" y="3027240"/>
                <a:chExt cx="75960" cy="228600"/>
              </a:xfrm>
            </p:grpSpPr>
            <p:sp>
              <p:nvSpPr>
                <p:cNvPr id="1183" name=""/>
                <p:cNvSpPr/>
                <p:nvPr/>
              </p:nvSpPr>
              <p:spPr>
                <a:xfrm flipH="1">
                  <a:off x="6785640" y="30272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 flipH="1">
                  <a:off x="6785640" y="31798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5" name=""/>
              <p:cNvGrpSpPr/>
              <p:nvPr/>
            </p:nvGrpSpPr>
            <p:grpSpPr>
              <a:xfrm>
                <a:off x="6887880" y="3306600"/>
                <a:ext cx="228600" cy="76320"/>
                <a:chOff x="6887880" y="3306600"/>
                <a:chExt cx="228600" cy="76320"/>
              </a:xfrm>
            </p:grpSpPr>
            <p:sp>
              <p:nvSpPr>
                <p:cNvPr id="1186" name=""/>
                <p:cNvSpPr/>
                <p:nvPr/>
              </p:nvSpPr>
              <p:spPr>
                <a:xfrm flipH="1" rot="16200000">
                  <a:off x="6887880" y="3306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 flipH="1" rot="16200000">
                  <a:off x="703980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8" name=""/>
              <p:cNvGrpSpPr/>
              <p:nvPr/>
            </p:nvGrpSpPr>
            <p:grpSpPr>
              <a:xfrm>
                <a:off x="7979760" y="3840120"/>
                <a:ext cx="76320" cy="228600"/>
                <a:chOff x="7979760" y="3840120"/>
                <a:chExt cx="76320" cy="228600"/>
              </a:xfrm>
            </p:grpSpPr>
            <p:sp>
              <p:nvSpPr>
                <p:cNvPr id="1189" name=""/>
                <p:cNvSpPr/>
                <p:nvPr/>
              </p:nvSpPr>
              <p:spPr>
                <a:xfrm flipH="1">
                  <a:off x="7979760" y="38401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 flipH="1">
                  <a:off x="7979760" y="39927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"/>
              <p:cNvGrpSpPr/>
              <p:nvPr/>
            </p:nvGrpSpPr>
            <p:grpSpPr>
              <a:xfrm>
                <a:off x="7598880" y="3840120"/>
                <a:ext cx="75960" cy="228600"/>
                <a:chOff x="7598880" y="3840120"/>
                <a:chExt cx="75960" cy="228600"/>
              </a:xfrm>
            </p:grpSpPr>
            <p:sp>
              <p:nvSpPr>
                <p:cNvPr id="1192" name=""/>
                <p:cNvSpPr/>
                <p:nvPr/>
              </p:nvSpPr>
              <p:spPr>
                <a:xfrm flipH="1">
                  <a:off x="7598520" y="3840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 flipH="1">
                  <a:off x="7598520" y="39927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"/>
              <p:cNvGrpSpPr/>
              <p:nvPr/>
            </p:nvGrpSpPr>
            <p:grpSpPr>
              <a:xfrm>
                <a:off x="8513280" y="2887560"/>
                <a:ext cx="228600" cy="76320"/>
                <a:chOff x="8513280" y="2887560"/>
                <a:chExt cx="228600" cy="76320"/>
              </a:xfrm>
            </p:grpSpPr>
            <p:sp>
              <p:nvSpPr>
                <p:cNvPr id="1195" name=""/>
                <p:cNvSpPr/>
                <p:nvPr/>
              </p:nvSpPr>
              <p:spPr>
                <a:xfrm rot="5400000">
                  <a:off x="8665560" y="2887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 rot="5400000">
                  <a:off x="85129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"/>
              <p:cNvGrpSpPr/>
              <p:nvPr/>
            </p:nvGrpSpPr>
            <p:grpSpPr>
              <a:xfrm>
                <a:off x="8513280" y="3306600"/>
                <a:ext cx="228600" cy="76320"/>
                <a:chOff x="8513280" y="3306600"/>
                <a:chExt cx="228600" cy="76320"/>
              </a:xfrm>
            </p:grpSpPr>
            <p:sp>
              <p:nvSpPr>
                <p:cNvPr id="1198" name=""/>
                <p:cNvSpPr/>
                <p:nvPr/>
              </p:nvSpPr>
              <p:spPr>
                <a:xfrm rot="5400000">
                  <a:off x="8665560" y="3306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 rot="5400000">
                  <a:off x="85129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0" name=""/>
              <p:cNvSpPr/>
              <p:nvPr/>
            </p:nvSpPr>
            <p:spPr>
              <a:xfrm flipH="1">
                <a:off x="8004960" y="31924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1" name=""/>
            <p:cNvSpPr/>
            <p:nvPr/>
          </p:nvSpPr>
          <p:spPr>
            <a:xfrm>
              <a:off x="660528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938720" y="3903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3" name=""/>
          <p:cNvSpPr/>
          <p:nvPr/>
        </p:nvSpPr>
        <p:spPr>
          <a:xfrm>
            <a:off x="250920" y="2637000"/>
            <a:ext cx="8713800" cy="16556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4" name="Picture 5" descr="370px-Benzene-resonance-structures"/>
          <p:cNvPicPr/>
          <p:nvPr/>
        </p:nvPicPr>
        <p:blipFill>
          <a:blip r:embed="rId1"/>
          <a:srcRect l="0" t="0" r="0" b="47098"/>
          <a:stretch/>
        </p:blipFill>
        <p:spPr>
          <a:xfrm>
            <a:off x="3924360" y="4797360"/>
            <a:ext cx="4248000" cy="1792440"/>
          </a:xfrm>
          <a:prstGeom prst="rect">
            <a:avLst/>
          </a:prstGeom>
          <a:ln w="0">
            <a:noFill/>
          </a:ln>
        </p:spPr>
      </p:pic>
      <p:sp>
        <p:nvSpPr>
          <p:cNvPr id="1205" name=""/>
          <p:cNvSpPr/>
          <p:nvPr/>
        </p:nvSpPr>
        <p:spPr>
          <a:xfrm>
            <a:off x="3564000" y="4797360"/>
            <a:ext cx="5040360" cy="18716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A508F-94CD-4E69-B2A0-74D1DA7B9AA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/>
          <p:nvPr/>
        </p:nvSpPr>
        <p:spPr>
          <a:xfrm>
            <a:off x="395280" y="333360"/>
            <a:ext cx="835200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8 p388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Draw three resonance structures for the molecule nitrous oxide, N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O (the atomic arrangement is NNO). Indicate formal charges. Rank the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250920" y="206064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324000" y="20350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66560" y="2708280"/>
            <a:ext cx="25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= N =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3419640" y="2708280"/>
            <a:ext cx="23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  N  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611280" y="2637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754200" y="263700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754200" y="3211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61128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219384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2338560" y="270828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2338560" y="3211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219384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250920" y="2421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1332000" y="2421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392436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3924360" y="2924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924360" y="3068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57200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3419640" y="285264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419640" y="299736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00364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14836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521964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219640" y="29973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493236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07672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4211640" y="234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5219640" y="23493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515280" y="2708280"/>
            <a:ext cx="23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  N  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702000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669080" y="2924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7667640" y="3068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766764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515280" y="285264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6515280" y="299736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65964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680400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831528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8315280" y="29973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6732720" y="3211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687708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7307280" y="234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6156360" y="246708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7956720" y="234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1114560" y="350028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4067280" y="349740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7236000" y="342900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108000" y="4149720"/>
            <a:ext cx="8964720" cy="224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 structures show formal 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tructure (b) is the most important, because the –ve charge is on the more electronegative oxygen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tructure (c) is the least important one, because larger formal charge, also the +ve charge is on the more electronegative oxygen atom. </a:t>
            </a:r>
            <a:r>
              <a:rPr b="1" lang="en-GB" sz="2000" spc="-1" strike="noStrike">
                <a:solidFill>
                  <a:srgbClr val="cc3300"/>
                </a:solidFill>
                <a:latin typeface="Comic Sans MS"/>
              </a:rPr>
              <a:t>Arrangement of importance (b) &gt; (a) &gt; 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2698920" y="2924280"/>
            <a:ext cx="504720" cy="144360"/>
          </a:xfrm>
          <a:prstGeom prst="leftRightArrow">
            <a:avLst>
              <a:gd name="adj1" fmla="val 50000"/>
              <a:gd name="adj2" fmla="val 6960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724360" y="2924280"/>
            <a:ext cx="505080" cy="144360"/>
          </a:xfrm>
          <a:prstGeom prst="leftRightArrow">
            <a:avLst>
              <a:gd name="adj1" fmla="val 50000"/>
              <a:gd name="adj2" fmla="val 6965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9CE1B-B797-43F4-A32E-73521AA943C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9 Exceptions to the Octet R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complete oc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dd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than 8 valenc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7B8E1-4AA6-49CE-8615-840B46B3F59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1. Incomplete Octe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complete octet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number of electrons surrounding the central atom in stable molecule is less than 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BeH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Lewis structure is:       H –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Be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 –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Be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 is ONLY surrounded by </a:t>
            </a:r>
            <a:r>
              <a:rPr b="0" lang="en-US" sz="3200" spc="-1" strike="noStrike" u="sng">
                <a:solidFill>
                  <a:srgbClr val="9900cc"/>
                </a:solidFill>
                <a:uFillTx/>
                <a:latin typeface="Comic Sans MS"/>
              </a:rPr>
              <a:t>4 elect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3A (B &amp; Al); BF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Lewis structure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is ONLY surrounded by </a:t>
            </a:r>
            <a:r>
              <a:rPr b="0" lang="en-US" sz="3200" spc="-1" strike="noStrike" u="sng">
                <a:solidFill>
                  <a:srgbClr val="cc3300"/>
                </a:solidFill>
                <a:uFillTx/>
                <a:latin typeface="Comic Sans MS"/>
              </a:rPr>
              <a:t>6 e</a:t>
            </a:r>
            <a:r>
              <a:rPr b="0" lang="en-US" sz="3200" spc="-1" strike="noStrike" u="sng" baseline="30000">
                <a:solidFill>
                  <a:srgbClr val="cc3300"/>
                </a:solidFill>
                <a:uFillTx/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6012000" y="53006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–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-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6659640" y="601668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6875640" y="58039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6083280" y="530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6227640" y="530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6012000" y="544500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6012000" y="558972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608328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22764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7451640" y="530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7596360" y="5300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7738920" y="5445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7738920" y="5589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745164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596360" y="580536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6730920" y="65246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875640" y="65246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659640" y="623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665964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7020000" y="623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702000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54F95-E2BD-47B5-899C-65F298D74CD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"/>
          <p:cNvSpPr/>
          <p:nvPr/>
        </p:nvSpPr>
        <p:spPr>
          <a:xfrm>
            <a:off x="395280" y="404640"/>
            <a:ext cx="874872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3300"/>
                </a:solidFill>
                <a:uFillTx/>
                <a:latin typeface="Comic Sans MS"/>
              </a:rPr>
              <a:t>Example 9.9 p39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Draw the Lewis structure for aluminium triiodide (AlI</a:t>
            </a:r>
            <a:r>
              <a:rPr b="0" lang="en-GB" sz="2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395280" y="20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24000" y="2060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3346560" y="27082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– Al -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3994200" y="34243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4210200" y="32115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341784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56220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3346560" y="2852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3346560" y="299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3417840" y="3213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3562200" y="3213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478620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4930920" y="2708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5073480" y="2852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073480" y="299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4786200" y="3213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4930920" y="321300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4065480" y="3932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4210200" y="3932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3994200" y="3645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3994200" y="3789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4354560" y="3645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4354560" y="3789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539640" y="4653000"/>
            <a:ext cx="8064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l atom is surrounded by ONLY 6 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l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n example of incomplete oc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13C06-4525-4013-A1D9-4AEE5BE02A7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1" dur="indefinite" restart="never" nodeType="tmRoot">
          <p:childTnLst>
            <p:seq>
              <p:cTn id="1432" dur="indefinite" nodeType="mainSeq">
                <p:childTnLst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2. Odd-Electrons Molecu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dd-electrons molecules = RAD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adical: atom has one electron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xample: NO &amp;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wis structur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971640" y="385920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 = 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116000" y="378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332000" y="378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187280" y="4578480"/>
            <a:ext cx="289080" cy="2905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2195640" y="3789360"/>
            <a:ext cx="14580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2411280" y="3789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2195640" y="4578480"/>
            <a:ext cx="145800" cy="14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2411280" y="4578480"/>
            <a:ext cx="144720" cy="14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4861080" y="3859200"/>
            <a:ext cx="37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 = N</a:t>
            </a:r>
            <a:r>
              <a:rPr b="0" lang="ar-SA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- O</a:t>
            </a:r>
            <a:r>
              <a:rPr b="0" lang="ar-SA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5003640" y="378936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5221440" y="3789360"/>
            <a:ext cx="1425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5148360" y="4578480"/>
            <a:ext cx="144360" cy="14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6156360" y="3646440"/>
            <a:ext cx="287280" cy="2872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7451640" y="4506840"/>
            <a:ext cx="14292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7667640" y="378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4932360" y="4579920"/>
            <a:ext cx="1411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7670880" y="4506840"/>
            <a:ext cx="14112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7886880" y="4005360"/>
            <a:ext cx="1411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7886880" y="4219560"/>
            <a:ext cx="14112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7451640" y="3789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2556000" y="2205000"/>
            <a:ext cx="2160360" cy="7192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3708360" y="3645000"/>
            <a:ext cx="0" cy="2520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0DE30-21C8-4769-8157-14D0EFFC575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1" dur="indefinite" restart="never" nodeType="tmRoot">
          <p:childTnLst>
            <p:seq>
              <p:cTn id="1482" dur="indefinite" nodeType="mainSeq">
                <p:childTnLst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3. The Expanded Oct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 and beyond (4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6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7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) may form molecules in which the central atom is surrounded by more than 8 electrons (expanded oct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reason of this: is the presence of the d orbital that can be used in bond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ample: SF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ulphur is surrounded by 12 electron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panded Oc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429480" y="4726080"/>
            <a:ext cx="60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4" name=""/>
          <p:cNvGrpSpPr/>
          <p:nvPr/>
        </p:nvGrpSpPr>
        <p:grpSpPr>
          <a:xfrm>
            <a:off x="1676520" y="4359240"/>
            <a:ext cx="1523880" cy="1194480"/>
            <a:chOff x="1676520" y="4359240"/>
            <a:chExt cx="1523880" cy="1194480"/>
          </a:xfrm>
        </p:grpSpPr>
        <p:sp>
          <p:nvSpPr>
            <p:cNvPr id="1335" name=""/>
            <p:cNvSpPr/>
            <p:nvPr/>
          </p:nvSpPr>
          <p:spPr>
            <a:xfrm>
              <a:off x="2092320" y="4359240"/>
              <a:ext cx="106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 – 6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753200" y="4700520"/>
              <a:ext cx="14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F – 42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676520" y="511308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418480" y="5094000"/>
              <a:ext cx="75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4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3848040" y="3933720"/>
            <a:ext cx="1485360" cy="2028240"/>
            <a:chOff x="3848040" y="3933720"/>
            <a:chExt cx="1485360" cy="2028240"/>
          </a:xfrm>
        </p:grpSpPr>
        <p:grpSp>
          <p:nvGrpSpPr>
            <p:cNvPr id="1340" name=""/>
            <p:cNvGrpSpPr/>
            <p:nvPr/>
          </p:nvGrpSpPr>
          <p:grpSpPr>
            <a:xfrm>
              <a:off x="3886200" y="4289400"/>
              <a:ext cx="75960" cy="228600"/>
              <a:chOff x="3886200" y="4289400"/>
              <a:chExt cx="75960" cy="228600"/>
            </a:xfrm>
          </p:grpSpPr>
          <p:sp>
            <p:nvSpPr>
              <p:cNvPr id="1341" name=""/>
              <p:cNvSpPr/>
              <p:nvPr/>
            </p:nvSpPr>
            <p:spPr>
              <a:xfrm>
                <a:off x="388620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88620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3" name=""/>
            <p:cNvGrpSpPr/>
            <p:nvPr/>
          </p:nvGrpSpPr>
          <p:grpSpPr>
            <a:xfrm>
              <a:off x="3987360" y="4162320"/>
              <a:ext cx="228600" cy="76320"/>
              <a:chOff x="3987360" y="4162320"/>
              <a:chExt cx="228600" cy="76320"/>
            </a:xfrm>
          </p:grpSpPr>
          <p:sp>
            <p:nvSpPr>
              <p:cNvPr id="1344" name=""/>
              <p:cNvSpPr/>
              <p:nvPr/>
            </p:nvSpPr>
            <p:spPr>
              <a:xfrm rot="5400000">
                <a:off x="4139640" y="41623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rot="5400000">
                <a:off x="3987000" y="41623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6" name=""/>
            <p:cNvSpPr/>
            <p:nvPr/>
          </p:nvSpPr>
          <p:spPr>
            <a:xfrm>
              <a:off x="4412880" y="474012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899880" y="52736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926880" y="419400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980960" y="52736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414320" y="397836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968360" y="419400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414320" y="55022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V="1">
              <a:off x="4572000" y="43783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V="1">
              <a:off x="4572000" y="514044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>
              <a:off x="4711680" y="454356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V="1">
              <a:off x="4203720" y="515304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H="1" flipV="1">
              <a:off x="4176360" y="454356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 flipV="1">
              <a:off x="4735080" y="514044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9" name=""/>
            <p:cNvGrpSpPr/>
            <p:nvPr/>
          </p:nvGrpSpPr>
          <p:grpSpPr>
            <a:xfrm>
              <a:off x="4203720" y="4289400"/>
              <a:ext cx="75960" cy="228600"/>
              <a:chOff x="4203720" y="4289400"/>
              <a:chExt cx="75960" cy="228600"/>
            </a:xfrm>
          </p:grpSpPr>
          <p:sp>
            <p:nvSpPr>
              <p:cNvPr id="1360" name=""/>
              <p:cNvSpPr/>
              <p:nvPr/>
            </p:nvSpPr>
            <p:spPr>
              <a:xfrm>
                <a:off x="420372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20372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"/>
            <p:cNvGrpSpPr/>
            <p:nvPr/>
          </p:nvGrpSpPr>
          <p:grpSpPr>
            <a:xfrm>
              <a:off x="4381560" y="4060800"/>
              <a:ext cx="75960" cy="228600"/>
              <a:chOff x="4381560" y="4060800"/>
              <a:chExt cx="75960" cy="228600"/>
            </a:xfrm>
          </p:grpSpPr>
          <p:sp>
            <p:nvSpPr>
              <p:cNvPr id="1363" name=""/>
              <p:cNvSpPr/>
              <p:nvPr/>
            </p:nvSpPr>
            <p:spPr>
              <a:xfrm>
                <a:off x="4381560" y="40608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4381560" y="4213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5" name=""/>
            <p:cNvGrpSpPr/>
            <p:nvPr/>
          </p:nvGrpSpPr>
          <p:grpSpPr>
            <a:xfrm>
              <a:off x="4482720" y="3933720"/>
              <a:ext cx="228600" cy="76320"/>
              <a:chOff x="4482720" y="3933720"/>
              <a:chExt cx="228600" cy="76320"/>
            </a:xfrm>
          </p:grpSpPr>
          <p:sp>
            <p:nvSpPr>
              <p:cNvPr id="1366" name=""/>
              <p:cNvSpPr/>
              <p:nvPr/>
            </p:nvSpPr>
            <p:spPr>
              <a:xfrm rot="5400000">
                <a:off x="4635000" y="39337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rot="5400000">
                <a:off x="4482360" y="39337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4699080" y="4060800"/>
              <a:ext cx="75960" cy="228600"/>
              <a:chOff x="4699080" y="4060800"/>
              <a:chExt cx="75960" cy="228600"/>
            </a:xfrm>
          </p:grpSpPr>
          <p:sp>
            <p:nvSpPr>
              <p:cNvPr id="1369" name=""/>
              <p:cNvSpPr/>
              <p:nvPr/>
            </p:nvSpPr>
            <p:spPr>
              <a:xfrm>
                <a:off x="4699080" y="40608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699080" y="4213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"/>
            <p:cNvGrpSpPr/>
            <p:nvPr/>
          </p:nvGrpSpPr>
          <p:grpSpPr>
            <a:xfrm>
              <a:off x="4927680" y="4289400"/>
              <a:ext cx="75960" cy="228600"/>
              <a:chOff x="4927680" y="4289400"/>
              <a:chExt cx="75960" cy="228600"/>
            </a:xfrm>
          </p:grpSpPr>
          <p:sp>
            <p:nvSpPr>
              <p:cNvPr id="1372" name=""/>
              <p:cNvSpPr/>
              <p:nvPr/>
            </p:nvSpPr>
            <p:spPr>
              <a:xfrm>
                <a:off x="492768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92768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4" name=""/>
            <p:cNvGrpSpPr/>
            <p:nvPr/>
          </p:nvGrpSpPr>
          <p:grpSpPr>
            <a:xfrm>
              <a:off x="5028840" y="4162320"/>
              <a:ext cx="228600" cy="76320"/>
              <a:chOff x="5028840" y="4162320"/>
              <a:chExt cx="228600" cy="76320"/>
            </a:xfrm>
          </p:grpSpPr>
          <p:sp>
            <p:nvSpPr>
              <p:cNvPr id="1375" name=""/>
              <p:cNvSpPr/>
              <p:nvPr/>
            </p:nvSpPr>
            <p:spPr>
              <a:xfrm rot="5400000">
                <a:off x="5181120" y="41623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rot="5400000">
                <a:off x="5028480" y="41623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5245200" y="4289400"/>
              <a:ext cx="75960" cy="228600"/>
              <a:chOff x="5245200" y="4289400"/>
              <a:chExt cx="75960" cy="228600"/>
            </a:xfrm>
          </p:grpSpPr>
          <p:sp>
            <p:nvSpPr>
              <p:cNvPr id="1378" name=""/>
              <p:cNvSpPr/>
              <p:nvPr/>
            </p:nvSpPr>
            <p:spPr>
              <a:xfrm>
                <a:off x="524520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24520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0" name=""/>
            <p:cNvGrpSpPr/>
            <p:nvPr/>
          </p:nvGrpSpPr>
          <p:grpSpPr>
            <a:xfrm>
              <a:off x="3848040" y="5382000"/>
              <a:ext cx="393840" cy="355320"/>
              <a:chOff x="3848040" y="5382000"/>
              <a:chExt cx="393840" cy="355320"/>
            </a:xfrm>
          </p:grpSpPr>
          <p:grpSp>
            <p:nvGrpSpPr>
              <p:cNvPr id="1381" name=""/>
              <p:cNvGrpSpPr/>
              <p:nvPr/>
            </p:nvGrpSpPr>
            <p:grpSpPr>
              <a:xfrm>
                <a:off x="3848040" y="5382000"/>
                <a:ext cx="76320" cy="228600"/>
                <a:chOff x="3848040" y="5382000"/>
                <a:chExt cx="76320" cy="228600"/>
              </a:xfrm>
            </p:grpSpPr>
            <p:sp>
              <p:nvSpPr>
                <p:cNvPr id="1382" name=""/>
                <p:cNvSpPr/>
                <p:nvPr/>
              </p:nvSpPr>
              <p:spPr>
                <a:xfrm flipV="1">
                  <a:off x="3848040" y="5534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 flipV="1">
                  <a:off x="3848040" y="5381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4" name=""/>
              <p:cNvGrpSpPr/>
              <p:nvPr/>
            </p:nvGrpSpPr>
            <p:grpSpPr>
              <a:xfrm>
                <a:off x="3949560" y="5661360"/>
                <a:ext cx="228600" cy="75960"/>
                <a:chOff x="3949560" y="5661360"/>
                <a:chExt cx="228600" cy="75960"/>
              </a:xfrm>
            </p:grpSpPr>
            <p:sp>
              <p:nvSpPr>
                <p:cNvPr id="1385" name=""/>
                <p:cNvSpPr/>
                <p:nvPr/>
              </p:nvSpPr>
              <p:spPr>
                <a:xfrm flipV="1" rot="16200000">
                  <a:off x="4101840" y="56606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 flipV="1" rot="16200000">
                  <a:off x="3949560" y="56610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7" name=""/>
              <p:cNvGrpSpPr/>
              <p:nvPr/>
            </p:nvGrpSpPr>
            <p:grpSpPr>
              <a:xfrm>
                <a:off x="4165560" y="5382000"/>
                <a:ext cx="76320" cy="228600"/>
                <a:chOff x="4165560" y="5382000"/>
                <a:chExt cx="76320" cy="228600"/>
              </a:xfrm>
            </p:grpSpPr>
            <p:sp>
              <p:nvSpPr>
                <p:cNvPr id="1388" name=""/>
                <p:cNvSpPr/>
                <p:nvPr/>
              </p:nvSpPr>
              <p:spPr>
                <a:xfrm flipV="1">
                  <a:off x="4165560" y="5534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 flipV="1">
                  <a:off x="4165560" y="5381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0" name=""/>
            <p:cNvGrpSpPr/>
            <p:nvPr/>
          </p:nvGrpSpPr>
          <p:grpSpPr>
            <a:xfrm>
              <a:off x="4940280" y="5368680"/>
              <a:ext cx="393120" cy="355320"/>
              <a:chOff x="4940280" y="5368680"/>
              <a:chExt cx="393120" cy="355320"/>
            </a:xfrm>
          </p:grpSpPr>
          <p:grpSp>
            <p:nvGrpSpPr>
              <p:cNvPr id="1391" name=""/>
              <p:cNvGrpSpPr/>
              <p:nvPr/>
            </p:nvGrpSpPr>
            <p:grpSpPr>
              <a:xfrm>
                <a:off x="4940280" y="5368680"/>
                <a:ext cx="75960" cy="228600"/>
                <a:chOff x="4940280" y="5368680"/>
                <a:chExt cx="75960" cy="228600"/>
              </a:xfrm>
            </p:grpSpPr>
            <p:sp>
              <p:nvSpPr>
                <p:cNvPr id="1392" name=""/>
                <p:cNvSpPr/>
                <p:nvPr/>
              </p:nvSpPr>
              <p:spPr>
                <a:xfrm flipV="1">
                  <a:off x="4940280" y="55209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 flipV="1">
                  <a:off x="4940280" y="5368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4" name=""/>
              <p:cNvGrpSpPr/>
              <p:nvPr/>
            </p:nvGrpSpPr>
            <p:grpSpPr>
              <a:xfrm>
                <a:off x="5042160" y="5648040"/>
                <a:ext cx="227880" cy="75960"/>
                <a:chOff x="5042160" y="5648040"/>
                <a:chExt cx="227880" cy="75960"/>
              </a:xfrm>
            </p:grpSpPr>
            <p:sp>
              <p:nvSpPr>
                <p:cNvPr id="1395" name=""/>
                <p:cNvSpPr/>
                <p:nvPr/>
              </p:nvSpPr>
              <p:spPr>
                <a:xfrm flipV="1" rot="16200000">
                  <a:off x="5194080" y="56476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 flipV="1" rot="16200000">
                  <a:off x="5041800" y="564768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7" name=""/>
              <p:cNvGrpSpPr/>
              <p:nvPr/>
            </p:nvGrpSpPr>
            <p:grpSpPr>
              <a:xfrm>
                <a:off x="5257440" y="5368680"/>
                <a:ext cx="75960" cy="228600"/>
                <a:chOff x="5257440" y="5368680"/>
                <a:chExt cx="75960" cy="228600"/>
              </a:xfrm>
            </p:grpSpPr>
            <p:sp>
              <p:nvSpPr>
                <p:cNvPr id="1398" name=""/>
                <p:cNvSpPr/>
                <p:nvPr/>
              </p:nvSpPr>
              <p:spPr>
                <a:xfrm flipV="1">
                  <a:off x="5257440" y="55209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 flipV="1">
                  <a:off x="5257440" y="5368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0" name=""/>
            <p:cNvGrpSpPr/>
            <p:nvPr/>
          </p:nvGrpSpPr>
          <p:grpSpPr>
            <a:xfrm>
              <a:off x="4381560" y="5585040"/>
              <a:ext cx="393120" cy="355320"/>
              <a:chOff x="4381560" y="5585040"/>
              <a:chExt cx="393120" cy="355320"/>
            </a:xfrm>
          </p:grpSpPr>
          <p:grpSp>
            <p:nvGrpSpPr>
              <p:cNvPr id="1401" name=""/>
              <p:cNvGrpSpPr/>
              <p:nvPr/>
            </p:nvGrpSpPr>
            <p:grpSpPr>
              <a:xfrm>
                <a:off x="4381560" y="5585040"/>
                <a:ext cx="75960" cy="228600"/>
                <a:chOff x="4381560" y="5585040"/>
                <a:chExt cx="75960" cy="228600"/>
              </a:xfrm>
            </p:grpSpPr>
            <p:sp>
              <p:nvSpPr>
                <p:cNvPr id="1402" name=""/>
                <p:cNvSpPr/>
                <p:nvPr/>
              </p:nvSpPr>
              <p:spPr>
                <a:xfrm flipV="1">
                  <a:off x="4381560" y="57373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 flipV="1">
                  <a:off x="4381560" y="55846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4" name=""/>
              <p:cNvGrpSpPr/>
              <p:nvPr/>
            </p:nvGrpSpPr>
            <p:grpSpPr>
              <a:xfrm>
                <a:off x="4483440" y="5864400"/>
                <a:ext cx="227880" cy="75960"/>
                <a:chOff x="4483440" y="5864400"/>
                <a:chExt cx="227880" cy="75960"/>
              </a:xfrm>
            </p:grpSpPr>
            <p:sp>
              <p:nvSpPr>
                <p:cNvPr id="1405" name=""/>
                <p:cNvSpPr/>
                <p:nvPr/>
              </p:nvSpPr>
              <p:spPr>
                <a:xfrm flipV="1" rot="16200000">
                  <a:off x="4635360" y="58640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 flipV="1" rot="16200000">
                  <a:off x="4483080" y="586404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7" name=""/>
              <p:cNvGrpSpPr/>
              <p:nvPr/>
            </p:nvGrpSpPr>
            <p:grpSpPr>
              <a:xfrm>
                <a:off x="4698720" y="5585040"/>
                <a:ext cx="75960" cy="228600"/>
                <a:chOff x="4698720" y="5585040"/>
                <a:chExt cx="75960" cy="228600"/>
              </a:xfrm>
            </p:grpSpPr>
            <p:sp>
              <p:nvSpPr>
                <p:cNvPr id="1408" name=""/>
                <p:cNvSpPr/>
                <p:nvPr/>
              </p:nvSpPr>
              <p:spPr>
                <a:xfrm flipV="1">
                  <a:off x="4698720" y="57373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 flipV="1">
                  <a:off x="4698720" y="55846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10" name=""/>
          <p:cNvGrpSpPr/>
          <p:nvPr/>
        </p:nvGrpSpPr>
        <p:grpSpPr>
          <a:xfrm>
            <a:off x="5410080" y="4429080"/>
            <a:ext cx="3519720" cy="1049760"/>
            <a:chOff x="5410080" y="4429080"/>
            <a:chExt cx="3519720" cy="1049760"/>
          </a:xfrm>
        </p:grpSpPr>
        <p:sp>
          <p:nvSpPr>
            <p:cNvPr id="1411" name=""/>
            <p:cNvSpPr/>
            <p:nvPr/>
          </p:nvSpPr>
          <p:spPr>
            <a:xfrm>
              <a:off x="5410080" y="44290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6 single bonds (6x2) = 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2" name=""/>
            <p:cNvGrpSpPr/>
            <p:nvPr/>
          </p:nvGrpSpPr>
          <p:grpSpPr>
            <a:xfrm>
              <a:off x="5823720" y="4763880"/>
              <a:ext cx="3078000" cy="398880"/>
              <a:chOff x="5823720" y="4763880"/>
              <a:chExt cx="3078000" cy="398880"/>
            </a:xfrm>
          </p:grpSpPr>
          <p:sp>
            <p:nvSpPr>
              <p:cNvPr id="1413" name=""/>
              <p:cNvSpPr/>
              <p:nvPr/>
            </p:nvSpPr>
            <p:spPr>
              <a:xfrm>
                <a:off x="5823720" y="4763880"/>
                <a:ext cx="3078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18 lone pairs (18x2) = 3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5943600" y="5103720"/>
                <a:ext cx="28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5" name=""/>
            <p:cNvSpPr/>
            <p:nvPr/>
          </p:nvSpPr>
          <p:spPr>
            <a:xfrm>
              <a:off x="7583040" y="5079960"/>
              <a:ext cx="134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otal = 4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6" name=""/>
          <p:cNvSpPr/>
          <p:nvPr/>
        </p:nvSpPr>
        <p:spPr>
          <a:xfrm>
            <a:off x="4038480" y="4429080"/>
            <a:ext cx="1067040" cy="1066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3F792-CA2C-4584-A619-7EB80AB0262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"/>
          <p:cNvSpPr/>
          <p:nvPr/>
        </p:nvSpPr>
        <p:spPr>
          <a:xfrm>
            <a:off x="324000" y="812880"/>
            <a:ext cx="8496000" cy="52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xceptions to the Octet Ru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Incomplete octet: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Be, B, &amp; 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2. </a:t>
            </a:r>
            <a:r>
              <a:rPr b="1" lang="en-GB" sz="3200" spc="-1" strike="noStrike">
                <a:solidFill>
                  <a:srgbClr val="cc3300"/>
                </a:solidFill>
                <a:latin typeface="Comic Sans MS"/>
              </a:rPr>
              <a:t>Odd-electrons: </a:t>
            </a:r>
            <a:r>
              <a:rPr b="0" lang="en-GB" sz="3200" spc="-1" strike="noStrike">
                <a:solidFill>
                  <a:srgbClr val="cc3300"/>
                </a:solidFill>
                <a:latin typeface="Comic Sans MS"/>
              </a:rPr>
              <a:t>NO, NO</a:t>
            </a:r>
            <a:r>
              <a:rPr b="0" lang="en-GB" sz="32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cc3300"/>
                </a:solidFill>
                <a:latin typeface="Comic Sans MS"/>
              </a:rPr>
              <a:t> ( or when the valance electrons is odd numb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3. </a:t>
            </a:r>
            <a:r>
              <a:rPr b="1" lang="en-GB" sz="3200" spc="-1" strike="noStrike">
                <a:solidFill>
                  <a:srgbClr val="2009a7"/>
                </a:solidFill>
                <a:latin typeface="Comic Sans MS"/>
              </a:rPr>
              <a:t>Expanded octet:</a:t>
            </a:r>
            <a:r>
              <a:rPr b="0" lang="en-GB" sz="3200" spc="-1" strike="noStrike">
                <a:solidFill>
                  <a:srgbClr val="2009a7"/>
                </a:solidFill>
                <a:latin typeface="Comic Sans MS"/>
              </a:rPr>
              <a:t> elements of 3</a:t>
            </a:r>
            <a:r>
              <a:rPr b="0" lang="en-GB" sz="3200" spc="-1" strike="noStrike" baseline="30000">
                <a:solidFill>
                  <a:srgbClr val="2009a7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2009a7"/>
                </a:solidFill>
                <a:latin typeface="Comic Sans MS"/>
              </a:rPr>
              <a:t>, 4</a:t>
            </a:r>
            <a:r>
              <a:rPr b="0" lang="en-GB" sz="3200" spc="-1" strike="noStrike" baseline="30000">
                <a:solidFill>
                  <a:srgbClr val="2009a7"/>
                </a:solidFill>
                <a:latin typeface="Comic Sans MS"/>
              </a:rPr>
              <a:t>th</a:t>
            </a:r>
            <a:r>
              <a:rPr b="0" lang="en-GB" sz="3200" spc="-1" strike="noStrike">
                <a:solidFill>
                  <a:srgbClr val="2009a7"/>
                </a:solidFill>
                <a:latin typeface="Comic Sans MS"/>
              </a:rPr>
              <a:t>, &amp; so on, may form expanded oc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3F852-E567-4F51-9A24-A61A00F0307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2120" y="480960"/>
            <a:ext cx="874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Valence electr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the outer shell electrons of an  atom.  The valence electrons are the electrons that participate in chemical bo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638360" y="2522520"/>
            <a:ext cx="5514480" cy="461160"/>
            <a:chOff x="1638360" y="2522520"/>
            <a:chExt cx="5514480" cy="461160"/>
          </a:xfrm>
        </p:grpSpPr>
        <p:sp>
          <p:nvSpPr>
            <p:cNvPr id="114" name=""/>
            <p:cNvSpPr/>
            <p:nvPr/>
          </p:nvSpPr>
          <p:spPr>
            <a:xfrm>
              <a:off x="1638360" y="252396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98240" y="252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81680" y="2522520"/>
              <a:ext cx="6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662840" y="3057480"/>
            <a:ext cx="5514120" cy="475560"/>
            <a:chOff x="1662840" y="3057480"/>
            <a:chExt cx="5514120" cy="475560"/>
          </a:xfrm>
        </p:grpSpPr>
        <p:sp>
          <p:nvSpPr>
            <p:cNvPr id="118" name=""/>
            <p:cNvSpPr/>
            <p:nvPr/>
          </p:nvSpPr>
          <p:spPr>
            <a:xfrm>
              <a:off x="1662840" y="305748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22360" y="3073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096800" y="3073320"/>
              <a:ext cx="6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662840" y="3605040"/>
            <a:ext cx="5514120" cy="480600"/>
            <a:chOff x="1662840" y="3605040"/>
            <a:chExt cx="5514120" cy="480600"/>
          </a:xfrm>
        </p:grpSpPr>
        <p:sp>
          <p:nvSpPr>
            <p:cNvPr id="122" name=""/>
            <p:cNvSpPr/>
            <p:nvPr/>
          </p:nvSpPr>
          <p:spPr>
            <a:xfrm>
              <a:off x="1662840" y="360504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22360" y="3625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63160" y="362592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662840" y="4154400"/>
            <a:ext cx="5514120" cy="483480"/>
            <a:chOff x="1662840" y="4154400"/>
            <a:chExt cx="5514120" cy="483480"/>
          </a:xfrm>
        </p:grpSpPr>
        <p:sp>
          <p:nvSpPr>
            <p:cNvPr id="126" name=""/>
            <p:cNvSpPr/>
            <p:nvPr/>
          </p:nvSpPr>
          <p:spPr>
            <a:xfrm>
              <a:off x="1662840" y="415440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22360" y="4178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79000" y="417816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662840" y="4702320"/>
            <a:ext cx="5514120" cy="486720"/>
            <a:chOff x="1662840" y="4702320"/>
            <a:chExt cx="5514120" cy="486720"/>
          </a:xfrm>
        </p:grpSpPr>
        <p:sp>
          <p:nvSpPr>
            <p:cNvPr id="130" name=""/>
            <p:cNvSpPr/>
            <p:nvPr/>
          </p:nvSpPr>
          <p:spPr>
            <a:xfrm>
              <a:off x="1662840" y="470232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22360" y="4729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79000" y="472932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662840" y="5251320"/>
            <a:ext cx="5514120" cy="489960"/>
            <a:chOff x="1662840" y="5251320"/>
            <a:chExt cx="5514120" cy="489960"/>
          </a:xfrm>
        </p:grpSpPr>
        <p:sp>
          <p:nvSpPr>
            <p:cNvPr id="134" name=""/>
            <p:cNvSpPr/>
            <p:nvPr/>
          </p:nvSpPr>
          <p:spPr>
            <a:xfrm>
              <a:off x="1662840" y="525132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22360" y="52815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79000" y="528156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662840" y="5800680"/>
            <a:ext cx="5514120" cy="493200"/>
            <a:chOff x="1662840" y="5800680"/>
            <a:chExt cx="5514120" cy="493200"/>
          </a:xfrm>
        </p:grpSpPr>
        <p:sp>
          <p:nvSpPr>
            <p:cNvPr id="138" name=""/>
            <p:cNvSpPr/>
            <p:nvPr/>
          </p:nvSpPr>
          <p:spPr>
            <a:xfrm>
              <a:off x="1662840" y="580068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22360" y="5834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79000" y="583416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368360" y="1989000"/>
            <a:ext cx="6952680" cy="459720"/>
            <a:chOff x="1368360" y="1989000"/>
            <a:chExt cx="6952680" cy="459720"/>
          </a:xfrm>
        </p:grpSpPr>
        <p:sp>
          <p:nvSpPr>
            <p:cNvPr id="142" name=""/>
            <p:cNvSpPr/>
            <p:nvPr/>
          </p:nvSpPr>
          <p:spPr>
            <a:xfrm>
              <a:off x="1368360" y="1989000"/>
              <a:ext cx="109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102720" y="1989000"/>
              <a:ext cx="22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# of valence e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18480" y="1989000"/>
              <a:ext cx="242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e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omic Sans MS"/>
                </a:rPr>
                <a:t>-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 configu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034D8-E329-4804-BD20-13D43B8C9C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"/>
          <p:cNvSpPr/>
          <p:nvPr/>
        </p:nvSpPr>
        <p:spPr>
          <a:xfrm>
            <a:off x="395280" y="333360"/>
            <a:ext cx="828216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10 p39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Draw Lewis structure for phosphorus pentaflouridde (PF</a:t>
            </a:r>
            <a:r>
              <a:rPr b="0" lang="en-GB" sz="2400" spc="-1" strike="noStrike" baseline="-25000">
                <a:solidFill>
                  <a:srgbClr val="cc33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), in which all five F atoms are bounded to the central P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24000" y="213372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324000" y="2276640"/>
            <a:ext cx="8280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e: P is in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eriod can have expanded oct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Valance electrons = 5 + (7 x 5 ) = 40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otal electrons in Lewis structure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(15 x 2) = 30 lone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(5 x 2) = 10 e single b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otal = 40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: P has (5 x 2) = 10 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anded oc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7237440" y="4505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8244000" y="4433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7237440" y="3497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6156360" y="42861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7237440" y="5657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156360" y="49370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7453440" y="40734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7453440" y="50817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7669080" y="472140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6661080" y="4576680"/>
            <a:ext cx="57636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6660720" y="4865760"/>
            <a:ext cx="57636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229440" y="422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373800" y="422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156360" y="4437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156360" y="4581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6373800" y="4797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6229440" y="4797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6227640" y="494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6372360" y="494172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6154560" y="5157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6154560" y="5302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6372360" y="55180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6227640" y="5518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7597800" y="6021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7597800" y="5877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7165800" y="5877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7165800" y="6021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7383600" y="6237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7238880" y="623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7308720" y="3429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7453440" y="34290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7236000" y="36450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7236000" y="3789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7597800" y="3716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7597800" y="386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8317080" y="436392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8461440" y="43639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8677440" y="458136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8675640" y="4724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8461440" y="4940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8317080" y="4940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7812000" y="2997360"/>
            <a:ext cx="1187640" cy="119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mal Charg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 &amp; F is Zero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D8133-9ECD-42E2-AE31-F4C78F0A5A2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1" dur="indefinite" restart="never" nodeType="tmRoot">
          <p:childTnLst>
            <p:seq>
              <p:cTn id="1542" dur="indefinite" nodeType="mainSeq">
                <p:childTnLst>
                  <p:par>
                    <p:cTn id="1543" fill="hold">
                      <p:stCondLst>
                        <p:cond delay="0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/>
          <p:nvPr/>
        </p:nvSpPr>
        <p:spPr>
          <a:xfrm>
            <a:off x="395280" y="333360"/>
            <a:ext cx="828216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11 p39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Draw Lewis structure for sulphate ion (S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, in which all four O atoms are bounded to the central S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50920" y="1773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324000" y="1773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1730520" y="3568680"/>
            <a:ext cx="13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2736720" y="3641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1730520" y="256068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649440" y="356724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1730520" y="47214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1946160" y="31370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1946160" y="41450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2162160" y="393372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 flipV="1">
            <a:off x="1116000" y="3860280"/>
            <a:ext cx="61452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722160" y="3502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866880" y="3502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649440" y="37180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649440" y="38624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866880" y="4078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722160" y="4078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2195640" y="5084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2195640" y="4940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1690560" y="4869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690560" y="5013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1978200" y="5229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1835280" y="5229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1801800" y="2492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1946160" y="2492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172872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1728720" y="2852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2195640" y="2708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2195640" y="2852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2809800" y="35719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2954160" y="35719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3170160" y="3789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3168720" y="3932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2954160" y="414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2809800" y="414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1835280" y="2060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1835280" y="50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3059280" y="32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324000" y="32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3059280" y="4724280"/>
            <a:ext cx="2304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6627960" y="3571920"/>
            <a:ext cx="13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7524720" y="35701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6659640" y="2565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5546880" y="357012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627960" y="472428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6843600" y="31399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6843600" y="414828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7059600" y="386064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6013440" y="3863520"/>
            <a:ext cx="61452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5619600" y="35053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5764320" y="35053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5546880" y="372096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5546880" y="38656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5764320" y="40813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5619600" y="40813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7093080" y="50166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7093080" y="48718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6588000" y="48736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6588000" y="50166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6626160" y="271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6626160" y="28558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7093080" y="271152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7093080" y="28558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7597800" y="3500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7742160" y="3500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7958160" y="3718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7956720" y="3860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7742160" y="4076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7597800" y="4076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7846920" y="3213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5221440" y="32878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6948360" y="31449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6948360" y="41529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4068720" y="5229360"/>
            <a:ext cx="525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s structure has an expanded octet on S, BUT it is more correct because, it has less formal char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0E8DD-54BA-4CF5-83C7-FE606D2AAE4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1" dur="indefinite" restart="never" nodeType="tmRoot">
          <p:childTnLst>
            <p:seq>
              <p:cTn id="1632" dur="indefinite" nodeType="mainSeq">
                <p:childTnLst>
                  <p:par>
                    <p:cTn id="1633" fill="hold">
                      <p:stCondLst>
                        <p:cond delay="0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/>
          <p:nvPr/>
        </p:nvSpPr>
        <p:spPr>
          <a:xfrm>
            <a:off x="468360" y="333000"/>
            <a:ext cx="59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Q: When acting as a central atom, which of the following cannot expand its oct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9" name=""/>
          <p:cNvGraphicFramePr/>
          <p:nvPr/>
        </p:nvGraphicFramePr>
        <p:xfrm>
          <a:off x="611280" y="1844640"/>
          <a:ext cx="2232000" cy="2587680"/>
        </p:xfrm>
        <a:graphic>
          <a:graphicData uri="http://schemas.openxmlformats.org/drawingml/2006/table">
            <a:tbl>
              <a:tblPr/>
              <a:tblGrid>
                <a:gridCol w="1081080"/>
                <a:gridCol w="1150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X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0" name=""/>
          <p:cNvSpPr/>
          <p:nvPr/>
        </p:nvSpPr>
        <p:spPr>
          <a:xfrm>
            <a:off x="3157200" y="4206240"/>
            <a:ext cx="200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16360" y="1628640"/>
            <a:ext cx="6048360" cy="3945240"/>
          </a:xfrm>
          <a:prstGeom prst="rect">
            <a:avLst/>
          </a:prstGeom>
          <a:ln w="0">
            <a:noFill/>
          </a:ln>
        </p:spPr>
      </p:pic>
      <p:sp>
        <p:nvSpPr>
          <p:cNvPr id="1542" name=""/>
          <p:cNvSpPr/>
          <p:nvPr/>
        </p:nvSpPr>
        <p:spPr>
          <a:xfrm>
            <a:off x="468360" y="5681520"/>
            <a:ext cx="712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te: Period 3 and beyond can expanded its oc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7236000" y="220500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8244000" y="256392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8604360" y="321300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7956720" y="2563920"/>
            <a:ext cx="28872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7596360" y="256392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B9458-5774-46EE-A8DB-6D4CB86A0F5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"/>
          <p:cNvSpPr/>
          <p:nvPr/>
        </p:nvSpPr>
        <p:spPr>
          <a:xfrm>
            <a:off x="395280" y="476280"/>
            <a:ext cx="770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Q: Which of the following molecules is an exception for the octet rule of Lewis stru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511200" y="4011480"/>
            <a:ext cx="6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-43812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43956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2" name=""/>
          <p:cNvGraphicFramePr/>
          <p:nvPr/>
        </p:nvGraphicFramePr>
        <p:xfrm>
          <a:off x="539640" y="2203560"/>
          <a:ext cx="1944720" cy="2305080"/>
        </p:xfrm>
        <a:graphic>
          <a:graphicData uri="http://schemas.openxmlformats.org/drawingml/2006/table">
            <a:tbl>
              <a:tblPr/>
              <a:tblGrid>
                <a:gridCol w="719280"/>
                <a:gridCol w="12254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SF</a:t>
                      </a:r>
                      <a:r>
                        <a:rPr b="0" lang="en-US" sz="2800" spc="-1" strike="noStrike" baseline="-25000">
                          <a:solidFill>
                            <a:srgbClr val="cc33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3174D-35B0-4B6B-B6ED-F4A570269B2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"/>
          <p:cNvSpPr/>
          <p:nvPr/>
        </p:nvSpPr>
        <p:spPr>
          <a:xfrm>
            <a:off x="2411280" y="2492280"/>
            <a:ext cx="48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Chapter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23BE1-9EFC-4618-9E56-AAD5D80736B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9.1 Lewis Dot Symbols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 </a:t>
            </a: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 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  <a:cs typeface="Times New Roman"/>
              </a:rPr>
              <a:t>نظام النقط للويس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</a:t>
            </a:r>
            <a:r>
              <a:rPr b="1" lang="en-US" sz="29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Octet</a:t>
            </a: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Rule: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forming chemical bonds, atoms usually gain, lose or share electrons until they have </a:t>
            </a:r>
            <a:r>
              <a:rPr b="0" lang="en-US" sz="29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8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the outer shell to reach the same electronic configuration of the noble gasses (ns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6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wis Dot Representation: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the representation of an atom, the valence electrons of an atom are represented by dot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re are two main types of chemical bonds</a:t>
            </a: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1" lang="en-US" sz="29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onic bond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1" lang="en-US" sz="29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ovalent bond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67136-5D8E-4670-974E-0BBAABEA1E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920" y="484200"/>
            <a:ext cx="85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wis Dot Symbols for the Representative Elements &amp; Noble G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1920960"/>
            <a:ext cx="9144000" cy="388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87F9E-2414-4BE4-A622-1D9E2F6F29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304920" y="1676520"/>
          <a:ext cx="8731080" cy="3089160"/>
        </p:xfrm>
        <a:graphic>
          <a:graphicData uri="http://schemas.openxmlformats.org/drawingml/2006/table">
            <a:tbl>
              <a:tblPr/>
              <a:tblGrid>
                <a:gridCol w="2898720"/>
                <a:gridCol w="2376360"/>
                <a:gridCol w="3456000"/>
              </a:tblGrid>
              <a:tr h="101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ypes of Ato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ype of B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nd Characteri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metals t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nonmet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Io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elec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transfer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onmetals 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onmet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ova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lectron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ha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468360" y="54936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ypes of Bo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515772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Non-metals have high electronegativit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Metals have low electronega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404E3-DB47-4EE0-B968-8F98064B35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15080" y="393840"/>
            <a:ext cx="422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2 the ionic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653000" y="2260440"/>
            <a:ext cx="2640240" cy="581400"/>
            <a:chOff x="4653000" y="2260440"/>
            <a:chExt cx="2640240" cy="581400"/>
          </a:xfrm>
        </p:grpSpPr>
        <p:grpSp>
          <p:nvGrpSpPr>
            <p:cNvPr id="154" name=""/>
            <p:cNvGrpSpPr/>
            <p:nvPr/>
          </p:nvGrpSpPr>
          <p:grpSpPr>
            <a:xfrm>
              <a:off x="4653000" y="2371320"/>
              <a:ext cx="465120" cy="459720"/>
              <a:chOff x="4653000" y="2371320"/>
              <a:chExt cx="465120" cy="459720"/>
            </a:xfrm>
          </p:grpSpPr>
          <p:sp>
            <p:nvSpPr>
              <p:cNvPr id="155" name=""/>
              <p:cNvSpPr/>
              <p:nvPr/>
            </p:nvSpPr>
            <p:spPr>
              <a:xfrm>
                <a:off x="4698000" y="2371320"/>
                <a:ext cx="42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L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653000" y="25030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5224320" y="260640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33240" y="2260440"/>
              <a:ext cx="126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+  e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785760" y="3003480"/>
            <a:ext cx="2869200" cy="705240"/>
            <a:chOff x="3785760" y="3003480"/>
            <a:chExt cx="2869200" cy="705240"/>
          </a:xfrm>
        </p:grpSpPr>
        <p:grpSp>
          <p:nvGrpSpPr>
            <p:cNvPr id="160" name=""/>
            <p:cNvGrpSpPr/>
            <p:nvPr/>
          </p:nvGrpSpPr>
          <p:grpSpPr>
            <a:xfrm>
              <a:off x="3785760" y="3121200"/>
              <a:ext cx="1348920" cy="587520"/>
              <a:chOff x="3785760" y="3121200"/>
              <a:chExt cx="1348920" cy="587520"/>
            </a:xfrm>
          </p:grpSpPr>
          <p:sp>
            <p:nvSpPr>
              <p:cNvPr id="161" name=""/>
              <p:cNvSpPr/>
              <p:nvPr/>
            </p:nvSpPr>
            <p:spPr>
              <a:xfrm>
                <a:off x="3785760" y="3127320"/>
                <a:ext cx="761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 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4691160" y="3121200"/>
                <a:ext cx="443520" cy="480240"/>
                <a:chOff x="4691160" y="3121200"/>
                <a:chExt cx="443520" cy="480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750200" y="314172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4" name=""/>
                <p:cNvGrpSpPr/>
                <p:nvPr/>
              </p:nvGrpSpPr>
              <p:grpSpPr>
                <a:xfrm>
                  <a:off x="4691160" y="3247920"/>
                  <a:ext cx="75960" cy="228600"/>
                  <a:chOff x="4691160" y="3247920"/>
                  <a:chExt cx="75960" cy="22860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>
                    <a:off x="4691160" y="324792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4691160" y="3400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"/>
                <p:cNvSpPr/>
                <p:nvPr/>
              </p:nvSpPr>
              <p:spPr>
                <a:xfrm>
                  <a:off x="5058720" y="32479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8" name=""/>
                <p:cNvGrpSpPr/>
                <p:nvPr/>
              </p:nvGrpSpPr>
              <p:grpSpPr>
                <a:xfrm>
                  <a:off x="4792320" y="3121200"/>
                  <a:ext cx="227520" cy="75960"/>
                  <a:chOff x="4792320" y="3121200"/>
                  <a:chExt cx="227520" cy="7596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rot="5400000">
                    <a:off x="4943880" y="312120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rot="5400000">
                    <a:off x="4791960" y="312120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4792320" y="3514680"/>
                  <a:ext cx="227520" cy="76320"/>
                  <a:chOff x="4792320" y="3514680"/>
                  <a:chExt cx="227520" cy="7632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rot="5400000">
                    <a:off x="4943520" y="351468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rot="5400000">
                    <a:off x="4791960" y="351504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74" name=""/>
            <p:cNvSpPr/>
            <p:nvPr/>
          </p:nvSpPr>
          <p:spPr>
            <a:xfrm>
              <a:off x="5236920" y="3376800"/>
              <a:ext cx="685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5960880" y="3003480"/>
              <a:ext cx="694080" cy="597600"/>
              <a:chOff x="5960880" y="3003480"/>
              <a:chExt cx="694080" cy="597600"/>
            </a:xfrm>
          </p:grpSpPr>
          <p:sp>
            <p:nvSpPr>
              <p:cNvPr id="176" name=""/>
              <p:cNvSpPr/>
              <p:nvPr/>
            </p:nvSpPr>
            <p:spPr>
              <a:xfrm>
                <a:off x="6328800" y="34002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5960880" y="3120840"/>
                <a:ext cx="443880" cy="480240"/>
                <a:chOff x="5960880" y="3120840"/>
                <a:chExt cx="443880" cy="4802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019920" y="314136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9" name=""/>
                <p:cNvGrpSpPr/>
                <p:nvPr/>
              </p:nvGrpSpPr>
              <p:grpSpPr>
                <a:xfrm>
                  <a:off x="5960880" y="3247560"/>
                  <a:ext cx="75960" cy="228600"/>
                  <a:chOff x="5960880" y="3247560"/>
                  <a:chExt cx="75960" cy="22860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>
                    <a:off x="5960880" y="324756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5960880" y="340020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6328800" y="32475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3" name=""/>
                <p:cNvGrpSpPr/>
                <p:nvPr/>
              </p:nvGrpSpPr>
              <p:grpSpPr>
                <a:xfrm>
                  <a:off x="6062400" y="3120840"/>
                  <a:ext cx="227880" cy="75960"/>
                  <a:chOff x="6062400" y="3120840"/>
                  <a:chExt cx="227880" cy="7596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rot="5400000">
                    <a:off x="6214320" y="312084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rot="5400000">
                    <a:off x="6062040" y="3120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6062400" y="3514320"/>
                  <a:ext cx="227880" cy="76320"/>
                  <a:chOff x="6062400" y="3514320"/>
                  <a:chExt cx="227880" cy="7632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rot="5400000">
                    <a:off x="6213960" y="351432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rot="5400000">
                    <a:off x="6062040" y="351468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9" name=""/>
              <p:cNvSpPr/>
              <p:nvPr/>
            </p:nvSpPr>
            <p:spPr>
              <a:xfrm>
                <a:off x="6359760" y="300348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"/>
          <p:cNvGrpSpPr/>
          <p:nvPr/>
        </p:nvGrpSpPr>
        <p:grpSpPr>
          <a:xfrm>
            <a:off x="3691440" y="3828960"/>
            <a:ext cx="3471840" cy="610560"/>
            <a:chOff x="3691440" y="3828960"/>
            <a:chExt cx="3471840" cy="610560"/>
          </a:xfrm>
        </p:grpSpPr>
        <p:sp>
          <p:nvSpPr>
            <p:cNvPr id="191" name=""/>
            <p:cNvSpPr/>
            <p:nvPr/>
          </p:nvSpPr>
          <p:spPr>
            <a:xfrm>
              <a:off x="5236920" y="418932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4691160" y="3828960"/>
              <a:ext cx="694080" cy="597600"/>
              <a:chOff x="4691160" y="3828960"/>
              <a:chExt cx="694080" cy="597600"/>
            </a:xfrm>
          </p:grpSpPr>
          <p:sp>
            <p:nvSpPr>
              <p:cNvPr id="193" name=""/>
              <p:cNvSpPr/>
              <p:nvPr/>
            </p:nvSpPr>
            <p:spPr>
              <a:xfrm>
                <a:off x="5059080" y="42256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4" name=""/>
              <p:cNvGrpSpPr/>
              <p:nvPr/>
            </p:nvGrpSpPr>
            <p:grpSpPr>
              <a:xfrm>
                <a:off x="4691160" y="3946320"/>
                <a:ext cx="443880" cy="480240"/>
                <a:chOff x="4691160" y="3946320"/>
                <a:chExt cx="443880" cy="48024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750200" y="396684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6" name=""/>
                <p:cNvGrpSpPr/>
                <p:nvPr/>
              </p:nvGrpSpPr>
              <p:grpSpPr>
                <a:xfrm>
                  <a:off x="4691160" y="4073040"/>
                  <a:ext cx="75960" cy="228600"/>
                  <a:chOff x="4691160" y="4073040"/>
                  <a:chExt cx="75960" cy="22860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4691160" y="407304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4691160" y="422568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"/>
                <p:cNvSpPr/>
                <p:nvPr/>
              </p:nvSpPr>
              <p:spPr>
                <a:xfrm>
                  <a:off x="5059080" y="4073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4792680" y="3946320"/>
                  <a:ext cx="227880" cy="75960"/>
                  <a:chOff x="4792680" y="3946320"/>
                  <a:chExt cx="227880" cy="7596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rot="5400000">
                    <a:off x="4944600" y="394632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rot="5400000">
                    <a:off x="4792320" y="394632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4792680" y="4339800"/>
                  <a:ext cx="227880" cy="76320"/>
                  <a:chOff x="4792680" y="4339800"/>
                  <a:chExt cx="227880" cy="763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rot="5400000">
                    <a:off x="4944240" y="433980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rot="5400000">
                    <a:off x="4792320" y="434016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6" name=""/>
              <p:cNvSpPr/>
              <p:nvPr/>
            </p:nvSpPr>
            <p:spPr>
              <a:xfrm>
                <a:off x="5090040" y="382896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3691440" y="3979800"/>
              <a:ext cx="8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95800" y="396540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6468840" y="3841560"/>
              <a:ext cx="694440" cy="597600"/>
              <a:chOff x="6468840" y="3841560"/>
              <a:chExt cx="694440" cy="597600"/>
            </a:xfrm>
          </p:grpSpPr>
          <p:sp>
            <p:nvSpPr>
              <p:cNvPr id="210" name=""/>
              <p:cNvSpPr/>
              <p:nvPr/>
            </p:nvSpPr>
            <p:spPr>
              <a:xfrm>
                <a:off x="6837120" y="42382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6468840" y="3958920"/>
                <a:ext cx="444600" cy="480240"/>
                <a:chOff x="6468840" y="3958920"/>
                <a:chExt cx="444600" cy="4802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6528600" y="397944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3" name=""/>
                <p:cNvGrpSpPr/>
                <p:nvPr/>
              </p:nvGrpSpPr>
              <p:grpSpPr>
                <a:xfrm>
                  <a:off x="6468840" y="4085640"/>
                  <a:ext cx="76320" cy="228600"/>
                  <a:chOff x="6468840" y="4085640"/>
                  <a:chExt cx="76320" cy="2286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6468840" y="4085640"/>
                    <a:ext cx="7632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6468840" y="423828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6837120" y="40856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7" name=""/>
                <p:cNvGrpSpPr/>
                <p:nvPr/>
              </p:nvGrpSpPr>
              <p:grpSpPr>
                <a:xfrm>
                  <a:off x="6570000" y="3958920"/>
                  <a:ext cx="228600" cy="75960"/>
                  <a:chOff x="6570000" y="3958920"/>
                  <a:chExt cx="228600" cy="7596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 rot="5400000">
                    <a:off x="6722280" y="395856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rot="5400000">
                    <a:off x="6570000" y="395892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6570000" y="4352400"/>
                  <a:ext cx="228600" cy="76320"/>
                  <a:chOff x="6570000" y="4352400"/>
                  <a:chExt cx="228600" cy="763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5400000">
                    <a:off x="6722280" y="4352400"/>
                    <a:ext cx="7632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5400000">
                    <a:off x="6569640" y="435240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3" name=""/>
              <p:cNvSpPr/>
              <p:nvPr/>
            </p:nvSpPr>
            <p:spPr>
              <a:xfrm>
                <a:off x="6868080" y="384156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16000" y="3541680"/>
            <a:ext cx="2911320" cy="3200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373760" y="408132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6000" y="104292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onic bo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electrostatic force that holds ions together in an ionic compound. </a:t>
            </a: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(metal-LOW EN- &amp; non-metal-HIGH EN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19640" y="4653000"/>
            <a:ext cx="475272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Other Examp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C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Li</a:t>
            </a:r>
            <a:r>
              <a:rPr b="1" lang="en-GB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Mg</a:t>
            </a:r>
            <a:r>
              <a:rPr b="1" lang="en-GB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N</a:t>
            </a:r>
            <a:r>
              <a:rPr b="1" lang="en-GB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FD71B-A415-404F-A1BC-03F875F2D6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Content Placeholder 1"/>
          <p:cNvSpPr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  <a:ea typeface="Times New Roman"/>
              </a:rPr>
              <a:t>Example 9.1 p 368: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Use Lewis dot symbol to show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of Al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O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0920" y="206064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76360" y="321300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   Al       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84720" y="32130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   O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68360" y="2997360"/>
            <a:ext cx="144720" cy="1425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68360" y="386244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342900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48360" y="306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06920" y="32860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06920" y="35020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59280" y="3429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64000" y="30686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219640" y="371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00000" y="400536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40360" y="400536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332000" y="53704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   A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+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84720" y="537516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   O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148360" y="52308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06920" y="54482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06920" y="56642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59280" y="5661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64000" y="52308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91280" y="58784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59280" y="544680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076720" y="587700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92360" y="601812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Ne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40360" y="608976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[Ne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59640" y="5370480"/>
            <a:ext cx="208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2060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FE00A-A9C2-489B-8002-631B565BC4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1-29T20:37:30Z</dcterms:modified>
  <cp:revision>1348</cp:revision>
  <dc:subject/>
  <dc:title>General Chemistry CHEM 110</dc:title>
</cp:coreProperties>
</file>