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66AAD-996A-4506-9596-E365976F8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BBED6F-0257-43BB-96B8-1B80F273D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5E9AAB-0082-4C47-B483-7DBFC2DFB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8A56AB-C154-4D46-8E31-BFFCB4AE4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F4B09-3127-4A6A-AA10-8753A35B7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8C045-AA8D-4C7E-BDD8-8A3DEFE89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F8358-77B9-413C-AE57-D556D066B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5019B-851E-41F1-B4EC-4383355F6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6BDD6-6B68-4E8A-8C72-FFB7A968B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FFA7B-9912-4506-A45E-E9CB4055A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F890A-5AB4-42FB-B409-80347A169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DBF2D5-8A6A-4259-8BF1-A17992C81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2379F-A43F-4924-9B4B-C702C8E70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AD3AD-8827-4F6C-A0FC-CB006B038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23DD2-0282-4A01-8745-5AF1C87F8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79499-37FD-438B-A1D9-9E2B2F5C3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3176F-0DAC-4C3F-93D5-5C473AC14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2E95DF-53C2-4F92-B79D-C964BC621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DE97C9-364B-4E74-863F-A3269E32C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ABBC97-53D7-40AE-8EB6-AFE98CCC5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1F89E3-ED3D-4E75-AA7A-BA45AB663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A13E68-A687-4652-85AA-6FDFD4D1B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7D1F7E-F41F-4334-B92D-7530E8366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27C51-AB88-4888-8898-4E4033A62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2DC64-ABB5-41AC-BE9C-7AAE8337E8B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D82BD-4CDE-442F-BFEB-B6D668F6BBB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4292640"/>
            <a:ext cx="823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emical Bonding 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Basic Concep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C56D5-A4E5-475E-B344-8B88E7F3CC8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Content Placeholder 2"/>
          <p:cNvSpPr/>
          <p:nvPr/>
        </p:nvSpPr>
        <p:spPr>
          <a:xfrm>
            <a:off x="380880" y="404640"/>
            <a:ext cx="822960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Q: An atom in the ground state has </a:t>
            </a:r>
            <a:r>
              <a:rPr b="0" lang="en-US" sz="2800" spc="-1" strike="noStrike" u="sng">
                <a:solidFill>
                  <a:srgbClr val="cc3300"/>
                </a:solidFill>
                <a:uFillTx/>
                <a:latin typeface="Comic Sans MS"/>
              </a:rPr>
              <a:t>atomic number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 Z=5. Choose the correct electron-dot structure which represents this atom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908000" y="4869000"/>
            <a:ext cx="144720" cy="14256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908000" y="5443560"/>
            <a:ext cx="14472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266920" y="5156280"/>
            <a:ext cx="14436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900000" y="2565360"/>
            <a:ext cx="26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.    X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835280" y="2494080"/>
            <a:ext cx="14436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835280" y="3068640"/>
            <a:ext cx="14436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124000" y="2781360"/>
            <a:ext cx="14436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619280" y="2781360"/>
            <a:ext cx="14436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979640" y="3646440"/>
            <a:ext cx="14436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908000" y="4221000"/>
            <a:ext cx="14472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266920" y="3932280"/>
            <a:ext cx="14436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762200" y="3646440"/>
            <a:ext cx="14436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050920" y="5950080"/>
            <a:ext cx="14472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908000" y="6524640"/>
            <a:ext cx="14472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340000" y="6235560"/>
            <a:ext cx="14436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835280" y="5950080"/>
            <a:ext cx="14436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549440" y="6235560"/>
            <a:ext cx="14436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900000" y="3713040"/>
            <a:ext cx="26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.    X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971640" y="4937040"/>
            <a:ext cx="26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.    X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900000" y="6021360"/>
            <a:ext cx="26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.    X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203640" y="2205000"/>
            <a:ext cx="561636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electron configuration Z =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lence electrons are in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E = 3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U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79347D-D2F3-4A5E-899C-95A90DBBA66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05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228600" y="831960"/>
            <a:ext cx="8610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valent bond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 a chemical bond in which two or more electrons are shared by two atoms. </a:t>
            </a:r>
            <a:r>
              <a:rPr b="1" lang="en-US" sz="2800" spc="-1" strike="noStrike">
                <a:solidFill>
                  <a:srgbClr val="cc3300"/>
                </a:solidFill>
                <a:latin typeface="Comic Sans MS"/>
              </a:rPr>
              <a:t>(Non-metal-High EN- &amp; non-metal-High EN-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85480" y="2133720"/>
            <a:ext cx="587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99cc"/>
                </a:solidFill>
                <a:latin typeface="Comic Sans MS"/>
              </a:rPr>
              <a:t>Why should two atoms share electr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2614680" y="2725560"/>
            <a:ext cx="444600" cy="480240"/>
            <a:chOff x="2614680" y="2725560"/>
            <a:chExt cx="444600" cy="480240"/>
          </a:xfrm>
        </p:grpSpPr>
        <p:sp>
          <p:nvSpPr>
            <p:cNvPr id="282" name=""/>
            <p:cNvSpPr/>
            <p:nvPr/>
          </p:nvSpPr>
          <p:spPr>
            <a:xfrm>
              <a:off x="2674440" y="2746080"/>
              <a:ext cx="33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3" name=""/>
            <p:cNvGrpSpPr/>
            <p:nvPr/>
          </p:nvGrpSpPr>
          <p:grpSpPr>
            <a:xfrm>
              <a:off x="2614680" y="2852280"/>
              <a:ext cx="76320" cy="228600"/>
              <a:chOff x="2614680" y="2852280"/>
              <a:chExt cx="76320" cy="228600"/>
            </a:xfrm>
          </p:grpSpPr>
          <p:sp>
            <p:nvSpPr>
              <p:cNvPr id="284" name=""/>
              <p:cNvSpPr/>
              <p:nvPr/>
            </p:nvSpPr>
            <p:spPr>
              <a:xfrm>
                <a:off x="2614680" y="285228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2614680" y="300492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6" name=""/>
            <p:cNvSpPr/>
            <p:nvPr/>
          </p:nvSpPr>
          <p:spPr>
            <a:xfrm>
              <a:off x="2982960" y="285228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7" name=""/>
            <p:cNvGrpSpPr/>
            <p:nvPr/>
          </p:nvGrpSpPr>
          <p:grpSpPr>
            <a:xfrm>
              <a:off x="2715840" y="2725560"/>
              <a:ext cx="228600" cy="75960"/>
              <a:chOff x="2715840" y="2725560"/>
              <a:chExt cx="228600" cy="75960"/>
            </a:xfrm>
          </p:grpSpPr>
          <p:sp>
            <p:nvSpPr>
              <p:cNvPr id="288" name=""/>
              <p:cNvSpPr/>
              <p:nvPr/>
            </p:nvSpPr>
            <p:spPr>
              <a:xfrm rot="5400000">
                <a:off x="2868120" y="272520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5400000">
                <a:off x="2715840" y="272556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0" name=""/>
            <p:cNvGrpSpPr/>
            <p:nvPr/>
          </p:nvGrpSpPr>
          <p:grpSpPr>
            <a:xfrm>
              <a:off x="2715840" y="3119040"/>
              <a:ext cx="228600" cy="76320"/>
              <a:chOff x="2715840" y="3119040"/>
              <a:chExt cx="228600" cy="76320"/>
            </a:xfrm>
          </p:grpSpPr>
          <p:sp>
            <p:nvSpPr>
              <p:cNvPr id="291" name=""/>
              <p:cNvSpPr/>
              <p:nvPr/>
            </p:nvSpPr>
            <p:spPr>
              <a:xfrm rot="5400000">
                <a:off x="2868120" y="311904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5400000">
                <a:off x="2715480" y="311904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3" name=""/>
          <p:cNvGrpSpPr/>
          <p:nvPr/>
        </p:nvGrpSpPr>
        <p:grpSpPr>
          <a:xfrm>
            <a:off x="3307320" y="2725560"/>
            <a:ext cx="1036080" cy="480240"/>
            <a:chOff x="3307320" y="2725560"/>
            <a:chExt cx="1036080" cy="480240"/>
          </a:xfrm>
        </p:grpSpPr>
        <p:grpSp>
          <p:nvGrpSpPr>
            <p:cNvPr id="294" name=""/>
            <p:cNvGrpSpPr/>
            <p:nvPr/>
          </p:nvGrpSpPr>
          <p:grpSpPr>
            <a:xfrm>
              <a:off x="3911760" y="2725560"/>
              <a:ext cx="431640" cy="480240"/>
              <a:chOff x="3911760" y="2725560"/>
              <a:chExt cx="431640" cy="480240"/>
            </a:xfrm>
          </p:grpSpPr>
          <p:sp>
            <p:nvSpPr>
              <p:cNvPr id="295" name=""/>
              <p:cNvSpPr/>
              <p:nvPr/>
            </p:nvSpPr>
            <p:spPr>
              <a:xfrm>
                <a:off x="3958920" y="2746080"/>
                <a:ext cx="33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6" name=""/>
              <p:cNvGrpSpPr/>
              <p:nvPr/>
            </p:nvGrpSpPr>
            <p:grpSpPr>
              <a:xfrm>
                <a:off x="4267440" y="2852640"/>
                <a:ext cx="75960" cy="228600"/>
                <a:chOff x="4267440" y="2852640"/>
                <a:chExt cx="75960" cy="228600"/>
              </a:xfrm>
            </p:grpSpPr>
            <p:sp>
              <p:nvSpPr>
                <p:cNvPr id="297" name=""/>
                <p:cNvSpPr/>
                <p:nvPr/>
              </p:nvSpPr>
              <p:spPr>
                <a:xfrm>
                  <a:off x="4267440" y="285264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4267440" y="300528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9" name=""/>
              <p:cNvSpPr/>
              <p:nvPr/>
            </p:nvSpPr>
            <p:spPr>
              <a:xfrm>
                <a:off x="3911760" y="300492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0" name=""/>
              <p:cNvGrpSpPr/>
              <p:nvPr/>
            </p:nvGrpSpPr>
            <p:grpSpPr>
              <a:xfrm>
                <a:off x="4000320" y="2725560"/>
                <a:ext cx="228600" cy="76320"/>
                <a:chOff x="4000320" y="2725560"/>
                <a:chExt cx="228600" cy="76320"/>
              </a:xfrm>
            </p:grpSpPr>
            <p:sp>
              <p:nvSpPr>
                <p:cNvPr id="301" name=""/>
                <p:cNvSpPr/>
                <p:nvPr/>
              </p:nvSpPr>
              <p:spPr>
                <a:xfrm rot="5400000">
                  <a:off x="4152600" y="272556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 rot="5400000">
                  <a:off x="3999960" y="272556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4000320" y="3119400"/>
                <a:ext cx="228600" cy="75960"/>
                <a:chOff x="4000320" y="3119400"/>
                <a:chExt cx="228600" cy="75960"/>
              </a:xfrm>
            </p:grpSpPr>
            <p:sp>
              <p:nvSpPr>
                <p:cNvPr id="304" name=""/>
                <p:cNvSpPr/>
                <p:nvPr/>
              </p:nvSpPr>
              <p:spPr>
                <a:xfrm rot="5400000">
                  <a:off x="4152600" y="311904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 rot="5400000">
                  <a:off x="4000320" y="311940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06" name=""/>
            <p:cNvSpPr/>
            <p:nvPr/>
          </p:nvSpPr>
          <p:spPr>
            <a:xfrm>
              <a:off x="3307320" y="27381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2502000" y="2637000"/>
            <a:ext cx="685800" cy="1164240"/>
            <a:chOff x="2502000" y="2637000"/>
            <a:chExt cx="685800" cy="1164240"/>
          </a:xfrm>
        </p:grpSpPr>
        <p:sp>
          <p:nvSpPr>
            <p:cNvPr id="308" name=""/>
            <p:cNvSpPr/>
            <p:nvPr/>
          </p:nvSpPr>
          <p:spPr>
            <a:xfrm>
              <a:off x="2502000" y="2637000"/>
              <a:ext cx="685800" cy="68544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53840" y="3341520"/>
              <a:ext cx="58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7e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3784680" y="2637000"/>
            <a:ext cx="685800" cy="1164240"/>
            <a:chOff x="3784680" y="2637000"/>
            <a:chExt cx="685800" cy="1164240"/>
          </a:xfrm>
        </p:grpSpPr>
        <p:sp>
          <p:nvSpPr>
            <p:cNvPr id="311" name=""/>
            <p:cNvSpPr/>
            <p:nvPr/>
          </p:nvSpPr>
          <p:spPr>
            <a:xfrm>
              <a:off x="3784680" y="2637000"/>
              <a:ext cx="685800" cy="68544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836520" y="3341520"/>
              <a:ext cx="58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7e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3" name=""/>
          <p:cNvSpPr/>
          <p:nvPr/>
        </p:nvSpPr>
        <p:spPr>
          <a:xfrm>
            <a:off x="4572000" y="2954160"/>
            <a:ext cx="76212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5575320" y="2725560"/>
            <a:ext cx="799920" cy="480240"/>
            <a:chOff x="5575320" y="2725560"/>
            <a:chExt cx="799920" cy="480240"/>
          </a:xfrm>
        </p:grpSpPr>
        <p:grpSp>
          <p:nvGrpSpPr>
            <p:cNvPr id="315" name=""/>
            <p:cNvGrpSpPr/>
            <p:nvPr/>
          </p:nvGrpSpPr>
          <p:grpSpPr>
            <a:xfrm>
              <a:off x="5575320" y="2725560"/>
              <a:ext cx="444600" cy="480240"/>
              <a:chOff x="5575320" y="2725560"/>
              <a:chExt cx="444600" cy="480240"/>
            </a:xfrm>
          </p:grpSpPr>
          <p:sp>
            <p:nvSpPr>
              <p:cNvPr id="316" name=""/>
              <p:cNvSpPr/>
              <p:nvPr/>
            </p:nvSpPr>
            <p:spPr>
              <a:xfrm>
                <a:off x="5635080" y="2746080"/>
                <a:ext cx="33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17" name=""/>
              <p:cNvGrpSpPr/>
              <p:nvPr/>
            </p:nvGrpSpPr>
            <p:grpSpPr>
              <a:xfrm>
                <a:off x="5575320" y="2852280"/>
                <a:ext cx="76320" cy="228600"/>
                <a:chOff x="5575320" y="2852280"/>
                <a:chExt cx="76320" cy="22860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5575320" y="285228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5575320" y="300492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5943600" y="285228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1" name=""/>
              <p:cNvGrpSpPr/>
              <p:nvPr/>
            </p:nvGrpSpPr>
            <p:grpSpPr>
              <a:xfrm>
                <a:off x="5676480" y="2725560"/>
                <a:ext cx="228600" cy="75960"/>
                <a:chOff x="5676480" y="2725560"/>
                <a:chExt cx="228600" cy="75960"/>
              </a:xfrm>
            </p:grpSpPr>
            <p:sp>
              <p:nvSpPr>
                <p:cNvPr id="322" name=""/>
                <p:cNvSpPr/>
                <p:nvPr/>
              </p:nvSpPr>
              <p:spPr>
                <a:xfrm rot="5400000">
                  <a:off x="5828760" y="272520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 rot="5400000">
                  <a:off x="5676480" y="272556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4" name=""/>
              <p:cNvGrpSpPr/>
              <p:nvPr/>
            </p:nvGrpSpPr>
            <p:grpSpPr>
              <a:xfrm>
                <a:off x="5676480" y="3119040"/>
                <a:ext cx="228600" cy="76320"/>
                <a:chOff x="5676480" y="3119040"/>
                <a:chExt cx="228600" cy="76320"/>
              </a:xfrm>
            </p:grpSpPr>
            <p:sp>
              <p:nvSpPr>
                <p:cNvPr id="325" name=""/>
                <p:cNvSpPr/>
                <p:nvPr/>
              </p:nvSpPr>
              <p:spPr>
                <a:xfrm rot="5400000">
                  <a:off x="5828760" y="311904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 rot="5400000">
                  <a:off x="5676120" y="311904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27" name=""/>
            <p:cNvGrpSpPr/>
            <p:nvPr/>
          </p:nvGrpSpPr>
          <p:grpSpPr>
            <a:xfrm>
              <a:off x="5943600" y="2725560"/>
              <a:ext cx="431640" cy="480240"/>
              <a:chOff x="5943600" y="2725560"/>
              <a:chExt cx="431640" cy="480240"/>
            </a:xfrm>
          </p:grpSpPr>
          <p:sp>
            <p:nvSpPr>
              <p:cNvPr id="328" name=""/>
              <p:cNvSpPr/>
              <p:nvPr/>
            </p:nvSpPr>
            <p:spPr>
              <a:xfrm>
                <a:off x="5990760" y="2746080"/>
                <a:ext cx="33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9" name=""/>
              <p:cNvGrpSpPr/>
              <p:nvPr/>
            </p:nvGrpSpPr>
            <p:grpSpPr>
              <a:xfrm>
                <a:off x="6299280" y="2852640"/>
                <a:ext cx="75960" cy="228600"/>
                <a:chOff x="6299280" y="2852640"/>
                <a:chExt cx="75960" cy="228600"/>
              </a:xfrm>
            </p:grpSpPr>
            <p:sp>
              <p:nvSpPr>
                <p:cNvPr id="330" name=""/>
                <p:cNvSpPr/>
                <p:nvPr/>
              </p:nvSpPr>
              <p:spPr>
                <a:xfrm>
                  <a:off x="6299280" y="285264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6299280" y="300528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2" name=""/>
              <p:cNvSpPr/>
              <p:nvPr/>
            </p:nvSpPr>
            <p:spPr>
              <a:xfrm>
                <a:off x="5943600" y="300492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3" name=""/>
              <p:cNvGrpSpPr/>
              <p:nvPr/>
            </p:nvGrpSpPr>
            <p:grpSpPr>
              <a:xfrm>
                <a:off x="6032160" y="2725560"/>
                <a:ext cx="228600" cy="76320"/>
                <a:chOff x="6032160" y="2725560"/>
                <a:chExt cx="228600" cy="76320"/>
              </a:xfrm>
            </p:grpSpPr>
            <p:sp>
              <p:nvSpPr>
                <p:cNvPr id="334" name=""/>
                <p:cNvSpPr/>
                <p:nvPr/>
              </p:nvSpPr>
              <p:spPr>
                <a:xfrm rot="5400000">
                  <a:off x="6184440" y="272556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 rot="5400000">
                  <a:off x="6031800" y="272556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6" name=""/>
              <p:cNvGrpSpPr/>
              <p:nvPr/>
            </p:nvGrpSpPr>
            <p:grpSpPr>
              <a:xfrm>
                <a:off x="6032160" y="3119400"/>
                <a:ext cx="228600" cy="75960"/>
                <a:chOff x="6032160" y="3119400"/>
                <a:chExt cx="228600" cy="75960"/>
              </a:xfrm>
            </p:grpSpPr>
            <p:sp>
              <p:nvSpPr>
                <p:cNvPr id="337" name=""/>
                <p:cNvSpPr/>
                <p:nvPr/>
              </p:nvSpPr>
              <p:spPr>
                <a:xfrm rot="5400000">
                  <a:off x="6184440" y="311904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 rot="5400000">
                  <a:off x="6032160" y="311940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39" name=""/>
          <p:cNvGrpSpPr/>
          <p:nvPr/>
        </p:nvGrpSpPr>
        <p:grpSpPr>
          <a:xfrm>
            <a:off x="5384880" y="2649600"/>
            <a:ext cx="685800" cy="1164600"/>
            <a:chOff x="5384880" y="2649600"/>
            <a:chExt cx="685800" cy="1164600"/>
          </a:xfrm>
        </p:grpSpPr>
        <p:sp>
          <p:nvSpPr>
            <p:cNvPr id="340" name=""/>
            <p:cNvSpPr/>
            <p:nvPr/>
          </p:nvSpPr>
          <p:spPr>
            <a:xfrm>
              <a:off x="5384880" y="2649600"/>
              <a:ext cx="685800" cy="68580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436720" y="3354480"/>
              <a:ext cx="58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8e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5918040" y="2649600"/>
            <a:ext cx="685800" cy="1164600"/>
            <a:chOff x="5918040" y="2649600"/>
            <a:chExt cx="685800" cy="1164600"/>
          </a:xfrm>
        </p:grpSpPr>
        <p:sp>
          <p:nvSpPr>
            <p:cNvPr id="343" name=""/>
            <p:cNvSpPr/>
            <p:nvPr/>
          </p:nvSpPr>
          <p:spPr>
            <a:xfrm>
              <a:off x="5918040" y="2649600"/>
              <a:ext cx="685800" cy="68580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969880" y="3354480"/>
              <a:ext cx="58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8e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2016000" y="5559480"/>
            <a:ext cx="799920" cy="482040"/>
            <a:chOff x="2016000" y="5559480"/>
            <a:chExt cx="799920" cy="482040"/>
          </a:xfrm>
        </p:grpSpPr>
        <p:grpSp>
          <p:nvGrpSpPr>
            <p:cNvPr id="346" name=""/>
            <p:cNvGrpSpPr/>
            <p:nvPr/>
          </p:nvGrpSpPr>
          <p:grpSpPr>
            <a:xfrm>
              <a:off x="2016000" y="5559480"/>
              <a:ext cx="444600" cy="480240"/>
              <a:chOff x="2016000" y="5559480"/>
              <a:chExt cx="444600" cy="480240"/>
            </a:xfrm>
          </p:grpSpPr>
          <p:sp>
            <p:nvSpPr>
              <p:cNvPr id="347" name=""/>
              <p:cNvSpPr/>
              <p:nvPr/>
            </p:nvSpPr>
            <p:spPr>
              <a:xfrm>
                <a:off x="2075760" y="5580000"/>
                <a:ext cx="33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8" name=""/>
              <p:cNvGrpSpPr/>
              <p:nvPr/>
            </p:nvGrpSpPr>
            <p:grpSpPr>
              <a:xfrm>
                <a:off x="2016000" y="5686200"/>
                <a:ext cx="76320" cy="228600"/>
                <a:chOff x="2016000" y="5686200"/>
                <a:chExt cx="76320" cy="228600"/>
              </a:xfrm>
            </p:grpSpPr>
            <p:sp>
              <p:nvSpPr>
                <p:cNvPr id="349" name=""/>
                <p:cNvSpPr/>
                <p:nvPr/>
              </p:nvSpPr>
              <p:spPr>
                <a:xfrm>
                  <a:off x="2016000" y="568620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2016000" y="583884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1" name=""/>
              <p:cNvSpPr/>
              <p:nvPr/>
            </p:nvSpPr>
            <p:spPr>
              <a:xfrm>
                <a:off x="2384280" y="568620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2" name=""/>
              <p:cNvGrpSpPr/>
              <p:nvPr/>
            </p:nvGrpSpPr>
            <p:grpSpPr>
              <a:xfrm>
                <a:off x="2117160" y="5559480"/>
                <a:ext cx="228600" cy="75960"/>
                <a:chOff x="2117160" y="5559480"/>
                <a:chExt cx="228600" cy="75960"/>
              </a:xfrm>
            </p:grpSpPr>
            <p:sp>
              <p:nvSpPr>
                <p:cNvPr id="353" name=""/>
                <p:cNvSpPr/>
                <p:nvPr/>
              </p:nvSpPr>
              <p:spPr>
                <a:xfrm rot="5400000">
                  <a:off x="2269440" y="555912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 rot="5400000">
                  <a:off x="2117160" y="555948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5" name=""/>
              <p:cNvGrpSpPr/>
              <p:nvPr/>
            </p:nvGrpSpPr>
            <p:grpSpPr>
              <a:xfrm>
                <a:off x="2117160" y="5952960"/>
                <a:ext cx="228600" cy="76320"/>
                <a:chOff x="2117160" y="5952960"/>
                <a:chExt cx="228600" cy="76320"/>
              </a:xfrm>
            </p:grpSpPr>
            <p:sp>
              <p:nvSpPr>
                <p:cNvPr id="356" name=""/>
                <p:cNvSpPr/>
                <p:nvPr/>
              </p:nvSpPr>
              <p:spPr>
                <a:xfrm rot="5400000">
                  <a:off x="2269440" y="595296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 rot="5400000">
                  <a:off x="2116800" y="595296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58" name=""/>
            <p:cNvGrpSpPr/>
            <p:nvPr/>
          </p:nvGrpSpPr>
          <p:grpSpPr>
            <a:xfrm>
              <a:off x="2384280" y="5561280"/>
              <a:ext cx="431640" cy="480240"/>
              <a:chOff x="2384280" y="5561280"/>
              <a:chExt cx="431640" cy="480240"/>
            </a:xfrm>
          </p:grpSpPr>
          <p:sp>
            <p:nvSpPr>
              <p:cNvPr id="359" name=""/>
              <p:cNvSpPr/>
              <p:nvPr/>
            </p:nvSpPr>
            <p:spPr>
              <a:xfrm>
                <a:off x="2431440" y="5581800"/>
                <a:ext cx="33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0" name=""/>
              <p:cNvGrpSpPr/>
              <p:nvPr/>
            </p:nvGrpSpPr>
            <p:grpSpPr>
              <a:xfrm>
                <a:off x="2739960" y="5688360"/>
                <a:ext cx="75960" cy="228600"/>
                <a:chOff x="2739960" y="5688360"/>
                <a:chExt cx="75960" cy="228600"/>
              </a:xfrm>
            </p:grpSpPr>
            <p:sp>
              <p:nvSpPr>
                <p:cNvPr id="361" name=""/>
                <p:cNvSpPr/>
                <p:nvPr/>
              </p:nvSpPr>
              <p:spPr>
                <a:xfrm>
                  <a:off x="2739960" y="568836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2739960" y="584100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3" name=""/>
              <p:cNvSpPr/>
              <p:nvPr/>
            </p:nvSpPr>
            <p:spPr>
              <a:xfrm>
                <a:off x="2384280" y="584064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4" name=""/>
              <p:cNvGrpSpPr/>
              <p:nvPr/>
            </p:nvGrpSpPr>
            <p:grpSpPr>
              <a:xfrm>
                <a:off x="2472840" y="5561280"/>
                <a:ext cx="228600" cy="76320"/>
                <a:chOff x="2472840" y="5561280"/>
                <a:chExt cx="228600" cy="76320"/>
              </a:xfrm>
            </p:grpSpPr>
            <p:sp>
              <p:nvSpPr>
                <p:cNvPr id="365" name=""/>
                <p:cNvSpPr/>
                <p:nvPr/>
              </p:nvSpPr>
              <p:spPr>
                <a:xfrm rot="5400000">
                  <a:off x="2625120" y="556128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 rot="5400000">
                  <a:off x="2472480" y="556128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7" name=""/>
              <p:cNvGrpSpPr/>
              <p:nvPr/>
            </p:nvGrpSpPr>
            <p:grpSpPr>
              <a:xfrm>
                <a:off x="2472840" y="5955120"/>
                <a:ext cx="228600" cy="75960"/>
                <a:chOff x="2472840" y="5955120"/>
                <a:chExt cx="228600" cy="75960"/>
              </a:xfrm>
            </p:grpSpPr>
            <p:sp>
              <p:nvSpPr>
                <p:cNvPr id="368" name=""/>
                <p:cNvSpPr/>
                <p:nvPr/>
              </p:nvSpPr>
              <p:spPr>
                <a:xfrm rot="5400000">
                  <a:off x="2625120" y="595476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 rot="5400000">
                  <a:off x="2472840" y="595512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70" name=""/>
          <p:cNvGrpSpPr/>
          <p:nvPr/>
        </p:nvGrpSpPr>
        <p:grpSpPr>
          <a:xfrm>
            <a:off x="5924520" y="4518000"/>
            <a:ext cx="1237680" cy="482040"/>
            <a:chOff x="5924520" y="4518000"/>
            <a:chExt cx="1237680" cy="482040"/>
          </a:xfrm>
        </p:grpSpPr>
        <p:grpSp>
          <p:nvGrpSpPr>
            <p:cNvPr id="371" name=""/>
            <p:cNvGrpSpPr/>
            <p:nvPr/>
          </p:nvGrpSpPr>
          <p:grpSpPr>
            <a:xfrm>
              <a:off x="5924520" y="4518000"/>
              <a:ext cx="398880" cy="480240"/>
              <a:chOff x="5924520" y="4518000"/>
              <a:chExt cx="398880" cy="480240"/>
            </a:xfrm>
          </p:grpSpPr>
          <p:sp>
            <p:nvSpPr>
              <p:cNvPr id="372" name=""/>
              <p:cNvSpPr/>
              <p:nvPr/>
            </p:nvSpPr>
            <p:spPr>
              <a:xfrm>
                <a:off x="5984280" y="4538520"/>
                <a:ext cx="33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3" name=""/>
              <p:cNvGrpSpPr/>
              <p:nvPr/>
            </p:nvGrpSpPr>
            <p:grpSpPr>
              <a:xfrm>
                <a:off x="5924520" y="4645080"/>
                <a:ext cx="75960" cy="228600"/>
                <a:chOff x="5924520" y="4645080"/>
                <a:chExt cx="75960" cy="228600"/>
              </a:xfrm>
            </p:grpSpPr>
            <p:sp>
              <p:nvSpPr>
                <p:cNvPr id="374" name=""/>
                <p:cNvSpPr/>
                <p:nvPr/>
              </p:nvSpPr>
              <p:spPr>
                <a:xfrm>
                  <a:off x="5924520" y="464508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5924520" y="479772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6" name=""/>
              <p:cNvGrpSpPr/>
              <p:nvPr/>
            </p:nvGrpSpPr>
            <p:grpSpPr>
              <a:xfrm>
                <a:off x="6025680" y="4518000"/>
                <a:ext cx="228600" cy="76320"/>
                <a:chOff x="6025680" y="4518000"/>
                <a:chExt cx="228600" cy="76320"/>
              </a:xfrm>
            </p:grpSpPr>
            <p:sp>
              <p:nvSpPr>
                <p:cNvPr id="377" name=""/>
                <p:cNvSpPr/>
                <p:nvPr/>
              </p:nvSpPr>
              <p:spPr>
                <a:xfrm rot="5400000">
                  <a:off x="6177960" y="451800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 rot="5400000">
                  <a:off x="6025320" y="451800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9" name=""/>
              <p:cNvGrpSpPr/>
              <p:nvPr/>
            </p:nvGrpSpPr>
            <p:grpSpPr>
              <a:xfrm>
                <a:off x="6025680" y="4911840"/>
                <a:ext cx="228600" cy="75960"/>
                <a:chOff x="6025680" y="4911840"/>
                <a:chExt cx="228600" cy="75960"/>
              </a:xfrm>
            </p:grpSpPr>
            <p:sp>
              <p:nvSpPr>
                <p:cNvPr id="380" name=""/>
                <p:cNvSpPr/>
                <p:nvPr/>
              </p:nvSpPr>
              <p:spPr>
                <a:xfrm rot="5400000">
                  <a:off x="6177960" y="491148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 rot="5400000">
                  <a:off x="6025680" y="491184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2" name=""/>
            <p:cNvGrpSpPr/>
            <p:nvPr/>
          </p:nvGrpSpPr>
          <p:grpSpPr>
            <a:xfrm>
              <a:off x="6777720" y="4519440"/>
              <a:ext cx="384480" cy="480600"/>
              <a:chOff x="6777720" y="4519440"/>
              <a:chExt cx="384480" cy="480600"/>
            </a:xfrm>
          </p:grpSpPr>
          <p:sp>
            <p:nvSpPr>
              <p:cNvPr id="383" name=""/>
              <p:cNvSpPr/>
              <p:nvPr/>
            </p:nvSpPr>
            <p:spPr>
              <a:xfrm>
                <a:off x="6777720" y="4540320"/>
                <a:ext cx="33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84" name=""/>
              <p:cNvGrpSpPr/>
              <p:nvPr/>
            </p:nvGrpSpPr>
            <p:grpSpPr>
              <a:xfrm>
                <a:off x="7086240" y="4646520"/>
                <a:ext cx="75960" cy="228600"/>
                <a:chOff x="7086240" y="4646520"/>
                <a:chExt cx="75960" cy="228600"/>
              </a:xfrm>
            </p:grpSpPr>
            <p:sp>
              <p:nvSpPr>
                <p:cNvPr id="385" name=""/>
                <p:cNvSpPr/>
                <p:nvPr/>
              </p:nvSpPr>
              <p:spPr>
                <a:xfrm>
                  <a:off x="7086240" y="464652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7086240" y="479916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7" name=""/>
              <p:cNvGrpSpPr/>
              <p:nvPr/>
            </p:nvGrpSpPr>
            <p:grpSpPr>
              <a:xfrm>
                <a:off x="6819840" y="4519440"/>
                <a:ext cx="227880" cy="76320"/>
                <a:chOff x="6819840" y="4519440"/>
                <a:chExt cx="227880" cy="76320"/>
              </a:xfrm>
            </p:grpSpPr>
            <p:sp>
              <p:nvSpPr>
                <p:cNvPr id="388" name=""/>
                <p:cNvSpPr/>
                <p:nvPr/>
              </p:nvSpPr>
              <p:spPr>
                <a:xfrm rot="5400000">
                  <a:off x="6971400" y="451944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 rot="5400000">
                  <a:off x="6819480" y="451980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0" name=""/>
              <p:cNvGrpSpPr/>
              <p:nvPr/>
            </p:nvGrpSpPr>
            <p:grpSpPr>
              <a:xfrm>
                <a:off x="6819840" y="4913280"/>
                <a:ext cx="227880" cy="76320"/>
                <a:chOff x="6819840" y="4913280"/>
                <a:chExt cx="227880" cy="76320"/>
              </a:xfrm>
            </p:grpSpPr>
            <p:sp>
              <p:nvSpPr>
                <p:cNvPr id="391" name=""/>
                <p:cNvSpPr/>
                <p:nvPr/>
              </p:nvSpPr>
              <p:spPr>
                <a:xfrm rot="5400000">
                  <a:off x="6971400" y="491328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 rot="5400000">
                  <a:off x="6819480" y="491364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93" name=""/>
            <p:cNvSpPr/>
            <p:nvPr/>
          </p:nvSpPr>
          <p:spPr>
            <a:xfrm>
              <a:off x="6323040" y="4754520"/>
              <a:ext cx="4572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367920" y="3716280"/>
            <a:ext cx="327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Lewis structure of F</a:t>
            </a:r>
            <a:r>
              <a:rPr b="1" lang="en-US" sz="2400" spc="-1" strike="noStrike" u="sng" baseline="-25000">
                <a:solidFill>
                  <a:srgbClr val="000000"/>
                </a:solidFill>
                <a:uFillTx/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5" name=""/>
          <p:cNvGrpSpPr/>
          <p:nvPr/>
        </p:nvGrpSpPr>
        <p:grpSpPr>
          <a:xfrm>
            <a:off x="125280" y="4267080"/>
            <a:ext cx="9020520" cy="2057400"/>
            <a:chOff x="125280" y="4267080"/>
            <a:chExt cx="9020520" cy="2057400"/>
          </a:xfrm>
        </p:grpSpPr>
        <p:grpSp>
          <p:nvGrpSpPr>
            <p:cNvPr id="396" name=""/>
            <p:cNvGrpSpPr/>
            <p:nvPr/>
          </p:nvGrpSpPr>
          <p:grpSpPr>
            <a:xfrm>
              <a:off x="7010280" y="4267080"/>
              <a:ext cx="2135520" cy="1015920"/>
              <a:chOff x="7010280" y="4267080"/>
              <a:chExt cx="2135520" cy="1015920"/>
            </a:xfrm>
          </p:grpSpPr>
          <p:grpSp>
            <p:nvGrpSpPr>
              <p:cNvPr id="397" name=""/>
              <p:cNvGrpSpPr/>
              <p:nvPr/>
            </p:nvGrpSpPr>
            <p:grpSpPr>
              <a:xfrm>
                <a:off x="7010280" y="4267080"/>
                <a:ext cx="838440" cy="1015920"/>
                <a:chOff x="7010280" y="4267080"/>
                <a:chExt cx="838440" cy="1015920"/>
              </a:xfrm>
            </p:grpSpPr>
            <p:sp>
              <p:nvSpPr>
                <p:cNvPr id="398" name=""/>
                <p:cNvSpPr/>
                <p:nvPr/>
              </p:nvSpPr>
              <p:spPr>
                <a:xfrm>
                  <a:off x="7010280" y="4267080"/>
                  <a:ext cx="838440" cy="419040"/>
                </a:xfrm>
                <a:custGeom>
                  <a:avLst/>
                  <a:gdLst/>
                  <a:ahLst/>
                  <a:rect l="l" t="t" r="r" b="b"/>
                  <a:pathLst>
                    <a:path w="528" h="264">
                      <a:moveTo>
                        <a:pt x="0" y="120"/>
                      </a:moveTo>
                      <a:cubicBezTo>
                        <a:pt x="28" y="60"/>
                        <a:pt x="56" y="0"/>
                        <a:pt x="144" y="24"/>
                      </a:cubicBezTo>
                      <a:cubicBezTo>
                        <a:pt x="232" y="48"/>
                        <a:pt x="380" y="156"/>
                        <a:pt x="528" y="264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 flipV="1">
                  <a:off x="7010280" y="4863960"/>
                  <a:ext cx="838440" cy="419040"/>
                </a:xfrm>
                <a:custGeom>
                  <a:avLst/>
                  <a:gdLst/>
                  <a:ahLst/>
                  <a:rect l="l" t="t" r="r" b="b"/>
                  <a:pathLst>
                    <a:path w="528" h="264">
                      <a:moveTo>
                        <a:pt x="0" y="120"/>
                      </a:moveTo>
                      <a:cubicBezTo>
                        <a:pt x="28" y="60"/>
                        <a:pt x="56" y="0"/>
                        <a:pt x="144" y="24"/>
                      </a:cubicBezTo>
                      <a:cubicBezTo>
                        <a:pt x="232" y="48"/>
                        <a:pt x="380" y="156"/>
                        <a:pt x="528" y="264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7238880" y="4762440"/>
                  <a:ext cx="609840" cy="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1" name=""/>
              <p:cNvSpPr/>
              <p:nvPr/>
            </p:nvSpPr>
            <p:spPr>
              <a:xfrm>
                <a:off x="7786800" y="4565520"/>
                <a:ext cx="1359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Comic Sans MS"/>
                  </a:rPr>
                  <a:t>lone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2000" spc="-1" strike="noStrike">
                    <a:solidFill>
                      <a:srgbClr val="ff0000"/>
                    </a:solidFill>
                    <a:latin typeface="Comic Sans MS"/>
                  </a:rPr>
                  <a:t>pair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2" name=""/>
            <p:cNvGrpSpPr/>
            <p:nvPr/>
          </p:nvGrpSpPr>
          <p:grpSpPr>
            <a:xfrm>
              <a:off x="3998880" y="4267080"/>
              <a:ext cx="2097000" cy="1015920"/>
              <a:chOff x="3998880" y="4267080"/>
              <a:chExt cx="2097000" cy="1015920"/>
            </a:xfrm>
          </p:grpSpPr>
          <p:grpSp>
            <p:nvGrpSpPr>
              <p:cNvPr id="403" name=""/>
              <p:cNvGrpSpPr/>
              <p:nvPr/>
            </p:nvGrpSpPr>
            <p:grpSpPr>
              <a:xfrm>
                <a:off x="5257800" y="4267080"/>
                <a:ext cx="838080" cy="1015920"/>
                <a:chOff x="5257800" y="4267080"/>
                <a:chExt cx="838080" cy="1015920"/>
              </a:xfrm>
            </p:grpSpPr>
            <p:sp>
              <p:nvSpPr>
                <p:cNvPr id="404" name=""/>
                <p:cNvSpPr/>
                <p:nvPr/>
              </p:nvSpPr>
              <p:spPr>
                <a:xfrm flipH="1">
                  <a:off x="5257800" y="4267080"/>
                  <a:ext cx="838080" cy="419040"/>
                </a:xfrm>
                <a:custGeom>
                  <a:avLst/>
                  <a:gdLst/>
                  <a:ahLst/>
                  <a:rect l="l" t="t" r="r" b="b"/>
                  <a:pathLst>
                    <a:path w="528" h="264">
                      <a:moveTo>
                        <a:pt x="0" y="120"/>
                      </a:moveTo>
                      <a:cubicBezTo>
                        <a:pt x="28" y="60"/>
                        <a:pt x="56" y="0"/>
                        <a:pt x="144" y="24"/>
                      </a:cubicBezTo>
                      <a:cubicBezTo>
                        <a:pt x="232" y="48"/>
                        <a:pt x="380" y="156"/>
                        <a:pt x="528" y="264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 flipH="1" flipV="1">
                  <a:off x="5257800" y="4863960"/>
                  <a:ext cx="838080" cy="419040"/>
                </a:xfrm>
                <a:custGeom>
                  <a:avLst/>
                  <a:gdLst/>
                  <a:ahLst/>
                  <a:rect l="l" t="t" r="r" b="b"/>
                  <a:pathLst>
                    <a:path w="528" h="264">
                      <a:moveTo>
                        <a:pt x="0" y="120"/>
                      </a:moveTo>
                      <a:cubicBezTo>
                        <a:pt x="28" y="60"/>
                        <a:pt x="56" y="0"/>
                        <a:pt x="144" y="24"/>
                      </a:cubicBezTo>
                      <a:cubicBezTo>
                        <a:pt x="232" y="48"/>
                        <a:pt x="380" y="156"/>
                        <a:pt x="528" y="264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 flipH="1">
                  <a:off x="5258160" y="4762440"/>
                  <a:ext cx="609480" cy="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7" name=""/>
              <p:cNvSpPr/>
              <p:nvPr/>
            </p:nvSpPr>
            <p:spPr>
              <a:xfrm>
                <a:off x="3998880" y="4552920"/>
                <a:ext cx="1359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Comic Sans MS"/>
                  </a:rPr>
                  <a:t>lone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2000" spc="-1" strike="noStrike">
                    <a:solidFill>
                      <a:srgbClr val="ff0000"/>
                    </a:solidFill>
                    <a:latin typeface="Comic Sans MS"/>
                  </a:rPr>
                  <a:t>pair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8" name=""/>
            <p:cNvGrpSpPr/>
            <p:nvPr/>
          </p:nvGrpSpPr>
          <p:grpSpPr>
            <a:xfrm>
              <a:off x="2701800" y="5308560"/>
              <a:ext cx="2135520" cy="1015920"/>
              <a:chOff x="2701800" y="5308560"/>
              <a:chExt cx="2135520" cy="1015920"/>
            </a:xfrm>
          </p:grpSpPr>
          <p:sp>
            <p:nvSpPr>
              <p:cNvPr id="409" name=""/>
              <p:cNvSpPr/>
              <p:nvPr/>
            </p:nvSpPr>
            <p:spPr>
              <a:xfrm>
                <a:off x="2701800" y="5308560"/>
                <a:ext cx="838440" cy="419040"/>
              </a:xfrm>
              <a:custGeom>
                <a:avLst/>
                <a:gdLst/>
                <a:ahLst/>
                <a:rect l="l" t="t" r="r" b="b"/>
                <a:pathLst>
                  <a:path w="528" h="264">
                    <a:moveTo>
                      <a:pt x="0" y="120"/>
                    </a:moveTo>
                    <a:cubicBezTo>
                      <a:pt x="28" y="60"/>
                      <a:pt x="56" y="0"/>
                      <a:pt x="144" y="24"/>
                    </a:cubicBezTo>
                    <a:cubicBezTo>
                      <a:pt x="232" y="48"/>
                      <a:pt x="380" y="156"/>
                      <a:pt x="528" y="264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flipV="1">
                <a:off x="2701800" y="5905440"/>
                <a:ext cx="838440" cy="419040"/>
              </a:xfrm>
              <a:custGeom>
                <a:avLst/>
                <a:gdLst/>
                <a:ahLst/>
                <a:rect l="l" t="t" r="r" b="b"/>
                <a:pathLst>
                  <a:path w="528" h="264">
                    <a:moveTo>
                      <a:pt x="0" y="120"/>
                    </a:moveTo>
                    <a:cubicBezTo>
                      <a:pt x="28" y="60"/>
                      <a:pt x="56" y="0"/>
                      <a:pt x="144" y="24"/>
                    </a:cubicBezTo>
                    <a:cubicBezTo>
                      <a:pt x="232" y="48"/>
                      <a:pt x="380" y="156"/>
                      <a:pt x="528" y="264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2930400" y="5803920"/>
                <a:ext cx="60984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478320" y="5616720"/>
                <a:ext cx="1359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Comic Sans MS"/>
                  </a:rPr>
                  <a:t>lone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2000" spc="-1" strike="noStrike">
                    <a:solidFill>
                      <a:srgbClr val="ff0000"/>
                    </a:solidFill>
                    <a:latin typeface="Comic Sans MS"/>
                  </a:rPr>
                  <a:t>pair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3" name=""/>
            <p:cNvGrpSpPr/>
            <p:nvPr/>
          </p:nvGrpSpPr>
          <p:grpSpPr>
            <a:xfrm>
              <a:off x="125280" y="5308560"/>
              <a:ext cx="2093760" cy="1015920"/>
              <a:chOff x="125280" y="5308560"/>
              <a:chExt cx="2093760" cy="1015920"/>
            </a:xfrm>
          </p:grpSpPr>
          <p:grpSp>
            <p:nvGrpSpPr>
              <p:cNvPr id="414" name=""/>
              <p:cNvGrpSpPr/>
              <p:nvPr/>
            </p:nvGrpSpPr>
            <p:grpSpPr>
              <a:xfrm>
                <a:off x="1380600" y="5308560"/>
                <a:ext cx="838440" cy="1015920"/>
                <a:chOff x="1380600" y="5308560"/>
                <a:chExt cx="838440" cy="1015920"/>
              </a:xfrm>
            </p:grpSpPr>
            <p:sp>
              <p:nvSpPr>
                <p:cNvPr id="415" name=""/>
                <p:cNvSpPr/>
                <p:nvPr/>
              </p:nvSpPr>
              <p:spPr>
                <a:xfrm flipH="1">
                  <a:off x="1380240" y="5308560"/>
                  <a:ext cx="838440" cy="419040"/>
                </a:xfrm>
                <a:custGeom>
                  <a:avLst/>
                  <a:gdLst/>
                  <a:ahLst/>
                  <a:rect l="l" t="t" r="r" b="b"/>
                  <a:pathLst>
                    <a:path w="528" h="264">
                      <a:moveTo>
                        <a:pt x="0" y="120"/>
                      </a:moveTo>
                      <a:cubicBezTo>
                        <a:pt x="28" y="60"/>
                        <a:pt x="56" y="0"/>
                        <a:pt x="144" y="24"/>
                      </a:cubicBezTo>
                      <a:cubicBezTo>
                        <a:pt x="232" y="48"/>
                        <a:pt x="380" y="156"/>
                        <a:pt x="528" y="264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 flipH="1" flipV="1">
                  <a:off x="1380240" y="5905440"/>
                  <a:ext cx="838440" cy="419040"/>
                </a:xfrm>
                <a:custGeom>
                  <a:avLst/>
                  <a:gdLst/>
                  <a:ahLst/>
                  <a:rect l="l" t="t" r="r" b="b"/>
                  <a:pathLst>
                    <a:path w="528" h="264">
                      <a:moveTo>
                        <a:pt x="0" y="120"/>
                      </a:moveTo>
                      <a:cubicBezTo>
                        <a:pt x="28" y="60"/>
                        <a:pt x="56" y="0"/>
                        <a:pt x="144" y="24"/>
                      </a:cubicBezTo>
                      <a:cubicBezTo>
                        <a:pt x="232" y="48"/>
                        <a:pt x="380" y="156"/>
                        <a:pt x="528" y="264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 flipH="1">
                  <a:off x="1380600" y="5803920"/>
                  <a:ext cx="609840" cy="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8" name=""/>
              <p:cNvSpPr/>
              <p:nvPr/>
            </p:nvSpPr>
            <p:spPr>
              <a:xfrm>
                <a:off x="125280" y="5619600"/>
                <a:ext cx="1359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Comic Sans MS"/>
                  </a:rPr>
                  <a:t>lone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2000" spc="-1" strike="noStrike">
                    <a:solidFill>
                      <a:srgbClr val="ff0000"/>
                    </a:solidFill>
                    <a:latin typeface="Comic Sans MS"/>
                  </a:rPr>
                  <a:t>pair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19" name=""/>
          <p:cNvGrpSpPr/>
          <p:nvPr/>
        </p:nvGrpSpPr>
        <p:grpSpPr>
          <a:xfrm>
            <a:off x="1105920" y="4654440"/>
            <a:ext cx="2652480" cy="1365480"/>
            <a:chOff x="1105920" y="4654440"/>
            <a:chExt cx="2652480" cy="1365480"/>
          </a:xfrm>
        </p:grpSpPr>
        <p:sp>
          <p:nvSpPr>
            <p:cNvPr id="420" name=""/>
            <p:cNvSpPr/>
            <p:nvPr/>
          </p:nvSpPr>
          <p:spPr>
            <a:xfrm>
              <a:off x="2336760" y="5562720"/>
              <a:ext cx="152280" cy="457200"/>
            </a:xfrm>
            <a:prstGeom prst="ellipse">
              <a:avLst/>
            </a:pr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105920" y="4654440"/>
              <a:ext cx="26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single covalent bon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413080" y="5029200"/>
              <a:ext cx="0" cy="45720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5208120" y="4876560"/>
            <a:ext cx="2652480" cy="862560"/>
            <a:chOff x="5208120" y="4876560"/>
            <a:chExt cx="2652480" cy="862560"/>
          </a:xfrm>
        </p:grpSpPr>
        <p:sp>
          <p:nvSpPr>
            <p:cNvPr id="424" name=""/>
            <p:cNvSpPr/>
            <p:nvPr/>
          </p:nvSpPr>
          <p:spPr>
            <a:xfrm>
              <a:off x="5208120" y="5340240"/>
              <a:ext cx="26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single covalent bon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>
              <a:off x="6527880" y="4876560"/>
              <a:ext cx="0" cy="53316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6" name=""/>
          <p:cNvSpPr/>
          <p:nvPr/>
        </p:nvSpPr>
        <p:spPr>
          <a:xfrm>
            <a:off x="432000" y="339840"/>
            <a:ext cx="520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9.4 The Covalent bo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C6FB5D-4920-4D02-956E-07F1B3584C6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468360" y="907920"/>
            <a:ext cx="842472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Covalent B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Two shared electrons → one (single) covalent b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Comic Sans MS"/>
              </a:rPr>
              <a:t>Four shared electrons → two (double) covalent bo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ff"/>
                </a:solidFill>
                <a:latin typeface="Comic Sans MS"/>
              </a:rPr>
              <a:t>Six shared electrons → three (triple) covalent bond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2D8FC5-2315-410E-ADFE-258900DA827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8" name=""/>
          <p:cNvGrpSpPr/>
          <p:nvPr/>
        </p:nvGrpSpPr>
        <p:grpSpPr>
          <a:xfrm>
            <a:off x="4851360" y="1117440"/>
            <a:ext cx="685800" cy="1164600"/>
            <a:chOff x="4851360" y="1117440"/>
            <a:chExt cx="685800" cy="1164600"/>
          </a:xfrm>
        </p:grpSpPr>
        <p:sp>
          <p:nvSpPr>
            <p:cNvPr id="429" name=""/>
            <p:cNvSpPr/>
            <p:nvPr/>
          </p:nvSpPr>
          <p:spPr>
            <a:xfrm>
              <a:off x="4851360" y="1117440"/>
              <a:ext cx="685800" cy="68580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903200" y="1822320"/>
              <a:ext cx="58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8e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1" name=""/>
          <p:cNvGrpSpPr/>
          <p:nvPr/>
        </p:nvGrpSpPr>
        <p:grpSpPr>
          <a:xfrm>
            <a:off x="824400" y="1239840"/>
            <a:ext cx="431280" cy="459720"/>
            <a:chOff x="824400" y="1239840"/>
            <a:chExt cx="431280" cy="459720"/>
          </a:xfrm>
        </p:grpSpPr>
        <p:sp>
          <p:nvSpPr>
            <p:cNvPr id="432" name=""/>
            <p:cNvSpPr/>
            <p:nvPr/>
          </p:nvSpPr>
          <p:spPr>
            <a:xfrm>
              <a:off x="824400" y="123984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179360" y="134604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4" name=""/>
          <p:cNvGrpSpPr/>
          <p:nvPr/>
        </p:nvGrpSpPr>
        <p:grpSpPr>
          <a:xfrm>
            <a:off x="2859120" y="1238400"/>
            <a:ext cx="430920" cy="459720"/>
            <a:chOff x="2859120" y="1238400"/>
            <a:chExt cx="430920" cy="459720"/>
          </a:xfrm>
        </p:grpSpPr>
        <p:sp>
          <p:nvSpPr>
            <p:cNvPr id="435" name=""/>
            <p:cNvSpPr/>
            <p:nvPr/>
          </p:nvSpPr>
          <p:spPr>
            <a:xfrm>
              <a:off x="2883600" y="123840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859120" y="148608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1828800" y="1219320"/>
            <a:ext cx="444600" cy="480240"/>
            <a:chOff x="1828800" y="1219320"/>
            <a:chExt cx="444600" cy="480240"/>
          </a:xfrm>
        </p:grpSpPr>
        <p:sp>
          <p:nvSpPr>
            <p:cNvPr id="438" name=""/>
            <p:cNvSpPr/>
            <p:nvPr/>
          </p:nvSpPr>
          <p:spPr>
            <a:xfrm>
              <a:off x="1848960" y="123984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828800" y="149832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197080" y="134604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1" name=""/>
            <p:cNvGrpSpPr/>
            <p:nvPr/>
          </p:nvGrpSpPr>
          <p:grpSpPr>
            <a:xfrm>
              <a:off x="1930320" y="1219320"/>
              <a:ext cx="228600" cy="75960"/>
              <a:chOff x="1930320" y="1219320"/>
              <a:chExt cx="228600" cy="75960"/>
            </a:xfrm>
          </p:grpSpPr>
          <p:sp>
            <p:nvSpPr>
              <p:cNvPr id="442" name=""/>
              <p:cNvSpPr/>
              <p:nvPr/>
            </p:nvSpPr>
            <p:spPr>
              <a:xfrm rot="5400000">
                <a:off x="2082600" y="121896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 rot="5400000">
                <a:off x="1930320" y="121932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4" name=""/>
            <p:cNvGrpSpPr/>
            <p:nvPr/>
          </p:nvGrpSpPr>
          <p:grpSpPr>
            <a:xfrm>
              <a:off x="1930320" y="1612800"/>
              <a:ext cx="228600" cy="75960"/>
              <a:chOff x="1930320" y="1612800"/>
              <a:chExt cx="228600" cy="75960"/>
            </a:xfrm>
          </p:grpSpPr>
          <p:sp>
            <p:nvSpPr>
              <p:cNvPr id="445" name=""/>
              <p:cNvSpPr/>
              <p:nvPr/>
            </p:nvSpPr>
            <p:spPr>
              <a:xfrm rot="5400000">
                <a:off x="2082600" y="161244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 rot="5400000">
                <a:off x="1930320" y="161280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47" name=""/>
          <p:cNvSpPr/>
          <p:nvPr/>
        </p:nvSpPr>
        <p:spPr>
          <a:xfrm>
            <a:off x="1356120" y="12254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372400" y="12254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3441600" y="1460520"/>
            <a:ext cx="914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0" name=""/>
          <p:cNvGrpSpPr/>
          <p:nvPr/>
        </p:nvGrpSpPr>
        <p:grpSpPr>
          <a:xfrm>
            <a:off x="4634640" y="1219320"/>
            <a:ext cx="3671280" cy="480240"/>
            <a:chOff x="4634640" y="1219320"/>
            <a:chExt cx="3671280" cy="480240"/>
          </a:xfrm>
        </p:grpSpPr>
        <p:grpSp>
          <p:nvGrpSpPr>
            <p:cNvPr id="451" name=""/>
            <p:cNvGrpSpPr/>
            <p:nvPr/>
          </p:nvGrpSpPr>
          <p:grpSpPr>
            <a:xfrm>
              <a:off x="4634640" y="1219320"/>
              <a:ext cx="1144080" cy="480240"/>
              <a:chOff x="4634640" y="1219320"/>
              <a:chExt cx="1144080" cy="480240"/>
            </a:xfrm>
          </p:grpSpPr>
          <p:grpSp>
            <p:nvGrpSpPr>
              <p:cNvPr id="452" name=""/>
              <p:cNvGrpSpPr/>
              <p:nvPr/>
            </p:nvGrpSpPr>
            <p:grpSpPr>
              <a:xfrm>
                <a:off x="4978080" y="1219320"/>
                <a:ext cx="443880" cy="480240"/>
                <a:chOff x="4978080" y="1219320"/>
                <a:chExt cx="443880" cy="480240"/>
              </a:xfrm>
            </p:grpSpPr>
            <p:sp>
              <p:nvSpPr>
                <p:cNvPr id="453" name=""/>
                <p:cNvSpPr/>
                <p:nvPr/>
              </p:nvSpPr>
              <p:spPr>
                <a:xfrm>
                  <a:off x="4997520" y="1239840"/>
                  <a:ext cx="418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54" name=""/>
                <p:cNvGrpSpPr/>
                <p:nvPr/>
              </p:nvGrpSpPr>
              <p:grpSpPr>
                <a:xfrm>
                  <a:off x="4978080" y="1346040"/>
                  <a:ext cx="75960" cy="228600"/>
                  <a:chOff x="4978080" y="1346040"/>
                  <a:chExt cx="75960" cy="228600"/>
                </a:xfrm>
              </p:grpSpPr>
              <p:sp>
                <p:nvSpPr>
                  <p:cNvPr id="455" name=""/>
                  <p:cNvSpPr/>
                  <p:nvPr/>
                </p:nvSpPr>
                <p:spPr>
                  <a:xfrm>
                    <a:off x="4978080" y="1346040"/>
                    <a:ext cx="75960" cy="763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6" name=""/>
                  <p:cNvSpPr/>
                  <p:nvPr/>
                </p:nvSpPr>
                <p:spPr>
                  <a:xfrm>
                    <a:off x="4978080" y="1498680"/>
                    <a:ext cx="7596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57" name=""/>
                <p:cNvSpPr/>
                <p:nvPr/>
              </p:nvSpPr>
              <p:spPr>
                <a:xfrm>
                  <a:off x="5346000" y="134604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58" name=""/>
                <p:cNvGrpSpPr/>
                <p:nvPr/>
              </p:nvGrpSpPr>
              <p:grpSpPr>
                <a:xfrm>
                  <a:off x="5079600" y="1219320"/>
                  <a:ext cx="227880" cy="75960"/>
                  <a:chOff x="5079600" y="1219320"/>
                  <a:chExt cx="227880" cy="75960"/>
                </a:xfrm>
              </p:grpSpPr>
              <p:sp>
                <p:nvSpPr>
                  <p:cNvPr id="459" name=""/>
                  <p:cNvSpPr/>
                  <p:nvPr/>
                </p:nvSpPr>
                <p:spPr>
                  <a:xfrm rot="5400000">
                    <a:off x="5231520" y="1219320"/>
                    <a:ext cx="7596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0" name=""/>
                  <p:cNvSpPr/>
                  <p:nvPr/>
                </p:nvSpPr>
                <p:spPr>
                  <a:xfrm rot="5400000">
                    <a:off x="5079240" y="1219320"/>
                    <a:ext cx="75960" cy="75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1" name=""/>
                <p:cNvGrpSpPr/>
                <p:nvPr/>
              </p:nvGrpSpPr>
              <p:grpSpPr>
                <a:xfrm>
                  <a:off x="5079600" y="1612800"/>
                  <a:ext cx="227880" cy="76320"/>
                  <a:chOff x="5079600" y="1612800"/>
                  <a:chExt cx="227880" cy="76320"/>
                </a:xfrm>
              </p:grpSpPr>
              <p:sp>
                <p:nvSpPr>
                  <p:cNvPr id="462" name=""/>
                  <p:cNvSpPr/>
                  <p:nvPr/>
                </p:nvSpPr>
                <p:spPr>
                  <a:xfrm rot="5400000">
                    <a:off x="5231160" y="1612800"/>
                    <a:ext cx="7632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3" name=""/>
                  <p:cNvSpPr/>
                  <p:nvPr/>
                </p:nvSpPr>
                <p:spPr>
                  <a:xfrm rot="5400000">
                    <a:off x="5079240" y="1613160"/>
                    <a:ext cx="76320" cy="75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64" name=""/>
              <p:cNvSpPr/>
              <p:nvPr/>
            </p:nvSpPr>
            <p:spPr>
              <a:xfrm>
                <a:off x="5346360" y="149868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4634640" y="1238400"/>
                <a:ext cx="40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372280" y="1238400"/>
                <a:ext cx="40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7" name=""/>
            <p:cNvGrpSpPr/>
            <p:nvPr/>
          </p:nvGrpSpPr>
          <p:grpSpPr>
            <a:xfrm>
              <a:off x="6793200" y="1219320"/>
              <a:ext cx="1512720" cy="480240"/>
              <a:chOff x="6793200" y="1219320"/>
              <a:chExt cx="1512720" cy="480240"/>
            </a:xfrm>
          </p:grpSpPr>
          <p:sp>
            <p:nvSpPr>
              <p:cNvPr id="468" name=""/>
              <p:cNvSpPr/>
              <p:nvPr/>
            </p:nvSpPr>
            <p:spPr>
              <a:xfrm>
                <a:off x="7334640" y="1239840"/>
                <a:ext cx="41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69" name=""/>
              <p:cNvGrpSpPr/>
              <p:nvPr/>
            </p:nvGrpSpPr>
            <p:grpSpPr>
              <a:xfrm>
                <a:off x="7416720" y="1219320"/>
                <a:ext cx="227880" cy="75960"/>
                <a:chOff x="7416720" y="1219320"/>
                <a:chExt cx="227880" cy="75960"/>
              </a:xfrm>
            </p:grpSpPr>
            <p:sp>
              <p:nvSpPr>
                <p:cNvPr id="470" name=""/>
                <p:cNvSpPr/>
                <p:nvPr/>
              </p:nvSpPr>
              <p:spPr>
                <a:xfrm rot="5400000">
                  <a:off x="7568640" y="121932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 rot="5400000">
                  <a:off x="7416360" y="1219320"/>
                  <a:ext cx="7596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2" name=""/>
              <p:cNvGrpSpPr/>
              <p:nvPr/>
            </p:nvGrpSpPr>
            <p:grpSpPr>
              <a:xfrm>
                <a:off x="7416720" y="1612800"/>
                <a:ext cx="227880" cy="76320"/>
                <a:chOff x="7416720" y="1612800"/>
                <a:chExt cx="227880" cy="76320"/>
              </a:xfrm>
            </p:grpSpPr>
            <p:sp>
              <p:nvSpPr>
                <p:cNvPr id="473" name=""/>
                <p:cNvSpPr/>
                <p:nvPr/>
              </p:nvSpPr>
              <p:spPr>
                <a:xfrm rot="5400000">
                  <a:off x="7568280" y="161280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 rot="5400000">
                  <a:off x="7416360" y="161316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5" name=""/>
              <p:cNvSpPr/>
              <p:nvPr/>
            </p:nvSpPr>
            <p:spPr>
              <a:xfrm>
                <a:off x="7682760" y="1460520"/>
                <a:ext cx="304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7098840" y="1460520"/>
                <a:ext cx="304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7899480" y="1238400"/>
                <a:ext cx="40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6793200" y="1238400"/>
                <a:ext cx="40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9" name=""/>
            <p:cNvSpPr/>
            <p:nvPr/>
          </p:nvSpPr>
          <p:spPr>
            <a:xfrm>
              <a:off x="6064920" y="1238400"/>
              <a:ext cx="49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0" name=""/>
          <p:cNvGrpSpPr/>
          <p:nvPr/>
        </p:nvGrpSpPr>
        <p:grpSpPr>
          <a:xfrm>
            <a:off x="4563720" y="1130400"/>
            <a:ext cx="583200" cy="1151640"/>
            <a:chOff x="4563720" y="1130400"/>
            <a:chExt cx="583200" cy="1151640"/>
          </a:xfrm>
        </p:grpSpPr>
        <p:sp>
          <p:nvSpPr>
            <p:cNvPr id="481" name=""/>
            <p:cNvSpPr/>
            <p:nvPr/>
          </p:nvSpPr>
          <p:spPr>
            <a:xfrm>
              <a:off x="4635360" y="1130400"/>
              <a:ext cx="456840" cy="6094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563720" y="1822320"/>
              <a:ext cx="58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2e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3" name=""/>
          <p:cNvGrpSpPr/>
          <p:nvPr/>
        </p:nvGrpSpPr>
        <p:grpSpPr>
          <a:xfrm>
            <a:off x="5254200" y="1130400"/>
            <a:ext cx="583200" cy="1151640"/>
            <a:chOff x="5254200" y="1130400"/>
            <a:chExt cx="583200" cy="1151640"/>
          </a:xfrm>
        </p:grpSpPr>
        <p:sp>
          <p:nvSpPr>
            <p:cNvPr id="484" name=""/>
            <p:cNvSpPr/>
            <p:nvPr/>
          </p:nvSpPr>
          <p:spPr>
            <a:xfrm>
              <a:off x="5325840" y="1130400"/>
              <a:ext cx="456840" cy="6094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254200" y="1822320"/>
              <a:ext cx="58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2e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6" name=""/>
          <p:cNvSpPr/>
          <p:nvPr/>
        </p:nvSpPr>
        <p:spPr>
          <a:xfrm>
            <a:off x="797040" y="490680"/>
            <a:ext cx="390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Lewis structure of 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634680" y="2700360"/>
            <a:ext cx="78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ouble bon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two atoms share two pairs of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8" name=""/>
          <p:cNvGrpSpPr/>
          <p:nvPr/>
        </p:nvGrpSpPr>
        <p:grpSpPr>
          <a:xfrm>
            <a:off x="6162840" y="603360"/>
            <a:ext cx="2774520" cy="755640"/>
            <a:chOff x="6162840" y="603360"/>
            <a:chExt cx="2774520" cy="755640"/>
          </a:xfrm>
        </p:grpSpPr>
        <p:sp>
          <p:nvSpPr>
            <p:cNvPr id="489" name=""/>
            <p:cNvSpPr/>
            <p:nvPr/>
          </p:nvSpPr>
          <p:spPr>
            <a:xfrm>
              <a:off x="6162840" y="603360"/>
              <a:ext cx="2774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single covalent bon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188120" y="901800"/>
              <a:ext cx="266040" cy="457200"/>
            </a:xfrm>
            <a:custGeom>
              <a:avLst/>
              <a:gdLst/>
              <a:ahLst/>
              <a:rect l="l" t="t" r="r" b="b"/>
              <a:pathLst>
                <a:path w="168" h="288">
                  <a:moveTo>
                    <a:pt x="168" y="0"/>
                  </a:moveTo>
                  <a:cubicBezTo>
                    <a:pt x="108" y="48"/>
                    <a:pt x="48" y="96"/>
                    <a:pt x="24" y="144"/>
                  </a:cubicBezTo>
                  <a:cubicBezTo>
                    <a:pt x="0" y="192"/>
                    <a:pt x="12" y="240"/>
                    <a:pt x="24" y="288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 flipH="1">
              <a:off x="7607160" y="901800"/>
              <a:ext cx="266400" cy="457200"/>
            </a:xfrm>
            <a:custGeom>
              <a:avLst/>
              <a:gdLst/>
              <a:ahLst/>
              <a:rect l="l" t="t" r="r" b="b"/>
              <a:pathLst>
                <a:path w="168" h="288">
                  <a:moveTo>
                    <a:pt x="168" y="0"/>
                  </a:moveTo>
                  <a:cubicBezTo>
                    <a:pt x="108" y="48"/>
                    <a:pt x="48" y="96"/>
                    <a:pt x="24" y="144"/>
                  </a:cubicBezTo>
                  <a:cubicBezTo>
                    <a:pt x="0" y="192"/>
                    <a:pt x="12" y="240"/>
                    <a:pt x="24" y="288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2" name=""/>
          <p:cNvGrpSpPr/>
          <p:nvPr/>
        </p:nvGrpSpPr>
        <p:grpSpPr>
          <a:xfrm>
            <a:off x="2395080" y="3492360"/>
            <a:ext cx="1405080" cy="491400"/>
            <a:chOff x="2395080" y="3492360"/>
            <a:chExt cx="1405080" cy="491400"/>
          </a:xfrm>
        </p:grpSpPr>
        <p:sp>
          <p:nvSpPr>
            <p:cNvPr id="493" name=""/>
            <p:cNvSpPr/>
            <p:nvPr/>
          </p:nvSpPr>
          <p:spPr>
            <a:xfrm>
              <a:off x="2395080" y="351288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743200" y="377172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743200" y="361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6" name=""/>
            <p:cNvGrpSpPr/>
            <p:nvPr/>
          </p:nvGrpSpPr>
          <p:grpSpPr>
            <a:xfrm>
              <a:off x="2476080" y="3492360"/>
              <a:ext cx="228600" cy="75960"/>
              <a:chOff x="2476080" y="3492360"/>
              <a:chExt cx="228600" cy="75960"/>
            </a:xfrm>
          </p:grpSpPr>
          <p:sp>
            <p:nvSpPr>
              <p:cNvPr id="497" name=""/>
              <p:cNvSpPr/>
              <p:nvPr/>
            </p:nvSpPr>
            <p:spPr>
              <a:xfrm rot="5400000">
                <a:off x="2628360" y="349200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 rot="5400000">
                <a:off x="2476080" y="349236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9" name=""/>
            <p:cNvGrpSpPr/>
            <p:nvPr/>
          </p:nvGrpSpPr>
          <p:grpSpPr>
            <a:xfrm>
              <a:off x="2476080" y="3885840"/>
              <a:ext cx="228600" cy="76320"/>
              <a:chOff x="2476080" y="3885840"/>
              <a:chExt cx="228600" cy="76320"/>
            </a:xfrm>
          </p:grpSpPr>
          <p:sp>
            <p:nvSpPr>
              <p:cNvPr id="500" name=""/>
              <p:cNvSpPr/>
              <p:nvPr/>
            </p:nvSpPr>
            <p:spPr>
              <a:xfrm rot="5400000">
                <a:off x="2628360" y="388584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 rot="5400000">
                <a:off x="2475720" y="388584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2" name=""/>
            <p:cNvSpPr/>
            <p:nvPr/>
          </p:nvSpPr>
          <p:spPr>
            <a:xfrm>
              <a:off x="2882880" y="377172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882880" y="361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912400" y="352404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5" name=""/>
            <p:cNvGrpSpPr/>
            <p:nvPr/>
          </p:nvGrpSpPr>
          <p:grpSpPr>
            <a:xfrm>
              <a:off x="3317400" y="3492360"/>
              <a:ext cx="482760" cy="480240"/>
              <a:chOff x="3317400" y="3492360"/>
              <a:chExt cx="482760" cy="480240"/>
            </a:xfrm>
          </p:grpSpPr>
          <p:sp>
            <p:nvSpPr>
              <p:cNvPr id="506" name=""/>
              <p:cNvSpPr/>
              <p:nvPr/>
            </p:nvSpPr>
            <p:spPr>
              <a:xfrm>
                <a:off x="3318840" y="3512880"/>
                <a:ext cx="41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3457080" y="377172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3457080" y="361944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9" name=""/>
              <p:cNvGrpSpPr/>
              <p:nvPr/>
            </p:nvGrpSpPr>
            <p:grpSpPr>
              <a:xfrm>
                <a:off x="3571560" y="3492360"/>
                <a:ext cx="228600" cy="76320"/>
                <a:chOff x="3571560" y="3492360"/>
                <a:chExt cx="228600" cy="76320"/>
              </a:xfrm>
            </p:grpSpPr>
            <p:sp>
              <p:nvSpPr>
                <p:cNvPr id="510" name=""/>
                <p:cNvSpPr/>
                <p:nvPr/>
              </p:nvSpPr>
              <p:spPr>
                <a:xfrm rot="5400000">
                  <a:off x="3723840" y="349236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 rot="5400000">
                  <a:off x="3571200" y="349236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2" name=""/>
              <p:cNvGrpSpPr/>
              <p:nvPr/>
            </p:nvGrpSpPr>
            <p:grpSpPr>
              <a:xfrm>
                <a:off x="3571560" y="3886200"/>
                <a:ext cx="228600" cy="75960"/>
                <a:chOff x="3571560" y="3886200"/>
                <a:chExt cx="228600" cy="75960"/>
              </a:xfrm>
            </p:grpSpPr>
            <p:sp>
              <p:nvSpPr>
                <p:cNvPr id="513" name=""/>
                <p:cNvSpPr/>
                <p:nvPr/>
              </p:nvSpPr>
              <p:spPr>
                <a:xfrm rot="5400000">
                  <a:off x="3723840" y="388584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 rot="5400000">
                  <a:off x="3571560" y="388620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5" name=""/>
              <p:cNvSpPr/>
              <p:nvPr/>
            </p:nvSpPr>
            <p:spPr>
              <a:xfrm>
                <a:off x="3317400" y="377172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3317400" y="361944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17" name=""/>
          <p:cNvSpPr/>
          <p:nvPr/>
        </p:nvSpPr>
        <p:spPr>
          <a:xfrm>
            <a:off x="4534920" y="3511440"/>
            <a:ext cx="49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5765400" y="3498840"/>
            <a:ext cx="1897560" cy="478800"/>
            <a:chOff x="5765400" y="3498840"/>
            <a:chExt cx="1897560" cy="478800"/>
          </a:xfrm>
        </p:grpSpPr>
        <p:sp>
          <p:nvSpPr>
            <p:cNvPr id="519" name=""/>
            <p:cNvSpPr/>
            <p:nvPr/>
          </p:nvSpPr>
          <p:spPr>
            <a:xfrm>
              <a:off x="5765400" y="351288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0" name=""/>
            <p:cNvGrpSpPr/>
            <p:nvPr/>
          </p:nvGrpSpPr>
          <p:grpSpPr>
            <a:xfrm>
              <a:off x="5846400" y="3498840"/>
              <a:ext cx="228600" cy="469800"/>
              <a:chOff x="5846400" y="3498840"/>
              <a:chExt cx="228600" cy="469800"/>
            </a:xfrm>
          </p:grpSpPr>
          <p:grpSp>
            <p:nvGrpSpPr>
              <p:cNvPr id="521" name=""/>
              <p:cNvGrpSpPr/>
              <p:nvPr/>
            </p:nvGrpSpPr>
            <p:grpSpPr>
              <a:xfrm>
                <a:off x="5846400" y="3498840"/>
                <a:ext cx="228600" cy="75960"/>
                <a:chOff x="5846400" y="3498840"/>
                <a:chExt cx="228600" cy="75960"/>
              </a:xfrm>
            </p:grpSpPr>
            <p:sp>
              <p:nvSpPr>
                <p:cNvPr id="522" name=""/>
                <p:cNvSpPr/>
                <p:nvPr/>
              </p:nvSpPr>
              <p:spPr>
                <a:xfrm rot="5400000">
                  <a:off x="5998680" y="349848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 rot="5400000">
                  <a:off x="5846400" y="349884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4" name=""/>
              <p:cNvGrpSpPr/>
              <p:nvPr/>
            </p:nvGrpSpPr>
            <p:grpSpPr>
              <a:xfrm>
                <a:off x="5846400" y="3892320"/>
                <a:ext cx="228600" cy="76320"/>
                <a:chOff x="5846400" y="3892320"/>
                <a:chExt cx="228600" cy="76320"/>
              </a:xfrm>
            </p:grpSpPr>
            <p:sp>
              <p:nvSpPr>
                <p:cNvPr id="525" name=""/>
                <p:cNvSpPr/>
                <p:nvPr/>
              </p:nvSpPr>
              <p:spPr>
                <a:xfrm rot="5400000">
                  <a:off x="5998680" y="389232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 rot="5400000">
                  <a:off x="5846040" y="389232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27" name=""/>
            <p:cNvGrpSpPr/>
            <p:nvPr/>
          </p:nvGrpSpPr>
          <p:grpSpPr>
            <a:xfrm>
              <a:off x="6184800" y="3695400"/>
              <a:ext cx="381240" cy="76320"/>
              <a:chOff x="6184800" y="3695400"/>
              <a:chExt cx="381240" cy="76320"/>
            </a:xfrm>
          </p:grpSpPr>
          <p:sp>
            <p:nvSpPr>
              <p:cNvPr id="528" name=""/>
              <p:cNvSpPr/>
              <p:nvPr/>
            </p:nvSpPr>
            <p:spPr>
              <a:xfrm>
                <a:off x="6184800" y="3695400"/>
                <a:ext cx="381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6184800" y="3771720"/>
                <a:ext cx="381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0" name=""/>
            <p:cNvSpPr/>
            <p:nvPr/>
          </p:nvSpPr>
          <p:spPr>
            <a:xfrm>
              <a:off x="6532200" y="351792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1" name=""/>
            <p:cNvGrpSpPr/>
            <p:nvPr/>
          </p:nvGrpSpPr>
          <p:grpSpPr>
            <a:xfrm>
              <a:off x="6942960" y="3498840"/>
              <a:ext cx="720000" cy="473760"/>
              <a:chOff x="6942960" y="3498840"/>
              <a:chExt cx="720000" cy="473760"/>
            </a:xfrm>
          </p:grpSpPr>
          <p:sp>
            <p:nvSpPr>
              <p:cNvPr id="532" name=""/>
              <p:cNvSpPr/>
              <p:nvPr/>
            </p:nvSpPr>
            <p:spPr>
              <a:xfrm flipH="1">
                <a:off x="6942960" y="3512880"/>
                <a:ext cx="41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33" name=""/>
              <p:cNvGrpSpPr/>
              <p:nvPr/>
            </p:nvGrpSpPr>
            <p:grpSpPr>
              <a:xfrm>
                <a:off x="7434360" y="3498840"/>
                <a:ext cx="228600" cy="469800"/>
                <a:chOff x="7434360" y="3498840"/>
                <a:chExt cx="228600" cy="469800"/>
              </a:xfrm>
            </p:grpSpPr>
            <p:grpSp>
              <p:nvGrpSpPr>
                <p:cNvPr id="534" name=""/>
                <p:cNvGrpSpPr/>
                <p:nvPr/>
              </p:nvGrpSpPr>
              <p:grpSpPr>
                <a:xfrm>
                  <a:off x="7434360" y="3498840"/>
                  <a:ext cx="228600" cy="75960"/>
                  <a:chOff x="7434360" y="3498840"/>
                  <a:chExt cx="228600" cy="75960"/>
                </a:xfrm>
              </p:grpSpPr>
              <p:sp>
                <p:nvSpPr>
                  <p:cNvPr id="535" name=""/>
                  <p:cNvSpPr/>
                  <p:nvPr/>
                </p:nvSpPr>
                <p:spPr>
                  <a:xfrm flipH="1" rot="16200000">
                    <a:off x="7434360" y="3498480"/>
                    <a:ext cx="75960" cy="763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6" name=""/>
                  <p:cNvSpPr/>
                  <p:nvPr/>
                </p:nvSpPr>
                <p:spPr>
                  <a:xfrm flipH="1" rot="16200000">
                    <a:off x="7586640" y="3498840"/>
                    <a:ext cx="7596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7" name=""/>
                <p:cNvGrpSpPr/>
                <p:nvPr/>
              </p:nvGrpSpPr>
              <p:grpSpPr>
                <a:xfrm>
                  <a:off x="7434360" y="3892320"/>
                  <a:ext cx="228600" cy="76320"/>
                  <a:chOff x="7434360" y="3892320"/>
                  <a:chExt cx="228600" cy="76320"/>
                </a:xfrm>
              </p:grpSpPr>
              <p:sp>
                <p:nvSpPr>
                  <p:cNvPr id="538" name=""/>
                  <p:cNvSpPr/>
                  <p:nvPr/>
                </p:nvSpPr>
                <p:spPr>
                  <a:xfrm flipH="1" rot="16200000">
                    <a:off x="7434360" y="3892320"/>
                    <a:ext cx="76320" cy="763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9" name=""/>
                  <p:cNvSpPr/>
                  <p:nvPr/>
                </p:nvSpPr>
                <p:spPr>
                  <a:xfrm flipH="1" rot="16200000">
                    <a:off x="7586280" y="3892320"/>
                    <a:ext cx="7632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40" name=""/>
              <p:cNvGrpSpPr/>
              <p:nvPr/>
            </p:nvGrpSpPr>
            <p:grpSpPr>
              <a:xfrm>
                <a:off x="6943320" y="3695400"/>
                <a:ext cx="380880" cy="75960"/>
                <a:chOff x="6943320" y="3695400"/>
                <a:chExt cx="380880" cy="75960"/>
              </a:xfrm>
            </p:grpSpPr>
            <p:sp>
              <p:nvSpPr>
                <p:cNvPr id="541" name=""/>
                <p:cNvSpPr/>
                <p:nvPr/>
              </p:nvSpPr>
              <p:spPr>
                <a:xfrm flipH="1">
                  <a:off x="6943320" y="3695400"/>
                  <a:ext cx="3808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 flipH="1">
                  <a:off x="6943320" y="3771360"/>
                  <a:ext cx="3808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43" name=""/>
          <p:cNvGrpSpPr/>
          <p:nvPr/>
        </p:nvGrpSpPr>
        <p:grpSpPr>
          <a:xfrm>
            <a:off x="2336760" y="3416400"/>
            <a:ext cx="685800" cy="1151640"/>
            <a:chOff x="2336760" y="3416400"/>
            <a:chExt cx="685800" cy="1151640"/>
          </a:xfrm>
        </p:grpSpPr>
        <p:sp>
          <p:nvSpPr>
            <p:cNvPr id="544" name=""/>
            <p:cNvSpPr/>
            <p:nvPr/>
          </p:nvSpPr>
          <p:spPr>
            <a:xfrm>
              <a:off x="2336760" y="3416400"/>
              <a:ext cx="685800" cy="6091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388960" y="4108320"/>
              <a:ext cx="58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8e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" name=""/>
          <p:cNvGrpSpPr/>
          <p:nvPr/>
        </p:nvGrpSpPr>
        <p:grpSpPr>
          <a:xfrm>
            <a:off x="3200400" y="3416400"/>
            <a:ext cx="685800" cy="1151640"/>
            <a:chOff x="3200400" y="3416400"/>
            <a:chExt cx="685800" cy="1151640"/>
          </a:xfrm>
        </p:grpSpPr>
        <p:sp>
          <p:nvSpPr>
            <p:cNvPr id="547" name=""/>
            <p:cNvSpPr/>
            <p:nvPr/>
          </p:nvSpPr>
          <p:spPr>
            <a:xfrm>
              <a:off x="3200400" y="3416400"/>
              <a:ext cx="685800" cy="6091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252600" y="4108320"/>
              <a:ext cx="58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8e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9" name=""/>
          <p:cNvGrpSpPr/>
          <p:nvPr/>
        </p:nvGrpSpPr>
        <p:grpSpPr>
          <a:xfrm>
            <a:off x="2717640" y="3416400"/>
            <a:ext cx="761760" cy="1151640"/>
            <a:chOff x="2717640" y="3416400"/>
            <a:chExt cx="761760" cy="1151640"/>
          </a:xfrm>
        </p:grpSpPr>
        <p:sp>
          <p:nvSpPr>
            <p:cNvPr id="550" name=""/>
            <p:cNvSpPr/>
            <p:nvPr/>
          </p:nvSpPr>
          <p:spPr>
            <a:xfrm>
              <a:off x="2717640" y="3416400"/>
              <a:ext cx="761760" cy="6091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810880" y="4108320"/>
              <a:ext cx="58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8e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2" name=""/>
          <p:cNvGrpSpPr/>
          <p:nvPr/>
        </p:nvGrpSpPr>
        <p:grpSpPr>
          <a:xfrm>
            <a:off x="2164320" y="3492360"/>
            <a:ext cx="1826640" cy="1074960"/>
            <a:chOff x="2164320" y="3492360"/>
            <a:chExt cx="1826640" cy="1074960"/>
          </a:xfrm>
        </p:grpSpPr>
        <p:sp>
          <p:nvSpPr>
            <p:cNvPr id="553" name=""/>
            <p:cNvSpPr/>
            <p:nvPr/>
          </p:nvSpPr>
          <p:spPr>
            <a:xfrm>
              <a:off x="2654280" y="3492360"/>
              <a:ext cx="381240" cy="45720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3149640" y="3492360"/>
              <a:ext cx="381240" cy="45720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2164320" y="4168440"/>
              <a:ext cx="182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double bon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" name=""/>
          <p:cNvGrpSpPr/>
          <p:nvPr/>
        </p:nvGrpSpPr>
        <p:grpSpPr>
          <a:xfrm>
            <a:off x="5796360" y="3873240"/>
            <a:ext cx="1826640" cy="583560"/>
            <a:chOff x="5796360" y="3873240"/>
            <a:chExt cx="1826640" cy="583560"/>
          </a:xfrm>
        </p:grpSpPr>
        <p:sp>
          <p:nvSpPr>
            <p:cNvPr id="557" name=""/>
            <p:cNvSpPr/>
            <p:nvPr/>
          </p:nvSpPr>
          <p:spPr>
            <a:xfrm flipH="1" flipV="1">
              <a:off x="6387840" y="3873240"/>
              <a:ext cx="228240" cy="228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 flipV="1">
              <a:off x="6768720" y="3873240"/>
              <a:ext cx="228240" cy="228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796360" y="4057920"/>
              <a:ext cx="182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double bon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0" name=""/>
          <p:cNvSpPr/>
          <p:nvPr/>
        </p:nvSpPr>
        <p:spPr>
          <a:xfrm>
            <a:off x="725040" y="4718160"/>
            <a:ext cx="811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riple bond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two atoms share three pairs of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1" name=""/>
          <p:cNvGrpSpPr/>
          <p:nvPr/>
        </p:nvGrpSpPr>
        <p:grpSpPr>
          <a:xfrm>
            <a:off x="2336760" y="5479920"/>
            <a:ext cx="1095840" cy="461160"/>
            <a:chOff x="2336760" y="5479920"/>
            <a:chExt cx="1095840" cy="461160"/>
          </a:xfrm>
        </p:grpSpPr>
        <p:grpSp>
          <p:nvGrpSpPr>
            <p:cNvPr id="562" name=""/>
            <p:cNvGrpSpPr/>
            <p:nvPr/>
          </p:nvGrpSpPr>
          <p:grpSpPr>
            <a:xfrm>
              <a:off x="2360160" y="5479920"/>
              <a:ext cx="1072440" cy="461160"/>
              <a:chOff x="2360160" y="5479920"/>
              <a:chExt cx="1072440" cy="461160"/>
            </a:xfrm>
          </p:grpSpPr>
          <p:sp>
            <p:nvSpPr>
              <p:cNvPr id="563" name=""/>
              <p:cNvSpPr/>
              <p:nvPr/>
            </p:nvSpPr>
            <p:spPr>
              <a:xfrm>
                <a:off x="2360160" y="5481360"/>
                <a:ext cx="412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64" name=""/>
              <p:cNvGrpSpPr/>
              <p:nvPr/>
            </p:nvGrpSpPr>
            <p:grpSpPr>
              <a:xfrm>
                <a:off x="2718000" y="5587560"/>
                <a:ext cx="355320" cy="227880"/>
                <a:chOff x="2718000" y="5587560"/>
                <a:chExt cx="355320" cy="227880"/>
              </a:xfrm>
            </p:grpSpPr>
            <p:grpSp>
              <p:nvGrpSpPr>
                <p:cNvPr id="565" name=""/>
                <p:cNvGrpSpPr/>
                <p:nvPr/>
              </p:nvGrpSpPr>
              <p:grpSpPr>
                <a:xfrm>
                  <a:off x="2718000" y="5587560"/>
                  <a:ext cx="75960" cy="227880"/>
                  <a:chOff x="2718000" y="5587560"/>
                  <a:chExt cx="75960" cy="227880"/>
                </a:xfrm>
              </p:grpSpPr>
              <p:sp>
                <p:nvSpPr>
                  <p:cNvPr id="566" name=""/>
                  <p:cNvSpPr/>
                  <p:nvPr/>
                </p:nvSpPr>
                <p:spPr>
                  <a:xfrm>
                    <a:off x="2718000" y="5587560"/>
                    <a:ext cx="7596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7" name=""/>
                  <p:cNvSpPr/>
                  <p:nvPr/>
                </p:nvSpPr>
                <p:spPr>
                  <a:xfrm>
                    <a:off x="2718000" y="5739840"/>
                    <a:ext cx="75960" cy="75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8" name=""/>
                <p:cNvGrpSpPr/>
                <p:nvPr/>
              </p:nvGrpSpPr>
              <p:grpSpPr>
                <a:xfrm>
                  <a:off x="2857680" y="5587560"/>
                  <a:ext cx="75960" cy="227880"/>
                  <a:chOff x="2857680" y="5587560"/>
                  <a:chExt cx="75960" cy="227880"/>
                </a:xfrm>
              </p:grpSpPr>
              <p:sp>
                <p:nvSpPr>
                  <p:cNvPr id="569" name=""/>
                  <p:cNvSpPr/>
                  <p:nvPr/>
                </p:nvSpPr>
                <p:spPr>
                  <a:xfrm>
                    <a:off x="2857680" y="5587560"/>
                    <a:ext cx="7596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0" name=""/>
                  <p:cNvSpPr/>
                  <p:nvPr/>
                </p:nvSpPr>
                <p:spPr>
                  <a:xfrm>
                    <a:off x="2857680" y="5739840"/>
                    <a:ext cx="75960" cy="75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1" name=""/>
                <p:cNvGrpSpPr/>
                <p:nvPr/>
              </p:nvGrpSpPr>
              <p:grpSpPr>
                <a:xfrm>
                  <a:off x="2997360" y="5587560"/>
                  <a:ext cx="75960" cy="227880"/>
                  <a:chOff x="2997360" y="5587560"/>
                  <a:chExt cx="75960" cy="227880"/>
                </a:xfrm>
              </p:grpSpPr>
              <p:sp>
                <p:nvSpPr>
                  <p:cNvPr id="572" name=""/>
                  <p:cNvSpPr/>
                  <p:nvPr/>
                </p:nvSpPr>
                <p:spPr>
                  <a:xfrm>
                    <a:off x="2997360" y="5587560"/>
                    <a:ext cx="7596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3" name=""/>
                  <p:cNvSpPr/>
                  <p:nvPr/>
                </p:nvSpPr>
                <p:spPr>
                  <a:xfrm>
                    <a:off x="2997360" y="5739840"/>
                    <a:ext cx="75960" cy="75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74" name=""/>
              <p:cNvSpPr/>
              <p:nvPr/>
            </p:nvSpPr>
            <p:spPr>
              <a:xfrm>
                <a:off x="3020400" y="5479920"/>
                <a:ext cx="412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5" name=""/>
            <p:cNvGrpSpPr/>
            <p:nvPr/>
          </p:nvGrpSpPr>
          <p:grpSpPr>
            <a:xfrm>
              <a:off x="3340080" y="5587920"/>
              <a:ext cx="76320" cy="228600"/>
              <a:chOff x="3340080" y="5587920"/>
              <a:chExt cx="76320" cy="228600"/>
            </a:xfrm>
          </p:grpSpPr>
          <p:sp>
            <p:nvSpPr>
              <p:cNvPr id="576" name=""/>
              <p:cNvSpPr/>
              <p:nvPr/>
            </p:nvSpPr>
            <p:spPr>
              <a:xfrm>
                <a:off x="3340080" y="558792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340080" y="574056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2336760" y="5587920"/>
              <a:ext cx="76320" cy="228600"/>
              <a:chOff x="2336760" y="5587920"/>
              <a:chExt cx="76320" cy="228600"/>
            </a:xfrm>
          </p:grpSpPr>
          <p:sp>
            <p:nvSpPr>
              <p:cNvPr id="579" name=""/>
              <p:cNvSpPr/>
              <p:nvPr/>
            </p:nvSpPr>
            <p:spPr>
              <a:xfrm>
                <a:off x="2336760" y="558792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2336760" y="574056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81" name=""/>
          <p:cNvGrpSpPr/>
          <p:nvPr/>
        </p:nvGrpSpPr>
        <p:grpSpPr>
          <a:xfrm>
            <a:off x="2197080" y="5511960"/>
            <a:ext cx="990720" cy="847080"/>
            <a:chOff x="2197080" y="5511960"/>
            <a:chExt cx="990720" cy="847080"/>
          </a:xfrm>
        </p:grpSpPr>
        <p:sp>
          <p:nvSpPr>
            <p:cNvPr id="582" name=""/>
            <p:cNvSpPr/>
            <p:nvPr/>
          </p:nvSpPr>
          <p:spPr>
            <a:xfrm>
              <a:off x="2197080" y="5511960"/>
              <a:ext cx="990720" cy="38124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2401560" y="5899320"/>
              <a:ext cx="58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8e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4" name=""/>
          <p:cNvGrpSpPr/>
          <p:nvPr/>
        </p:nvGrpSpPr>
        <p:grpSpPr>
          <a:xfrm>
            <a:off x="2577960" y="5511960"/>
            <a:ext cx="990720" cy="847080"/>
            <a:chOff x="2577960" y="5511960"/>
            <a:chExt cx="990720" cy="847080"/>
          </a:xfrm>
        </p:grpSpPr>
        <p:sp>
          <p:nvSpPr>
            <p:cNvPr id="585" name=""/>
            <p:cNvSpPr/>
            <p:nvPr/>
          </p:nvSpPr>
          <p:spPr>
            <a:xfrm>
              <a:off x="2577960" y="5511960"/>
              <a:ext cx="990720" cy="38124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2782440" y="5899320"/>
              <a:ext cx="58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8e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7" name=""/>
          <p:cNvGrpSpPr/>
          <p:nvPr/>
        </p:nvGrpSpPr>
        <p:grpSpPr>
          <a:xfrm>
            <a:off x="6146640" y="5479920"/>
            <a:ext cx="1159200" cy="461160"/>
            <a:chOff x="6146640" y="5479920"/>
            <a:chExt cx="1159200" cy="461160"/>
          </a:xfrm>
        </p:grpSpPr>
        <p:sp>
          <p:nvSpPr>
            <p:cNvPr id="588" name=""/>
            <p:cNvSpPr/>
            <p:nvPr/>
          </p:nvSpPr>
          <p:spPr>
            <a:xfrm>
              <a:off x="6169680" y="5481360"/>
              <a:ext cx="41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6893640" y="5479920"/>
              <a:ext cx="41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213320" y="558792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7213320" y="574020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6146640" y="558792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146640" y="574020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527520" y="5625720"/>
              <a:ext cx="419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527520" y="5702040"/>
              <a:ext cx="419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527520" y="5778360"/>
              <a:ext cx="419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7" name=""/>
          <p:cNvGrpSpPr/>
          <p:nvPr/>
        </p:nvGrpSpPr>
        <p:grpSpPr>
          <a:xfrm>
            <a:off x="5983200" y="5854320"/>
            <a:ext cx="1499040" cy="697680"/>
            <a:chOff x="5983200" y="5854320"/>
            <a:chExt cx="1499040" cy="697680"/>
          </a:xfrm>
        </p:grpSpPr>
        <p:sp>
          <p:nvSpPr>
            <p:cNvPr id="598" name=""/>
            <p:cNvSpPr/>
            <p:nvPr/>
          </p:nvSpPr>
          <p:spPr>
            <a:xfrm flipV="1">
              <a:off x="6730920" y="5854320"/>
              <a:ext cx="0" cy="304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5983200" y="6153120"/>
              <a:ext cx="1499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triple bon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0" name=""/>
          <p:cNvGrpSpPr/>
          <p:nvPr/>
        </p:nvGrpSpPr>
        <p:grpSpPr>
          <a:xfrm>
            <a:off x="2135160" y="5511960"/>
            <a:ext cx="1499040" cy="824400"/>
            <a:chOff x="2135160" y="5511960"/>
            <a:chExt cx="1499040" cy="824400"/>
          </a:xfrm>
        </p:grpSpPr>
        <p:sp>
          <p:nvSpPr>
            <p:cNvPr id="601" name=""/>
            <p:cNvSpPr/>
            <p:nvPr/>
          </p:nvSpPr>
          <p:spPr>
            <a:xfrm>
              <a:off x="2629080" y="5511960"/>
              <a:ext cx="533160" cy="3808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2135160" y="5937480"/>
              <a:ext cx="1499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triple bon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3" name=""/>
          <p:cNvSpPr/>
          <p:nvPr/>
        </p:nvSpPr>
        <p:spPr>
          <a:xfrm>
            <a:off x="4541400" y="5479920"/>
            <a:ext cx="49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676D52-F277-42E1-AAB7-887E94B07A0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4" name=""/>
          <p:cNvGrpSpPr/>
          <p:nvPr/>
        </p:nvGrpSpPr>
        <p:grpSpPr>
          <a:xfrm>
            <a:off x="250920" y="2193840"/>
            <a:ext cx="5486400" cy="3584520"/>
            <a:chOff x="250920" y="2193840"/>
            <a:chExt cx="5486400" cy="3584520"/>
          </a:xfrm>
        </p:grpSpPr>
        <p:pic>
          <p:nvPicPr>
            <p:cNvPr id="605" name="" descr=""/>
            <p:cNvPicPr/>
            <p:nvPr/>
          </p:nvPicPr>
          <p:blipFill>
            <a:blip r:embed="rId1"/>
            <a:stretch/>
          </p:blipFill>
          <p:spPr>
            <a:xfrm>
              <a:off x="250920" y="2193840"/>
              <a:ext cx="5486400" cy="358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6" name=""/>
            <p:cNvSpPr/>
            <p:nvPr/>
          </p:nvSpPr>
          <p:spPr>
            <a:xfrm>
              <a:off x="1465920" y="377784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806280" y="3740040"/>
              <a:ext cx="33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8" name=""/>
          <p:cNvGrpSpPr/>
          <p:nvPr/>
        </p:nvGrpSpPr>
        <p:grpSpPr>
          <a:xfrm>
            <a:off x="6879240" y="2930400"/>
            <a:ext cx="1053360" cy="491400"/>
            <a:chOff x="6879240" y="2930400"/>
            <a:chExt cx="1053360" cy="491400"/>
          </a:xfrm>
        </p:grpSpPr>
        <p:sp>
          <p:nvSpPr>
            <p:cNvPr id="609" name=""/>
            <p:cNvSpPr/>
            <p:nvPr/>
          </p:nvSpPr>
          <p:spPr>
            <a:xfrm>
              <a:off x="7547760" y="2950920"/>
              <a:ext cx="33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0" name=""/>
            <p:cNvGrpSpPr/>
            <p:nvPr/>
          </p:nvGrpSpPr>
          <p:grpSpPr>
            <a:xfrm>
              <a:off x="7856280" y="3057120"/>
              <a:ext cx="76320" cy="228600"/>
              <a:chOff x="7856280" y="3057120"/>
              <a:chExt cx="76320" cy="228600"/>
            </a:xfrm>
          </p:grpSpPr>
          <p:sp>
            <p:nvSpPr>
              <p:cNvPr id="611" name=""/>
              <p:cNvSpPr/>
              <p:nvPr/>
            </p:nvSpPr>
            <p:spPr>
              <a:xfrm>
                <a:off x="7856280" y="305712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7856280" y="320976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3" name=""/>
            <p:cNvGrpSpPr/>
            <p:nvPr/>
          </p:nvGrpSpPr>
          <p:grpSpPr>
            <a:xfrm>
              <a:off x="7589520" y="2930400"/>
              <a:ext cx="228600" cy="75960"/>
              <a:chOff x="7589520" y="2930400"/>
              <a:chExt cx="228600" cy="75960"/>
            </a:xfrm>
          </p:grpSpPr>
          <p:sp>
            <p:nvSpPr>
              <p:cNvPr id="614" name=""/>
              <p:cNvSpPr/>
              <p:nvPr/>
            </p:nvSpPr>
            <p:spPr>
              <a:xfrm rot="5400000">
                <a:off x="7741800" y="293004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5400000">
                <a:off x="7589520" y="293040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6" name=""/>
            <p:cNvGrpSpPr/>
            <p:nvPr/>
          </p:nvGrpSpPr>
          <p:grpSpPr>
            <a:xfrm>
              <a:off x="7589520" y="3323880"/>
              <a:ext cx="228600" cy="76320"/>
              <a:chOff x="7589520" y="3323880"/>
              <a:chExt cx="228600" cy="76320"/>
            </a:xfrm>
          </p:grpSpPr>
          <p:sp>
            <p:nvSpPr>
              <p:cNvPr id="617" name=""/>
              <p:cNvSpPr/>
              <p:nvPr/>
            </p:nvSpPr>
            <p:spPr>
              <a:xfrm rot="5400000">
                <a:off x="7741800" y="332388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5400000">
                <a:off x="7589160" y="332388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9" name=""/>
            <p:cNvSpPr/>
            <p:nvPr/>
          </p:nvSpPr>
          <p:spPr>
            <a:xfrm>
              <a:off x="6879240" y="296208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7221240" y="3171600"/>
              <a:ext cx="381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349200" y="357120"/>
            <a:ext cx="8898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olar covalent bon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olar bond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 a covalent bond with greater electron density around one of the two ato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076560" y="2773440"/>
            <a:ext cx="1799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electron ri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reg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694080" y="2925720"/>
            <a:ext cx="1898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99cc"/>
                </a:solidFill>
                <a:latin typeface="Comic Sans MS"/>
              </a:rPr>
              <a:t>electron po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99cc"/>
                </a:solidFill>
                <a:latin typeface="Comic Sans MS"/>
              </a:rPr>
              <a:t>reg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7477560" y="2492280"/>
            <a:ext cx="88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e</a:t>
            </a:r>
            <a:r>
              <a:rPr b="0" lang="en-US" sz="2000" spc="-1" strike="noStrike" baseline="30000">
                <a:solidFill>
                  <a:srgbClr val="ff0000"/>
                </a:solidFill>
                <a:latin typeface="Comic Sans MS"/>
              </a:rPr>
              <a:t>-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ri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6323040" y="2492280"/>
            <a:ext cx="100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99cc"/>
                </a:solidFill>
                <a:latin typeface="Comic Sans MS"/>
              </a:rPr>
              <a:t>e</a:t>
            </a:r>
            <a:r>
              <a:rPr b="0" lang="en-US" sz="2000" spc="-1" strike="noStrike" baseline="30000">
                <a:solidFill>
                  <a:srgbClr val="9999cc"/>
                </a:solidFill>
                <a:latin typeface="Comic Sans MS"/>
              </a:rPr>
              <a:t>-</a:t>
            </a:r>
            <a:r>
              <a:rPr b="0" lang="en-US" sz="2000" spc="-1" strike="noStrike">
                <a:solidFill>
                  <a:srgbClr val="9999cc"/>
                </a:solidFill>
                <a:latin typeface="Comic Sans MS"/>
              </a:rPr>
              <a:t> po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5508720" y="4521240"/>
            <a:ext cx="367164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ovalent bon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Non-metal-High EN- &amp; non-metal-High EN-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Polar covalent bon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oth have High 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UT: Significant difference 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C4C887-5967-4092-A7E5-B21D710D2B7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"/>
          <p:cNvSpPr/>
          <p:nvPr/>
        </p:nvSpPr>
        <p:spPr>
          <a:xfrm>
            <a:off x="264960" y="404640"/>
            <a:ext cx="8915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9.5 Electronegativity: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s the ability of an atom to attract toward itself the electrons in a chemical bo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1087200" y="1860480"/>
            <a:ext cx="729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lectron Affinity -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measurabl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Cl is high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1734120" y="3613320"/>
            <a:ext cx="656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lectronegativity -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relativ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F is high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046320" y="2690640"/>
            <a:ext cx="3333960" cy="560880"/>
            <a:chOff x="3046320" y="2690640"/>
            <a:chExt cx="3333960" cy="560880"/>
          </a:xfrm>
        </p:grpSpPr>
        <p:sp>
          <p:nvSpPr>
            <p:cNvPr id="631" name=""/>
            <p:cNvSpPr/>
            <p:nvPr/>
          </p:nvSpPr>
          <p:spPr>
            <a:xfrm>
              <a:off x="3046320" y="2690640"/>
              <a:ext cx="3333960" cy="56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X 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(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g)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Comic Sans MS"/>
                </a:rPr>
                <a:t> + e</a:t>
              </a:r>
              <a:r>
                <a:rPr b="0" i="1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-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         X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Comic Sans MS"/>
                </a:rPr>
                <a:t>-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(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g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4722840" y="2919240"/>
              <a:ext cx="609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33" name="" descr=""/>
          <p:cNvPicPr/>
          <p:nvPr/>
        </p:nvPicPr>
        <p:blipFill>
          <a:blip r:embed="rId1"/>
          <a:stretch/>
        </p:blipFill>
        <p:spPr>
          <a:xfrm>
            <a:off x="2700360" y="4221000"/>
            <a:ext cx="3460680" cy="2365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37F34D-1AFF-4F02-A640-29D77B74B62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"/>
          <p:cNvSpPr/>
          <p:nvPr/>
        </p:nvSpPr>
        <p:spPr>
          <a:xfrm>
            <a:off x="232560" y="595440"/>
            <a:ext cx="874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Electronegativities of Common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5" name="" descr=""/>
          <p:cNvPicPr/>
          <p:nvPr/>
        </p:nvPicPr>
        <p:blipFill>
          <a:blip r:embed="rId1"/>
          <a:stretch/>
        </p:blipFill>
        <p:spPr>
          <a:xfrm>
            <a:off x="250920" y="1866960"/>
            <a:ext cx="8785080" cy="3619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D23C36-9C5C-427E-A9BB-424EA3A89E8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0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6" name=""/>
          <p:cNvGrpSpPr/>
          <p:nvPr/>
        </p:nvGrpSpPr>
        <p:grpSpPr>
          <a:xfrm>
            <a:off x="660600" y="5299200"/>
            <a:ext cx="1433520" cy="1110600"/>
            <a:chOff x="660600" y="5299200"/>
            <a:chExt cx="1433520" cy="1110600"/>
          </a:xfrm>
        </p:grpSpPr>
        <p:sp>
          <p:nvSpPr>
            <p:cNvPr id="637" name=""/>
            <p:cNvSpPr/>
            <p:nvPr/>
          </p:nvSpPr>
          <p:spPr>
            <a:xfrm>
              <a:off x="660600" y="5299200"/>
              <a:ext cx="14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oval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785160" y="5950080"/>
              <a:ext cx="1293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share e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9" name=""/>
          <p:cNvGrpSpPr/>
          <p:nvPr/>
        </p:nvGrpSpPr>
        <p:grpSpPr>
          <a:xfrm>
            <a:off x="2220840" y="5299200"/>
            <a:ext cx="4089240" cy="1055160"/>
            <a:chOff x="2220840" y="5299200"/>
            <a:chExt cx="4089240" cy="1055160"/>
          </a:xfrm>
        </p:grpSpPr>
        <p:sp>
          <p:nvSpPr>
            <p:cNvPr id="640" name=""/>
            <p:cNvSpPr/>
            <p:nvPr/>
          </p:nvSpPr>
          <p:spPr>
            <a:xfrm>
              <a:off x="3547800" y="5299200"/>
              <a:ext cx="225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Polar Coval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3186000" y="5894640"/>
              <a:ext cx="312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partial transfer of e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220840" y="5824800"/>
              <a:ext cx="1143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3" name=""/>
          <p:cNvGrpSpPr/>
          <p:nvPr/>
        </p:nvGrpSpPr>
        <p:grpSpPr>
          <a:xfrm>
            <a:off x="6031080" y="5299200"/>
            <a:ext cx="2757240" cy="1110600"/>
            <a:chOff x="6031080" y="5299200"/>
            <a:chExt cx="2757240" cy="1110600"/>
          </a:xfrm>
        </p:grpSpPr>
        <p:sp>
          <p:nvSpPr>
            <p:cNvPr id="644" name=""/>
            <p:cNvSpPr/>
            <p:nvPr/>
          </p:nvSpPr>
          <p:spPr>
            <a:xfrm>
              <a:off x="7345080" y="5299200"/>
              <a:ext cx="88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Ion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7153560" y="5950080"/>
              <a:ext cx="163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transfer e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6031080" y="5824800"/>
              <a:ext cx="1143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7" name=""/>
          <p:cNvGrpSpPr/>
          <p:nvPr/>
        </p:nvGrpSpPr>
        <p:grpSpPr>
          <a:xfrm>
            <a:off x="1611360" y="4346640"/>
            <a:ext cx="6149520" cy="487080"/>
            <a:chOff x="1611360" y="4346640"/>
            <a:chExt cx="6149520" cy="487080"/>
          </a:xfrm>
        </p:grpSpPr>
        <p:sp>
          <p:nvSpPr>
            <p:cNvPr id="648" name=""/>
            <p:cNvSpPr/>
            <p:nvPr/>
          </p:nvSpPr>
          <p:spPr>
            <a:xfrm>
              <a:off x="1611360" y="4833720"/>
              <a:ext cx="6019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709640" y="4346640"/>
              <a:ext cx="605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Increasing difference in electronegativit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0" name=""/>
          <p:cNvSpPr/>
          <p:nvPr/>
        </p:nvSpPr>
        <p:spPr>
          <a:xfrm>
            <a:off x="441360" y="353880"/>
            <a:ext cx="8594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Classification of bonds by difference in electronega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1" name=""/>
          <p:cNvGraphicFramePr/>
          <p:nvPr/>
        </p:nvGraphicFramePr>
        <p:xfrm>
          <a:off x="2050920" y="1935000"/>
          <a:ext cx="4968720" cy="2070000"/>
        </p:xfrm>
        <a:graphic>
          <a:graphicData uri="http://schemas.openxmlformats.org/drawingml/2006/table">
            <a:tbl>
              <a:tblPr/>
              <a:tblGrid>
                <a:gridCol w="2341440"/>
                <a:gridCol w="2627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Differen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Bond Typ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val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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on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 &lt; and &lt;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663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olar Coval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6633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C58F8-DEC3-4DB6-8ED7-6DC1E69A3D7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Content Placeholder 16"/>
          <p:cNvSpPr/>
          <p:nvPr/>
        </p:nvSpPr>
        <p:spPr>
          <a:xfrm>
            <a:off x="179280" y="1127160"/>
            <a:ext cx="404028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31920" indent="-232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Classify the foll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1920" indent="-232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bonds as ionic, po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1920" indent="-232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covalent, or coval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1920" indent="-232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) HCl = 3 - 2.1 = 0.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1920" indent="-2325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Polar coval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1920" indent="-232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1920" indent="-232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) KF = 4 - 0.8 = 3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1920" indent="-2325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Ion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1920" indent="-232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1920" indent="-232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) C-C = 2.5 - 2.5 =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1920" indent="-2325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coval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1920" indent="-232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1920" indent="-232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1920" indent="-232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Content Placeholder 18"/>
          <p:cNvSpPr/>
          <p:nvPr/>
        </p:nvSpPr>
        <p:spPr>
          <a:xfrm>
            <a:off x="4500720" y="530280"/>
            <a:ext cx="44370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Q: Classify the foll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bonds as ionic, polar covalent, or coval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) CsCl = 3 – 1 =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Ion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)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 = 2.5 - 2.1 = 0.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Polar coval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) N-N = 3 - 3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coval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324000" y="533520"/>
            <a:ext cx="48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3300"/>
                </a:solidFill>
                <a:uFillTx/>
                <a:latin typeface="Comic Sans MS"/>
              </a:rPr>
              <a:t>Example 9.2 p379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4284720" y="692280"/>
            <a:ext cx="0" cy="6165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C7140D-1D2A-4243-B639-24BF455CE56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"/>
          <p:cNvSpPr/>
          <p:nvPr/>
        </p:nvSpPr>
        <p:spPr>
          <a:xfrm>
            <a:off x="3060720" y="333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Chemical Bo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 rot="16200000">
            <a:off x="4211640" y="-2114280"/>
            <a:ext cx="792000" cy="6840720"/>
          </a:xfrm>
          <a:custGeom>
            <a:avLst/>
            <a:gdLst>
              <a:gd name="textAreaLeft" fmla="*/ 0 w 792000"/>
              <a:gd name="textAreaRight" fmla="*/ 285840 w 792000"/>
              <a:gd name="textAreaTop" fmla="*/ 178200 h 6840720"/>
              <a:gd name="textAreaBottom" fmla="*/ 6662520 h 684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684360" y="1701720"/>
            <a:ext cx="27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3300"/>
                </a:solidFill>
                <a:uFillTx/>
                <a:latin typeface="Comic Sans MS"/>
              </a:rPr>
              <a:t>Ionic B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6012000" y="1701720"/>
            <a:ext cx="2950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Covalent B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324000" y="2349360"/>
            <a:ext cx="34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Metal + Non-me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4932360" y="2278080"/>
            <a:ext cx="4211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Non-metal + Non-me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Non-metal + Metallo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2" name=""/>
              <p:cNvSpPr txBox="1"/>
              <p:nvPr/>
            </p:nvSpPr>
            <p:spPr>
              <a:xfrm>
                <a:off x="468360" y="2998800"/>
                <a:ext cx="251928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EN</m:t>
                    </m:r>
                    <m:r>
                      <m:t xml:space="preserve">≥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3" name=""/>
          <p:cNvSpPr/>
          <p:nvPr/>
        </p:nvSpPr>
        <p:spPr>
          <a:xfrm rot="16200000">
            <a:off x="4823280" y="1017720"/>
            <a:ext cx="863640" cy="6408720"/>
          </a:xfrm>
          <a:custGeom>
            <a:avLst/>
            <a:gdLst>
              <a:gd name="textAreaLeft" fmla="*/ 0 w 863640"/>
              <a:gd name="textAreaRight" fmla="*/ 311760 w 863640"/>
              <a:gd name="textAreaTop" fmla="*/ 167040 h 6408720"/>
              <a:gd name="textAreaBottom" fmla="*/ 6241680 h 640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-36360" y="4654440"/>
            <a:ext cx="431928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Non polar Covalent B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Same element: H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, F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, O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4572000" y="4654440"/>
            <a:ext cx="4753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Polar Covalent B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Different element:  H-F, H-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6" name=""/>
              <p:cNvSpPr txBox="1"/>
              <p:nvPr/>
            </p:nvSpPr>
            <p:spPr>
              <a:xfrm>
                <a:off x="755640" y="5662440"/>
                <a:ext cx="2448000" cy="74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EN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7" name=""/>
              <p:cNvSpPr txBox="1"/>
              <p:nvPr/>
            </p:nvSpPr>
            <p:spPr>
              <a:xfrm>
                <a:off x="5651640" y="5662440"/>
                <a:ext cx="324000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&lt;</m:t>
                    </m:r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EN</m:t>
                    </m:r>
                    <m:r>
                      <m:t xml:space="preserve">&lt;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8" name=""/>
              <p:cNvSpPr txBox="1"/>
              <p:nvPr/>
            </p:nvSpPr>
            <p:spPr>
              <a:xfrm>
                <a:off x="144360" y="6507000"/>
                <a:ext cx="8748720" cy="30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ote: </m:t>
                    </m:r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EN</m:t>
                    </m:r>
                    <m:r>
                      <m:rPr>
                        <m:lit/>
                        <m:nor/>
                      </m:rPr>
                      <m:t xml:space="preserve"> is the difference in electronegativety between the two elemntes in the chemical bon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308D52-44DE-419C-A61F-E9FA427F8A8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79280" y="2133720"/>
            <a:ext cx="87854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d"/>
                </a:solidFill>
                <a:latin typeface="Comic Sans MS"/>
              </a:rPr>
              <a:t>Chapter 9</a:t>
            </a:r>
            <a:br>
              <a:rPr sz="4400"/>
            </a:br>
            <a:r>
              <a:rPr b="1" lang="en-US" sz="4400" spc="-1" strike="noStrike">
                <a:solidFill>
                  <a:srgbClr val="00007d"/>
                </a:solidFill>
                <a:latin typeface="Comic Sans MS"/>
              </a:rPr>
              <a:t> Chemical Bonding I </a:t>
            </a:r>
            <a:br>
              <a:rPr sz="4400"/>
            </a:br>
            <a:r>
              <a:rPr b="1" lang="en-US" sz="4400" spc="-1" strike="noStrike">
                <a:solidFill>
                  <a:srgbClr val="00007d"/>
                </a:solidFill>
                <a:latin typeface="Comic Sans MS"/>
              </a:rPr>
              <a:t>Basic concepts</a:t>
            </a:r>
            <a:br>
              <a:rPr sz="3600"/>
            </a:br>
            <a:r>
              <a:rPr b="1" lang="en-US" sz="4400" spc="-1" strike="noStrike">
                <a:solidFill>
                  <a:srgbClr val="00007d"/>
                </a:solidFill>
                <a:latin typeface="Comic Sans MS"/>
              </a:rPr>
              <a:t>Chang Pages 366-394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H.W. p400-402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457200" y="4365720"/>
            <a:ext cx="868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9.16, 9.18, 9.30, 9.36, 9.74, 9.44, 9.46, 9.48, 9.52, 9.56, 9.64, 9.80</a:t>
            </a:r>
            <a:r>
              <a:rPr b="0" lang="en-US" sz="3200" spc="-1" strike="noStrike">
                <a:solidFill>
                  <a:srgbClr val="339966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159796-EA17-45AA-AB35-CB22FCC0C81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/>
          <p:nvPr/>
        </p:nvSpPr>
        <p:spPr>
          <a:xfrm>
            <a:off x="431640" y="990720"/>
            <a:ext cx="8305920" cy="57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raw skeletal structure of compound showing what atoms are bonded to each other.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Put least electronegative element in the cente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unt total number of valence 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  Add 1 for each negative charge.  Subtract 1 for each positive char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raw single covalent bond between the central atom and each of the surrounding atom, and complete an octet for all the surrounded atoms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excep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hydrogen. Count and Compare it with the  # of electrons in step 2 if they are identical stop, if it is less add the remaining electrons to the central at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still the central atom has no octet, use  lone pair/s on the one of the surrounded atom to form double or triple bond with the central at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492840" y="339840"/>
            <a:ext cx="668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9.6  Writing Lewis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2E1032-1220-461F-BA2B-81FDF683E75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"/>
          <p:cNvSpPr/>
          <p:nvPr/>
        </p:nvSpPr>
        <p:spPr>
          <a:xfrm>
            <a:off x="431640" y="990720"/>
            <a:ext cx="8305920" cy="67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ارسمي الهيكل العام . كقاعده عامه ضعي الذره التي لها اقل سالبيه كهربيه في المرك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احسبي  الاكترونا ت الخارجيه. اضيفي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لكل شحنه سالبه واطرحي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لكل شحنه موجبه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ارسمي رابطه احاديه بين الذرات المحيطه والذره المركزيه. واكملي القاعده الثمانيه لكل الذرات المحيطه ماعدا الهايدروجين. ثم عدي الالكترونات اذا كانت اقل من الالكترونات المحسوبه في الخطوه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(الكترونات التكافؤ) توضع الاكترونات الزائده على الذره المركزيه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اذا كانت الذره المركزيه لازالت لاتحتوي على ثمانيه الكترونات نستخدم زوج\ازواج الكترونيه غير رابطه من الذرات المحيطه لتكوين رابطه ثنائيه اوثلاثيه ( حسب الحاجه) مع الذره المركزيه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92840" y="339840"/>
            <a:ext cx="668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9.6  Writing Lewis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1003E2-2CFD-40A7-B449-582D0325E32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3" name="" descr=""/>
          <p:cNvPicPr/>
          <p:nvPr/>
        </p:nvPicPr>
        <p:blipFill>
          <a:blip r:embed="rId1"/>
          <a:stretch/>
        </p:blipFill>
        <p:spPr>
          <a:xfrm>
            <a:off x="4133880" y="4805280"/>
            <a:ext cx="3462480" cy="2008440"/>
          </a:xfrm>
          <a:prstGeom prst="rect">
            <a:avLst/>
          </a:prstGeom>
          <a:ln w="0">
            <a:noFill/>
          </a:ln>
        </p:spPr>
      </p:pic>
      <p:sp>
        <p:nvSpPr>
          <p:cNvPr id="674" name=""/>
          <p:cNvSpPr/>
          <p:nvPr/>
        </p:nvSpPr>
        <p:spPr>
          <a:xfrm>
            <a:off x="324000" y="404640"/>
            <a:ext cx="882000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3300"/>
                </a:solidFill>
                <a:uFillTx/>
                <a:latin typeface="Comic Sans MS"/>
              </a:rPr>
              <a:t>Example 9.3 p38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Write the Lewis structure of nitrogen trifluoride (NF</a:t>
            </a:r>
            <a:r>
              <a:rPr b="0" lang="en-US" sz="2400" spc="-1" strike="noStrike" baseline="-25000">
                <a:solidFill>
                  <a:srgbClr val="cc3300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) in which all three F atoms are bonded to the N at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76320" y="1725480"/>
            <a:ext cx="682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tep 1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– N is less electronegative than F, put N in ce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6" name=""/>
          <p:cNvGrpSpPr/>
          <p:nvPr/>
        </p:nvGrpSpPr>
        <p:grpSpPr>
          <a:xfrm>
            <a:off x="959760" y="5207040"/>
            <a:ext cx="1938960" cy="1272600"/>
            <a:chOff x="959760" y="5207040"/>
            <a:chExt cx="1938960" cy="1272600"/>
          </a:xfrm>
        </p:grpSpPr>
        <p:sp>
          <p:nvSpPr>
            <p:cNvPr id="677" name=""/>
            <p:cNvSpPr/>
            <p:nvPr/>
          </p:nvSpPr>
          <p:spPr>
            <a:xfrm>
              <a:off x="959760" y="5207040"/>
              <a:ext cx="33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1713600" y="5207040"/>
              <a:ext cx="41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2559600" y="5207040"/>
              <a:ext cx="33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1748520" y="6019920"/>
              <a:ext cx="33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1" name=""/>
          <p:cNvGrpSpPr/>
          <p:nvPr/>
        </p:nvGrpSpPr>
        <p:grpSpPr>
          <a:xfrm>
            <a:off x="1268280" y="5427720"/>
            <a:ext cx="1295280" cy="621360"/>
            <a:chOff x="1268280" y="5427720"/>
            <a:chExt cx="1295280" cy="621360"/>
          </a:xfrm>
        </p:grpSpPr>
        <p:sp>
          <p:nvSpPr>
            <p:cNvPr id="682" name=""/>
            <p:cNvSpPr/>
            <p:nvPr/>
          </p:nvSpPr>
          <p:spPr>
            <a:xfrm>
              <a:off x="1268280" y="542772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106360" y="542772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 flipV="1">
              <a:off x="1903320" y="5592240"/>
              <a:ext cx="0" cy="456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5" name=""/>
          <p:cNvSpPr/>
          <p:nvPr/>
        </p:nvSpPr>
        <p:spPr>
          <a:xfrm>
            <a:off x="147240" y="2182680"/>
            <a:ext cx="781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tep 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– Count valence electrons  N - 5 (2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 and F - 7 (2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1374120" y="2655720"/>
            <a:ext cx="402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5 + (3 x 7) =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26 valence electr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-25560" y="3021120"/>
            <a:ext cx="916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tep 3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– Draw single bonds between N and F atoms and compl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ctets on F atoms. Use all the e in step 2 (put the remaining 2 e on 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8" name=""/>
          <p:cNvGrpSpPr/>
          <p:nvPr/>
        </p:nvGrpSpPr>
        <p:grpSpPr>
          <a:xfrm>
            <a:off x="933480" y="5175360"/>
            <a:ext cx="1980360" cy="1294920"/>
            <a:chOff x="933480" y="5175360"/>
            <a:chExt cx="1980360" cy="1294920"/>
          </a:xfrm>
        </p:grpSpPr>
        <p:grpSp>
          <p:nvGrpSpPr>
            <p:cNvPr id="689" name=""/>
            <p:cNvGrpSpPr/>
            <p:nvPr/>
          </p:nvGrpSpPr>
          <p:grpSpPr>
            <a:xfrm>
              <a:off x="2622600" y="5175360"/>
              <a:ext cx="227880" cy="75960"/>
              <a:chOff x="2622600" y="5175360"/>
              <a:chExt cx="227880" cy="75960"/>
            </a:xfrm>
          </p:grpSpPr>
          <p:sp>
            <p:nvSpPr>
              <p:cNvPr id="690" name=""/>
              <p:cNvSpPr/>
              <p:nvPr/>
            </p:nvSpPr>
            <p:spPr>
              <a:xfrm rot="5400000">
                <a:off x="2774520" y="517536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5400000">
                <a:off x="2622240" y="517536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2" name=""/>
            <p:cNvGrpSpPr/>
            <p:nvPr/>
          </p:nvGrpSpPr>
          <p:grpSpPr>
            <a:xfrm>
              <a:off x="2837880" y="5328000"/>
              <a:ext cx="75960" cy="227880"/>
              <a:chOff x="2837880" y="5328000"/>
              <a:chExt cx="75960" cy="227880"/>
            </a:xfrm>
          </p:grpSpPr>
          <p:sp>
            <p:nvSpPr>
              <p:cNvPr id="693" name=""/>
              <p:cNvSpPr/>
              <p:nvPr/>
            </p:nvSpPr>
            <p:spPr>
              <a:xfrm rot="10800000">
                <a:off x="2837880" y="547992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10800000">
                <a:off x="2837880" y="532800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5" name=""/>
            <p:cNvGrpSpPr/>
            <p:nvPr/>
          </p:nvGrpSpPr>
          <p:grpSpPr>
            <a:xfrm>
              <a:off x="2622600" y="5594040"/>
              <a:ext cx="227880" cy="75960"/>
              <a:chOff x="2622600" y="5594040"/>
              <a:chExt cx="227880" cy="75960"/>
            </a:xfrm>
          </p:grpSpPr>
          <p:sp>
            <p:nvSpPr>
              <p:cNvPr id="696" name=""/>
              <p:cNvSpPr/>
              <p:nvPr/>
            </p:nvSpPr>
            <p:spPr>
              <a:xfrm rot="5400000">
                <a:off x="2774520" y="559404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5400000">
                <a:off x="2622240" y="559404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8" name=""/>
            <p:cNvGrpSpPr/>
            <p:nvPr/>
          </p:nvGrpSpPr>
          <p:grpSpPr>
            <a:xfrm>
              <a:off x="1771920" y="6394320"/>
              <a:ext cx="227880" cy="75960"/>
              <a:chOff x="1771920" y="6394320"/>
              <a:chExt cx="227880" cy="75960"/>
            </a:xfrm>
          </p:grpSpPr>
          <p:sp>
            <p:nvSpPr>
              <p:cNvPr id="699" name=""/>
              <p:cNvSpPr/>
              <p:nvPr/>
            </p:nvSpPr>
            <p:spPr>
              <a:xfrm rot="5400000">
                <a:off x="1923840" y="639432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5400000">
                <a:off x="1771560" y="639432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1" name=""/>
            <p:cNvGrpSpPr/>
            <p:nvPr/>
          </p:nvGrpSpPr>
          <p:grpSpPr>
            <a:xfrm>
              <a:off x="1810080" y="5175360"/>
              <a:ext cx="227880" cy="75960"/>
              <a:chOff x="1810080" y="5175360"/>
              <a:chExt cx="227880" cy="75960"/>
            </a:xfrm>
          </p:grpSpPr>
          <p:sp>
            <p:nvSpPr>
              <p:cNvPr id="702" name=""/>
              <p:cNvSpPr/>
              <p:nvPr/>
            </p:nvSpPr>
            <p:spPr>
              <a:xfrm rot="5400000">
                <a:off x="1962000" y="517536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5400000">
                <a:off x="1809720" y="517536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4" name=""/>
            <p:cNvGrpSpPr/>
            <p:nvPr/>
          </p:nvGrpSpPr>
          <p:grpSpPr>
            <a:xfrm>
              <a:off x="1657080" y="6127560"/>
              <a:ext cx="75960" cy="227880"/>
              <a:chOff x="1657080" y="6127560"/>
              <a:chExt cx="75960" cy="227880"/>
            </a:xfrm>
          </p:grpSpPr>
          <p:sp>
            <p:nvSpPr>
              <p:cNvPr id="705" name=""/>
              <p:cNvSpPr/>
              <p:nvPr/>
            </p:nvSpPr>
            <p:spPr>
              <a:xfrm>
                <a:off x="1657080" y="612756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1657080" y="627984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7" name=""/>
            <p:cNvGrpSpPr/>
            <p:nvPr/>
          </p:nvGrpSpPr>
          <p:grpSpPr>
            <a:xfrm>
              <a:off x="2038320" y="6127560"/>
              <a:ext cx="75600" cy="227880"/>
              <a:chOff x="2038320" y="6127560"/>
              <a:chExt cx="75600" cy="227880"/>
            </a:xfrm>
          </p:grpSpPr>
          <p:sp>
            <p:nvSpPr>
              <p:cNvPr id="708" name=""/>
              <p:cNvSpPr/>
              <p:nvPr/>
            </p:nvSpPr>
            <p:spPr>
              <a:xfrm>
                <a:off x="2038320" y="6127560"/>
                <a:ext cx="7560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2038320" y="6279840"/>
                <a:ext cx="7560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996840" y="5175360"/>
              <a:ext cx="227880" cy="75960"/>
              <a:chOff x="996840" y="5175360"/>
              <a:chExt cx="227880" cy="75960"/>
            </a:xfrm>
          </p:grpSpPr>
          <p:sp>
            <p:nvSpPr>
              <p:cNvPr id="711" name=""/>
              <p:cNvSpPr/>
              <p:nvPr/>
            </p:nvSpPr>
            <p:spPr>
              <a:xfrm flipH="1" rot="16200000">
                <a:off x="996480" y="517536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 flipH="1" rot="16200000">
                <a:off x="1148760" y="517536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3" name=""/>
            <p:cNvGrpSpPr/>
            <p:nvPr/>
          </p:nvGrpSpPr>
          <p:grpSpPr>
            <a:xfrm>
              <a:off x="933480" y="5328000"/>
              <a:ext cx="75960" cy="227880"/>
              <a:chOff x="933480" y="5328000"/>
              <a:chExt cx="75960" cy="227880"/>
            </a:xfrm>
          </p:grpSpPr>
          <p:sp>
            <p:nvSpPr>
              <p:cNvPr id="714" name=""/>
              <p:cNvSpPr/>
              <p:nvPr/>
            </p:nvSpPr>
            <p:spPr>
              <a:xfrm flipH="1" rot="10800000">
                <a:off x="933120" y="547992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 flipH="1" rot="10800000">
                <a:off x="933120" y="532800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6" name=""/>
            <p:cNvGrpSpPr/>
            <p:nvPr/>
          </p:nvGrpSpPr>
          <p:grpSpPr>
            <a:xfrm>
              <a:off x="996840" y="5594040"/>
              <a:ext cx="227880" cy="75960"/>
              <a:chOff x="996840" y="5594040"/>
              <a:chExt cx="227880" cy="75960"/>
            </a:xfrm>
          </p:grpSpPr>
          <p:sp>
            <p:nvSpPr>
              <p:cNvPr id="717" name=""/>
              <p:cNvSpPr/>
              <p:nvPr/>
            </p:nvSpPr>
            <p:spPr>
              <a:xfrm flipH="1" rot="16200000">
                <a:off x="996480" y="559404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flipH="1" rot="16200000">
                <a:off x="1148760" y="559404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19" name=""/>
          <p:cNvSpPr/>
          <p:nvPr/>
        </p:nvSpPr>
        <p:spPr>
          <a:xfrm>
            <a:off x="2419200" y="5099040"/>
            <a:ext cx="685800" cy="685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1555920" y="5911920"/>
            <a:ext cx="685800" cy="685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730080" y="5086440"/>
            <a:ext cx="685800" cy="685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1581120" y="5086440"/>
            <a:ext cx="685800" cy="685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82080" y="3922560"/>
            <a:ext cx="515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tep 4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-  Check, if all the atoms has octet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56520" y="4471920"/>
            <a:ext cx="787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 single bonds (3x2) + 10 lone pairs (10x2) =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26 valence electr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8091B6-C549-40EB-A30A-096720229A1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7" dur="1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"/>
          <p:cNvSpPr/>
          <p:nvPr/>
        </p:nvSpPr>
        <p:spPr>
          <a:xfrm>
            <a:off x="481320" y="1268280"/>
            <a:ext cx="682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tep 1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– C is less electronegative than O, put C in ce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6" name=""/>
          <p:cNvGrpSpPr/>
          <p:nvPr/>
        </p:nvGrpSpPr>
        <p:grpSpPr>
          <a:xfrm>
            <a:off x="1053720" y="5207040"/>
            <a:ext cx="2018520" cy="1272600"/>
            <a:chOff x="1053720" y="5207040"/>
            <a:chExt cx="2018520" cy="1272600"/>
          </a:xfrm>
        </p:grpSpPr>
        <p:sp>
          <p:nvSpPr>
            <p:cNvPr id="727" name=""/>
            <p:cNvSpPr/>
            <p:nvPr/>
          </p:nvSpPr>
          <p:spPr>
            <a:xfrm>
              <a:off x="1053720" y="520704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1866240" y="520704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53920" y="520704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1842480" y="601992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1" name=""/>
          <p:cNvGrpSpPr/>
          <p:nvPr/>
        </p:nvGrpSpPr>
        <p:grpSpPr>
          <a:xfrm>
            <a:off x="1401840" y="5427720"/>
            <a:ext cx="1295280" cy="621360"/>
            <a:chOff x="1401840" y="5427720"/>
            <a:chExt cx="1295280" cy="621360"/>
          </a:xfrm>
        </p:grpSpPr>
        <p:sp>
          <p:nvSpPr>
            <p:cNvPr id="732" name=""/>
            <p:cNvSpPr/>
            <p:nvPr/>
          </p:nvSpPr>
          <p:spPr>
            <a:xfrm>
              <a:off x="1401840" y="542772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2239920" y="542772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 flipV="1">
              <a:off x="2036880" y="5592240"/>
              <a:ext cx="0" cy="456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5" name=""/>
          <p:cNvSpPr/>
          <p:nvPr/>
        </p:nvSpPr>
        <p:spPr>
          <a:xfrm>
            <a:off x="555840" y="1725480"/>
            <a:ext cx="7785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tep 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– Count valence electrons  C - 4 (2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 and O - 6 (2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-2 charge – 2e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  <a:ea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1679040" y="2503440"/>
            <a:ext cx="444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 + (3 x 6) + 2 =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24 valence electr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318240" y="3005280"/>
            <a:ext cx="806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tep 3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– Draw single bonds between C and O atoms and compl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ctet on O atoms. Use all the e in step 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8" name=""/>
          <p:cNvGrpSpPr/>
          <p:nvPr/>
        </p:nvGrpSpPr>
        <p:grpSpPr>
          <a:xfrm>
            <a:off x="1066680" y="5175360"/>
            <a:ext cx="1981440" cy="1294920"/>
            <a:chOff x="1066680" y="5175360"/>
            <a:chExt cx="1981440" cy="1294920"/>
          </a:xfrm>
        </p:grpSpPr>
        <p:grpSp>
          <p:nvGrpSpPr>
            <p:cNvPr id="739" name=""/>
            <p:cNvGrpSpPr/>
            <p:nvPr/>
          </p:nvGrpSpPr>
          <p:grpSpPr>
            <a:xfrm>
              <a:off x="2755440" y="5175360"/>
              <a:ext cx="228600" cy="75960"/>
              <a:chOff x="2755440" y="5175360"/>
              <a:chExt cx="228600" cy="75960"/>
            </a:xfrm>
          </p:grpSpPr>
          <p:sp>
            <p:nvSpPr>
              <p:cNvPr id="740" name=""/>
              <p:cNvSpPr/>
              <p:nvPr/>
            </p:nvSpPr>
            <p:spPr>
              <a:xfrm rot="5400000">
                <a:off x="2907720" y="517500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 rot="5400000">
                <a:off x="2755440" y="517536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2971800" y="5328000"/>
              <a:ext cx="76320" cy="227880"/>
              <a:chOff x="2971800" y="5328000"/>
              <a:chExt cx="76320" cy="227880"/>
            </a:xfrm>
          </p:grpSpPr>
          <p:sp>
            <p:nvSpPr>
              <p:cNvPr id="743" name=""/>
              <p:cNvSpPr/>
              <p:nvPr/>
            </p:nvSpPr>
            <p:spPr>
              <a:xfrm rot="10800000">
                <a:off x="2971800" y="547992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 rot="10800000">
                <a:off x="2971800" y="5328000"/>
                <a:ext cx="7632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5" name=""/>
            <p:cNvGrpSpPr/>
            <p:nvPr/>
          </p:nvGrpSpPr>
          <p:grpSpPr>
            <a:xfrm>
              <a:off x="2755440" y="5594040"/>
              <a:ext cx="228600" cy="75960"/>
              <a:chOff x="2755440" y="5594040"/>
              <a:chExt cx="228600" cy="75960"/>
            </a:xfrm>
          </p:grpSpPr>
          <p:sp>
            <p:nvSpPr>
              <p:cNvPr id="746" name=""/>
              <p:cNvSpPr/>
              <p:nvPr/>
            </p:nvSpPr>
            <p:spPr>
              <a:xfrm rot="5400000">
                <a:off x="2907720" y="559368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 rot="5400000">
                <a:off x="2755440" y="559404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8" name=""/>
            <p:cNvGrpSpPr/>
            <p:nvPr/>
          </p:nvGrpSpPr>
          <p:grpSpPr>
            <a:xfrm>
              <a:off x="1904760" y="6394320"/>
              <a:ext cx="228600" cy="75960"/>
              <a:chOff x="1904760" y="6394320"/>
              <a:chExt cx="228600" cy="75960"/>
            </a:xfrm>
          </p:grpSpPr>
          <p:sp>
            <p:nvSpPr>
              <p:cNvPr id="749" name=""/>
              <p:cNvSpPr/>
              <p:nvPr/>
            </p:nvSpPr>
            <p:spPr>
              <a:xfrm rot="5400000">
                <a:off x="2057040" y="639396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 rot="5400000">
                <a:off x="1904760" y="639432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1" name=""/>
            <p:cNvGrpSpPr/>
            <p:nvPr/>
          </p:nvGrpSpPr>
          <p:grpSpPr>
            <a:xfrm>
              <a:off x="1942920" y="5175360"/>
              <a:ext cx="228600" cy="75960"/>
              <a:chOff x="1942920" y="5175360"/>
              <a:chExt cx="228600" cy="75960"/>
            </a:xfrm>
          </p:grpSpPr>
          <p:sp>
            <p:nvSpPr>
              <p:cNvPr id="752" name=""/>
              <p:cNvSpPr/>
              <p:nvPr/>
            </p:nvSpPr>
            <p:spPr>
              <a:xfrm rot="5400000">
                <a:off x="2095200" y="517500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 rot="5400000">
                <a:off x="1942920" y="517536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4" name=""/>
            <p:cNvGrpSpPr/>
            <p:nvPr/>
          </p:nvGrpSpPr>
          <p:grpSpPr>
            <a:xfrm>
              <a:off x="1790640" y="6127560"/>
              <a:ext cx="76320" cy="227880"/>
              <a:chOff x="1790640" y="6127560"/>
              <a:chExt cx="76320" cy="227880"/>
            </a:xfrm>
          </p:grpSpPr>
          <p:sp>
            <p:nvSpPr>
              <p:cNvPr id="755" name=""/>
              <p:cNvSpPr/>
              <p:nvPr/>
            </p:nvSpPr>
            <p:spPr>
              <a:xfrm>
                <a:off x="1790640" y="612756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1790640" y="6279840"/>
                <a:ext cx="7632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7" name=""/>
            <p:cNvGrpSpPr/>
            <p:nvPr/>
          </p:nvGrpSpPr>
          <p:grpSpPr>
            <a:xfrm>
              <a:off x="2171880" y="6127560"/>
              <a:ext cx="75960" cy="227880"/>
              <a:chOff x="2171880" y="6127560"/>
              <a:chExt cx="75960" cy="227880"/>
            </a:xfrm>
          </p:grpSpPr>
          <p:sp>
            <p:nvSpPr>
              <p:cNvPr id="758" name=""/>
              <p:cNvSpPr/>
              <p:nvPr/>
            </p:nvSpPr>
            <p:spPr>
              <a:xfrm>
                <a:off x="2171880" y="612756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2171880" y="627984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0" name=""/>
            <p:cNvGrpSpPr/>
            <p:nvPr/>
          </p:nvGrpSpPr>
          <p:grpSpPr>
            <a:xfrm>
              <a:off x="1130400" y="5175360"/>
              <a:ext cx="228600" cy="75960"/>
              <a:chOff x="1130400" y="5175360"/>
              <a:chExt cx="228600" cy="75960"/>
            </a:xfrm>
          </p:grpSpPr>
          <p:sp>
            <p:nvSpPr>
              <p:cNvPr id="761" name=""/>
              <p:cNvSpPr/>
              <p:nvPr/>
            </p:nvSpPr>
            <p:spPr>
              <a:xfrm flipH="1" rot="16200000">
                <a:off x="1130400" y="517500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 flipH="1" rot="16200000">
                <a:off x="1282680" y="517536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3" name=""/>
            <p:cNvGrpSpPr/>
            <p:nvPr/>
          </p:nvGrpSpPr>
          <p:grpSpPr>
            <a:xfrm>
              <a:off x="1066680" y="5328000"/>
              <a:ext cx="76320" cy="227880"/>
              <a:chOff x="1066680" y="5328000"/>
              <a:chExt cx="76320" cy="227880"/>
            </a:xfrm>
          </p:grpSpPr>
          <p:sp>
            <p:nvSpPr>
              <p:cNvPr id="764" name=""/>
              <p:cNvSpPr/>
              <p:nvPr/>
            </p:nvSpPr>
            <p:spPr>
              <a:xfrm flipH="1" rot="10800000">
                <a:off x="1066680" y="547992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 flipH="1" rot="10800000">
                <a:off x="1066680" y="5328000"/>
                <a:ext cx="7632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6" name=""/>
            <p:cNvGrpSpPr/>
            <p:nvPr/>
          </p:nvGrpSpPr>
          <p:grpSpPr>
            <a:xfrm>
              <a:off x="1130400" y="5594040"/>
              <a:ext cx="228600" cy="75960"/>
              <a:chOff x="1130400" y="5594040"/>
              <a:chExt cx="228600" cy="75960"/>
            </a:xfrm>
          </p:grpSpPr>
          <p:sp>
            <p:nvSpPr>
              <p:cNvPr id="767" name=""/>
              <p:cNvSpPr/>
              <p:nvPr/>
            </p:nvSpPr>
            <p:spPr>
              <a:xfrm flipH="1" rot="16200000">
                <a:off x="1130400" y="559368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 flipH="1" rot="16200000">
                <a:off x="1282680" y="559404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69" name=""/>
          <p:cNvSpPr/>
          <p:nvPr/>
        </p:nvSpPr>
        <p:spPr>
          <a:xfrm>
            <a:off x="1689120" y="5911920"/>
            <a:ext cx="685800" cy="685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863640" y="5086440"/>
            <a:ext cx="685800" cy="685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395280" y="3691080"/>
            <a:ext cx="842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tep 4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-  Check, all the atoms has octet, C has no octet? Use one of the lone pair on the O to form double bond with the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2" name=""/>
          <p:cNvGrpSpPr/>
          <p:nvPr/>
        </p:nvGrpSpPr>
        <p:grpSpPr>
          <a:xfrm>
            <a:off x="7093080" y="5013360"/>
            <a:ext cx="1790640" cy="1625040"/>
            <a:chOff x="7093080" y="5013360"/>
            <a:chExt cx="1790640" cy="1625040"/>
          </a:xfrm>
        </p:grpSpPr>
        <p:pic>
          <p:nvPicPr>
            <p:cNvPr id="773" name="" descr=""/>
            <p:cNvPicPr/>
            <p:nvPr/>
          </p:nvPicPr>
          <p:blipFill>
            <a:blip r:embed="rId1"/>
            <a:srcRect l="9686" t="2498" r="8752" b="0"/>
            <a:stretch/>
          </p:blipFill>
          <p:spPr>
            <a:xfrm>
              <a:off x="7131240" y="5013360"/>
              <a:ext cx="1752480" cy="157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4" name=""/>
            <p:cNvSpPr/>
            <p:nvPr/>
          </p:nvSpPr>
          <p:spPr>
            <a:xfrm>
              <a:off x="7854840" y="6410160"/>
              <a:ext cx="304920" cy="228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7093080" y="5470200"/>
              <a:ext cx="53316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6" name=""/>
          <p:cNvSpPr/>
          <p:nvPr/>
        </p:nvSpPr>
        <p:spPr>
          <a:xfrm>
            <a:off x="360360" y="374760"/>
            <a:ext cx="88200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3300"/>
                </a:solidFill>
                <a:uFillTx/>
                <a:latin typeface="Comic Sans MS"/>
              </a:rPr>
              <a:t>Example 9.5 p382:</a:t>
            </a:r>
            <a:r>
              <a:rPr b="1" lang="ar-SA" sz="2400" spc="-1" strike="noStrike" u="sng">
                <a:solidFill>
                  <a:srgbClr val="cc3300"/>
                </a:solidFill>
                <a:uFillTx/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Write the Lewis structure of carbonate ion (CO</a:t>
            </a:r>
            <a:r>
              <a:rPr b="0" lang="en-US" sz="2400" spc="-1" strike="noStrike" baseline="-25000">
                <a:solidFill>
                  <a:srgbClr val="cc3300"/>
                </a:solidFill>
                <a:latin typeface="Comic Sans MS"/>
              </a:rPr>
              <a:t>3</a:t>
            </a:r>
            <a:r>
              <a:rPr b="0" lang="en-US" sz="2400" spc="-1" strike="noStrike" baseline="30000">
                <a:solidFill>
                  <a:srgbClr val="cc3300"/>
                </a:solidFill>
                <a:latin typeface="Comic Sans MS"/>
              </a:rPr>
              <a:t>2-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)</a:t>
            </a: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1763640" y="4869000"/>
            <a:ext cx="863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1714680" y="5086440"/>
            <a:ext cx="685800" cy="685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2700360" y="4941720"/>
            <a:ext cx="358920" cy="432000"/>
          </a:xfrm>
          <a:prstGeom prst="ellipse">
            <a:avLst/>
          </a:prstGeom>
          <a:noFill/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2552760" y="5099040"/>
            <a:ext cx="685800" cy="685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2268360" y="5300640"/>
            <a:ext cx="432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2" name=""/>
          <p:cNvGrpSpPr/>
          <p:nvPr/>
        </p:nvGrpSpPr>
        <p:grpSpPr>
          <a:xfrm>
            <a:off x="4763520" y="5280120"/>
            <a:ext cx="2018520" cy="1272600"/>
            <a:chOff x="4763520" y="5280120"/>
            <a:chExt cx="2018520" cy="1272600"/>
          </a:xfrm>
        </p:grpSpPr>
        <p:sp>
          <p:nvSpPr>
            <p:cNvPr id="783" name=""/>
            <p:cNvSpPr/>
            <p:nvPr/>
          </p:nvSpPr>
          <p:spPr>
            <a:xfrm>
              <a:off x="4763520" y="528012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5576040" y="528012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6363720" y="528012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552280" y="609300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7" name=""/>
          <p:cNvGrpSpPr/>
          <p:nvPr/>
        </p:nvGrpSpPr>
        <p:grpSpPr>
          <a:xfrm>
            <a:off x="5111640" y="5500800"/>
            <a:ext cx="1295280" cy="621360"/>
            <a:chOff x="5111640" y="5500800"/>
            <a:chExt cx="1295280" cy="621360"/>
          </a:xfrm>
        </p:grpSpPr>
        <p:sp>
          <p:nvSpPr>
            <p:cNvPr id="788" name=""/>
            <p:cNvSpPr/>
            <p:nvPr/>
          </p:nvSpPr>
          <p:spPr>
            <a:xfrm>
              <a:off x="5111640" y="55008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5949720" y="55008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 flipV="1">
              <a:off x="5746680" y="5665320"/>
              <a:ext cx="0" cy="456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1" name=""/>
          <p:cNvGrpSpPr/>
          <p:nvPr/>
        </p:nvGrpSpPr>
        <p:grpSpPr>
          <a:xfrm>
            <a:off x="4776840" y="5248440"/>
            <a:ext cx="1980360" cy="1294920"/>
            <a:chOff x="4776840" y="5248440"/>
            <a:chExt cx="1980360" cy="1294920"/>
          </a:xfrm>
        </p:grpSpPr>
        <p:grpSp>
          <p:nvGrpSpPr>
            <p:cNvPr id="792" name=""/>
            <p:cNvGrpSpPr/>
            <p:nvPr/>
          </p:nvGrpSpPr>
          <p:grpSpPr>
            <a:xfrm>
              <a:off x="6465960" y="5248440"/>
              <a:ext cx="227880" cy="75960"/>
              <a:chOff x="6465960" y="5248440"/>
              <a:chExt cx="227880" cy="75960"/>
            </a:xfrm>
          </p:grpSpPr>
          <p:sp>
            <p:nvSpPr>
              <p:cNvPr id="793" name=""/>
              <p:cNvSpPr/>
              <p:nvPr/>
            </p:nvSpPr>
            <p:spPr>
              <a:xfrm rot="5400000">
                <a:off x="6617880" y="524844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5400000">
                <a:off x="6465600" y="524844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5" name=""/>
            <p:cNvGrpSpPr/>
            <p:nvPr/>
          </p:nvGrpSpPr>
          <p:grpSpPr>
            <a:xfrm>
              <a:off x="6681240" y="5401080"/>
              <a:ext cx="75960" cy="227880"/>
              <a:chOff x="6681240" y="5401080"/>
              <a:chExt cx="75960" cy="227880"/>
            </a:xfrm>
          </p:grpSpPr>
          <p:sp>
            <p:nvSpPr>
              <p:cNvPr id="796" name=""/>
              <p:cNvSpPr/>
              <p:nvPr/>
            </p:nvSpPr>
            <p:spPr>
              <a:xfrm rot="10800000">
                <a:off x="6681240" y="555300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10800000">
                <a:off x="6681240" y="540108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8" name=""/>
            <p:cNvGrpSpPr/>
            <p:nvPr/>
          </p:nvGrpSpPr>
          <p:grpSpPr>
            <a:xfrm>
              <a:off x="6465960" y="5667120"/>
              <a:ext cx="227880" cy="75960"/>
              <a:chOff x="6465960" y="5667120"/>
              <a:chExt cx="227880" cy="75960"/>
            </a:xfrm>
          </p:grpSpPr>
          <p:sp>
            <p:nvSpPr>
              <p:cNvPr id="799" name=""/>
              <p:cNvSpPr/>
              <p:nvPr/>
            </p:nvSpPr>
            <p:spPr>
              <a:xfrm rot="5400000">
                <a:off x="6617880" y="566712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5400000">
                <a:off x="6465600" y="566712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1" name=""/>
            <p:cNvGrpSpPr/>
            <p:nvPr/>
          </p:nvGrpSpPr>
          <p:grpSpPr>
            <a:xfrm>
              <a:off x="5615280" y="6467400"/>
              <a:ext cx="227880" cy="75960"/>
              <a:chOff x="5615280" y="6467400"/>
              <a:chExt cx="227880" cy="75960"/>
            </a:xfrm>
          </p:grpSpPr>
          <p:sp>
            <p:nvSpPr>
              <p:cNvPr id="802" name=""/>
              <p:cNvSpPr/>
              <p:nvPr/>
            </p:nvSpPr>
            <p:spPr>
              <a:xfrm rot="5400000">
                <a:off x="5767200" y="646740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5400000">
                <a:off x="5614920" y="646740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4" name=""/>
            <p:cNvGrpSpPr/>
            <p:nvPr/>
          </p:nvGrpSpPr>
          <p:grpSpPr>
            <a:xfrm>
              <a:off x="5653440" y="5248440"/>
              <a:ext cx="227880" cy="75960"/>
              <a:chOff x="5653440" y="5248440"/>
              <a:chExt cx="227880" cy="75960"/>
            </a:xfrm>
          </p:grpSpPr>
          <p:sp>
            <p:nvSpPr>
              <p:cNvPr id="805" name=""/>
              <p:cNvSpPr/>
              <p:nvPr/>
            </p:nvSpPr>
            <p:spPr>
              <a:xfrm rot="5400000">
                <a:off x="5805360" y="524844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5400000">
                <a:off x="5653080" y="524844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7" name=""/>
            <p:cNvGrpSpPr/>
            <p:nvPr/>
          </p:nvGrpSpPr>
          <p:grpSpPr>
            <a:xfrm>
              <a:off x="5500440" y="6200640"/>
              <a:ext cx="75960" cy="227880"/>
              <a:chOff x="5500440" y="6200640"/>
              <a:chExt cx="75960" cy="227880"/>
            </a:xfrm>
          </p:grpSpPr>
          <p:sp>
            <p:nvSpPr>
              <p:cNvPr id="808" name=""/>
              <p:cNvSpPr/>
              <p:nvPr/>
            </p:nvSpPr>
            <p:spPr>
              <a:xfrm>
                <a:off x="5500440" y="620064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5500440" y="635292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0" name=""/>
            <p:cNvGrpSpPr/>
            <p:nvPr/>
          </p:nvGrpSpPr>
          <p:grpSpPr>
            <a:xfrm>
              <a:off x="5881680" y="6200640"/>
              <a:ext cx="75600" cy="227880"/>
              <a:chOff x="5881680" y="6200640"/>
              <a:chExt cx="75600" cy="227880"/>
            </a:xfrm>
          </p:grpSpPr>
          <p:sp>
            <p:nvSpPr>
              <p:cNvPr id="811" name=""/>
              <p:cNvSpPr/>
              <p:nvPr/>
            </p:nvSpPr>
            <p:spPr>
              <a:xfrm>
                <a:off x="5881680" y="6200640"/>
                <a:ext cx="7560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5881680" y="6352920"/>
                <a:ext cx="7560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3" name=""/>
            <p:cNvGrpSpPr/>
            <p:nvPr/>
          </p:nvGrpSpPr>
          <p:grpSpPr>
            <a:xfrm>
              <a:off x="4840200" y="5248440"/>
              <a:ext cx="227880" cy="75960"/>
              <a:chOff x="4840200" y="5248440"/>
              <a:chExt cx="227880" cy="75960"/>
            </a:xfrm>
          </p:grpSpPr>
          <p:sp>
            <p:nvSpPr>
              <p:cNvPr id="814" name=""/>
              <p:cNvSpPr/>
              <p:nvPr/>
            </p:nvSpPr>
            <p:spPr>
              <a:xfrm flipH="1" rot="16200000">
                <a:off x="4839840" y="524844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flipH="1" rot="16200000">
                <a:off x="4992120" y="524844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6" name=""/>
            <p:cNvGrpSpPr/>
            <p:nvPr/>
          </p:nvGrpSpPr>
          <p:grpSpPr>
            <a:xfrm>
              <a:off x="4776840" y="5401080"/>
              <a:ext cx="75960" cy="227880"/>
              <a:chOff x="4776840" y="5401080"/>
              <a:chExt cx="75960" cy="227880"/>
            </a:xfrm>
          </p:grpSpPr>
          <p:sp>
            <p:nvSpPr>
              <p:cNvPr id="817" name=""/>
              <p:cNvSpPr/>
              <p:nvPr/>
            </p:nvSpPr>
            <p:spPr>
              <a:xfrm flipH="1" rot="10800000">
                <a:off x="4776480" y="555300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flipH="1" rot="10800000">
                <a:off x="4776480" y="540108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9" name=""/>
            <p:cNvGrpSpPr/>
            <p:nvPr/>
          </p:nvGrpSpPr>
          <p:grpSpPr>
            <a:xfrm>
              <a:off x="4840200" y="5667120"/>
              <a:ext cx="227880" cy="75960"/>
              <a:chOff x="4840200" y="5667120"/>
              <a:chExt cx="227880" cy="75960"/>
            </a:xfrm>
          </p:grpSpPr>
          <p:sp>
            <p:nvSpPr>
              <p:cNvPr id="820" name=""/>
              <p:cNvSpPr/>
              <p:nvPr/>
            </p:nvSpPr>
            <p:spPr>
              <a:xfrm flipH="1" rot="16200000">
                <a:off x="4839840" y="566712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flipH="1" rot="16200000">
                <a:off x="4992120" y="566712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22" name=""/>
          <p:cNvSpPr/>
          <p:nvPr/>
        </p:nvSpPr>
        <p:spPr>
          <a:xfrm>
            <a:off x="5473800" y="4941720"/>
            <a:ext cx="86364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5940360" y="5373720"/>
            <a:ext cx="432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6372360" y="4797360"/>
            <a:ext cx="504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3348000" y="595008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01B5F5-FCB9-4107-AFB6-0B7D31AA49E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9" dur="10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Content Placeholder 1"/>
          <p:cNvSpPr/>
          <p:nvPr/>
        </p:nvSpPr>
        <p:spPr>
          <a:xfrm>
            <a:off x="324000" y="404640"/>
            <a:ext cx="8820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3300"/>
                </a:solidFill>
                <a:uFillTx/>
                <a:latin typeface="Comic Sans MS"/>
                <a:ea typeface="Times New Roman"/>
              </a:rPr>
              <a:t>Example 9.4 p382: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 Write the Lewis structure for nitr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acid (HNO</a:t>
            </a:r>
            <a:r>
              <a:rPr b="0" lang="en-US" sz="2400" spc="-1" strike="noStrike" baseline="-25000">
                <a:solidFill>
                  <a:srgbClr val="cc3300"/>
                </a:solidFill>
                <a:latin typeface="Comic Sans MS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) in which the three O atoms are bonded to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central 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179280" y="1609560"/>
            <a:ext cx="8496360" cy="52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tep 1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put N in center ,surrounded by 3O atoms , H bonded to one of the 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tep 2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Count the valence electrons  5 + (3 x 6) +1 = 24 valence 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tep 3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Draw single bonds between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nd O atoms and O and H complete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ctet on O atoms. Use all the valence e (step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tep 4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Check, all the atoms has octet, N has no octet? Use one of the lone pair on the O to form double bond with the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2484360" y="565452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3132000" y="566100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2484360" y="623088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1835280" y="5661000"/>
            <a:ext cx="129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2916360" y="587844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2700360" y="60944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2268360" y="58784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3419640" y="566244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3276720" y="566244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3419640" y="609444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3276720" y="609444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1981080" y="566100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2124000" y="566100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1836720" y="580536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1836720" y="595008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2916360" y="638172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2916360" y="652608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1981080" y="609444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2124000" y="609444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2629080" y="667080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2771640" y="666900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2484360" y="652608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2484360" y="638172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3780000" y="5646600"/>
            <a:ext cx="93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3564000" y="587844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1908000" y="5516640"/>
            <a:ext cx="432000" cy="360360"/>
          </a:xfrm>
          <a:prstGeom prst="ellipse">
            <a:avLst/>
          </a:prstGeom>
          <a:noFill/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 flipH="1">
            <a:off x="2266560" y="5805360"/>
            <a:ext cx="28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6588000" y="551196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7236000" y="5518080"/>
            <a:ext cx="129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6588000" y="608796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5938920" y="551808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7020000" y="573552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6804000" y="59515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6372360" y="573552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7523280" y="551988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380360" y="551988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7523280" y="595152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7380360" y="595152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5940360" y="566244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5940360" y="580716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020000" y="623880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020000" y="638316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6084720" y="595152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6227640" y="595152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6732720" y="652788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6875640" y="652608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6588000" y="638316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6588000" y="623880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7883640" y="5504040"/>
            <a:ext cx="93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7667640" y="57355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 flipH="1">
            <a:off x="6370200" y="5662440"/>
            <a:ext cx="28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4427640" y="6308640"/>
            <a:ext cx="11523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EFC95D-120A-4C88-843D-63A04615C53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fill="hold">
                      <p:stCondLst>
                        <p:cond delay="0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395280" y="-27000"/>
            <a:ext cx="8748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9.7 Formal Charge and Lewis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Formal charge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show how the charge distributed in a molec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Formal charge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s the difference between the number of valence electrons in an isolated atom and the number of electrons assigned to that atom in a Lewis struc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2" name="Group 23"/>
          <p:cNvGrpSpPr/>
          <p:nvPr/>
        </p:nvGrpSpPr>
        <p:grpSpPr>
          <a:xfrm>
            <a:off x="246240" y="3397320"/>
            <a:ext cx="8691480" cy="1191240"/>
            <a:chOff x="246240" y="3397320"/>
            <a:chExt cx="8691480" cy="1191240"/>
          </a:xfrm>
        </p:grpSpPr>
        <p:grpSp>
          <p:nvGrpSpPr>
            <p:cNvPr id="883" name="Group 37"/>
            <p:cNvGrpSpPr/>
            <p:nvPr/>
          </p:nvGrpSpPr>
          <p:grpSpPr>
            <a:xfrm>
              <a:off x="246240" y="3397320"/>
              <a:ext cx="2134800" cy="1191240"/>
              <a:chOff x="246240" y="3397320"/>
              <a:chExt cx="2134800" cy="1191240"/>
            </a:xfrm>
          </p:grpSpPr>
          <p:sp>
            <p:nvSpPr>
              <p:cNvPr id="884" name="Text Box 23"/>
              <p:cNvSpPr/>
              <p:nvPr/>
            </p:nvSpPr>
            <p:spPr>
              <a:xfrm>
                <a:off x="246240" y="3397320"/>
                <a:ext cx="182880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formal charge on an atom in a Lewis structur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Text Box 27"/>
              <p:cNvSpPr/>
              <p:nvPr/>
            </p:nvSpPr>
            <p:spPr>
              <a:xfrm>
                <a:off x="2069280" y="382428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=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6" name="Group 40"/>
            <p:cNvGrpSpPr/>
            <p:nvPr/>
          </p:nvGrpSpPr>
          <p:grpSpPr>
            <a:xfrm>
              <a:off x="6558480" y="3549600"/>
              <a:ext cx="2379240" cy="1008360"/>
              <a:chOff x="6558480" y="3549600"/>
              <a:chExt cx="2379240" cy="1008360"/>
            </a:xfrm>
          </p:grpSpPr>
          <p:grpSp>
            <p:nvGrpSpPr>
              <p:cNvPr id="887" name="Group 33"/>
              <p:cNvGrpSpPr/>
              <p:nvPr/>
            </p:nvGrpSpPr>
            <p:grpSpPr>
              <a:xfrm>
                <a:off x="6558480" y="3595680"/>
                <a:ext cx="340920" cy="825120"/>
                <a:chOff x="6558480" y="3595680"/>
                <a:chExt cx="340920" cy="825120"/>
              </a:xfrm>
            </p:grpSpPr>
            <p:sp>
              <p:nvSpPr>
                <p:cNvPr id="888" name="Text Box 28"/>
                <p:cNvSpPr/>
                <p:nvPr/>
              </p:nvSpPr>
              <p:spPr>
                <a:xfrm>
                  <a:off x="6558480" y="3595680"/>
                  <a:ext cx="3117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mic Sans MS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9" name="Text Box 29"/>
                <p:cNvSpPr/>
                <p:nvPr/>
              </p:nvSpPr>
              <p:spPr>
                <a:xfrm>
                  <a:off x="6576840" y="4052520"/>
                  <a:ext cx="3117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mic Sans MS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0" name="Line 30"/>
                <p:cNvSpPr/>
                <p:nvPr/>
              </p:nvSpPr>
              <p:spPr>
                <a:xfrm>
                  <a:off x="6594480" y="4052520"/>
                  <a:ext cx="3049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1" name="Group 34"/>
              <p:cNvGrpSpPr/>
              <p:nvPr/>
            </p:nvGrpSpPr>
            <p:grpSpPr>
              <a:xfrm>
                <a:off x="6878880" y="3549600"/>
                <a:ext cx="2058840" cy="1008360"/>
                <a:chOff x="6878880" y="3549600"/>
                <a:chExt cx="2058840" cy="1008360"/>
              </a:xfrm>
            </p:grpSpPr>
            <p:sp>
              <p:nvSpPr>
                <p:cNvPr id="892" name="Text Box 26"/>
                <p:cNvSpPr/>
                <p:nvPr/>
              </p:nvSpPr>
              <p:spPr>
                <a:xfrm>
                  <a:off x="7104240" y="3549600"/>
                  <a:ext cx="182880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mic Sans MS"/>
                    </a:rPr>
                    <a:t>total number of bonding electron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3" name="Text Box 31"/>
                <p:cNvSpPr/>
                <p:nvPr/>
              </p:nvSpPr>
              <p:spPr>
                <a:xfrm>
                  <a:off x="6878880" y="3549600"/>
                  <a:ext cx="607320" cy="100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6000" spc="-1" strike="noStrike">
                      <a:solidFill>
                        <a:srgbClr val="000000"/>
                      </a:solidFill>
                      <a:latin typeface="Comic Sans MS"/>
                    </a:rPr>
                    <a:t>( </a:t>
                  </a:r>
                  <a:endParaRPr b="0" lang="en-US" sz="6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4" name="Text Box 32"/>
                <p:cNvSpPr/>
                <p:nvPr/>
              </p:nvSpPr>
              <p:spPr>
                <a:xfrm>
                  <a:off x="8528400" y="3549600"/>
                  <a:ext cx="409320" cy="100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6000" spc="-1" strike="noStrike">
                      <a:solidFill>
                        <a:srgbClr val="000000"/>
                      </a:solidFill>
                      <a:latin typeface="Comic Sans MS"/>
                    </a:rPr>
                    <a:t>)</a:t>
                  </a:r>
                  <a:endParaRPr b="0" lang="en-US" sz="6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95" name="Group 38"/>
            <p:cNvGrpSpPr/>
            <p:nvPr/>
          </p:nvGrpSpPr>
          <p:grpSpPr>
            <a:xfrm>
              <a:off x="2532240" y="3397320"/>
              <a:ext cx="1856520" cy="1191240"/>
              <a:chOff x="2532240" y="3397320"/>
              <a:chExt cx="1856520" cy="1191240"/>
            </a:xfrm>
          </p:grpSpPr>
          <p:sp>
            <p:nvSpPr>
              <p:cNvPr id="896" name="Text Box 24"/>
              <p:cNvSpPr/>
              <p:nvPr/>
            </p:nvSpPr>
            <p:spPr>
              <a:xfrm>
                <a:off x="2532240" y="3397320"/>
                <a:ext cx="182880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total number of valence electrons in the free atom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Text Box 35"/>
              <p:cNvSpPr/>
              <p:nvPr/>
            </p:nvSpPr>
            <p:spPr>
              <a:xfrm>
                <a:off x="4077000" y="3762360"/>
                <a:ext cx="3117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-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8" name="Group 39"/>
            <p:cNvGrpSpPr/>
            <p:nvPr/>
          </p:nvGrpSpPr>
          <p:grpSpPr>
            <a:xfrm>
              <a:off x="4437360" y="3549600"/>
              <a:ext cx="2096280" cy="916920"/>
              <a:chOff x="4437360" y="3549600"/>
              <a:chExt cx="2096280" cy="916920"/>
            </a:xfrm>
          </p:grpSpPr>
          <p:sp>
            <p:nvSpPr>
              <p:cNvPr id="899" name="Text Box 25"/>
              <p:cNvSpPr/>
              <p:nvPr/>
            </p:nvSpPr>
            <p:spPr>
              <a:xfrm>
                <a:off x="4437360" y="3549600"/>
                <a:ext cx="18284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total number of nonbonding electron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Text Box 36"/>
              <p:cNvSpPr/>
              <p:nvPr/>
            </p:nvSpPr>
            <p:spPr>
              <a:xfrm>
                <a:off x="6221880" y="3762360"/>
                <a:ext cx="3117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-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01" name=""/>
          <p:cNvSpPr/>
          <p:nvPr/>
        </p:nvSpPr>
        <p:spPr>
          <a:xfrm>
            <a:off x="179280" y="3357720"/>
            <a:ext cx="8785440" cy="129528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2" name=""/>
              <p:cNvSpPr txBox="1"/>
              <p:nvPr/>
            </p:nvSpPr>
            <p:spPr>
              <a:xfrm>
                <a:off x="1523880" y="1397160"/>
                <a:ext cx="6096240" cy="40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03" name=""/>
          <p:cNvSpPr/>
          <p:nvPr/>
        </p:nvSpPr>
        <p:spPr>
          <a:xfrm>
            <a:off x="590400" y="5013360"/>
            <a:ext cx="8229600" cy="119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sum of the formal charges of the atoms in a molecule or ion must equal the charge on the molecule or 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A4E01D-5942-420E-8151-2FD505616C7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0" dur="indefinite" restart="never" nodeType="tmRoot">
          <p:childTnLst>
            <p:seq>
              <p:cTn id="891" dur="indefinite" nodeType="mainSeq">
                <p:childTnLst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"/>
          <p:cNvSpPr/>
          <p:nvPr/>
        </p:nvSpPr>
        <p:spPr>
          <a:xfrm>
            <a:off x="395280" y="404640"/>
            <a:ext cx="7777080" cy="57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Example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Ozone molecule (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Lewis Structu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ormal Charg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3708360" y="1197000"/>
            <a:ext cx="54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O – O = 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4068720" y="112536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4284720" y="112536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3635280" y="155736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3635280" y="177336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4211640" y="2206800"/>
            <a:ext cx="144360" cy="142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3995640" y="2206800"/>
            <a:ext cx="144720" cy="142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5724360" y="119700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5940360" y="119700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7451640" y="119700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7669080" y="119700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7308720" y="220500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7524720" y="220500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468360" y="2708280"/>
            <a:ext cx="3456000" cy="1150920"/>
          </a:xfrm>
          <a:prstGeom prst="wedgeRectCallout">
            <a:avLst>
              <a:gd name="adj1" fmla="val 49634"/>
              <a:gd name="adj2" fmla="val -9965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mal charge = 6 – 6 –(½x2) =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2556000" y="4005360"/>
            <a:ext cx="3456000" cy="1150920"/>
          </a:xfrm>
          <a:prstGeom prst="wedgeRectCallout">
            <a:avLst>
              <a:gd name="adj1" fmla="val 37324"/>
              <a:gd name="adj2" fmla="val -21331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mal charge = 6 – 2 –(½x6) =+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5651640" y="2781360"/>
            <a:ext cx="3456000" cy="1150920"/>
          </a:xfrm>
          <a:prstGeom prst="wedgeRectCallout">
            <a:avLst>
              <a:gd name="adj1" fmla="val 12287"/>
              <a:gd name="adj2" fmla="val -104069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mal charge = 6 – 4 –(½x4)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1836720" y="5587920"/>
            <a:ext cx="54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7200" spc="-1" strike="noStrike" baseline="30000">
                <a:solidFill>
                  <a:srgbClr val="000000"/>
                </a:solidFill>
                <a:latin typeface="Comic Sans MS"/>
              </a:rPr>
              <a:t>–</a:t>
            </a:r>
            <a:r>
              <a:rPr b="0" lang="ar-SA" sz="72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7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 = 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2197080" y="551664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2413080" y="551664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1763640" y="594828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1763640" y="616428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2340000" y="65977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2124000" y="65977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3419640" y="55879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3635280" y="558792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5580000" y="55879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5797440" y="558792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5437080" y="659592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5653080" y="65959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142920" y="5805360"/>
            <a:ext cx="1260360" cy="648000"/>
          </a:xfrm>
          <a:prstGeom prst="rightArrow">
            <a:avLst>
              <a:gd name="adj1" fmla="val 50000"/>
              <a:gd name="adj2" fmla="val 48625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6659640" y="4005360"/>
            <a:ext cx="2252520" cy="2692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sum of the formal charges of the atoms in a molecule or ion must equal the charge on the molecule or 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-1 +1 = 0   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9233F4-9226-4C33-AEB7-2E1B95EEDD1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4" dur="indefinite" restart="never" nodeType="tmRoot">
          <p:childTnLst>
            <p:seq>
              <p:cTn id="905" dur="indefinite" nodeType="mainSeq">
                <p:childTnLst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26" dur="5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29" dur="5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2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5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8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41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44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47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50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53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56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5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62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"/>
          <p:cNvSpPr/>
          <p:nvPr/>
        </p:nvSpPr>
        <p:spPr>
          <a:xfrm>
            <a:off x="395280" y="333360"/>
            <a:ext cx="8424720" cy="16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3300"/>
                </a:solidFill>
                <a:uFillTx/>
                <a:latin typeface="Comic Sans MS"/>
              </a:rPr>
              <a:t>Example 9.6 p38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Write the formal charges for the carbonate ion (CO</a:t>
            </a:r>
            <a:r>
              <a:rPr b="0" lang="en-US" sz="2800" spc="-1" strike="noStrike" baseline="-25000">
                <a:solidFill>
                  <a:srgbClr val="cc3300"/>
                </a:solidFill>
                <a:latin typeface="Comic Sans MS"/>
              </a:rPr>
              <a:t>3</a:t>
            </a:r>
            <a:r>
              <a:rPr b="0" lang="en-US" sz="2800" spc="-1" strike="noStrike" baseline="30000">
                <a:solidFill>
                  <a:srgbClr val="cc3300"/>
                </a:solidFill>
                <a:latin typeface="Comic Sans MS"/>
              </a:rPr>
              <a:t>2-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395280" y="1989000"/>
            <a:ext cx="835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324000" y="2060640"/>
            <a:ext cx="68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1943280" y="4875120"/>
            <a:ext cx="37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2843280" y="4083120"/>
            <a:ext cx="37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3745080" y="487512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2843280" y="4875120"/>
            <a:ext cx="37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3095640" y="458640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3168720" y="458640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 flipH="1">
            <a:off x="3384360" y="51624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 flipH="1">
            <a:off x="2447640" y="51624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3346560" y="44355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3346560" y="429264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2843280" y="429264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2843280" y="44355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2122560" y="479592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2266920" y="479592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1906560" y="508464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1906560" y="52275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2122560" y="54435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2266920" y="54435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3922560" y="4869000"/>
            <a:ext cx="7308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4065480" y="4869000"/>
            <a:ext cx="7308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3922560" y="54435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4067280" y="544500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4281480" y="50133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4282920" y="515772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1690560" y="4078440"/>
            <a:ext cx="289080" cy="2087280"/>
          </a:xfrm>
          <a:custGeom>
            <a:avLst/>
            <a:gdLst>
              <a:gd name="textAreaLeft" fmla="*/ 84960 w 289080"/>
              <a:gd name="textAreaRight" fmla="*/ 289080 w 289080"/>
              <a:gd name="textAreaTop" fmla="*/ 86760 h 2087280"/>
              <a:gd name="textAreaBottom" fmla="*/ 2000520 h 208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 rot="10800000">
            <a:off x="4282560" y="4078440"/>
            <a:ext cx="289080" cy="2087280"/>
          </a:xfrm>
          <a:custGeom>
            <a:avLst/>
            <a:gdLst>
              <a:gd name="textAreaLeft" fmla="*/ 84960 w 289080"/>
              <a:gd name="textAreaRight" fmla="*/ 289080 w 289080"/>
              <a:gd name="textAreaTop" fmla="*/ 86760 h 2087280"/>
              <a:gd name="textAreaBottom" fmla="*/ 2000520 h 208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4427640" y="3651120"/>
            <a:ext cx="11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2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179280" y="4581360"/>
            <a:ext cx="1366920" cy="1872000"/>
          </a:xfrm>
          <a:prstGeom prst="wedgeRectCallout">
            <a:avLst>
              <a:gd name="adj1" fmla="val 74504"/>
              <a:gd name="adj2" fmla="val -1446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½x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----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5075280" y="4221000"/>
            <a:ext cx="1366920" cy="1872000"/>
          </a:xfrm>
          <a:prstGeom prst="wedgeRectCallout">
            <a:avLst>
              <a:gd name="adj1" fmla="val -101569"/>
              <a:gd name="adj2" fmla="val 9796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½x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----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3780000" y="1844640"/>
            <a:ext cx="1366560" cy="1871640"/>
          </a:xfrm>
          <a:prstGeom prst="wedgeRectCallout">
            <a:avLst>
              <a:gd name="adj1" fmla="val -92740"/>
              <a:gd name="adj2" fmla="val 72305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½x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----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2411280" y="6237360"/>
            <a:ext cx="2664000" cy="504720"/>
          </a:xfrm>
          <a:prstGeom prst="wedgeRectCallout">
            <a:avLst>
              <a:gd name="adj1" fmla="val -25504"/>
              <a:gd name="adj2" fmla="val -216981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 – 0 –(½x8)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8172360" y="285912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7523280" y="257004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7596360" y="257004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 flipH="1">
            <a:off x="7811640" y="31464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 flipH="1">
            <a:off x="6875280" y="31464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7773840" y="241920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7773840" y="2276640"/>
            <a:ext cx="7308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7270920" y="2276640"/>
            <a:ext cx="7272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7270920" y="2419200"/>
            <a:ext cx="7272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6550200" y="2779560"/>
            <a:ext cx="7272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6694560" y="27795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6334200" y="306864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6334200" y="32115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6550200" y="3427560"/>
            <a:ext cx="7272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6694560" y="3427560"/>
            <a:ext cx="7308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8350200" y="285264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8493120" y="285264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8350200" y="3427560"/>
            <a:ext cx="7308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8494560" y="342900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8709120" y="2997360"/>
            <a:ext cx="7308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8710560" y="314172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6118200" y="2062080"/>
            <a:ext cx="289080" cy="2087640"/>
          </a:xfrm>
          <a:custGeom>
            <a:avLst/>
            <a:gdLst>
              <a:gd name="textAreaLeft" fmla="*/ 84960 w 289080"/>
              <a:gd name="textAreaRight" fmla="*/ 289080 w 289080"/>
              <a:gd name="textAreaTop" fmla="*/ 86760 h 2087640"/>
              <a:gd name="textAreaBottom" fmla="*/ 2000880 h 208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 rot="10800000">
            <a:off x="8710200" y="2061720"/>
            <a:ext cx="289080" cy="2087640"/>
          </a:xfrm>
          <a:custGeom>
            <a:avLst/>
            <a:gdLst>
              <a:gd name="textAreaLeft" fmla="*/ 84960 w 289080"/>
              <a:gd name="textAreaRight" fmla="*/ 289080 w 289080"/>
              <a:gd name="textAreaTop" fmla="*/ 86760 h 2087640"/>
              <a:gd name="textAreaBottom" fmla="*/ 2000880 h 208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7270920" y="2060640"/>
            <a:ext cx="118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6372360" y="285912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7307280" y="2859120"/>
            <a:ext cx="6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6084720" y="2492280"/>
            <a:ext cx="4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8675640" y="2500200"/>
            <a:ext cx="4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6732720" y="4149720"/>
            <a:ext cx="1368360" cy="792000"/>
          </a:xfrm>
          <a:custGeom>
            <a:avLst/>
            <a:gdLst>
              <a:gd name="textAreaLeft" fmla="*/ 456120 w 1368360"/>
              <a:gd name="textAreaRight" fmla="*/ 1172160 w 1368360"/>
              <a:gd name="textAreaTop" fmla="*/ 456120 h 792000"/>
              <a:gd name="textAreaBottom" fmla="*/ 678600 h 7920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6516720" y="5084640"/>
            <a:ext cx="2556000" cy="1681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 sum of the formal charges of the atoms in a molecule or ion must equal the charge on the molecule or 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-1 -1 = -2   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BA582C-EF4E-4A6E-A886-540C57C6762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3" dur="indefinite" restart="never" nodeType="tmRoot">
          <p:childTnLst>
            <p:seq>
              <p:cTn id="974" dur="indefinite" nodeType="mainSeq">
                <p:childTnLst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7" dur="500" fill="hold"/>
                                        <p:tgtEl>
                                          <p:spTgt spid="9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500" fill="hold"/>
                                        <p:tgtEl>
                                          <p:spTgt spid="9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f there is more than one possible structure for a molecule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Formal charge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help to decide which structure is the correct one, by applying the follow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Lewis structure with no formal charges i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favourabl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ewis structure with larger formal charges (+2, +3, -2, -3) i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unfavourabl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ewis structures with smaller negative charges, the favourable is one in which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negative formal charges are on the more electronegative atom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1116000" y="6308640"/>
            <a:ext cx="6696000" cy="505080"/>
          </a:xfrm>
          <a:prstGeom prst="rightArrow">
            <a:avLst>
              <a:gd name="adj1" fmla="val 50000"/>
              <a:gd name="adj2" fmla="val 331433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76F927-FD22-4EA6-9558-07596F4E77B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3" dur="indefinite" restart="never" nodeType="tmRoot">
          <p:childTnLst>
            <p:seq>
              <p:cTn id="1064" dur="indefinite" nodeType="mainSeq">
                <p:childTnLst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"/>
          <p:cNvSpPr/>
          <p:nvPr/>
        </p:nvSpPr>
        <p:spPr>
          <a:xfrm>
            <a:off x="395280" y="374760"/>
            <a:ext cx="860436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cc3300"/>
                </a:solidFill>
                <a:uFillTx/>
                <a:latin typeface="Comic Sans MS"/>
              </a:rPr>
              <a:t>Example</a:t>
            </a:r>
            <a:r>
              <a:rPr b="1" lang="ar-SA" sz="2400" spc="-1" strike="noStrike" u="sng">
                <a:solidFill>
                  <a:srgbClr val="cc3300"/>
                </a:solidFill>
                <a:uFillTx/>
                <a:latin typeface="Comic Sans MS"/>
              </a:rPr>
              <a:t> </a:t>
            </a:r>
            <a:r>
              <a:rPr b="1" lang="en-GB" sz="2400" spc="-1" strike="noStrike" u="sng">
                <a:solidFill>
                  <a:srgbClr val="cc3300"/>
                </a:solidFill>
                <a:uFillTx/>
                <a:latin typeface="Comic Sans MS"/>
              </a:rPr>
              <a:t> 9.7 p385:</a:t>
            </a:r>
            <a:r>
              <a:rPr b="0" lang="en-GB" sz="2400" spc="-1" strike="noStrike" u="sng">
                <a:solidFill>
                  <a:srgbClr val="cc3300"/>
                </a:solidFill>
                <a:uFillTx/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Draw the most likely Lewis structure for formaldehyde (CH</a:t>
            </a:r>
            <a:r>
              <a:rPr b="0" lang="en-GB" sz="2400" spc="-1" strike="noStrike" baseline="-25000">
                <a:solidFill>
                  <a:srgbClr val="cc33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O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468360" y="1844640"/>
            <a:ext cx="828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395280" y="1844640"/>
            <a:ext cx="8424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two possible structures a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611280" y="3357720"/>
            <a:ext cx="367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 – C = O - 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6010200" y="3284640"/>
            <a:ext cx="144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 = 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5219640" y="292428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5219640" y="379584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5796000" y="3357720"/>
            <a:ext cx="288720" cy="142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 flipV="1">
            <a:off x="5724360" y="3789360"/>
            <a:ext cx="28764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1619280" y="335772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1763640" y="335772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2340000" y="335772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2484360" y="335772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6948360" y="328464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7093080" y="328608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7093080" y="386064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6948360" y="386064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179280" y="4076640"/>
            <a:ext cx="1366920" cy="1871640"/>
          </a:xfrm>
          <a:prstGeom prst="wedgeRectCallout">
            <a:avLst>
              <a:gd name="adj1" fmla="val 48953"/>
              <a:gd name="adj2" fmla="val -61791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½x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----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6012000" y="4149720"/>
            <a:ext cx="1366560" cy="1871640"/>
          </a:xfrm>
          <a:prstGeom prst="wedgeRectCallout">
            <a:avLst>
              <a:gd name="adj1" fmla="val -32462"/>
              <a:gd name="adj2" fmla="val -64759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½x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----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1835280" y="4076640"/>
            <a:ext cx="1366560" cy="1871640"/>
          </a:xfrm>
          <a:prstGeom prst="wedgeRectCallout">
            <a:avLst>
              <a:gd name="adj1" fmla="val -7143"/>
              <a:gd name="adj2" fmla="val -60685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½x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----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7596360" y="3789360"/>
            <a:ext cx="1366560" cy="1871640"/>
          </a:xfrm>
          <a:prstGeom prst="wedgeRectCallout">
            <a:avLst>
              <a:gd name="adj1" fmla="val -76481"/>
              <a:gd name="adj2" fmla="val -56106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½x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----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1547640" y="2781360"/>
            <a:ext cx="6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2268360" y="2781360"/>
            <a:ext cx="6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179280" y="292428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(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4572000" y="2997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(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179280" y="6062760"/>
            <a:ext cx="849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Comic Sans MS"/>
              </a:rPr>
              <a:t>Structure (b) has no formal charges → THUS: it is the most likely structure of formaldehyd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D5BB9E-7D4C-48FB-A86C-35C6701841D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47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24000" y="4428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Chapter 9 Chemical Bonding :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68680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9.1 Lewis dot symb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9.2 The ionic b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9.4 The covalent bo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9.5 Electronegativ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9.6  Writing Lewis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9.7 formal charge and Lewis struct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9.8 the concept of resonan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9.9 the exception of octet ru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C28DF-62B5-4F10-B30C-7F88DED44E5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-27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7d"/>
                </a:solidFill>
                <a:uFillTx/>
                <a:latin typeface="Comic Sans MS"/>
              </a:rPr>
              <a:t>9.8 The Concept of Resonance </a:t>
            </a:r>
            <a:r>
              <a:rPr b="1" lang="ar-SA" sz="3200" spc="-1" strike="noStrike" u="sng">
                <a:solidFill>
                  <a:srgbClr val="00007d"/>
                </a:solidFill>
                <a:uFillTx/>
                <a:latin typeface="Comic Sans MS"/>
              </a:rPr>
              <a:t>الرني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055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xample 1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Lewis structure of 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468360" y="2455920"/>
            <a:ext cx="54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7200" spc="-1" strike="noStrike" baseline="30000">
                <a:solidFill>
                  <a:srgbClr val="000000"/>
                </a:solidFill>
                <a:latin typeface="Comic Sans MS"/>
              </a:rPr>
              <a:t>–</a:t>
            </a:r>
            <a:r>
              <a:rPr b="0" lang="ar-SA" sz="72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7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 = 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828720" y="238428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1044720" y="238428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395280" y="281628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395280" y="3032280"/>
            <a:ext cx="144360" cy="142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971640" y="346536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755640" y="346536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2050920" y="245592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2266920" y="24559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4211640" y="24559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4429080" y="24559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4068720" y="34639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4284720" y="34639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396720" y="5119560"/>
            <a:ext cx="547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O=O</a:t>
            </a:r>
            <a:r>
              <a:rPr b="0" lang="en-US" sz="7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 - O </a:t>
            </a:r>
            <a:r>
              <a:rPr b="0" lang="en-US" sz="7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757080" y="504828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973080" y="504828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4427640" y="551808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4427640" y="573408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900000" y="612936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684360" y="612936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1979640" y="511956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2195640" y="511956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4140360" y="511956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4357800" y="511956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3997440" y="6127920"/>
            <a:ext cx="144360" cy="142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4213080" y="6127920"/>
            <a:ext cx="144720" cy="142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2124000" y="395136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5219640" y="2316240"/>
            <a:ext cx="392436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ond length of O-O &gt; O=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T: experiments showed th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two bonds are of equal leng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US: both structures represents the same molecule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652872-6D47-4603-BA7D-0815D332C83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8" dur="indefinite" restart="never" nodeType="tmRoot">
          <p:childTnLst>
            <p:seq>
              <p:cTn id="1149" dur="indefinite" nodeType="mainSeq">
                <p:childTnLst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54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57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60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63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66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69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72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75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78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81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84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87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90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95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98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01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04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07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10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13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16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19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22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25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28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31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9.8 The Concept of Reson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ewis structure of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468360" y="2239920"/>
            <a:ext cx="54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7200" spc="-1" strike="noStrike" baseline="30000">
                <a:solidFill>
                  <a:srgbClr val="000000"/>
                </a:solidFill>
                <a:latin typeface="Comic Sans MS"/>
              </a:rPr>
              <a:t>–</a:t>
            </a:r>
            <a:r>
              <a:rPr b="0" lang="ar-SA" sz="72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7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 = 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828720" y="216864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1044720" y="216864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395280" y="260028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395280" y="281628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971640" y="32497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755640" y="32497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2050920" y="223992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2266920" y="22399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4211640" y="22399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4429080" y="22399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4068720" y="32479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4284720" y="32479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396720" y="5048280"/>
            <a:ext cx="547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O=O</a:t>
            </a:r>
            <a:r>
              <a:rPr b="0" lang="en-US" sz="7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 - O</a:t>
            </a:r>
            <a:r>
              <a:rPr b="0" lang="en-US" sz="7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757080" y="497664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973080" y="497664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324000" y="540864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324000" y="562464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900000" y="6058080"/>
            <a:ext cx="144720" cy="142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684360" y="6058080"/>
            <a:ext cx="144360" cy="142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1979640" y="504828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2195640" y="504828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4140360" y="504828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4357800" y="504828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3997440" y="605628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4213080" y="605628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2916360" y="3716280"/>
            <a:ext cx="608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Comic Sans MS"/>
              </a:rPr>
              <a:t>Resonance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 rot="5400000">
            <a:off x="2086920" y="3823920"/>
            <a:ext cx="1224000" cy="576360"/>
          </a:xfrm>
          <a:prstGeom prst="leftRightArrow">
            <a:avLst>
              <a:gd name="adj1" fmla="val 50000"/>
              <a:gd name="adj2" fmla="val 42277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48A993-7534-4349-ABBC-EBBF1A8C269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6" dur="indefinite" restart="never" nodeType="tmRoot">
          <p:childTnLst>
            <p:seq>
              <p:cTn id="1237" dur="indefinite" nodeType="mainSeq">
                <p:childTnLst>
                  <p:par>
                    <p:cTn id="1238" fill="hold">
                      <p:stCondLst>
                        <p:cond delay="indefinite"/>
                      </p:stCondLst>
                      <p:childTnLst>
                        <p:par>
                          <p:cTn id="1239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42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9.8 The Concept of Reson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Resonance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means the use of two or more Lewis structures to represent a particular molecu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What are the resonance structures of the carbonate </a:t>
            </a: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(CO</a:t>
            </a:r>
            <a:r>
              <a:rPr b="0" lang="en-GB" sz="2400" spc="-1" strike="noStrike" baseline="-25000">
                <a:solidFill>
                  <a:srgbClr val="cc3300"/>
                </a:solidFill>
                <a:latin typeface="Comic Sans MS"/>
              </a:rPr>
              <a:t>3</a:t>
            </a:r>
            <a:r>
              <a:rPr b="0" lang="en-GB" sz="2400" spc="-1" strike="noStrike" baseline="30000">
                <a:solidFill>
                  <a:srgbClr val="cc3300"/>
                </a:solidFill>
                <a:latin typeface="Comic Sans MS"/>
              </a:rPr>
              <a:t>2-</a:t>
            </a: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) 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What are the resonance structures of benzene molecule (C</a:t>
            </a:r>
            <a:r>
              <a:rPr b="0" lang="en-US" sz="2400" spc="-1" strike="noStrike" baseline="-25000">
                <a:solidFill>
                  <a:srgbClr val="cc3300"/>
                </a:solidFill>
                <a:latin typeface="Comic Sans MS"/>
              </a:rPr>
              <a:t>6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H</a:t>
            </a:r>
            <a:r>
              <a:rPr b="0" lang="en-US" sz="2400" spc="-1" strike="noStrike" baseline="-25000">
                <a:solidFill>
                  <a:srgbClr val="cc3300"/>
                </a:solidFill>
                <a:latin typeface="Comic Sans MS"/>
              </a:rPr>
              <a:t>6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2610000" y="3624120"/>
            <a:ext cx="99036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5772240" y="3624120"/>
            <a:ext cx="99036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2" name=""/>
          <p:cNvGrpSpPr/>
          <p:nvPr/>
        </p:nvGrpSpPr>
        <p:grpSpPr>
          <a:xfrm>
            <a:off x="325080" y="2709720"/>
            <a:ext cx="2448000" cy="1475640"/>
            <a:chOff x="325080" y="2709720"/>
            <a:chExt cx="2448000" cy="1475640"/>
          </a:xfrm>
        </p:grpSpPr>
        <p:grpSp>
          <p:nvGrpSpPr>
            <p:cNvPr id="1093" name=""/>
            <p:cNvGrpSpPr/>
            <p:nvPr/>
          </p:nvGrpSpPr>
          <p:grpSpPr>
            <a:xfrm>
              <a:off x="514080" y="2887560"/>
              <a:ext cx="2044080" cy="1297800"/>
              <a:chOff x="514080" y="2887560"/>
              <a:chExt cx="2044080" cy="1297800"/>
            </a:xfrm>
          </p:grpSpPr>
          <p:grpSp>
            <p:nvGrpSpPr>
              <p:cNvPr id="1094" name=""/>
              <p:cNvGrpSpPr/>
              <p:nvPr/>
            </p:nvGrpSpPr>
            <p:grpSpPr>
              <a:xfrm>
                <a:off x="525600" y="2912760"/>
                <a:ext cx="2018160" cy="1272600"/>
                <a:chOff x="525600" y="2912760"/>
                <a:chExt cx="2018160" cy="1272600"/>
              </a:xfrm>
            </p:grpSpPr>
            <p:sp>
              <p:nvSpPr>
                <p:cNvPr id="1095" name=""/>
                <p:cNvSpPr/>
                <p:nvPr/>
              </p:nvSpPr>
              <p:spPr>
                <a:xfrm>
                  <a:off x="525600" y="2912760"/>
                  <a:ext cx="418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6" name=""/>
                <p:cNvSpPr/>
                <p:nvPr/>
              </p:nvSpPr>
              <p:spPr>
                <a:xfrm>
                  <a:off x="1324800" y="2912760"/>
                  <a:ext cx="400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7" name=""/>
                <p:cNvSpPr/>
                <p:nvPr/>
              </p:nvSpPr>
              <p:spPr>
                <a:xfrm>
                  <a:off x="2125440" y="2912760"/>
                  <a:ext cx="418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8" name=""/>
                <p:cNvSpPr/>
                <p:nvPr/>
              </p:nvSpPr>
              <p:spPr>
                <a:xfrm>
                  <a:off x="1314360" y="3725640"/>
                  <a:ext cx="418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99" name=""/>
              <p:cNvSpPr/>
              <p:nvPr/>
            </p:nvSpPr>
            <p:spPr>
              <a:xfrm>
                <a:off x="874080" y="3139920"/>
                <a:ext cx="456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1712160" y="3139920"/>
                <a:ext cx="456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 flipV="1">
                <a:off x="1483560" y="3306600"/>
                <a:ext cx="0" cy="45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02" name=""/>
              <p:cNvGrpSpPr/>
              <p:nvPr/>
            </p:nvGrpSpPr>
            <p:grpSpPr>
              <a:xfrm>
                <a:off x="2228400" y="2887560"/>
                <a:ext cx="227880" cy="76320"/>
                <a:chOff x="2228400" y="2887560"/>
                <a:chExt cx="227880" cy="76320"/>
              </a:xfrm>
            </p:grpSpPr>
            <p:sp>
              <p:nvSpPr>
                <p:cNvPr id="1103" name=""/>
                <p:cNvSpPr/>
                <p:nvPr/>
              </p:nvSpPr>
              <p:spPr>
                <a:xfrm rot="5400000">
                  <a:off x="2379960" y="288756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4" name=""/>
                <p:cNvSpPr/>
                <p:nvPr/>
              </p:nvSpPr>
              <p:spPr>
                <a:xfrm rot="5400000">
                  <a:off x="2228040" y="288792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05" name=""/>
              <p:cNvGrpSpPr/>
              <p:nvPr/>
            </p:nvGrpSpPr>
            <p:grpSpPr>
              <a:xfrm>
                <a:off x="2482200" y="3027240"/>
                <a:ext cx="75960" cy="228600"/>
                <a:chOff x="2482200" y="3027240"/>
                <a:chExt cx="75960" cy="228600"/>
              </a:xfrm>
            </p:grpSpPr>
            <p:sp>
              <p:nvSpPr>
                <p:cNvPr id="1106" name=""/>
                <p:cNvSpPr/>
                <p:nvPr/>
              </p:nvSpPr>
              <p:spPr>
                <a:xfrm>
                  <a:off x="2482200" y="302724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7" name=""/>
                <p:cNvSpPr/>
                <p:nvPr/>
              </p:nvSpPr>
              <p:spPr>
                <a:xfrm>
                  <a:off x="2482200" y="317988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08" name=""/>
              <p:cNvGrpSpPr/>
              <p:nvPr/>
            </p:nvGrpSpPr>
            <p:grpSpPr>
              <a:xfrm>
                <a:off x="2228400" y="3306600"/>
                <a:ext cx="227880" cy="76320"/>
                <a:chOff x="2228400" y="3306600"/>
                <a:chExt cx="227880" cy="76320"/>
              </a:xfrm>
            </p:grpSpPr>
            <p:sp>
              <p:nvSpPr>
                <p:cNvPr id="1109" name=""/>
                <p:cNvSpPr/>
                <p:nvPr/>
              </p:nvSpPr>
              <p:spPr>
                <a:xfrm rot="5400000">
                  <a:off x="2379960" y="330660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0" name=""/>
                <p:cNvSpPr/>
                <p:nvPr/>
              </p:nvSpPr>
              <p:spPr>
                <a:xfrm rot="5400000">
                  <a:off x="2228040" y="330696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11" name=""/>
              <p:cNvGrpSpPr/>
              <p:nvPr/>
            </p:nvGrpSpPr>
            <p:grpSpPr>
              <a:xfrm>
                <a:off x="1288440" y="3840120"/>
                <a:ext cx="75600" cy="228600"/>
                <a:chOff x="1288440" y="3840120"/>
                <a:chExt cx="75600" cy="228600"/>
              </a:xfrm>
            </p:grpSpPr>
            <p:sp>
              <p:nvSpPr>
                <p:cNvPr id="1112" name=""/>
                <p:cNvSpPr/>
                <p:nvPr/>
              </p:nvSpPr>
              <p:spPr>
                <a:xfrm>
                  <a:off x="1288440" y="3840120"/>
                  <a:ext cx="7560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3" name=""/>
                <p:cNvSpPr/>
                <p:nvPr/>
              </p:nvSpPr>
              <p:spPr>
                <a:xfrm>
                  <a:off x="1288440" y="3992760"/>
                  <a:ext cx="7560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14" name=""/>
              <p:cNvGrpSpPr/>
              <p:nvPr/>
            </p:nvGrpSpPr>
            <p:grpSpPr>
              <a:xfrm>
                <a:off x="1669320" y="3840120"/>
                <a:ext cx="75960" cy="228600"/>
                <a:chOff x="1669320" y="3840120"/>
                <a:chExt cx="75960" cy="228600"/>
              </a:xfrm>
            </p:grpSpPr>
            <p:sp>
              <p:nvSpPr>
                <p:cNvPr id="1115" name=""/>
                <p:cNvSpPr/>
                <p:nvPr/>
              </p:nvSpPr>
              <p:spPr>
                <a:xfrm>
                  <a:off x="1669320" y="384012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6" name=""/>
                <p:cNvSpPr/>
                <p:nvPr/>
              </p:nvSpPr>
              <p:spPr>
                <a:xfrm>
                  <a:off x="1669320" y="399276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17" name=""/>
              <p:cNvGrpSpPr/>
              <p:nvPr/>
            </p:nvGrpSpPr>
            <p:grpSpPr>
              <a:xfrm>
                <a:off x="602640" y="2887560"/>
                <a:ext cx="227880" cy="76320"/>
                <a:chOff x="602640" y="2887560"/>
                <a:chExt cx="227880" cy="76320"/>
              </a:xfrm>
            </p:grpSpPr>
            <p:sp>
              <p:nvSpPr>
                <p:cNvPr id="1118" name=""/>
                <p:cNvSpPr/>
                <p:nvPr/>
              </p:nvSpPr>
              <p:spPr>
                <a:xfrm flipH="1" rot="16200000">
                  <a:off x="601920" y="288756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9" name=""/>
                <p:cNvSpPr/>
                <p:nvPr/>
              </p:nvSpPr>
              <p:spPr>
                <a:xfrm flipH="1" rot="16200000">
                  <a:off x="754560" y="288792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0" name=""/>
              <p:cNvGrpSpPr/>
              <p:nvPr/>
            </p:nvGrpSpPr>
            <p:grpSpPr>
              <a:xfrm>
                <a:off x="514080" y="3026880"/>
                <a:ext cx="75600" cy="228600"/>
                <a:chOff x="514080" y="3026880"/>
                <a:chExt cx="75600" cy="228600"/>
              </a:xfrm>
            </p:grpSpPr>
            <p:sp>
              <p:nvSpPr>
                <p:cNvPr id="1121" name=""/>
                <p:cNvSpPr/>
                <p:nvPr/>
              </p:nvSpPr>
              <p:spPr>
                <a:xfrm flipH="1" rot="10800000">
                  <a:off x="514080" y="3179160"/>
                  <a:ext cx="7560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2" name=""/>
                <p:cNvSpPr/>
                <p:nvPr/>
              </p:nvSpPr>
              <p:spPr>
                <a:xfrm flipH="1" rot="10800000">
                  <a:off x="514080" y="3026880"/>
                  <a:ext cx="7560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3" name=""/>
              <p:cNvGrpSpPr/>
              <p:nvPr/>
            </p:nvGrpSpPr>
            <p:grpSpPr>
              <a:xfrm>
                <a:off x="602640" y="3306600"/>
                <a:ext cx="227880" cy="76320"/>
                <a:chOff x="602640" y="3306600"/>
                <a:chExt cx="227880" cy="76320"/>
              </a:xfrm>
            </p:grpSpPr>
            <p:sp>
              <p:nvSpPr>
                <p:cNvPr id="1124" name=""/>
                <p:cNvSpPr/>
                <p:nvPr/>
              </p:nvSpPr>
              <p:spPr>
                <a:xfrm flipH="1" rot="16200000">
                  <a:off x="601920" y="330660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5" name=""/>
                <p:cNvSpPr/>
                <p:nvPr/>
              </p:nvSpPr>
              <p:spPr>
                <a:xfrm flipH="1" rot="16200000">
                  <a:off x="754560" y="330696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26" name=""/>
              <p:cNvSpPr/>
              <p:nvPr/>
            </p:nvSpPr>
            <p:spPr>
              <a:xfrm flipV="1">
                <a:off x="1555200" y="3306600"/>
                <a:ext cx="0" cy="45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7" name=""/>
            <p:cNvSpPr/>
            <p:nvPr/>
          </p:nvSpPr>
          <p:spPr>
            <a:xfrm>
              <a:off x="325080" y="270972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2490120" y="270972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9" name=""/>
          <p:cNvGrpSpPr/>
          <p:nvPr/>
        </p:nvGrpSpPr>
        <p:grpSpPr>
          <a:xfrm>
            <a:off x="3688920" y="2709720"/>
            <a:ext cx="2233800" cy="1653480"/>
            <a:chOff x="3688920" y="2709720"/>
            <a:chExt cx="2233800" cy="1653480"/>
          </a:xfrm>
        </p:grpSpPr>
        <p:grpSp>
          <p:nvGrpSpPr>
            <p:cNvPr id="1130" name=""/>
            <p:cNvGrpSpPr/>
            <p:nvPr/>
          </p:nvGrpSpPr>
          <p:grpSpPr>
            <a:xfrm>
              <a:off x="3688920" y="2887560"/>
              <a:ext cx="2031840" cy="1297800"/>
              <a:chOff x="3688920" y="2887560"/>
              <a:chExt cx="2031840" cy="1297800"/>
            </a:xfrm>
          </p:grpSpPr>
          <p:grpSp>
            <p:nvGrpSpPr>
              <p:cNvPr id="1131" name=""/>
              <p:cNvGrpSpPr/>
              <p:nvPr/>
            </p:nvGrpSpPr>
            <p:grpSpPr>
              <a:xfrm>
                <a:off x="4565880" y="4093920"/>
                <a:ext cx="227880" cy="76320"/>
                <a:chOff x="4565880" y="4093920"/>
                <a:chExt cx="227880" cy="76320"/>
              </a:xfrm>
            </p:grpSpPr>
            <p:sp>
              <p:nvSpPr>
                <p:cNvPr id="1132" name=""/>
                <p:cNvSpPr/>
                <p:nvPr/>
              </p:nvSpPr>
              <p:spPr>
                <a:xfrm rot="5400000">
                  <a:off x="4717440" y="409392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3" name=""/>
                <p:cNvSpPr/>
                <p:nvPr/>
              </p:nvSpPr>
              <p:spPr>
                <a:xfrm rot="5400000">
                  <a:off x="4565520" y="409428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4" name=""/>
              <p:cNvGrpSpPr/>
              <p:nvPr/>
            </p:nvGrpSpPr>
            <p:grpSpPr>
              <a:xfrm>
                <a:off x="3688920" y="2912760"/>
                <a:ext cx="2018520" cy="1272600"/>
                <a:chOff x="3688920" y="2912760"/>
                <a:chExt cx="2018520" cy="1272600"/>
              </a:xfrm>
            </p:grpSpPr>
            <p:sp>
              <p:nvSpPr>
                <p:cNvPr id="1135" name=""/>
                <p:cNvSpPr/>
                <p:nvPr/>
              </p:nvSpPr>
              <p:spPr>
                <a:xfrm>
                  <a:off x="3688920" y="2912760"/>
                  <a:ext cx="418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6" name=""/>
                <p:cNvSpPr/>
                <p:nvPr/>
              </p:nvSpPr>
              <p:spPr>
                <a:xfrm>
                  <a:off x="4488480" y="2912760"/>
                  <a:ext cx="400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7" name=""/>
                <p:cNvSpPr/>
                <p:nvPr/>
              </p:nvSpPr>
              <p:spPr>
                <a:xfrm>
                  <a:off x="5289120" y="2912760"/>
                  <a:ext cx="418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8" name=""/>
                <p:cNvSpPr/>
                <p:nvPr/>
              </p:nvSpPr>
              <p:spPr>
                <a:xfrm>
                  <a:off x="4477680" y="3725640"/>
                  <a:ext cx="418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39" name=""/>
              <p:cNvSpPr/>
              <p:nvPr/>
            </p:nvSpPr>
            <p:spPr>
              <a:xfrm>
                <a:off x="4037040" y="3114360"/>
                <a:ext cx="456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4875120" y="3139920"/>
                <a:ext cx="456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 flipV="1">
                <a:off x="4697280" y="3306600"/>
                <a:ext cx="0" cy="45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42" name=""/>
              <p:cNvGrpSpPr/>
              <p:nvPr/>
            </p:nvGrpSpPr>
            <p:grpSpPr>
              <a:xfrm>
                <a:off x="5391360" y="2887560"/>
                <a:ext cx="227880" cy="76320"/>
                <a:chOff x="5391360" y="2887560"/>
                <a:chExt cx="227880" cy="76320"/>
              </a:xfrm>
            </p:grpSpPr>
            <p:sp>
              <p:nvSpPr>
                <p:cNvPr id="1143" name=""/>
                <p:cNvSpPr/>
                <p:nvPr/>
              </p:nvSpPr>
              <p:spPr>
                <a:xfrm rot="5400000">
                  <a:off x="5542920" y="288756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4" name=""/>
                <p:cNvSpPr/>
                <p:nvPr/>
              </p:nvSpPr>
              <p:spPr>
                <a:xfrm rot="5400000">
                  <a:off x="5391000" y="288792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45" name=""/>
              <p:cNvGrpSpPr/>
              <p:nvPr/>
            </p:nvGrpSpPr>
            <p:grpSpPr>
              <a:xfrm>
                <a:off x="5645160" y="3027240"/>
                <a:ext cx="75600" cy="228600"/>
                <a:chOff x="5645160" y="3027240"/>
                <a:chExt cx="75600" cy="228600"/>
              </a:xfrm>
            </p:grpSpPr>
            <p:sp>
              <p:nvSpPr>
                <p:cNvPr id="1146" name=""/>
                <p:cNvSpPr/>
                <p:nvPr/>
              </p:nvSpPr>
              <p:spPr>
                <a:xfrm>
                  <a:off x="5645160" y="3027240"/>
                  <a:ext cx="7560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7" name=""/>
                <p:cNvSpPr/>
                <p:nvPr/>
              </p:nvSpPr>
              <p:spPr>
                <a:xfrm>
                  <a:off x="5645160" y="3179880"/>
                  <a:ext cx="7560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48" name=""/>
              <p:cNvGrpSpPr/>
              <p:nvPr/>
            </p:nvGrpSpPr>
            <p:grpSpPr>
              <a:xfrm>
                <a:off x="5391360" y="3306600"/>
                <a:ext cx="227880" cy="76320"/>
                <a:chOff x="5391360" y="3306600"/>
                <a:chExt cx="227880" cy="76320"/>
              </a:xfrm>
            </p:grpSpPr>
            <p:sp>
              <p:nvSpPr>
                <p:cNvPr id="1149" name=""/>
                <p:cNvSpPr/>
                <p:nvPr/>
              </p:nvSpPr>
              <p:spPr>
                <a:xfrm rot="5400000">
                  <a:off x="5542920" y="330660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0" name=""/>
                <p:cNvSpPr/>
                <p:nvPr/>
              </p:nvSpPr>
              <p:spPr>
                <a:xfrm rot="5400000">
                  <a:off x="5391000" y="330696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1" name=""/>
              <p:cNvGrpSpPr/>
              <p:nvPr/>
            </p:nvGrpSpPr>
            <p:grpSpPr>
              <a:xfrm>
                <a:off x="4451040" y="3840120"/>
                <a:ext cx="75960" cy="228600"/>
                <a:chOff x="4451040" y="3840120"/>
                <a:chExt cx="75960" cy="228600"/>
              </a:xfrm>
            </p:grpSpPr>
            <p:sp>
              <p:nvSpPr>
                <p:cNvPr id="1152" name=""/>
                <p:cNvSpPr/>
                <p:nvPr/>
              </p:nvSpPr>
              <p:spPr>
                <a:xfrm>
                  <a:off x="4451040" y="384012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3" name=""/>
                <p:cNvSpPr/>
                <p:nvPr/>
              </p:nvSpPr>
              <p:spPr>
                <a:xfrm>
                  <a:off x="4451040" y="399276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4" name=""/>
              <p:cNvGrpSpPr/>
              <p:nvPr/>
            </p:nvGrpSpPr>
            <p:grpSpPr>
              <a:xfrm>
                <a:off x="4832280" y="3840120"/>
                <a:ext cx="75600" cy="228600"/>
                <a:chOff x="4832280" y="3840120"/>
                <a:chExt cx="75600" cy="228600"/>
              </a:xfrm>
            </p:grpSpPr>
            <p:sp>
              <p:nvSpPr>
                <p:cNvPr id="1155" name=""/>
                <p:cNvSpPr/>
                <p:nvPr/>
              </p:nvSpPr>
              <p:spPr>
                <a:xfrm>
                  <a:off x="4832280" y="3840120"/>
                  <a:ext cx="7560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6" name=""/>
                <p:cNvSpPr/>
                <p:nvPr/>
              </p:nvSpPr>
              <p:spPr>
                <a:xfrm>
                  <a:off x="4832280" y="3992760"/>
                  <a:ext cx="7560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7" name=""/>
              <p:cNvGrpSpPr/>
              <p:nvPr/>
            </p:nvGrpSpPr>
            <p:grpSpPr>
              <a:xfrm>
                <a:off x="3765240" y="2887560"/>
                <a:ext cx="227880" cy="76320"/>
                <a:chOff x="3765240" y="2887560"/>
                <a:chExt cx="227880" cy="76320"/>
              </a:xfrm>
            </p:grpSpPr>
            <p:sp>
              <p:nvSpPr>
                <p:cNvPr id="1158" name=""/>
                <p:cNvSpPr/>
                <p:nvPr/>
              </p:nvSpPr>
              <p:spPr>
                <a:xfrm flipH="1" rot="16200000">
                  <a:off x="3764520" y="288756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9" name=""/>
                <p:cNvSpPr/>
                <p:nvPr/>
              </p:nvSpPr>
              <p:spPr>
                <a:xfrm flipH="1" rot="16200000">
                  <a:off x="3917160" y="288792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0" name=""/>
              <p:cNvGrpSpPr/>
              <p:nvPr/>
            </p:nvGrpSpPr>
            <p:grpSpPr>
              <a:xfrm>
                <a:off x="3765240" y="3306600"/>
                <a:ext cx="227880" cy="76320"/>
                <a:chOff x="3765240" y="3306600"/>
                <a:chExt cx="227880" cy="76320"/>
              </a:xfrm>
            </p:grpSpPr>
            <p:sp>
              <p:nvSpPr>
                <p:cNvPr id="1161" name=""/>
                <p:cNvSpPr/>
                <p:nvPr/>
              </p:nvSpPr>
              <p:spPr>
                <a:xfrm flipH="1" rot="16200000">
                  <a:off x="3764520" y="330660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2" name=""/>
                <p:cNvSpPr/>
                <p:nvPr/>
              </p:nvSpPr>
              <p:spPr>
                <a:xfrm flipH="1" rot="16200000">
                  <a:off x="3917160" y="330696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63" name=""/>
              <p:cNvSpPr/>
              <p:nvPr/>
            </p:nvSpPr>
            <p:spPr>
              <a:xfrm>
                <a:off x="4044960" y="3192480"/>
                <a:ext cx="456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4" name=""/>
            <p:cNvSpPr/>
            <p:nvPr/>
          </p:nvSpPr>
          <p:spPr>
            <a:xfrm>
              <a:off x="5639760" y="270972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4795200" y="39034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6" name=""/>
          <p:cNvGrpSpPr/>
          <p:nvPr/>
        </p:nvGrpSpPr>
        <p:grpSpPr>
          <a:xfrm>
            <a:off x="6605280" y="2709720"/>
            <a:ext cx="2213280" cy="1653480"/>
            <a:chOff x="6605280" y="2709720"/>
            <a:chExt cx="2213280" cy="1653480"/>
          </a:xfrm>
        </p:grpSpPr>
        <p:grpSp>
          <p:nvGrpSpPr>
            <p:cNvPr id="1167" name=""/>
            <p:cNvGrpSpPr/>
            <p:nvPr/>
          </p:nvGrpSpPr>
          <p:grpSpPr>
            <a:xfrm>
              <a:off x="6786000" y="2887560"/>
              <a:ext cx="2032560" cy="1297800"/>
              <a:chOff x="6786000" y="2887560"/>
              <a:chExt cx="2032560" cy="1297800"/>
            </a:xfrm>
          </p:grpSpPr>
          <p:grpSp>
            <p:nvGrpSpPr>
              <p:cNvPr id="1168" name=""/>
              <p:cNvGrpSpPr/>
              <p:nvPr/>
            </p:nvGrpSpPr>
            <p:grpSpPr>
              <a:xfrm>
                <a:off x="7713360" y="4093920"/>
                <a:ext cx="228600" cy="76320"/>
                <a:chOff x="7713360" y="4093920"/>
                <a:chExt cx="228600" cy="76320"/>
              </a:xfrm>
            </p:grpSpPr>
            <p:sp>
              <p:nvSpPr>
                <p:cNvPr id="1169" name=""/>
                <p:cNvSpPr/>
                <p:nvPr/>
              </p:nvSpPr>
              <p:spPr>
                <a:xfrm flipH="1" rot="16200000">
                  <a:off x="7713360" y="409392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0" name=""/>
                <p:cNvSpPr/>
                <p:nvPr/>
              </p:nvSpPr>
              <p:spPr>
                <a:xfrm flipH="1" rot="16200000">
                  <a:off x="7865280" y="409392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1" name=""/>
              <p:cNvGrpSpPr/>
              <p:nvPr/>
            </p:nvGrpSpPr>
            <p:grpSpPr>
              <a:xfrm>
                <a:off x="6800040" y="2912760"/>
                <a:ext cx="2018520" cy="1272600"/>
                <a:chOff x="6800040" y="2912760"/>
                <a:chExt cx="2018520" cy="1272600"/>
              </a:xfrm>
            </p:grpSpPr>
            <p:sp>
              <p:nvSpPr>
                <p:cNvPr id="1172" name=""/>
                <p:cNvSpPr/>
                <p:nvPr/>
              </p:nvSpPr>
              <p:spPr>
                <a:xfrm flipH="1">
                  <a:off x="8400240" y="2912760"/>
                  <a:ext cx="418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3" name=""/>
                <p:cNvSpPr/>
                <p:nvPr/>
              </p:nvSpPr>
              <p:spPr>
                <a:xfrm flipH="1">
                  <a:off x="7618680" y="2912760"/>
                  <a:ext cx="400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4" name=""/>
                <p:cNvSpPr/>
                <p:nvPr/>
              </p:nvSpPr>
              <p:spPr>
                <a:xfrm flipH="1">
                  <a:off x="6800040" y="2912760"/>
                  <a:ext cx="418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5" name=""/>
                <p:cNvSpPr/>
                <p:nvPr/>
              </p:nvSpPr>
              <p:spPr>
                <a:xfrm flipH="1">
                  <a:off x="7611480" y="3725640"/>
                  <a:ext cx="418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76" name=""/>
              <p:cNvSpPr/>
              <p:nvPr/>
            </p:nvSpPr>
            <p:spPr>
              <a:xfrm flipH="1">
                <a:off x="8012880" y="3114360"/>
                <a:ext cx="457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 flipH="1">
                <a:off x="7174800" y="3139920"/>
                <a:ext cx="457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 flipV="1">
                <a:off x="7809840" y="3306600"/>
                <a:ext cx="0" cy="45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79" name=""/>
              <p:cNvGrpSpPr/>
              <p:nvPr/>
            </p:nvGrpSpPr>
            <p:grpSpPr>
              <a:xfrm>
                <a:off x="6887880" y="2887560"/>
                <a:ext cx="228600" cy="76320"/>
                <a:chOff x="6887880" y="2887560"/>
                <a:chExt cx="228600" cy="76320"/>
              </a:xfrm>
            </p:grpSpPr>
            <p:sp>
              <p:nvSpPr>
                <p:cNvPr id="1180" name=""/>
                <p:cNvSpPr/>
                <p:nvPr/>
              </p:nvSpPr>
              <p:spPr>
                <a:xfrm flipH="1" rot="16200000">
                  <a:off x="6887880" y="288756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1" name=""/>
                <p:cNvSpPr/>
                <p:nvPr/>
              </p:nvSpPr>
              <p:spPr>
                <a:xfrm flipH="1" rot="16200000">
                  <a:off x="7039800" y="288756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82" name=""/>
              <p:cNvGrpSpPr/>
              <p:nvPr/>
            </p:nvGrpSpPr>
            <p:grpSpPr>
              <a:xfrm>
                <a:off x="6786000" y="3027240"/>
                <a:ext cx="75960" cy="228600"/>
                <a:chOff x="6786000" y="3027240"/>
                <a:chExt cx="75960" cy="228600"/>
              </a:xfrm>
            </p:grpSpPr>
            <p:sp>
              <p:nvSpPr>
                <p:cNvPr id="1183" name=""/>
                <p:cNvSpPr/>
                <p:nvPr/>
              </p:nvSpPr>
              <p:spPr>
                <a:xfrm flipH="1">
                  <a:off x="6785640" y="302724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4" name=""/>
                <p:cNvSpPr/>
                <p:nvPr/>
              </p:nvSpPr>
              <p:spPr>
                <a:xfrm flipH="1">
                  <a:off x="6785640" y="317988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85" name=""/>
              <p:cNvGrpSpPr/>
              <p:nvPr/>
            </p:nvGrpSpPr>
            <p:grpSpPr>
              <a:xfrm>
                <a:off x="6887880" y="3306600"/>
                <a:ext cx="228600" cy="76320"/>
                <a:chOff x="6887880" y="3306600"/>
                <a:chExt cx="228600" cy="76320"/>
              </a:xfrm>
            </p:grpSpPr>
            <p:sp>
              <p:nvSpPr>
                <p:cNvPr id="1186" name=""/>
                <p:cNvSpPr/>
                <p:nvPr/>
              </p:nvSpPr>
              <p:spPr>
                <a:xfrm flipH="1" rot="16200000">
                  <a:off x="6887880" y="330660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7" name=""/>
                <p:cNvSpPr/>
                <p:nvPr/>
              </p:nvSpPr>
              <p:spPr>
                <a:xfrm flipH="1" rot="16200000">
                  <a:off x="7039800" y="330660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88" name=""/>
              <p:cNvGrpSpPr/>
              <p:nvPr/>
            </p:nvGrpSpPr>
            <p:grpSpPr>
              <a:xfrm>
                <a:off x="7979760" y="3840120"/>
                <a:ext cx="76320" cy="228600"/>
                <a:chOff x="7979760" y="3840120"/>
                <a:chExt cx="76320" cy="228600"/>
              </a:xfrm>
            </p:grpSpPr>
            <p:sp>
              <p:nvSpPr>
                <p:cNvPr id="1189" name=""/>
                <p:cNvSpPr/>
                <p:nvPr/>
              </p:nvSpPr>
              <p:spPr>
                <a:xfrm flipH="1">
                  <a:off x="7979760" y="384012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0" name=""/>
                <p:cNvSpPr/>
                <p:nvPr/>
              </p:nvSpPr>
              <p:spPr>
                <a:xfrm flipH="1">
                  <a:off x="7979760" y="399276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1" name=""/>
              <p:cNvGrpSpPr/>
              <p:nvPr/>
            </p:nvGrpSpPr>
            <p:grpSpPr>
              <a:xfrm>
                <a:off x="7598880" y="3840120"/>
                <a:ext cx="75960" cy="228600"/>
                <a:chOff x="7598880" y="3840120"/>
                <a:chExt cx="75960" cy="228600"/>
              </a:xfrm>
            </p:grpSpPr>
            <p:sp>
              <p:nvSpPr>
                <p:cNvPr id="1192" name=""/>
                <p:cNvSpPr/>
                <p:nvPr/>
              </p:nvSpPr>
              <p:spPr>
                <a:xfrm flipH="1">
                  <a:off x="7598520" y="384012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3" name=""/>
                <p:cNvSpPr/>
                <p:nvPr/>
              </p:nvSpPr>
              <p:spPr>
                <a:xfrm flipH="1">
                  <a:off x="7598520" y="399276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4" name=""/>
              <p:cNvGrpSpPr/>
              <p:nvPr/>
            </p:nvGrpSpPr>
            <p:grpSpPr>
              <a:xfrm>
                <a:off x="8513280" y="2887560"/>
                <a:ext cx="228600" cy="76320"/>
                <a:chOff x="8513280" y="2887560"/>
                <a:chExt cx="228600" cy="76320"/>
              </a:xfrm>
            </p:grpSpPr>
            <p:sp>
              <p:nvSpPr>
                <p:cNvPr id="1195" name=""/>
                <p:cNvSpPr/>
                <p:nvPr/>
              </p:nvSpPr>
              <p:spPr>
                <a:xfrm rot="5400000">
                  <a:off x="8665560" y="288756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6" name=""/>
                <p:cNvSpPr/>
                <p:nvPr/>
              </p:nvSpPr>
              <p:spPr>
                <a:xfrm rot="5400000">
                  <a:off x="8512920" y="288756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7" name=""/>
              <p:cNvGrpSpPr/>
              <p:nvPr/>
            </p:nvGrpSpPr>
            <p:grpSpPr>
              <a:xfrm>
                <a:off x="8513280" y="3306600"/>
                <a:ext cx="228600" cy="76320"/>
                <a:chOff x="8513280" y="3306600"/>
                <a:chExt cx="228600" cy="76320"/>
              </a:xfrm>
            </p:grpSpPr>
            <p:sp>
              <p:nvSpPr>
                <p:cNvPr id="1198" name=""/>
                <p:cNvSpPr/>
                <p:nvPr/>
              </p:nvSpPr>
              <p:spPr>
                <a:xfrm rot="5400000">
                  <a:off x="8665560" y="330660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9" name=""/>
                <p:cNvSpPr/>
                <p:nvPr/>
              </p:nvSpPr>
              <p:spPr>
                <a:xfrm rot="5400000">
                  <a:off x="8512920" y="330660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00" name=""/>
              <p:cNvSpPr/>
              <p:nvPr/>
            </p:nvSpPr>
            <p:spPr>
              <a:xfrm flipH="1">
                <a:off x="8004960" y="3192480"/>
                <a:ext cx="457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1" name=""/>
            <p:cNvSpPr/>
            <p:nvPr/>
          </p:nvSpPr>
          <p:spPr>
            <a:xfrm>
              <a:off x="6605280" y="270972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7938720" y="39034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3" name=""/>
          <p:cNvSpPr/>
          <p:nvPr/>
        </p:nvSpPr>
        <p:spPr>
          <a:xfrm>
            <a:off x="250920" y="2637000"/>
            <a:ext cx="8713800" cy="165564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4" name="Picture 5" descr="370px-Benzene-resonance-structures"/>
          <p:cNvPicPr/>
          <p:nvPr/>
        </p:nvPicPr>
        <p:blipFill>
          <a:blip r:embed="rId1"/>
          <a:srcRect l="0" t="0" r="0" b="47098"/>
          <a:stretch/>
        </p:blipFill>
        <p:spPr>
          <a:xfrm>
            <a:off x="3924360" y="4797360"/>
            <a:ext cx="4248000" cy="1792440"/>
          </a:xfrm>
          <a:prstGeom prst="rect">
            <a:avLst/>
          </a:prstGeom>
          <a:ln w="0">
            <a:noFill/>
          </a:ln>
        </p:spPr>
      </p:pic>
      <p:sp>
        <p:nvSpPr>
          <p:cNvPr id="1205" name=""/>
          <p:cNvSpPr/>
          <p:nvPr/>
        </p:nvSpPr>
        <p:spPr>
          <a:xfrm>
            <a:off x="3564000" y="4797360"/>
            <a:ext cx="5040360" cy="187164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60E0FA-BC4B-4ED3-B190-7801111395B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7" dur="indefinite" restart="never" nodeType="tmRoot">
          <p:childTnLst>
            <p:seq>
              <p:cTn id="1248" dur="indefinite" nodeType="mainSeq">
                <p:childTnLst>
                  <p:par>
                    <p:cTn id="1249" fill="hold">
                      <p:stCondLst>
                        <p:cond delay="indefinite"/>
                      </p:stCondLst>
                      <p:childTnLst>
                        <p:par>
                          <p:cTn id="1250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3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4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5" fill="hold">
                      <p:stCondLst>
                        <p:cond delay="indefinite"/>
                      </p:stCondLst>
                      <p:childTnLst>
                        <p:par>
                          <p:cTn id="1256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fill="hold">
                      <p:stCondLst>
                        <p:cond delay="indefinite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3" dur="500" fill="hold"/>
                                        <p:tgtEl>
                                          <p:spTgt spid="1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4" dur="500" fill="hold"/>
                                        <p:tgtEl>
                                          <p:spTgt spid="1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5" fill="hold">
                      <p:stCondLst>
                        <p:cond delay="indefinite"/>
                      </p:stCondLst>
                      <p:childTnLst>
                        <p:par>
                          <p:cTn id="1266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9" fill="hold">
                      <p:stCondLst>
                        <p:cond delay="indefinite"/>
                      </p:stCondLst>
                      <p:childTnLst>
                        <p:par>
                          <p:cTn id="1270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3" dur="500" fill="hold"/>
                                        <p:tgtEl>
                                          <p:spTgt spid="1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4" dur="500" fill="hold"/>
                                        <p:tgtEl>
                                          <p:spTgt spid="1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fill="hold">
                      <p:stCondLst>
                        <p:cond delay="indefinite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9" dur="1000" fill="hold"/>
                                        <p:tgtEl>
                                          <p:spTgt spid="1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0" dur="1000" fill="hold"/>
                                        <p:tgtEl>
                                          <p:spTgt spid="1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"/>
          <p:cNvSpPr/>
          <p:nvPr/>
        </p:nvSpPr>
        <p:spPr>
          <a:xfrm>
            <a:off x="395280" y="333360"/>
            <a:ext cx="8352000" cy="17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3300"/>
                </a:solidFill>
                <a:uFillTx/>
                <a:latin typeface="Comic Sans MS"/>
              </a:rPr>
              <a:t>Example 9.8 p388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Draw three resonance structures for the molecule nitrous oxide, N</a:t>
            </a:r>
            <a:r>
              <a:rPr b="0" lang="en-US" sz="2400" spc="-1" strike="noStrike" baseline="-25000">
                <a:solidFill>
                  <a:srgbClr val="cc33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O (the atomic arrangement is NNO). Indicate formal charges. Rank the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250920" y="2060640"/>
            <a:ext cx="835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324000" y="203508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466560" y="2708280"/>
            <a:ext cx="25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 = N = 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>
            <a:off x="3419640" y="2708280"/>
            <a:ext cx="23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   N   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>
            <a:off x="611280" y="2637000"/>
            <a:ext cx="7308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>
            <a:off x="754200" y="2637000"/>
            <a:ext cx="7272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754200" y="3211560"/>
            <a:ext cx="7272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>
            <a:off x="611280" y="32115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>
            <a:off x="2193840" y="270828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>
            <a:off x="2338560" y="2708280"/>
            <a:ext cx="7272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2338560" y="3211560"/>
            <a:ext cx="7272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>
            <a:off x="2193840" y="32115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>
            <a:off x="250920" y="242100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>
            <a:off x="1332000" y="242100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>
            <a:off x="3924360" y="299736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>
            <a:off x="3924360" y="292428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3924360" y="306864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4572000" y="299736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3419640" y="2852640"/>
            <a:ext cx="7272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>
            <a:off x="3419640" y="2997360"/>
            <a:ext cx="7272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>
            <a:off x="5003640" y="270828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>
            <a:off x="5148360" y="270828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5219640" y="285264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5219640" y="2997360"/>
            <a:ext cx="7308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4932360" y="32115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>
            <a:off x="5076720" y="32115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>
            <a:off x="4211640" y="234936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5219640" y="234936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>
            <a:off x="6515280" y="2708280"/>
            <a:ext cx="23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   N   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>
            <a:off x="7020000" y="299736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7669080" y="292428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>
            <a:off x="7667640" y="306864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>
            <a:off x="7667640" y="299736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>
            <a:off x="6515280" y="2852640"/>
            <a:ext cx="7272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>
            <a:off x="6515280" y="2997360"/>
            <a:ext cx="7272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6659640" y="270828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>
            <a:off x="6804000" y="270828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>
            <a:off x="8315280" y="285264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>
            <a:off x="8315280" y="2997360"/>
            <a:ext cx="7308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>
            <a:off x="6732720" y="3211560"/>
            <a:ext cx="7272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>
            <a:off x="6877080" y="32115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"/>
          <p:cNvSpPr/>
          <p:nvPr/>
        </p:nvSpPr>
        <p:spPr>
          <a:xfrm>
            <a:off x="7307280" y="234936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>
            <a:off x="6156360" y="2467080"/>
            <a:ext cx="11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"/>
          <p:cNvSpPr/>
          <p:nvPr/>
        </p:nvSpPr>
        <p:spPr>
          <a:xfrm>
            <a:off x="7956720" y="234936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"/>
          <p:cNvSpPr/>
          <p:nvPr/>
        </p:nvSpPr>
        <p:spPr>
          <a:xfrm>
            <a:off x="1114560" y="3500280"/>
            <a:ext cx="86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>
            <a:off x="4067280" y="3497400"/>
            <a:ext cx="86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"/>
          <p:cNvSpPr/>
          <p:nvPr/>
        </p:nvSpPr>
        <p:spPr>
          <a:xfrm>
            <a:off x="7236000" y="3429000"/>
            <a:ext cx="86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"/>
          <p:cNvSpPr/>
          <p:nvPr/>
        </p:nvSpPr>
        <p:spPr>
          <a:xfrm>
            <a:off x="108000" y="4149720"/>
            <a:ext cx="8964720" cy="2241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ll structures show formal char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structure (b) is the most important, because the –ve charge is on the more electronegative oxygen a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structure (c) is the least important one, because larger formal charge, also the +ve charge is on the more electronegative oxygen atom. </a:t>
            </a:r>
            <a:r>
              <a:rPr b="1" lang="en-GB" sz="2000" spc="-1" strike="noStrike">
                <a:solidFill>
                  <a:srgbClr val="cc3300"/>
                </a:solidFill>
                <a:latin typeface="Comic Sans MS"/>
              </a:rPr>
              <a:t>Arrangement of importance (b) &gt; (a) &gt; (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"/>
          <p:cNvSpPr/>
          <p:nvPr/>
        </p:nvSpPr>
        <p:spPr>
          <a:xfrm>
            <a:off x="2698920" y="2924280"/>
            <a:ext cx="504720" cy="144360"/>
          </a:xfrm>
          <a:prstGeom prst="leftRightArrow">
            <a:avLst>
              <a:gd name="adj1" fmla="val 50000"/>
              <a:gd name="adj2" fmla="val 69601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"/>
          <p:cNvSpPr/>
          <p:nvPr/>
        </p:nvSpPr>
        <p:spPr>
          <a:xfrm>
            <a:off x="5724360" y="2924280"/>
            <a:ext cx="505080" cy="144360"/>
          </a:xfrm>
          <a:prstGeom prst="leftRightArrow">
            <a:avLst>
              <a:gd name="adj1" fmla="val 50000"/>
              <a:gd name="adj2" fmla="val 69651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0BA248-0A85-4FA4-85BC-4E54EDE8E0C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1" dur="indefinite" restart="never" nodeType="tmRoot">
          <p:childTnLst>
            <p:seq>
              <p:cTn id="1282" dur="indefinite" nodeType="mainSeq">
                <p:childTnLst>
                  <p:par>
                    <p:cTn id="1283" fill="hold">
                      <p:stCondLst>
                        <p:cond delay="indefinite"/>
                      </p:stCondLst>
                      <p:childTnLst>
                        <p:par>
                          <p:cTn id="1284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5" fill="hold">
                      <p:stCondLst>
                        <p:cond delay="indefinite"/>
                      </p:stCondLst>
                      <p:childTnLst>
                        <p:par>
                          <p:cTn id="1316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9" fill="hold">
                      <p:stCondLst>
                        <p:cond delay="indefinite"/>
                      </p:stCondLst>
                      <p:childTnLst>
                        <p:par>
                          <p:cTn id="1350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3" fill="hold">
                      <p:stCondLst>
                        <p:cond delay="indefinite"/>
                      </p:stCondLst>
                      <p:childTnLst>
                        <p:par>
                          <p:cTn id="1354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7" fill="hold">
                      <p:stCondLst>
                        <p:cond delay="indefinite"/>
                      </p:stCondLst>
                      <p:childTnLst>
                        <p:par>
                          <p:cTn id="1358" fill="hold">
                            <p:stCondLst>
                              <p:cond delay="0"/>
                            </p:stCondLst>
                            <p:childTnLst>
                              <p:par>
                                <p:cTn id="1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395280" y="-27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9.9 Exceptions to the Octet Ru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complete oct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dd number of electr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re than 8 valence electr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D8D287-C0B0-4D83-AF63-32CE70197486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395280" y="257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1. Incomplete Octet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39528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complete octet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he number of electrons surrounding the central atom in stable molecule is less than 8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BeH</a:t>
            </a:r>
            <a:r>
              <a:rPr b="0" lang="en-US" sz="28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Lewis structure is:       H – </a:t>
            </a: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Be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 – 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Be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 is ONLY surrounded by </a:t>
            </a:r>
            <a:r>
              <a:rPr b="0" lang="en-US" sz="3200" spc="-1" strike="noStrike" u="sng">
                <a:solidFill>
                  <a:srgbClr val="9900cc"/>
                </a:solidFill>
                <a:uFillTx/>
                <a:latin typeface="Comic Sans MS"/>
              </a:rPr>
              <a:t>4 electr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3A (B &amp; Al); BF</a:t>
            </a:r>
            <a:r>
              <a:rPr b="0" lang="en-US" sz="2800" spc="-1" strike="noStrike" baseline="-25000">
                <a:solidFill>
                  <a:srgbClr val="cc33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Comic Sans MS"/>
              </a:rPr>
              <a:t>Lewis structure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B</a:t>
            </a:r>
            <a:r>
              <a:rPr b="0" lang="en-US" sz="3200" spc="-1" strike="noStrike">
                <a:solidFill>
                  <a:srgbClr val="cc3300"/>
                </a:solidFill>
                <a:latin typeface="Comic Sans MS"/>
              </a:rPr>
              <a:t> is ONLY surrounded by </a:t>
            </a:r>
            <a:r>
              <a:rPr b="0" lang="en-US" sz="3200" spc="-1" strike="noStrike" u="sng">
                <a:solidFill>
                  <a:srgbClr val="cc3300"/>
                </a:solidFill>
                <a:uFillTx/>
                <a:latin typeface="Comic Sans MS"/>
              </a:rPr>
              <a:t>6 e</a:t>
            </a:r>
            <a:r>
              <a:rPr b="0" lang="en-US" sz="3200" spc="-1" strike="noStrike" u="sng" baseline="30000">
                <a:solidFill>
                  <a:srgbClr val="cc3300"/>
                </a:solidFill>
                <a:uFillTx/>
                <a:latin typeface="Comic Sans MS"/>
              </a:rPr>
              <a:t>-</a:t>
            </a:r>
            <a:r>
              <a:rPr b="0" lang="en-US" sz="3200" spc="-1" strike="noStrike">
                <a:solidFill>
                  <a:srgbClr val="cc33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"/>
          <p:cNvSpPr/>
          <p:nvPr/>
        </p:nvSpPr>
        <p:spPr>
          <a:xfrm>
            <a:off x="6012000" y="530064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 –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- 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"/>
          <p:cNvSpPr/>
          <p:nvPr/>
        </p:nvSpPr>
        <p:spPr>
          <a:xfrm>
            <a:off x="6659640" y="6016680"/>
            <a:ext cx="151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"/>
          <p:cNvSpPr/>
          <p:nvPr/>
        </p:nvSpPr>
        <p:spPr>
          <a:xfrm>
            <a:off x="6875640" y="580392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"/>
          <p:cNvSpPr/>
          <p:nvPr/>
        </p:nvSpPr>
        <p:spPr>
          <a:xfrm>
            <a:off x="6083280" y="530064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"/>
          <p:cNvSpPr/>
          <p:nvPr/>
        </p:nvSpPr>
        <p:spPr>
          <a:xfrm>
            <a:off x="6227640" y="530064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"/>
          <p:cNvSpPr/>
          <p:nvPr/>
        </p:nvSpPr>
        <p:spPr>
          <a:xfrm>
            <a:off x="6012000" y="544500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>
            <a:off x="6012000" y="558972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>
            <a:off x="6083280" y="580536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>
            <a:off x="6227640" y="580536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>
            <a:off x="7451640" y="530064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>
            <a:off x="7596360" y="530064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>
            <a:off x="7738920" y="544500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>
            <a:off x="7738920" y="558972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>
            <a:off x="7451640" y="580536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"/>
          <p:cNvSpPr/>
          <p:nvPr/>
        </p:nvSpPr>
        <p:spPr>
          <a:xfrm>
            <a:off x="7596360" y="580536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"/>
          <p:cNvSpPr/>
          <p:nvPr/>
        </p:nvSpPr>
        <p:spPr>
          <a:xfrm>
            <a:off x="6730920" y="652464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>
            <a:off x="6875640" y="652464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>
            <a:off x="6659640" y="623736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"/>
          <p:cNvSpPr/>
          <p:nvPr/>
        </p:nvSpPr>
        <p:spPr>
          <a:xfrm>
            <a:off x="6659640" y="638172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"/>
          <p:cNvSpPr/>
          <p:nvPr/>
        </p:nvSpPr>
        <p:spPr>
          <a:xfrm>
            <a:off x="7020000" y="623736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"/>
          <p:cNvSpPr/>
          <p:nvPr/>
        </p:nvSpPr>
        <p:spPr>
          <a:xfrm>
            <a:off x="7020000" y="638172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CA3EC0-83BE-4619-89E6-15EEC1B66A09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1" dur="indefinite" restart="never" nodeType="tmRoot">
          <p:childTnLst>
            <p:seq>
              <p:cTn id="1362" dur="indefinite" nodeType="mainSeq">
                <p:childTnLst>
                  <p:par>
                    <p:cTn id="1363" fill="hold">
                      <p:stCondLst>
                        <p:cond delay="indefinite"/>
                      </p:stCondLst>
                      <p:childTnLst>
                        <p:par>
                          <p:cTn id="1364" fill="hold">
                            <p:stCondLst>
                              <p:cond delay="0"/>
                            </p:stCondLst>
                            <p:childTnLst>
                              <p:par>
                                <p:cTn id="1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7" fill="hold">
                      <p:stCondLst>
                        <p:cond delay="indefinite"/>
                      </p:stCondLst>
                      <p:childTnLst>
                        <p:par>
                          <p:cTn id="1378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3" fill="hold">
                      <p:stCondLst>
                        <p:cond delay="indefinite"/>
                      </p:stCondLst>
                      <p:childTnLst>
                        <p:par>
                          <p:cTn id="1384" fill="hold">
                            <p:stCondLst>
                              <p:cond delay="0"/>
                            </p:stCondLst>
                            <p:childTnLst>
                              <p:par>
                                <p:cTn id="1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7" fill="hold">
                      <p:stCondLst>
                        <p:cond delay="indefinite"/>
                      </p:stCondLst>
                      <p:childTnLst>
                        <p:par>
                          <p:cTn id="1428" fill="hold">
                            <p:stCondLst>
                              <p:cond delay="0"/>
                            </p:stCondLst>
                            <p:childTnLst>
                              <p:par>
                                <p:cTn id="1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"/>
          <p:cNvSpPr/>
          <p:nvPr/>
        </p:nvSpPr>
        <p:spPr>
          <a:xfrm>
            <a:off x="395280" y="404640"/>
            <a:ext cx="8748720" cy="16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cc3300"/>
                </a:solidFill>
                <a:uFillTx/>
                <a:latin typeface="Comic Sans MS"/>
              </a:rPr>
              <a:t>Example 9.9 p391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3300"/>
                </a:solidFill>
                <a:latin typeface="Comic Sans MS"/>
              </a:rPr>
              <a:t>Draw the Lewis structure for aluminium triiodide (AlI</a:t>
            </a:r>
            <a:r>
              <a:rPr b="0" lang="en-GB" sz="2800" spc="-1" strike="noStrike" baseline="-25000">
                <a:solidFill>
                  <a:srgbClr val="cc3300"/>
                </a:solidFill>
                <a:latin typeface="Comic Sans MS"/>
              </a:rPr>
              <a:t>3</a:t>
            </a:r>
            <a:r>
              <a:rPr b="0" lang="en-GB" sz="2800" spc="-1" strike="noStrike">
                <a:solidFill>
                  <a:srgbClr val="cc33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"/>
          <p:cNvSpPr/>
          <p:nvPr/>
        </p:nvSpPr>
        <p:spPr>
          <a:xfrm>
            <a:off x="395280" y="2060640"/>
            <a:ext cx="842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>
            <a:off x="324000" y="206064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"/>
          <p:cNvSpPr/>
          <p:nvPr/>
        </p:nvSpPr>
        <p:spPr>
          <a:xfrm>
            <a:off x="3346560" y="270828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 – Al -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>
            <a:off x="3994200" y="3424320"/>
            <a:ext cx="151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>
            <a:off x="4210200" y="321156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"/>
          <p:cNvSpPr/>
          <p:nvPr/>
        </p:nvSpPr>
        <p:spPr>
          <a:xfrm>
            <a:off x="3417840" y="270828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"/>
          <p:cNvSpPr/>
          <p:nvPr/>
        </p:nvSpPr>
        <p:spPr>
          <a:xfrm>
            <a:off x="3562200" y="270828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>
            <a:off x="3346560" y="285264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"/>
          <p:cNvSpPr/>
          <p:nvPr/>
        </p:nvSpPr>
        <p:spPr>
          <a:xfrm>
            <a:off x="3346560" y="299736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"/>
          <p:cNvSpPr/>
          <p:nvPr/>
        </p:nvSpPr>
        <p:spPr>
          <a:xfrm>
            <a:off x="3417840" y="321300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"/>
          <p:cNvSpPr/>
          <p:nvPr/>
        </p:nvSpPr>
        <p:spPr>
          <a:xfrm>
            <a:off x="3562200" y="321300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"/>
          <p:cNvSpPr/>
          <p:nvPr/>
        </p:nvSpPr>
        <p:spPr>
          <a:xfrm>
            <a:off x="4786200" y="270828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"/>
          <p:cNvSpPr/>
          <p:nvPr/>
        </p:nvSpPr>
        <p:spPr>
          <a:xfrm>
            <a:off x="4930920" y="270828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"/>
          <p:cNvSpPr/>
          <p:nvPr/>
        </p:nvSpPr>
        <p:spPr>
          <a:xfrm>
            <a:off x="5073480" y="285264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"/>
          <p:cNvSpPr/>
          <p:nvPr/>
        </p:nvSpPr>
        <p:spPr>
          <a:xfrm>
            <a:off x="5073480" y="299736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"/>
          <p:cNvSpPr/>
          <p:nvPr/>
        </p:nvSpPr>
        <p:spPr>
          <a:xfrm>
            <a:off x="4786200" y="321300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"/>
          <p:cNvSpPr/>
          <p:nvPr/>
        </p:nvSpPr>
        <p:spPr>
          <a:xfrm>
            <a:off x="4930920" y="321300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"/>
          <p:cNvSpPr/>
          <p:nvPr/>
        </p:nvSpPr>
        <p:spPr>
          <a:xfrm>
            <a:off x="4065480" y="393228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"/>
          <p:cNvSpPr/>
          <p:nvPr/>
        </p:nvSpPr>
        <p:spPr>
          <a:xfrm>
            <a:off x="4210200" y="393228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"/>
          <p:cNvSpPr/>
          <p:nvPr/>
        </p:nvSpPr>
        <p:spPr>
          <a:xfrm>
            <a:off x="3994200" y="364500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"/>
          <p:cNvSpPr/>
          <p:nvPr/>
        </p:nvSpPr>
        <p:spPr>
          <a:xfrm>
            <a:off x="3994200" y="378936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"/>
          <p:cNvSpPr/>
          <p:nvPr/>
        </p:nvSpPr>
        <p:spPr>
          <a:xfrm>
            <a:off x="4354560" y="364500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"/>
          <p:cNvSpPr/>
          <p:nvPr/>
        </p:nvSpPr>
        <p:spPr>
          <a:xfrm>
            <a:off x="4354560" y="378936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"/>
          <p:cNvSpPr/>
          <p:nvPr/>
        </p:nvSpPr>
        <p:spPr>
          <a:xfrm>
            <a:off x="539640" y="4653000"/>
            <a:ext cx="806472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Al atom is surrounded by ONLY 6 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l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 an example of incomplete oct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CF694D-D1CE-4D05-A1D3-A8DAD1AB7C0D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1" dur="indefinite" restart="never" nodeType="tmRoot">
          <p:childTnLst>
            <p:seq>
              <p:cTn id="1432" dur="indefinite" nodeType="mainSeq">
                <p:childTnLst>
                  <p:par>
                    <p:cTn id="1433" fill="hold">
                      <p:stCondLst>
                        <p:cond delay="indefinite"/>
                      </p:stCondLst>
                      <p:childTnLst>
                        <p:par>
                          <p:cTn id="1434" fill="hold">
                            <p:stCondLst>
                              <p:cond delay="0"/>
                            </p:stCondLst>
                            <p:childTnLst>
                              <p:par>
                                <p:cTn id="1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7" fill="hold">
                      <p:stCondLst>
                        <p:cond delay="indefinite"/>
                      </p:stCondLst>
                      <p:childTnLst>
                        <p:par>
                          <p:cTn id="1478" fill="hold">
                            <p:stCondLst>
                              <p:cond delay="0"/>
                            </p:stCondLst>
                            <p:childTnLst>
                              <p:par>
                                <p:cTn id="1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395280" y="257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2. Odd-Electrons Molecul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39528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Odd-electrons molecules = RADIC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Radical: atom has one electron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xample: NO &amp; NO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Lewis structures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"/>
          <p:cNvSpPr/>
          <p:nvPr/>
        </p:nvSpPr>
        <p:spPr>
          <a:xfrm>
            <a:off x="971640" y="3859200"/>
            <a:ext cx="23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 = 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"/>
          <p:cNvSpPr/>
          <p:nvPr/>
        </p:nvSpPr>
        <p:spPr>
          <a:xfrm>
            <a:off x="1116000" y="378936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"/>
          <p:cNvSpPr/>
          <p:nvPr/>
        </p:nvSpPr>
        <p:spPr>
          <a:xfrm>
            <a:off x="1332000" y="378936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"/>
          <p:cNvSpPr/>
          <p:nvPr/>
        </p:nvSpPr>
        <p:spPr>
          <a:xfrm>
            <a:off x="1187280" y="4578480"/>
            <a:ext cx="289080" cy="2905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"/>
          <p:cNvSpPr/>
          <p:nvPr/>
        </p:nvSpPr>
        <p:spPr>
          <a:xfrm>
            <a:off x="2195640" y="3789360"/>
            <a:ext cx="14580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"/>
          <p:cNvSpPr/>
          <p:nvPr/>
        </p:nvSpPr>
        <p:spPr>
          <a:xfrm>
            <a:off x="2411280" y="378936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"/>
          <p:cNvSpPr/>
          <p:nvPr/>
        </p:nvSpPr>
        <p:spPr>
          <a:xfrm>
            <a:off x="2195640" y="4578480"/>
            <a:ext cx="145800" cy="145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>
            <a:off x="2411280" y="4578480"/>
            <a:ext cx="144720" cy="145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>
            <a:off x="4861080" y="3859200"/>
            <a:ext cx="374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O = N</a:t>
            </a:r>
            <a:r>
              <a:rPr b="0" lang="ar-SA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- O</a:t>
            </a:r>
            <a:r>
              <a:rPr b="0" lang="ar-SA" sz="4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44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"/>
          <p:cNvSpPr/>
          <p:nvPr/>
        </p:nvSpPr>
        <p:spPr>
          <a:xfrm>
            <a:off x="5003640" y="3789360"/>
            <a:ext cx="1429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"/>
          <p:cNvSpPr/>
          <p:nvPr/>
        </p:nvSpPr>
        <p:spPr>
          <a:xfrm>
            <a:off x="5221440" y="3789360"/>
            <a:ext cx="1425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"/>
          <p:cNvSpPr/>
          <p:nvPr/>
        </p:nvSpPr>
        <p:spPr>
          <a:xfrm>
            <a:off x="5148360" y="4578480"/>
            <a:ext cx="144360" cy="145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"/>
          <p:cNvSpPr/>
          <p:nvPr/>
        </p:nvSpPr>
        <p:spPr>
          <a:xfrm>
            <a:off x="6156360" y="3646440"/>
            <a:ext cx="287280" cy="287280"/>
          </a:xfrm>
          <a:prstGeom prst="ellipse">
            <a:avLst/>
          </a:prstGeom>
          <a:solidFill>
            <a:srgbClr val="ff99cc"/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"/>
          <p:cNvSpPr/>
          <p:nvPr/>
        </p:nvSpPr>
        <p:spPr>
          <a:xfrm>
            <a:off x="7451640" y="4506840"/>
            <a:ext cx="142920" cy="146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"/>
          <p:cNvSpPr/>
          <p:nvPr/>
        </p:nvSpPr>
        <p:spPr>
          <a:xfrm>
            <a:off x="7667640" y="378936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"/>
          <p:cNvSpPr/>
          <p:nvPr/>
        </p:nvSpPr>
        <p:spPr>
          <a:xfrm>
            <a:off x="4932360" y="4579920"/>
            <a:ext cx="1411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"/>
          <p:cNvSpPr/>
          <p:nvPr/>
        </p:nvSpPr>
        <p:spPr>
          <a:xfrm>
            <a:off x="7670880" y="4506840"/>
            <a:ext cx="141120" cy="146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"/>
          <p:cNvSpPr/>
          <p:nvPr/>
        </p:nvSpPr>
        <p:spPr>
          <a:xfrm>
            <a:off x="7886880" y="4005360"/>
            <a:ext cx="1411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"/>
          <p:cNvSpPr/>
          <p:nvPr/>
        </p:nvSpPr>
        <p:spPr>
          <a:xfrm>
            <a:off x="7886880" y="4219560"/>
            <a:ext cx="141120" cy="146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"/>
          <p:cNvSpPr/>
          <p:nvPr/>
        </p:nvSpPr>
        <p:spPr>
          <a:xfrm>
            <a:off x="7451640" y="378936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"/>
          <p:cNvSpPr/>
          <p:nvPr/>
        </p:nvSpPr>
        <p:spPr>
          <a:xfrm>
            <a:off x="2556000" y="2205000"/>
            <a:ext cx="2160360" cy="71928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"/>
          <p:cNvSpPr/>
          <p:nvPr/>
        </p:nvSpPr>
        <p:spPr>
          <a:xfrm>
            <a:off x="3708360" y="3645000"/>
            <a:ext cx="0" cy="2520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CBB7EC-D942-4CDD-BA73-0DFE96573BD5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1" dur="indefinite" restart="never" nodeType="tmRoot">
          <p:childTnLst>
            <p:seq>
              <p:cTn id="1482" dur="indefinite" nodeType="mainSeq">
                <p:childTnLst>
                  <p:par>
                    <p:cTn id="1483" fill="hold">
                      <p:stCondLst>
                        <p:cond delay="indefinite"/>
                      </p:stCondLst>
                      <p:childTnLst>
                        <p:par>
                          <p:cTn id="1484" fill="hold">
                            <p:stCondLst>
                              <p:cond delay="0"/>
                            </p:stCondLst>
                            <p:childTnLst>
                              <p:par>
                                <p:cTn id="1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7" fill="hold">
                      <p:stCondLst>
                        <p:cond delay="indefinite"/>
                      </p:stCondLst>
                      <p:childTnLst>
                        <p:par>
                          <p:cTn id="1488" fill="hold">
                            <p:stCondLst>
                              <p:cond delay="0"/>
                            </p:stCondLst>
                            <p:childTnLst>
                              <p:par>
                                <p:cTn id="1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1" fill="hold">
                      <p:stCondLst>
                        <p:cond delay="indefinite"/>
                      </p:stCondLst>
                      <p:childTnLst>
                        <p:par>
                          <p:cTn id="1492" fill="hold">
                            <p:stCondLst>
                              <p:cond delay="0"/>
                            </p:stCondLst>
                            <p:childTnLst>
                              <p:par>
                                <p:cTn id="1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5" fill="hold">
                      <p:stCondLst>
                        <p:cond delay="indefinite"/>
                      </p:stCondLst>
                      <p:childTnLst>
                        <p:par>
                          <p:cTn id="1496" fill="hold">
                            <p:stCondLst>
                              <p:cond delay="0"/>
                            </p:stCondLst>
                            <p:childTnLst>
                              <p:par>
                                <p:cTn id="1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457200" y="-27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3. The Expanded Oct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rd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period and beyond (4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5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6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7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) may form molecules in which the central atom is surrounded by more than 8 electrons (expanded oct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reason of this: is the presence of the d orbital that can be used in bondin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xample: SF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ulphur is surrounded by 12 electrons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xpanded Oct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"/>
          <p:cNvSpPr/>
          <p:nvPr/>
        </p:nvSpPr>
        <p:spPr>
          <a:xfrm>
            <a:off x="429480" y="4726080"/>
            <a:ext cx="607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4" name=""/>
          <p:cNvGrpSpPr/>
          <p:nvPr/>
        </p:nvGrpSpPr>
        <p:grpSpPr>
          <a:xfrm>
            <a:off x="1676520" y="4359240"/>
            <a:ext cx="1523880" cy="1194480"/>
            <a:chOff x="1676520" y="4359240"/>
            <a:chExt cx="1523880" cy="1194480"/>
          </a:xfrm>
        </p:grpSpPr>
        <p:sp>
          <p:nvSpPr>
            <p:cNvPr id="1335" name=""/>
            <p:cNvSpPr/>
            <p:nvPr/>
          </p:nvSpPr>
          <p:spPr>
            <a:xfrm>
              <a:off x="2092320" y="4359240"/>
              <a:ext cx="106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S – 6e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1753200" y="4700520"/>
              <a:ext cx="140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6F – 42e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1676520" y="5113080"/>
              <a:ext cx="1523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2418480" y="5094000"/>
              <a:ext cx="75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48e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9" name=""/>
          <p:cNvGrpSpPr/>
          <p:nvPr/>
        </p:nvGrpSpPr>
        <p:grpSpPr>
          <a:xfrm>
            <a:off x="3848040" y="3933720"/>
            <a:ext cx="1485360" cy="2028240"/>
            <a:chOff x="3848040" y="3933720"/>
            <a:chExt cx="1485360" cy="2028240"/>
          </a:xfrm>
        </p:grpSpPr>
        <p:grpSp>
          <p:nvGrpSpPr>
            <p:cNvPr id="1340" name=""/>
            <p:cNvGrpSpPr/>
            <p:nvPr/>
          </p:nvGrpSpPr>
          <p:grpSpPr>
            <a:xfrm>
              <a:off x="3886200" y="4289400"/>
              <a:ext cx="75960" cy="228600"/>
              <a:chOff x="3886200" y="4289400"/>
              <a:chExt cx="75960" cy="228600"/>
            </a:xfrm>
          </p:grpSpPr>
          <p:sp>
            <p:nvSpPr>
              <p:cNvPr id="1341" name=""/>
              <p:cNvSpPr/>
              <p:nvPr/>
            </p:nvSpPr>
            <p:spPr>
              <a:xfrm>
                <a:off x="3886200" y="428940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3886200" y="444204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3" name=""/>
            <p:cNvGrpSpPr/>
            <p:nvPr/>
          </p:nvGrpSpPr>
          <p:grpSpPr>
            <a:xfrm>
              <a:off x="3987360" y="4162320"/>
              <a:ext cx="228600" cy="76320"/>
              <a:chOff x="3987360" y="4162320"/>
              <a:chExt cx="228600" cy="76320"/>
            </a:xfrm>
          </p:grpSpPr>
          <p:sp>
            <p:nvSpPr>
              <p:cNvPr id="1344" name=""/>
              <p:cNvSpPr/>
              <p:nvPr/>
            </p:nvSpPr>
            <p:spPr>
              <a:xfrm rot="5400000">
                <a:off x="4139640" y="416232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 rot="5400000">
                <a:off x="3987000" y="416232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46" name=""/>
            <p:cNvSpPr/>
            <p:nvPr/>
          </p:nvSpPr>
          <p:spPr>
            <a:xfrm>
              <a:off x="4412880" y="4740120"/>
              <a:ext cx="34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3899880" y="5273640"/>
              <a:ext cx="33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3926880" y="4194000"/>
              <a:ext cx="33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4980960" y="5273640"/>
              <a:ext cx="33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4414320" y="3978360"/>
              <a:ext cx="33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4968360" y="4194000"/>
              <a:ext cx="33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4414320" y="5502240"/>
              <a:ext cx="33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"/>
            <p:cNvSpPr/>
            <p:nvPr/>
          </p:nvSpPr>
          <p:spPr>
            <a:xfrm flipV="1">
              <a:off x="4572000" y="437832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"/>
            <p:cNvSpPr/>
            <p:nvPr/>
          </p:nvSpPr>
          <p:spPr>
            <a:xfrm flipV="1">
              <a:off x="4572000" y="514044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 flipV="1">
              <a:off x="4711680" y="4543560"/>
              <a:ext cx="230040" cy="303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"/>
            <p:cNvSpPr/>
            <p:nvPr/>
          </p:nvSpPr>
          <p:spPr>
            <a:xfrm flipV="1">
              <a:off x="4203720" y="5153040"/>
              <a:ext cx="230040" cy="303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"/>
            <p:cNvSpPr/>
            <p:nvPr/>
          </p:nvSpPr>
          <p:spPr>
            <a:xfrm flipH="1" flipV="1">
              <a:off x="4176360" y="4543560"/>
              <a:ext cx="230040" cy="303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"/>
            <p:cNvSpPr/>
            <p:nvPr/>
          </p:nvSpPr>
          <p:spPr>
            <a:xfrm flipH="1" flipV="1">
              <a:off x="4735080" y="5140440"/>
              <a:ext cx="230040" cy="303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59" name=""/>
            <p:cNvGrpSpPr/>
            <p:nvPr/>
          </p:nvGrpSpPr>
          <p:grpSpPr>
            <a:xfrm>
              <a:off x="4203720" y="4289400"/>
              <a:ext cx="75960" cy="228600"/>
              <a:chOff x="4203720" y="4289400"/>
              <a:chExt cx="75960" cy="228600"/>
            </a:xfrm>
          </p:grpSpPr>
          <p:sp>
            <p:nvSpPr>
              <p:cNvPr id="1360" name=""/>
              <p:cNvSpPr/>
              <p:nvPr/>
            </p:nvSpPr>
            <p:spPr>
              <a:xfrm>
                <a:off x="4203720" y="428940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4203720" y="444204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2" name=""/>
            <p:cNvGrpSpPr/>
            <p:nvPr/>
          </p:nvGrpSpPr>
          <p:grpSpPr>
            <a:xfrm>
              <a:off x="4381560" y="4060800"/>
              <a:ext cx="75960" cy="228600"/>
              <a:chOff x="4381560" y="4060800"/>
              <a:chExt cx="75960" cy="228600"/>
            </a:xfrm>
          </p:grpSpPr>
          <p:sp>
            <p:nvSpPr>
              <p:cNvPr id="1363" name=""/>
              <p:cNvSpPr/>
              <p:nvPr/>
            </p:nvSpPr>
            <p:spPr>
              <a:xfrm>
                <a:off x="4381560" y="406080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4381560" y="421344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5" name=""/>
            <p:cNvGrpSpPr/>
            <p:nvPr/>
          </p:nvGrpSpPr>
          <p:grpSpPr>
            <a:xfrm>
              <a:off x="4482720" y="3933720"/>
              <a:ext cx="228600" cy="76320"/>
              <a:chOff x="4482720" y="3933720"/>
              <a:chExt cx="228600" cy="76320"/>
            </a:xfrm>
          </p:grpSpPr>
          <p:sp>
            <p:nvSpPr>
              <p:cNvPr id="1366" name=""/>
              <p:cNvSpPr/>
              <p:nvPr/>
            </p:nvSpPr>
            <p:spPr>
              <a:xfrm rot="5400000">
                <a:off x="4635000" y="393372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 rot="5400000">
                <a:off x="4482360" y="393372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8" name=""/>
            <p:cNvGrpSpPr/>
            <p:nvPr/>
          </p:nvGrpSpPr>
          <p:grpSpPr>
            <a:xfrm>
              <a:off x="4699080" y="4060800"/>
              <a:ext cx="75960" cy="228600"/>
              <a:chOff x="4699080" y="4060800"/>
              <a:chExt cx="75960" cy="228600"/>
            </a:xfrm>
          </p:grpSpPr>
          <p:sp>
            <p:nvSpPr>
              <p:cNvPr id="1369" name=""/>
              <p:cNvSpPr/>
              <p:nvPr/>
            </p:nvSpPr>
            <p:spPr>
              <a:xfrm>
                <a:off x="4699080" y="406080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4699080" y="421344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1" name=""/>
            <p:cNvGrpSpPr/>
            <p:nvPr/>
          </p:nvGrpSpPr>
          <p:grpSpPr>
            <a:xfrm>
              <a:off x="4927680" y="4289400"/>
              <a:ext cx="75960" cy="228600"/>
              <a:chOff x="4927680" y="4289400"/>
              <a:chExt cx="75960" cy="228600"/>
            </a:xfrm>
          </p:grpSpPr>
          <p:sp>
            <p:nvSpPr>
              <p:cNvPr id="1372" name=""/>
              <p:cNvSpPr/>
              <p:nvPr/>
            </p:nvSpPr>
            <p:spPr>
              <a:xfrm>
                <a:off x="4927680" y="428940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4927680" y="444204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4" name=""/>
            <p:cNvGrpSpPr/>
            <p:nvPr/>
          </p:nvGrpSpPr>
          <p:grpSpPr>
            <a:xfrm>
              <a:off x="5028840" y="4162320"/>
              <a:ext cx="228600" cy="76320"/>
              <a:chOff x="5028840" y="4162320"/>
              <a:chExt cx="228600" cy="76320"/>
            </a:xfrm>
          </p:grpSpPr>
          <p:sp>
            <p:nvSpPr>
              <p:cNvPr id="1375" name=""/>
              <p:cNvSpPr/>
              <p:nvPr/>
            </p:nvSpPr>
            <p:spPr>
              <a:xfrm rot="5400000">
                <a:off x="5181120" y="416232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 rot="5400000">
                <a:off x="5028480" y="416232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7" name=""/>
            <p:cNvGrpSpPr/>
            <p:nvPr/>
          </p:nvGrpSpPr>
          <p:grpSpPr>
            <a:xfrm>
              <a:off x="5245200" y="4289400"/>
              <a:ext cx="75960" cy="228600"/>
              <a:chOff x="5245200" y="4289400"/>
              <a:chExt cx="75960" cy="228600"/>
            </a:xfrm>
          </p:grpSpPr>
          <p:sp>
            <p:nvSpPr>
              <p:cNvPr id="1378" name=""/>
              <p:cNvSpPr/>
              <p:nvPr/>
            </p:nvSpPr>
            <p:spPr>
              <a:xfrm>
                <a:off x="5245200" y="428940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5245200" y="444204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0" name=""/>
            <p:cNvGrpSpPr/>
            <p:nvPr/>
          </p:nvGrpSpPr>
          <p:grpSpPr>
            <a:xfrm>
              <a:off x="3848040" y="5382000"/>
              <a:ext cx="393840" cy="355320"/>
              <a:chOff x="3848040" y="5382000"/>
              <a:chExt cx="393840" cy="355320"/>
            </a:xfrm>
          </p:grpSpPr>
          <p:grpSp>
            <p:nvGrpSpPr>
              <p:cNvPr id="1381" name=""/>
              <p:cNvGrpSpPr/>
              <p:nvPr/>
            </p:nvGrpSpPr>
            <p:grpSpPr>
              <a:xfrm>
                <a:off x="3848040" y="5382000"/>
                <a:ext cx="76320" cy="228600"/>
                <a:chOff x="3848040" y="5382000"/>
                <a:chExt cx="76320" cy="228600"/>
              </a:xfrm>
            </p:grpSpPr>
            <p:sp>
              <p:nvSpPr>
                <p:cNvPr id="1382" name=""/>
                <p:cNvSpPr/>
                <p:nvPr/>
              </p:nvSpPr>
              <p:spPr>
                <a:xfrm flipV="1">
                  <a:off x="3848040" y="553428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3" name=""/>
                <p:cNvSpPr/>
                <p:nvPr/>
              </p:nvSpPr>
              <p:spPr>
                <a:xfrm flipV="1">
                  <a:off x="3848040" y="538164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84" name=""/>
              <p:cNvGrpSpPr/>
              <p:nvPr/>
            </p:nvGrpSpPr>
            <p:grpSpPr>
              <a:xfrm>
                <a:off x="3949560" y="5661360"/>
                <a:ext cx="228600" cy="75960"/>
                <a:chOff x="3949560" y="5661360"/>
                <a:chExt cx="228600" cy="75960"/>
              </a:xfrm>
            </p:grpSpPr>
            <p:sp>
              <p:nvSpPr>
                <p:cNvPr id="1385" name=""/>
                <p:cNvSpPr/>
                <p:nvPr/>
              </p:nvSpPr>
              <p:spPr>
                <a:xfrm flipV="1" rot="16200000">
                  <a:off x="4101840" y="566064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6" name=""/>
                <p:cNvSpPr/>
                <p:nvPr/>
              </p:nvSpPr>
              <p:spPr>
                <a:xfrm flipV="1" rot="16200000">
                  <a:off x="3949560" y="566100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87" name=""/>
              <p:cNvGrpSpPr/>
              <p:nvPr/>
            </p:nvGrpSpPr>
            <p:grpSpPr>
              <a:xfrm>
                <a:off x="4165560" y="5382000"/>
                <a:ext cx="76320" cy="228600"/>
                <a:chOff x="4165560" y="5382000"/>
                <a:chExt cx="76320" cy="228600"/>
              </a:xfrm>
            </p:grpSpPr>
            <p:sp>
              <p:nvSpPr>
                <p:cNvPr id="1388" name=""/>
                <p:cNvSpPr/>
                <p:nvPr/>
              </p:nvSpPr>
              <p:spPr>
                <a:xfrm flipV="1">
                  <a:off x="4165560" y="553428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9" name=""/>
                <p:cNvSpPr/>
                <p:nvPr/>
              </p:nvSpPr>
              <p:spPr>
                <a:xfrm flipV="1">
                  <a:off x="4165560" y="538164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0" name=""/>
            <p:cNvGrpSpPr/>
            <p:nvPr/>
          </p:nvGrpSpPr>
          <p:grpSpPr>
            <a:xfrm>
              <a:off x="4940280" y="5368680"/>
              <a:ext cx="393120" cy="355320"/>
              <a:chOff x="4940280" y="5368680"/>
              <a:chExt cx="393120" cy="355320"/>
            </a:xfrm>
          </p:grpSpPr>
          <p:grpSp>
            <p:nvGrpSpPr>
              <p:cNvPr id="1391" name=""/>
              <p:cNvGrpSpPr/>
              <p:nvPr/>
            </p:nvGrpSpPr>
            <p:grpSpPr>
              <a:xfrm>
                <a:off x="4940280" y="5368680"/>
                <a:ext cx="75960" cy="228600"/>
                <a:chOff x="4940280" y="5368680"/>
                <a:chExt cx="75960" cy="228600"/>
              </a:xfrm>
            </p:grpSpPr>
            <p:sp>
              <p:nvSpPr>
                <p:cNvPr id="1392" name=""/>
                <p:cNvSpPr/>
                <p:nvPr/>
              </p:nvSpPr>
              <p:spPr>
                <a:xfrm flipV="1">
                  <a:off x="4940280" y="552096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3" name=""/>
                <p:cNvSpPr/>
                <p:nvPr/>
              </p:nvSpPr>
              <p:spPr>
                <a:xfrm flipV="1">
                  <a:off x="4940280" y="536832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94" name=""/>
              <p:cNvGrpSpPr/>
              <p:nvPr/>
            </p:nvGrpSpPr>
            <p:grpSpPr>
              <a:xfrm>
                <a:off x="5042160" y="5648040"/>
                <a:ext cx="227880" cy="75960"/>
                <a:chOff x="5042160" y="5648040"/>
                <a:chExt cx="227880" cy="75960"/>
              </a:xfrm>
            </p:grpSpPr>
            <p:sp>
              <p:nvSpPr>
                <p:cNvPr id="1395" name=""/>
                <p:cNvSpPr/>
                <p:nvPr/>
              </p:nvSpPr>
              <p:spPr>
                <a:xfrm flipV="1" rot="16200000">
                  <a:off x="5194080" y="564768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6" name=""/>
                <p:cNvSpPr/>
                <p:nvPr/>
              </p:nvSpPr>
              <p:spPr>
                <a:xfrm flipV="1" rot="16200000">
                  <a:off x="5041800" y="5647680"/>
                  <a:ext cx="7596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97" name=""/>
              <p:cNvGrpSpPr/>
              <p:nvPr/>
            </p:nvGrpSpPr>
            <p:grpSpPr>
              <a:xfrm>
                <a:off x="5257440" y="5368680"/>
                <a:ext cx="75960" cy="228600"/>
                <a:chOff x="5257440" y="5368680"/>
                <a:chExt cx="75960" cy="228600"/>
              </a:xfrm>
            </p:grpSpPr>
            <p:sp>
              <p:nvSpPr>
                <p:cNvPr id="1398" name=""/>
                <p:cNvSpPr/>
                <p:nvPr/>
              </p:nvSpPr>
              <p:spPr>
                <a:xfrm flipV="1">
                  <a:off x="5257440" y="552096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9" name=""/>
                <p:cNvSpPr/>
                <p:nvPr/>
              </p:nvSpPr>
              <p:spPr>
                <a:xfrm flipV="1">
                  <a:off x="5257440" y="536832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0" name=""/>
            <p:cNvGrpSpPr/>
            <p:nvPr/>
          </p:nvGrpSpPr>
          <p:grpSpPr>
            <a:xfrm>
              <a:off x="4381560" y="5585040"/>
              <a:ext cx="393120" cy="355320"/>
              <a:chOff x="4381560" y="5585040"/>
              <a:chExt cx="393120" cy="355320"/>
            </a:xfrm>
          </p:grpSpPr>
          <p:grpSp>
            <p:nvGrpSpPr>
              <p:cNvPr id="1401" name=""/>
              <p:cNvGrpSpPr/>
              <p:nvPr/>
            </p:nvGrpSpPr>
            <p:grpSpPr>
              <a:xfrm>
                <a:off x="4381560" y="5585040"/>
                <a:ext cx="75960" cy="228600"/>
                <a:chOff x="4381560" y="5585040"/>
                <a:chExt cx="75960" cy="228600"/>
              </a:xfrm>
            </p:grpSpPr>
            <p:sp>
              <p:nvSpPr>
                <p:cNvPr id="1402" name=""/>
                <p:cNvSpPr/>
                <p:nvPr/>
              </p:nvSpPr>
              <p:spPr>
                <a:xfrm flipV="1">
                  <a:off x="4381560" y="573732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3" name=""/>
                <p:cNvSpPr/>
                <p:nvPr/>
              </p:nvSpPr>
              <p:spPr>
                <a:xfrm flipV="1">
                  <a:off x="4381560" y="558468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4" name=""/>
              <p:cNvGrpSpPr/>
              <p:nvPr/>
            </p:nvGrpSpPr>
            <p:grpSpPr>
              <a:xfrm>
                <a:off x="4483440" y="5864400"/>
                <a:ext cx="227880" cy="75960"/>
                <a:chOff x="4483440" y="5864400"/>
                <a:chExt cx="227880" cy="75960"/>
              </a:xfrm>
            </p:grpSpPr>
            <p:sp>
              <p:nvSpPr>
                <p:cNvPr id="1405" name=""/>
                <p:cNvSpPr/>
                <p:nvPr/>
              </p:nvSpPr>
              <p:spPr>
                <a:xfrm flipV="1" rot="16200000">
                  <a:off x="4635360" y="586404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6" name=""/>
                <p:cNvSpPr/>
                <p:nvPr/>
              </p:nvSpPr>
              <p:spPr>
                <a:xfrm flipV="1" rot="16200000">
                  <a:off x="4483080" y="5864040"/>
                  <a:ext cx="7596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7" name=""/>
              <p:cNvGrpSpPr/>
              <p:nvPr/>
            </p:nvGrpSpPr>
            <p:grpSpPr>
              <a:xfrm>
                <a:off x="4698720" y="5585040"/>
                <a:ext cx="75960" cy="228600"/>
                <a:chOff x="4698720" y="5585040"/>
                <a:chExt cx="75960" cy="228600"/>
              </a:xfrm>
            </p:grpSpPr>
            <p:sp>
              <p:nvSpPr>
                <p:cNvPr id="1408" name=""/>
                <p:cNvSpPr/>
                <p:nvPr/>
              </p:nvSpPr>
              <p:spPr>
                <a:xfrm flipV="1">
                  <a:off x="4698720" y="573732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9" name=""/>
                <p:cNvSpPr/>
                <p:nvPr/>
              </p:nvSpPr>
              <p:spPr>
                <a:xfrm flipV="1">
                  <a:off x="4698720" y="558468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410" name=""/>
          <p:cNvGrpSpPr/>
          <p:nvPr/>
        </p:nvGrpSpPr>
        <p:grpSpPr>
          <a:xfrm>
            <a:off x="5410080" y="4429080"/>
            <a:ext cx="3519720" cy="1049760"/>
            <a:chOff x="5410080" y="4429080"/>
            <a:chExt cx="3519720" cy="1049760"/>
          </a:xfrm>
        </p:grpSpPr>
        <p:sp>
          <p:nvSpPr>
            <p:cNvPr id="1411" name=""/>
            <p:cNvSpPr/>
            <p:nvPr/>
          </p:nvSpPr>
          <p:spPr>
            <a:xfrm>
              <a:off x="5410080" y="442908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6 single bonds (6x2) = 1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12" name=""/>
            <p:cNvGrpSpPr/>
            <p:nvPr/>
          </p:nvGrpSpPr>
          <p:grpSpPr>
            <a:xfrm>
              <a:off x="5823720" y="4763880"/>
              <a:ext cx="3078000" cy="398880"/>
              <a:chOff x="5823720" y="4763880"/>
              <a:chExt cx="3078000" cy="398880"/>
            </a:xfrm>
          </p:grpSpPr>
          <p:sp>
            <p:nvSpPr>
              <p:cNvPr id="1413" name=""/>
              <p:cNvSpPr/>
              <p:nvPr/>
            </p:nvSpPr>
            <p:spPr>
              <a:xfrm>
                <a:off x="5823720" y="4763880"/>
                <a:ext cx="3078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18 lone pairs (18x2) = 36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5943600" y="5103720"/>
                <a:ext cx="2895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15" name=""/>
            <p:cNvSpPr/>
            <p:nvPr/>
          </p:nvSpPr>
          <p:spPr>
            <a:xfrm>
              <a:off x="7583040" y="5079960"/>
              <a:ext cx="134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Total = 4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6" name=""/>
          <p:cNvSpPr/>
          <p:nvPr/>
        </p:nvSpPr>
        <p:spPr>
          <a:xfrm>
            <a:off x="4038480" y="4429080"/>
            <a:ext cx="1067040" cy="10666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794A66-3DD1-467D-B930-B94E7DF5A1C0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9" dur="indefinite" restart="never" nodeType="tmRoot">
          <p:childTnLst>
            <p:seq>
              <p:cTn id="1500" dur="indefinite" nodeType="mainSeq">
                <p:childTnLst>
                  <p:par>
                    <p:cTn id="1501" fill="hold">
                      <p:stCondLst>
                        <p:cond delay="indefinite"/>
                      </p:stCondLst>
                      <p:childTnLst>
                        <p:par>
                          <p:cTn id="1502" fill="hold">
                            <p:stCondLst>
                              <p:cond delay="0"/>
                            </p:stCondLst>
                            <p:childTnLst>
                              <p:par>
                                <p:cTn id="1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5" fill="hold">
                      <p:stCondLst>
                        <p:cond delay="indefinite"/>
                      </p:stCondLst>
                      <p:childTnLst>
                        <p:par>
                          <p:cTn id="1506" fill="hold">
                            <p:stCondLst>
                              <p:cond delay="0"/>
                            </p:stCondLst>
                            <p:childTnLst>
                              <p:par>
                                <p:cTn id="1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9" fill="hold">
                      <p:stCondLst>
                        <p:cond delay="indefinite"/>
                      </p:stCondLst>
                      <p:childTnLst>
                        <p:par>
                          <p:cTn id="1510" fill="hold">
                            <p:stCondLst>
                              <p:cond delay="0"/>
                            </p:stCondLst>
                            <p:childTnLst>
                              <p:par>
                                <p:cTn id="1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3" dur="500" fill="hold"/>
                                        <p:tgtEl>
                                          <p:spTgt spid="1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4" dur="500" fill="hold"/>
                                        <p:tgtEl>
                                          <p:spTgt spid="1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5" fill="hold">
                      <p:stCondLst>
                        <p:cond delay="indefinite"/>
                      </p:stCondLst>
                      <p:childTnLst>
                        <p:par>
                          <p:cTn id="1516" fill="hold">
                            <p:stCondLst>
                              <p:cond delay="0"/>
                            </p:stCondLst>
                            <p:childTnLst>
                              <p:par>
                                <p:cTn id="15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9" dur="500" fill="hold"/>
                                        <p:tgtEl>
                                          <p:spTgt spid="1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0" dur="500" fill="hold"/>
                                        <p:tgtEl>
                                          <p:spTgt spid="1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1" fill="hold">
                      <p:stCondLst>
                        <p:cond delay="indefinite"/>
                      </p:stCondLst>
                      <p:childTnLst>
                        <p:par>
                          <p:cTn id="1522" fill="hold">
                            <p:stCondLst>
                              <p:cond delay="0"/>
                            </p:stCondLst>
                            <p:childTnLst>
                              <p:par>
                                <p:cTn id="15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5" dur="500" fill="hold"/>
                                        <p:tgtEl>
                                          <p:spTgt spid="1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6" dur="500" fill="hold"/>
                                        <p:tgtEl>
                                          <p:spTgt spid="1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7" fill="hold">
                      <p:stCondLst>
                        <p:cond delay="indefinite"/>
                      </p:stCondLst>
                      <p:childTnLst>
                        <p:par>
                          <p:cTn id="1528" fill="hold">
                            <p:stCondLst>
                              <p:cond delay="0"/>
                            </p:stCondLst>
                            <p:childTnLst>
                              <p:par>
                                <p:cTn id="15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1" dur="500" fill="hold"/>
                                        <p:tgtEl>
                                          <p:spTgt spid="1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2" dur="500" fill="hold"/>
                                        <p:tgtEl>
                                          <p:spTgt spid="1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3" fill="hold">
                      <p:stCondLst>
                        <p:cond delay="indefinite"/>
                      </p:stCondLst>
                      <p:childTnLst>
                        <p:par>
                          <p:cTn id="1534" fill="hold">
                            <p:stCondLst>
                              <p:cond delay="0"/>
                            </p:stCondLst>
                            <p:childTnLst>
                              <p:par>
                                <p:cTn id="1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7" fill="hold">
                      <p:stCondLst>
                        <p:cond delay="indefinite"/>
                      </p:stCondLst>
                      <p:childTnLst>
                        <p:par>
                          <p:cTn id="1538" fill="hold">
                            <p:stCondLst>
                              <p:cond delay="0"/>
                            </p:stCondLst>
                            <p:childTnLst>
                              <p:par>
                                <p:cTn id="1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"/>
          <p:cNvSpPr/>
          <p:nvPr/>
        </p:nvSpPr>
        <p:spPr>
          <a:xfrm>
            <a:off x="324000" y="812880"/>
            <a:ext cx="8496000" cy="528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Exceptions to the Octet Rul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9900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9900cc"/>
                </a:solidFill>
                <a:latin typeface="Comic Sans MS"/>
              </a:rPr>
              <a:t>Incomplete octet:</a:t>
            </a:r>
            <a:r>
              <a:rPr b="0" lang="en-GB" sz="3200" spc="-1" strike="noStrike">
                <a:solidFill>
                  <a:srgbClr val="9900cc"/>
                </a:solidFill>
                <a:latin typeface="Comic Sans MS"/>
              </a:rPr>
              <a:t> Be, B, &amp; 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2. </a:t>
            </a:r>
            <a:r>
              <a:rPr b="1" lang="en-GB" sz="3200" spc="-1" strike="noStrike">
                <a:solidFill>
                  <a:srgbClr val="cc3300"/>
                </a:solidFill>
                <a:latin typeface="Comic Sans MS"/>
              </a:rPr>
              <a:t>Odd-electrons: </a:t>
            </a:r>
            <a:r>
              <a:rPr b="0" lang="en-GB" sz="3200" spc="-1" strike="noStrike">
                <a:solidFill>
                  <a:srgbClr val="cc3300"/>
                </a:solidFill>
                <a:latin typeface="Comic Sans MS"/>
              </a:rPr>
              <a:t>NO, NO</a:t>
            </a:r>
            <a:r>
              <a:rPr b="0" lang="en-GB" sz="3200" spc="-1" strike="noStrike" baseline="-25000">
                <a:solidFill>
                  <a:srgbClr val="cc33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cc3300"/>
                </a:solidFill>
                <a:latin typeface="Comic Sans MS"/>
              </a:rPr>
              <a:t> ( or when the valance electrons is odd numb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3. </a:t>
            </a:r>
            <a:r>
              <a:rPr b="1" lang="en-GB" sz="3200" spc="-1" strike="noStrike">
                <a:solidFill>
                  <a:srgbClr val="2009a7"/>
                </a:solidFill>
                <a:latin typeface="Comic Sans MS"/>
              </a:rPr>
              <a:t>Expanded octet:</a:t>
            </a:r>
            <a:r>
              <a:rPr b="0" lang="en-GB" sz="3200" spc="-1" strike="noStrike">
                <a:solidFill>
                  <a:srgbClr val="2009a7"/>
                </a:solidFill>
                <a:latin typeface="Comic Sans MS"/>
              </a:rPr>
              <a:t> elements of 3</a:t>
            </a:r>
            <a:r>
              <a:rPr b="0" lang="en-GB" sz="3200" spc="-1" strike="noStrike" baseline="30000">
                <a:solidFill>
                  <a:srgbClr val="2009a7"/>
                </a:solidFill>
                <a:latin typeface="Comic Sans MS"/>
              </a:rPr>
              <a:t>rd</a:t>
            </a:r>
            <a:r>
              <a:rPr b="0" lang="en-GB" sz="3200" spc="-1" strike="noStrike">
                <a:solidFill>
                  <a:srgbClr val="2009a7"/>
                </a:solidFill>
                <a:latin typeface="Comic Sans MS"/>
              </a:rPr>
              <a:t>, 4</a:t>
            </a:r>
            <a:r>
              <a:rPr b="0" lang="en-GB" sz="3200" spc="-1" strike="noStrike" baseline="30000">
                <a:solidFill>
                  <a:srgbClr val="2009a7"/>
                </a:solidFill>
                <a:latin typeface="Comic Sans MS"/>
              </a:rPr>
              <a:t>th</a:t>
            </a:r>
            <a:r>
              <a:rPr b="0" lang="en-GB" sz="3200" spc="-1" strike="noStrike">
                <a:solidFill>
                  <a:srgbClr val="2009a7"/>
                </a:solidFill>
                <a:latin typeface="Comic Sans MS"/>
              </a:rPr>
              <a:t>, &amp; so on, may form expanded oct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914384-8894-4559-AD55-0A629EE66C48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222120" y="480960"/>
            <a:ext cx="8742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Valence electron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re the outer shell electrons of an  atom.  The valence electrons are the electrons that participate in chemical bond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1638360" y="2522520"/>
            <a:ext cx="5514480" cy="461160"/>
            <a:chOff x="1638360" y="2522520"/>
            <a:chExt cx="5514480" cy="461160"/>
          </a:xfrm>
        </p:grpSpPr>
        <p:sp>
          <p:nvSpPr>
            <p:cNvPr id="114" name=""/>
            <p:cNvSpPr/>
            <p:nvPr/>
          </p:nvSpPr>
          <p:spPr>
            <a:xfrm>
              <a:off x="1638360" y="2523960"/>
              <a:ext cx="54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1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798240" y="25225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081680" y="2522520"/>
              <a:ext cx="616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s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1662840" y="3057480"/>
            <a:ext cx="5514120" cy="475560"/>
            <a:chOff x="1662840" y="3057480"/>
            <a:chExt cx="5514120" cy="475560"/>
          </a:xfrm>
        </p:grpSpPr>
        <p:sp>
          <p:nvSpPr>
            <p:cNvPr id="118" name=""/>
            <p:cNvSpPr/>
            <p:nvPr/>
          </p:nvSpPr>
          <p:spPr>
            <a:xfrm>
              <a:off x="1662840" y="3057480"/>
              <a:ext cx="54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2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822360" y="30733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096800" y="3073320"/>
              <a:ext cx="616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s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662840" y="3605040"/>
            <a:ext cx="5514120" cy="480600"/>
            <a:chOff x="1662840" y="3605040"/>
            <a:chExt cx="5514120" cy="480600"/>
          </a:xfrm>
        </p:grpSpPr>
        <p:sp>
          <p:nvSpPr>
            <p:cNvPr id="122" name=""/>
            <p:cNvSpPr/>
            <p:nvPr/>
          </p:nvSpPr>
          <p:spPr>
            <a:xfrm>
              <a:off x="1662840" y="3605040"/>
              <a:ext cx="54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3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822360" y="36259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63160" y="3625920"/>
              <a:ext cx="109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s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p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1662840" y="4154400"/>
            <a:ext cx="5514120" cy="483480"/>
            <a:chOff x="1662840" y="4154400"/>
            <a:chExt cx="5514120" cy="483480"/>
          </a:xfrm>
        </p:grpSpPr>
        <p:sp>
          <p:nvSpPr>
            <p:cNvPr id="126" name=""/>
            <p:cNvSpPr/>
            <p:nvPr/>
          </p:nvSpPr>
          <p:spPr>
            <a:xfrm>
              <a:off x="1662840" y="4154400"/>
              <a:ext cx="54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4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822360" y="41781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879000" y="4178160"/>
              <a:ext cx="109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s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p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1662840" y="4702320"/>
            <a:ext cx="5514120" cy="486720"/>
            <a:chOff x="1662840" y="4702320"/>
            <a:chExt cx="5514120" cy="486720"/>
          </a:xfrm>
        </p:grpSpPr>
        <p:sp>
          <p:nvSpPr>
            <p:cNvPr id="130" name=""/>
            <p:cNvSpPr/>
            <p:nvPr/>
          </p:nvSpPr>
          <p:spPr>
            <a:xfrm>
              <a:off x="1662840" y="4702320"/>
              <a:ext cx="54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5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822360" y="47293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879000" y="4729320"/>
              <a:ext cx="109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s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p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1662840" y="5251320"/>
            <a:ext cx="5514120" cy="489960"/>
            <a:chOff x="1662840" y="5251320"/>
            <a:chExt cx="5514120" cy="489960"/>
          </a:xfrm>
        </p:grpSpPr>
        <p:sp>
          <p:nvSpPr>
            <p:cNvPr id="134" name=""/>
            <p:cNvSpPr/>
            <p:nvPr/>
          </p:nvSpPr>
          <p:spPr>
            <a:xfrm>
              <a:off x="1662840" y="5251320"/>
              <a:ext cx="54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6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822360" y="52815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79000" y="5281560"/>
              <a:ext cx="109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s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p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1662840" y="5800680"/>
            <a:ext cx="5514120" cy="493200"/>
            <a:chOff x="1662840" y="5800680"/>
            <a:chExt cx="5514120" cy="493200"/>
          </a:xfrm>
        </p:grpSpPr>
        <p:sp>
          <p:nvSpPr>
            <p:cNvPr id="138" name=""/>
            <p:cNvSpPr/>
            <p:nvPr/>
          </p:nvSpPr>
          <p:spPr>
            <a:xfrm>
              <a:off x="1662840" y="5800680"/>
              <a:ext cx="54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7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822360" y="58341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879000" y="5834160"/>
              <a:ext cx="109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s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p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368360" y="1989000"/>
            <a:ext cx="6952680" cy="459720"/>
            <a:chOff x="1368360" y="1989000"/>
            <a:chExt cx="6952680" cy="459720"/>
          </a:xfrm>
        </p:grpSpPr>
        <p:sp>
          <p:nvSpPr>
            <p:cNvPr id="142" name=""/>
            <p:cNvSpPr/>
            <p:nvPr/>
          </p:nvSpPr>
          <p:spPr>
            <a:xfrm>
              <a:off x="1368360" y="1989000"/>
              <a:ext cx="109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Grou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102720" y="1989000"/>
              <a:ext cx="22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# of valence e</a:t>
              </a:r>
              <a:r>
                <a:rPr b="0" lang="en-US" sz="2400" spc="-1" strike="noStrike" u="sng" baseline="30000">
                  <a:solidFill>
                    <a:srgbClr val="000000"/>
                  </a:solidFill>
                  <a:uFillTx/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318480" y="1989000"/>
              <a:ext cx="242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e</a:t>
              </a:r>
              <a:r>
                <a:rPr b="0" lang="en-US" sz="2400" spc="-1" strike="noStrike" u="sng" baseline="30000">
                  <a:solidFill>
                    <a:srgbClr val="000000"/>
                  </a:solidFill>
                  <a:uFillTx/>
                  <a:latin typeface="Comic Sans MS"/>
                </a:rPr>
                <a:t>-</a:t>
              </a: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 configur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EC7211-B679-4944-8331-0A6CF35A770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"/>
          <p:cNvSpPr/>
          <p:nvPr/>
        </p:nvSpPr>
        <p:spPr>
          <a:xfrm>
            <a:off x="395280" y="333360"/>
            <a:ext cx="8282160" cy="17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cc3300"/>
                </a:solidFill>
                <a:uFillTx/>
                <a:latin typeface="Comic Sans MS"/>
              </a:rPr>
              <a:t>Example 9.10 p39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Draw Lewis structure for phosphorus pentaflouridde (PF</a:t>
            </a:r>
            <a:r>
              <a:rPr b="0" lang="en-GB" sz="2400" spc="-1" strike="noStrike" baseline="-25000">
                <a:solidFill>
                  <a:srgbClr val="cc3300"/>
                </a:solidFill>
                <a:latin typeface="Comic Sans MS"/>
              </a:rPr>
              <a:t>5</a:t>
            </a: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), in which all five F atoms are bounded to the central P at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"/>
          <p:cNvSpPr/>
          <p:nvPr/>
        </p:nvSpPr>
        <p:spPr>
          <a:xfrm>
            <a:off x="324000" y="2133720"/>
            <a:ext cx="820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"/>
          <p:cNvSpPr/>
          <p:nvPr/>
        </p:nvSpPr>
        <p:spPr>
          <a:xfrm>
            <a:off x="324000" y="2276640"/>
            <a:ext cx="828036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te: P is in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period can have expanded oct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Valance electrons = 5 + (7 x 5 ) = 40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Total electrons in Lewis structure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(15 x 2) = 30 lone pai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(5 x 2) = 10 e single b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Total = 40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US: P has (5 x 2) = 10 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panded oct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"/>
          <p:cNvSpPr/>
          <p:nvPr/>
        </p:nvSpPr>
        <p:spPr>
          <a:xfrm>
            <a:off x="7237440" y="450540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"/>
          <p:cNvSpPr/>
          <p:nvPr/>
        </p:nvSpPr>
        <p:spPr>
          <a:xfrm>
            <a:off x="8244000" y="443376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"/>
          <p:cNvSpPr/>
          <p:nvPr/>
        </p:nvSpPr>
        <p:spPr>
          <a:xfrm>
            <a:off x="7237440" y="349740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"/>
          <p:cNvSpPr/>
          <p:nvPr/>
        </p:nvSpPr>
        <p:spPr>
          <a:xfrm>
            <a:off x="6156360" y="428616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"/>
          <p:cNvSpPr/>
          <p:nvPr/>
        </p:nvSpPr>
        <p:spPr>
          <a:xfrm>
            <a:off x="7237440" y="565776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"/>
          <p:cNvSpPr/>
          <p:nvPr/>
        </p:nvSpPr>
        <p:spPr>
          <a:xfrm>
            <a:off x="6156360" y="493704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"/>
          <p:cNvSpPr/>
          <p:nvPr/>
        </p:nvSpPr>
        <p:spPr>
          <a:xfrm>
            <a:off x="7453440" y="4073400"/>
            <a:ext cx="0" cy="43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"/>
          <p:cNvSpPr/>
          <p:nvPr/>
        </p:nvSpPr>
        <p:spPr>
          <a:xfrm>
            <a:off x="7453440" y="5081760"/>
            <a:ext cx="0" cy="43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"/>
          <p:cNvSpPr/>
          <p:nvPr/>
        </p:nvSpPr>
        <p:spPr>
          <a:xfrm>
            <a:off x="7669080" y="4721400"/>
            <a:ext cx="503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"/>
          <p:cNvSpPr/>
          <p:nvPr/>
        </p:nvSpPr>
        <p:spPr>
          <a:xfrm>
            <a:off x="6661080" y="4576680"/>
            <a:ext cx="576360" cy="73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"/>
          <p:cNvSpPr/>
          <p:nvPr/>
        </p:nvSpPr>
        <p:spPr>
          <a:xfrm flipH="1">
            <a:off x="6660720" y="4865760"/>
            <a:ext cx="57636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"/>
          <p:cNvSpPr/>
          <p:nvPr/>
        </p:nvSpPr>
        <p:spPr>
          <a:xfrm>
            <a:off x="6229440" y="422100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"/>
          <p:cNvSpPr/>
          <p:nvPr/>
        </p:nvSpPr>
        <p:spPr>
          <a:xfrm>
            <a:off x="6373800" y="422100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"/>
          <p:cNvSpPr/>
          <p:nvPr/>
        </p:nvSpPr>
        <p:spPr>
          <a:xfrm>
            <a:off x="6156360" y="443700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"/>
          <p:cNvSpPr/>
          <p:nvPr/>
        </p:nvSpPr>
        <p:spPr>
          <a:xfrm>
            <a:off x="6156360" y="458136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"/>
          <p:cNvSpPr/>
          <p:nvPr/>
        </p:nvSpPr>
        <p:spPr>
          <a:xfrm>
            <a:off x="6373800" y="479736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"/>
          <p:cNvSpPr/>
          <p:nvPr/>
        </p:nvSpPr>
        <p:spPr>
          <a:xfrm>
            <a:off x="6229440" y="479736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"/>
          <p:cNvSpPr/>
          <p:nvPr/>
        </p:nvSpPr>
        <p:spPr>
          <a:xfrm>
            <a:off x="6227640" y="494172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"/>
          <p:cNvSpPr/>
          <p:nvPr/>
        </p:nvSpPr>
        <p:spPr>
          <a:xfrm>
            <a:off x="6372360" y="494172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"/>
          <p:cNvSpPr/>
          <p:nvPr/>
        </p:nvSpPr>
        <p:spPr>
          <a:xfrm>
            <a:off x="6154560" y="515772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>
            <a:off x="6154560" y="530208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"/>
          <p:cNvSpPr/>
          <p:nvPr/>
        </p:nvSpPr>
        <p:spPr>
          <a:xfrm>
            <a:off x="6372360" y="551808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"/>
          <p:cNvSpPr/>
          <p:nvPr/>
        </p:nvSpPr>
        <p:spPr>
          <a:xfrm>
            <a:off x="6227640" y="551808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"/>
          <p:cNvSpPr/>
          <p:nvPr/>
        </p:nvSpPr>
        <p:spPr>
          <a:xfrm>
            <a:off x="7597800" y="602136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"/>
          <p:cNvSpPr/>
          <p:nvPr/>
        </p:nvSpPr>
        <p:spPr>
          <a:xfrm>
            <a:off x="7597800" y="587700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"/>
          <p:cNvSpPr/>
          <p:nvPr/>
        </p:nvSpPr>
        <p:spPr>
          <a:xfrm>
            <a:off x="7165800" y="587700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"/>
          <p:cNvSpPr/>
          <p:nvPr/>
        </p:nvSpPr>
        <p:spPr>
          <a:xfrm>
            <a:off x="7165800" y="602136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"/>
          <p:cNvSpPr/>
          <p:nvPr/>
        </p:nvSpPr>
        <p:spPr>
          <a:xfrm>
            <a:off x="7383600" y="623736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"/>
          <p:cNvSpPr/>
          <p:nvPr/>
        </p:nvSpPr>
        <p:spPr>
          <a:xfrm>
            <a:off x="7238880" y="623736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"/>
          <p:cNvSpPr/>
          <p:nvPr/>
        </p:nvSpPr>
        <p:spPr>
          <a:xfrm>
            <a:off x="7308720" y="342900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"/>
          <p:cNvSpPr/>
          <p:nvPr/>
        </p:nvSpPr>
        <p:spPr>
          <a:xfrm>
            <a:off x="7453440" y="342900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"/>
          <p:cNvSpPr/>
          <p:nvPr/>
        </p:nvSpPr>
        <p:spPr>
          <a:xfrm>
            <a:off x="7236000" y="364500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"/>
          <p:cNvSpPr/>
          <p:nvPr/>
        </p:nvSpPr>
        <p:spPr>
          <a:xfrm>
            <a:off x="7236000" y="378936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"/>
          <p:cNvSpPr/>
          <p:nvPr/>
        </p:nvSpPr>
        <p:spPr>
          <a:xfrm>
            <a:off x="7597800" y="371628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"/>
          <p:cNvSpPr/>
          <p:nvPr/>
        </p:nvSpPr>
        <p:spPr>
          <a:xfrm>
            <a:off x="7597800" y="386064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"/>
          <p:cNvSpPr/>
          <p:nvPr/>
        </p:nvSpPr>
        <p:spPr>
          <a:xfrm>
            <a:off x="8317080" y="436392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"/>
          <p:cNvSpPr/>
          <p:nvPr/>
        </p:nvSpPr>
        <p:spPr>
          <a:xfrm>
            <a:off x="8461440" y="436392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"/>
          <p:cNvSpPr/>
          <p:nvPr/>
        </p:nvSpPr>
        <p:spPr>
          <a:xfrm>
            <a:off x="8677440" y="458136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"/>
          <p:cNvSpPr/>
          <p:nvPr/>
        </p:nvSpPr>
        <p:spPr>
          <a:xfrm>
            <a:off x="8675640" y="472428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"/>
          <p:cNvSpPr/>
          <p:nvPr/>
        </p:nvSpPr>
        <p:spPr>
          <a:xfrm>
            <a:off x="8461440" y="494028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"/>
          <p:cNvSpPr/>
          <p:nvPr/>
        </p:nvSpPr>
        <p:spPr>
          <a:xfrm>
            <a:off x="8317080" y="494028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"/>
          <p:cNvSpPr/>
          <p:nvPr/>
        </p:nvSpPr>
        <p:spPr>
          <a:xfrm>
            <a:off x="7812000" y="2997360"/>
            <a:ext cx="1187640" cy="119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mal Charg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 &amp; F is Zero!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BE3924-77DF-46BF-A947-BD9CAB171905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1" dur="indefinite" restart="never" nodeType="tmRoot">
          <p:childTnLst>
            <p:seq>
              <p:cTn id="1542" dur="indefinite" nodeType="mainSeq">
                <p:childTnLst>
                  <p:par>
                    <p:cTn id="1543" fill="hold">
                      <p:stCondLst>
                        <p:cond delay="0"/>
                      </p:stCondLst>
                      <p:childTnLst>
                        <p:par>
                          <p:cTn id="1544" fill="hold">
                            <p:stCondLst>
                              <p:cond delay="0"/>
                            </p:stCondLst>
                            <p:childTnLst>
                              <p:par>
                                <p:cTn id="15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"/>
          <p:cNvSpPr/>
          <p:nvPr/>
        </p:nvSpPr>
        <p:spPr>
          <a:xfrm>
            <a:off x="395280" y="333360"/>
            <a:ext cx="828216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3300"/>
                </a:solidFill>
                <a:uFillTx/>
                <a:latin typeface="Comic Sans MS"/>
              </a:rPr>
              <a:t>Example 9.11 p39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Draw Lewis structure for sulphate ion (SO</a:t>
            </a:r>
            <a:r>
              <a:rPr b="0" lang="en-US" sz="2400" spc="-1" strike="noStrike" baseline="-25000">
                <a:solidFill>
                  <a:srgbClr val="cc3300"/>
                </a:solidFill>
                <a:latin typeface="Comic Sans MS"/>
              </a:rPr>
              <a:t>4</a:t>
            </a:r>
            <a:r>
              <a:rPr b="0" lang="en-US" sz="2400" spc="-1" strike="noStrike" baseline="30000">
                <a:solidFill>
                  <a:srgbClr val="cc3300"/>
                </a:solidFill>
                <a:latin typeface="Comic Sans MS"/>
              </a:rPr>
              <a:t>2-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), in which all four O atoms are bounded to the central S at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"/>
          <p:cNvSpPr/>
          <p:nvPr/>
        </p:nvSpPr>
        <p:spPr>
          <a:xfrm>
            <a:off x="250920" y="1773360"/>
            <a:ext cx="842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"/>
          <p:cNvSpPr/>
          <p:nvPr/>
        </p:nvSpPr>
        <p:spPr>
          <a:xfrm>
            <a:off x="324000" y="177336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"/>
          <p:cNvSpPr/>
          <p:nvPr/>
        </p:nvSpPr>
        <p:spPr>
          <a:xfrm>
            <a:off x="1730520" y="3568680"/>
            <a:ext cx="132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"/>
          <p:cNvSpPr/>
          <p:nvPr/>
        </p:nvSpPr>
        <p:spPr>
          <a:xfrm>
            <a:off x="2736720" y="364176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"/>
          <p:cNvSpPr/>
          <p:nvPr/>
        </p:nvSpPr>
        <p:spPr>
          <a:xfrm>
            <a:off x="1730520" y="2560680"/>
            <a:ext cx="50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"/>
          <p:cNvSpPr/>
          <p:nvPr/>
        </p:nvSpPr>
        <p:spPr>
          <a:xfrm>
            <a:off x="649440" y="3567240"/>
            <a:ext cx="50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"/>
          <p:cNvSpPr/>
          <p:nvPr/>
        </p:nvSpPr>
        <p:spPr>
          <a:xfrm>
            <a:off x="1730520" y="4721400"/>
            <a:ext cx="50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"/>
          <p:cNvSpPr/>
          <p:nvPr/>
        </p:nvSpPr>
        <p:spPr>
          <a:xfrm>
            <a:off x="1946160" y="3137040"/>
            <a:ext cx="0" cy="43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"/>
          <p:cNvSpPr/>
          <p:nvPr/>
        </p:nvSpPr>
        <p:spPr>
          <a:xfrm>
            <a:off x="1946160" y="4145040"/>
            <a:ext cx="0" cy="43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"/>
          <p:cNvSpPr/>
          <p:nvPr/>
        </p:nvSpPr>
        <p:spPr>
          <a:xfrm>
            <a:off x="2162160" y="3933720"/>
            <a:ext cx="503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"/>
          <p:cNvSpPr/>
          <p:nvPr/>
        </p:nvSpPr>
        <p:spPr>
          <a:xfrm flipV="1">
            <a:off x="1116000" y="3860280"/>
            <a:ext cx="614520" cy="3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"/>
          <p:cNvSpPr/>
          <p:nvPr/>
        </p:nvSpPr>
        <p:spPr>
          <a:xfrm>
            <a:off x="722160" y="350208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"/>
          <p:cNvSpPr/>
          <p:nvPr/>
        </p:nvSpPr>
        <p:spPr>
          <a:xfrm>
            <a:off x="866880" y="350208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"/>
          <p:cNvSpPr/>
          <p:nvPr/>
        </p:nvSpPr>
        <p:spPr>
          <a:xfrm>
            <a:off x="649440" y="371808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"/>
          <p:cNvSpPr/>
          <p:nvPr/>
        </p:nvSpPr>
        <p:spPr>
          <a:xfrm>
            <a:off x="649440" y="386244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"/>
          <p:cNvSpPr/>
          <p:nvPr/>
        </p:nvSpPr>
        <p:spPr>
          <a:xfrm>
            <a:off x="866880" y="407844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"/>
          <p:cNvSpPr/>
          <p:nvPr/>
        </p:nvSpPr>
        <p:spPr>
          <a:xfrm>
            <a:off x="722160" y="407844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"/>
          <p:cNvSpPr/>
          <p:nvPr/>
        </p:nvSpPr>
        <p:spPr>
          <a:xfrm>
            <a:off x="2195640" y="508464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"/>
          <p:cNvSpPr/>
          <p:nvPr/>
        </p:nvSpPr>
        <p:spPr>
          <a:xfrm>
            <a:off x="2195640" y="494028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"/>
          <p:cNvSpPr/>
          <p:nvPr/>
        </p:nvSpPr>
        <p:spPr>
          <a:xfrm>
            <a:off x="1690560" y="486900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"/>
          <p:cNvSpPr/>
          <p:nvPr/>
        </p:nvSpPr>
        <p:spPr>
          <a:xfrm>
            <a:off x="1690560" y="501336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/>
          <p:nvPr/>
        </p:nvSpPr>
        <p:spPr>
          <a:xfrm>
            <a:off x="1978200" y="522936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"/>
          <p:cNvSpPr/>
          <p:nvPr/>
        </p:nvSpPr>
        <p:spPr>
          <a:xfrm>
            <a:off x="1835280" y="522936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"/>
          <p:cNvSpPr/>
          <p:nvPr/>
        </p:nvSpPr>
        <p:spPr>
          <a:xfrm>
            <a:off x="1801800" y="249228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"/>
          <p:cNvSpPr/>
          <p:nvPr/>
        </p:nvSpPr>
        <p:spPr>
          <a:xfrm>
            <a:off x="1946160" y="249228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"/>
          <p:cNvSpPr/>
          <p:nvPr/>
        </p:nvSpPr>
        <p:spPr>
          <a:xfrm>
            <a:off x="1728720" y="270828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/>
          <p:nvPr/>
        </p:nvSpPr>
        <p:spPr>
          <a:xfrm>
            <a:off x="1728720" y="285264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"/>
          <p:cNvSpPr/>
          <p:nvPr/>
        </p:nvSpPr>
        <p:spPr>
          <a:xfrm>
            <a:off x="2195640" y="270828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"/>
          <p:cNvSpPr/>
          <p:nvPr/>
        </p:nvSpPr>
        <p:spPr>
          <a:xfrm>
            <a:off x="2195640" y="285264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"/>
          <p:cNvSpPr/>
          <p:nvPr/>
        </p:nvSpPr>
        <p:spPr>
          <a:xfrm>
            <a:off x="2809800" y="357192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"/>
          <p:cNvSpPr/>
          <p:nvPr/>
        </p:nvSpPr>
        <p:spPr>
          <a:xfrm>
            <a:off x="2954160" y="357192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/>
          <p:nvPr/>
        </p:nvSpPr>
        <p:spPr>
          <a:xfrm>
            <a:off x="3170160" y="378936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"/>
          <p:cNvSpPr/>
          <p:nvPr/>
        </p:nvSpPr>
        <p:spPr>
          <a:xfrm>
            <a:off x="3168720" y="393228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"/>
          <p:cNvSpPr/>
          <p:nvPr/>
        </p:nvSpPr>
        <p:spPr>
          <a:xfrm>
            <a:off x="2954160" y="414828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"/>
          <p:cNvSpPr/>
          <p:nvPr/>
        </p:nvSpPr>
        <p:spPr>
          <a:xfrm>
            <a:off x="2809800" y="414828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"/>
          <p:cNvSpPr/>
          <p:nvPr/>
        </p:nvSpPr>
        <p:spPr>
          <a:xfrm>
            <a:off x="1835280" y="206064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"/>
          <p:cNvSpPr/>
          <p:nvPr/>
        </p:nvSpPr>
        <p:spPr>
          <a:xfrm>
            <a:off x="1835280" y="508464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"/>
          <p:cNvSpPr/>
          <p:nvPr/>
        </p:nvSpPr>
        <p:spPr>
          <a:xfrm>
            <a:off x="3059280" y="328464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"/>
          <p:cNvSpPr/>
          <p:nvPr/>
        </p:nvSpPr>
        <p:spPr>
          <a:xfrm>
            <a:off x="324000" y="328464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"/>
          <p:cNvSpPr/>
          <p:nvPr/>
        </p:nvSpPr>
        <p:spPr>
          <a:xfrm>
            <a:off x="3059280" y="4724280"/>
            <a:ext cx="2304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"/>
          <p:cNvSpPr/>
          <p:nvPr/>
        </p:nvSpPr>
        <p:spPr>
          <a:xfrm>
            <a:off x="6627960" y="3571920"/>
            <a:ext cx="132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"/>
          <p:cNvSpPr/>
          <p:nvPr/>
        </p:nvSpPr>
        <p:spPr>
          <a:xfrm>
            <a:off x="7524720" y="357012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"/>
          <p:cNvSpPr/>
          <p:nvPr/>
        </p:nvSpPr>
        <p:spPr>
          <a:xfrm>
            <a:off x="6659640" y="256536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"/>
          <p:cNvSpPr/>
          <p:nvPr/>
        </p:nvSpPr>
        <p:spPr>
          <a:xfrm>
            <a:off x="5546880" y="3570120"/>
            <a:ext cx="50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"/>
          <p:cNvSpPr/>
          <p:nvPr/>
        </p:nvSpPr>
        <p:spPr>
          <a:xfrm>
            <a:off x="6627960" y="4724280"/>
            <a:ext cx="50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"/>
          <p:cNvSpPr/>
          <p:nvPr/>
        </p:nvSpPr>
        <p:spPr>
          <a:xfrm>
            <a:off x="6843600" y="3139920"/>
            <a:ext cx="0" cy="43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"/>
          <p:cNvSpPr/>
          <p:nvPr/>
        </p:nvSpPr>
        <p:spPr>
          <a:xfrm>
            <a:off x="6843600" y="4148280"/>
            <a:ext cx="0" cy="43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"/>
          <p:cNvSpPr/>
          <p:nvPr/>
        </p:nvSpPr>
        <p:spPr>
          <a:xfrm>
            <a:off x="7059600" y="3860640"/>
            <a:ext cx="503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"/>
          <p:cNvSpPr/>
          <p:nvPr/>
        </p:nvSpPr>
        <p:spPr>
          <a:xfrm flipV="1">
            <a:off x="6013440" y="3863520"/>
            <a:ext cx="614520" cy="3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"/>
          <p:cNvSpPr/>
          <p:nvPr/>
        </p:nvSpPr>
        <p:spPr>
          <a:xfrm>
            <a:off x="5619600" y="350532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"/>
          <p:cNvSpPr/>
          <p:nvPr/>
        </p:nvSpPr>
        <p:spPr>
          <a:xfrm>
            <a:off x="5764320" y="350532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"/>
          <p:cNvSpPr/>
          <p:nvPr/>
        </p:nvSpPr>
        <p:spPr>
          <a:xfrm>
            <a:off x="5546880" y="372096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"/>
          <p:cNvSpPr/>
          <p:nvPr/>
        </p:nvSpPr>
        <p:spPr>
          <a:xfrm>
            <a:off x="5546880" y="386568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"/>
          <p:cNvSpPr/>
          <p:nvPr/>
        </p:nvSpPr>
        <p:spPr>
          <a:xfrm>
            <a:off x="5764320" y="408132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"/>
          <p:cNvSpPr/>
          <p:nvPr/>
        </p:nvSpPr>
        <p:spPr>
          <a:xfrm>
            <a:off x="5619600" y="408132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"/>
          <p:cNvSpPr/>
          <p:nvPr/>
        </p:nvSpPr>
        <p:spPr>
          <a:xfrm>
            <a:off x="7093080" y="501660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"/>
          <p:cNvSpPr/>
          <p:nvPr/>
        </p:nvSpPr>
        <p:spPr>
          <a:xfrm>
            <a:off x="7093080" y="487188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"/>
          <p:cNvSpPr/>
          <p:nvPr/>
        </p:nvSpPr>
        <p:spPr>
          <a:xfrm>
            <a:off x="6588000" y="487368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"/>
          <p:cNvSpPr/>
          <p:nvPr/>
        </p:nvSpPr>
        <p:spPr>
          <a:xfrm>
            <a:off x="6588000" y="501660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"/>
          <p:cNvSpPr/>
          <p:nvPr/>
        </p:nvSpPr>
        <p:spPr>
          <a:xfrm>
            <a:off x="6626160" y="271152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"/>
          <p:cNvSpPr/>
          <p:nvPr/>
        </p:nvSpPr>
        <p:spPr>
          <a:xfrm>
            <a:off x="6626160" y="285588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"/>
          <p:cNvSpPr/>
          <p:nvPr/>
        </p:nvSpPr>
        <p:spPr>
          <a:xfrm>
            <a:off x="7093080" y="271152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"/>
          <p:cNvSpPr/>
          <p:nvPr/>
        </p:nvSpPr>
        <p:spPr>
          <a:xfrm>
            <a:off x="7093080" y="285588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"/>
          <p:cNvSpPr/>
          <p:nvPr/>
        </p:nvSpPr>
        <p:spPr>
          <a:xfrm>
            <a:off x="7597800" y="350028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"/>
          <p:cNvSpPr/>
          <p:nvPr/>
        </p:nvSpPr>
        <p:spPr>
          <a:xfrm>
            <a:off x="7742160" y="350028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"/>
          <p:cNvSpPr/>
          <p:nvPr/>
        </p:nvSpPr>
        <p:spPr>
          <a:xfrm>
            <a:off x="7958160" y="371808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"/>
          <p:cNvSpPr/>
          <p:nvPr/>
        </p:nvSpPr>
        <p:spPr>
          <a:xfrm>
            <a:off x="7956720" y="386064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"/>
          <p:cNvSpPr/>
          <p:nvPr/>
        </p:nvSpPr>
        <p:spPr>
          <a:xfrm>
            <a:off x="7742160" y="407664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"/>
          <p:cNvSpPr/>
          <p:nvPr/>
        </p:nvSpPr>
        <p:spPr>
          <a:xfrm>
            <a:off x="7597800" y="407664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"/>
          <p:cNvSpPr/>
          <p:nvPr/>
        </p:nvSpPr>
        <p:spPr>
          <a:xfrm>
            <a:off x="7846920" y="3213000"/>
            <a:ext cx="7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"/>
          <p:cNvSpPr/>
          <p:nvPr/>
        </p:nvSpPr>
        <p:spPr>
          <a:xfrm>
            <a:off x="5221440" y="328788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"/>
          <p:cNvSpPr/>
          <p:nvPr/>
        </p:nvSpPr>
        <p:spPr>
          <a:xfrm>
            <a:off x="6948360" y="3144960"/>
            <a:ext cx="0" cy="43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"/>
          <p:cNvSpPr/>
          <p:nvPr/>
        </p:nvSpPr>
        <p:spPr>
          <a:xfrm>
            <a:off x="6948360" y="4152960"/>
            <a:ext cx="0" cy="43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"/>
          <p:cNvSpPr/>
          <p:nvPr/>
        </p:nvSpPr>
        <p:spPr>
          <a:xfrm>
            <a:off x="4068720" y="5229360"/>
            <a:ext cx="5256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is structure has an expanded octet on S, BUT it is more correct because, it has less formal char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1E06F4-F1D2-4231-931A-60527AEB061C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1" dur="indefinite" restart="never" nodeType="tmRoot">
          <p:childTnLst>
            <p:seq>
              <p:cTn id="1632" dur="indefinite" nodeType="mainSeq">
                <p:childTnLst>
                  <p:par>
                    <p:cTn id="1633" fill="hold">
                      <p:stCondLst>
                        <p:cond delay="0"/>
                      </p:stCondLst>
                      <p:childTnLst>
                        <p:par>
                          <p:cTn id="1634" fill="hold">
                            <p:stCondLst>
                              <p:cond delay="0"/>
                            </p:stCondLst>
                            <p:childTnLst>
                              <p:par>
                                <p:cTn id="16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"/>
          <p:cNvSpPr/>
          <p:nvPr/>
        </p:nvSpPr>
        <p:spPr>
          <a:xfrm>
            <a:off x="468360" y="333000"/>
            <a:ext cx="5976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Q: When acting as a central atom, which of the following cannot expand its octe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9" name=""/>
          <p:cNvGraphicFramePr/>
          <p:nvPr/>
        </p:nvGraphicFramePr>
        <p:xfrm>
          <a:off x="611280" y="1844640"/>
          <a:ext cx="2232000" cy="2587680"/>
        </p:xfrm>
        <a:graphic>
          <a:graphicData uri="http://schemas.openxmlformats.org/drawingml/2006/table">
            <a:tbl>
              <a:tblPr/>
              <a:tblGrid>
                <a:gridCol w="1081080"/>
                <a:gridCol w="1150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A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B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C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C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D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X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E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0" name=""/>
          <p:cNvSpPr/>
          <p:nvPr/>
        </p:nvSpPr>
        <p:spPr>
          <a:xfrm>
            <a:off x="3157200" y="4206240"/>
            <a:ext cx="200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1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2916360" y="1628640"/>
            <a:ext cx="6048360" cy="3945240"/>
          </a:xfrm>
          <a:prstGeom prst="rect">
            <a:avLst/>
          </a:prstGeom>
          <a:ln w="0">
            <a:noFill/>
          </a:ln>
        </p:spPr>
      </p:pic>
      <p:sp>
        <p:nvSpPr>
          <p:cNvPr id="1542" name=""/>
          <p:cNvSpPr/>
          <p:nvPr/>
        </p:nvSpPr>
        <p:spPr>
          <a:xfrm>
            <a:off x="468360" y="5681520"/>
            <a:ext cx="712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te: Period 3 and beyond can expanded its oct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"/>
          <p:cNvSpPr/>
          <p:nvPr/>
        </p:nvSpPr>
        <p:spPr>
          <a:xfrm>
            <a:off x="7236000" y="2205000"/>
            <a:ext cx="36036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"/>
          <p:cNvSpPr/>
          <p:nvPr/>
        </p:nvSpPr>
        <p:spPr>
          <a:xfrm>
            <a:off x="8244000" y="2563920"/>
            <a:ext cx="36036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/>
          <p:nvPr/>
        </p:nvSpPr>
        <p:spPr>
          <a:xfrm>
            <a:off x="8604360" y="3213000"/>
            <a:ext cx="36036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"/>
          <p:cNvSpPr/>
          <p:nvPr/>
        </p:nvSpPr>
        <p:spPr>
          <a:xfrm>
            <a:off x="7956720" y="2563920"/>
            <a:ext cx="28872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"/>
          <p:cNvSpPr/>
          <p:nvPr/>
        </p:nvSpPr>
        <p:spPr>
          <a:xfrm>
            <a:off x="7596360" y="2563920"/>
            <a:ext cx="36036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A826C0-FA2F-4FB3-BD69-56C3EDCC7734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"/>
          <p:cNvSpPr/>
          <p:nvPr/>
        </p:nvSpPr>
        <p:spPr>
          <a:xfrm>
            <a:off x="395280" y="476280"/>
            <a:ext cx="770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Q: Which of the following molecules is an exception for the octet rule of Lewis structu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"/>
          <p:cNvSpPr/>
          <p:nvPr/>
        </p:nvSpPr>
        <p:spPr>
          <a:xfrm>
            <a:off x="511200" y="4011480"/>
            <a:ext cx="69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/>
          <p:nvPr/>
        </p:nvSpPr>
        <p:spPr>
          <a:xfrm>
            <a:off x="-43812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"/>
          <p:cNvSpPr/>
          <p:nvPr/>
        </p:nvSpPr>
        <p:spPr>
          <a:xfrm>
            <a:off x="439560" y="319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2" name=""/>
          <p:cNvGraphicFramePr/>
          <p:nvPr/>
        </p:nvGraphicFramePr>
        <p:xfrm>
          <a:off x="539640" y="2203560"/>
          <a:ext cx="1944720" cy="2305080"/>
        </p:xfrm>
        <a:graphic>
          <a:graphicData uri="http://schemas.openxmlformats.org/drawingml/2006/table">
            <a:tbl>
              <a:tblPr/>
              <a:tblGrid>
                <a:gridCol w="719280"/>
                <a:gridCol w="1225440"/>
              </a:tblGrid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O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3300"/>
                          </a:solidFill>
                          <a:latin typeface="Comic Sans MS"/>
                        </a:rPr>
                        <a:t>d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3300"/>
                          </a:solidFill>
                          <a:latin typeface="Comic Sans MS"/>
                        </a:rPr>
                        <a:t>SF</a:t>
                      </a:r>
                      <a:r>
                        <a:rPr b="0" lang="en-US" sz="2800" spc="-1" strike="noStrike" baseline="-25000">
                          <a:solidFill>
                            <a:srgbClr val="cc33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46D1BB-4D26-4FE3-B40D-6569F3B9EAFF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"/>
          <p:cNvSpPr/>
          <p:nvPr/>
        </p:nvSpPr>
        <p:spPr>
          <a:xfrm>
            <a:off x="2411280" y="2492280"/>
            <a:ext cx="482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End of Chapter 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22F893-8ECA-4594-A2CB-EAAD8CA2DFC1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5704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  <a:ea typeface="Times New Roman"/>
              </a:rPr>
              <a:t>9.1 Lewis Dot Symbols </a:t>
            </a:r>
            <a:r>
              <a:rPr b="1" lang="ar-SA" sz="3600" spc="-1" strike="noStrike" u="sng">
                <a:solidFill>
                  <a:srgbClr val="00007d"/>
                </a:solidFill>
                <a:uFillTx/>
                <a:latin typeface="Comic Sans MS"/>
                <a:ea typeface="Times New Roman"/>
              </a:rPr>
              <a:t> </a:t>
            </a: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  <a:ea typeface="Times New Roman"/>
              </a:rPr>
              <a:t>  </a:t>
            </a:r>
            <a:r>
              <a:rPr b="1" lang="ar-SA" sz="3600" spc="-1" strike="noStrike" u="sng">
                <a:solidFill>
                  <a:srgbClr val="00007d"/>
                </a:solidFill>
                <a:uFillTx/>
                <a:latin typeface="Comic Sans MS"/>
                <a:cs typeface="Times New Roman"/>
              </a:rPr>
              <a:t>نظام النقط للويس</a:t>
            </a:r>
            <a:r>
              <a:rPr b="0" lang="en-US" sz="36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</a:t>
            </a:r>
            <a:r>
              <a:rPr b="1" lang="en-US" sz="29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Octet</a:t>
            </a:r>
            <a:r>
              <a:rPr b="1" lang="en-US" sz="2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Rule:</a:t>
            </a:r>
            <a:r>
              <a:rPr b="0" lang="en-US" sz="2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n forming chemical bonds, atoms usually gain, lose or share electrons until they have </a:t>
            </a:r>
            <a:r>
              <a:rPr b="0" lang="en-US" sz="29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8</a:t>
            </a:r>
            <a:r>
              <a:rPr b="0" lang="en-US" sz="2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n the outer shell to reach the same electronic configuration of the noble gasses (ns</a:t>
            </a:r>
            <a:r>
              <a:rPr b="0" lang="en-US" sz="29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np</a:t>
            </a:r>
            <a:r>
              <a:rPr b="0" lang="en-US" sz="29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6</a:t>
            </a:r>
            <a:r>
              <a:rPr b="0" lang="en-US" sz="2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.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ewis Dot Representation:</a:t>
            </a:r>
            <a:r>
              <a:rPr b="0" lang="en-US" sz="2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n the representation of an atom, the valence electrons of an atom are represented by dots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re are two main types of chemical bonds</a:t>
            </a:r>
            <a:r>
              <a:rPr b="1" lang="en-US" sz="2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</a:t>
            </a:r>
            <a:r>
              <a:rPr b="1" lang="en-US" sz="29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ionic bond </a:t>
            </a:r>
            <a:r>
              <a:rPr b="0" lang="en-US" sz="2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d </a:t>
            </a:r>
            <a:r>
              <a:rPr b="1" lang="en-US" sz="29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covalent bond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272189-C5D0-4DB6-B4AD-3609AEEBF53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7920" y="484200"/>
            <a:ext cx="8596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ewis Dot Symbols for the Representative Elements &amp; Noble G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1920960"/>
            <a:ext cx="9144000" cy="3884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A9EF65-9287-49EE-B8F2-1D42E79A272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9" name=""/>
          <p:cNvGraphicFramePr/>
          <p:nvPr/>
        </p:nvGraphicFramePr>
        <p:xfrm>
          <a:off x="304920" y="1676520"/>
          <a:ext cx="8731080" cy="3089160"/>
        </p:xfrm>
        <a:graphic>
          <a:graphicData uri="http://schemas.openxmlformats.org/drawingml/2006/table">
            <a:tbl>
              <a:tblPr/>
              <a:tblGrid>
                <a:gridCol w="2898720"/>
                <a:gridCol w="2376360"/>
                <a:gridCol w="3456000"/>
              </a:tblGrid>
              <a:tr h="1017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ypes of Atom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ype of Bo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ond Characterist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metals to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nonmeta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Ion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electr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transferr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nonmetals 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nonmeta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Coval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electron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shar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" name=""/>
          <p:cNvSpPr/>
          <p:nvPr/>
        </p:nvSpPr>
        <p:spPr>
          <a:xfrm>
            <a:off x="468360" y="549360"/>
            <a:ext cx="60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ypes of Bon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24000" y="515772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Non-metals have high electronegativity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Metals have low electronega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4B4B4B-EF9F-483F-8707-7960EC99545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415080" y="393840"/>
            <a:ext cx="422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9.2 the ionic bo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4653000" y="2260440"/>
            <a:ext cx="2640240" cy="581400"/>
            <a:chOff x="4653000" y="2260440"/>
            <a:chExt cx="2640240" cy="581400"/>
          </a:xfrm>
        </p:grpSpPr>
        <p:grpSp>
          <p:nvGrpSpPr>
            <p:cNvPr id="154" name=""/>
            <p:cNvGrpSpPr/>
            <p:nvPr/>
          </p:nvGrpSpPr>
          <p:grpSpPr>
            <a:xfrm>
              <a:off x="4653000" y="2371320"/>
              <a:ext cx="465120" cy="459720"/>
              <a:chOff x="4653000" y="2371320"/>
              <a:chExt cx="465120" cy="459720"/>
            </a:xfrm>
          </p:grpSpPr>
          <p:sp>
            <p:nvSpPr>
              <p:cNvPr id="155" name=""/>
              <p:cNvSpPr/>
              <p:nvPr/>
            </p:nvSpPr>
            <p:spPr>
              <a:xfrm>
                <a:off x="4698000" y="2371320"/>
                <a:ext cx="420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Li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653000" y="250308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7" name=""/>
            <p:cNvSpPr/>
            <p:nvPr/>
          </p:nvSpPr>
          <p:spPr>
            <a:xfrm>
              <a:off x="5224320" y="2606400"/>
              <a:ext cx="685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033240" y="2260440"/>
              <a:ext cx="1260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Li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+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 +  e</a:t>
              </a:r>
              <a:r>
                <a:rPr b="0" lang="en-US" sz="3200" spc="-1" strike="noStrike" baseline="30000">
                  <a:solidFill>
                    <a:srgbClr val="000000"/>
                  </a:solidFill>
                  <a:latin typeface="Comic Sans MS"/>
                </a:rPr>
                <a:t>-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3785760" y="3003480"/>
            <a:ext cx="2869200" cy="705240"/>
            <a:chOff x="3785760" y="3003480"/>
            <a:chExt cx="2869200" cy="705240"/>
          </a:xfrm>
        </p:grpSpPr>
        <p:grpSp>
          <p:nvGrpSpPr>
            <p:cNvPr id="160" name=""/>
            <p:cNvGrpSpPr/>
            <p:nvPr/>
          </p:nvGrpSpPr>
          <p:grpSpPr>
            <a:xfrm>
              <a:off x="3785760" y="3121200"/>
              <a:ext cx="1348920" cy="587520"/>
              <a:chOff x="3785760" y="3121200"/>
              <a:chExt cx="1348920" cy="587520"/>
            </a:xfrm>
          </p:grpSpPr>
          <p:sp>
            <p:nvSpPr>
              <p:cNvPr id="161" name=""/>
              <p:cNvSpPr/>
              <p:nvPr/>
            </p:nvSpPr>
            <p:spPr>
              <a:xfrm>
                <a:off x="3785760" y="3127320"/>
                <a:ext cx="7614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r>
                  <a:rPr b="0" lang="en-US" sz="3200" spc="-1" strike="noStrike" baseline="30000">
                    <a:solidFill>
                      <a:srgbClr val="000000"/>
                    </a:solidFill>
                    <a:latin typeface="Comic Sans MS"/>
                  </a:rPr>
                  <a:t>-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  +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2" name=""/>
              <p:cNvGrpSpPr/>
              <p:nvPr/>
            </p:nvGrpSpPr>
            <p:grpSpPr>
              <a:xfrm>
                <a:off x="4691160" y="3121200"/>
                <a:ext cx="443520" cy="480240"/>
                <a:chOff x="4691160" y="3121200"/>
                <a:chExt cx="443520" cy="480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750200" y="3141720"/>
                  <a:ext cx="3391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F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4" name=""/>
                <p:cNvGrpSpPr/>
                <p:nvPr/>
              </p:nvGrpSpPr>
              <p:grpSpPr>
                <a:xfrm>
                  <a:off x="4691160" y="3247920"/>
                  <a:ext cx="75960" cy="228600"/>
                  <a:chOff x="4691160" y="3247920"/>
                  <a:chExt cx="75960" cy="228600"/>
                </a:xfrm>
              </p:grpSpPr>
              <p:sp>
                <p:nvSpPr>
                  <p:cNvPr id="165" name=""/>
                  <p:cNvSpPr/>
                  <p:nvPr/>
                </p:nvSpPr>
                <p:spPr>
                  <a:xfrm>
                    <a:off x="4691160" y="3247920"/>
                    <a:ext cx="75960" cy="763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"/>
                  <p:cNvSpPr/>
                  <p:nvPr/>
                </p:nvSpPr>
                <p:spPr>
                  <a:xfrm>
                    <a:off x="4691160" y="3400560"/>
                    <a:ext cx="7596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7" name=""/>
                <p:cNvSpPr/>
                <p:nvPr/>
              </p:nvSpPr>
              <p:spPr>
                <a:xfrm>
                  <a:off x="5058720" y="324792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8" name=""/>
                <p:cNvGrpSpPr/>
                <p:nvPr/>
              </p:nvGrpSpPr>
              <p:grpSpPr>
                <a:xfrm>
                  <a:off x="4792320" y="3121200"/>
                  <a:ext cx="227520" cy="75960"/>
                  <a:chOff x="4792320" y="3121200"/>
                  <a:chExt cx="227520" cy="75960"/>
                </a:xfrm>
              </p:grpSpPr>
              <p:sp>
                <p:nvSpPr>
                  <p:cNvPr id="169" name=""/>
                  <p:cNvSpPr/>
                  <p:nvPr/>
                </p:nvSpPr>
                <p:spPr>
                  <a:xfrm rot="5400000">
                    <a:off x="4943880" y="3121200"/>
                    <a:ext cx="7596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"/>
                  <p:cNvSpPr/>
                  <p:nvPr/>
                </p:nvSpPr>
                <p:spPr>
                  <a:xfrm rot="5400000">
                    <a:off x="4791960" y="3121200"/>
                    <a:ext cx="75960" cy="75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1" name=""/>
                <p:cNvGrpSpPr/>
                <p:nvPr/>
              </p:nvGrpSpPr>
              <p:grpSpPr>
                <a:xfrm>
                  <a:off x="4792320" y="3514680"/>
                  <a:ext cx="227520" cy="76320"/>
                  <a:chOff x="4792320" y="3514680"/>
                  <a:chExt cx="227520" cy="76320"/>
                </a:xfrm>
              </p:grpSpPr>
              <p:sp>
                <p:nvSpPr>
                  <p:cNvPr id="172" name=""/>
                  <p:cNvSpPr/>
                  <p:nvPr/>
                </p:nvSpPr>
                <p:spPr>
                  <a:xfrm rot="5400000">
                    <a:off x="4943520" y="3514680"/>
                    <a:ext cx="7632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"/>
                  <p:cNvSpPr/>
                  <p:nvPr/>
                </p:nvSpPr>
                <p:spPr>
                  <a:xfrm rot="5400000">
                    <a:off x="4791960" y="3515040"/>
                    <a:ext cx="76320" cy="75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74" name=""/>
            <p:cNvSpPr/>
            <p:nvPr/>
          </p:nvSpPr>
          <p:spPr>
            <a:xfrm>
              <a:off x="5236920" y="3376800"/>
              <a:ext cx="685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5" name=""/>
            <p:cNvGrpSpPr/>
            <p:nvPr/>
          </p:nvGrpSpPr>
          <p:grpSpPr>
            <a:xfrm>
              <a:off x="5960880" y="3003480"/>
              <a:ext cx="694080" cy="597600"/>
              <a:chOff x="5960880" y="3003480"/>
              <a:chExt cx="694080" cy="597600"/>
            </a:xfrm>
          </p:grpSpPr>
          <p:sp>
            <p:nvSpPr>
              <p:cNvPr id="176" name=""/>
              <p:cNvSpPr/>
              <p:nvPr/>
            </p:nvSpPr>
            <p:spPr>
              <a:xfrm>
                <a:off x="6328800" y="340020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7" name=""/>
              <p:cNvGrpSpPr/>
              <p:nvPr/>
            </p:nvGrpSpPr>
            <p:grpSpPr>
              <a:xfrm>
                <a:off x="5960880" y="3120840"/>
                <a:ext cx="443880" cy="480240"/>
                <a:chOff x="5960880" y="3120840"/>
                <a:chExt cx="443880" cy="480240"/>
              </a:xfrm>
            </p:grpSpPr>
            <p:sp>
              <p:nvSpPr>
                <p:cNvPr id="178" name=""/>
                <p:cNvSpPr/>
                <p:nvPr/>
              </p:nvSpPr>
              <p:spPr>
                <a:xfrm>
                  <a:off x="6019920" y="3141360"/>
                  <a:ext cx="3391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F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79" name=""/>
                <p:cNvGrpSpPr/>
                <p:nvPr/>
              </p:nvGrpSpPr>
              <p:grpSpPr>
                <a:xfrm>
                  <a:off x="5960880" y="3247560"/>
                  <a:ext cx="75960" cy="228600"/>
                  <a:chOff x="5960880" y="3247560"/>
                  <a:chExt cx="75960" cy="228600"/>
                </a:xfrm>
              </p:grpSpPr>
              <p:sp>
                <p:nvSpPr>
                  <p:cNvPr id="180" name=""/>
                  <p:cNvSpPr/>
                  <p:nvPr/>
                </p:nvSpPr>
                <p:spPr>
                  <a:xfrm>
                    <a:off x="5960880" y="3247560"/>
                    <a:ext cx="75960" cy="763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" name=""/>
                  <p:cNvSpPr/>
                  <p:nvPr/>
                </p:nvSpPr>
                <p:spPr>
                  <a:xfrm>
                    <a:off x="5960880" y="3400200"/>
                    <a:ext cx="7596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2" name=""/>
                <p:cNvSpPr/>
                <p:nvPr/>
              </p:nvSpPr>
              <p:spPr>
                <a:xfrm>
                  <a:off x="6328800" y="324756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83" name=""/>
                <p:cNvGrpSpPr/>
                <p:nvPr/>
              </p:nvGrpSpPr>
              <p:grpSpPr>
                <a:xfrm>
                  <a:off x="6062400" y="3120840"/>
                  <a:ext cx="227880" cy="75960"/>
                  <a:chOff x="6062400" y="3120840"/>
                  <a:chExt cx="227880" cy="75960"/>
                </a:xfrm>
              </p:grpSpPr>
              <p:sp>
                <p:nvSpPr>
                  <p:cNvPr id="184" name=""/>
                  <p:cNvSpPr/>
                  <p:nvPr/>
                </p:nvSpPr>
                <p:spPr>
                  <a:xfrm rot="5400000">
                    <a:off x="6214320" y="3120840"/>
                    <a:ext cx="7596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"/>
                  <p:cNvSpPr/>
                  <p:nvPr/>
                </p:nvSpPr>
                <p:spPr>
                  <a:xfrm rot="5400000">
                    <a:off x="6062040" y="3120840"/>
                    <a:ext cx="75960" cy="75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6" name=""/>
                <p:cNvGrpSpPr/>
                <p:nvPr/>
              </p:nvGrpSpPr>
              <p:grpSpPr>
                <a:xfrm>
                  <a:off x="6062400" y="3514320"/>
                  <a:ext cx="227880" cy="76320"/>
                  <a:chOff x="6062400" y="3514320"/>
                  <a:chExt cx="227880" cy="76320"/>
                </a:xfrm>
              </p:grpSpPr>
              <p:sp>
                <p:nvSpPr>
                  <p:cNvPr id="187" name=""/>
                  <p:cNvSpPr/>
                  <p:nvPr/>
                </p:nvSpPr>
                <p:spPr>
                  <a:xfrm rot="5400000">
                    <a:off x="6213960" y="3514320"/>
                    <a:ext cx="7632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" name=""/>
                  <p:cNvSpPr/>
                  <p:nvPr/>
                </p:nvSpPr>
                <p:spPr>
                  <a:xfrm rot="5400000">
                    <a:off x="6062040" y="3514680"/>
                    <a:ext cx="76320" cy="75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89" name=""/>
              <p:cNvSpPr/>
              <p:nvPr/>
            </p:nvSpPr>
            <p:spPr>
              <a:xfrm>
                <a:off x="6359760" y="3003480"/>
                <a:ext cx="295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-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"/>
          <p:cNvGrpSpPr/>
          <p:nvPr/>
        </p:nvGrpSpPr>
        <p:grpSpPr>
          <a:xfrm>
            <a:off x="3691440" y="3828960"/>
            <a:ext cx="3471840" cy="610560"/>
            <a:chOff x="3691440" y="3828960"/>
            <a:chExt cx="3471840" cy="610560"/>
          </a:xfrm>
        </p:grpSpPr>
        <p:sp>
          <p:nvSpPr>
            <p:cNvPr id="191" name=""/>
            <p:cNvSpPr/>
            <p:nvPr/>
          </p:nvSpPr>
          <p:spPr>
            <a:xfrm>
              <a:off x="5236920" y="4189320"/>
              <a:ext cx="685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2" name=""/>
            <p:cNvGrpSpPr/>
            <p:nvPr/>
          </p:nvGrpSpPr>
          <p:grpSpPr>
            <a:xfrm>
              <a:off x="4691160" y="3828960"/>
              <a:ext cx="694080" cy="597600"/>
              <a:chOff x="4691160" y="3828960"/>
              <a:chExt cx="694080" cy="597600"/>
            </a:xfrm>
          </p:grpSpPr>
          <p:sp>
            <p:nvSpPr>
              <p:cNvPr id="193" name=""/>
              <p:cNvSpPr/>
              <p:nvPr/>
            </p:nvSpPr>
            <p:spPr>
              <a:xfrm>
                <a:off x="5059080" y="422568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4" name=""/>
              <p:cNvGrpSpPr/>
              <p:nvPr/>
            </p:nvGrpSpPr>
            <p:grpSpPr>
              <a:xfrm>
                <a:off x="4691160" y="3946320"/>
                <a:ext cx="443880" cy="480240"/>
                <a:chOff x="4691160" y="3946320"/>
                <a:chExt cx="443880" cy="48024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4750200" y="3966840"/>
                  <a:ext cx="3391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F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96" name=""/>
                <p:cNvGrpSpPr/>
                <p:nvPr/>
              </p:nvGrpSpPr>
              <p:grpSpPr>
                <a:xfrm>
                  <a:off x="4691160" y="4073040"/>
                  <a:ext cx="75960" cy="228600"/>
                  <a:chOff x="4691160" y="4073040"/>
                  <a:chExt cx="75960" cy="228600"/>
                </a:xfrm>
              </p:grpSpPr>
              <p:sp>
                <p:nvSpPr>
                  <p:cNvPr id="197" name=""/>
                  <p:cNvSpPr/>
                  <p:nvPr/>
                </p:nvSpPr>
                <p:spPr>
                  <a:xfrm>
                    <a:off x="4691160" y="4073040"/>
                    <a:ext cx="75960" cy="763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" name=""/>
                  <p:cNvSpPr/>
                  <p:nvPr/>
                </p:nvSpPr>
                <p:spPr>
                  <a:xfrm>
                    <a:off x="4691160" y="4225680"/>
                    <a:ext cx="7596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9" name=""/>
                <p:cNvSpPr/>
                <p:nvPr/>
              </p:nvSpPr>
              <p:spPr>
                <a:xfrm>
                  <a:off x="5059080" y="407304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00" name=""/>
                <p:cNvGrpSpPr/>
                <p:nvPr/>
              </p:nvGrpSpPr>
              <p:grpSpPr>
                <a:xfrm>
                  <a:off x="4792680" y="3946320"/>
                  <a:ext cx="227880" cy="75960"/>
                  <a:chOff x="4792680" y="3946320"/>
                  <a:chExt cx="227880" cy="75960"/>
                </a:xfrm>
              </p:grpSpPr>
              <p:sp>
                <p:nvSpPr>
                  <p:cNvPr id="201" name=""/>
                  <p:cNvSpPr/>
                  <p:nvPr/>
                </p:nvSpPr>
                <p:spPr>
                  <a:xfrm rot="5400000">
                    <a:off x="4944600" y="3946320"/>
                    <a:ext cx="7596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 rot="5400000">
                    <a:off x="4792320" y="3946320"/>
                    <a:ext cx="75960" cy="75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3" name=""/>
                <p:cNvGrpSpPr/>
                <p:nvPr/>
              </p:nvGrpSpPr>
              <p:grpSpPr>
                <a:xfrm>
                  <a:off x="4792680" y="4339800"/>
                  <a:ext cx="227880" cy="76320"/>
                  <a:chOff x="4792680" y="4339800"/>
                  <a:chExt cx="227880" cy="76320"/>
                </a:xfrm>
              </p:grpSpPr>
              <p:sp>
                <p:nvSpPr>
                  <p:cNvPr id="204" name=""/>
                  <p:cNvSpPr/>
                  <p:nvPr/>
                </p:nvSpPr>
                <p:spPr>
                  <a:xfrm rot="5400000">
                    <a:off x="4944240" y="4339800"/>
                    <a:ext cx="7632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 rot="5400000">
                    <a:off x="4792320" y="4340160"/>
                    <a:ext cx="76320" cy="75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06" name=""/>
              <p:cNvSpPr/>
              <p:nvPr/>
            </p:nvSpPr>
            <p:spPr>
              <a:xfrm>
                <a:off x="5090040" y="3828960"/>
                <a:ext cx="295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-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7" name=""/>
            <p:cNvSpPr/>
            <p:nvPr/>
          </p:nvSpPr>
          <p:spPr>
            <a:xfrm>
              <a:off x="3691440" y="3979800"/>
              <a:ext cx="8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Li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+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 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995800" y="3965400"/>
              <a:ext cx="52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Li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9" name=""/>
            <p:cNvGrpSpPr/>
            <p:nvPr/>
          </p:nvGrpSpPr>
          <p:grpSpPr>
            <a:xfrm>
              <a:off x="6468840" y="3841560"/>
              <a:ext cx="694440" cy="597600"/>
              <a:chOff x="6468840" y="3841560"/>
              <a:chExt cx="694440" cy="597600"/>
            </a:xfrm>
          </p:grpSpPr>
          <p:sp>
            <p:nvSpPr>
              <p:cNvPr id="210" name=""/>
              <p:cNvSpPr/>
              <p:nvPr/>
            </p:nvSpPr>
            <p:spPr>
              <a:xfrm>
                <a:off x="6837120" y="423828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1" name=""/>
              <p:cNvGrpSpPr/>
              <p:nvPr/>
            </p:nvGrpSpPr>
            <p:grpSpPr>
              <a:xfrm>
                <a:off x="6468840" y="3958920"/>
                <a:ext cx="444600" cy="480240"/>
                <a:chOff x="6468840" y="3958920"/>
                <a:chExt cx="444600" cy="480240"/>
              </a:xfrm>
            </p:grpSpPr>
            <p:sp>
              <p:nvSpPr>
                <p:cNvPr id="212" name=""/>
                <p:cNvSpPr/>
                <p:nvPr/>
              </p:nvSpPr>
              <p:spPr>
                <a:xfrm>
                  <a:off x="6528600" y="3979440"/>
                  <a:ext cx="3391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F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13" name=""/>
                <p:cNvGrpSpPr/>
                <p:nvPr/>
              </p:nvGrpSpPr>
              <p:grpSpPr>
                <a:xfrm>
                  <a:off x="6468840" y="4085640"/>
                  <a:ext cx="76320" cy="228600"/>
                  <a:chOff x="6468840" y="4085640"/>
                  <a:chExt cx="76320" cy="2286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6468840" y="4085640"/>
                    <a:ext cx="76320" cy="763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6468840" y="4238280"/>
                    <a:ext cx="7632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6837120" y="408564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17" name=""/>
                <p:cNvGrpSpPr/>
                <p:nvPr/>
              </p:nvGrpSpPr>
              <p:grpSpPr>
                <a:xfrm>
                  <a:off x="6570000" y="3958920"/>
                  <a:ext cx="228600" cy="75960"/>
                  <a:chOff x="6570000" y="3958920"/>
                  <a:chExt cx="228600" cy="75960"/>
                </a:xfrm>
              </p:grpSpPr>
              <p:sp>
                <p:nvSpPr>
                  <p:cNvPr id="218" name=""/>
                  <p:cNvSpPr/>
                  <p:nvPr/>
                </p:nvSpPr>
                <p:spPr>
                  <a:xfrm rot="5400000">
                    <a:off x="6722280" y="3958560"/>
                    <a:ext cx="75960" cy="763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"/>
                  <p:cNvSpPr/>
                  <p:nvPr/>
                </p:nvSpPr>
                <p:spPr>
                  <a:xfrm rot="5400000">
                    <a:off x="6570000" y="3958920"/>
                    <a:ext cx="7596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0" name=""/>
                <p:cNvGrpSpPr/>
                <p:nvPr/>
              </p:nvGrpSpPr>
              <p:grpSpPr>
                <a:xfrm>
                  <a:off x="6570000" y="4352400"/>
                  <a:ext cx="228600" cy="76320"/>
                  <a:chOff x="6570000" y="4352400"/>
                  <a:chExt cx="228600" cy="7632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 rot="5400000">
                    <a:off x="6722280" y="4352400"/>
                    <a:ext cx="76320" cy="763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 rot="5400000">
                    <a:off x="6569640" y="4352400"/>
                    <a:ext cx="7632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23" name=""/>
              <p:cNvSpPr/>
              <p:nvPr/>
            </p:nvSpPr>
            <p:spPr>
              <a:xfrm>
                <a:off x="6868080" y="3841560"/>
                <a:ext cx="295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-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216000" y="3541680"/>
            <a:ext cx="2911320" cy="32004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1373760" y="4081320"/>
            <a:ext cx="57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6000" y="1042920"/>
            <a:ext cx="8915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onic bond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he electrostatic force that holds ions together in an ionic compound. </a:t>
            </a:r>
            <a:r>
              <a:rPr b="1" lang="en-US" sz="2800" spc="-1" strike="noStrike">
                <a:solidFill>
                  <a:srgbClr val="cc3300"/>
                </a:solidFill>
                <a:latin typeface="Comic Sans MS"/>
              </a:rPr>
              <a:t>(metal-LOW EN- &amp; non-metal-HIGH EN-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419640" y="4653000"/>
            <a:ext cx="4752720" cy="22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cc3300"/>
                </a:solidFill>
                <a:uFillTx/>
                <a:latin typeface="Comic Sans MS"/>
              </a:rPr>
              <a:t>Other Exampl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3300"/>
                </a:solidFill>
                <a:latin typeface="Comic Sans MS"/>
              </a:rPr>
              <a:t>Ca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3300"/>
                </a:solidFill>
                <a:latin typeface="Comic Sans MS"/>
              </a:rPr>
              <a:t>Li</a:t>
            </a:r>
            <a:r>
              <a:rPr b="1" lang="en-GB" sz="2400" spc="-1" strike="noStrike" baseline="-25000">
                <a:solidFill>
                  <a:srgbClr val="cc3300"/>
                </a:solidFill>
                <a:latin typeface="Comic Sans MS"/>
              </a:rPr>
              <a:t>2</a:t>
            </a:r>
            <a:r>
              <a:rPr b="1" lang="en-GB" sz="2400" spc="-1" strike="noStrike">
                <a:solidFill>
                  <a:srgbClr val="cc3300"/>
                </a:solidFill>
                <a:latin typeface="Comic Sans MS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3300"/>
                </a:solidFill>
                <a:latin typeface="Comic Sans MS"/>
              </a:rPr>
              <a:t>Mg</a:t>
            </a:r>
            <a:r>
              <a:rPr b="1" lang="en-GB" sz="2400" spc="-1" strike="noStrike" baseline="-25000">
                <a:solidFill>
                  <a:srgbClr val="cc3300"/>
                </a:solidFill>
                <a:latin typeface="Comic Sans MS"/>
              </a:rPr>
              <a:t>3</a:t>
            </a:r>
            <a:r>
              <a:rPr b="1" lang="en-GB" sz="2400" spc="-1" strike="noStrike">
                <a:solidFill>
                  <a:srgbClr val="cc3300"/>
                </a:solidFill>
                <a:latin typeface="Comic Sans MS"/>
              </a:rPr>
              <a:t>N</a:t>
            </a:r>
            <a:r>
              <a:rPr b="1" lang="en-GB" sz="2400" spc="-1" strike="noStrike" baseline="-25000">
                <a:solidFill>
                  <a:srgbClr val="cc33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DBFBD6-9BBC-4AA8-99C5-4EB17FB0259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Content Placeholder 1"/>
          <p:cNvSpPr/>
          <p:nvPr/>
        </p:nvSpPr>
        <p:spPr>
          <a:xfrm>
            <a:off x="32400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3300"/>
                </a:solidFill>
                <a:uFillTx/>
                <a:latin typeface="Comic Sans MS"/>
                <a:ea typeface="Times New Roman"/>
              </a:rPr>
              <a:t>Example 9.1 p 368: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Use Lewis dot symbol to show 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of Al</a:t>
            </a:r>
            <a:r>
              <a:rPr b="0" lang="en-US" sz="2800" spc="-1" strike="noStrike" baseline="-25000">
                <a:solidFill>
                  <a:srgbClr val="cc3300"/>
                </a:solidFill>
                <a:latin typeface="Comic Sans MS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O</a:t>
            </a:r>
            <a:r>
              <a:rPr b="0" lang="en-US" sz="2800" spc="-1" strike="noStrike" baseline="-25000">
                <a:solidFill>
                  <a:srgbClr val="cc3300"/>
                </a:solidFill>
                <a:latin typeface="Comic Sans MS"/>
                <a:ea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50920" y="2060640"/>
            <a:ext cx="820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476360" y="3213000"/>
            <a:ext cx="26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   Al        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284720" y="3213000"/>
            <a:ext cx="41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    O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68360" y="2997360"/>
            <a:ext cx="144720" cy="14256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268360" y="3862440"/>
            <a:ext cx="14472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3429000"/>
            <a:ext cx="14436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148360" y="306864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506920" y="328608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506920" y="350208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859280" y="342900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364000" y="306864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219640" y="371628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900000" y="4005360"/>
            <a:ext cx="33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[Ne] 3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3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140360" y="4005360"/>
            <a:ext cx="33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332000" y="5370480"/>
            <a:ext cx="36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   Al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3+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284720" y="5375160"/>
            <a:ext cx="41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    O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-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148360" y="523080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506920" y="544824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506920" y="566424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859280" y="566100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364000" y="523080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291280" y="587844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859280" y="5446800"/>
            <a:ext cx="14436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076720" y="5877000"/>
            <a:ext cx="14472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692360" y="6018120"/>
            <a:ext cx="33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[Ne]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140360" y="6089760"/>
            <a:ext cx="33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[Ne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659640" y="5370480"/>
            <a:ext cx="2089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A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95280" y="2060640"/>
            <a:ext cx="28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7B49F9-6631-49A1-BEBF-B2623C4C6F3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1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6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1-11-29T20:37:30Z</dcterms:modified>
  <cp:revision>1348</cp:revision>
  <dc:subject/>
  <dc:title>General Chemistry CHEM 110</dc:title>
</cp:coreProperties>
</file>