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EC04D-3548-4024-96E2-ACB5B3B8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DB0A3-5C53-4ED1-9F9F-C50EB002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EE448-9E54-41E9-A256-474AEDD7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40A9A-B616-4D06-B102-3021B89A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7195-A0FB-41F6-B225-512F134D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0BB4-E553-4229-BB70-63A6BAD7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595D-0085-4798-9C3A-06DBE9BD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55F6-19F4-42F0-88F7-DA75567A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CAF0-4356-4D80-A19D-3339151C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0A61-D341-4A9A-8C24-A8DA0C72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F1BA-68DC-4A13-A22F-8E0CFF91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96396-1FB5-42AB-B597-9AE56A7A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1D3B-D1D2-4E6C-93FE-FCBBE868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54D9-1123-43B9-9CEB-AE4115EF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B0BC-E1C3-4D48-A14D-CAAD2D6A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9AFD-C387-4CBD-8BD0-F3FB759C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0F32-9F70-4FEF-B15E-EBAEDD61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C7827-8D73-4CD3-BA5F-FF095ECB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73962-746B-4D49-B8EB-75B2F630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D12EA-5FFE-4452-A65F-7DC6FD3C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4358B-20AB-4ACA-9098-9B56FB0F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774B2-D361-4140-B3E3-D34E477E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80AC0-58EF-45A4-A30D-E2C5B3E2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D5A0D-1792-4497-A1B2-1D189CAA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98E4-77B8-4ED2-9320-71C133BFB0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DB91-3EF9-40C0-9DBF-0F7AB5E953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FECC-8B5E-4175-9FAA-7434A7AB0A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9640" y="549360"/>
                <a:ext cx="813780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T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Boyle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71640" y="4365720"/>
            <a:ext cx="770400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BBA78-3F02-47C8-AAC6-51004EE23F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le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1268280"/>
                <a:ext cx="3529080" cy="34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00720" y="1268280"/>
                <a:ext cx="27352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552DF-D252-4C1B-AE06-6B600723E8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5960" y="333360"/>
            <a:ext cx="8763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hlorine gas occupies a volume of 946 mL at a pressure of 726 mmHg.  What is the pressure of the gas (in mmHg) if the volume is reduced at constant temperature to 154 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781360"/>
            <a:ext cx="741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26 mmHg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94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? 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15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Boyle’s Law: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=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5280120"/>
                <a:ext cx="8136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rPr>
                            <m:lit/>
                            <m:nor/>
                          </m:rPr>
                          <m:t xml:space="preserve"> mmHg x 946 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4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60</m:t>
                    </m:r>
                    <m:r>
                      <m:rPr>
                        <m:lit/>
                        <m:nor/>
                      </m:rPr>
                      <m:t xml:space="preserve"> mmH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2781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F0833-B768-419C-9CF7-C6AE527931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-Volume Relationship: Charles’s and Gay-Lussac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’s and Gay-Lussac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volume of a fixed amount of gas (n is constant) at a constant pressure is directly proportional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solute tempera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8D878-D99D-4081-91E7-60A5D0CBF7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549360"/>
                <a:ext cx="7488360" cy="58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Charles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5661000"/>
            <a:ext cx="7488360" cy="719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E9B0B-CC37-4129-8455-E442E47753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les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1341360"/>
                <a:ext cx="2359080" cy="41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0360" y="1557360"/>
                <a:ext cx="381636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328D0-B5CC-4C51-AB0D-EED79434DA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3880" y="333360"/>
            <a:ext cx="8610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arbon monoxide gas occupies 3.20 L at 125 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.  At what temperature will the gas occupy a volume of 1.54 L if the pressure remains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781360"/>
            <a:ext cx="856908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.20 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+ 273.15 = 398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 L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arles’s Law: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=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5877000"/>
                <a:ext cx="504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L x 3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AB0D9-43D3-4F83-8380-A9CC1718D6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009a7"/>
                </a:solidFill>
                <a:uFillTx/>
                <a:latin typeface="Comic Sans MS"/>
              </a:rPr>
              <a:t>Amount-Volume relationship: Avogadro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399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gadro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constant pressure and temperature, the volume is directly proportional to the number of moles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4135320"/>
            <a:ext cx="9067680" cy="303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932280"/>
            <a:ext cx="284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641BB-D9D3-49C1-8D56-19A998832A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549360"/>
                <a:ext cx="7848720" cy="57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T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Avogadro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62593-0E37-4F24-BA94-209173EE36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11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as Law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103356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yle's Law: constant T &amp;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87280" y="2924280"/>
                <a:ext cx="6697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les's Law: constant P &amp; 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911840"/>
                <a:ext cx="6697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ogadro's Law: Constant P &amp;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70594-1CBF-446E-87A4-5B9101C06A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Gases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174-20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215-217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5.1, 5.2, 5.3, 5.8, 5.14, 5.22, 5.24, 5.32, 5.36, 5.38, 5.40, 5.44, 5.48, 5.50, 5.94, 5.52, 5.54, 5.64, 5.66, 5.68, &amp; 5.70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8BAAE-1B48-4A2D-8C63-8F381BF86F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4920" y="5934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l 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92240"/>
            <a:ext cx="72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le’s Law: (at constant T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’s Law: (at constant P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gadro's Law: (at constant P &amp;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he three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29440" y="981000"/>
                <a:ext cx="863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2720" y="1779480"/>
                <a:ext cx="115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48360" y="2349360"/>
                <a:ext cx="1008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65800" y="2852640"/>
                <a:ext cx="11509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3640" y="3789360"/>
                <a:ext cx="6264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consta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as 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35280" y="5661000"/>
                <a:ext cx="36734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14FE9-5A8B-4B21-B3E1-051A61691F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TP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andard pressure and temperatur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temperature 0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73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pressure 1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CT: One mole of any gas at the STP condition will occupy a volume equals 22.41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16529-D083-4A98-B256-81A70DDFCE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3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pressure (in atm) exerted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by 1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moles of the sulphur hexaflouride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steel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volume 5.43 L at 69.5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 = 1.82 mol; V = 5.43 L; T =69.5 + 273.15 = 342.65 K ; R = 0.0821 L.atm/mol.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 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349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03280" y="4581360"/>
                <a:ext cx="626436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 x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B3BC2-4E55-48BF-AC74-5F2EA659FE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989000"/>
            <a:ext cx="882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1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5280" y="4483080"/>
                <a:ext cx="496872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2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at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73F6B-2716-496B-A54A-17B4057150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989000"/>
            <a:ext cx="88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2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 of N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STP occupy 22.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24000" y="4005360"/>
                <a:ext cx="3600360" cy="27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STP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1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5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 mo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5C612-30A6-4621-9BB9-573DDDAFFF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mbined Ga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 gas equation is useful if we have only one condition, i.e. only one P , one V, one T, and one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 knowing three of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ther cases: if we have two conditions, i.e.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and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ed ideal gas equation (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combined gas law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405E2-A244-4683-8E89-0DB8EEDC47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constant, at tw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52720" y="479520"/>
                <a:ext cx="4390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2852640"/>
                <a:ext cx="460872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348000" y="4292640"/>
            <a:ext cx="2519280" cy="1368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86BE8-010D-4406-ADE9-FC9C0EB57A9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9280" y="2852640"/>
                <a:ext cx="26640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59280" y="907920"/>
            <a:ext cx="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9079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57336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630864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onstant  n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503280"/>
                <a:ext cx="259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132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stant  n &amp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onstant  P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29240" y="2975040"/>
                <a:ext cx="35575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64160" y="5621400"/>
                <a:ext cx="3525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08472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45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7440" y="501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Avogadro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5EB94-9BEB-4A0A-B252-C7240FF9869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177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7 p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 small bubble rises from the bottom of a l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here the temperature and pressure are 8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4 atm. Calculate the final volume (in mL)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bubble if its initial volume was 2.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892760"/>
                <a:ext cx="2665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95280" y="2781360"/>
            <a:ext cx="87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8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81K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6.4 atm;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.1 m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1 atm;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5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73K;  Assume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in mL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27640" y="4430880"/>
                <a:ext cx="450036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mLx 298 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81 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270828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8886D-ECD6-45C2-837A-EE26D51DF34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Density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Density of the G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1280" y="2349360"/>
                <a:ext cx="344484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1680" y="1700280"/>
                <a:ext cx="238140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x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∵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48360" y="5661000"/>
            <a:ext cx="194472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76EE0-8B1F-4DA6-A6E6-98994E188F1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hapter 5 </a:t>
            </a: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ase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5.2 Pressure of a 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5.3 The Ga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9a7"/>
                </a:solidFill>
                <a:latin typeface="Comic Sans MS"/>
              </a:rPr>
              <a:t>5.5 Gas Stoichiome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816BE-7D25-49A6-8055-BEB40AF57E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8 p1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density of C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in g/L at 0.99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55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27664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P = 0.990 atm; T = 5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28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d (in g/L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206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8360" y="4278240"/>
                <a:ext cx="78818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 g/mo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28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 g/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BDEDE-E0F8-45DE-95EF-388BAE1D2B9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Molar Mass of a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substances → Unknown Molecular formula → Unknown Molar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ar Mass of gas!</a:t>
            </a:r>
            <a:r>
              <a:rPr b="1" lang="ar-SA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ecular formu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4360" y="4222800"/>
                <a:ext cx="720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643280" y="4221000"/>
            <a:ext cx="3241800" cy="165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66C34-2242-4D2B-AD18-CCB96593D44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9 p1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A chemist has synthesised a green-yellow gaseous compound of chlorine and oxygen and finds that its density is 7.71 g/L at 36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2.88 atm. Calculate the molar mass of the compound and determine its molecular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92280"/>
            <a:ext cx="828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 = 7.71 g/L; T = 36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 309K; P = 2.88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49228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581360"/>
            <a:ext cx="450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Comic Sans MS"/>
              </a:rPr>
              <a:t>الوزن المولاري = الوزن الجزيئي  ؟ الصيغه الجزيئي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816EE-51F8-4FC3-883F-205CA34F254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6920" y="1700280"/>
                <a:ext cx="78487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84360" y="62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&amp; T &amp;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27640" y="404640"/>
                <a:ext cx="2411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5640" y="3359160"/>
            <a:ext cx="7705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= 7.71 g/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7.71 g &amp; V = 1.0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&amp; V &amp;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; n &amp;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5084640"/>
                <a:ext cx="67690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g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80241-09D9-48D6-86ED-8AC0133DB45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7280" y="476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termination of the molecular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ar Mass (MM = 67.9 g/mo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For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il and error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he molecule contain Chlorine &amp;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 (Cl) = 35.45 g/mol; MM (O) = 16.00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) = 51.45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2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) = 86.90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2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7.45 g/mol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4E623-8A3F-4704-9792-D3D2CCBA159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0 p19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Comic Sans MS"/>
              </a:rPr>
              <a:t>3</a:t>
            </a: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hemical analysis of a gaseous compound showed th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ntained 33.0 percent Si and 67.0 percent F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t 35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, 0.210 L of the compound exerted a pressu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1.70 atm. If the mass of 0.210 L of the compound was 2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g, calculate the molar mass and determine the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formula of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828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3.0 % Si &amp; 67.0%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08 K; V = 0.210 L; P=1.70 atm; m = 2.3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429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29D58-2639-4AFE-BED3-6E8A7DD94EA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620720"/>
          <a:ext cx="8785440" cy="3463920"/>
        </p:xfrm>
        <a:graphic>
          <a:graphicData uri="http://schemas.openxmlformats.org/drawingml/2006/table">
            <a:tbl>
              <a:tblPr/>
              <a:tblGrid>
                <a:gridCol w="3816360"/>
                <a:gridCol w="237672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/28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 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/ 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15601-F259-4135-86DB-E83A133899E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3280" y="981000"/>
                <a:ext cx="8675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0 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1 at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/m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 x 308 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4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50920" y="22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3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:        n= m/M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 = 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deal gas equation →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9640" y="2997360"/>
                <a:ext cx="7920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g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1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 g/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B2069-0CB7-49AD-9A47-BE78BCE3036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765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M of the empirical formula 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5.0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916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=  MM/ MM of the empirical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2565360"/>
                <a:ext cx="820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the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emperical formul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 g/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g/ mol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8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olecular formula is (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94BEC-BF35-4BCB-98F4-123591F650D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498680"/>
            <a:ext cx="87138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. No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of the compound (compound = Molecular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2C689-CDF7-4669-9604-07932A98614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that exist as gases at 2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and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atm (blue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ble gases are monoatomic, e.g. He, Ne, 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ther gases are diatomic, e.g.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05_01"/>
          <p:cNvPicPr/>
          <p:nvPr/>
        </p:nvPicPr>
        <p:blipFill>
          <a:blip r:embed="rId1"/>
          <a:srcRect l="0" t="3772" r="0" b="0"/>
          <a:stretch/>
        </p:blipFill>
        <p:spPr>
          <a:xfrm>
            <a:off x="900000" y="2060640"/>
            <a:ext cx="705672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A761B-CC9A-4E1E-9DA9-5B4A1C8454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981000"/>
            <a:ext cx="89647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.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P, T, V, &amp; m) of the compound (compound =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(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, T, V)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n = PV/RT; n  &amp; m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MM = m/n of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R MM = mRT/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59F75-D4AE-4252-94D4-0C795141BBE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5 Gas Stoichi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ichiometry: is the quantitative study of reactants and products in a chemic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دراسه كميه (عدد مولات, كتله, او حجم) للمتفاعلات والنواتج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3, relationship between n &amp; m of reactants and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chapter 5 (GASES), relationship between n &amp; V of reactants and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041BC-76C2-47AA-9B8F-8120CE5D0E3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1 p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volume of 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(in L) requi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complete combustion of 7.64 L of C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easured at the same temperatu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19280" y="3068640"/>
                <a:ext cx="7524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8360" y="4149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103E6-93EE-47B0-9AC7-E05EA19F545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77920"/>
            <a:ext cx="82072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T &amp; 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is n &amp; V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ogadro's law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2 mole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 mol of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2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5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   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7.64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?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26920" y="5624640"/>
                <a:ext cx="698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 of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Lx 5 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39640" y="507960"/>
            <a:ext cx="838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ملاحظه هامه: اذا متى نستطيع ان نساوي المولات باللتر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ذا كانت المواد في السؤال غازيه  و عند نفس درجة الحراره والضغط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حتى يتحقق قانون افوجادرو وهوان الحجم يتناسب طرديا مع عدد المولات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11280" y="2075040"/>
                <a:ext cx="5346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EEA8B-5559-47A3-BF6E-A653636A078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476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2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9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volume of 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generated at 80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823 mmHg by the decomposition of 60.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Na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47640" y="2509920"/>
                <a:ext cx="626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68360" y="3429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4686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 = 80 + 273 = 353 K; P = 832 mmHg; m (Na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0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Step 1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gram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n = m/MM) → moles of 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mol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Step 2: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[n + T + P] (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V 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(using the 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CB8FA-7825-4B93-86AC-8E7BD25A434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68360" y="433440"/>
                <a:ext cx="8136000" cy="638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r>
                          <m:rPr>
                            <m:lit/>
                            <m:nor/>
                          </m:rPr>
                          <m:t xml:space="preserve">  mol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e ratio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2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53 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76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04000" y="5877000"/>
                <a:ext cx="2266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760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?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832 mmHg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 x 1 at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B8A61-7194-4AAD-8496-8222DDA7A28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140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e gas ONE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ture of g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one gas each gas has a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Dalton’s law of partial pressur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total pressure of a mixture of gases is just the sum of the pressures that each gas would exert it were presen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501012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+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4640" y="525312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Partial Pressure of gas 1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578952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F6C24-82C7-42F5-AA87-5A7505CF3D5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a56011_0514"/>
          <p:cNvPicPr/>
          <p:nvPr/>
        </p:nvPicPr>
        <p:blipFill>
          <a:blip r:embed="rId1"/>
          <a:srcRect l="0" t="6173" r="0" b="6173"/>
          <a:stretch/>
        </p:blipFill>
        <p:spPr>
          <a:xfrm>
            <a:off x="936720" y="1201680"/>
            <a:ext cx="7596000" cy="3595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60360" y="4797360"/>
            <a:ext cx="77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67E4F-3F98-4608-A5F4-109DC7C0EA5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24000" y="361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have two gas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container of volume V and at temperatur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ha56011_0514"/>
          <p:cNvPicPr/>
          <p:nvPr/>
        </p:nvPicPr>
        <p:blipFill>
          <a:blip r:embed="rId1"/>
          <a:srcRect l="78340" t="6173" r="0" b="6173"/>
          <a:stretch/>
        </p:blipFill>
        <p:spPr>
          <a:xfrm>
            <a:off x="6281640" y="1484280"/>
            <a:ext cx="2394000" cy="5229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35280" y="1557360"/>
                <a:ext cx="329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29C86-5FC8-4FBE-A05A-09141D478B1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8360" y="469800"/>
                <a:ext cx="691200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885080" y="763560"/>
            <a:ext cx="1224000" cy="936720"/>
          </a:xfrm>
          <a:prstGeom prst="wedgeRectCallout">
            <a:avLst>
              <a:gd name="adj1" fmla="val -107458"/>
              <a:gd name="adj2" fmla="val -26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60640"/>
            <a:ext cx="1368360" cy="936720"/>
          </a:xfrm>
          <a:prstGeom prst="wedgeRectCallout">
            <a:avLst>
              <a:gd name="adj1" fmla="val -82944"/>
              <a:gd name="adj2" fmla="val -2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826240"/>
            <a:ext cx="88200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le fraction (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كسر المولارى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a dimensionless quantity that expresses the ratio of the number of moles of one component to the number of moles of all component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620640"/>
            <a:ext cx="2592360" cy="1224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989000"/>
            <a:ext cx="2592360" cy="1152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437000"/>
            <a:ext cx="2016000" cy="72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5229360"/>
            <a:ext cx="2016000" cy="57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EB5E6-706B-4990-AEAC-5A5CF157A56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9" descr="05_01"/>
          <p:cNvPicPr/>
          <p:nvPr/>
        </p:nvPicPr>
        <p:blipFill>
          <a:blip r:embed="rId1"/>
          <a:srcRect l="0" t="2816" r="0" b="0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DEB74-4F3C-43FA-8E1A-18F06AB76B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669960"/>
                <a:ext cx="442296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88000" y="1519200"/>
                <a:ext cx="424800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13C66-D2DC-41A5-86F4-9325AEDA009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4 p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 mixture of gasses contains 4.46 moles of 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0.74 mole of Ar, and 2.15 moles of X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partial pressures of the gases if th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pressure is 2.00 atm at a certain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2997360"/>
            <a:ext cx="8569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4.46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0.74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5 mol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           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t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X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ar-SA" sz="36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E740B-2046-49C1-B623-5B453F978D2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09520" y="620640"/>
                <a:ext cx="87264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0920" y="2349360"/>
                <a:ext cx="86421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7960" y="4149720"/>
                <a:ext cx="86979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6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E44F2-FC25-4B64-B119-22BE1F73550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lton’s law of partial pressures can be used to calculate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 of a gas collected ove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collecting the gas in a graduated cylinder, we can measure the amount of ga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thod is applicabl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that does not react with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s that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oluble in water, e.g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not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oluble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CDCF0-D1AA-4A8E-86A5-C3CF6A09863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98640" y="5877000"/>
            <a:ext cx="3971880" cy="440640"/>
            <a:chOff x="2798640" y="5877000"/>
            <a:chExt cx="3971880" cy="440640"/>
          </a:xfrm>
        </p:grpSpPr>
        <p:sp>
          <p:nvSpPr>
            <p:cNvPr id="327" name=""/>
            <p:cNvSpPr/>
            <p:nvPr/>
          </p:nvSpPr>
          <p:spPr>
            <a:xfrm>
              <a:off x="2798640" y="5877000"/>
              <a:ext cx="397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KCl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          2KCl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+ 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1320" y="60739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733200" y="6334200"/>
            <a:ext cx="2016720" cy="552600"/>
            <a:chOff x="3733200" y="6334200"/>
            <a:chExt cx="2016720" cy="552600"/>
          </a:xfrm>
        </p:grpSpPr>
        <p:sp>
          <p:nvSpPr>
            <p:cNvPr id="330" name=""/>
            <p:cNvSpPr/>
            <p:nvPr/>
          </p:nvSpPr>
          <p:spPr>
            <a:xfrm>
              <a:off x="3733200" y="6334200"/>
              <a:ext cx="20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O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H 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716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448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28200" cy="485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39920" y="40464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ecting a Ga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2C44A-D6EF-45FA-BBD3-B211394D5C5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as collected is referred to as “wet”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رط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 since it also contains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lying Dalton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95640" y="3429000"/>
            <a:ext cx="360036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3600" spc="-1" strike="noStrike" baseline="-25000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P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48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H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31AA2-B175-445B-8533-F74A010D0D3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21114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643BD-D6E3-4DB9-884E-127F5C2DA19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284640"/>
            <a:ext cx="8569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= 128 mL = 0.128 L; T = 24 + 273 = 297 K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62 mmHg;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H2O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2.4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m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5 p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xygen gas generated by the decomposition of potassium chlorate is collected. The volume of oxygen collected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atmospheric pressure of 762 mmHg is 128 ml. Calculate the mass (in g) of oxygen gas obtained. The pressure of the water vapour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is 22.4 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516640"/>
            <a:ext cx="4390920" cy="1008000"/>
          </a:xfrm>
          <a:prstGeom prst="wedgeRectCallout">
            <a:avLst>
              <a:gd name="adj1" fmla="val -39407"/>
              <a:gd name="adj2" fmla="val -111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Gas collect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5A6B2-40A2-422B-91F4-68F09BECD25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68360" y="549360"/>
                <a:ext cx="6767640" cy="61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rPr>
                            <m:lit/>
                            <m:nor/>
                          </m:rPr>
                          <m:t xml:space="preserve"> mmHg-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 mmH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deal Gas Equ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 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x 297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g/mol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4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B1DAD-8ED2-4A58-A584-6EA9DBA34D6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9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5201E-B44C-412E-9D9F-AC256C375E4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ssume the volume and shape of their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re the most compressible state of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will mix evenly and completely when confined to the sam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have much lower densities than liquids and sol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hysical Characteristics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7B08C-DB01-453A-B7AE-FF85121229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2 Pressure of the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554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is in constant mo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exert a pressure on the wall of th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Pascal (Pa) is the 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SI unit of pressu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ther units for pressure are: atmosphere (atm), millimetre of mercury (mmHg), Torr (torr)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535040"/>
            <a:ext cx="331164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37FCE-BFA8-4D1A-AC9B-DF3DE18AA8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3 The Gas Laws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gas has a </a:t>
            </a: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pressure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Volume 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emperature 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amount (number of moles)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tudy the relationship betwe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wo facto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remaining two factors must kept constant (unchang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Pressure- Volume Relationship: 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emperature-Volume Relationship: Charles’s and Gay-Lussac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009a7"/>
                </a:solidFill>
                <a:latin typeface="Comic Sans MS"/>
              </a:rPr>
              <a:t>Amount-Volume relationship: 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ombined Ga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Density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olar Mass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957C4-9581-45DB-B9E0-0A02A98EEF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essure- Volume Relationship: Boyle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532320"/>
            <a:ext cx="8915400" cy="371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55736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le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essure of a fixed amount of gas (n is constant) at a constant temperature is inversely proportional to the volume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9FE96-A5B2-4584-9D62-3580137B17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16T15:28:29Z</dcterms:modified>
  <cp:revision>662</cp:revision>
  <dc:subject/>
  <dc:title>General Chemistry CHEM 110</dc:title>
</cp:coreProperties>
</file>