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12D8-1F56-468F-85F3-913AB5AA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D1FC-F425-4E62-A0B6-A17116A3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A2081-5B76-4C88-90D3-5A0EF813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AA591-190B-436B-9228-E9EDFC16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00F5-AC17-46CC-B54F-C67E2078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D3D0-68A7-4AB6-A936-EF88C7C8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F2D8-B3AF-4B41-8E37-92E3BDAC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4A9B-8CC3-4862-9E35-9B2ED7B3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8E97-656B-4CAD-BAA5-2ECE2EC8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B2F5-E6E6-4266-8EA8-E0A73EE5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4235-B29D-45EF-89AE-C492B7D6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8B2E-2585-4B2B-AC5F-663001A4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A0C2-0A71-49E9-9870-8D4F7CA2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0935-CC9F-4AC0-BF16-E17752DF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ED91-87CE-4252-B8FA-77E206BC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95C8-D513-46A3-895A-958F7F6A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BD21-D9F9-4A67-8ADB-3416AEDA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EE4C-FF23-4A62-9FBA-A5457A99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C929-FFA0-443B-93B5-B19E0675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97A2-2D0A-4FB0-B25E-9BBF8377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4AD9-D800-47A6-B065-26775428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BC7E4-DB0A-4C9E-B286-A6080ADE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4CD19-EDCB-4D57-BFAF-6F14CB5A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3A04-29DE-4F74-8360-216B5766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4F0B-37D9-4908-BE55-19669F4882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8926-A5CD-4B0B-857D-466741E97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A85F-6DE4-4BB5-8908-8CAD4D42A6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2860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H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0   1   2   3  4  5   6    7  8  9  10  11  12  13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&gt; [OH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  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&gt;[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4920" y="263700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530600" y="2637000"/>
            <a:ext cx="4267440" cy="1371600"/>
          </a:xfrm>
          <a:prstGeom prst="rightArrow">
            <a:avLst>
              <a:gd name="adj1" fmla="val 50000"/>
              <a:gd name="adj2" fmla="val 89709"/>
            </a:avLst>
          </a:prstGeom>
          <a:solidFill>
            <a:srgbClr val="00b0f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62560" y="51814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= pOH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14160" y="51814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pH &gt;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402920" y="51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H &l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/>
          <p:nvPr/>
        </p:nvCxnSpPr>
        <p:spPr>
          <a:xfrm flipH="1" flipV="1">
            <a:off x="1710720" y="3855240"/>
            <a:ext cx="19818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4987800" y="3855600"/>
            <a:ext cx="1905840" cy="2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Rectangle 18"/>
          <p:cNvSpPr/>
          <p:nvPr/>
        </p:nvSpPr>
        <p:spPr>
          <a:xfrm>
            <a:off x="1375560" y="3932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crease the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5028480" y="3932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mic Sans MS"/>
              </a:rPr>
              <a:t>Increase the b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1265400"/>
            <a:ext cx="684216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 is inversely proportional to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0613C-1D50-445C-922D-21A1004157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3640" y="40644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3 p6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3.2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=1.0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is the pH in the two occa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2888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S: pH is inversely proportional to 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2508120"/>
                <a:ext cx="8209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A1B7-A630-4692-8E19-5A66B6F24B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3640" y="33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4 p6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pH = 4.82 , What is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of th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9404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9640" y="2565360"/>
                <a:ext cx="5761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348000" y="5229360"/>
            <a:ext cx="54705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In the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Press SHEFT + log button + (-ve ) value (= 4.82) + equa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F2009-A547-4A17-994D-CBA96EFADD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333000"/>
            <a:ext cx="84391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5 p66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2.9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What is the pH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aOH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565360"/>
                <a:ext cx="748836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5280" y="199404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4653000"/>
                <a:ext cx="60120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7093080" y="6021360"/>
            <a:ext cx="187164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H = 10.46 &gt; 7 BASIC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8A9D-24E7-488E-976A-7E54F52798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1368360"/>
                <a:ext cx="856908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idic Solution 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ic Solutio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        X         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76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CD347-7001-4C1F-BCBA-B3E68DBC6B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24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4C86-2D47-41FC-ABA4-BEB6FEDD9F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51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661-666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702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5.9, 15.13, 15.16, 15.18, 15.20, 15.22, 15.24, 15.2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6B79-21F6-41A0-87FB-D108558FD2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5 Acids and Bases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id-Base Properties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3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-A Measure of Ac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4337-8C8E-43C8-AB45-8DB0ED5C5F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1"/>
          <p:cNvSpPr/>
          <p:nvPr/>
        </p:nvSpPr>
        <p:spPr>
          <a:xfrm>
            <a:off x="457200" y="98100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gen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Cl (aq) → 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+ Cl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xide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NaOH (aq) → Na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+ 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id neutralize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(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9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Acids and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AB82-9AE9-4CDB-B55E-4C97C525A5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r is unique solvent , it can act as acid o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Autoionization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quilibrium expression for this pro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Ion-product con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for 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t 25 °C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= 1.0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2 The Acid-Base Propert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4560" y="2095560"/>
                <a:ext cx="8245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3860640"/>
                <a:ext cx="3865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0072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ydron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4365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Comic Sans MS"/>
              </a:rPr>
              <a:t>ثابت الحاصل الايوني ل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335560"/>
                <a:ext cx="3945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B00FD-1752-4BBD-9116-F3186FF593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33520" y="981000"/>
            <a:ext cx="83818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pure water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In acidic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basic solution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3357720"/>
                <a:ext cx="6624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Ion Product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1690560"/>
                <a:ext cx="806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003640" y="443700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03640" y="551664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l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C668-DECD-413F-A328-155D500445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88520"/>
            <a:ext cx="9144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2 p66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ate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ions in ammonia ,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0.0025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44640"/>
            <a:ext cx="896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  4 x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12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; 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2.5 x 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&lt;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the solution is 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5280" y="2492280"/>
                <a:ext cx="784872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BFC1-30DA-4B1E-A678-0FD637F5A6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of a solu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egative logarithm of the hydrogen io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1916280"/>
                <a:ext cx="61912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3716280"/>
                <a:ext cx="33829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8120" y="5686560"/>
                <a:ext cx="48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66BA2-A191-43B1-A61F-79BFC840C0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42920" y="1700280"/>
                <a:ext cx="6513480" cy="29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3383-2ECC-4DA2-B026-DBC20071C7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17T15:54:26Z</dcterms:modified>
  <cp:revision>1482</cp:revision>
  <dc:subject/>
  <dc:title>General Chemistry CHEM 110</dc:title>
</cp:coreProperties>
</file>