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175D9-D0D2-45D3-93D8-24E9DE73C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871E8-76E7-42A5-8501-8EDFA0AF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D5107-7CE1-40A4-912A-F08437147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B642E-B05D-4226-9114-27824B283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86F8-C41D-4B4C-950A-ED8210F35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65ED-3DB0-4275-B3E4-43B21B46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A767-287D-4D44-B77F-D1C67895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73EC-CA4D-4782-8D27-2761D9B7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B69A-CB86-48C8-B827-1DCC13BC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636A-F146-412F-86DC-24BD3140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942C-4FE2-4E88-9856-AFDFD84E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29B9E-77A5-46F8-B180-40AC9A3E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D7D7-51FE-4A7F-BE90-6D66D1B3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3F3D-E000-4A83-A9C6-E69F5A42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64F8-B22E-415B-913F-3C8CB1AA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DBB6-A715-4D4A-BE12-2CC964DFC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8836-7C2F-4EBC-9601-F760051EA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72CA9-2E72-40CD-82BF-DD6B2E9C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4D4BC-3E24-47CC-B28B-BEFBCCB3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A3857-C739-4009-9C4B-60ADDC94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C4554-0CA3-4B8C-B178-330058C3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9BD46-E5D3-49E6-8CE9-49DCC12F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6ADF6-5774-427B-8C78-5FB6B35B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F9EC1-BF81-4966-AC8E-B94C0974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1704-5BCB-4967-A866-40BB29E20342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8A07-3898-417A-8B87-8A6048D32B61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CBD0-3CAF-49CB-A3ED-B5910598CBE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476280"/>
            <a:ext cx="8280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ransition Elements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elements with electron configuration of incompletely filled d subshells or readily give rise to cations that have incompletely filled d subsh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Elements in Groups 1B-to-7B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268360" y="3789360"/>
            <a:ext cx="4500720" cy="2935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71640" y="4724280"/>
            <a:ext cx="2521080" cy="100980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9E96E-CB6C-46AD-879C-BD911838CC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The stability of Filled d orbital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4797360"/>
            <a:ext cx="590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Comic Sans MS"/>
              </a:rPr>
              <a:t>هناك استثناءات, نتيجة الاستقراريه العاليه عندما يكون مدار                         نصف ممتلئ او ممتل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5175360"/>
            <a:ext cx="26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88595-ECCF-43BA-9350-E46DEA3C1F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532 L 0.33073 0.00532 E">
                                      <p:cBhvr>
                                        <p:cTn id="13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1280" y="1177920"/>
            <a:ext cx="8748720" cy="5707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84360" y="2997360"/>
            <a:ext cx="503280" cy="1944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6560" y="333360"/>
            <a:ext cx="39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04640"/>
            <a:ext cx="237636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6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EB410-C815-4EFE-99EA-AD8D3A2C4B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stability of Filled d orbita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FB374-77E3-441E-8F98-585FB31560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508 L 0.33091 0.00508 E">
                                      <p:cBhvr>
                                        <p:cTn id="168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20720" y="1554120"/>
            <a:ext cx="8172360" cy="5330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89440" y="3284640"/>
            <a:ext cx="502920" cy="1728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21440" y="3213000"/>
            <a:ext cx="502920" cy="1800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40464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528480"/>
            <a:ext cx="259272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u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7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g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u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1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52C8A-5A59-42EC-A890-21A49D19C4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5280" y="549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The electron configuration of 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47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03640" y="1268280"/>
            <a:ext cx="5651280" cy="3686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1700280"/>
            <a:ext cx="3097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64E1B-2602-49BF-90E7-598EDB3BA9C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7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8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48720" cy="544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31D39-0FB5-45D8-902F-65DB3D9DA4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18160" y="429588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82000" y="47530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paired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5280" y="5178600"/>
            <a:ext cx="1447920" cy="1064520"/>
            <a:chOff x="1295280" y="5178600"/>
            <a:chExt cx="1447920" cy="1064520"/>
          </a:xfrm>
        </p:grpSpPr>
        <p:grpSp>
          <p:nvGrpSpPr>
            <p:cNvPr id="232" name=""/>
            <p:cNvGrpSpPr/>
            <p:nvPr/>
          </p:nvGrpSpPr>
          <p:grpSpPr>
            <a:xfrm>
              <a:off x="1295280" y="5178600"/>
              <a:ext cx="1447920" cy="406440"/>
              <a:chOff x="1295280" y="5178600"/>
              <a:chExt cx="1447920" cy="406440"/>
            </a:xfrm>
          </p:grpSpPr>
          <p:sp>
            <p:nvSpPr>
              <p:cNvPr id="233" name=""/>
              <p:cNvSpPr/>
              <p:nvPr/>
            </p:nvSpPr>
            <p:spPr>
              <a:xfrm>
                <a:off x="1295280" y="5585040"/>
                <a:ext cx="38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2880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6232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135900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90512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753200" y="578340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702760" y="429264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474984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electrons 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095880" y="5173200"/>
            <a:ext cx="1447920" cy="1064880"/>
            <a:chOff x="6095880" y="5173200"/>
            <a:chExt cx="1447920" cy="1064880"/>
          </a:xfrm>
        </p:grpSpPr>
        <p:sp>
          <p:nvSpPr>
            <p:cNvPr id="242" name=""/>
            <p:cNvSpPr/>
            <p:nvPr/>
          </p:nvSpPr>
          <p:spPr>
            <a:xfrm>
              <a:off x="6095880" y="55800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2940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6292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15960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70572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3800" y="577836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23888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6264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9616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4228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95280" y="620640"/>
            <a:ext cx="4248000" cy="567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Paramagnetic substance: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s the that contain net </a:t>
            </a:r>
            <a:r>
              <a:rPr b="0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unpaired electrons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n the outermost subshell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المجال الخارجي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nd is attract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620640"/>
            <a:ext cx="4248360" cy="61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Diamagnetic substance: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is the that do not contain net unpaired electrons (</a:t>
            </a:r>
            <a:r>
              <a:rPr b="0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all electrons are paire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) in the outermost subshell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مجال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خارجي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nd is repell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23DC0-8124-4456-BD79-DF97E127D191}" type="slidenum">
              <a:t>17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476280"/>
            <a:ext cx="874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ic configur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            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144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350208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272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2908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872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5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37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3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9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6580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8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4221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58920" y="515772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Net one unpaired electron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Par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5C829-4054-46DF-97FE-F7A9D3FFD9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95280" y="476280"/>
            <a:ext cx="87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ctronic configuration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980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472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6108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5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00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76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1016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5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21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97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3284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149720"/>
            <a:ext cx="712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ll electrons are paired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Di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56000" y="2567160"/>
            <a:ext cx="57600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7164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1636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F8363-EC8B-439D-AD1B-8CFC78BD25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38F32-5A51-4731-81DD-21F8402404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-76320" y="1488960"/>
            <a:ext cx="9220320" cy="5396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68360" y="333360"/>
            <a:ext cx="820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ification of representative elements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aramagnetic (P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Diamagnetic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19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29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872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37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676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72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677440" y="112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1557360"/>
            <a:ext cx="0" cy="39592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2060640"/>
            <a:ext cx="0" cy="35290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72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77080" y="198900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1708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80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81200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20000" y="1557360"/>
            <a:ext cx="0" cy="39592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7F60F-CDCA-45E2-9565-5EA7E195A3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468360" y="102888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395280" y="115920"/>
            <a:ext cx="87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elenium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419640" y="1052640"/>
            <a:ext cx="424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40360" y="2349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1636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9272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00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76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5308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5924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53360" y="2997360"/>
            <a:ext cx="5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DBD05-FAB1-4C05-B76A-CD74F48938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395280" y="105264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95280" y="44280"/>
            <a:ext cx="8748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chromium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059280" y="1273320"/>
            <a:ext cx="612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EXCEPTION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D0064-9E17-4558-A2C6-B6E7A62E88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95280" y="53964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[He] 2s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2p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s the electron configuration of which e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08000" y="1955880"/>
            <a:ext cx="266688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rb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87640" y="1547640"/>
            <a:ext cx="5977080" cy="38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81829-E617-475B-A719-AF47C12985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762120" y="19810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468360" y="490680"/>
            <a:ext cx="867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الكترونات التكافؤ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of vanadium (V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547640"/>
            <a:ext cx="5976720" cy="3897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042920" y="543708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3d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06D45-CA9B-4C17-9900-36DB75A30C1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324000" y="1700280"/>
            <a:ext cx="30956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 of gallium G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044720"/>
            <a:ext cx="5976720" cy="3897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268360" y="5189400"/>
            <a:ext cx="680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a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alence electrons are in the highes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4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 4p</a:t>
            </a:r>
            <a:r>
              <a:rPr b="1" lang="ar-SA" sz="2400" spc="-1" strike="noStrike" baseline="30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DD519-FBBA-4CFC-9F0F-E48E13DBD8B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68000" y="2421000"/>
            <a:ext cx="5170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94911-4F8F-46EA-AF4D-226DC8A76B0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34920" y="134136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49D8F-353D-42E8-ACEA-06E2EA08A7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09840" y="476280"/>
            <a:ext cx="655488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a         (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3414600" cy="352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67280" y="4653000"/>
            <a:ext cx="493236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2697120"/>
            <a:ext cx="424800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   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0" y="476280"/>
            <a:ext cx="2665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62E73-64B2-4757-8797-E0AABA5BED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2786040" cy="287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84360" y="944640"/>
            <a:ext cx="6335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4930920"/>
            <a:ext cx="583380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9800" y="3057480"/>
            <a:ext cx="561492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04640"/>
            <a:ext cx="482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9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K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a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4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e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9F9D4-7F32-4559-9B59-B57989CC9B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333360"/>
            <a:ext cx="8280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Noble Gases: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elements with electron configuration of complete s &amp;  p sub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(He, Ne, Ar, Kr, Xe, Rn)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Group 8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476360" y="2894040"/>
            <a:ext cx="6120000" cy="3990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236000" y="3141720"/>
            <a:ext cx="360360" cy="237492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BE001-F003-4746-A471-7489095E4B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620640"/>
            <a:ext cx="8280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presentative Elements: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elements with electron configuration of incompletely filled s or p subsh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mic Sans MS"/>
              </a:rPr>
              <a:t>Elements in Groups 1A-to-7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547640" y="2873520"/>
            <a:ext cx="6048720" cy="3944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47640" y="3141720"/>
            <a:ext cx="720720" cy="23032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3500280"/>
            <a:ext cx="1656000" cy="19447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2452B-EBEF-45DF-AC18-9F8A071CA5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71620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11280" y="944640"/>
            <a:ext cx="6659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00220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840" y="404640"/>
            <a:ext cx="5041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c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V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Zn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13056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B08D3-0F29-4F0C-8DEA-7312F47297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365040"/>
            <a:ext cx="8064720" cy="4719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71640" y="4017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H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62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N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060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[A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24271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K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2560" y="2859120"/>
            <a:ext cx="6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5083200"/>
            <a:ext cx="2521080" cy="157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5056200"/>
            <a:ext cx="2448000" cy="1572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5083200"/>
            <a:ext cx="3457440" cy="157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12FD4-4645-4B29-BB3A-7ADB926CED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8:08Z</dcterms:modified>
  <cp:revision>939</cp:revision>
  <dc:subject/>
  <dc:title>General Chemistry CHEM 110</dc:title>
</cp:coreProperties>
</file>