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EB5F4-AA94-40E6-8CFE-5A6E534D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069F-6C9D-4EE0-BE77-4208D40A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BCB94-7030-4E95-882F-98FCD25A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2D26E-B828-4166-909D-9F0119F0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2882-C74E-4D5E-816E-AE8D6182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0AEC-48B6-41DF-88D8-C9C044D6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D0AF-D3AF-4C09-A361-A11B2077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B948-1B18-4E73-9C6E-A2D5891A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8944-6A85-4B77-9EAA-2C222EF6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C337-D9D7-424A-99E2-75CF7A66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AA6B-C0D7-4CF5-B878-E67349D8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6084-9582-48D4-A25C-D9DE2FEC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93D2-F3C0-435E-9F09-B26865D9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781C-AE09-4AFE-8BB6-4BC60B59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CEE6-98C0-499F-9FB4-482AB158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D09E-632B-4D28-91C4-15BF860B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B5B6-A851-4057-A089-0F437D97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C4E7-907F-401C-B433-35F8065F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6080-2C85-4654-BC1F-DD1EAA1E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0461-32ED-4073-B228-29B180BE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69E73-4544-42A1-8126-6A0701B7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AC8C2-F6CD-4CE0-B3B5-A83FF321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D629-BBE9-49C8-A251-7C37B367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2DA3-1276-4E00-B415-3AB4F243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54B5-9309-4084-B4D4-F79626DAE5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071C-A995-49BD-9BA2-AC5FEE1D2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6523-4307-46D3-B3D9-AD2FE60CE8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3999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xample 2.1 p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 the number of protons, neutrons, and electrons in each of the following spec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3357720"/>
          <a:ext cx="8820360" cy="3120840"/>
        </p:xfrm>
        <a:graphic>
          <a:graphicData uri="http://schemas.openxmlformats.org/drawingml/2006/table">
            <a:tbl>
              <a:tblPr/>
              <a:tblGrid>
                <a:gridCol w="1764000"/>
                <a:gridCol w="1620720"/>
                <a:gridCol w="1800000"/>
                <a:gridCol w="1513080"/>
                <a:gridCol w="21225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Atomic number 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mass number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–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0 – 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5280" y="4797360"/>
                <a:ext cx="1319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258920" y="197640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A801D-D642-4088-9CC7-928031B7E3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42920" y="62064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rot="5400000">
            <a:off x="2915640" y="1052280"/>
            <a:ext cx="503280" cy="2087640"/>
          </a:xfrm>
          <a:custGeom>
            <a:avLst/>
            <a:gdLst>
              <a:gd name="textAreaLeft" fmla="*/ 0 w 503280"/>
              <a:gd name="textAreaRight" fmla="*/ 181800 w 503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234648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topes of 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9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actice Exercise p5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protons, neutrons, and electrons are in the following isotope of copper: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can I get the atomic number: look at the periodic table →           then find the number of p, n &amp; e.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32000" y="5950080"/>
                <a:ext cx="1008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4D0CF-26FC-4419-9DD1-1AA0B4D6BB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404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4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080" y="1041480"/>
            <a:ext cx="867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eriodic Tab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hart in which elements having similar chemical and physical properties are group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s in the modern periodic table are arranged by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24360" y="3173400"/>
            <a:ext cx="5580000" cy="3640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3132000"/>
            <a:ext cx="1800000" cy="13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0623-7EA4-4EBA-90C6-35E369FFC3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1789200" y="2984400"/>
            <a:ext cx="2448000" cy="402840"/>
            <a:chOff x="1789200" y="2984400"/>
            <a:chExt cx="2448000" cy="402840"/>
          </a:xfrm>
        </p:grpSpPr>
        <p:sp>
          <p:nvSpPr>
            <p:cNvPr id="184" name="Text Box 4"/>
            <p:cNvSpPr/>
            <p:nvPr/>
          </p:nvSpPr>
          <p:spPr>
            <a:xfrm>
              <a:off x="2464560" y="2984400"/>
              <a:ext cx="1026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3399120" y="318744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>
              <a:off x="1789200" y="318744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6653520" y="1619280"/>
            <a:ext cx="402840" cy="2419200"/>
            <a:chOff x="6653520" y="1619280"/>
            <a:chExt cx="402840" cy="2419200"/>
          </a:xfrm>
        </p:grpSpPr>
        <p:sp>
          <p:nvSpPr>
            <p:cNvPr id="188" name="Text Box 16"/>
            <p:cNvSpPr/>
            <p:nvPr/>
          </p:nvSpPr>
          <p:spPr>
            <a:xfrm rot="5400000">
              <a:off x="6354000" y="2545920"/>
              <a:ext cx="10018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6856560" y="32004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6856560" y="1619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4"/>
          <p:cNvGrpSpPr/>
          <p:nvPr/>
        </p:nvGrpSpPr>
        <p:grpSpPr>
          <a:xfrm>
            <a:off x="57600" y="1185840"/>
            <a:ext cx="402840" cy="3171960"/>
            <a:chOff x="57600" y="1185840"/>
            <a:chExt cx="402840" cy="3171960"/>
          </a:xfrm>
        </p:grpSpPr>
        <p:sp>
          <p:nvSpPr>
            <p:cNvPr id="192" name="Text Box 21"/>
            <p:cNvSpPr/>
            <p:nvPr/>
          </p:nvSpPr>
          <p:spPr>
            <a:xfrm rot="5400000">
              <a:off x="-613800" y="2561760"/>
              <a:ext cx="1745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263880" y="35197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263880" y="1185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8669520" y="1295280"/>
            <a:ext cx="402840" cy="2928960"/>
            <a:chOff x="8669520" y="1295280"/>
            <a:chExt cx="402840" cy="2928960"/>
          </a:xfrm>
        </p:grpSpPr>
        <p:sp>
          <p:nvSpPr>
            <p:cNvPr id="196" name="Text Box 26"/>
            <p:cNvSpPr/>
            <p:nvPr/>
          </p:nvSpPr>
          <p:spPr>
            <a:xfrm rot="5400000">
              <a:off x="8087760" y="2535840"/>
              <a:ext cx="15660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8874000" y="338580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8874000" y="1295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4"/>
          <p:cNvGrpSpPr/>
          <p:nvPr/>
        </p:nvGrpSpPr>
        <p:grpSpPr>
          <a:xfrm>
            <a:off x="8160120" y="1671480"/>
            <a:ext cx="402840" cy="2671920"/>
            <a:chOff x="8160120" y="1671480"/>
            <a:chExt cx="402840" cy="2671920"/>
          </a:xfrm>
        </p:grpSpPr>
        <p:sp>
          <p:nvSpPr>
            <p:cNvPr id="200" name="Text Box 31"/>
            <p:cNvSpPr/>
            <p:nvPr/>
          </p:nvSpPr>
          <p:spPr>
            <a:xfrm rot="5400000">
              <a:off x="7711200" y="2755440"/>
              <a:ext cx="13006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2"/>
            <p:cNvSpPr/>
            <p:nvPr/>
          </p:nvSpPr>
          <p:spPr>
            <a:xfrm>
              <a:off x="8366040" y="35053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8366040" y="16714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98680" y="760320"/>
            <a:ext cx="402840" cy="3978360"/>
            <a:chOff x="598680" y="760320"/>
            <a:chExt cx="402840" cy="3978360"/>
          </a:xfrm>
        </p:grpSpPr>
        <p:sp>
          <p:nvSpPr>
            <p:cNvPr id="204" name="Text Box 36"/>
            <p:cNvSpPr/>
            <p:nvPr/>
          </p:nvSpPr>
          <p:spPr>
            <a:xfrm rot="5400000">
              <a:off x="-494640" y="2586600"/>
              <a:ext cx="25898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7"/>
            <p:cNvSpPr/>
            <p:nvPr/>
          </p:nvSpPr>
          <p:spPr>
            <a:xfrm>
              <a:off x="80316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80316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00B5-508D-4AAA-B66D-E32D6719F7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are arranged by atomic number (Z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riod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horizontal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7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oup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vertical rows, elements in the same group have similar chemical and 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8 groups, assigned as 1A-to-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so 8 groups are assigned as 1B-to-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groups are given special n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groups 1B-to-8B are called the </a:t>
            </a:r>
            <a:r>
              <a:rPr b="1" lang="en-GB" sz="2000" spc="-1" strike="noStrike">
                <a:solidFill>
                  <a:srgbClr val="9900cc"/>
                </a:solidFill>
                <a:latin typeface="Comic Sans MS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Group 1A elements (Li, Na, K, Rb, Cs and Fr) are called </a:t>
            </a:r>
            <a:r>
              <a:rPr b="1" lang="en-GB" sz="2000" spc="-1" strike="noStrike">
                <a:solidFill>
                  <a:srgbClr val="a50021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roup 2A elements (Be, Mg, Ca, Sr, Ba and Ra) are called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roup 7A elements (F, Cl, Br, I and At) are a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99ff"/>
                </a:solidFill>
                <a:latin typeface="Comic Sans MS"/>
              </a:rPr>
              <a:t>Group 8A elements (He, Ne, Ar, Kr, Xe and Rn) are called </a:t>
            </a:r>
            <a:r>
              <a:rPr b="1" lang="en-GB" sz="2000" spc="-1" strike="noStrike">
                <a:solidFill>
                  <a:srgbClr val="9999ff"/>
                </a:solidFill>
                <a:latin typeface="Comic Sans MS"/>
              </a:rPr>
              <a:t>Noble Gases or Rare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07591-AE52-4F8B-A33D-2089AE6FB3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ments in the periodic table are divided into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green colour, Most elements) is a good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n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lue colour, 17 elements) is a poor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loi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rown colour, 8 elements) has properties that are intermediate between those of metals and nonme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F6E9-E619-4D05-BA27-285A8B841B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elements is most likely to be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onductor of electricity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4bacc6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element is the 15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element in period  #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111D2-9126-4502-90BA-6D400EC4CF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24000" y="126828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olec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aggregate of two or more atoms in a definite arrangement held together by chemical forces, a molecule may contain atoms of the same element or atoms of two or mor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476360" y="3573360"/>
            <a:ext cx="6116760" cy="1796040"/>
            <a:chOff x="1476360" y="3573360"/>
            <a:chExt cx="6116760" cy="1796040"/>
          </a:xfrm>
        </p:grpSpPr>
        <p:pic>
          <p:nvPicPr>
            <p:cNvPr id="213" name="Picture 3" descr="C:\Chang Powerpoint\Figures\f002_12.jpg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476360" y="357336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1733400" y="485928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3145680" y="485928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939560" y="485928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6516000" y="4859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51A69-46DC-4530-B2C5-7196B10336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79280" y="270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Diatomic molecule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52080" y="4292640"/>
            <a:ext cx="33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Br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59280" y="27036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olyatomic molecule: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450760" y="4221000"/>
            <a:ext cx="264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, N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C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959280" y="-107136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099EE-6664-442C-8A20-9E6D751E22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 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n atom or a group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has a net positive (+ve) or negative (-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9280" y="3763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tion: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an ion with a +ve charge (lose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4520" y="61405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859280" y="375912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nion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n ion with a -ve charge ( Gain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3241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959280" y="-1548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400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30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no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5300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oly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1744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7440" y="5299200"/>
            <a:ext cx="19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 Br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S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235480"/>
            <a:ext cx="1908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ly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H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,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4880" y="61405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CF08B-FAB2-4C3E-B02A-E7E15EDAFD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921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49-6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71-7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2.10, 2.11, 2.12, 2.14, 2.16, 2.18, 2.26, 2.34, 2.36, 2.44, 2.46, 2.50, 2.57 (a,e,f,g,h,I,j,k,l,m), 2.58 (b,c,d,g,h,I,k), 2.59 (a,b,d,g,h,j), 2.60 (a,e,f,g,h,k),2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NA00119_"/>
          <p:cNvPicPr/>
          <p:nvPr/>
        </p:nvPicPr>
        <p:blipFill>
          <a:blip r:embed="rId1"/>
          <a:stretch/>
        </p:blipFill>
        <p:spPr>
          <a:xfrm>
            <a:off x="0" y="57636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NA00121_"/>
          <p:cNvPicPr/>
          <p:nvPr/>
        </p:nvPicPr>
        <p:blipFill>
          <a:blip r:embed="rId2"/>
          <a:stretch/>
        </p:blipFill>
        <p:spPr>
          <a:xfrm>
            <a:off x="7380360" y="5746680"/>
            <a:ext cx="1763640" cy="11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D227C-FEC5-489D-92A9-98B4E6A346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7"/>
          <p:cNvGrpSpPr/>
          <p:nvPr/>
        </p:nvGrpSpPr>
        <p:grpSpPr>
          <a:xfrm>
            <a:off x="974880" y="1476360"/>
            <a:ext cx="3167640" cy="1295280"/>
            <a:chOff x="974880" y="1476360"/>
            <a:chExt cx="3167640" cy="1295280"/>
          </a:xfrm>
        </p:grpSpPr>
        <p:grpSp>
          <p:nvGrpSpPr>
            <p:cNvPr id="241" name="Group 10"/>
            <p:cNvGrpSpPr/>
            <p:nvPr/>
          </p:nvGrpSpPr>
          <p:grpSpPr>
            <a:xfrm>
              <a:off x="974880" y="1476360"/>
              <a:ext cx="1295280" cy="1295280"/>
              <a:chOff x="974880" y="1476360"/>
              <a:chExt cx="1295280" cy="129528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974880" y="147636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1270440" y="1863720"/>
                <a:ext cx="88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0"/>
            <p:cNvSpPr/>
            <p:nvPr/>
          </p:nvSpPr>
          <p:spPr>
            <a:xfrm>
              <a:off x="2500200" y="17730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8"/>
          <p:cNvGrpSpPr/>
          <p:nvPr/>
        </p:nvGrpSpPr>
        <p:grpSpPr>
          <a:xfrm>
            <a:off x="5508720" y="1628640"/>
            <a:ext cx="2970360" cy="1143000"/>
            <a:chOff x="5508720" y="1628640"/>
            <a:chExt cx="2970360" cy="1143000"/>
          </a:xfrm>
        </p:grpSpPr>
        <p:grpSp>
          <p:nvGrpSpPr>
            <p:cNvPr id="246" name="Group 11"/>
            <p:cNvGrpSpPr/>
            <p:nvPr/>
          </p:nvGrpSpPr>
          <p:grpSpPr>
            <a:xfrm>
              <a:off x="5508720" y="1628640"/>
              <a:ext cx="1201320" cy="1143000"/>
              <a:chOff x="5508720" y="1628640"/>
              <a:chExt cx="1201320" cy="1143000"/>
            </a:xfrm>
          </p:grpSpPr>
          <p:sp>
            <p:nvSpPr>
              <p:cNvPr id="247" name="Oval 8"/>
              <p:cNvSpPr/>
              <p:nvPr/>
            </p:nvSpPr>
            <p:spPr>
              <a:xfrm>
                <a:off x="5508720" y="1628640"/>
                <a:ext cx="114264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9"/>
              <p:cNvSpPr/>
              <p:nvPr/>
            </p:nvSpPr>
            <p:spPr>
              <a:xfrm>
                <a:off x="5689440" y="19414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 Box 21"/>
            <p:cNvSpPr/>
            <p:nvPr/>
          </p:nvSpPr>
          <p:spPr>
            <a:xfrm>
              <a:off x="6836760" y="18414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1042920" y="4013280"/>
            <a:ext cx="3111840" cy="1143000"/>
            <a:chOff x="1042920" y="4013280"/>
            <a:chExt cx="3111840" cy="1143000"/>
          </a:xfrm>
        </p:grpSpPr>
        <p:grpSp>
          <p:nvGrpSpPr>
            <p:cNvPr id="251" name="Group 23"/>
            <p:cNvGrpSpPr/>
            <p:nvPr/>
          </p:nvGrpSpPr>
          <p:grpSpPr>
            <a:xfrm>
              <a:off x="1042920" y="4013280"/>
              <a:ext cx="1143000" cy="1143000"/>
              <a:chOff x="1042920" y="4013280"/>
              <a:chExt cx="1143000" cy="11430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1042920" y="401328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1357560" y="4324680"/>
                <a:ext cx="758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22"/>
            <p:cNvSpPr/>
            <p:nvPr/>
          </p:nvSpPr>
          <p:spPr>
            <a:xfrm>
              <a:off x="2512440" y="423396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0"/>
          <p:cNvGrpSpPr/>
          <p:nvPr/>
        </p:nvGrpSpPr>
        <p:grpSpPr>
          <a:xfrm>
            <a:off x="5348160" y="3860640"/>
            <a:ext cx="3123000" cy="1447560"/>
            <a:chOff x="5348160" y="3860640"/>
            <a:chExt cx="3123000" cy="1447560"/>
          </a:xfrm>
        </p:grpSpPr>
        <p:grpSp>
          <p:nvGrpSpPr>
            <p:cNvPr id="256" name="Group 24"/>
            <p:cNvGrpSpPr/>
            <p:nvPr/>
          </p:nvGrpSpPr>
          <p:grpSpPr>
            <a:xfrm>
              <a:off x="5348160" y="3860640"/>
              <a:ext cx="1447920" cy="1447560"/>
              <a:chOff x="5348160" y="3860640"/>
              <a:chExt cx="1447920" cy="1447560"/>
            </a:xfrm>
          </p:grpSpPr>
          <p:sp>
            <p:nvSpPr>
              <p:cNvPr id="257" name="Oval 18"/>
              <p:cNvSpPr/>
              <p:nvPr/>
            </p:nvSpPr>
            <p:spPr>
              <a:xfrm>
                <a:off x="5348160" y="386064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9"/>
              <p:cNvSpPr/>
              <p:nvPr/>
            </p:nvSpPr>
            <p:spPr>
              <a:xfrm>
                <a:off x="5787720" y="4400280"/>
                <a:ext cx="8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26"/>
            <p:cNvSpPr/>
            <p:nvPr/>
          </p:nvSpPr>
          <p:spPr>
            <a:xfrm>
              <a:off x="6828840" y="422568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56360" y="9079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9B41-3FB2-4211-A266-9754D772CF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470520"/>
            <a:ext cx="860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magnesium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, h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3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6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2 protons and 10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2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4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68360" y="3113640"/>
            <a:ext cx="7027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sulfide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 , ha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4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6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0223-82D8-454C-8A04-2BC01B4C7A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6192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020000" y="692280"/>
                <a:ext cx="1871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7148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93080" y="3789360"/>
                <a:ext cx="172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DDE71-7E50-4A17-BB83-64BA08764E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6 Chem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4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1. A molecular formula: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ws the exact number of atoms of each element in the smallest unit of a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,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3E6F-B22C-44C8-8377-CBF7111AAF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747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2. An empirical formula: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mplest whole-number ratio of the atoms in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 may the same or different from 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can we get the Empirical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v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umbers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de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divide the numbers 6, 12 and 6 by the largest common deviso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8DC00-A9E5-4D87-B460-A784A68327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5328720" y="12682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1608840" y="476280"/>
            <a:ext cx="5923800" cy="1437840"/>
            <a:chOff x="1608840" y="476280"/>
            <a:chExt cx="5923800" cy="1437840"/>
          </a:xfrm>
        </p:grpSpPr>
        <p:sp>
          <p:nvSpPr>
            <p:cNvPr id="275" name="Text Box 6"/>
            <p:cNvSpPr/>
            <p:nvPr/>
          </p:nvSpPr>
          <p:spPr>
            <a:xfrm>
              <a:off x="2302920" y="1057320"/>
              <a:ext cx="12182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H</a:t>
              </a:r>
              <a:r>
                <a:rPr b="0" lang="en-US" sz="4400" spc="-1" strike="noStrike" baseline="-25000">
                  <a:solidFill>
                    <a:srgbClr val="a50021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1608840" y="476280"/>
              <a:ext cx="299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molecula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4726080" y="476280"/>
              <a:ext cx="280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9900cc"/>
                  </a:solidFill>
                  <a:uFillTx/>
                  <a:latin typeface="Comic Sans MS"/>
                </a:rPr>
                <a:t>empiric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0"/>
          <p:cNvSpPr/>
          <p:nvPr/>
        </p:nvSpPr>
        <p:spPr>
          <a:xfrm>
            <a:off x="1991880" y="2708280"/>
            <a:ext cx="2129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5191560" y="2708280"/>
            <a:ext cx="1572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C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424600" y="3890880"/>
            <a:ext cx="803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497200" y="38908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270160" y="5043600"/>
            <a:ext cx="1391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42760" y="5043600"/>
            <a:ext cx="1206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DF43B-5B35-4668-BAAC-31D39BE117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mple 2.3 p5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rite the empirical formulas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llowing molec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cetylene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trous oxide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 →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actice Exercise: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2A4CB-3442-4E71-9A0F-8D540EA015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8000" y="475920"/>
            <a:ext cx="9036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3. Formula of Ionic Compounds: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أيونية</a:t>
            </a: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28736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Compoun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ist of a combination of cations and an a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2565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4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Cl</a:t>
            </a:r>
            <a:r>
              <a:rPr b="0" lang="en-GB" sz="48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334152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29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346716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18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E9BCC-A45D-47F1-8AA7-68DDB18C24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Chang Powerpoint\Figures\f002_13l.jpg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1822320"/>
            <a:ext cx="8128080" cy="3078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354040" y="134136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5568-670D-458E-BEE4-43EAB9C8C6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m of the charges on the cation/s and anion/s in each formula unit must equal zer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formula of the ionic compound must b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to make the formula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bscript of the cation is 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qual to the charge on the anion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script on the anion is numerically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the charge on the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6720" y="546732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DAC5-1634-4584-86C5-EFA03C9B33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 Atoms, Molecules and Ions: 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3 Atomic Number, Mass Number and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5 Molecules and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6 Chem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7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cula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434B8-9AC0-43B6-8403-50E75A896A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784960" y="1197000"/>
            <a:ext cx="34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Br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96200" y="472428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B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assium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E1012-B596-40E1-BF1A-3F01D2F4C6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2508840" y="1197000"/>
            <a:ext cx="39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GB" sz="6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1700280"/>
            <a:ext cx="280836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352320" y="4724280"/>
            <a:ext cx="3120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844640"/>
            <a:ext cx="2303640" cy="7444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nc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3EA9E-EBB0-4E58-AB70-B64D307189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535480" y="1197000"/>
            <a:ext cx="39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349800" y="4724280"/>
            <a:ext cx="312516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ar-SA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0DAE-4C76-471A-A89A-8EE520CD19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2144520" y="1197000"/>
            <a:ext cx="47311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1773360"/>
            <a:ext cx="417672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384640" y="4724280"/>
            <a:ext cx="50652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(S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9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0" lang="en-GB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060640"/>
            <a:ext cx="3240000" cy="79200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ium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24720" y="2637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04716-41ED-4B0B-B2D0-BE220BEA85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55836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mple 2.4 p5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rite the formula of magnesium ni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ntaining the 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3-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83720" y="35719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73320" y="3932280"/>
            <a:ext cx="1871640" cy="1584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3635280" y="4220640"/>
            <a:ext cx="433080" cy="1008000"/>
          </a:xfrm>
          <a:prstGeom prst="downArrow">
            <a:avLst>
              <a:gd name="adj1" fmla="val 50000"/>
              <a:gd name="adj2" fmla="val 581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37080" y="4221000"/>
            <a:ext cx="2200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GB" sz="54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GB" sz="5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15880" y="4005360"/>
            <a:ext cx="1441800" cy="9586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558972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2DCA8-D95D-49F6-B77A-F8E6EFDBFA2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7 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nomenclatur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naming the 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63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139280" y="547920"/>
            <a:ext cx="649080" cy="6121440"/>
          </a:xfrm>
          <a:custGeom>
            <a:avLst/>
            <a:gdLst>
              <a:gd name="textAreaLeft" fmla="*/ 0 w 649080"/>
              <a:gd name="textAreaRight" fmla="*/ 234360 w 649080"/>
              <a:gd name="textAreaTop" fmla="*/ 159480 h 6121440"/>
              <a:gd name="textAreaBottom" fmla="*/ 5961960 h 612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07664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Organic Compound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contain carbon in combination with elements such as hydrogen,  oxygen, nitrogen and 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08720" y="407664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Inorganic Compound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ll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950080"/>
            <a:ext cx="88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lso Inorganic compounds: CO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mpounds containing 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&amp; H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3AC0-C82D-4E7B-AAB4-0A0EEA3A9AE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319F-8B42-45B9-B61B-D82C794438F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A19E8-E75F-441A-B3BD-AF5E1393A8D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388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320" y="472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reactive </a:t>
            </a:r>
            <a:r>
              <a:rPr b="1" lang="en-US" sz="2800" spc="-1" strike="noStrike">
                <a:solidFill>
                  <a:srgbClr val="00cc66"/>
                </a:solidFill>
                <a:latin typeface="Comic Sans MS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green) and the most reactive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non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blue) combine to form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4680" y="52848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2C1DE-07C5-4459-A30B-A58385DACD2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24000" y="47304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 form an ionic compound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and B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ae2ca"/>
                </a:solidFill>
                <a:latin typeface="Comic Sans MS"/>
              </a:rPr>
              <a:t>O and 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and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284640"/>
            <a:ext cx="85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form a molecular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 and Br            (b) </a:t>
            </a:r>
            <a:r>
              <a:rPr b="0" lang="en-GB" sz="2400" spc="-1" strike="noStrike">
                <a:solidFill>
                  <a:srgbClr val="aae2ca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 and O             (d) Zn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g and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D522-5276-4641-9DE5-1780D5E878C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toms, Molecules and Ions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31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basic unit of an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 enter into chemical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Electron (e) (-ve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oton (p) (+ve char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omic Sans MS"/>
              </a:rPr>
              <a:t>Neutron (n) (neut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429000"/>
            <a:ext cx="503280" cy="1655640"/>
          </a:xfrm>
          <a:custGeom>
            <a:avLst/>
            <a:gdLst>
              <a:gd name="textAreaLeft" fmla="*/ 0 w 503280"/>
              <a:gd name="textAreaRight" fmla="*/ 181800 w 503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38019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atomic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CE3AA-DDD0-4A5F-A4B8-26F2878567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915280" y="908280"/>
            <a:ext cx="1152360" cy="5904000"/>
          </a:xfrm>
          <a:custGeom>
            <a:avLst/>
            <a:gdLst>
              <a:gd name="textAreaLeft" fmla="*/ 0 w 1152360"/>
              <a:gd name="textAreaRight" fmla="*/ 416160 w 1152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45036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etal Cation: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443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Nonmetal Anion: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A6EE3-0693-40B9-9EAF-3C31B322C37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8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Metal Cation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960000" y="-1648440"/>
            <a:ext cx="1008000" cy="7274160"/>
          </a:xfrm>
          <a:custGeom>
            <a:avLst/>
            <a:gdLst>
              <a:gd name="textAreaLeft" fmla="*/ 0 w 1008000"/>
              <a:gd name="textAreaRight" fmla="*/ 363960 w 1008000"/>
              <a:gd name="textAreaTop" fmla="*/ 189360 h 7274160"/>
              <a:gd name="textAreaBottom" fmla="*/ 7084800 h 727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708280"/>
            <a:ext cx="4390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56536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other metal cations e.g.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5746680"/>
            <a:ext cx="7705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ame of metal cation: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mon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74F3-D3FD-4014-B34A-AAF3A64B1A9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15238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9228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only type of 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236700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1567-9BCD-40AD-AD83-92DC1FDDB78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79280" y="1773360"/>
          <a:ext cx="8712360" cy="2735280"/>
        </p:xfrm>
        <a:graphic>
          <a:graphicData uri="http://schemas.openxmlformats.org/drawingml/2006/table">
            <a:tbl>
              <a:tblPr/>
              <a:tblGrid>
                <a:gridCol w="2521080"/>
                <a:gridCol w="619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 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Sodium ion (or sodium cation</a:t>
                      </a:r>
                      <a:r>
                        <a:rPr b="0" lang="ar-SA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 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potassium ion (or potas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 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magnesium ion (or magne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 Alumi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aluminium ion (or alumin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6F6A-2860-4FC2-A1A1-C1358E48E83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50920" y="620640"/>
            <a:ext cx="8497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. Iron can form two cation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&amp;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Comic Sans MS"/>
              </a:rPr>
              <a:t>Stock System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specify the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of the cation  with Roman num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e.g. 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451640" y="3357720"/>
          <a:ext cx="1657440" cy="3095640"/>
        </p:xfrm>
        <a:graphic>
          <a:graphicData uri="http://schemas.openxmlformats.org/drawingml/2006/table">
            <a:tbl>
              <a:tblPr/>
              <a:tblGrid>
                <a:gridCol w="748800"/>
                <a:gridCol w="90864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7233840" y="2997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Roman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0B519-8DF1-40EF-8C44-2EA8D029195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836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Nonmetal Anion: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031280" y="-639000"/>
            <a:ext cx="1079640" cy="547200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708280"/>
            <a:ext cx="45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Chlorine →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Bromine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Oxygen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0080" y="2708280"/>
            <a:ext cx="387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ly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H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N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229360"/>
            <a:ext cx="87487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33"/>
                </a:solidFill>
                <a:uFillTx/>
                <a:latin typeface="Comic Sans MS"/>
              </a:rPr>
              <a:t>Common names for some anions: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Carbonate    P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Phosphate  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H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Bicarbonate       N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Nitrate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C1072-5744-482B-8579-AE2524FDCA4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02_02"/>
          <p:cNvPicPr/>
          <p:nvPr/>
        </p:nvPicPr>
        <p:blipFill>
          <a:blip r:embed="rId1"/>
          <a:srcRect l="0" t="5392" r="0" b="0"/>
          <a:stretch/>
        </p:blipFill>
        <p:spPr>
          <a:xfrm>
            <a:off x="360360" y="1905120"/>
            <a:ext cx="8388360" cy="2965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3964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69E2B-09B9-48EC-94C5-8111A0EE650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02_03"/>
          <p:cNvPicPr/>
          <p:nvPr/>
        </p:nvPicPr>
        <p:blipFill>
          <a:blip r:embed="rId1"/>
          <a:srcRect l="0" t="2224" r="0" b="2126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F280-6D07-4B5A-8015-7EC2693BDED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5 p6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a) Cu(N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pper cation (can form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s of c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ck system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pper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ion 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3789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2F7D-7ACC-405D-B602-0C60BD3E31C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b) KH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K form only one type of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tass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te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ot potassium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Potasium dihydro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3A49-F9D5-4ECC-805B-3858CF0B9F5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02_01"/>
          <p:cNvPicPr/>
          <p:nvPr/>
        </p:nvPicPr>
        <p:blipFill>
          <a:blip r:embed="rId1"/>
          <a:srcRect l="0" t="5427" r="0" b="0"/>
          <a:stretch/>
        </p:blipFill>
        <p:spPr>
          <a:xfrm>
            <a:off x="287280" y="765000"/>
            <a:ext cx="8748720" cy="293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24000" y="4365720"/>
            <a:ext cx="82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ss p = mass n = 1840 x mass e</a:t>
            </a:r>
            <a:r>
              <a:rPr b="0" lang="en-US" sz="32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FA912-D377-41D4-8E9F-BDDEDB45B4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c) N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l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common name amm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mmon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8178-D60A-4988-BB0C-C27E3A89E8D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6 p6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Mercury (I) nit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 number (I) shows that mercury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1 charg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ite is a common name of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Hg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NO</a:t>
            </a:r>
            <a:r>
              <a:rPr b="0" lang="ar-SA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F897E-5696-4CB3-A04D-944A1F7B0C3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9280" y="907920"/>
            <a:ext cx="874872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Mercury (Hg) is the only metal has this formula when it form cation with only one positive charg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Hg</a:t>
            </a:r>
            <a:r>
              <a:rPr b="0" lang="en-US" sz="36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2+</a:t>
            </a: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 NOT Hg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cation of two positive charges has the formula H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2804-993C-4869-91AF-6F36B53F2D9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Cesium sulp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sium Cs is in group 1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lphide 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18105-987C-48A2-9661-FF86BB31DE1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(b) Calcium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ium Ca is in 2A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ate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8A964-C1F5-4A5C-ACD9-028CD3319EF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4248000" y="-1143000"/>
            <a:ext cx="792000" cy="5472360"/>
          </a:xfrm>
          <a:custGeom>
            <a:avLst/>
            <a:gdLst>
              <a:gd name="textAreaLeft" fmla="*/ 0 w 792000"/>
              <a:gd name="textAreaRight" fmla="*/ 285840 w 79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191628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191628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B6CC0-1C6F-4B8F-9DEE-2B13FB5CC7C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41360" y="606600"/>
            <a:ext cx="8523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9630-FD10-48BA-B3F2-556CAE1D322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549360"/>
            <a:ext cx="8280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Place the name of the first element in the formula first, and the second element is named by adding –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63640" y="4054320"/>
          <a:ext cx="5832720" cy="2830680"/>
        </p:xfrm>
        <a:graphic>
          <a:graphicData uri="http://schemas.openxmlformats.org/drawingml/2006/table">
            <a:tbl>
              <a:tblPr/>
              <a:tblGrid>
                <a:gridCol w="1871640"/>
                <a:gridCol w="3961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chlo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bro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licone carb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7BE1F-FCC0-48E6-BFAE-C6AF5051C7A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8360" y="709560"/>
            <a:ext cx="7848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 the following cases: (one pair of elements form several different compou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CO           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N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D0AAE-EA80-4D09-A273-9F0472088C0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415800"/>
            <a:ext cx="6480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lso by placing the name of the first element in the formula first, and the second element is named by a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–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+ By using of Greek prefixes to denote the number of atoms of each elemen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02_04"/>
          <p:cNvPicPr/>
          <p:nvPr/>
        </p:nvPicPr>
        <p:blipFill>
          <a:blip r:embed="rId1"/>
          <a:srcRect l="5021" t="2087" r="4800" b="2087"/>
          <a:stretch/>
        </p:blipFill>
        <p:spPr>
          <a:xfrm>
            <a:off x="6877080" y="476280"/>
            <a:ext cx="219384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4C10-4CDE-414E-BE07-8E38BA45FEC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85800" y="380880"/>
            <a:ext cx="79246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neutral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914400"/>
          <a:ext cx="6172200" cy="121932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914400" y="223524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C. II and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D. I and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2781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egatively charged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3578400"/>
          <a:ext cx="6172200" cy="121896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7"/>
          <p:cNvSpPr/>
          <p:nvPr/>
        </p:nvSpPr>
        <p:spPr>
          <a:xfrm>
            <a:off x="990720" y="486396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II and 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D. I and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Atoms with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same number of electrons and number of protons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are call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ons                                           B. iso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neutral atoms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. different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533A4-2553-490E-97D6-3E8809BC82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549360"/>
            <a:ext cx="2087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26920" y="1805040"/>
          <a:ext cx="6193080" cy="4719600"/>
        </p:xfrm>
        <a:graphic>
          <a:graphicData uri="http://schemas.openxmlformats.org/drawingml/2006/table">
            <a:tbl>
              <a:tblPr/>
              <a:tblGrid>
                <a:gridCol w="1810080"/>
                <a:gridCol w="4383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onocarbon mono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→ </a:t>
                      </a: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arbon mon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9999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ulphur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lphur tr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O</a:t>
                      </a:r>
                      <a:r>
                        <a:rPr b="1" lang="en-US" sz="2800" spc="-1" strike="noStrike" baseline="-25000">
                          <a:solidFill>
                            <a:srgbClr val="666633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itroge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initrogen tet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484360" y="1844640"/>
            <a:ext cx="1150920" cy="432000"/>
          </a:xfrm>
          <a:prstGeom prst="wedgeRectCallout">
            <a:avLst>
              <a:gd name="adj1" fmla="val 4620"/>
              <a:gd name="adj2" fmla="val -120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765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te: Omitted if its in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99120" y="1916280"/>
            <a:ext cx="203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momo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5508720"/>
            <a:ext cx="2520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aoxide </a:t>
            </a: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21F3C-EECE-4F0A-BFD4-523743803DA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7 p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molecular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SiCl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silicon atom &amp; four chlorine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Monosilicon tetrachloride (or 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ilicon 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hlorid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3B09-F7A6-4E6C-B3B8-27D6EFF2299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P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r phosphourus atoms &amp; te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phosphourus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068640"/>
            <a:ext cx="203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9ABC-BDF4-44F1-8A26-6D7D12B8DB3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433440"/>
            <a:ext cx="822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xample 2.8 p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molecular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a) carbon di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one carbon atom &amp; two sulph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b) Disilicon hexa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two silicon atoms &amp; six 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r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34C5-810A-410F-AA91-0B002485477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981000"/>
            <a:ext cx="914580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. Ion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Cation          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2. Non-metal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Take the name of th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Common metal NH</a:t>
            </a:r>
            <a:r>
              <a:rPr b="0" lang="en-US" sz="2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one type of cation (1A, 2A, Ag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, Zn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more than one type of cation (e.g..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&amp;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tock System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Roman numeral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(1 = I, 2 = II, 3 = III, 4 = IV, 5 =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888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Naming Compound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7E3EF-C680-427A-9B58-58CE46C279C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79280" y="981000"/>
            <a:ext cx="89647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Non-metal Anion                             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1. Metal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ake the name of the element but change the last of the name to -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1. Common names, ClO</a:t>
            </a:r>
            <a:r>
              <a:rPr b="0" lang="en-GB" sz="20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monoatomic non-metals, e.g. chlorine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3. Polyatoic non-metals, OH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yd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7DAB6-5EFE-45E7-93BE-ADAF825FDD0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79280" y="981000"/>
            <a:ext cx="8964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airs form one type of compound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2. Pairs form several type   of compounds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-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HCl Hydrogen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0720" y="3141720"/>
            <a:ext cx="46432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–ide, &amp; use the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reek prefixes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(mono- = 1, di- = 2 …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CO carbon mon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A5391-1457-444B-BC09-A299A309006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611280" y="54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NH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N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ammonium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um nitrogen tr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a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611280" y="378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PCl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phosphate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sphorus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lor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   monophosphate tetr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phosphorus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7CA6-7FE7-4BD0-9E56-E2D0F73276E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4762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37944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التكافؤ او عدد الاكسد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للعناصر الشهي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383000"/>
            <a:ext cx="8964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1A (alkaline Metals):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2A (alkaline Earth Metals): 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3A: 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5A: -3 (= 5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6A: -2 (=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7A (halogens): -1 (= 7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C904-669D-4F44-8523-57B0CBFC89A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1280" y="115920"/>
            <a:ext cx="8893440" cy="657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979640" y="260280"/>
            <a:ext cx="367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8341-698E-4AC3-AA26-EF5401700A1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706400"/>
            <a:ext cx="8991720" cy="51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omic number: is the number of protons in the nucleus of each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ic number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 neutral atom: Number of protons =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ass number: is the total number of neutrons and protons present in the nucleus of an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ss number (A) = number of protons + number of neut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  atomic number (Z)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s: the number of neutrons = A -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040" y="4046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3 Atomic number, Mass number and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7F10E-FA36-42C8-9CFD-40F0172315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4920" y="423720"/>
            <a:ext cx="4968720" cy="69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9900cc"/>
                </a:solidFill>
                <a:uFillTx/>
                <a:latin typeface="Comic Sans MS"/>
              </a:rPr>
              <a:t>Problems: 2.57 &amp; 2.58 p7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me these compou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P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B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L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24000" y="371520"/>
            <a:ext cx="748836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sodium 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hydrogen phosph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hydrogen bro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lithium carb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di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ammonium nit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tri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penta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tetraphosphourus hex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9A87D-AD4C-4151-B55E-E47A358C06F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-531720"/>
            <a:ext cx="468144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d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rS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l(OH)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Cl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56000" y="-544680"/>
            <a:ext cx="644364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cadm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tront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alumin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odium carbon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I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52081-BCE0-4A5A-94E3-FFD02C4FED4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000" y="549360"/>
            <a:ext cx="6335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Problem 2.59 &amp; 2.30 p7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Write the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Rubidium nit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agnes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lcium 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di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odine heptaflou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6360" y="2421000"/>
            <a:ext cx="298764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bN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H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H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F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65566-9575-4D44-998B-C50454A0C7F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549360"/>
            <a:ext cx="867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mmon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ilver per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boron tr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I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V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37080" y="1197000"/>
            <a:ext cx="29876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N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gCl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Cl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(CN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(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37E7C-6F6E-409D-A965-BBF57FB0E53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360" y="2205000"/>
            <a:ext cx="488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FCF9-A2F5-4C56-9632-77761CB1D2D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88560" y="1430280"/>
            <a:ext cx="728280" cy="816840"/>
            <a:chOff x="3688560" y="1430280"/>
            <a:chExt cx="728280" cy="816840"/>
          </a:xfrm>
        </p:grpSpPr>
        <p:sp>
          <p:nvSpPr>
            <p:cNvPr id="129" name=""/>
            <p:cNvSpPr/>
            <p:nvPr/>
          </p:nvSpPr>
          <p:spPr>
            <a:xfrm>
              <a:off x="3967920" y="1503360"/>
              <a:ext cx="44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8560" y="1430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28520" y="178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56240" y="2529000"/>
            <a:ext cx="4671360" cy="751680"/>
            <a:chOff x="1956240" y="2529000"/>
            <a:chExt cx="4671360" cy="751680"/>
          </a:xfrm>
        </p:grpSpPr>
        <p:grpSp>
          <p:nvGrpSpPr>
            <p:cNvPr id="133" name=""/>
            <p:cNvGrpSpPr/>
            <p:nvPr/>
          </p:nvGrpSpPr>
          <p:grpSpPr>
            <a:xfrm>
              <a:off x="1956240" y="2529000"/>
              <a:ext cx="718560" cy="751680"/>
              <a:chOff x="1956240" y="2529000"/>
              <a:chExt cx="718560" cy="7516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55680" y="2603520"/>
                <a:ext cx="51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5624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624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99400" y="2529000"/>
              <a:ext cx="1481400" cy="751680"/>
              <a:chOff x="3299400" y="2529000"/>
              <a:chExt cx="1481400" cy="75168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4840" y="2602080"/>
                <a:ext cx="124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238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94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94800" y="2529000"/>
              <a:ext cx="1432800" cy="751680"/>
              <a:chOff x="5194800" y="2529000"/>
              <a:chExt cx="1432800" cy="7516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60840" y="2602080"/>
                <a:ext cx="116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192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8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434320" y="3564000"/>
            <a:ext cx="3139200" cy="751680"/>
            <a:chOff x="2434320" y="3564000"/>
            <a:chExt cx="3139200" cy="751680"/>
          </a:xfrm>
        </p:grpSpPr>
        <p:grpSp>
          <p:nvGrpSpPr>
            <p:cNvPr id="146" name=""/>
            <p:cNvGrpSpPr/>
            <p:nvPr/>
          </p:nvGrpSpPr>
          <p:grpSpPr>
            <a:xfrm>
              <a:off x="2434320" y="3564000"/>
              <a:ext cx="1104120" cy="751680"/>
              <a:chOff x="2434320" y="3564000"/>
              <a:chExt cx="1104120" cy="751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2400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432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9344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9400" y="3564000"/>
              <a:ext cx="1104120" cy="751680"/>
              <a:chOff x="4469400" y="3564000"/>
              <a:chExt cx="1104120" cy="751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05908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940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2852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67360" y="1413000"/>
            <a:ext cx="2241000" cy="398880"/>
            <a:chOff x="1467360" y="1413000"/>
            <a:chExt cx="2241000" cy="398880"/>
          </a:xfrm>
        </p:grpSpPr>
        <p:sp>
          <p:nvSpPr>
            <p:cNvPr id="155" name=""/>
            <p:cNvSpPr/>
            <p:nvPr/>
          </p:nvSpPr>
          <p:spPr>
            <a:xfrm>
              <a:off x="1467360" y="14130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4840" y="1622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21200" y="1809720"/>
            <a:ext cx="2386800" cy="398880"/>
            <a:chOff x="1321200" y="1809720"/>
            <a:chExt cx="2386800" cy="398880"/>
          </a:xfrm>
        </p:grpSpPr>
        <p:sp>
          <p:nvSpPr>
            <p:cNvPr id="158" name=""/>
            <p:cNvSpPr/>
            <p:nvPr/>
          </p:nvSpPr>
          <p:spPr>
            <a:xfrm>
              <a:off x="1321200" y="1809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Atomic Numb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4840" y="20206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06400" y="1639800"/>
            <a:ext cx="2596680" cy="398880"/>
            <a:chOff x="4406400" y="1639800"/>
            <a:chExt cx="2596680" cy="398880"/>
          </a:xfrm>
        </p:grpSpPr>
        <p:sp>
          <p:nvSpPr>
            <p:cNvPr id="161" name=""/>
            <p:cNvSpPr/>
            <p:nvPr/>
          </p:nvSpPr>
          <p:spPr>
            <a:xfrm>
              <a:off x="4893120" y="1639800"/>
              <a:ext cx="21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06400" y="183672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AC0F1-E415-4795-8DD3-FF7AC5C8BA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92280"/>
            <a:ext cx="83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top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atoms of the same element (X) with different numbers of neutrons in their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43280" y="2276640"/>
            <a:ext cx="7200720" cy="32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6000" y="32749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Isotopes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5229360"/>
            <a:ext cx="63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1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0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4E253-994E-49CF-9E30-A48A85F667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8:57Z</dcterms:modified>
  <cp:revision>206</cp:revision>
  <dc:subject/>
  <dc:title>General Chemistry CHEM 110</dc:title>
</cp:coreProperties>
</file>