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968EC-8289-48F1-8407-0111C8ED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135E-DBB8-4713-9215-DA160120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26985-536C-4A26-9AE8-A2AF3248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798B0-4114-48D9-AF7F-0C867087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78AB-EA50-4FF9-B4AA-1C13D35B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6AC7-3226-437B-AEED-C03BA09C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3745-5C4D-4A13-B338-3A341ABA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47C9-60E9-4CA0-97D8-920EDF65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018B-B115-4C8F-BB76-08F3939F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3DAF-C7D2-401E-95D1-ABAC9F2D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1258-BFBA-488E-8952-FCB9528F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5B77-1981-4E09-A1B6-6BCFE68B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4918-9A51-452A-81FE-1BAE99A1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9564-EDDB-4954-B8A0-B57E2933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9EB1-7553-43EA-BE21-67C4ABAD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FCE5-55D2-4804-8B37-62DEEA76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5723-CBE5-4CBF-9137-B210B39E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CDFD-9498-4709-82FC-6A284095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A2768-35D3-43F3-974C-B46A9797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44C94-7DEA-4A72-850F-3D853292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5E54-A33C-4018-AC0D-0815450C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CC770-371E-4F2A-88C3-2B5CC2BD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6A261-ADFA-4AEE-9378-E6FF5990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DCB87-3E8D-4F22-A192-55E63F4F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CCF4-D3DD-4B63-BCB6-6566AF9239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F637-F8F9-4035-8B04-19EFA371D1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Mass Relationships in Chemical Rea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45B9-829B-4BE4-940F-C7760E7D9E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-252360" y="692280"/>
          <a:ext cx="8892720" cy="3415680"/>
        </p:xfrm>
        <a:graphic>
          <a:graphicData uri="http://schemas.openxmlformats.org/drawingml/2006/table">
            <a:tbl>
              <a:tblPr/>
              <a:tblGrid>
                <a:gridCol w="493920"/>
                <a:gridCol w="450720"/>
                <a:gridCol w="7948080"/>
              </a:tblGrid>
              <a:tr h="8539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What information would you need to calculate the average atomic mass of an elemen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 The number of neutrons in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 The atomic number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The mass and abundance of each isotope of the elem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 The position in the periodic table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38C79-38A3-483F-BE88-B0977C0C5F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theoretical yield of Ti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Masses of two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ing reagen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s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calculate the moles of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s the less number of mo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imiting reag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grams of product (theoretical yield of the 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82920" y="1484280"/>
            <a:ext cx="597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ي بمعنى اخر: احسبي وزنه التيتانيوم الناتجه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A9C3B-FE07-4166-9341-66C20B5CF8D5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68360" y="620640"/>
            <a:ext cx="8351640" cy="51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9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(Ti) =1.8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93640" y="1268280"/>
                <a:ext cx="752472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91EE9-6699-4D6C-AF64-B3CCCE4728D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68360" y="620640"/>
            <a:ext cx="8351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64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82760" y="1197000"/>
                <a:ext cx="7748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1374840" y="4508640"/>
                <a:ext cx="581652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2A6A-E683-4A57-AA74-04EB2D81246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539640" y="476280"/>
            <a:ext cx="8064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(Ti) is the less number of moles (limiting reagent) = 1.87 x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T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ams of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mass of Ti = theoretical yield of T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m =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1042920" y="3933720"/>
                <a:ext cx="723276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x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08CE4-8211-4563-BBB0-125AFF34C97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68360" y="457200"/>
            <a:ext cx="828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066680" y="1773360"/>
                <a:ext cx="691056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yield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tual yie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heoretical yield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468360" y="558972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.W. Solve the practice exercise p1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3BB00-9D8B-4672-9EDD-7D5365487C6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556000" y="2205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Chapter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87682-DE15-494F-8557-650149F64BCC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476280"/>
            <a:ext cx="8497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2009a7"/>
                </a:solidFill>
                <a:uFillTx/>
                <a:latin typeface="Comic Sans MS"/>
              </a:rPr>
              <a:t>Example 3.1 p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tomic masses of the Copper isotop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re 62.93 amu &amp; 64.9278 amu, respectively. Calculate the average atomic mass of cop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692360" y="1916280"/>
                <a:ext cx="54705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8856A-F91F-4657-9E75-C8445A3C4A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333360"/>
            <a:ext cx="889308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centag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9.09% = 69.09/100 = 0.6909; 30.91% = 30.91/100 = 0.30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AM will be closer to the mass of the isotope with the largest natural abu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THUS: Average atomic mass of cop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= (0.6909 x 62.93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3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+ (0.3091 x 64.9278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5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= 63.55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0000" y="646740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mic Sans MS"/>
              </a:rPr>
              <a:t>H.W. Solve the Practice Exercise p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25082-2B6A-4D95-8040-E03D3518CA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-108000" y="441360"/>
          <a:ext cx="8381880" cy="2555640"/>
        </p:xfrm>
        <a:graphic>
          <a:graphicData uri="http://schemas.openxmlformats.org/drawingml/2006/table">
            <a:tbl>
              <a:tblPr/>
              <a:tblGrid>
                <a:gridCol w="644400"/>
                <a:gridCol w="538200"/>
                <a:gridCol w="7199280"/>
              </a:tblGrid>
              <a:tr h="11480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odine has two isotopes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 and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7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,  with the equal abund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Calculate the average atomic mass of Iodine (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53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126.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5.4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26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1.92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C1A31-5DC8-461C-9516-26CE48CFCC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8000" y="549360"/>
            <a:ext cx="8893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33"/>
                </a:solidFill>
                <a:uFillTx/>
                <a:latin typeface="Comic Sans MS"/>
              </a:rPr>
              <a:t>NOTE: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 Atomic Mass of an isotop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= Average Atomic Ma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6EFA2-F5FB-48E9-8809-79B880F820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2 Avogadro’s Number and the Molar 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(mol) is the SI unit of the amount of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vogadro’s Number (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ne mole of each substance contains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articl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c.)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6.022 x 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 Avogadro's Number (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ticles (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68B0D-9C9A-4678-BD79-4732606FB1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340000" y="620640"/>
            <a:ext cx="3816000" cy="3384360"/>
            <a:chOff x="2340000" y="620640"/>
            <a:chExt cx="3816000" cy="33843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340000" y="1389960"/>
              <a:ext cx="3816000" cy="26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38240" y="62064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ozen = 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187280" y="4005360"/>
            <a:ext cx="64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dozen = 12 An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mol = 6.022 x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69A45-4762-4548-A622-C180559D5F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4CFB8-07EF-4128-99D5-E430B14741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26" descr="03_01"/>
          <p:cNvPicPr/>
          <p:nvPr/>
        </p:nvPicPr>
        <p:blipFill>
          <a:blip r:embed="rId1"/>
          <a:srcRect l="0" t="11559" r="0" b="12764"/>
          <a:stretch/>
        </p:blipFill>
        <p:spPr>
          <a:xfrm>
            <a:off x="-108000" y="981000"/>
            <a:ext cx="9396360" cy="5332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7640" y="119700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940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61440" y="36511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I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88360" y="12747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Sulp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29EE1-86DC-4613-8EB9-8A54CF7CA3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47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ar mass (M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ss (in g or kg) of one mole of a substa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 = mass/mo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ONE MOLE: 1 amu = 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atomic mass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is 12.00 amu = 12.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12.00 amu = 12.00 g = has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has 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Molar Mass (M) 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= 12.00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2060640"/>
            <a:ext cx="3959280" cy="647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5640" y="3139920"/>
            <a:ext cx="5040360" cy="576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ED094-180D-456F-8E87-45A2C3A992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Mass Relationships in Chemical Reactions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80-107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10-11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5, 3.6, 3.7, 3.8, 3.14, 3.16, 3.18, 3.20, 3.22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24, 3.26, 3.28, 3.40, 3.42, 3.44, 3.46, 3.48, 3.50, 3.52, 3.44, 3.46, 3.48, 3.50, 3.52, 3.60, 3.84, 3.86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7AA97-B2B2-4030-83BF-884979A0C7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7640" y="549000"/>
            <a:ext cx="88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Atomic Mass of an isotop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is Average Atomic M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53058-49E2-4C1C-B96C-7C463F0BF9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07280" cy="20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Molar Mass (g/m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Atomic Mass (am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93544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1. The atomic mass of Na = 22.99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The molar mass of Na = 22.9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2. The atomic mass of P = 30.9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The molar mass of P = 30.97 g/mol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FBAD5-D0C1-42A1-9B97-D8D949BA5A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2 p8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48FF5-D4B0-4EED-8528-B307BBCF75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He = The Molar mass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He = The molar mass of He = 4.003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4.003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.46 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? Moles (?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1.61 moles of He atoms in 6.46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14560" y="3990960"/>
                <a:ext cx="5905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835280" y="6346800"/>
            <a:ext cx="6373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67867-82A1-47C1-9A61-CB969F19CE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12720" y="476280"/>
            <a:ext cx="5832720" cy="30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30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24360" y="2565360"/>
                <a:ext cx="2592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512720" y="3645000"/>
            <a:ext cx="5832720" cy="30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atoms o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vogadro's number (atoms (or molecules)/m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60720" y="5786280"/>
                <a:ext cx="4537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BAD42-A177-4B74-8F38-D81B835EF7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280" y="1916280"/>
                <a:ext cx="78483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6045D-0E05-40DD-B54E-76A9F52DA8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3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CA460-EAB2-4883-8D73-D98DE4A33EE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Zn = The Molar mass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Zn = molar mass of Zn = 65.3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65.39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0.356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23.3 g of Zn atoms in 0.356 mole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4005360"/>
                <a:ext cx="6694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s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 x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g of Z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158920" y="6237360"/>
            <a:ext cx="594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8101E-28D0-4CDA-ABA0-B40FB5E3F2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42880" y="1916280"/>
                <a:ext cx="8275680" cy="22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E92D9-79ED-47D7-8851-A137AAF4FBB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620640"/>
            <a:ext cx="8497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4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How many moles in 16.3 g of S = X</a:t>
            </a: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moles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?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87D5A-5B14-49F0-80CA-DF8355A7AC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3: Mass Relationships in Chemical Reactions: Outlin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Comic Sans MS"/>
              </a:rPr>
              <a:t>3.1 Atomic Ma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omic Sans MS"/>
              </a:rPr>
              <a:t>3.2 Avogadro’s Number and Molar Mas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.3 Molecular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3.5 Percent Composition of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3.6 Experimental Determination of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9a7"/>
                </a:solidFill>
                <a:latin typeface="Comic Sans MS"/>
              </a:rPr>
              <a:t>3.9 Limiting 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3.10 Reaction Yi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2C0AA-3731-4C89-A3C7-170D5FEA61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The atomic mass of S = 32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molar mass of S = 32.07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us: 32.07 g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 mole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6.3 g of S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?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e know: 1 mol of S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            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0.508 mole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?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There is 3.06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atoms of S in 16.3 g of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653904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Comic Sans MS"/>
              </a:rPr>
              <a:t>H.W. Solve the Practice Exercise p8</a:t>
            </a:r>
            <a:r>
              <a:rPr b="1" lang="ar-SA" sz="1600" spc="-1" strike="noStrike">
                <a:solidFill>
                  <a:srgbClr val="a50021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79640" y="3429000"/>
                <a:ext cx="4176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35280" y="5229360"/>
                <a:ext cx="4176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umber of S atom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S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067C5-D4B6-4AE1-B019-90CC23E75E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11280" y="620640"/>
            <a:ext cx="849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11280" y="1628640"/>
                <a:ext cx="780732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1280" y="3429000"/>
                <a:ext cx="799308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BDECB-CD7C-41E8-A7B5-2CB27BE9524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ecu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 (molecular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sum of the atomic masses (in amu) in th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cu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(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ltiply the atomic mass of each element by the number of atoms of that element present in the molecule and sum over all the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.g. Molecular Mass of 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O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atomic mass of H) + (1x atomic mass of 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1.008 amu) + (1x 16.00 amu) = 18.02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78DAB-D800-436E-B889-671AA151AB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8708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5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molecular masses (in amu)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following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a) Sulphur dioxide (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b) Caffeine (C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3141720"/>
            <a:ext cx="88200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cular mass of S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1 x 32.07) + (2 x 16.00) = 64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Molecular mass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8 x 12.01) + (10 x 1.008)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4 x 14.01) + (2 x 16.00) =194.2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079F2-706B-4F47-91C6-F12CDDEDBF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62064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F07BD-2D6B-4C75-B9B2-CA993BBE4EB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98100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 molecu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08D01-B343-4F3F-BA9C-46E6B837244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Example 3.6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2997360"/>
            <a:ext cx="882000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(1 x 12 .01) + (4 x 1.008) = 16.04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16.04 amu = 16.04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1 mole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6.04 g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? mol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7 g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76280"/>
            <a:ext cx="8496360" cy="1081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Atomic mass (in amu) = Molar Mass (g/m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84360" y="5805360"/>
                <a:ext cx="763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BBECB-C731-4213-9734-37898654367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620640"/>
            <a:ext cx="7686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11280" y="1700280"/>
                <a:ext cx="79200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8770A-93A4-402A-A31A-56F1CABCFCB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32AF-5B68-46CC-9FEC-7FC2FAF749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68360" y="404640"/>
            <a:ext cx="8675640" cy="72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lecular mass of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(2 x 12.01) + (6 x 1.008) = 30.068 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(amu) = Molar mass (g/mol) = 30.068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0.068 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334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1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71640" y="3213000"/>
                <a:ext cx="77040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8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0920" y="5300640"/>
                <a:ext cx="86040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umber of molecules of 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ABBEF-8048-4DDD-A69D-3701EB0C8A6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3.1 Atomic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ss of an atom = mass of p + mass of n + mass of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ss of p =mass of n = 1840 mass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Mass of atom = mass of p + mass of 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(or atomic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of the atom in atomic mass unit (am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uni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that exactly equal to one-twelfth the mass of one carbon-12 (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)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6D364-25A8-43A0-85F3-80585BC1C3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55640" y="2924280"/>
                <a:ext cx="74818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55640" y="4292640"/>
                <a:ext cx="669780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116E4-04EE-48A5-98F9-465FD5437D2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3.7 p8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How many hydrogen atoms are present in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25.6 g of urea [(NH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)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]. The molar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mass of urea is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0.06 g/m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9080" y="1830240"/>
                <a:ext cx="8604000" cy="498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 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 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/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molecule 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H atom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7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?H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 of H atoms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 atomx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67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3C641-542E-426A-A9ED-6FDD3627A74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ED9B1-4D18-4B63-97B0-41C91DA600D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549360"/>
            <a:ext cx="72723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ic mass of Cu = 63.55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ar mass of Cu = 63.55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 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Cu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520" y="5013360"/>
                <a:ext cx="77914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ms of Cu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atom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g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2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to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5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B11D9-0A74-496E-831E-FEBC113BBC4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08120" y="3706920"/>
                <a:ext cx="7608960" cy="29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o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 g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60467-AF27-425E-9F2B-25355D05123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64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08520" y="289548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D771E-EEAB-4A6B-96BB-C29F9417CAE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cent Composition by Mas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percent by mass of each element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percent composition of an element in a compoun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88240" y="4589640"/>
            <a:ext cx="5722560" cy="937800"/>
            <a:chOff x="1488240" y="4589640"/>
            <a:chExt cx="5722560" cy="937800"/>
          </a:xfrm>
        </p:grpSpPr>
        <p:sp>
          <p:nvSpPr>
            <p:cNvPr id="223" name=""/>
            <p:cNvSpPr/>
            <p:nvPr/>
          </p:nvSpPr>
          <p:spPr>
            <a:xfrm>
              <a:off x="1488240" y="4589640"/>
              <a:ext cx="462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el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3000" y="5006880"/>
              <a:ext cx="446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compou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63480" y="5075280"/>
              <a:ext cx="426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9280" y="4778280"/>
              <a:ext cx="13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5734080"/>
            <a:ext cx="836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number of moles of the element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 mo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4581360"/>
            <a:ext cx="6192720" cy="936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226CA-B795-468A-9D7C-C9AB7E47114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47600" y="620640"/>
            <a:ext cx="3200400" cy="2568960"/>
            <a:chOff x="147600" y="620640"/>
            <a:chExt cx="3200400" cy="256896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147600" y="620640"/>
              <a:ext cx="3200400" cy="20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156680" y="2610000"/>
              <a:ext cx="11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061720" y="3367080"/>
            <a:ext cx="5258520" cy="828000"/>
            <a:chOff x="2061720" y="3367080"/>
            <a:chExt cx="5258520" cy="828000"/>
          </a:xfrm>
        </p:grpSpPr>
        <p:sp>
          <p:nvSpPr>
            <p:cNvPr id="233" name=""/>
            <p:cNvSpPr/>
            <p:nvPr/>
          </p:nvSpPr>
          <p:spPr>
            <a:xfrm>
              <a:off x="2061720" y="3544920"/>
              <a:ext cx="87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C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1120" y="336708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2.01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82480" y="373536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080" y="354492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52.1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95560" y="379260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069640" y="4116240"/>
            <a:ext cx="5226120" cy="828000"/>
            <a:chOff x="2069640" y="4116240"/>
            <a:chExt cx="5226120" cy="828000"/>
          </a:xfrm>
        </p:grpSpPr>
        <p:sp>
          <p:nvSpPr>
            <p:cNvPr id="239" name=""/>
            <p:cNvSpPr/>
            <p:nvPr/>
          </p:nvSpPr>
          <p:spPr>
            <a:xfrm>
              <a:off x="2069640" y="4294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H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55960" y="411624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.008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2480" y="448452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37600" y="429408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13.1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95560" y="454176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68200" y="4878360"/>
            <a:ext cx="5276520" cy="828000"/>
            <a:chOff x="2068200" y="4878360"/>
            <a:chExt cx="5276520" cy="828000"/>
          </a:xfrm>
        </p:grpSpPr>
        <p:sp>
          <p:nvSpPr>
            <p:cNvPr id="245" name=""/>
            <p:cNvSpPr/>
            <p:nvPr/>
          </p:nvSpPr>
          <p:spPr>
            <a:xfrm>
              <a:off x="2068200" y="505620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O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1120" y="487836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6.00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82480" y="524664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86560" y="505620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34.7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95560" y="530388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959480" y="57801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2.14% + 13.13% + 34.73% = 100.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7405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Check the answ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620640"/>
            <a:ext cx="565308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PERIODI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Molar mass of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 = Molecular mass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(2 x 12.01) + (6 x 1.008) + (1 x16.00) = 46.07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009a7"/>
                </a:solidFill>
                <a:latin typeface="Comic Sans MS"/>
              </a:rPr>
              <a:t>Molar mass of C = Atomic mass of C = 12.01 g 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cc"/>
                </a:solidFill>
                <a:latin typeface="Comic Sans MS"/>
              </a:rPr>
              <a:t>Molar mass of H = Atomic mass of H = 1.008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Comic Sans MS"/>
              </a:rPr>
              <a:t>Molar mass of O = Atomic mass of O = 16.00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F1123-2445-427D-9B6B-A89832240A1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8 p8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Calculate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, P, and O in H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O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2349360"/>
            <a:ext cx="842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ar mass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97.9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39640" y="3500280"/>
                <a:ext cx="4537080" cy="28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076720" y="5529240"/>
            <a:ext cx="40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 the 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08% + 31.61% + 65.31% = 100.0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5986-31E9-4B9B-B3BB-E0F2A9A0562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Content Placeholder 4"/>
          <p:cNvSpPr/>
          <p:nvPr/>
        </p:nvSpPr>
        <p:spPr>
          <a:xfrm>
            <a:off x="453960" y="620640"/>
            <a:ext cx="84391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lculate the percent of nitrogen in Ca(NO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.01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7.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-38160" y="2967120"/>
          <a:ext cx="8077320" cy="2921040"/>
        </p:xfrm>
        <a:graphic>
          <a:graphicData uri="http://schemas.openxmlformats.org/drawingml/2006/table">
            <a:tbl>
              <a:tblPr/>
              <a:tblGrid>
                <a:gridCol w="533520"/>
                <a:gridCol w="709560"/>
                <a:gridCol w="6834240"/>
              </a:tblGrid>
              <a:tr h="1463400"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7d"/>
                          </a:solidFill>
                          <a:uFillTx/>
                          <a:latin typeface="Comic Sans MS"/>
                          <a:ea typeface="Times New Roman"/>
                        </a:rPr>
                        <a:t>H.W.</a:t>
                      </a:r>
                      <a:r>
                        <a:rPr b="0" lang="en-GB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All of the substances listed below are fertilizers that contribute nitrogen to the soil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Which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 of these is the richest source of nitrogen on a mass percentage basis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?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rea, 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monium nitrate, 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uanidine, HNC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Ammonia, NH</a:t>
                      </a:r>
                      <a:r>
                        <a:rPr b="0" lang="en-US" sz="2400" spc="-1" strike="noStrike" baseline="-25000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539640" y="5877000"/>
            <a:ext cx="5977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ايا من هذه المواد هواغنى مصدر للنيتروجين على اساس احتوائه على اكبر نسبه وزنيه من النيتروجين؟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88000" y="5137200"/>
            <a:ext cx="2305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46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71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8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2BC0A-6F78-4725-875A-794165ED2D5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9999ff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9999ff"/>
                </a:solidFill>
                <a:latin typeface="Comic Sans MS"/>
              </a:rPr>
              <a:t>C is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.g. Hydrogen atom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is only 8.4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ssive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us: the atomic mass of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 = 0.084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2.0 amu= 1.008 amu and so on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26898-F84D-4B9F-912C-EAB0199065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2280" y="1557360"/>
            <a:ext cx="8686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Example: Determine the empirical formula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compound that has the following percent compositio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mass: K 24.75, Mn 34.77, O 40.51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4920" y="3141720"/>
            <a:ext cx="727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vert to grams &amp; divide by the molar mas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umber of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24.75g of 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4.77g of M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40.51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627280" y="5084640"/>
                <a:ext cx="2741760" cy="17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  <m:r>
                          <m:rPr>
                            <m:lit/>
                            <m:nor/>
                          </m:rPr>
                          <m:t xml:space="preserve"> mol of K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mol of M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AD3B5-135D-4D05-A779-05AB8F08D81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Divide by the smallest number of moles: 0.632 mo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 of th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All are integer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the compoun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n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KMnO</a:t>
            </a:r>
            <a:r>
              <a:rPr b="0" lang="en-GB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55640" y="1506600"/>
                <a:ext cx="7711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2BA21-BEEF-4396-B71C-154D4244A7C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5280" y="120600"/>
            <a:ext cx="80042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Percent Composition and Empir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mic Sans MS"/>
                <a:ea typeface="Times New Roman"/>
              </a:rPr>
              <a:t>Q: Determine the empirical formula of a compound that has the following percent composition by mass: K 24.75, Mn 34.77, O 40.51 perc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92200" y="1484280"/>
          <a:ext cx="7364520" cy="2689200"/>
        </p:xfrm>
        <a:graphic>
          <a:graphicData uri="http://schemas.openxmlformats.org/drawingml/2006/table">
            <a:tbl>
              <a:tblPr/>
              <a:tblGrid>
                <a:gridCol w="286380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/3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0.633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/54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0.6329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2.532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3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29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532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Mn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623880" y="4403880"/>
            <a:ext cx="7620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كما في المثال الساب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8000" y="6508800"/>
            <a:ext cx="374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cc"/>
                </a:solidFill>
                <a:latin typeface="Comic Sans MS"/>
              </a:rPr>
              <a:t>Courtesy of Dr. Fawzia Albel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107A0-75A3-45CD-9052-03F82A8DA81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22280" y="1557000"/>
            <a:ext cx="8686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50920" y="3141720"/>
            <a:ext cx="691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40.92g of C, 4.58g of H, &amp; 54.50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826920" y="4216320"/>
                <a:ext cx="3745080" cy="25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  <m:r>
                          <m:rPr>
                            <m:lit/>
                            <m:nor/>
                          </m:rPr>
                          <m:t xml:space="preserve"> mol of C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of H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8BD93-9AF1-4B72-AB93-722ABA84CC7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Not all numbers ar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Convert 1.33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il-and error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2 = 2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3 = 3.99 ≈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K. multiply all the numbers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3             H =4         O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ascorbic aci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971640" y="620640"/>
                <a:ext cx="7921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132C-FDB8-4AB6-BBCB-447A8CC4250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39640" y="1484280"/>
          <a:ext cx="7004160" cy="3268800"/>
        </p:xfrm>
        <a:graphic>
          <a:graphicData uri="http://schemas.openxmlformats.org/drawingml/2006/table">
            <a:tbl>
              <a:tblPr/>
              <a:tblGrid>
                <a:gridCol w="250344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/12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.407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/1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.54.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406 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7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4.54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6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Convert into integer x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99 =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1055520" y="4566240"/>
            <a:ext cx="76201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ما في المثال السابق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2280" y="333360"/>
            <a:ext cx="8686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DD8DA-FFB5-4D0B-B0CE-095E48CAD77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Molecular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11 p9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sample compound contains 1.52g of N and 3.47g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. The molar mass of this compound is between 90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 95g. Determine the molecular form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3141720"/>
            <a:ext cx="69134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Thus the empirical formula is: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84360" y="3645000"/>
                <a:ext cx="3456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rPr>
                            <m:lit/>
                            <m:nor/>
                          </m:rPr>
                          <m:t xml:space="preserve"> mol of 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4360" y="5445000"/>
                <a:ext cx="5832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                         </m:t>
                    </m:r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588000" y="3213000"/>
            <a:ext cx="2484720" cy="29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t Composition by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lecular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B0B41-9D5D-4297-AB8A-ECF0B8E9F4A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The molar mass of the empirical formula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14.01 + (2x16.00) = 46.01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 The ratio between the empirical formula and the molecular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 The molecular formula is (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1160" y="3343320"/>
                <a:ext cx="50828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 mass of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 molar 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435640" y="3284640"/>
                <a:ext cx="2952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7740720" y="32781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3F2C5-D854-4F7D-8748-4D526A27B56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Content Placeholder 4"/>
          <p:cNvSpPr/>
          <p:nvPr/>
        </p:nvSpPr>
        <p:spPr>
          <a:xfrm>
            <a:off x="468360" y="549360"/>
            <a:ext cx="82947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Which of the following is an empirical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4600" y="2971800"/>
            <a:ext cx="85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sample of acid compound contains 40.1 percent of C, 6.6 percent of H, and 53.3 percent of O. The molar mass of this compound is 60 g/mol . What is the molecular formula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24000" y="46116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92360" y="105264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يا منهم لايمكن تبسيطه اكثر مما هو عليه؟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11EBC-2FA9-4BC1-91F5-8860E7E3079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7 Chemical Reactions and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1700280"/>
            <a:ext cx="642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Reac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process in which one or more substances is changed into one or more new subst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42688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Equ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es chemical symbols to show what happens during a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93920" y="6005520"/>
            <a:ext cx="4300560" cy="520560"/>
            <a:chOff x="2293920" y="6005520"/>
            <a:chExt cx="4300560" cy="520560"/>
          </a:xfrm>
        </p:grpSpPr>
        <p:sp>
          <p:nvSpPr>
            <p:cNvPr id="318" name=""/>
            <p:cNvSpPr/>
            <p:nvPr/>
          </p:nvSpPr>
          <p:spPr>
            <a:xfrm>
              <a:off x="2293920" y="60055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4960" y="6257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27680" y="6005520"/>
              <a:ext cx="16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1"/>
          <a:srcRect l="2012" t="1995" r="0" b="0"/>
          <a:stretch/>
        </p:blipFill>
        <p:spPr>
          <a:xfrm>
            <a:off x="6823080" y="476280"/>
            <a:ext cx="214164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6F754-63D0-42D6-A0AC-A0562F0F207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1F23A-65D2-4D02-937A-A70C9CA5CC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63640" y="4548240"/>
            <a:ext cx="7885080" cy="21938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9280" y="692280"/>
            <a:ext cx="8712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ways of representing the reaction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form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8425080" cy="4968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8137800" cy="62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E11F6-2730-4E16-9151-C87F473EC4A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76360" y="404640"/>
            <a:ext cx="8567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How to “Read” Chemical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734560" y="1614600"/>
            <a:ext cx="384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g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2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513320" y="19112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-324000" y="2535120"/>
            <a:ext cx="92520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atoms Mg + 1 molecul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kes 2 formula units M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s Mg + 1 mole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2 moles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48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Mg +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32.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80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177920" y="4797360"/>
            <a:ext cx="694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grams Mg + 1 gram 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akes 2 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956720" y="443700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0021"/>
                </a:solidFill>
                <a:latin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31280" y="3603600"/>
            <a:ext cx="100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15280" y="292428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227664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42051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olar m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Comic Sans MS"/>
              </a:rPr>
              <a:t>Read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97FA4-4D11-4E4F-B1AF-8A40C05C035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3"/>
          <p:cNvSpPr/>
          <p:nvPr/>
        </p:nvSpPr>
        <p:spPr>
          <a:xfrm>
            <a:off x="212760" y="120816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Balancing Chemic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3059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نكتب </a:t>
            </a:r>
            <a:r>
              <a:rPr b="0" lang="ar-SA" sz="2800" spc="-1" strike="noStrike" u="sng">
                <a:solidFill>
                  <a:srgbClr val="9900cc"/>
                </a:solidFill>
                <a:uFillTx/>
                <a:latin typeface="Arial"/>
              </a:rPr>
              <a:t>الصيغه الصحيحه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لكل متفاعل (على الطرف الايسر) ولكل ناتج (على الطرف الايم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31CAD-97F2-4D3E-8345-D4CB95D845F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8"/>
          <p:cNvSpPr/>
          <p:nvPr/>
        </p:nvSpPr>
        <p:spPr>
          <a:xfrm>
            <a:off x="343080" y="476280"/>
            <a:ext cx="855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the numbers in front of the formulas (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o make the number of atoms of each element the same on both sides of the equation.  Do not change the subscrip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4"/>
          <p:cNvGrpSpPr/>
          <p:nvPr/>
        </p:nvGrpSpPr>
        <p:grpSpPr>
          <a:xfrm>
            <a:off x="2626200" y="2395440"/>
            <a:ext cx="3627360" cy="680400"/>
            <a:chOff x="2626200" y="2395440"/>
            <a:chExt cx="3627360" cy="680400"/>
          </a:xfrm>
        </p:grpSpPr>
        <p:sp>
          <p:nvSpPr>
            <p:cNvPr id="342" name="Text Box 9"/>
            <p:cNvSpPr/>
            <p:nvPr/>
          </p:nvSpPr>
          <p:spPr>
            <a:xfrm>
              <a:off x="2626200" y="2427120"/>
              <a:ext cx="124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2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2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2"/>
            <p:cNvSpPr/>
            <p:nvPr/>
          </p:nvSpPr>
          <p:spPr>
            <a:xfrm>
              <a:off x="3905640" y="239544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5111280" y="2427120"/>
              <a:ext cx="114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4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8360" y="321300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وزن المعادله الكيميائيه يكون بتغير  الارقام التي بجانب الصيغه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Arial"/>
              </a:rPr>
              <a:t>وليست التي تحتها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 بحيث يكون للعنصر نفس العدد على طرفي المعادله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66105-D123-4542-94E0-1E1F4724DB6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3"/>
          <p:cNvSpPr/>
          <p:nvPr/>
        </p:nvSpPr>
        <p:spPr>
          <a:xfrm>
            <a:off x="212760" y="692280"/>
            <a:ext cx="855036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 by balancing those elements that appear in only one reactant and on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1628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توزن اولا العناصر الاقل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79640" y="3363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ثم توزن العناصر الاكثر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50920" y="42210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5516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cc"/>
                </a:solidFill>
                <a:latin typeface="Arial"/>
              </a:rPr>
              <a:t>الخطوه الاخيره هي التأكد من ان لديك نفس العدد من الذرات لكل عنصر على طرفي المعاد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C87BB-F0F5-4CDC-9EAB-E0C6129A5AD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itrogen monoxide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reacts with oxygen to form nitrogen dioxide 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476360" y="4437000"/>
                <a:ext cx="54007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A0F4C-1536-4819-9387-7433592186E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4994280" y="177336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N 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4"/>
          <p:cNvGrpSpPr/>
          <p:nvPr/>
        </p:nvGrpSpPr>
        <p:grpSpPr>
          <a:xfrm>
            <a:off x="271800" y="2276280"/>
            <a:ext cx="1671120" cy="1359000"/>
            <a:chOff x="271800" y="2276280"/>
            <a:chExt cx="1671120" cy="1359000"/>
          </a:xfrm>
        </p:grpSpPr>
        <p:sp>
          <p:nvSpPr>
            <p:cNvPr id="359" name="Line 17"/>
            <p:cNvSpPr/>
            <p:nvPr/>
          </p:nvSpPr>
          <p:spPr>
            <a:xfrm flipV="1">
              <a:off x="110484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8"/>
            <p:cNvSpPr/>
            <p:nvPr/>
          </p:nvSpPr>
          <p:spPr>
            <a:xfrm>
              <a:off x="2718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5"/>
          <p:cNvGrpSpPr/>
          <p:nvPr/>
        </p:nvGrpSpPr>
        <p:grpSpPr>
          <a:xfrm>
            <a:off x="3054600" y="2276280"/>
            <a:ext cx="1671120" cy="1359000"/>
            <a:chOff x="3054600" y="2276280"/>
            <a:chExt cx="1671120" cy="1359000"/>
          </a:xfrm>
        </p:grpSpPr>
        <p:sp>
          <p:nvSpPr>
            <p:cNvPr id="362" name="Line 21"/>
            <p:cNvSpPr/>
            <p:nvPr/>
          </p:nvSpPr>
          <p:spPr>
            <a:xfrm flipV="1">
              <a:off x="388908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2"/>
            <p:cNvSpPr/>
            <p:nvPr/>
          </p:nvSpPr>
          <p:spPr>
            <a:xfrm>
              <a:off x="30546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755640" y="162864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Text Box 15"/>
          <p:cNvSpPr/>
          <p:nvPr/>
        </p:nvSpPr>
        <p:spPr>
          <a:xfrm>
            <a:off x="5485320" y="2997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10630-B067-4FA9-8EAF-C3AD0907DD0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30"/>
          <p:cNvGrpSpPr/>
          <p:nvPr/>
        </p:nvGrpSpPr>
        <p:grpSpPr>
          <a:xfrm>
            <a:off x="1260000" y="2276280"/>
            <a:ext cx="1483920" cy="1359000"/>
            <a:chOff x="1260000" y="2276280"/>
            <a:chExt cx="1483920" cy="1359000"/>
          </a:xfrm>
        </p:grpSpPr>
        <p:sp>
          <p:nvSpPr>
            <p:cNvPr id="367" name="Line 31"/>
            <p:cNvSpPr/>
            <p:nvPr/>
          </p:nvSpPr>
          <p:spPr>
            <a:xfrm flipV="1">
              <a:off x="199836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2"/>
            <p:cNvSpPr/>
            <p:nvPr/>
          </p:nvSpPr>
          <p:spPr>
            <a:xfrm>
              <a:off x="1260000" y="280980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3"/>
          <p:cNvGrpSpPr/>
          <p:nvPr/>
        </p:nvGrpSpPr>
        <p:grpSpPr>
          <a:xfrm>
            <a:off x="3490200" y="2205000"/>
            <a:ext cx="1483920" cy="1359000"/>
            <a:chOff x="3490200" y="2205000"/>
            <a:chExt cx="1483920" cy="1359000"/>
          </a:xfrm>
        </p:grpSpPr>
        <p:sp>
          <p:nvSpPr>
            <p:cNvPr id="370" name="Line 34"/>
            <p:cNvSpPr/>
            <p:nvPr/>
          </p:nvSpPr>
          <p:spPr>
            <a:xfrm flipV="1">
              <a:off x="4230360" y="22050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35"/>
            <p:cNvSpPr/>
            <p:nvPr/>
          </p:nvSpPr>
          <p:spPr>
            <a:xfrm>
              <a:off x="3490200" y="273852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36"/>
          <p:cNvSpPr/>
          <p:nvPr/>
        </p:nvSpPr>
        <p:spPr>
          <a:xfrm>
            <a:off x="5364000" y="2205000"/>
            <a:ext cx="331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NO by 2 and N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55640" y="155736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84360" y="3689280"/>
                <a:ext cx="4533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5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0"/>
          <p:cNvGrpSpPr/>
          <p:nvPr/>
        </p:nvGrpSpPr>
        <p:grpSpPr>
          <a:xfrm>
            <a:off x="75960" y="4581360"/>
            <a:ext cx="3624840" cy="1359000"/>
            <a:chOff x="75960" y="4581360"/>
            <a:chExt cx="3624840" cy="1359000"/>
          </a:xfrm>
        </p:grpSpPr>
        <p:sp>
          <p:nvSpPr>
            <p:cNvPr id="377" name="Line 31"/>
            <p:cNvSpPr/>
            <p:nvPr/>
          </p:nvSpPr>
          <p:spPr>
            <a:xfrm flipV="1">
              <a:off x="1876320" y="45813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32"/>
            <p:cNvSpPr/>
            <p:nvPr/>
          </p:nvSpPr>
          <p:spPr>
            <a:xfrm>
              <a:off x="75960" y="5114880"/>
              <a:ext cx="36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 + 2 oxygen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0"/>
          <p:cNvGrpSpPr/>
          <p:nvPr/>
        </p:nvGrpSpPr>
        <p:grpSpPr>
          <a:xfrm>
            <a:off x="3800880" y="4737240"/>
            <a:ext cx="2483640" cy="1359000"/>
            <a:chOff x="3800880" y="4737240"/>
            <a:chExt cx="2483640" cy="1359000"/>
          </a:xfrm>
        </p:grpSpPr>
        <p:sp>
          <p:nvSpPr>
            <p:cNvPr id="380" name="Line 31"/>
            <p:cNvSpPr/>
            <p:nvPr/>
          </p:nvSpPr>
          <p:spPr>
            <a:xfrm flipV="1">
              <a:off x="5033880" y="473724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2"/>
            <p:cNvSpPr/>
            <p:nvPr/>
          </p:nvSpPr>
          <p:spPr>
            <a:xfrm>
              <a:off x="3800880" y="5270760"/>
              <a:ext cx="248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x 2 = 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15"/>
          <p:cNvSpPr/>
          <p:nvPr/>
        </p:nvSpPr>
        <p:spPr>
          <a:xfrm>
            <a:off x="6442920" y="508464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BD38B-26EE-4453-8100-63A5A846E96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4"/>
          <p:cNvGrpSpPr/>
          <p:nvPr/>
        </p:nvGrpSpPr>
        <p:grpSpPr>
          <a:xfrm>
            <a:off x="408600" y="2125800"/>
            <a:ext cx="3875760" cy="511560"/>
            <a:chOff x="408600" y="2125800"/>
            <a:chExt cx="3875760" cy="511560"/>
          </a:xfrm>
        </p:grpSpPr>
        <p:sp>
          <p:nvSpPr>
            <p:cNvPr id="385" name="Text Box 35"/>
            <p:cNvSpPr/>
            <p:nvPr/>
          </p:nvSpPr>
          <p:spPr>
            <a:xfrm>
              <a:off x="408600" y="2125800"/>
              <a:ext cx="14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7"/>
            <p:cNvSpPr/>
            <p:nvPr/>
          </p:nvSpPr>
          <p:spPr>
            <a:xfrm>
              <a:off x="3281040" y="2127240"/>
              <a:ext cx="100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48"/>
          <p:cNvGrpSpPr/>
          <p:nvPr/>
        </p:nvGrpSpPr>
        <p:grpSpPr>
          <a:xfrm>
            <a:off x="5252040" y="3843360"/>
            <a:ext cx="3644640" cy="1789200"/>
            <a:chOff x="5252040" y="3843360"/>
            <a:chExt cx="3644640" cy="1789200"/>
          </a:xfrm>
        </p:grpSpPr>
        <p:sp>
          <p:nvSpPr>
            <p:cNvPr id="389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569088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2"/>
            <p:cNvSpPr/>
            <p:nvPr/>
          </p:nvSpPr>
          <p:spPr>
            <a:xfrm>
              <a:off x="551808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3"/>
            <p:cNvSpPr/>
            <p:nvPr/>
          </p:nvSpPr>
          <p:spPr>
            <a:xfrm>
              <a:off x="5486400" y="5175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789444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5"/>
            <p:cNvSpPr/>
            <p:nvPr/>
          </p:nvSpPr>
          <p:spPr>
            <a:xfrm>
              <a:off x="772164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6"/>
            <p:cNvSpPr/>
            <p:nvPr/>
          </p:nvSpPr>
          <p:spPr>
            <a:xfrm>
              <a:off x="7689960" y="5175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52"/>
          <p:cNvGrpSpPr/>
          <p:nvPr/>
        </p:nvGrpSpPr>
        <p:grpSpPr>
          <a:xfrm>
            <a:off x="383400" y="2622600"/>
            <a:ext cx="3592800" cy="459720"/>
            <a:chOff x="383400" y="2622600"/>
            <a:chExt cx="3592800" cy="459720"/>
          </a:xfrm>
        </p:grpSpPr>
        <p:sp>
          <p:nvSpPr>
            <p:cNvPr id="400" name="Text Box 50"/>
            <p:cNvSpPr/>
            <p:nvPr/>
          </p:nvSpPr>
          <p:spPr>
            <a:xfrm>
              <a:off x="383400" y="262260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51"/>
            <p:cNvSpPr/>
            <p:nvPr/>
          </p:nvSpPr>
          <p:spPr>
            <a:xfrm>
              <a:off x="3310920" y="262260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55"/>
          <p:cNvGrpSpPr/>
          <p:nvPr/>
        </p:nvGrpSpPr>
        <p:grpSpPr>
          <a:xfrm>
            <a:off x="346680" y="3098880"/>
            <a:ext cx="4675680" cy="459720"/>
            <a:chOff x="346680" y="3098880"/>
            <a:chExt cx="4675680" cy="459720"/>
          </a:xfrm>
        </p:grpSpPr>
        <p:sp>
          <p:nvSpPr>
            <p:cNvPr id="403" name="Text Box 53"/>
            <p:cNvSpPr/>
            <p:nvPr/>
          </p:nvSpPr>
          <p:spPr>
            <a:xfrm>
              <a:off x="346680" y="3098880"/>
              <a:ext cx="200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 + 2 O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4"/>
            <p:cNvSpPr/>
            <p:nvPr/>
          </p:nvSpPr>
          <p:spPr>
            <a:xfrm>
              <a:off x="3421440" y="309888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9A1EA-A140-42F1-B3ED-77BFECE0737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2257920" y="4348080"/>
            <a:ext cx="4365000" cy="581400"/>
            <a:chOff x="2257920" y="4348080"/>
            <a:chExt cx="4365000" cy="581400"/>
          </a:xfrm>
        </p:grpSpPr>
        <p:sp>
          <p:nvSpPr>
            <p:cNvPr id="408" name="Text Box 5"/>
            <p:cNvSpPr/>
            <p:nvPr/>
          </p:nvSpPr>
          <p:spPr>
            <a:xfrm>
              <a:off x="2257920" y="4348080"/>
              <a:ext cx="1686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>
              <a:off x="3867120" y="4576680"/>
              <a:ext cx="761760" cy="0"/>
            </a:xfrm>
            <a:prstGeom prst="line">
              <a:avLst/>
            </a:prstGeom>
            <a:ln w="3816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7"/>
            <p:cNvSpPr/>
            <p:nvPr/>
          </p:nvSpPr>
          <p:spPr>
            <a:xfrm>
              <a:off x="4776480" y="4349880"/>
              <a:ext cx="184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thane reacts with oxygen to form carbon dioxide and water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68D82-3FB7-44EF-A833-10524A144C2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verage Atomic Ma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mass of carbon = 12.01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2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rbon exist in more than one form (isotopes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bon is a mixture of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Atomic Mass = Average Atomic M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1128600"/>
            <a:ext cx="1944720" cy="3049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.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24360" y="1052640"/>
            <a:ext cx="2955960" cy="31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59640" y="1773360"/>
            <a:ext cx="248436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atural Abu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بيع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وف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6DB5-D195-4228-8B13-DD651916F8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"/>
          <p:cNvGrpSpPr/>
          <p:nvPr/>
        </p:nvGrpSpPr>
        <p:grpSpPr>
          <a:xfrm>
            <a:off x="486000" y="1596960"/>
            <a:ext cx="4128120" cy="511920"/>
            <a:chOff x="486000" y="1596960"/>
            <a:chExt cx="4128120" cy="511920"/>
          </a:xfrm>
        </p:grpSpPr>
        <p:sp>
          <p:nvSpPr>
            <p:cNvPr id="414" name="Text Box 6"/>
            <p:cNvSpPr/>
            <p:nvPr/>
          </p:nvSpPr>
          <p:spPr>
            <a:xfrm>
              <a:off x="486000" y="15969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"/>
            <p:cNvSpPr/>
            <p:nvPr/>
          </p:nvSpPr>
          <p:spPr>
            <a:xfrm>
              <a:off x="2106720" y="18255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8"/>
            <p:cNvSpPr/>
            <p:nvPr/>
          </p:nvSpPr>
          <p:spPr>
            <a:xfrm>
              <a:off x="3007440" y="1598760"/>
              <a:ext cx="160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5"/>
          <p:cNvSpPr/>
          <p:nvPr/>
        </p:nvSpPr>
        <p:spPr>
          <a:xfrm>
            <a:off x="4822920" y="159696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C or H but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24"/>
          <p:cNvGrpSpPr/>
          <p:nvPr/>
        </p:nvGrpSpPr>
        <p:grpSpPr>
          <a:xfrm>
            <a:off x="99360" y="2054160"/>
            <a:ext cx="1438200" cy="1359000"/>
            <a:chOff x="99360" y="2054160"/>
            <a:chExt cx="1438200" cy="1359000"/>
          </a:xfrm>
        </p:grpSpPr>
        <p:sp>
          <p:nvSpPr>
            <p:cNvPr id="419" name="Line 17"/>
            <p:cNvSpPr/>
            <p:nvPr/>
          </p:nvSpPr>
          <p:spPr>
            <a:xfrm flipV="1">
              <a:off x="817560" y="20541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8"/>
            <p:cNvSpPr/>
            <p:nvPr/>
          </p:nvSpPr>
          <p:spPr>
            <a:xfrm>
              <a:off x="99360" y="258768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5"/>
          <p:cNvGrpSpPr/>
          <p:nvPr/>
        </p:nvGrpSpPr>
        <p:grpSpPr>
          <a:xfrm>
            <a:off x="2473560" y="1977840"/>
            <a:ext cx="1438200" cy="1359000"/>
            <a:chOff x="2473560" y="1977840"/>
            <a:chExt cx="1438200" cy="1359000"/>
          </a:xfrm>
        </p:grpSpPr>
        <p:sp>
          <p:nvSpPr>
            <p:cNvPr id="422" name="Line 21"/>
            <p:cNvSpPr/>
            <p:nvPr/>
          </p:nvSpPr>
          <p:spPr>
            <a:xfrm flipV="1">
              <a:off x="3192480" y="197784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2473560" y="251136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23"/>
          <p:cNvSpPr/>
          <p:nvPr/>
        </p:nvSpPr>
        <p:spPr>
          <a:xfrm>
            <a:off x="5696280" y="2664000"/>
            <a:ext cx="26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C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6"/>
          <p:cNvGrpSpPr/>
          <p:nvPr/>
        </p:nvGrpSpPr>
        <p:grpSpPr>
          <a:xfrm>
            <a:off x="486000" y="3440160"/>
            <a:ext cx="4307760" cy="511560"/>
            <a:chOff x="486000" y="3440160"/>
            <a:chExt cx="4307760" cy="511560"/>
          </a:xfrm>
        </p:grpSpPr>
        <p:sp>
          <p:nvSpPr>
            <p:cNvPr id="426" name="Text Box 27"/>
            <p:cNvSpPr/>
            <p:nvPr/>
          </p:nvSpPr>
          <p:spPr>
            <a:xfrm>
              <a:off x="486000" y="34401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8"/>
            <p:cNvSpPr/>
            <p:nvPr/>
          </p:nvSpPr>
          <p:spPr>
            <a:xfrm>
              <a:off x="2106720" y="36684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3013560" y="3441600"/>
              <a:ext cx="178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30"/>
          <p:cNvGrpSpPr/>
          <p:nvPr/>
        </p:nvGrpSpPr>
        <p:grpSpPr>
          <a:xfrm>
            <a:off x="227880" y="3898800"/>
            <a:ext cx="1825200" cy="1359000"/>
            <a:chOff x="227880" y="3898800"/>
            <a:chExt cx="1825200" cy="1359000"/>
          </a:xfrm>
        </p:grpSpPr>
        <p:sp>
          <p:nvSpPr>
            <p:cNvPr id="430" name="Line 31"/>
            <p:cNvSpPr/>
            <p:nvPr/>
          </p:nvSpPr>
          <p:spPr>
            <a:xfrm flipV="1">
              <a:off x="11379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32"/>
            <p:cNvSpPr/>
            <p:nvPr/>
          </p:nvSpPr>
          <p:spPr>
            <a:xfrm>
              <a:off x="2278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6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33"/>
          <p:cNvGrpSpPr/>
          <p:nvPr/>
        </p:nvGrpSpPr>
        <p:grpSpPr>
          <a:xfrm>
            <a:off x="3507480" y="3898800"/>
            <a:ext cx="1825200" cy="1359000"/>
            <a:chOff x="3507480" y="3898800"/>
            <a:chExt cx="1825200" cy="1359000"/>
          </a:xfrm>
        </p:grpSpPr>
        <p:sp>
          <p:nvSpPr>
            <p:cNvPr id="433" name="Line 34"/>
            <p:cNvSpPr/>
            <p:nvPr/>
          </p:nvSpPr>
          <p:spPr>
            <a:xfrm flipV="1">
              <a:off x="44175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5"/>
            <p:cNvSpPr/>
            <p:nvPr/>
          </p:nvSpPr>
          <p:spPr>
            <a:xfrm>
              <a:off x="35074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36"/>
          <p:cNvSpPr/>
          <p:nvPr/>
        </p:nvSpPr>
        <p:spPr>
          <a:xfrm>
            <a:off x="5704200" y="4610160"/>
            <a:ext cx="266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b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486000" y="5405400"/>
            <a:ext cx="4487400" cy="511920"/>
            <a:chOff x="486000" y="5405400"/>
            <a:chExt cx="4487400" cy="511920"/>
          </a:xfrm>
        </p:grpSpPr>
        <p:sp>
          <p:nvSpPr>
            <p:cNvPr id="437" name="Text Box 38"/>
            <p:cNvSpPr/>
            <p:nvPr/>
          </p:nvSpPr>
          <p:spPr>
            <a:xfrm>
              <a:off x="486000" y="540540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2106720" y="56340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019320" y="540720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C5548-8772-4BF7-8D45-5B49269248A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0"/>
          <p:cNvGrpSpPr/>
          <p:nvPr/>
        </p:nvGrpSpPr>
        <p:grpSpPr>
          <a:xfrm>
            <a:off x="883800" y="2309760"/>
            <a:ext cx="1483920" cy="1359000"/>
            <a:chOff x="883800" y="2309760"/>
            <a:chExt cx="1483920" cy="1359000"/>
          </a:xfrm>
        </p:grpSpPr>
        <p:sp>
          <p:nvSpPr>
            <p:cNvPr id="442" name="Line 11"/>
            <p:cNvSpPr/>
            <p:nvPr/>
          </p:nvSpPr>
          <p:spPr>
            <a:xfrm flipV="1">
              <a:off x="162360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88380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3"/>
          <p:cNvGrpSpPr/>
          <p:nvPr/>
        </p:nvGrpSpPr>
        <p:grpSpPr>
          <a:xfrm>
            <a:off x="2585520" y="2309760"/>
            <a:ext cx="1483920" cy="1359000"/>
            <a:chOff x="2585520" y="2309760"/>
            <a:chExt cx="1483920" cy="1359000"/>
          </a:xfrm>
        </p:grpSpPr>
        <p:sp>
          <p:nvSpPr>
            <p:cNvPr id="445" name="Line 14"/>
            <p:cNvSpPr/>
            <p:nvPr/>
          </p:nvSpPr>
          <p:spPr>
            <a:xfrm flipV="1">
              <a:off x="332568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5"/>
            <p:cNvSpPr/>
            <p:nvPr/>
          </p:nvSpPr>
          <p:spPr>
            <a:xfrm>
              <a:off x="258552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2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17600" y="1852560"/>
            <a:ext cx="4487400" cy="511920"/>
            <a:chOff x="417600" y="1852560"/>
            <a:chExt cx="4487400" cy="511920"/>
          </a:xfrm>
        </p:grpSpPr>
        <p:sp>
          <p:nvSpPr>
            <p:cNvPr id="448" name="Text Box 29"/>
            <p:cNvSpPr/>
            <p:nvPr/>
          </p:nvSpPr>
          <p:spPr>
            <a:xfrm>
              <a:off x="417600" y="18525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30"/>
            <p:cNvSpPr/>
            <p:nvPr/>
          </p:nvSpPr>
          <p:spPr>
            <a:xfrm>
              <a:off x="2038320" y="20811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1"/>
            <p:cNvSpPr/>
            <p:nvPr/>
          </p:nvSpPr>
          <p:spPr>
            <a:xfrm>
              <a:off x="2950920" y="185436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44"/>
          <p:cNvGrpSpPr/>
          <p:nvPr/>
        </p:nvGrpSpPr>
        <p:grpSpPr>
          <a:xfrm>
            <a:off x="3882240" y="2309760"/>
            <a:ext cx="1736640" cy="1349280"/>
            <a:chOff x="3882240" y="2309760"/>
            <a:chExt cx="1736640" cy="1349280"/>
          </a:xfrm>
        </p:grpSpPr>
        <p:sp>
          <p:nvSpPr>
            <p:cNvPr id="452" name="Line 33"/>
            <p:cNvSpPr/>
            <p:nvPr/>
          </p:nvSpPr>
          <p:spPr>
            <a:xfrm flipV="1">
              <a:off x="474984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34"/>
            <p:cNvSpPr/>
            <p:nvPr/>
          </p:nvSpPr>
          <p:spPr>
            <a:xfrm>
              <a:off x="3882240" y="2833560"/>
              <a:ext cx="173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+ 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3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54"/>
          <p:cNvGrpSpPr/>
          <p:nvPr/>
        </p:nvGrpSpPr>
        <p:grpSpPr>
          <a:xfrm>
            <a:off x="5578200" y="1700280"/>
            <a:ext cx="2427120" cy="764280"/>
            <a:chOff x="5578200" y="1700280"/>
            <a:chExt cx="2427120" cy="764280"/>
          </a:xfrm>
        </p:grpSpPr>
        <p:sp>
          <p:nvSpPr>
            <p:cNvPr id="455" name="Text Box 16"/>
            <p:cNvSpPr/>
            <p:nvPr/>
          </p:nvSpPr>
          <p:spPr>
            <a:xfrm>
              <a:off x="5578200" y="1852560"/>
              <a:ext cx="242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multiply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by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2"/>
            <p:cNvGrpSpPr/>
            <p:nvPr/>
          </p:nvGrpSpPr>
          <p:grpSpPr>
            <a:xfrm>
              <a:off x="7624800" y="1700280"/>
              <a:ext cx="380520" cy="764280"/>
              <a:chOff x="7624800" y="1700280"/>
              <a:chExt cx="380520" cy="764280"/>
            </a:xfrm>
          </p:grpSpPr>
          <p:sp>
            <p:nvSpPr>
              <p:cNvPr id="457" name="Text Box 37"/>
              <p:cNvSpPr/>
              <p:nvPr/>
            </p:nvSpPr>
            <p:spPr>
              <a:xfrm>
                <a:off x="7644600" y="1700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8"/>
              <p:cNvSpPr/>
              <p:nvPr/>
            </p:nvSpPr>
            <p:spPr>
              <a:xfrm>
                <a:off x="7624800" y="2081160"/>
                <a:ext cx="380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41"/>
              <p:cNvSpPr/>
              <p:nvPr/>
            </p:nvSpPr>
            <p:spPr>
              <a:xfrm>
                <a:off x="7644600" y="200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Text Box 45"/>
          <p:cNvSpPr/>
          <p:nvPr/>
        </p:nvSpPr>
        <p:spPr>
          <a:xfrm>
            <a:off x="5447520" y="283356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= 7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55"/>
          <p:cNvGrpSpPr/>
          <p:nvPr/>
        </p:nvGrpSpPr>
        <p:grpSpPr>
          <a:xfrm>
            <a:off x="445680" y="3846600"/>
            <a:ext cx="4783320" cy="764280"/>
            <a:chOff x="445680" y="3846600"/>
            <a:chExt cx="4783320" cy="764280"/>
          </a:xfrm>
        </p:grpSpPr>
        <p:sp>
          <p:nvSpPr>
            <p:cNvPr id="462" name="Text Box 47"/>
            <p:cNvSpPr/>
            <p:nvPr/>
          </p:nvSpPr>
          <p:spPr>
            <a:xfrm>
              <a:off x="445680" y="3984480"/>
              <a:ext cx="186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    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8"/>
            <p:cNvSpPr/>
            <p:nvPr/>
          </p:nvSpPr>
          <p:spPr>
            <a:xfrm>
              <a:off x="2362320" y="421308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9"/>
            <p:cNvSpPr/>
            <p:nvPr/>
          </p:nvSpPr>
          <p:spPr>
            <a:xfrm>
              <a:off x="3274920" y="398628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50"/>
            <p:cNvGrpSpPr/>
            <p:nvPr/>
          </p:nvGrpSpPr>
          <p:grpSpPr>
            <a:xfrm>
              <a:off x="1523880" y="3846600"/>
              <a:ext cx="380880" cy="764280"/>
              <a:chOff x="1523880" y="3846600"/>
              <a:chExt cx="380880" cy="764280"/>
            </a:xfrm>
          </p:grpSpPr>
          <p:sp>
            <p:nvSpPr>
              <p:cNvPr id="466" name="Text Box 51"/>
              <p:cNvSpPr/>
              <p:nvPr/>
            </p:nvSpPr>
            <p:spPr>
              <a:xfrm>
                <a:off x="1544040" y="3846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52"/>
              <p:cNvSpPr/>
              <p:nvPr/>
            </p:nvSpPr>
            <p:spPr>
              <a:xfrm>
                <a:off x="1523880" y="422748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53"/>
              <p:cNvSpPr/>
              <p:nvPr/>
            </p:nvSpPr>
            <p:spPr>
              <a:xfrm>
                <a:off x="1544040" y="4151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56"/>
          <p:cNvSpPr/>
          <p:nvPr/>
        </p:nvSpPr>
        <p:spPr>
          <a:xfrm>
            <a:off x="5557320" y="3833640"/>
            <a:ext cx="358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remove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both sides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61"/>
          <p:cNvGrpSpPr/>
          <p:nvPr/>
        </p:nvGrpSpPr>
        <p:grpSpPr>
          <a:xfrm>
            <a:off x="429480" y="4746600"/>
            <a:ext cx="4812120" cy="511560"/>
            <a:chOff x="429480" y="4746600"/>
            <a:chExt cx="4812120" cy="511560"/>
          </a:xfrm>
        </p:grpSpPr>
        <p:sp>
          <p:nvSpPr>
            <p:cNvPr id="471" name="Text Box 58"/>
            <p:cNvSpPr/>
            <p:nvPr/>
          </p:nvSpPr>
          <p:spPr>
            <a:xfrm>
              <a:off x="429480" y="47466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59"/>
            <p:cNvSpPr/>
            <p:nvPr/>
          </p:nvSpPr>
          <p:spPr>
            <a:xfrm>
              <a:off x="2374920" y="49752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60"/>
            <p:cNvSpPr/>
            <p:nvPr/>
          </p:nvSpPr>
          <p:spPr>
            <a:xfrm>
              <a:off x="3287520" y="47480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04A62-75AA-4E5F-BC82-BCB84FA23A1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429480" y="2125800"/>
            <a:ext cx="4812120" cy="511560"/>
            <a:chOff x="429480" y="2125800"/>
            <a:chExt cx="4812120" cy="511560"/>
          </a:xfrm>
        </p:grpSpPr>
        <p:sp>
          <p:nvSpPr>
            <p:cNvPr id="476" name="Text Box 35"/>
            <p:cNvSpPr/>
            <p:nvPr/>
          </p:nvSpPr>
          <p:spPr>
            <a:xfrm>
              <a:off x="429480" y="21258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3287520" y="21272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48"/>
          <p:cNvGrpSpPr/>
          <p:nvPr/>
        </p:nvGrpSpPr>
        <p:grpSpPr>
          <a:xfrm>
            <a:off x="5252040" y="3843360"/>
            <a:ext cx="3644640" cy="1791720"/>
            <a:chOff x="5252040" y="3843360"/>
            <a:chExt cx="3644640" cy="1791720"/>
          </a:xfrm>
        </p:grpSpPr>
        <p:sp>
          <p:nvSpPr>
            <p:cNvPr id="480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41"/>
            <p:cNvSpPr/>
            <p:nvPr/>
          </p:nvSpPr>
          <p:spPr>
            <a:xfrm>
              <a:off x="568152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42"/>
            <p:cNvSpPr/>
            <p:nvPr/>
          </p:nvSpPr>
          <p:spPr>
            <a:xfrm>
              <a:off x="550008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3"/>
            <p:cNvSpPr/>
            <p:nvPr/>
          </p:nvSpPr>
          <p:spPr>
            <a:xfrm>
              <a:off x="54838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4"/>
            <p:cNvSpPr/>
            <p:nvPr/>
          </p:nvSpPr>
          <p:spPr>
            <a:xfrm>
              <a:off x="788508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5"/>
            <p:cNvSpPr/>
            <p:nvPr/>
          </p:nvSpPr>
          <p:spPr>
            <a:xfrm>
              <a:off x="770364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6"/>
            <p:cNvSpPr/>
            <p:nvPr/>
          </p:nvSpPr>
          <p:spPr>
            <a:xfrm>
              <a:off x="76870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52"/>
          <p:cNvGrpSpPr/>
          <p:nvPr/>
        </p:nvGrpSpPr>
        <p:grpSpPr>
          <a:xfrm>
            <a:off x="552600" y="2622600"/>
            <a:ext cx="3975120" cy="459720"/>
            <a:chOff x="552600" y="2622600"/>
            <a:chExt cx="3975120" cy="459720"/>
          </a:xfrm>
        </p:grpSpPr>
        <p:sp>
          <p:nvSpPr>
            <p:cNvPr id="491" name="Text Box 50"/>
            <p:cNvSpPr/>
            <p:nvPr/>
          </p:nvSpPr>
          <p:spPr>
            <a:xfrm>
              <a:off x="552600" y="2622600"/>
              <a:ext cx="15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51"/>
            <p:cNvSpPr/>
            <p:nvPr/>
          </p:nvSpPr>
          <p:spPr>
            <a:xfrm>
              <a:off x="3902040" y="262260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55"/>
          <p:cNvGrpSpPr/>
          <p:nvPr/>
        </p:nvGrpSpPr>
        <p:grpSpPr>
          <a:xfrm>
            <a:off x="464040" y="3098880"/>
            <a:ext cx="4638960" cy="459720"/>
            <a:chOff x="464040" y="3098880"/>
            <a:chExt cx="4638960" cy="459720"/>
          </a:xfrm>
        </p:grpSpPr>
        <p:sp>
          <p:nvSpPr>
            <p:cNvPr id="494" name="Text Box 53"/>
            <p:cNvSpPr/>
            <p:nvPr/>
          </p:nvSpPr>
          <p:spPr>
            <a:xfrm>
              <a:off x="4640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2 x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54"/>
            <p:cNvSpPr/>
            <p:nvPr/>
          </p:nvSpPr>
          <p:spPr>
            <a:xfrm>
              <a:off x="33404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6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58"/>
          <p:cNvGrpSpPr/>
          <p:nvPr/>
        </p:nvGrpSpPr>
        <p:grpSpPr>
          <a:xfrm>
            <a:off x="465840" y="3575160"/>
            <a:ext cx="4876560" cy="459720"/>
            <a:chOff x="465840" y="3575160"/>
            <a:chExt cx="4876560" cy="459720"/>
          </a:xfrm>
        </p:grpSpPr>
        <p:sp>
          <p:nvSpPr>
            <p:cNvPr id="497" name="Text Box 56"/>
            <p:cNvSpPr/>
            <p:nvPr/>
          </p:nvSpPr>
          <p:spPr>
            <a:xfrm>
              <a:off x="465840" y="357516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7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57"/>
            <p:cNvSpPr/>
            <p:nvPr/>
          </p:nvSpPr>
          <p:spPr>
            <a:xfrm>
              <a:off x="3061440" y="3575160"/>
              <a:ext cx="22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4 x 2 +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8DFEC-FB0C-4140-8DC4-20F37ABA819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39672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Example 3.12 p98 : Balance the following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8936640" y="6561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95280" y="1022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itrogen monoxide reacts with oxygen to form nitrogen dioxide and balance this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2D34C-FF6D-4DA5-ACFD-B2D35351A5C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23640" y="4111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is the coefficient of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 Placeholder 1"/>
          <p:cNvSpPr/>
          <p:nvPr/>
        </p:nvSpPr>
        <p:spPr>
          <a:xfrm>
            <a:off x="3124080" y="6248520"/>
            <a:ext cx="330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560" y="35053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5172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are  the coefficients of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,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and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respectively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,1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,2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200" y="350028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B9CF7-21EC-4288-985C-40B417D1C3E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-181080" y="620640"/>
            <a:ext cx="9541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1258920" y="4076640"/>
                <a:ext cx="662472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4670-C84C-4E18-A9EB-E631F78298F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8 Amounts of Reactants an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important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product will be formed from specific amount of reac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.g. 6.0 g reactant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?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How much starting reactants must be used to obtain a specific amount of produ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.g. ? reacta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6.0 g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01D17-9370-4792-B05D-0E48CC6248F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611280" y="4221000"/>
            <a:ext cx="80769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7" descr="03_08"/>
          <p:cNvPicPr/>
          <p:nvPr/>
        </p:nvPicPr>
        <p:blipFill>
          <a:blip r:embed="rId1"/>
          <a:srcRect l="0" t="3039" r="0" b="0"/>
          <a:stretch/>
        </p:blipFill>
        <p:spPr>
          <a:xfrm>
            <a:off x="2195640" y="620640"/>
            <a:ext cx="6553080" cy="32734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79280" y="476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</a:rPr>
              <a:t>Mol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79280" y="1557360"/>
                <a:ext cx="1731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C9017-4AFB-4A5C-BBCF-89EF3D3B220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3 p10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If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856g of C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is consumed by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erson over a certain period, what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mass of C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produ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68360" y="1303200"/>
                <a:ext cx="792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42B18-9B97-4081-BA9F-82AA947162D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258920" y="1628640"/>
                <a:ext cx="6480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3564000" y="24922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258920" y="4653000"/>
                <a:ext cx="583416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56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B5C2D-1983-4417-ACA4-AFE65B04F31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ow we get the Average Atomic M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∑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(The natural abundance x Atomic Mass) </a:t>
            </a:r>
            <a:r>
              <a:rPr b="1" lang="en-GB" sz="2000" spc="-1" strike="noStrike" baseline="-25000">
                <a:solidFill>
                  <a:srgbClr val="006600"/>
                </a:solidFill>
                <a:latin typeface="Comic Sans MS"/>
              </a:rPr>
              <a:t>for each isot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isotopes of Carbon are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natural abundance of each isotop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98.90% &amp; 1.10%,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0.9890 x 12.00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2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+ (0.0110 x 13.00335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3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12.0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98.90% = 98.90/100 = 0.9890; 1.10% = 1.10/100 = 0.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carbon is mainly </a:t>
            </a:r>
            <a:r>
              <a:rPr b="0" lang="en-GB" sz="2400" spc="-1" strike="noStrike" baseline="30000">
                <a:solidFill>
                  <a:srgbClr val="2009a7"/>
                </a:solidFill>
                <a:latin typeface="Comic Sans MS"/>
              </a:rPr>
              <a:t>12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the Average Atomic Mass is 12.01 amu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loser to 12 amu than 13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7F382-4700-43B7-ABB2-D79A512874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 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6 mole of C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754 mole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 mole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39640" y="4292640"/>
                <a:ext cx="79916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EF71-58E1-4799-B78B-11A059E9DD2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mmary: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684360" y="2349360"/>
                <a:ext cx="792144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93C23-25D8-47F2-ABEA-124214211AC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803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4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0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How many grams of Li are need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produce 9.89g of H</a:t>
            </a:r>
            <a:r>
              <a:rPr b="0" lang="en-GB" sz="36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of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i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95280" y="1268280"/>
                <a:ext cx="8497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894E4-77BA-4A90-8D6E-BA0B7F2FC35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92360" y="22827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1706400" y="3860640"/>
                <a:ext cx="493884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g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6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68360" y="1628640"/>
                <a:ext cx="8207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AE109-549F-4D60-A680-DB917457D73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2 mole of Li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mole of Li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927 mole 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55640" y="3141720"/>
                <a:ext cx="75834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7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4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0" y="700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187280" y="5084640"/>
                <a:ext cx="680436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4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540000" y="4505400"/>
            <a:ext cx="77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Li → grams of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F6852-1473-4AE1-97D7-DFB818DBA5E6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3.9 Limiting Reagent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كاشف المحد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miting Reagen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used up first in a reaction and thus determine the amount o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xcess Reagent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كاشف الفائض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present in quantities greater than necessary to react with the quantity of the limiting reagent (the one that is left at the end of the 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iting reagent is in a reaction of more than one react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D3E52-AD7C-42AC-8546-1E58DAD408D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6960" y="387360"/>
            <a:ext cx="37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009a7"/>
                </a:solidFill>
                <a:uFillTx/>
                <a:latin typeface="Comic Sans MS"/>
              </a:rPr>
              <a:t>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rcRect l="18790" t="2707" r="18790" b="0"/>
          <a:stretch/>
        </p:blipFill>
        <p:spPr>
          <a:xfrm>
            <a:off x="5045040" y="260280"/>
            <a:ext cx="2622600" cy="6553440"/>
          </a:xfrm>
          <a:prstGeom prst="rect">
            <a:avLst/>
          </a:prstGeom>
          <a:ln w="0">
            <a:noFill/>
          </a:ln>
        </p:spPr>
      </p:pic>
      <p:grpSp>
        <p:nvGrpSpPr>
          <p:cNvPr id="548" name=""/>
          <p:cNvGrpSpPr/>
          <p:nvPr/>
        </p:nvGrpSpPr>
        <p:grpSpPr>
          <a:xfrm>
            <a:off x="1191600" y="2360520"/>
            <a:ext cx="3009240" cy="510120"/>
            <a:chOff x="1191600" y="2360520"/>
            <a:chExt cx="3009240" cy="510120"/>
          </a:xfrm>
        </p:grpSpPr>
        <p:sp>
          <p:nvSpPr>
            <p:cNvPr id="549" name=""/>
            <p:cNvSpPr/>
            <p:nvPr/>
          </p:nvSpPr>
          <p:spPr>
            <a:xfrm>
              <a:off x="1191600" y="2360520"/>
              <a:ext cx="300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O + 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2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62120" y="25812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62840" y="340848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is the limiting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94240" y="4286160"/>
            <a:ext cx="1104840" cy="1206360"/>
            <a:chOff x="5394240" y="4286160"/>
            <a:chExt cx="1104840" cy="1206360"/>
          </a:xfrm>
        </p:grpSpPr>
        <p:sp>
          <p:nvSpPr>
            <p:cNvPr id="553" name=""/>
            <p:cNvSpPr/>
            <p:nvPr/>
          </p:nvSpPr>
          <p:spPr>
            <a:xfrm>
              <a:off x="6080040" y="428616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94240" y="470520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02200" y="5111640"/>
              <a:ext cx="41940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827280" y="4457880"/>
            <a:ext cx="36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99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 is the excess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4720" y="10987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ant used up first in th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53880-BAA0-437D-879D-783995617664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First: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we have to determine which reactant is the limiting reagent and which is the excess reag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cond: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after we know which one is the limiting reagent, we could  determine the amount of the produc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2009a7"/>
                </a:solidFill>
                <a:latin typeface="Comic Sans MS"/>
              </a:rPr>
              <a:t>Third:</a:t>
            </a: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 after we know the excess reagent, we could determine how much excess of it is left at the end of the reaction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377E3-E1B0-4237-8958-DD31249A852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5 P10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37.2g of N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re treated with 1142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9640" y="1125360"/>
                <a:ext cx="7920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43214-4716-45C5-90C6-F6EB908C79E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 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المتفاعل اللذي يعطي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Comic Sans MS"/>
              </a:rPr>
              <a:t>مولات اقل من الناتج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 هو الكاشف المحدد, لانه يحد من كميه الناتج التي يمكن ان تتكون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 the first reactant N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637.2 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826920" y="4221000"/>
                <a:ext cx="6409080" cy="25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3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تحول الى مو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8EADE-626A-4801-9BA0-5CBE0DCAB67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164360" y="-27000"/>
            <a:ext cx="1979640" cy="863640"/>
          </a:xfrm>
          <a:prstGeom prst="borderCallout1">
            <a:avLst>
              <a:gd name="adj1" fmla="val 18750"/>
              <a:gd name="adj2" fmla="val -8333"/>
              <a:gd name="adj3" fmla="val 186763"/>
              <a:gd name="adj4" fmla="val -2798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 atomic mass (12.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F0736-57AB-4936-BBBD-B475CF920C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 rat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oles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1 mole of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7.416moles of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 ?n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95280" y="2924280"/>
                <a:ext cx="8353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4E9CF-5449-4637-B88E-1CD63EA6134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 the second reactant 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1. 1142 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5.949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84360" y="1628640"/>
                <a:ext cx="38880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4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692360" y="4653000"/>
                <a:ext cx="5832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324000" y="5661000"/>
            <a:ext cx="8135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the limiting reagent is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cause it produces a smaller amount of 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549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تحول الى مو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819D2-36C6-4FAA-B7C6-A3453F98DE4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have 18.71 mol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 using 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limiting reag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611280" y="2368440"/>
                <a:ext cx="777708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24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A98FB-189B-413A-836D-269C191DB90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Excess reagent is CO</a:t>
            </a:r>
            <a:r>
              <a:rPr b="1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grams – reacted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left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nitial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5.9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3B4C-8962-4A49-A552-CC848C44CFA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 that 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1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acted is 18.71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835280" y="2708280"/>
                <a:ext cx="59054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50D19-7ADA-4989-9B79-21E88ED8B34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25.95 – 18.71 = 7.24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the mas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maining (left) = 319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2708280"/>
                <a:ext cx="74167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9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85446-4239-4524-A1F2-76801C29624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2"/>
          <p:cNvSpPr/>
          <p:nvPr/>
        </p:nvSpPr>
        <p:spPr>
          <a:xfrm>
            <a:off x="395280" y="404640"/>
            <a:ext cx="784872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.W. # 1: When 22.0 g NaCl and 21.0 g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are mixed and react according to the   equation below, which is the limiting reagen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NaCl +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Na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2HCl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)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)     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)    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)     No reagent is lim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-36360" y="3573360"/>
          <a:ext cx="8153280" cy="3048120"/>
        </p:xfrm>
        <a:graphic>
          <a:graphicData uri="http://schemas.openxmlformats.org/drawingml/2006/table">
            <a:tbl>
              <a:tblPr/>
              <a:tblGrid>
                <a:gridCol w="626760"/>
                <a:gridCol w="522360"/>
                <a:gridCol w="7004160"/>
              </a:tblGrid>
              <a:tr h="1913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.W. # 2: Consider the combustion of carbon monoxide (CO) in oxygen g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CO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+ 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2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tarting with 3.60 moles of CO, calculate the number of moles of 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produced </a:t>
                      </a:r>
                      <a:r>
                        <a:rPr b="0" lang="en-US" sz="2000" spc="-1" strike="noStrike" u="sng">
                          <a:solidFill>
                            <a:srgbClr val="006600"/>
                          </a:solidFill>
                          <a:uFillTx/>
                          <a:latin typeface="Comic Sans MS"/>
                          <a:ea typeface="Times New Roman"/>
                        </a:rPr>
                        <a:t>if there is enough oxygen gas to react with all of the 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.2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4.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6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8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 flipH="1">
            <a:off x="324000" y="3429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51280" y="51325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limiting Reagent is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D523-1AA6-4275-B224-A2049E28347E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79280" y="1197000"/>
            <a:ext cx="852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250920" y="34196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actually obtained from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1"/>
          <p:cNvGrpSpPr/>
          <p:nvPr/>
        </p:nvGrpSpPr>
        <p:grpSpPr>
          <a:xfrm>
            <a:off x="1779480" y="4587840"/>
            <a:ext cx="5089320" cy="941400"/>
            <a:chOff x="1779480" y="4587840"/>
            <a:chExt cx="5089320" cy="941400"/>
          </a:xfrm>
        </p:grpSpPr>
        <p:sp>
          <p:nvSpPr>
            <p:cNvPr id="592" name="Text Box 4"/>
            <p:cNvSpPr/>
            <p:nvPr/>
          </p:nvSpPr>
          <p:spPr>
            <a:xfrm>
              <a:off x="1779480" y="4829400"/>
              <a:ext cx="185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% Yield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9"/>
            <p:cNvGrpSpPr/>
            <p:nvPr/>
          </p:nvGrpSpPr>
          <p:grpSpPr>
            <a:xfrm>
              <a:off x="3696120" y="4587840"/>
              <a:ext cx="2379240" cy="941400"/>
              <a:chOff x="3696120" y="4587840"/>
              <a:chExt cx="2379240" cy="941400"/>
            </a:xfrm>
          </p:grpSpPr>
          <p:sp>
            <p:nvSpPr>
              <p:cNvPr id="594" name="Text Box 5"/>
              <p:cNvSpPr/>
              <p:nvPr/>
            </p:nvSpPr>
            <p:spPr>
              <a:xfrm>
                <a:off x="4019400" y="4587840"/>
                <a:ext cx="142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ctu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6"/>
              <p:cNvSpPr/>
              <p:nvPr/>
            </p:nvSpPr>
            <p:spPr>
              <a:xfrm>
                <a:off x="3696120" y="5160960"/>
                <a:ext cx="195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heoretic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"/>
              <p:cNvSpPr/>
              <p:nvPr/>
            </p:nvSpPr>
            <p:spPr>
              <a:xfrm>
                <a:off x="3713400" y="5102280"/>
                <a:ext cx="2361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0"/>
            <p:cNvSpPr/>
            <p:nvPr/>
          </p:nvSpPr>
          <p:spPr>
            <a:xfrm>
              <a:off x="6114960" y="484200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3"/>
          <p:cNvSpPr/>
          <p:nvPr/>
        </p:nvSpPr>
        <p:spPr>
          <a:xfrm>
            <a:off x="789120" y="5862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is  always le</a:t>
            </a: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ss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33FB5-28E9-4AE8-A600-D2316C685866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179280" y="1197000"/>
            <a:ext cx="852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Limiting regent mass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limiting reagent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product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grams of product (theoretical yield of the produ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C3721-04E2-4986-BE7D-16D681BAD71D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6 p10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54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Cl</a:t>
            </a:r>
            <a:r>
              <a:rPr b="0" lang="en-GB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are reacted with 1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M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theoretical yield of Ti in 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395280" y="1066680"/>
                <a:ext cx="79930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74D81-2CF8-48D5-81A7-18B55BEF60FB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09:20:31Z</dcterms:modified>
  <cp:revision>464</cp:revision>
  <dc:subject/>
  <dc:title>General Chemistry CHEM 110</dc:title>
</cp:coreProperties>
</file>