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7BE4F-2F05-48EF-8439-28BE635D5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752D1-DB25-4A18-BD87-4CC25B4B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1C59C-83EB-458A-9634-DE7230375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FCE13-0299-4053-84DA-824E0D321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03C13-711F-4602-AA49-83BF90BCF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D772-2DE5-482E-8D99-812C552D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594D-A733-4620-966D-BDAEBE39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530F-9834-4097-870D-A50A6BFE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1774-3988-42D8-AF34-BC4FF57B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B44A-EAF4-4EF4-9909-75EBDD3B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B935-9F10-46E8-879F-D6759C90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14EDD-8E31-4055-BD4F-CD0855B1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331E-DEAD-4002-8D69-3075092E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9F78-DF23-4B07-B86E-469415AC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520C-53E4-4212-B4F0-ACA0DB8A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1F30-392A-468E-B02F-0758366B6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83C6-929D-47EF-9B1C-677AF2EFA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D90D2-11AB-4FD5-800D-1BF2EB3D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1C95E-1127-460E-B25B-B6449BF7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FA1EB-3926-43EF-878A-9C7A5613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2BF78-742F-41A4-A735-4A461CF5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F296E-24F7-431E-A4D3-60023B2D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64CE1-7170-4904-A1B5-17D8FD6B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3FD4B-613E-4FB3-B6CF-F4D24771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D6E1-9D82-4CA6-9146-31CC18B06C01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DA1A-181E-481D-AB7A-A1C7F4E167B3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E1BC-373E-41A3-966D-2BA22034C0A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1 p27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wavelength of the green light from a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signal is centred at 522 nm. 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frequency of this rad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56536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63700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22 n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22 x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4000" y="4508640"/>
                <a:ext cx="795636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/s       OR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35CF7-BE25-4D81-A337-2CA45C4B19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0920" y="1314360"/>
                <a:ext cx="8424720" cy="29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fix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ke the power with its sign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522 n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 m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2 n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nm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22 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765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t Con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170FF-201A-4468-AAAB-B1A5E048A7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571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 photon has a frequency of 6.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Hz. Convert this frequency into wavelength (nm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773360"/>
            <a:ext cx="864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z =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/s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(nm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0920" y="3573360"/>
                <a:ext cx="231624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50920" y="1628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16360" y="3645000"/>
                <a:ext cx="5976720" cy="25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Prefix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verse the sign of the power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1m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nm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x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n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3191F-4335-4C73-B1F1-880EBFD7DB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Quantum Theory and Electronic Structure of Atoms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276-31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312-3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7.3, 7.8, 7.16, 7.18, 7.32, 7.34,  7.120, 7.56, 7.58, 7.62, 7.66, 7.70, 7.76, 7.78, 7.79, 7.84, 7.88, 7.90, 7.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55509-43F0-46A8-9504-E1F2DCD044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7 Quantum Theory and Electronic Structure of Atoms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7.1 From Classical Physics to Quantu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7.3 Bohr’s Theory of the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7.6 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.7 Atomic Orbital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8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  <a:ea typeface="Times New Roman"/>
              </a:rPr>
              <a:t>7.9 The Building-Up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1609F-A659-49A0-9733-F6DCA3410F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7.1 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From Classical Physics to Quantum The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ury : understanding atoms and molecules was unsuccess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ical Phys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acroscopic Phenomena, e.g. pressure of th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icroscopic phenomena, e.g.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ssumed that energy is continuous and any amount of energy could be released or absorbed in a radia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x Planks in 1900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covered that atoms and molecules emit energy only in certain discrete quantities (called quanta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943760" y="4508640"/>
            <a:ext cx="109224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6BD25-FA28-4EE5-8C8C-1EF26A9778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1"/>
          <p:cNvSpPr/>
          <p:nvPr/>
        </p:nvSpPr>
        <p:spPr>
          <a:xfrm>
            <a:off x="252360" y="412920"/>
            <a:ext cx="889164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v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wave ha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peak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قمة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rough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  <a:cs typeface="Times New Roman"/>
              </a:rPr>
              <a:t>ق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Wavelength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λ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distance between identical points on successive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Amplitude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vertical distance from the midline of a wave to the peak or t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460" r="0" b="6706"/>
          <a:stretch/>
        </p:blipFill>
        <p:spPr>
          <a:xfrm>
            <a:off x="3774960" y="3500280"/>
            <a:ext cx="5334120" cy="308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2087" r="0" b="8337"/>
          <a:stretch/>
        </p:blipFill>
        <p:spPr>
          <a:xfrm>
            <a:off x="104760" y="3500280"/>
            <a:ext cx="321300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447840" y="3576600"/>
            <a:ext cx="5460840" cy="1866960"/>
            <a:chOff x="447840" y="3576600"/>
            <a:chExt cx="5460840" cy="1866960"/>
          </a:xfrm>
        </p:grpSpPr>
        <p:sp>
          <p:nvSpPr>
            <p:cNvPr id="119" name=""/>
            <p:cNvSpPr/>
            <p:nvPr/>
          </p:nvSpPr>
          <p:spPr>
            <a:xfrm>
              <a:off x="447840" y="3919320"/>
              <a:ext cx="175248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5880" y="4910040"/>
              <a:ext cx="9144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9880" y="35766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0440" y="3957480"/>
            <a:ext cx="6997680" cy="2044800"/>
            <a:chOff x="460440" y="3957480"/>
            <a:chExt cx="6997680" cy="2044800"/>
          </a:xfrm>
        </p:grpSpPr>
        <p:sp>
          <p:nvSpPr>
            <p:cNvPr id="123" name=""/>
            <p:cNvSpPr/>
            <p:nvPr/>
          </p:nvSpPr>
          <p:spPr>
            <a:xfrm>
              <a:off x="460440" y="4338720"/>
              <a:ext cx="22860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29520" y="3957480"/>
              <a:ext cx="2286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2000" y="5392800"/>
              <a:ext cx="30492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81FC8-1CB1-4F3F-8D1E-23F9F4D8F1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t Placeholder 1"/>
          <p:cNvSpPr/>
          <p:nvPr/>
        </p:nvSpPr>
        <p:spPr>
          <a:xfrm>
            <a:off x="252360" y="412920"/>
            <a:ext cx="87123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Frequency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ν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umber of waves that pass through a particular point in 1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tz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) = 1 cycle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 = 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Speed (u)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product of the wave’s wavelenght and its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92360" y="4365720"/>
                <a:ext cx="15843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82E7D-9F55-4C7C-A8F8-CC5BECC0B6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magnetic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ves are different kinds, e.g. water waves, sound waves, and light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1873 James Maxwel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posed that visible light consists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ctric field compon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agnetic field compon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magnetic radi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emission and transmission of energy in the form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150360" y="1538640"/>
            <a:ext cx="647640" cy="5148360"/>
          </a:xfrm>
          <a:custGeom>
            <a:avLst/>
            <a:gdLst>
              <a:gd name="textAreaLeft" fmla="*/ 0 w 647640"/>
              <a:gd name="textAreaRight" fmla="*/ 234000 w 647640"/>
              <a:gd name="textAreaTop" fmla="*/ 133920 h 5148360"/>
              <a:gd name="textAreaBottom" fmla="*/ 5014440 h 51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24720" y="2997360"/>
            <a:ext cx="120024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A2414-19F8-406C-9112-C06FC772F4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33600"/>
            <a:ext cx="5543640" cy="3479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magnetic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0706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ed of light (c) in vacuum =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x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44880" y="5684760"/>
                <a:ext cx="42256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6C5D7-3FE0-4848-82CC-88E342D814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91720" cy="5562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33680" y="2500200"/>
            <a:ext cx="4786200" cy="2576520"/>
            <a:chOff x="2533680" y="2500200"/>
            <a:chExt cx="4786200" cy="2576520"/>
          </a:xfrm>
        </p:grpSpPr>
        <p:sp>
          <p:nvSpPr>
            <p:cNvPr id="140" name=""/>
            <p:cNvSpPr/>
            <p:nvPr/>
          </p:nvSpPr>
          <p:spPr>
            <a:xfrm flipH="1">
              <a:off x="2533680" y="2514600"/>
              <a:ext cx="1324080" cy="25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00400" y="2500200"/>
              <a:ext cx="3219480" cy="254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46B76-FE0A-425D-9171-4BB0DCC1E3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8Z</dcterms:modified>
  <cp:revision>940</cp:revision>
  <dc:subject/>
  <dc:title>General Chemistry CHEM 110</dc:title>
</cp:coreProperties>
</file>