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C30EB-51D8-403C-8F1C-06E487675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7A8EF-5BC2-4856-9F56-B3A3F4E42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E86A1-6109-47C3-B878-95C05DFCC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7E279-1B65-4EAA-B1BF-93CC51725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5BCAB-6A84-440A-B075-98FF9EAA7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2D5E9-6E54-4F30-8C64-C1868B85E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CFC5D-E1B1-4359-9A07-281CCF2FD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69D35-88E0-4A7D-AA2E-BE01B9E69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1D1BB-F6CA-4200-A8DE-156448486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A03AC-55BD-4365-90DB-7FAD5A32B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276CF-6A35-4520-947C-5AA2CE39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54786-0D69-4A90-BD67-02FC25FB4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AF456-FCA6-487C-9018-9468CABF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E354E-4776-4E20-B6D9-A60CB13D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F1A51-A7F3-47E8-9FD5-9F27585B6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F086D-1EC9-414B-9970-F2B677FC0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4B79B-6443-48D6-A825-D66B60804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D66E7-D6E2-4E87-B6AB-8CBEBD238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C9E67-5EC3-4334-B373-A481E72AB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8AD6E-F028-4AD6-8B86-705527823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A5B8E-B041-4ACF-AC68-DCD249E0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7A535-1D5F-49B4-B1BB-35D8BB5A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36CA6-1D0F-49BF-A241-8E5F08DD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EF676-AD92-473D-8743-FB5D8091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E94A7-F6D1-4AF6-97F8-26AC56205F3E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9B65F-1CD5-4504-B178-EA1499E3E026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5932C-4B3E-4FE2-A6AD-6AD80BD658C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49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1 p27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wavelength of the green light from a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signal is centred at 522 nm. What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frequency of this radi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256536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2637000"/>
            <a:ext cx="7201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 522 nm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522 x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24000" y="4508640"/>
                <a:ext cx="7956360" cy="20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22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/s       OR       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H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C0DBD-3DA2-47C4-9509-9DA02E41B83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50920" y="1314360"/>
                <a:ext cx="8424720" cy="297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522</m:t>
                        </m:r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efix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Base Unit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ke the power with its sign in the 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1 nm 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522 n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? m 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22 nm x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nm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522 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</m:t>
                            </m:r>
                          </m:sup>
                        </m:sSup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684360" y="7650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Unit Conver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BF4D9-543A-4C00-BF5F-585A2F734E4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28600" y="57168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A photon has a frequency of 6.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Hz. Convert this frequency into wavelength (nm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1773360"/>
            <a:ext cx="8640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Hz =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/s = 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(nm)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50920" y="3573360"/>
                <a:ext cx="2316240" cy="26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ν</m:t>
                            </m:r>
                          </m:den>
                        </m:f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s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250920" y="162864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916360" y="3645000"/>
                <a:ext cx="5976720" cy="25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m</m:t>
                        </m:r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ase Unit 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Prefix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everse the sign of the power in the 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 nm 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1m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 </m:t>
                        </m:r>
                      </m:e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x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?nm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x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 x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n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F6C81-A6F4-43D2-AB61-AAB31A259E0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 Quantum Theory and Electronic Structure of Atoms 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ng Pages 276-310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H.W. p312-31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43657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7.3, 7.8, 7.16, 7.18, 7.32, 7.34,  7.120, 7.56, 7.58, 7.62, 7.66, 7.70, 7.76, 7.78, 7.79, 7.84, 7.88, 7.90, 7.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F7176-3038-4916-B478-E8273A1170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570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Chapter 7 Quantum Theory and Electronic Structure of Atoms :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7.1 From Classical Physics to Quantum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7.3 Bohr’s Theory of the Hydrogen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Comic Sans MS"/>
                <a:ea typeface="Times New Roman"/>
              </a:rPr>
              <a:t>7.6 Quantu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7.7 Atomic Orbital'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7.8 Electron Configu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  <a:ea typeface="Times New Roman"/>
              </a:rPr>
              <a:t>7.9 The Building-Up Prin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6A539-BEF9-42FF-B5BA-520BC0C9D0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7.1 </a:t>
            </a: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From Classical Physics to Quantum Theor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43588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entury : understanding atoms and molecules was unsuccessfu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assical Physic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ccessful in understanding Macroscopic Phenomena, e.g. pressure of the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ntum Mechanic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ccessful in understanding microscopic phenomena, e.g. atoms &amp;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was assumed that energy is continuous and any amount of energy could be released or absorbed in a radiation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x Planks in 1900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iscovered that atoms and molecules emit energy only in certain discrete quantities (called quanta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ntum Mecha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C:\Documents and Settings\DELL-XPS\Desktop\chem110\Max_Planck.png"/>
          <p:cNvPicPr/>
          <p:nvPr/>
        </p:nvPicPr>
        <p:blipFill>
          <a:blip r:embed="rId1"/>
          <a:stretch/>
        </p:blipFill>
        <p:spPr>
          <a:xfrm>
            <a:off x="7943760" y="4508640"/>
            <a:ext cx="1092240" cy="162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A17A0-44B8-4395-B570-50BCFA077B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Content Placeholder 1"/>
          <p:cNvSpPr/>
          <p:nvPr/>
        </p:nvSpPr>
        <p:spPr>
          <a:xfrm>
            <a:off x="252360" y="412920"/>
            <a:ext cx="889164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Properties of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ave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ach wave has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peak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cs typeface="Times New Roman"/>
              </a:rPr>
              <a:t>قمة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rough 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  <a:cs typeface="Times New Roman"/>
              </a:rPr>
              <a:t>قا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Wavelength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(</a:t>
            </a:r>
            <a:r>
              <a:rPr b="0" lang="el-GR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λ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distance between identical points on successive w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Amplitude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vertical distance from the midline of a wave to the peak or trou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0" t="2460" r="0" b="6706"/>
          <a:stretch/>
        </p:blipFill>
        <p:spPr>
          <a:xfrm>
            <a:off x="3774960" y="3500280"/>
            <a:ext cx="5334120" cy="3086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rcRect l="0" t="2087" r="0" b="8337"/>
          <a:stretch/>
        </p:blipFill>
        <p:spPr>
          <a:xfrm>
            <a:off x="104760" y="3500280"/>
            <a:ext cx="3213000" cy="315288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447840" y="3576600"/>
            <a:ext cx="5460840" cy="1866960"/>
            <a:chOff x="447840" y="3576600"/>
            <a:chExt cx="5460840" cy="1866960"/>
          </a:xfrm>
        </p:grpSpPr>
        <p:sp>
          <p:nvSpPr>
            <p:cNvPr id="119" name=""/>
            <p:cNvSpPr/>
            <p:nvPr/>
          </p:nvSpPr>
          <p:spPr>
            <a:xfrm>
              <a:off x="447840" y="3919320"/>
              <a:ext cx="175248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95880" y="4910040"/>
              <a:ext cx="91440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79880" y="3576600"/>
              <a:ext cx="182880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60440" y="3957480"/>
            <a:ext cx="6997680" cy="2044800"/>
            <a:chOff x="460440" y="3957480"/>
            <a:chExt cx="6997680" cy="2044800"/>
          </a:xfrm>
        </p:grpSpPr>
        <p:sp>
          <p:nvSpPr>
            <p:cNvPr id="123" name=""/>
            <p:cNvSpPr/>
            <p:nvPr/>
          </p:nvSpPr>
          <p:spPr>
            <a:xfrm>
              <a:off x="460440" y="4338720"/>
              <a:ext cx="228600" cy="8380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229520" y="3957480"/>
              <a:ext cx="228600" cy="6098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912000" y="5392800"/>
              <a:ext cx="304920" cy="6094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7812000" y="0"/>
            <a:ext cx="1332000" cy="927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D0F26-6ADE-4DD2-9042-9A01A8504B7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Content Placeholder 1"/>
          <p:cNvSpPr/>
          <p:nvPr/>
        </p:nvSpPr>
        <p:spPr>
          <a:xfrm>
            <a:off x="252360" y="412920"/>
            <a:ext cx="871236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Properties of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Frequency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(</a:t>
            </a:r>
            <a:r>
              <a:rPr b="0" lang="el-GR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ν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number of waves that pass through a particular point in 1 seco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rtz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z) = 1 cycle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z = 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Speed (u)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a product of the wave’s wavelenght and its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492360" y="4365720"/>
                <a:ext cx="158436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08FFD-17DB-4BDA-B1DD-A866FFD6E74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magnetic Rad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ves are different kinds, e.g. water waves, sound waves, and light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1873 James Maxwell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roposed that visible light consists of electromagnet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lectric field compon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Magnetic field compone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lectromagnetic radiat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emission and transmission of energy in the form of electromagnet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3150360" y="1538640"/>
            <a:ext cx="647640" cy="5148360"/>
          </a:xfrm>
          <a:custGeom>
            <a:avLst/>
            <a:gdLst>
              <a:gd name="textAreaLeft" fmla="*/ 0 w 647640"/>
              <a:gd name="textAreaRight" fmla="*/ 234000 w 647640"/>
              <a:gd name="textAreaTop" fmla="*/ 133920 h 5148360"/>
              <a:gd name="textAreaBottom" fmla="*/ 5014440 h 514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24720" y="2997360"/>
            <a:ext cx="1200240" cy="143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8CE70-D4DC-4FAB-B136-0F2FC3FAA4C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92360" y="1533600"/>
            <a:ext cx="5543640" cy="3479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042920" y="54936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omagnetic W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5070600"/>
            <a:ext cx="820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peed of light (c) in vacuum =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 x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144880" y="5684760"/>
                <a:ext cx="422568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ν</m:t>
                    </m:r>
                    <m:r>
                      <m:t xml:space="preserve">⇒</m:t>
                    </m:r>
                    <m:r>
                      <m:t xml:space="preserve">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ν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35A3C-CE2A-4F85-9C08-F558506BF4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8991720" cy="556236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2533680" y="2500200"/>
            <a:ext cx="4786200" cy="2576520"/>
            <a:chOff x="2533680" y="2500200"/>
            <a:chExt cx="4786200" cy="2576520"/>
          </a:xfrm>
        </p:grpSpPr>
        <p:sp>
          <p:nvSpPr>
            <p:cNvPr id="140" name=""/>
            <p:cNvSpPr/>
            <p:nvPr/>
          </p:nvSpPr>
          <p:spPr>
            <a:xfrm flipH="1">
              <a:off x="2533680" y="2514600"/>
              <a:ext cx="1324080" cy="256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00400" y="2500200"/>
              <a:ext cx="3219480" cy="254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0DF2A-AEAF-47C9-8AA3-3FB13DD3D7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8T20:14:18Z</dcterms:modified>
  <cp:revision>940</cp:revision>
  <dc:subject/>
  <dc:title>General Chemistry CHEM 110</dc:title>
</cp:coreProperties>
</file>