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8C3FC-06DE-4BC0-B8EA-D6CF317F6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03EA4-2E63-4D10-930E-917FAF0F2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914AC-85EE-4020-8D47-CCB479C76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5616B-DBDA-45F7-8ABD-4A45207C9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B3DA1-7C22-4E6D-89DA-D814B4838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F7318-3901-4B95-87E6-352B0879D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8A4D4-B252-4431-8F5D-5DDA732B8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828CB-1CB7-4004-879C-9844A272A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48935-11D8-464F-B52D-0EB9B44A6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500FC-E7D7-4E41-B559-701C77EEA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7C03E-2653-4DEB-9A81-4C6DC9D7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9A4F3-7A85-4B3C-B04C-6E4F29951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4ACCD-E1F9-41C0-AE72-6D899DE6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8925B-99AA-4D7E-96A4-CC440C2A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21205-A24D-4073-AA1C-6DA2785EE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C2D37-3FA3-41B0-9679-E0F3DFD9A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61ACC-2A19-4D03-BC25-83CA7FD52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85B76-92D7-432E-B97D-741F04201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40056-5C01-45C2-8DC8-2877B2134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DA9E4-447B-405B-A176-2592B3E1B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C9725-AAB5-4B68-94A5-F22A39A31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385DF-D0FF-4887-959C-3AAC6E82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ADFD9-7CFC-493D-A686-83F0866E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19134-2767-43F5-BB61-2DC20BA53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AD5A9-787A-4FD7-A912-E4AB3EF84EAB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CB7C3-F80F-41F5-9C28-38588709A08D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30D81-1641-4E5D-9D90-9AF952691C0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496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1 p27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wavelength of the green light from a traf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signal is centred at 522 nm. What is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frequency of this radi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2565360"/>
            <a:ext cx="820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2637000"/>
            <a:ext cx="7201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 522 nm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522 x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24000" y="4508640"/>
                <a:ext cx="7956360" cy="20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22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/s       OR       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H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48D2F-8CDF-4D2E-8847-6502A92ADE0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50920" y="1314360"/>
                <a:ext cx="8424720" cy="297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522</m:t>
                        </m:r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efix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Base Unit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ke the power with its sign in the 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1 nm 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522 n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? m 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22 nm x 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nm</m:t>
                            </m:r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522 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</m:t>
                            </m:r>
                          </m:sup>
                        </m:sSup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684360" y="76500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Unit Conver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DA71C-BEB0-428D-A3B9-80E24015881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28600" y="57168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A photon has a frequency of 6.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Hz. Convert this frequency into wavelength (nm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9280" y="1773360"/>
            <a:ext cx="8640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Hz =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/s = 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(nm)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50920" y="3573360"/>
                <a:ext cx="2316240" cy="26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ν</m:t>
                            </m:r>
                          </m:den>
                        </m:f>
                      </m:e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s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250920" y="162864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916360" y="3645000"/>
                <a:ext cx="5976720" cy="25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m</m:t>
                        </m:r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ase Unit 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Prefix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everse the sign of the power in the 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 nm 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1m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 </m:t>
                        </m:r>
                      </m:e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x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?nm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5x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 x 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n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E31DA-07E0-452C-827A-19028F1FB9A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13372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 Quantum Theory and Electronic Structure of Atoms 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ng Pages 276-310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H.W. p312-315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57200" y="436572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7.3, 7.8, 7.16, 7.18, 7.32, 7.34,  7.120, 7.56, 7.58, 7.62, 7.66, 7.70, 7.76, 7.78, 7.79, 7.84, 7.88, 7.90, 7.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3004A-C6E6-40BF-9339-149DE48BD59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2570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Chapter 7 Quantum Theory and Electronic Structure of Atoms :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7.1 From Classical Physics to Quantum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7.3 Bohr’s Theory of the Hydrogen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Comic Sans MS"/>
                <a:ea typeface="Times New Roman"/>
              </a:rPr>
              <a:t>7.6 Quantum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7.7 Atomic Orbital'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7.8 Electron Configu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  <a:ea typeface="Times New Roman"/>
              </a:rPr>
              <a:t>7.9 The Building-Up Princi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7B011-9808-4348-B495-7C3DC8C9692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7.1 </a:t>
            </a: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From Classical Physics to Quantum Theor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843588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1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entury : understanding atoms and molecules was unsuccessfu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assical Physic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ccessful in understanding Macroscopic Phenomena, e.g. pressure of the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Quantum Mechanic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ccessful in understanding microscopic phenomena, e.g. atoms &amp; 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was assumed that energy is continuous and any amount of energy could be released or absorbed in a radiation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x Planks in 1900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iscovered that atoms and molecules emit energy only in certain discrete quantities (called quanta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Quantum Mechan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C:\Documents and Settings\DELL-XPS\Desktop\chem110\Max_Planck.png"/>
          <p:cNvPicPr/>
          <p:nvPr/>
        </p:nvPicPr>
        <p:blipFill>
          <a:blip r:embed="rId1"/>
          <a:stretch/>
        </p:blipFill>
        <p:spPr>
          <a:xfrm>
            <a:off x="7943760" y="4508640"/>
            <a:ext cx="1092240" cy="162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1B5F5-E599-46FC-9425-6E20AF7A66D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Content Placeholder 1"/>
          <p:cNvSpPr/>
          <p:nvPr/>
        </p:nvSpPr>
        <p:spPr>
          <a:xfrm>
            <a:off x="252360" y="412920"/>
            <a:ext cx="889164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Properties of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ave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ach wave has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peak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  <a:cs typeface="Times New Roman"/>
              </a:rPr>
              <a:t>قمة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d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rough 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  <a:cs typeface="Times New Roman"/>
              </a:rPr>
              <a:t>قا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Wavelength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(</a:t>
            </a:r>
            <a:r>
              <a:rPr b="0" lang="el-GR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λ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distance between identical points on successive w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Amplitude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the vertical distance from the midline of a wave to the peak or trou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0" t="2460" r="0" b="6706"/>
          <a:stretch/>
        </p:blipFill>
        <p:spPr>
          <a:xfrm>
            <a:off x="3774960" y="3500280"/>
            <a:ext cx="5334120" cy="3086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rcRect l="0" t="2087" r="0" b="8337"/>
          <a:stretch/>
        </p:blipFill>
        <p:spPr>
          <a:xfrm>
            <a:off x="104760" y="3500280"/>
            <a:ext cx="3213000" cy="315288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447840" y="3576600"/>
            <a:ext cx="5460840" cy="1866960"/>
            <a:chOff x="447840" y="3576600"/>
            <a:chExt cx="5460840" cy="1866960"/>
          </a:xfrm>
        </p:grpSpPr>
        <p:sp>
          <p:nvSpPr>
            <p:cNvPr id="119" name=""/>
            <p:cNvSpPr/>
            <p:nvPr/>
          </p:nvSpPr>
          <p:spPr>
            <a:xfrm>
              <a:off x="447840" y="3919320"/>
              <a:ext cx="175248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95880" y="4910040"/>
              <a:ext cx="91440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79880" y="3576600"/>
              <a:ext cx="182880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60440" y="3957480"/>
            <a:ext cx="6997680" cy="2044800"/>
            <a:chOff x="460440" y="3957480"/>
            <a:chExt cx="6997680" cy="2044800"/>
          </a:xfrm>
        </p:grpSpPr>
        <p:sp>
          <p:nvSpPr>
            <p:cNvPr id="123" name=""/>
            <p:cNvSpPr/>
            <p:nvPr/>
          </p:nvSpPr>
          <p:spPr>
            <a:xfrm>
              <a:off x="460440" y="4338720"/>
              <a:ext cx="228600" cy="8380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229520" y="3957480"/>
              <a:ext cx="228600" cy="6098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912000" y="5392800"/>
              <a:ext cx="304920" cy="6094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7812000" y="0"/>
            <a:ext cx="1332000" cy="927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38F44-049F-4433-86B5-4E1B2A60426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Content Placeholder 1"/>
          <p:cNvSpPr/>
          <p:nvPr/>
        </p:nvSpPr>
        <p:spPr>
          <a:xfrm>
            <a:off x="252360" y="412920"/>
            <a:ext cx="871236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Properties of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Frequency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(</a:t>
            </a:r>
            <a:r>
              <a:rPr b="0" lang="el-GR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ν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number of waves that pass through a particular point in 1 seco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ertz 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z) = 1 cycle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z = 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Speed (u)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a product of the wave’s wavelenght and its freq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492360" y="4365720"/>
                <a:ext cx="158436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λν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3A6B0-C5CC-488D-BE3B-93FE7572992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magnetic Radi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ves are different kinds, e.g. water waves, sound waves, and light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 1873 James Maxwell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roposed that visible light consists of electromagnetic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lectric field compon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Magnetic field compone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lectromagnetic radiatio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the emission and transmission of energy in the form of electromagnetic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3150360" y="1538640"/>
            <a:ext cx="647640" cy="5148360"/>
          </a:xfrm>
          <a:custGeom>
            <a:avLst/>
            <a:gdLst>
              <a:gd name="textAreaLeft" fmla="*/ 0 w 647640"/>
              <a:gd name="textAreaRight" fmla="*/ 234000 w 647640"/>
              <a:gd name="textAreaTop" fmla="*/ 133920 h 5148360"/>
              <a:gd name="textAreaBottom" fmla="*/ 5014440 h 514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24720" y="2997360"/>
            <a:ext cx="1200240" cy="143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7A144-6EF0-4C5C-B193-E1E6D3EF703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92360" y="1533600"/>
            <a:ext cx="5543640" cy="34797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042920" y="54936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ctromagnetic W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5070600"/>
            <a:ext cx="820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peed of light (c) in vacuum =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 x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m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144880" y="5684760"/>
                <a:ext cx="422568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λν</m:t>
                    </m:r>
                    <m:r>
                      <m:t xml:space="preserve">⇒</m:t>
                    </m:r>
                    <m:r>
                      <m:t xml:space="preserve">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ν</m:t>
                    </m:r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EBA0C-15F2-4A1B-8991-EA25E98825E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8991720" cy="5562360"/>
          </a:xfrm>
          <a:prstGeom prst="rect">
            <a:avLst/>
          </a:prstGeom>
          <a:ln w="0">
            <a:noFill/>
          </a:ln>
        </p:spPr>
      </p:pic>
      <p:grpSp>
        <p:nvGrpSpPr>
          <p:cNvPr id="139" name=""/>
          <p:cNvGrpSpPr/>
          <p:nvPr/>
        </p:nvGrpSpPr>
        <p:grpSpPr>
          <a:xfrm>
            <a:off x="2533680" y="2500200"/>
            <a:ext cx="4786200" cy="2576520"/>
            <a:chOff x="2533680" y="2500200"/>
            <a:chExt cx="4786200" cy="2576520"/>
          </a:xfrm>
        </p:grpSpPr>
        <p:sp>
          <p:nvSpPr>
            <p:cNvPr id="140" name=""/>
            <p:cNvSpPr/>
            <p:nvPr/>
          </p:nvSpPr>
          <p:spPr>
            <a:xfrm flipH="1">
              <a:off x="2533680" y="2514600"/>
              <a:ext cx="1324080" cy="256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100400" y="2500200"/>
              <a:ext cx="3219480" cy="254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B763B-AF12-419C-81A2-741FA7B03D8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8T20:14:18Z</dcterms:modified>
  <cp:revision>940</cp:revision>
  <dc:subject/>
  <dc:title>General Chemistry CHEM 110</dc:title>
</cp:coreProperties>
</file>