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18FC7E-B664-4E58-B369-9BD83B8C5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585A5C-E6E6-4097-94CD-E5ADF752C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F65E4F-37A5-4F60-8D85-496D9E80B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1F29FD-3CFB-48E8-9618-EAE5DEA4A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2E7D6-FAF1-4362-8B5C-481AE487A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21CA4-83B1-4155-98A8-D023AA2F5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12805-BEBE-4C1B-8F94-EF8347BA4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48794-4F54-43B0-8B9D-C1F1A8B64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1EC55-378F-4EE2-8093-FBF50A46C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F7336-5053-4439-B5C4-FEA98F0A3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E8D1E-5A02-47A0-A97D-C450ACBAE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DAFD8E-F70E-4556-8249-85E56BA00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A12FF-461A-4760-83B7-5A7C1E0CF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4852B-5C9A-4D18-8ECB-DA3D9C680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75FE1-8A52-48EC-96FA-BC4E96294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3F504-F545-4366-B2A4-3996E9B4A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7A57E-CC68-42DC-A924-F2EBC330F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C7CD81-C8B3-4D91-9A34-3D90A819B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4C821A-6AA7-4666-9B5B-093CEEE69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B64349-A15A-491E-B53A-3468DC30E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5A5ED9-2523-47C3-9D79-F7BEE746E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ADDC0A-027C-43C3-A717-1ACB3CC5A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A6D834-EA14-461D-96F2-72D023830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EA0503-6C5B-416F-A49B-518CE4F9B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36597-E09D-44AF-83D6-34122F467795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79AED-38ED-45F1-B819-A2A8A5D785C3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General Chemistry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CHEM 110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Dr. Nuha Wazzan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755640" y="4292640"/>
            <a:ext cx="8236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Chapter 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Quantum Theory and Electronic Structure of Ato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49D86-D181-4F41-B791-0A9565BCFD8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395280" y="476280"/>
            <a:ext cx="8280360" cy="32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Transition Elements:</a:t>
            </a:r>
            <a:r>
              <a:rPr b="0" lang="en-GB" sz="3200" spc="-1" strike="noStrike">
                <a:solidFill>
                  <a:srgbClr val="006600"/>
                </a:solidFill>
                <a:latin typeface="Comic Sans MS"/>
              </a:rPr>
              <a:t> elements with electron configuration of incompletely filled d subshells or readily give rise to cations that have incompletely filled d subshel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Elements in Groups 1B-to-7B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2268360" y="3789360"/>
            <a:ext cx="4500720" cy="293544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2771640" y="4724280"/>
            <a:ext cx="2521080" cy="1009800"/>
          </a:xfrm>
          <a:prstGeom prst="rect">
            <a:avLst/>
          </a:prstGeom>
          <a:noFill/>
          <a:ln w="572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DDA35C-C126-4874-8891-920F4CA3C39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179280" y="476280"/>
            <a:ext cx="8785440" cy="518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EXEPTIONS !!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a50021"/>
                </a:solidFill>
                <a:uFillTx/>
                <a:latin typeface="Comic Sans MS"/>
              </a:rPr>
              <a:t>The Stability of Half Filled &amp; Filled d Orbit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4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r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The stability of Filled d orbital</a:t>
            </a:r>
            <a:r>
              <a:rPr b="0" lang="en-GB" sz="2800" spc="-1" strike="noStrike">
                <a:solidFill>
                  <a:srgbClr val="a50021"/>
                </a:solidFill>
                <a:latin typeface="Arial"/>
              </a:rPr>
              <a:t>→</a:t>
            </a:r>
            <a:r>
              <a:rPr b="0" lang="ar-SA" sz="2800" spc="-1" strike="noStrike">
                <a:solidFill>
                  <a:srgbClr val="a50021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r: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851280" y="263844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067280" y="278280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211640" y="278280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713120" y="2637000"/>
            <a:ext cx="576360" cy="502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289480" y="2637000"/>
            <a:ext cx="576360" cy="502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865840" y="2637000"/>
            <a:ext cx="576360" cy="502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07348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64984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22620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443640" y="263844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020000" y="263844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804000" y="278280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851280" y="393372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138560" y="407844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713120" y="39322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289480" y="39322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865840" y="39322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07348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64984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22620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443640" y="393372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020000" y="393372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804000" y="407844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28472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258920" y="2421000"/>
            <a:ext cx="2952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547640" y="242100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059280" y="4797360"/>
            <a:ext cx="5905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6600"/>
                </a:solidFill>
                <a:latin typeface="Comic Sans MS"/>
              </a:rPr>
              <a:t>هناك استثناءات, نتيجة الاستقراريه العاليه عندما يكون مدار                         نصف ممتلئ او ممتل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156360" y="5175360"/>
            <a:ext cx="262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110CF5-CB2E-4D4C-95C9-D0E8A1A3CD1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0.00532 L 0.33073 0.00532 E">
                                      <p:cBhvr>
                                        <p:cTn id="134" dur="2000" fill="hold"/>
                                        <p:tgtEl>
                                          <p:spTgt spid="1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71280" y="1177920"/>
            <a:ext cx="8748720" cy="570708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2484360" y="2997360"/>
            <a:ext cx="503280" cy="1944360"/>
          </a:xfrm>
          <a:prstGeom prst="rect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66560" y="333360"/>
            <a:ext cx="396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a50021"/>
                </a:solidFill>
                <a:uFillTx/>
                <a:latin typeface="Comic Sans MS"/>
              </a:rPr>
              <a:t>The Stability of Half Filled d Orbit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292720" y="404640"/>
            <a:ext cx="2376360" cy="162000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24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Cr: [Ar] 4s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3d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42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Mo:[Kr] 5s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4d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74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W: [Xe] 6s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5d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06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Sg: [Rn] 7s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6d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EB8258-2BAF-4BAD-9662-5A2BE81CA50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179280" y="476280"/>
            <a:ext cx="8785440" cy="518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EXEPTIONS !!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a50021"/>
                </a:solidFill>
                <a:uFillTx/>
                <a:latin typeface="Comic Sans MS"/>
              </a:rPr>
              <a:t>The Stability of Half Filled &amp; Filled d Orbit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9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u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 stability of Filled d orbital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9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u: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851280" y="263844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067280" y="278280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11640" y="278280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713120" y="2637000"/>
            <a:ext cx="576360" cy="502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89480" y="2637000"/>
            <a:ext cx="576360" cy="502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865840" y="2637000"/>
            <a:ext cx="576360" cy="502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07348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64984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22620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443640" y="263844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020000" y="263844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804000" y="278280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851280" y="393372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138560" y="407844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713120" y="39322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289480" y="39322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865840" y="39322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07348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64984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22620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443640" y="393372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020000" y="393372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804000" y="407844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28472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30872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93236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50872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08472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65964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258920" y="2421000"/>
            <a:ext cx="2952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547640" y="242100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93236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50872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08472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65964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30872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3B2239-46D5-45DA-BBD9-AE7A153AE29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8 0.00508 L 0.33091 0.00508 E">
                                      <p:cBhvr>
                                        <p:cTn id="168" dur="2000" fill="hold"/>
                                        <p:tgtEl>
                                          <p:spTgt spid="1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720720" y="1554120"/>
            <a:ext cx="8172360" cy="533088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2989440" y="3284640"/>
            <a:ext cx="502920" cy="1728720"/>
          </a:xfrm>
          <a:prstGeom prst="rect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221440" y="3213000"/>
            <a:ext cx="502920" cy="1800360"/>
          </a:xfrm>
          <a:prstGeom prst="rect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68360" y="404640"/>
            <a:ext cx="468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a50021"/>
                </a:solidFill>
                <a:uFillTx/>
                <a:latin typeface="Comic Sans MS"/>
              </a:rPr>
              <a:t>The Stability of Filled d Orbit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364000" y="528480"/>
            <a:ext cx="2592720" cy="162000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29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Cu: [Ar] 4s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3d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47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Ag:[Kr] 5s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4d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79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Au: [Xe] 6s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5d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11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Rg: [Rn] 7s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6d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DD15FF-CDE9-41F7-9D9E-AB9160F55C7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395280" y="549360"/>
            <a:ext cx="838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The electron configuration of </a:t>
            </a:r>
            <a:r>
              <a:rPr b="0" lang="en-US" sz="3200" spc="-1" strike="noStrike" baseline="30000">
                <a:solidFill>
                  <a:srgbClr val="a50021"/>
                </a:solidFill>
                <a:latin typeface="Comic Sans MS"/>
              </a:rPr>
              <a:t>47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Ag 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3203640" y="1268280"/>
            <a:ext cx="5651280" cy="368640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179280" y="1700280"/>
            <a:ext cx="309744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Kr] 5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4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Kr] 5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4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Kr] 5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4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Kr] 5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4d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BEE4C2-F201-426A-A5E2-3BB5421A3D7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indefinite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7" dur="indefinite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8" dur="indefinite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179280" y="765000"/>
            <a:ext cx="8748720" cy="5440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B39AF4-1B24-4BCD-8AB8-82E442FF07D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1118160" y="4295880"/>
            <a:ext cx="231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Paramagne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882000" y="4753080"/>
            <a:ext cx="288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npaired elect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1295280" y="5178600"/>
            <a:ext cx="1447920" cy="1064520"/>
            <a:chOff x="1295280" y="5178600"/>
            <a:chExt cx="1447920" cy="1064520"/>
          </a:xfrm>
        </p:grpSpPr>
        <p:grpSp>
          <p:nvGrpSpPr>
            <p:cNvPr id="232" name=""/>
            <p:cNvGrpSpPr/>
            <p:nvPr/>
          </p:nvGrpSpPr>
          <p:grpSpPr>
            <a:xfrm>
              <a:off x="1295280" y="5178600"/>
              <a:ext cx="1447920" cy="406440"/>
              <a:chOff x="1295280" y="5178600"/>
              <a:chExt cx="1447920" cy="406440"/>
            </a:xfrm>
          </p:grpSpPr>
          <p:sp>
            <p:nvSpPr>
              <p:cNvPr id="233" name=""/>
              <p:cNvSpPr/>
              <p:nvPr/>
            </p:nvSpPr>
            <p:spPr>
              <a:xfrm>
                <a:off x="1295280" y="5585040"/>
                <a:ext cx="3812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1828800" y="5585040"/>
                <a:ext cx="3808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2362320" y="5585040"/>
                <a:ext cx="3808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flipV="1">
                <a:off x="1359000" y="5178600"/>
                <a:ext cx="0" cy="380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flipV="1">
                <a:off x="1905120" y="5178600"/>
                <a:ext cx="0" cy="380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8" name=""/>
            <p:cNvSpPr/>
            <p:nvPr/>
          </p:nvSpPr>
          <p:spPr>
            <a:xfrm>
              <a:off x="1753200" y="5783400"/>
              <a:ext cx="54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2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9" name=""/>
          <p:cNvSpPr/>
          <p:nvPr/>
        </p:nvSpPr>
        <p:spPr>
          <a:xfrm>
            <a:off x="5702760" y="4292640"/>
            <a:ext cx="212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Diamagne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486400" y="4749840"/>
            <a:ext cx="291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l electrons pai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6095880" y="5173200"/>
            <a:ext cx="1447920" cy="1064880"/>
            <a:chOff x="6095880" y="5173200"/>
            <a:chExt cx="1447920" cy="1064880"/>
          </a:xfrm>
        </p:grpSpPr>
        <p:sp>
          <p:nvSpPr>
            <p:cNvPr id="242" name=""/>
            <p:cNvSpPr/>
            <p:nvPr/>
          </p:nvSpPr>
          <p:spPr>
            <a:xfrm>
              <a:off x="6095880" y="5580000"/>
              <a:ext cx="381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629400" y="5580000"/>
              <a:ext cx="380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162920" y="5580000"/>
              <a:ext cx="380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 flipV="1">
              <a:off x="6159600" y="5173200"/>
              <a:ext cx="0" cy="381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 flipV="1">
              <a:off x="6705720" y="5173200"/>
              <a:ext cx="0" cy="381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553800" y="5778360"/>
              <a:ext cx="54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2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 flipV="1">
              <a:off x="7238880" y="5187960"/>
              <a:ext cx="0" cy="380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362640" y="5187960"/>
              <a:ext cx="0" cy="380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896160" y="5200560"/>
              <a:ext cx="0" cy="381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442280" y="5200560"/>
              <a:ext cx="0" cy="381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2" name=""/>
          <p:cNvSpPr/>
          <p:nvPr/>
        </p:nvSpPr>
        <p:spPr>
          <a:xfrm>
            <a:off x="395280" y="620640"/>
            <a:ext cx="4248000" cy="567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a50021"/>
                </a:solidFill>
                <a:latin typeface="Comic Sans MS"/>
              </a:rPr>
              <a:t>Paramagnetic substance: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 is the that contain net </a:t>
            </a:r>
            <a:r>
              <a:rPr b="0" lang="en-GB" sz="2800" spc="-1" strike="noStrike" u="sng">
                <a:solidFill>
                  <a:srgbClr val="a50021"/>
                </a:solidFill>
                <a:uFillTx/>
                <a:latin typeface="Comic Sans MS"/>
              </a:rPr>
              <a:t>unpaired electrons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 in the outermost subshell </a:t>
            </a:r>
            <a:r>
              <a:rPr b="0" lang="ar-SA" sz="2800" spc="-1" strike="noStrike">
                <a:solidFill>
                  <a:srgbClr val="a50021"/>
                </a:solidFill>
                <a:latin typeface="Comic Sans MS"/>
              </a:rPr>
              <a:t>المجال الخارجي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and is attracted by a magn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e.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716360" y="620640"/>
            <a:ext cx="4248360" cy="610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00cc"/>
                </a:solidFill>
                <a:latin typeface="Comic Sans MS"/>
              </a:rPr>
              <a:t>Diamagnetic substance: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is the that do not contain net unpaired electrons (</a:t>
            </a:r>
            <a:r>
              <a:rPr b="0" lang="en-GB" sz="2800" spc="-1" strike="noStrike" u="sng">
                <a:solidFill>
                  <a:srgbClr val="9900cc"/>
                </a:solidFill>
                <a:uFillTx/>
                <a:latin typeface="Comic Sans MS"/>
              </a:rPr>
              <a:t>all electrons are paired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) in the outermost subshell </a:t>
            </a:r>
            <a:r>
              <a:rPr b="0" lang="ar-SA" sz="2800" spc="-1" strike="noStrike">
                <a:solidFill>
                  <a:srgbClr val="9900cc"/>
                </a:solidFill>
                <a:latin typeface="Comic Sans MS"/>
              </a:rPr>
              <a:t>المجال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2800" spc="-1" strike="noStrike">
                <a:solidFill>
                  <a:srgbClr val="9900cc"/>
                </a:solidFill>
                <a:latin typeface="Comic Sans MS"/>
              </a:rPr>
              <a:t>الخارجي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and is repelled by a magn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e.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57AD52-0A2D-4D77-AF6F-72E26AFA407B}" type="slidenum">
              <a:t>17</a:t>
            </a:fld>
          </a:p>
        </p:txBody>
      </p:sp>
    </p:spTree>
  </p:cSld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395280" y="476280"/>
            <a:ext cx="874872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9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Electronic configuration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: 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hort notation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:                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Orbital diagra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341440" y="35020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276720" y="3502080"/>
            <a:ext cx="57600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2720" y="35020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429080" y="35020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557440" y="36464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492360" y="36464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068720" y="36464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645080" y="36464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701800" y="36464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637080" y="36464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213080" y="36464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789440" y="36464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5365800" y="35020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581800" y="36464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971640" y="4221000"/>
            <a:ext cx="60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ar-SA" sz="18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3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258920" y="5157720"/>
            <a:ext cx="7129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Net one unpaired electron </a:t>
            </a: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→ 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 Paramagnetic subs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EE7B00-0036-4A6D-A0ED-C936C059D3C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395280" y="476280"/>
            <a:ext cx="87487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lectronic configuration: 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Orbital diagra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349800" y="2565360"/>
            <a:ext cx="57600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284720" y="256536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861080" y="2565360"/>
            <a:ext cx="57600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37080" y="256536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565440" y="270972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500720" y="270972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076720" y="270972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653080" y="270972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710160" y="270972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645080" y="270972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221440" y="270972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797440" y="270972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116000" y="3284640"/>
            <a:ext cx="60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ar-SA" sz="18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2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2p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187280" y="4149720"/>
            <a:ext cx="71298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All electrons are paired </a:t>
            </a: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→ 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Diamagnetic subs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2556000" y="2567160"/>
            <a:ext cx="576000" cy="502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771640" y="271152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916360" y="271152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851C0D-5F73-4A26-A2D1-72B0C8B2074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0" y="981000"/>
            <a:ext cx="9144000" cy="59644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250920" y="907920"/>
            <a:ext cx="81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utermost subshell being filled with elect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95280" y="333360"/>
            <a:ext cx="813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7.9 The Building-Up Princip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F7539C-A443-4F9C-B85E-CCD5BA01CE7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>
            <a:off x="-76320" y="1488960"/>
            <a:ext cx="9220320" cy="539604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/>
          <p:nvPr/>
        </p:nvSpPr>
        <p:spPr>
          <a:xfrm>
            <a:off x="468360" y="333360"/>
            <a:ext cx="82072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assification of representative elements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Comic Sans MS"/>
              </a:rPr>
              <a:t>Paramagnetic (P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or </a:t>
            </a:r>
            <a:r>
              <a:rPr b="1" lang="en-US" sz="2800" spc="-1" strike="noStrike">
                <a:solidFill>
                  <a:srgbClr val="00007d"/>
                </a:solidFill>
                <a:latin typeface="Comic Sans MS"/>
              </a:rPr>
              <a:t>Diamagnetic (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24000" y="119700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229440" y="162864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828720" y="1557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732720" y="162864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237440" y="162864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667640" y="162864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8172360" y="162864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8677440" y="1125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68360" y="1557360"/>
            <a:ext cx="0" cy="395928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971640" y="2060640"/>
            <a:ext cx="0" cy="3529080"/>
          </a:xfrm>
          <a:prstGeom prst="line">
            <a:avLst/>
          </a:prstGeom>
          <a:ln w="3816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372360" y="2060640"/>
            <a:ext cx="0" cy="345600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877080" y="1989000"/>
            <a:ext cx="0" cy="345600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317080" y="2060640"/>
            <a:ext cx="0" cy="345600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7380360" y="2060640"/>
            <a:ext cx="0" cy="345600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7812000" y="2060640"/>
            <a:ext cx="0" cy="345600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8820000" y="1557360"/>
            <a:ext cx="0" cy="3959280"/>
          </a:xfrm>
          <a:prstGeom prst="line">
            <a:avLst/>
          </a:prstGeom>
          <a:ln w="3816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D8C1D2-A91C-46D5-AFD6-2A08AC81E16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0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4"/>
          <p:cNvSpPr/>
          <p:nvPr/>
        </p:nvSpPr>
        <p:spPr>
          <a:xfrm>
            <a:off x="468360" y="1028880"/>
            <a:ext cx="220968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8"/>
          <p:cNvSpPr/>
          <p:nvPr/>
        </p:nvSpPr>
        <p:spPr>
          <a:xfrm>
            <a:off x="395280" y="115920"/>
            <a:ext cx="8748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How many unpaired electrons does 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selenium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 have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2771640" y="2852640"/>
            <a:ext cx="6083280" cy="396900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3419640" y="1052640"/>
            <a:ext cx="42480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3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e: 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4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Unpaired electrons is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140360" y="2349360"/>
            <a:ext cx="57600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4716360" y="234936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5292720" y="234936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500720" y="249408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5076720" y="249408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5653080" y="249408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4359240" y="249408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653360" y="2997360"/>
            <a:ext cx="58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4p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B532AD-7AA0-4300-BA43-E7CEB1B4A37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4"/>
          <p:cNvSpPr/>
          <p:nvPr/>
        </p:nvSpPr>
        <p:spPr>
          <a:xfrm>
            <a:off x="395280" y="1052640"/>
            <a:ext cx="220968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8"/>
          <p:cNvSpPr/>
          <p:nvPr/>
        </p:nvSpPr>
        <p:spPr>
          <a:xfrm>
            <a:off x="395280" y="44280"/>
            <a:ext cx="87487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How many unpaired electrons does chromium have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2771640" y="2852640"/>
            <a:ext cx="6083280" cy="396900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3059280" y="1273320"/>
            <a:ext cx="612108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r: 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(EXCEPTION)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r: 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Unpaired electrons is 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EA5FE9-1327-4CC5-90B8-8953AAA657F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2"/>
          <p:cNvSpPr/>
          <p:nvPr/>
        </p:nvSpPr>
        <p:spPr>
          <a:xfrm>
            <a:off x="395280" y="539640"/>
            <a:ext cx="822960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[He] 2s</a:t>
            </a:r>
            <a:r>
              <a:rPr b="0" lang="en-US" sz="3200" spc="-1" strike="noStrike" baseline="30000">
                <a:solidFill>
                  <a:srgbClr val="a50021"/>
                </a:solidFill>
                <a:latin typeface="Comic Sans MS"/>
              </a:rPr>
              <a:t>2 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2p</a:t>
            </a:r>
            <a:r>
              <a:rPr b="0" lang="en-US" sz="3200" spc="-1" strike="noStrike" baseline="30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 is the electron configuration of which el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3"/>
          <p:cNvSpPr/>
          <p:nvPr/>
        </p:nvSpPr>
        <p:spPr>
          <a:xfrm>
            <a:off x="108000" y="1955880"/>
            <a:ext cx="2666880" cy="26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erylli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or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carb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itro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2987640" y="1547640"/>
            <a:ext cx="5977080" cy="3897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030B6D-A5D4-455D-AF5E-7B1F44062DA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4"/>
          <p:cNvSpPr/>
          <p:nvPr/>
        </p:nvSpPr>
        <p:spPr>
          <a:xfrm>
            <a:off x="762120" y="1981080"/>
            <a:ext cx="777240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d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4s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3d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omic Sans MS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d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d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7"/>
          <p:cNvSpPr/>
          <p:nvPr/>
        </p:nvSpPr>
        <p:spPr>
          <a:xfrm>
            <a:off x="468360" y="490680"/>
            <a:ext cx="8675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What are the valence electrons</a:t>
            </a:r>
            <a:r>
              <a:rPr b="0" lang="ar-SA" sz="3200" spc="-1" strike="noStrike">
                <a:solidFill>
                  <a:srgbClr val="a50021"/>
                </a:solidFill>
                <a:latin typeface="Comic Sans MS"/>
              </a:rPr>
              <a:t>  </a:t>
            </a:r>
            <a:r>
              <a:rPr b="0" lang="ar-SA" sz="3200" spc="-1" strike="noStrike">
                <a:solidFill>
                  <a:srgbClr val="a50021"/>
                </a:solidFill>
                <a:latin typeface="Comic Sans MS"/>
              </a:rPr>
              <a:t>الكترونات التكافؤ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of vanadium (V)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3059280" y="1547640"/>
            <a:ext cx="5976720" cy="389736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>
            <a:off x="1042920" y="5437080"/>
            <a:ext cx="8101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3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: 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a50021"/>
                </a:solidFill>
                <a:latin typeface="Comic Sans MS"/>
              </a:rPr>
              <a:t>THUS: The valence electrons are 4s</a:t>
            </a:r>
            <a:r>
              <a:rPr b="1" lang="en-GB" sz="2800" spc="-1" strike="noStrike" baseline="30000">
                <a:solidFill>
                  <a:srgbClr val="a50021"/>
                </a:solidFill>
                <a:latin typeface="Comic Sans MS"/>
              </a:rPr>
              <a:t>2</a:t>
            </a:r>
            <a:r>
              <a:rPr b="1" lang="en-GB" sz="2800" spc="-1" strike="noStrike">
                <a:solidFill>
                  <a:srgbClr val="a50021"/>
                </a:solidFill>
                <a:latin typeface="Comic Sans MS"/>
              </a:rPr>
              <a:t> 3d</a:t>
            </a:r>
            <a:r>
              <a:rPr b="1" lang="en-GB" sz="2800" spc="-1" strike="noStrike" baseline="30000">
                <a:solidFill>
                  <a:srgbClr val="a50021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9A6E8A-5A8D-4348-925A-F283226E5E9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4"/>
          <p:cNvSpPr/>
          <p:nvPr/>
        </p:nvSpPr>
        <p:spPr>
          <a:xfrm>
            <a:off x="324000" y="1700280"/>
            <a:ext cx="309564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d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d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4s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4p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7"/>
          <p:cNvSpPr/>
          <p:nvPr/>
        </p:nvSpPr>
        <p:spPr>
          <a:xfrm>
            <a:off x="380880" y="380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What are the valence electrons of gallium Ga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3059280" y="1044720"/>
            <a:ext cx="5976720" cy="389700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/>
          <p:nvPr/>
        </p:nvSpPr>
        <p:spPr>
          <a:xfrm>
            <a:off x="2268360" y="5189400"/>
            <a:ext cx="68043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31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a: [Ar] 4s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4p</a:t>
            </a:r>
            <a:r>
              <a:rPr b="0" lang="ar-SA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Valence electrons are in the highest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a50021"/>
                </a:solidFill>
                <a:latin typeface="Comic Sans MS"/>
              </a:rPr>
              <a:t>THUS: The valence electrons are 4s</a:t>
            </a:r>
            <a:r>
              <a:rPr b="1" lang="en-GB" sz="2400" spc="-1" strike="noStrike" baseline="30000">
                <a:solidFill>
                  <a:srgbClr val="a50021"/>
                </a:solidFill>
                <a:latin typeface="Comic Sans MS"/>
              </a:rPr>
              <a:t>2</a:t>
            </a:r>
            <a:r>
              <a:rPr b="1" lang="en-GB" sz="2400" spc="-1" strike="noStrike">
                <a:solidFill>
                  <a:srgbClr val="a50021"/>
                </a:solidFill>
                <a:latin typeface="Comic Sans MS"/>
              </a:rPr>
              <a:t> 4p</a:t>
            </a:r>
            <a:r>
              <a:rPr b="1" lang="ar-SA" sz="2400" spc="-1" strike="noStrike" baseline="30000">
                <a:solidFill>
                  <a:srgbClr val="a50021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083D9B-0B0E-4845-A029-FB2069448EA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2268000" y="2421000"/>
            <a:ext cx="5170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nd of Chapter 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FE7245-227B-4772-BED8-BC2CB637C8E6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0" y="981000"/>
            <a:ext cx="9144000" cy="59644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250920" y="907920"/>
            <a:ext cx="81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utermost subshell being filled with elect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-34920" y="1341360"/>
            <a:ext cx="9144000" cy="51483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5280" y="333360"/>
            <a:ext cx="813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7.9 The Building-Up Princip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2BFBCE-F383-4D69-9E3D-C7E1AE84EE3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2409840" y="476280"/>
            <a:ext cx="6554880" cy="206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11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a         (3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rd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perio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ar-SA" sz="3200" spc="-1" strike="noStrike" baseline="30000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(O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[Ne] 3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24000" y="2997360"/>
            <a:ext cx="3414600" cy="35272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4067280" y="4653000"/>
            <a:ext cx="4932360" cy="181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      (3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rd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period)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O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Ne]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427640" y="2697120"/>
            <a:ext cx="4248000" cy="181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g         (3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rd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perio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       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O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Ne]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920" y="476280"/>
            <a:ext cx="266544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The electron configur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9900cc"/>
                </a:solidFill>
                <a:latin typeface="Comic Sans MS"/>
              </a:rPr>
              <a:t>11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Na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9900cc"/>
                </a:solidFill>
                <a:latin typeface="Comic Sans MS"/>
              </a:rPr>
              <a:t>12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Mg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9900cc"/>
                </a:solidFill>
                <a:latin typeface="Comic Sans MS"/>
              </a:rPr>
              <a:t>16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S 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DD7701-B613-43D6-BD08-4BE0A559C06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79280" y="3357720"/>
            <a:ext cx="2786040" cy="287964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2484360" y="944640"/>
            <a:ext cx="6335640" cy="206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19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32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ar-SA" sz="32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1 </a:t>
            </a:r>
            <a:r>
              <a:rPr b="0" lang="ar-SA" sz="3200" spc="-1" strike="noStrike" baseline="30000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(O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[Ar] 4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059280" y="4930920"/>
            <a:ext cx="5833800" cy="1595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3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  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0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4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OR)   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4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349800" y="3057480"/>
            <a:ext cx="5614920" cy="181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0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 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O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95280" y="404640"/>
            <a:ext cx="482436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The electron configur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19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K 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20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Ca  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34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Se 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B1FEEA-4B92-4A12-BDA2-91F77D9CE1B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395280" y="333360"/>
            <a:ext cx="828036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00cc"/>
                </a:solidFill>
                <a:latin typeface="Comic Sans MS"/>
              </a:rPr>
              <a:t>Noble Gases: </a:t>
            </a:r>
            <a:r>
              <a:rPr b="0" lang="en-GB" sz="3200" spc="-1" strike="noStrike">
                <a:solidFill>
                  <a:srgbClr val="9900cc"/>
                </a:solidFill>
                <a:latin typeface="Comic Sans MS"/>
              </a:rPr>
              <a:t>elements with electron configuration of complete s &amp;  p subsh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1" lang="en-GB" sz="3200" spc="-1" strike="noStrike">
                <a:solidFill>
                  <a:srgbClr val="9900cc"/>
                </a:solidFill>
                <a:latin typeface="Comic Sans MS"/>
              </a:rPr>
              <a:t>(He, Ne, Ar, Kr, Xe, Rn)</a:t>
            </a:r>
            <a:r>
              <a:rPr b="1" lang="ar-SA" sz="3200" spc="-1" strike="noStrike">
                <a:solidFill>
                  <a:srgbClr val="9900cc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00cc"/>
                </a:solidFill>
                <a:latin typeface="Comic Sans MS"/>
              </a:rPr>
              <a:t>Group 8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1476360" y="2894040"/>
            <a:ext cx="6120000" cy="399096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7236000" y="3141720"/>
            <a:ext cx="360360" cy="237492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A9D28F-4D89-447C-8BE0-654D24880FF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395280" y="620640"/>
            <a:ext cx="828036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Representative Elements: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 elements with electron configuration of incompletely filled s or p subshe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Comic Sans MS"/>
              </a:rPr>
              <a:t>Elements in Groups 1A-to-7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1547640" y="2873520"/>
            <a:ext cx="6048720" cy="394488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1547640" y="3141720"/>
            <a:ext cx="720720" cy="2303280"/>
          </a:xfrm>
          <a:prstGeom prst="rect">
            <a:avLst/>
          </a:prstGeom>
          <a:noFill/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580000" y="3500280"/>
            <a:ext cx="1656000" cy="1944720"/>
          </a:xfrm>
          <a:prstGeom prst="rect">
            <a:avLst/>
          </a:prstGeom>
          <a:noFill/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45CF05-EF7D-48D6-AEE0-DAF89B54622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79280" y="3429000"/>
            <a:ext cx="2716200" cy="280836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2411280" y="944640"/>
            <a:ext cx="6659640" cy="206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1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32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ar-SA" sz="32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1 </a:t>
            </a:r>
            <a:r>
              <a:rPr b="0" lang="ar-SA" sz="3200" spc="-1" strike="noStrike" baseline="30000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(O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[Ar] 4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987640" y="5002200"/>
            <a:ext cx="5977080" cy="181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30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Z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0 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O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3840" y="404640"/>
            <a:ext cx="50418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The electron configur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21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Sc 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23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V  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30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Zn 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987640" y="3130560"/>
            <a:ext cx="5977080" cy="181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3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3 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O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4DD31E-3AF6-4721-8D08-4E4385C76F4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042920" y="365040"/>
            <a:ext cx="8064720" cy="47196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2771640" y="401760"/>
            <a:ext cx="410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Short No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39640" y="119700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[He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39640" y="162864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[Ne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39640" y="206064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[Ar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39640" y="242712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[Kr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82560" y="2859120"/>
            <a:ext cx="647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4920" y="5083200"/>
            <a:ext cx="2521080" cy="15721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i: [He] 2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: [He] 2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771640" y="5056200"/>
            <a:ext cx="2448000" cy="15721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a: [Ne] 3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: [Ne] 3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3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435640" y="5083200"/>
            <a:ext cx="3457440" cy="1572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K: [Ar] 4s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Br: [Ar] 4s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4p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3D6A32-0D68-4D33-B842-B664666B39C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6T16:44:59Z</dcterms:created>
  <dc:creator>suha</dc:creator>
  <dc:description/>
  <dc:language>en-US</dc:language>
  <cp:lastModifiedBy>suha</cp:lastModifiedBy>
  <dcterms:modified xsi:type="dcterms:W3CDTF">2012-02-27T16:38:08Z</dcterms:modified>
  <cp:revision>939</cp:revision>
  <dc:subject/>
  <dc:title>General Chemistry CHEM 110</dc:title>
</cp:coreProperties>
</file>