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AA310-B241-4E5B-BEFC-3B24159C2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4B604-1C03-47F3-BA07-1DA41BC7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FDB16-B590-454E-95D9-DD30A0D5F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6BBBE-9377-418F-A2CC-F724D1FC3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5284B-DBB5-4FB2-9C6C-5780AE0B7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896A-15F8-4B84-A769-F5491890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522D-C720-4829-AD2B-147A693C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1FC2-B409-4D9C-BE8F-F366710A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3D7B-BB49-4D8C-9871-BE5EF853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052D-E601-4C41-A92E-F947EC99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5130-0610-4BED-9A57-47DF5B19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A63F1-1506-4D07-B232-8CCE6D83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D486-4561-436F-9867-FFD36DDC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A5F05-D134-4BFC-94D3-DE696676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66DAE-B5ED-43E6-99BE-7CCA1B7C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72A8-0DF0-4C3E-99BF-E0571DC2D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66B4-4C80-4EFC-AB0A-A5BA22A26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2B84C-1821-4383-853A-E1028F20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C289D-20DA-4642-B4D7-8B61E170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A0906-D9A2-4E57-B692-D78372CE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41590-93AD-4C51-B1BA-8CFBF193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D0C97-58FD-4995-AD52-95626657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50831-ACE6-4B80-BBC3-2A8330CC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2B46B-63C8-4854-8B9A-38D49937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21C3-BA82-45E7-BED8-D26FDFF0A255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B63E-3CEE-4D23-9CB4-E08D7354FC20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Erwin_Schrodinger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822C-6136-4CA9-9609-671AD963855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692280"/>
            <a:ext cx="856908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or any value of 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re is (2l+1)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0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0)+1 = 1 one value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1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1) + 1 = 3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-1, 0, 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51885-1563-46FA-8203-52B6667E54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77800" y="669960"/>
            <a:ext cx="33465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-1, 0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84640" y="59688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31680" y="2087640"/>
            <a:ext cx="3017880" cy="3429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083040" y="2130480"/>
            <a:ext cx="2828880" cy="3233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114960" y="2087640"/>
            <a:ext cx="292104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830FE-649D-400D-B0F5-E6C7A6E6F2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3941640"/>
            <a:ext cx="2720880" cy="2943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95360" y="941400"/>
            <a:ext cx="2476440" cy="2819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23880" y="365040"/>
            <a:ext cx="314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-2, -1, 0, 1,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9920" y="36504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048120" y="1170000"/>
            <a:ext cx="2660400" cy="3029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867280" y="941400"/>
            <a:ext cx="2908440" cy="3171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066680" y="3989520"/>
            <a:ext cx="2500560" cy="287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B1A0F-388A-4860-A914-319B45FC0D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60360" y="29520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Electron Spin 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s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081080"/>
            <a:ext cx="81356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Spin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½ or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termines the electron sp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348000" y="3284640"/>
            <a:ext cx="2745000" cy="33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D7FA3-DBEA-4886-B29E-FA05EF67D3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476280"/>
            <a:ext cx="83516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6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List the values of n, l and 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for orbitals in 4d subsh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2133720"/>
            <a:ext cx="561636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4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4-1) = 0, 1, 2,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BU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 means l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2, -1, 0, +1,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84720" y="2276640"/>
            <a:ext cx="2521080" cy="318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f it’s a mult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choices ques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3E5E7-7F3B-48D1-AD75-57E3F9C391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60360" y="1066680"/>
            <a:ext cx="8604360" cy="4308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4000" y="2708280"/>
            <a:ext cx="8820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4724280"/>
            <a:ext cx="8820000" cy="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3429000"/>
            <a:ext cx="8820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9F33D-41DF-4A5B-ACAC-E579FAF284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47628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7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total number of orbitals associated with the principal quantum number n = 3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981080"/>
            <a:ext cx="9325080" cy="47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           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n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3-1) = 0, 1,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l = 0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0   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           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ne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l = 1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1, 0, +1</a:t>
            </a:r>
            <a:r>
              <a:rPr b="0" lang="ar-SA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ree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l = 2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+2, -1, 0, +1, +2 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Five Orbital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tal Number of Orbitals:  9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OR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Total Number of Orbitals = n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3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5734080"/>
            <a:ext cx="871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19E45-CFF3-4DE8-8502-836E8C51C7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48680" y="933480"/>
            <a:ext cx="5345640" cy="602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a50021"/>
                </a:solidFill>
                <a:latin typeface="Comic Sans MS"/>
              </a:rPr>
              <a:t>n = 1, 2 , 3, 4 …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00cc"/>
                </a:solidFill>
                <a:latin typeface="Comic Sans MS"/>
              </a:rPr>
              <a:t>l = 0 to (n-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ff00ff"/>
                </a:solidFill>
                <a:latin typeface="Comic Sans MS"/>
              </a:rPr>
              <a:t>l</a:t>
            </a: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 = -l to 0 to +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9999ff"/>
                </a:solidFill>
                <a:latin typeface="Comic Sans MS"/>
              </a:rPr>
              <a:t>s</a:t>
            </a:r>
            <a:r>
              <a:rPr b="0" lang="ar-SA" sz="4800" spc="-1" strike="noStrike">
                <a:solidFill>
                  <a:srgbClr val="9999ff"/>
                </a:solidFill>
                <a:latin typeface="Comic Sans MS"/>
              </a:rPr>
              <a:t> = </a:t>
            </a: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+½ or -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620640"/>
            <a:ext cx="187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E1C64-9C99-4F9D-B6B7-D59224100D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476280"/>
            <a:ext cx="8351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ich of the following is </a:t>
            </a: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impossible to b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quantum number set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3, -2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2, -1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5, 0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1, -2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1773360"/>
            <a:ext cx="3529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Comic Sans MS"/>
              </a:rPr>
              <a:t>لايمكن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 ان يكون مجموعة صحيحه من  ارقام الكم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E825F-B6F0-440E-8B15-F6B9577A91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7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3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6840" y="475920"/>
            <a:ext cx="5267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2s &amp; 2p are in the same shell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ub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subshel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 جزئي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rbita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electrons with the same values of n, l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orbita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د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27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85080" y="162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4364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24400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75480" y="141300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02400" y="1413000"/>
            <a:ext cx="11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84720" y="2846520"/>
          <a:ext cx="2664000" cy="5173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 flipV="1">
            <a:off x="6516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524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50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8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962680" y="4933800"/>
          <a:ext cx="2663640" cy="51768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 flipV="1">
            <a:off x="6394320" y="50781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88000" y="5078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5510160"/>
            <a:ext cx="110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22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244000" y="5589720"/>
            <a:ext cx="734760" cy="126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AB7CE-12AB-4B5A-A53F-2238300B7F5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suggestion that the energy of the an electron in an atom is Quantized was a significant contribution, 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theory did not provide a complete description of electronic behaviour in atom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26 Erwi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rote an equation that specifies the energy states of the electron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identifies the corresponding wave functions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These energy states and wave functions are characterized by a set of Quantum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’s equation can only be solved exactly for the hydrogen atom.  Must approximate its solution for multi-electro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21600" y="115920"/>
            <a:ext cx="914400" cy="115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68360" y="4292640"/>
                <a:ext cx="579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8088F-5C3A-4CF4-83E7-0054AC0EC2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89960" y="388800"/>
            <a:ext cx="74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2p orbitals are there in a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02560" y="172260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203840" y="996840"/>
            <a:ext cx="717120" cy="755640"/>
            <a:chOff x="1203840" y="996840"/>
            <a:chExt cx="717120" cy="755640"/>
          </a:xfrm>
        </p:grpSpPr>
        <p:sp>
          <p:nvSpPr>
            <p:cNvPr id="200" name=""/>
            <p:cNvSpPr/>
            <p:nvPr/>
          </p:nvSpPr>
          <p:spPr>
            <a:xfrm>
              <a:off x="1203840" y="99684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70320" y="144756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368720" y="2209680"/>
            <a:ext cx="766080" cy="694440"/>
            <a:chOff x="1368720" y="2209680"/>
            <a:chExt cx="766080" cy="694440"/>
          </a:xfrm>
        </p:grpSpPr>
        <p:sp>
          <p:nvSpPr>
            <p:cNvPr id="203" name=""/>
            <p:cNvSpPr/>
            <p:nvPr/>
          </p:nvSpPr>
          <p:spPr>
            <a:xfrm>
              <a:off x="1368720" y="24444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765080" y="220968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462760" y="1378080"/>
            <a:ext cx="412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1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1, 0, or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61320" y="198756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8862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electrons can be placed in the 3d subsh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03800" y="549288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397520" y="4767120"/>
            <a:ext cx="717120" cy="755640"/>
            <a:chOff x="1397520" y="4767120"/>
            <a:chExt cx="717120" cy="755640"/>
          </a:xfrm>
        </p:grpSpPr>
        <p:sp>
          <p:nvSpPr>
            <p:cNvPr id="210" name=""/>
            <p:cNvSpPr/>
            <p:nvPr/>
          </p:nvSpPr>
          <p:spPr>
            <a:xfrm>
              <a:off x="1397520" y="47671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64000" y="521784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559880" y="5979960"/>
            <a:ext cx="766080" cy="694440"/>
            <a:chOff x="1559880" y="5979960"/>
            <a:chExt cx="766080" cy="694440"/>
          </a:xfrm>
        </p:grpSpPr>
        <p:sp>
          <p:nvSpPr>
            <p:cNvPr id="213" name=""/>
            <p:cNvSpPr/>
            <p:nvPr/>
          </p:nvSpPr>
          <p:spPr>
            <a:xfrm>
              <a:off x="1559880" y="621468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931760" y="597996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513160" y="4883040"/>
            <a:ext cx="506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2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2, -1, 0, +1, or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70320" y="5492880"/>
            <a:ext cx="58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orbitals which can hold a total of 10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038480" y="1863720"/>
            <a:ext cx="4724640" cy="1819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95280" y="393372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3528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1164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8000" y="6021360"/>
            <a:ext cx="576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6400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036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5128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03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80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56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0072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645336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2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6692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4328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19640" y="2997360"/>
            <a:ext cx="57600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35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627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0364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8000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63640" y="347652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5A601-7D33-429A-83E9-E7D5406BAED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1944720"/>
            <a:ext cx="88200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derived from the mathematical solution of the Schrödinger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ive a full description of the electron of the hydrogen atom and other a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hat are these Quantum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The Principal Quantum Number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he Angular Momentum Quantum Number (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Magnetic Quantum Number (m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Spin Quantum Number (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1125360"/>
            <a:ext cx="3456000" cy="78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n, l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E5263-03D7-4961-8A92-C5660DA578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84360" y="3951360"/>
            <a:ext cx="5394240" cy="2921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33336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Principal Quantum Number (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14880" y="4869000"/>
            <a:ext cx="1445760" cy="520560"/>
            <a:chOff x="1514880" y="4869000"/>
            <a:chExt cx="1445760" cy="520560"/>
          </a:xfrm>
        </p:grpSpPr>
        <p:sp>
          <p:nvSpPr>
            <p:cNvPr id="118" name=""/>
            <p:cNvSpPr/>
            <p:nvPr/>
          </p:nvSpPr>
          <p:spPr>
            <a:xfrm>
              <a:off x="1514880" y="4869000"/>
              <a:ext cx="107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1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5116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179160" y="4795920"/>
            <a:ext cx="1537200" cy="520560"/>
            <a:chOff x="3179160" y="4795920"/>
            <a:chExt cx="1537200" cy="520560"/>
          </a:xfrm>
        </p:grpSpPr>
        <p:sp>
          <p:nvSpPr>
            <p:cNvPr id="121" name=""/>
            <p:cNvSpPr/>
            <p:nvPr/>
          </p:nvSpPr>
          <p:spPr>
            <a:xfrm>
              <a:off x="3179160" y="479592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2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06880" y="504684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627160" y="4869000"/>
            <a:ext cx="1537200" cy="520560"/>
            <a:chOff x="5627160" y="4869000"/>
            <a:chExt cx="1537200" cy="520560"/>
          </a:xfrm>
        </p:grpSpPr>
        <p:sp>
          <p:nvSpPr>
            <p:cNvPr id="124" name=""/>
            <p:cNvSpPr/>
            <p:nvPr/>
          </p:nvSpPr>
          <p:spPr>
            <a:xfrm>
              <a:off x="5627160" y="486900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3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5488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24000" y="1052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principal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 = 1, 2 , 3, 4 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energy of an orbital → determines the distance of the electron from the nucleu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igger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energ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rther from the nucleu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682AD-8A25-4A1A-81F6-99CBC72B74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" dur="1" fill="hold"/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5824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Angular Momentum  Quantum Number (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44000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Angular Momentum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pends on the value of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 = 0 to (n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.g. for n = 1; there is one value of l; l =0 to  (n-1) = (1-1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.g. for n =2; two values of l; l = 0 to (2-1); l =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e.g. for n = 3; three values of l; l = 0 to (3-1); l = 0, 1, 2 and so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alue of l is designated by let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shape of the orbi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76360" y="4986360"/>
          <a:ext cx="5472000" cy="1035000"/>
        </p:xfrm>
        <a:graphic>
          <a:graphicData uri="http://schemas.openxmlformats.org/drawingml/2006/table">
            <a:tbl>
              <a:tblPr/>
              <a:tblGrid>
                <a:gridCol w="2882880"/>
                <a:gridCol w="576360"/>
                <a:gridCol w="503280"/>
                <a:gridCol w="503280"/>
                <a:gridCol w="5029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orbi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9D2BA-0FD6-4E13-9D69-B091370FA7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00000" y="933480"/>
            <a:ext cx="5181840" cy="2806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67760" y="43344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0 (s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58920" y="3917880"/>
            <a:ext cx="6553080" cy="2895480"/>
            <a:chOff x="1258920" y="3917880"/>
            <a:chExt cx="6553080" cy="28954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258920" y="4290840"/>
              <a:ext cx="655308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111840" y="391788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= 1 (p orbital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564000" y="4437000"/>
            <a:ext cx="5329080" cy="24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6381720"/>
            <a:ext cx="720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1484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كر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27640" y="515772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الفصوص او الاجر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4744B-A141-4692-8927-C9EFB0EEA2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310200" y="10126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2 (d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2081160"/>
            <a:ext cx="8991720" cy="2102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8000" y="2133720"/>
            <a:ext cx="792036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789360"/>
            <a:ext cx="1368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AA384-AB59-4030-A9C1-CAE3AD8C06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55640" y="765000"/>
            <a:ext cx="71294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n = 1; l = 0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1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n = 2; l = 0 &amp; 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2s &amp; 2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n = 3; l = 0, 1,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3s, 3p,  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8727C-4E30-47A4-83E3-22C6BD601E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60360" y="2602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Magnetic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l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863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agnetic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pends on the value of 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-l to 0 to +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for l = 0; there is one value of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e.g. for l =1; three values of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Comic Sans MS"/>
              </a:rPr>
              <a:t>=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-1, 0,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e.g. for l = 2; five values of 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 = -2, -1, 0, +1, 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e.g. for l = 3; seven values of 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 = -3,-2, -1, 0, +1, +2, +3 And s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termines the orientation of the orbi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6A4A4-5AB0-4D7A-ADA2-761D19FA59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5:48Z</dcterms:modified>
  <cp:revision>939</cp:revision>
  <dc:subject/>
  <dc:title>General Chemistry CHEM 110</dc:title>
</cp:coreProperties>
</file>