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15421-CA12-4A3C-B4F2-24379C87E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8CB1E-F5D1-457B-9B58-DFE73DDE7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54E5B-EB09-4514-B972-66DBF5B57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23006-88B6-4775-8A57-3308EA8C6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AADC7-760F-49BE-94D8-0864F61A4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7E360-36DA-4C98-978C-A237290EE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D901E-221A-4208-BA0F-6B0FD19BD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91D8A-879E-48DD-9835-15D711B26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2E742-8C72-4E0E-9006-D9197FAFA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DAACB-E283-490D-9BEF-21B21A624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D0046-3F32-4539-A756-ED45EDD4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3CC7A-9B4C-4E7E-A2FA-36686B184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F0830-39CE-46DB-BF0B-547E66BA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D3838-2C40-47CB-96E2-F5AF7605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1AE2B-DED5-4EC7-90FB-7F228FB8B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8A8BE-91D6-4776-90DB-5B9FC2B0B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E319E-B988-4DB8-81C0-258DBE7D3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A3EC4-C21E-47E7-BE02-D4A8E7195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805E4-BA12-43D1-B462-46D848AD5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B511D-D702-413E-97BA-3DF111B5B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A8C37-BE3E-480A-B099-C9261C819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48CBC-87C0-4615-98A5-3979BA77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32C7A-2BA6-45BF-8A29-371F5CC7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5B497-60AA-4872-96B0-6A27A01C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E6707-BF84-44BB-9793-0B4CD69FEBBA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9BE32-3298-4778-AE4F-241B3ADF3BA7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F4C19-ADA1-4423-9715-A6224BD1A12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80880" y="182520"/>
            <a:ext cx="8610840" cy="408456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533520" y="4187880"/>
            <a:ext cx="7924680" cy="2079720"/>
            <a:chOff x="533520" y="4187880"/>
            <a:chExt cx="7924680" cy="2079720"/>
          </a:xfrm>
        </p:grpSpPr>
        <p:sp>
          <p:nvSpPr>
            <p:cNvPr id="133" name=""/>
            <p:cNvSpPr/>
            <p:nvPr/>
          </p:nvSpPr>
          <p:spPr>
            <a:xfrm>
              <a:off x="832320" y="4187880"/>
              <a:ext cx="751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Line Emission Spectrum of Hydrogen Atom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533520" y="4648320"/>
              <a:ext cx="7924680" cy="161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5F686-64DB-4A90-8FD7-5A2334ED4B0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195640" y="1052640"/>
            <a:ext cx="5329080" cy="51624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859280" y="476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2492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90792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285264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91C1C-335E-42A1-B36F-97BFF174832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energies of the electron in the H atom are given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 = 1 Ground State 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الحاله الارضيه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 = 2, 3, 4, … Excited States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الحالات المثاره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971640" y="1773360"/>
                <a:ext cx="7848360" cy="29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Rydberg constant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integer called the principal quantum number;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, 2, 3,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FBB8B-A2B9-4B07-8E6D-270C50A3186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83040" y="765000"/>
            <a:ext cx="5126040" cy="5616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24000" y="620640"/>
                <a:ext cx="3905280" cy="525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324000" y="4653000"/>
            <a:ext cx="3024000" cy="122400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0CD00-17D8-46D2-B705-B4343084F00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95280" y="1015920"/>
                <a:ext cx="3024360" cy="12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539640" y="3141720"/>
            <a:ext cx="8353440" cy="35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If n</a:t>
            </a:r>
            <a:r>
              <a:rPr b="1" lang="en-GB" sz="36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&gt; n</a:t>
            </a:r>
            <a:r>
              <a:rPr b="1" lang="en-GB" sz="36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(+ve) 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a50021"/>
                </a:solidFill>
                <a:latin typeface="Comic Sans MS"/>
              </a:rPr>
              <a:t>Δ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E (+ve)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Energy is absorbed</a:t>
            </a: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If n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i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&gt; n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f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(-ve) 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Δ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E (-ve)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Energy is emitted</a:t>
            </a: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91280" y="1052640"/>
            <a:ext cx="217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91280" y="2276640"/>
            <a:ext cx="217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588000" y="1052640"/>
            <a:ext cx="0" cy="1224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722920" y="1052640"/>
            <a:ext cx="0" cy="1224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659640" y="1341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nergy absor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27640" y="1125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Energy emi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284720" y="691920"/>
            <a:ext cx="0" cy="1942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80000" y="141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443640" y="21798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43640" y="59544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24560" y="62064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24560" y="21798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7A74C-3574-42CB-AA66-DB58D2B4CA7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95280" y="333360"/>
            <a:ext cx="813744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4 p28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at is the wavelength of a photon (in nm) emitted during a transition from the n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= 5 state to the n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= 2 state in the hydrogen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2920" y="2421000"/>
            <a:ext cx="889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000" y="2492280"/>
            <a:ext cx="8893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5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gt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→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DFKai-SB"/>
              </a:rPr>
              <a:t>Δ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 =-ve (energy is emit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in nm)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037040" y="4149720"/>
                <a:ext cx="2943360" cy="22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ΔE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317B7-7F13-4A4D-A34E-0AEB7525773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79280" y="549360"/>
                <a:ext cx="7848720" cy="55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5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ΔE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x 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0 x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8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34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5508720" y="5157720"/>
            <a:ext cx="34560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66"/>
                </a:solidFill>
                <a:latin typeface="Comic Sans MS"/>
              </a:rPr>
              <a:t>لاحظي ان الطاقه اخذت باشاره موجبه لان الطول الموجي لايمكن ان يكون قيمه سالبه</a:t>
            </a:r>
            <a:r>
              <a:rPr b="1" lang="ar-SA" sz="2400" spc="-1" strike="noStrike">
                <a:solidFill>
                  <a:srgbClr val="003366"/>
                </a:solidFill>
                <a:latin typeface="Comic Sans MS"/>
              </a:rPr>
              <a:t>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DB44D-C086-4486-8A18-4C31148FFE0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lank’s Quantum The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66358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n solids are heated, they emit electromagnetic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ACT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amount of radiant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energy emitted by an object at a certain temperature DEPENDS on the WAVELEN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lassical physics failed in explaining why this happen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lassical physics: assumed that atoms or molecules could emit (or absorb) any amount of energy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lank explain this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nergy (light) is emitted or absorbed in discrete units (quantum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Documents and Settings\DELL-XPS\Desktop\chem110\Max_Planck.png"/>
          <p:cNvPicPr/>
          <p:nvPr/>
        </p:nvPicPr>
        <p:blipFill>
          <a:blip r:embed="rId1"/>
          <a:stretch/>
        </p:blipFill>
        <p:spPr>
          <a:xfrm>
            <a:off x="7524720" y="4581360"/>
            <a:ext cx="1403280" cy="2087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020000" y="127008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7091280" y="44280"/>
            <a:ext cx="1728720" cy="113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A2044-AA80-4C94-AFF9-9EB326E66E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9152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Quantum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the smallest quantity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nergy that can be emitted (or absorb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the form of electromagnetic radi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Quantum is given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: is the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: Plank’s constant, h = 6.6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J.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frequency of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Quantum Theory: energy is always emitted in integrals multiples of 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2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3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…………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50920" y="2532240"/>
                <a:ext cx="42498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hν</m:t>
                    </m:r>
                    <m:r>
                      <m:t xml:space="preserve">⇒</m:t>
                    </m:r>
                    <m:r>
                      <m:t xml:space="preserve">E</m:t>
                    </m:r>
                    <m:r>
                      <m:t xml:space="preserve">∝</m:t>
                    </m:r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716360" y="2060640"/>
            <a:ext cx="2952720" cy="22114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740720" y="285264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Quantization Princip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33246-4846-4438-A360-3E3CADF39A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195640" y="836640"/>
                <a:ext cx="3654360" cy="576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hν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F9772-D26C-4923-8E8C-6749C30F41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93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2 p280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alculate the energy (in J) of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a) a photon with a wavelength of 5.0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nm (IR region)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b) a photon with a wavelength of 5.0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-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nm (X-ray region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321300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3284640"/>
            <a:ext cx="77058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n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 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m → E (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b)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1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 → E (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73EA9-1711-4C0A-9C0D-6BD28E26D3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68360" y="549360"/>
                <a:ext cx="8064360" cy="20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68360" y="3141720"/>
                <a:ext cx="8136000" cy="20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174B5-A404-43EE-8945-BE9A44CC280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3 Bohr’s Theory of Hydroge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mission Spectr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atoms are brigh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lin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spectral lines) in the visible spect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ission spectrum of any atom is a finger print (lines appeared at specific wavelength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0CDED-7E71-4BA9-9EF5-C68E1F81E13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9640" y="835200"/>
            <a:ext cx="8088480" cy="5883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547640" y="379440"/>
            <a:ext cx="64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Emission Spectra of som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6CE7A-3FE5-455A-B262-F54E846776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617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mission spectrum of Hydrogen Atom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il Bohr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tudy the emission spectrum of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Hydrogen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hr postulates that the electron is occupied ONLY certain orbits of specific energi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he energies of the electron are quant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 the emission spectrum of the H atom results from: the hydrogen atom is energis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ectron excited to higher energy orbi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op to a lower-energy orbit emits a quantum of energy (l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842240" y="44280"/>
            <a:ext cx="1160640" cy="165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26730-6FBF-41CB-B208-D2FFB91D47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8T20:14:15Z</dcterms:modified>
  <cp:revision>940</cp:revision>
  <dc:subject/>
  <dc:title>General Chemistry CHEM 110</dc:title>
</cp:coreProperties>
</file>