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D01C0-3CF0-4B5A-9B08-EA8399476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94CB1-8C20-4D12-B549-C46D447D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AE2EE-FD80-4E6C-9BC4-523FB8835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9C29B-317E-4A30-A514-797AEA898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CDEE-44DC-40B1-8DB3-3B0E778A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2491-D11B-4A6A-B2A4-F74D4315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317C-2AFA-451D-83C5-4805A94C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DFEF-45A3-4F12-A4B8-8C19A2FA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88E2-1203-4581-8AD7-1524CAE7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EE34-7A23-4198-AB35-931B7B78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EA5A-FD0D-4FEB-9A06-685664D2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F16A8-A0BF-4B75-BB9A-AFC968EB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CEBE-A8E3-432B-91B1-1BBF9ACD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6AEC-8485-4CD1-BA34-4846DE11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3A9C-EAD1-4230-AC7D-8B9B76A3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8630-2732-4AFB-AA86-31FDBD7FE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994B-579A-425B-9AFC-8A8135175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341E6-59F0-4E1A-B353-DEA0DC4F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D93CD-3A95-4681-BA79-DEE128CA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6CE5A-B995-403A-BD5C-33752D2F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BFB5A-316E-456A-9D62-464FD5C4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F24FE-B6EE-4139-8F2E-DB2DE444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022B9-4AE9-4066-AF5F-5C0D3614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ABFC5-7930-464C-A244-28986300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0D62-EDC6-4D5D-907C-650C2EF1A176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8C48-643B-4945-A5C2-C2935BD831DF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5662-B0CE-4149-98B9-762F0B8A30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47628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ransition Elements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elements with electron configuration of incompletely filled d subshells or readily give rise to cations that have incompletely filled d subsh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Elements in Groups 1B-to-7B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268360" y="3789360"/>
            <a:ext cx="4500720" cy="2935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1640" y="4724280"/>
            <a:ext cx="2521080" cy="100980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F56AA-E208-4907-B55C-8AF09D2807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The stability of Filled d orbital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4797360"/>
            <a:ext cx="590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Comic Sans MS"/>
              </a:rPr>
              <a:t>هناك استثناءات, نتيجة الاستقراريه العاليه عندما يكون مدار                         نصف ممتلئ او ممتل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5175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D784B-58C5-41E6-99B9-A170E37CF3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532 L 0.33073 0.00532 E">
                                      <p:cBhvr>
                                        <p:cTn id="13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1280" y="1177920"/>
            <a:ext cx="8748720" cy="570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84360" y="2997360"/>
            <a:ext cx="503280" cy="1944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6560" y="33336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04640"/>
            <a:ext cx="237636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6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19A0A-BC97-45F8-B243-06ED04EB39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stability of Filled d orbit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FA2EF-F775-4286-A2DA-4570A16264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08 L 0.33091 0.00508 E">
                                      <p:cBhvr>
                                        <p:cTn id="16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20720" y="1554120"/>
            <a:ext cx="8172360" cy="5330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9440" y="3284640"/>
            <a:ext cx="502920" cy="1728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3213000"/>
            <a:ext cx="502920" cy="1800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04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528480"/>
            <a:ext cx="259272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u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1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DDA27-3E07-44CF-B33A-A9AC86506D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549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electron configuration of 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47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03640" y="1268280"/>
            <a:ext cx="5651280" cy="368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1700280"/>
            <a:ext cx="309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83DE2-1653-44F3-A00E-A0C7EA2FEB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7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8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44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A5BC9-E4A2-4795-860E-F155273C9D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8160" y="42958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2000" y="47530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paired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5178600"/>
            <a:ext cx="1447920" cy="1064520"/>
            <a:chOff x="1295280" y="5178600"/>
            <a:chExt cx="1447920" cy="1064520"/>
          </a:xfrm>
        </p:grpSpPr>
        <p:grpSp>
          <p:nvGrpSpPr>
            <p:cNvPr id="232" name=""/>
            <p:cNvGrpSpPr/>
            <p:nvPr/>
          </p:nvGrpSpPr>
          <p:grpSpPr>
            <a:xfrm>
              <a:off x="1295280" y="5178600"/>
              <a:ext cx="1447920" cy="406440"/>
              <a:chOff x="1295280" y="5178600"/>
              <a:chExt cx="1447920" cy="406440"/>
            </a:xfrm>
          </p:grpSpPr>
          <p:sp>
            <p:nvSpPr>
              <p:cNvPr id="233" name=""/>
              <p:cNvSpPr/>
              <p:nvPr/>
            </p:nvSpPr>
            <p:spPr>
              <a:xfrm>
                <a:off x="1295280" y="558504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2880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6232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35900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90512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753200" y="578340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702760" y="429264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474984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electrons 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5880" y="5173200"/>
            <a:ext cx="1447920" cy="1064880"/>
            <a:chOff x="6095880" y="5173200"/>
            <a:chExt cx="1447920" cy="1064880"/>
          </a:xfrm>
        </p:grpSpPr>
        <p:sp>
          <p:nvSpPr>
            <p:cNvPr id="242" name=""/>
            <p:cNvSpPr/>
            <p:nvPr/>
          </p:nvSpPr>
          <p:spPr>
            <a:xfrm>
              <a:off x="6095880" y="5580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40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15960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0572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3800" y="577836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23888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264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616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4228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5280" y="620640"/>
            <a:ext cx="4248000" cy="567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Paramagnetic substance: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s the that contain net </a:t>
            </a:r>
            <a:r>
              <a:rPr b="0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unpaired electrons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n the outermost subshell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المجال الخارجي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nd is attract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620640"/>
            <a:ext cx="4248360" cy="61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Diamagnetic substance: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is the that do not contain net unpaired electrons (</a:t>
            </a:r>
            <a:r>
              <a:rPr b="0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all electrons are paire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) in the outermost subshell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مجا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خارجي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nd is repell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3B923-8526-4597-86C4-62AAB0866437}" type="slidenum">
              <a:t>1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476280"/>
            <a:ext cx="87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ic configur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            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144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350208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272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908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872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5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7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3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9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580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4221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5157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et one unpaired electron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Par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FC383-5148-4BFD-ABFC-538E7D2D4C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5280" y="47628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onic configuration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980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6108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5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016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5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21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7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284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149720"/>
            <a:ext cx="712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ll electrons are paire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i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2567160"/>
            <a:ext cx="57600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7C360-7F6A-402D-A1E9-A6F3AA66D4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1154D-3721-4428-A721-9C4AF36389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76320" y="1488960"/>
            <a:ext cx="9220320" cy="5396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333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cation of representative element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aramagnetic (P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Diamagnetic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9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872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7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676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77440" y="112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557360"/>
            <a:ext cx="0" cy="3959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2060640"/>
            <a:ext cx="0" cy="35290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198900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80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20000" y="1557360"/>
            <a:ext cx="0" cy="3959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FADFD-7300-4B5A-9113-66D82F29CB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468360" y="102888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95280" y="115920"/>
            <a:ext cx="87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elenium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419640" y="1052640"/>
            <a:ext cx="42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349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5308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924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3360" y="29973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FA1E9-4608-47AE-8309-84971D5FF4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95280" y="105264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95280" y="44280"/>
            <a:ext cx="87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chromium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59280" y="1273320"/>
            <a:ext cx="612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EXCEPTION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0047D-65D8-455F-8230-68421D53F8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95280" y="53964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[He] 2s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2p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s the electron configuration of which e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08000" y="1955880"/>
            <a:ext cx="26668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rb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87640" y="1547640"/>
            <a:ext cx="5977080" cy="38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6B25F-3DC3-426B-B844-FB923DD0FE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62120" y="19810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68360" y="490680"/>
            <a:ext cx="867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الكترونات التكافؤ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of vanadium (V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547640"/>
            <a:ext cx="5976720" cy="3897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042920" y="543708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3d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2BB35-44A5-4CF8-B677-07B6EFDC526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324000" y="1700280"/>
            <a:ext cx="30956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 of gallium G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044720"/>
            <a:ext cx="5976720" cy="3897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268360" y="5189400"/>
            <a:ext cx="680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ence electrons are in the highes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 4p</a:t>
            </a:r>
            <a:r>
              <a:rPr b="1" lang="ar-SA" sz="2400" spc="-1" strike="noStrike" baseline="30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22308-41FF-4A00-A0AD-65F8A40BA6F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0" y="2421000"/>
            <a:ext cx="5170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595C0-E482-4630-88AB-BDB52C4485E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34920" y="134136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40AF2-F071-4FCF-83D7-2A5885F2BF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09840" y="476280"/>
            <a:ext cx="655488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         (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41460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67280" y="4653000"/>
            <a:ext cx="493236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2697120"/>
            <a:ext cx="424800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   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0" y="476280"/>
            <a:ext cx="2665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750CD-A78F-4E87-B80D-A4E60370F6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27860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84360" y="944640"/>
            <a:ext cx="6335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4930920"/>
            <a:ext cx="583380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9800" y="3057480"/>
            <a:ext cx="561492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464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9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K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a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4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e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9097C-F11A-45FF-A206-ABDE13E9FD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333360"/>
            <a:ext cx="8280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Noble Gases: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elements with electron configuration of complete s &amp;  p sub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(He, Ne, Ar, Kr, Xe, Rn)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Group 8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476360" y="2894040"/>
            <a:ext cx="6120000" cy="3990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236000" y="3141720"/>
            <a:ext cx="360360" cy="237492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F3198-375C-47AF-843E-F46E794961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620640"/>
            <a:ext cx="8280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presentative Elements: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elements with electron configuration of incompletely filled s or p sub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Elements in Groups 1A-to-7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547640" y="2873520"/>
            <a:ext cx="6048720" cy="394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3141720"/>
            <a:ext cx="720720" cy="23032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3500280"/>
            <a:ext cx="1656000" cy="19447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26A62-BF22-40D9-BDB3-908C96E1CC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71620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944640"/>
            <a:ext cx="6659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00220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40" y="404640"/>
            <a:ext cx="504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c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V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Zn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13056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B3AE2-2BDD-40D1-9730-64E749E32D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365040"/>
            <a:ext cx="8064720" cy="4719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71640" y="4017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H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62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A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4271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K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285912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5083200"/>
            <a:ext cx="25210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5056200"/>
            <a:ext cx="2448000" cy="157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5083200"/>
            <a:ext cx="345744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60CB6-48B0-4E6C-A635-F37ECE3B46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8:08Z</dcterms:modified>
  <cp:revision>939</cp:revision>
  <dc:subject/>
  <dc:title>General Chemistry CHEM 110</dc:title>
</cp:coreProperties>
</file>