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088319-B927-4ED0-BA03-192E26FC7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FCDAFA-DF4A-41D1-8608-222BC5FBA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D741CE-3B72-44DA-883E-2D1D3033E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D5678C-3992-4053-AAB9-8670DABA0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5E614-CFEE-4139-9C90-7EC811783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AABB9-EDA6-4FDD-AE75-CCFD65BAB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049F4-A1D1-42A6-9D51-5BEA9ECEA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89C00-95CE-4679-A972-3B79C2AE2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8DAE3-004B-4A05-BA2D-17EC20FFF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9EF34-0C0B-4A5E-8AB2-BEA6FF81F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6B1B8-C6F4-42C6-A0E7-C43E4AD94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A61574-B82B-4646-BEAF-98FFB3C0D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B0F54-BEA3-45C2-A59D-406A4CF41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F7934-9DF8-4849-94E8-8DF3CC1C6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0F849-46F2-4959-B324-BFEC4661F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ACE0B-BC39-4046-AD1C-8484A1C55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91CA7-96F4-4348-B883-E6C905A05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DD4C1A-E31D-4603-B4D9-8EA9EE8B7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355B72-19FD-44CD-9411-703516E09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D76B3F-391E-4B6F-B9F4-2B1BAED52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7BC503-3DCA-40DC-9F91-984C6CFEB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7ABC52-3FFF-4D28-B8C0-0098D05E8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6BFBCF-089C-431E-A60E-C9FAB39B2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625EA7-A956-429A-9D6C-BDB9E2101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98976-653A-4D4D-8068-FE6B7FCBE25F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174D1-D33A-4EEF-A998-C1DD6906ED6E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4292640"/>
            <a:ext cx="823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Quantum Theory and Electronic Structure of Ato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00C1D-6123-45E7-B539-23CE4CFEF11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95280" y="476280"/>
            <a:ext cx="828036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Transition Elements:</a:t>
            </a: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 elements with electron configuration of incompletely filled d subshells or readily give rise to cations that have incompletely filled d subshel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Elements in Groups 1B-to-7B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2268360" y="3789360"/>
            <a:ext cx="4500720" cy="293544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2771640" y="4724280"/>
            <a:ext cx="2521080" cy="1009800"/>
          </a:xfrm>
          <a:prstGeom prst="rect">
            <a:avLst/>
          </a:prstGeom>
          <a:noFill/>
          <a:ln w="572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0A6386-85D5-4737-81A4-59939015962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79280" y="476280"/>
            <a:ext cx="8785440" cy="51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EXEPTIONS !!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a50021"/>
                </a:solidFill>
                <a:uFillTx/>
                <a:latin typeface="Comic Sans MS"/>
              </a:rPr>
              <a:t>The Stability of Half Filled &amp; Filled d Orbi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r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The stability of Filled d orbital</a:t>
            </a:r>
            <a:r>
              <a:rPr b="0" lang="en-GB" sz="2800" spc="-1" strike="noStrike">
                <a:solidFill>
                  <a:srgbClr val="a50021"/>
                </a:solidFill>
                <a:latin typeface="Arial"/>
              </a:rPr>
              <a:t>→</a:t>
            </a:r>
            <a:r>
              <a:rPr b="0" lang="ar-SA" sz="2800" spc="-1" strike="noStrike">
                <a:solidFill>
                  <a:srgbClr val="a50021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r: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85128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06728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21164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71312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28948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86584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07348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64984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22620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44364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2000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80400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85128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138560" y="407844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71312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28948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86584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07348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64984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22620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44364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02000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804000" y="407844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28472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258920" y="2421000"/>
            <a:ext cx="2952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547640" y="242100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059280" y="4797360"/>
            <a:ext cx="5905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6600"/>
                </a:solidFill>
                <a:latin typeface="Comic Sans MS"/>
              </a:rPr>
              <a:t>هناك استثناءات, نتيجة الاستقراريه العاليه عندما يكون مدار                         نصف ممتلئ او ممتل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156360" y="5175360"/>
            <a:ext cx="262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C7D67D-F2C5-43E8-9AC0-3E0F87DD07E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0.00532 L 0.33073 0.00532 E">
                                      <p:cBhvr>
                                        <p:cTn id="134" dur="2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71280" y="1177920"/>
            <a:ext cx="8748720" cy="570708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2484360" y="2997360"/>
            <a:ext cx="503280" cy="194436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66560" y="333360"/>
            <a:ext cx="396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50021"/>
                </a:solidFill>
                <a:uFillTx/>
                <a:latin typeface="Comic Sans MS"/>
              </a:rPr>
              <a:t>The Stability of Half Filled d Orbi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92720" y="404640"/>
            <a:ext cx="2376360" cy="162000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Cr: [Ar] 4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42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Mo:[Kr] 5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74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W: [Xe] 6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5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06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g: [Rn] 7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6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73F0D0-8A99-4EF8-A89A-C290103841A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79280" y="476280"/>
            <a:ext cx="8785440" cy="51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EXEPTIONS !!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a50021"/>
                </a:solidFill>
                <a:uFillTx/>
                <a:latin typeface="Comic Sans MS"/>
              </a:rPr>
              <a:t>The Stability of Half Filled &amp; Filled d Orbi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9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u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stability of Filled d orbital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9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u: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85128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06728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1164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71312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8948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86584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07348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64984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22620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44364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02000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80400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85128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138560" y="407844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71312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28948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86584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07348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64984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22620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44364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02000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804000" y="407844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28472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30872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93236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50872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08472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65964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258920" y="2421000"/>
            <a:ext cx="2952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547640" y="242100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93236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50872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08472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65964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30872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1CC789-A9F2-4E73-B246-4AF2917BA63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8 0.00508 L 0.33091 0.00508 E">
                                      <p:cBhvr>
                                        <p:cTn id="168" dur="2000" fill="hold"/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720720" y="1554120"/>
            <a:ext cx="8172360" cy="533088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2989440" y="3284640"/>
            <a:ext cx="502920" cy="172872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221440" y="3213000"/>
            <a:ext cx="502920" cy="180036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68360" y="404640"/>
            <a:ext cx="468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50021"/>
                </a:solidFill>
                <a:uFillTx/>
                <a:latin typeface="Comic Sans MS"/>
              </a:rPr>
              <a:t>The Stability of Filled d Orbi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364000" y="528480"/>
            <a:ext cx="2592720" cy="162000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29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Cu: [Ar] 4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47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g:[Kr] 5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79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u: [Xe] 6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5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1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Rg: [Rn] 7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6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615175-99BD-46CC-8303-57C479DD777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395280" y="549360"/>
            <a:ext cx="83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The electron configuration of </a:t>
            </a:r>
            <a:r>
              <a:rPr b="0" lang="en-US" sz="3200" spc="-1" strike="noStrike" baseline="30000">
                <a:solidFill>
                  <a:srgbClr val="a50021"/>
                </a:solidFill>
                <a:latin typeface="Comic Sans MS"/>
              </a:rPr>
              <a:t>47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Ag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203640" y="1268280"/>
            <a:ext cx="5651280" cy="368640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179280" y="1700280"/>
            <a:ext cx="309744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Kr] 5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Kr] 5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Kr] 5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Kr] 5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F995FF-671A-4D5D-A2D5-4E53480444B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indefinite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7" dur="indefinite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8" dur="indefinite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179280" y="765000"/>
            <a:ext cx="8748720" cy="5440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E0DE2F-DE18-4F9E-B733-36A64A93EE2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118160" y="4295880"/>
            <a:ext cx="231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Paramagne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882000" y="4753080"/>
            <a:ext cx="288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npaired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1295280" y="5178600"/>
            <a:ext cx="1447920" cy="1064520"/>
            <a:chOff x="1295280" y="5178600"/>
            <a:chExt cx="1447920" cy="1064520"/>
          </a:xfrm>
        </p:grpSpPr>
        <p:grpSp>
          <p:nvGrpSpPr>
            <p:cNvPr id="232" name=""/>
            <p:cNvGrpSpPr/>
            <p:nvPr/>
          </p:nvGrpSpPr>
          <p:grpSpPr>
            <a:xfrm>
              <a:off x="1295280" y="5178600"/>
              <a:ext cx="1447920" cy="406440"/>
              <a:chOff x="1295280" y="5178600"/>
              <a:chExt cx="1447920" cy="406440"/>
            </a:xfrm>
          </p:grpSpPr>
          <p:sp>
            <p:nvSpPr>
              <p:cNvPr id="233" name=""/>
              <p:cNvSpPr/>
              <p:nvPr/>
            </p:nvSpPr>
            <p:spPr>
              <a:xfrm>
                <a:off x="1295280" y="5585040"/>
                <a:ext cx="3812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1828800" y="5585040"/>
                <a:ext cx="3808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2362320" y="5585040"/>
                <a:ext cx="3808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V="1">
                <a:off x="1359000" y="5178600"/>
                <a:ext cx="0" cy="38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flipV="1">
                <a:off x="1905120" y="5178600"/>
                <a:ext cx="0" cy="38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8" name=""/>
            <p:cNvSpPr/>
            <p:nvPr/>
          </p:nvSpPr>
          <p:spPr>
            <a:xfrm>
              <a:off x="1753200" y="5783400"/>
              <a:ext cx="54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2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"/>
          <p:cNvSpPr/>
          <p:nvPr/>
        </p:nvSpPr>
        <p:spPr>
          <a:xfrm>
            <a:off x="5702760" y="4292640"/>
            <a:ext cx="21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Diamagne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486400" y="4749840"/>
            <a:ext cx="29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 electrons pa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6095880" y="5173200"/>
            <a:ext cx="1447920" cy="1064880"/>
            <a:chOff x="6095880" y="5173200"/>
            <a:chExt cx="1447920" cy="1064880"/>
          </a:xfrm>
        </p:grpSpPr>
        <p:sp>
          <p:nvSpPr>
            <p:cNvPr id="242" name=""/>
            <p:cNvSpPr/>
            <p:nvPr/>
          </p:nvSpPr>
          <p:spPr>
            <a:xfrm>
              <a:off x="6095880" y="5580000"/>
              <a:ext cx="38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629400" y="5580000"/>
              <a:ext cx="380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162920" y="5580000"/>
              <a:ext cx="380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6159600" y="5173200"/>
              <a:ext cx="0" cy="38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6705720" y="5173200"/>
              <a:ext cx="0" cy="38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553800" y="5778360"/>
              <a:ext cx="54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2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 flipV="1">
              <a:off x="7238880" y="5187960"/>
              <a:ext cx="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362640" y="5187960"/>
              <a:ext cx="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896160" y="5200560"/>
              <a:ext cx="0" cy="38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442280" y="5200560"/>
              <a:ext cx="0" cy="38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395280" y="620640"/>
            <a:ext cx="4248000" cy="567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Paramagnetic substance: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is the that contain net </a:t>
            </a:r>
            <a:r>
              <a:rPr b="0" lang="en-GB" sz="2800" spc="-1" strike="noStrike" u="sng">
                <a:solidFill>
                  <a:srgbClr val="a50021"/>
                </a:solidFill>
                <a:uFillTx/>
                <a:latin typeface="Comic Sans MS"/>
              </a:rPr>
              <a:t>unpaired electrons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in the outermost subshell </a:t>
            </a:r>
            <a:r>
              <a:rPr b="0" lang="ar-SA" sz="2800" spc="-1" strike="noStrike">
                <a:solidFill>
                  <a:srgbClr val="a50021"/>
                </a:solidFill>
                <a:latin typeface="Comic Sans MS"/>
              </a:rPr>
              <a:t>المجال الخارجي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and is attracted by a magn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716360" y="620640"/>
            <a:ext cx="4248360" cy="610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cc"/>
                </a:solidFill>
                <a:latin typeface="Comic Sans MS"/>
              </a:rPr>
              <a:t>Diamagnetic substance: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is the that do not contain net unpaired electrons (</a:t>
            </a:r>
            <a:r>
              <a:rPr b="0" lang="en-GB" sz="2800" spc="-1" strike="noStrike" u="sng">
                <a:solidFill>
                  <a:srgbClr val="9900cc"/>
                </a:solidFill>
                <a:uFillTx/>
                <a:latin typeface="Comic Sans MS"/>
              </a:rPr>
              <a:t>all electrons are paired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) in the outermost subshell </a:t>
            </a:r>
            <a:r>
              <a:rPr b="0" lang="ar-SA" sz="2800" spc="-1" strike="noStrike">
                <a:solidFill>
                  <a:srgbClr val="9900cc"/>
                </a:solidFill>
                <a:latin typeface="Comic Sans MS"/>
              </a:rPr>
              <a:t>المجال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800" spc="-1" strike="noStrike">
                <a:solidFill>
                  <a:srgbClr val="9900cc"/>
                </a:solidFill>
                <a:latin typeface="Comic Sans MS"/>
              </a:rPr>
              <a:t>الخارجي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and is repelled by a magn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B74580-82DE-413D-8D67-76C87D187026}" type="slidenum">
              <a:t>17</a:t>
            </a:fld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395280" y="476280"/>
            <a:ext cx="87487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9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Electronic configuratio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: 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hort notatio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:               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Orbital diagra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341440" y="35020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276720" y="3502080"/>
            <a:ext cx="57600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2720" y="35020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429080" y="35020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5744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49236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06872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64508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70180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63708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21308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78944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365800" y="35020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58180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971640" y="4221000"/>
            <a:ext cx="60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ar-SA" sz="1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258920" y="5157720"/>
            <a:ext cx="712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Net one unpaired electron </a:t>
            </a: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 Paramagnetic sub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4D5552-7367-4177-8414-B137BD8D23A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95280" y="476280"/>
            <a:ext cx="8748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lectronic configuration: 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rbital diagra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349800" y="2565360"/>
            <a:ext cx="57600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284720" y="256536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861080" y="2565360"/>
            <a:ext cx="57600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37080" y="256536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56544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50072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07672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65308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71016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64508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22144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79744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116000" y="3284640"/>
            <a:ext cx="60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ar-SA" sz="1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2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187280" y="4149720"/>
            <a:ext cx="7129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All electrons are paired </a:t>
            </a: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Diamagnetic sub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556000" y="2567160"/>
            <a:ext cx="57600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771640" y="271152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916360" y="271152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F992B5-191A-4864-AA80-57F5488514C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0" y="981000"/>
            <a:ext cx="9144000" cy="59644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50920" y="907920"/>
            <a:ext cx="81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utermost subshell being filled with 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5280" y="333360"/>
            <a:ext cx="81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7.9 The Building-Up Princip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3F0D09-7674-4142-BB35-D783868A49D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-76320" y="1488960"/>
            <a:ext cx="9220320" cy="539604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468360" y="333360"/>
            <a:ext cx="82072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assification of representative elements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Paramagnetic (P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1" lang="en-US" sz="2800" spc="-1" strike="noStrike">
                <a:solidFill>
                  <a:srgbClr val="00007d"/>
                </a:solidFill>
                <a:latin typeface="Comic Sans MS"/>
              </a:rPr>
              <a:t>Diamagnetic (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24000" y="11970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229440" y="1628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828720" y="1557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32720" y="1628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237440" y="1628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667640" y="1628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8172360" y="1628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8677440" y="1125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68360" y="1557360"/>
            <a:ext cx="0" cy="395928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971640" y="2060640"/>
            <a:ext cx="0" cy="3529080"/>
          </a:xfrm>
          <a:prstGeom prst="line">
            <a:avLst/>
          </a:prstGeom>
          <a:ln w="3816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372360" y="2060640"/>
            <a:ext cx="0" cy="3456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877080" y="1989000"/>
            <a:ext cx="0" cy="3456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317080" y="2060640"/>
            <a:ext cx="0" cy="3456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380360" y="2060640"/>
            <a:ext cx="0" cy="3456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812000" y="2060640"/>
            <a:ext cx="0" cy="3456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8820000" y="1557360"/>
            <a:ext cx="0" cy="3959280"/>
          </a:xfrm>
          <a:prstGeom prst="line">
            <a:avLst/>
          </a:prstGeom>
          <a:ln w="3816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381D6C-0EE2-4328-8C64-ACC1EF75FC8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4"/>
          <p:cNvSpPr/>
          <p:nvPr/>
        </p:nvSpPr>
        <p:spPr>
          <a:xfrm>
            <a:off x="468360" y="1028880"/>
            <a:ext cx="220968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8"/>
          <p:cNvSpPr/>
          <p:nvPr/>
        </p:nvSpPr>
        <p:spPr>
          <a:xfrm>
            <a:off x="395280" y="115920"/>
            <a:ext cx="8748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How many unpaired electrons does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selenium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 hav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2771640" y="2852640"/>
            <a:ext cx="6083280" cy="396900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3419640" y="1052640"/>
            <a:ext cx="4248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e: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npaired electrons is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140360" y="2349360"/>
            <a:ext cx="57600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716360" y="234936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292720" y="234936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500720" y="249408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076720" y="249408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653080" y="249408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359240" y="249408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653360" y="2997360"/>
            <a:ext cx="58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4p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D0779E-C127-46A2-B9C9-2CC6B3282B6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4"/>
          <p:cNvSpPr/>
          <p:nvPr/>
        </p:nvSpPr>
        <p:spPr>
          <a:xfrm>
            <a:off x="395280" y="1052640"/>
            <a:ext cx="220968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8"/>
          <p:cNvSpPr/>
          <p:nvPr/>
        </p:nvSpPr>
        <p:spPr>
          <a:xfrm>
            <a:off x="395280" y="44280"/>
            <a:ext cx="8748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How many unpaired electrons does chromium hav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2771640" y="2852640"/>
            <a:ext cx="6083280" cy="396900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3059280" y="1273320"/>
            <a:ext cx="61210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r: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(EXCEPTION)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r: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npaired electrons is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2A29D0-8DCB-453E-9516-64DCE8DEEBE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2"/>
          <p:cNvSpPr/>
          <p:nvPr/>
        </p:nvSpPr>
        <p:spPr>
          <a:xfrm>
            <a:off x="395280" y="539640"/>
            <a:ext cx="822960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[He] 2s</a:t>
            </a:r>
            <a:r>
              <a:rPr b="0" lang="en-US" sz="3200" spc="-1" strike="noStrike" baseline="30000">
                <a:solidFill>
                  <a:srgbClr val="a50021"/>
                </a:solidFill>
                <a:latin typeface="Comic Sans MS"/>
              </a:rPr>
              <a:t>2 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2p</a:t>
            </a:r>
            <a:r>
              <a:rPr b="0" lang="en-US" sz="32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 is the electron configuration of which el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3"/>
          <p:cNvSpPr/>
          <p:nvPr/>
        </p:nvSpPr>
        <p:spPr>
          <a:xfrm>
            <a:off x="108000" y="1955880"/>
            <a:ext cx="2666880" cy="26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eryll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or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carb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itro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2987640" y="1547640"/>
            <a:ext cx="5977080" cy="3897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D6DF61-E50E-4A52-8AA5-A0CBA454C18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4"/>
          <p:cNvSpPr/>
          <p:nvPr/>
        </p:nvSpPr>
        <p:spPr>
          <a:xfrm>
            <a:off x="762120" y="1981080"/>
            <a:ext cx="77724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7"/>
          <p:cNvSpPr/>
          <p:nvPr/>
        </p:nvSpPr>
        <p:spPr>
          <a:xfrm>
            <a:off x="468360" y="490680"/>
            <a:ext cx="8675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What are the valence electrons</a:t>
            </a:r>
            <a:r>
              <a:rPr b="0" lang="ar-SA" sz="3200" spc="-1" strike="noStrike">
                <a:solidFill>
                  <a:srgbClr val="a50021"/>
                </a:solidFill>
                <a:latin typeface="Comic Sans MS"/>
              </a:rPr>
              <a:t>  </a:t>
            </a:r>
            <a:r>
              <a:rPr b="0" lang="ar-SA" sz="3200" spc="-1" strike="noStrike">
                <a:solidFill>
                  <a:srgbClr val="a50021"/>
                </a:solidFill>
                <a:latin typeface="Comic Sans MS"/>
              </a:rPr>
              <a:t>الكترونات التكافؤ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of vanadium (V)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059280" y="1547640"/>
            <a:ext cx="5976720" cy="389736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1042920" y="5437080"/>
            <a:ext cx="8101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3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: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THUS: The valence electrons are 4s</a:t>
            </a:r>
            <a:r>
              <a:rPr b="1" lang="en-GB" sz="28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 3d</a:t>
            </a:r>
            <a:r>
              <a:rPr b="1" lang="en-GB" sz="2800" spc="-1" strike="noStrike" baseline="30000">
                <a:solidFill>
                  <a:srgbClr val="a50021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BE66C2-8804-49ED-92F0-61B88C86B13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4"/>
          <p:cNvSpPr/>
          <p:nvPr/>
        </p:nvSpPr>
        <p:spPr>
          <a:xfrm>
            <a:off x="324000" y="1700280"/>
            <a:ext cx="309564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4p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7"/>
          <p:cNvSpPr/>
          <p:nvPr/>
        </p:nvSpPr>
        <p:spPr>
          <a:xfrm>
            <a:off x="38088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What are the valence electrons of gallium Ga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059280" y="1044720"/>
            <a:ext cx="5976720" cy="389700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2268360" y="5189400"/>
            <a:ext cx="6804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3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a: [Ar] 4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4p</a:t>
            </a:r>
            <a:r>
              <a:rPr b="0" lang="ar-SA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Valence electrons are in the highest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a50021"/>
                </a:solidFill>
                <a:latin typeface="Comic Sans MS"/>
              </a:rPr>
              <a:t>THUS: The valence electrons are 4s</a:t>
            </a:r>
            <a:r>
              <a:rPr b="1" lang="en-GB" sz="24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1" lang="en-GB" sz="2400" spc="-1" strike="noStrike">
                <a:solidFill>
                  <a:srgbClr val="a50021"/>
                </a:solidFill>
                <a:latin typeface="Comic Sans MS"/>
              </a:rPr>
              <a:t> 4p</a:t>
            </a:r>
            <a:r>
              <a:rPr b="1" lang="ar-SA" sz="2400" spc="-1" strike="noStrike" baseline="30000">
                <a:solidFill>
                  <a:srgbClr val="a50021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08A78-DA73-49EB-94FC-93A741E5A6B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268000" y="2421000"/>
            <a:ext cx="5170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d of Chapter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1729D-8DEB-47B1-A8D4-A56792985A5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0" y="981000"/>
            <a:ext cx="9144000" cy="59644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50920" y="907920"/>
            <a:ext cx="81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utermost subshell being filled with 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-34920" y="1341360"/>
            <a:ext cx="9144000" cy="51483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5280" y="333360"/>
            <a:ext cx="81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7.9 The Building-Up Princip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EB9487-F8B5-41F3-9E5A-6DBF6631FFE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2409840" y="476280"/>
            <a:ext cx="6554880" cy="206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1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a         (3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rd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perio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[Ne] 3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24000" y="2997360"/>
            <a:ext cx="3414600" cy="35272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4067280" y="4653000"/>
            <a:ext cx="4932360" cy="181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      (3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rd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period)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Ne]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427640" y="2697120"/>
            <a:ext cx="4248000" cy="181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g         (3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rd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perio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 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Ne]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920" y="476280"/>
            <a:ext cx="266544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The electron configur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11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Na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1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Mg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16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S 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3303B4-782F-4C20-826B-21493B7BAE2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79280" y="3357720"/>
            <a:ext cx="2786040" cy="28796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2484360" y="944640"/>
            <a:ext cx="6335640" cy="206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9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 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059280" y="4930920"/>
            <a:ext cx="5833800" cy="1595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 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  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349800" y="3057480"/>
            <a:ext cx="5614920" cy="181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0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95280" y="404640"/>
            <a:ext cx="48243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The electron configur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19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K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20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Ca 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34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Se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A4569D-BD23-4C3F-9895-D19C2EBB8DF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95280" y="333360"/>
            <a:ext cx="828036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00cc"/>
                </a:solidFill>
                <a:latin typeface="Comic Sans MS"/>
              </a:rPr>
              <a:t>Noble Gases: </a:t>
            </a:r>
            <a:r>
              <a:rPr b="0" lang="en-GB" sz="3200" spc="-1" strike="noStrike">
                <a:solidFill>
                  <a:srgbClr val="9900cc"/>
                </a:solidFill>
                <a:latin typeface="Comic Sans MS"/>
              </a:rPr>
              <a:t>elements with electron configuration of complete s &amp;  p subsh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9900cc"/>
                </a:solidFill>
                <a:latin typeface="Comic Sans MS"/>
              </a:rPr>
              <a:t>(He, Ne, Ar, Kr, Xe, Rn)</a:t>
            </a:r>
            <a:r>
              <a:rPr b="1" lang="ar-SA" sz="32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00cc"/>
                </a:solidFill>
                <a:latin typeface="Comic Sans MS"/>
              </a:rPr>
              <a:t>Group 8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1476360" y="2894040"/>
            <a:ext cx="6120000" cy="39909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7236000" y="3141720"/>
            <a:ext cx="360360" cy="237492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C3898-DF8B-421A-A09B-3A491248E7D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95280" y="620640"/>
            <a:ext cx="828036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Representative Elements: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 elements with electron configuration of incompletely filled s or p subsh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Comic Sans MS"/>
              </a:rPr>
              <a:t>Elements in Groups 1A-to-7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1547640" y="2873520"/>
            <a:ext cx="6048720" cy="39448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547640" y="3141720"/>
            <a:ext cx="720720" cy="2303280"/>
          </a:xfrm>
          <a:prstGeom prst="rect">
            <a:avLst/>
          </a:prstGeom>
          <a:noFill/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580000" y="3500280"/>
            <a:ext cx="1656000" cy="1944720"/>
          </a:xfrm>
          <a:prstGeom prst="rect">
            <a:avLst/>
          </a:prstGeom>
          <a:noFill/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FFDEB-46E9-4BD4-82BB-0A51FFE38EE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79280" y="3429000"/>
            <a:ext cx="2716200" cy="28083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411280" y="944640"/>
            <a:ext cx="6659640" cy="206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1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 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987640" y="5002200"/>
            <a:ext cx="5977080" cy="181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0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Z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 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3840" y="404640"/>
            <a:ext cx="50418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The electron configur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21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Sc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23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V 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30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Zn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987640" y="3130560"/>
            <a:ext cx="5977080" cy="181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3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 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3963D3-252A-44BE-82F9-0075DC11680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042920" y="365040"/>
            <a:ext cx="8064720" cy="47196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2771640" y="401760"/>
            <a:ext cx="41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Short 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39640" y="119700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[He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39640" y="162864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[Ne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39640" y="206064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[Ar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39640" y="242712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[Kr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82560" y="2859120"/>
            <a:ext cx="647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4920" y="5083200"/>
            <a:ext cx="2521080" cy="15721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: [He] 2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: [He] 2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771640" y="5056200"/>
            <a:ext cx="2448000" cy="15721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a: [Ne] 3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: [Ne] 3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3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35640" y="5083200"/>
            <a:ext cx="3457440" cy="1572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K: [Ar] 4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r: [Ar] 4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4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66501C-E534-4E35-9664-30FEC62141F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2-02-27T16:38:08Z</dcterms:modified>
  <cp:revision>939</cp:revision>
  <dc:subject/>
  <dc:title>General Chemistry CHEM 110</dc:title>
</cp:coreProperties>
</file>