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19BCD2-0AEB-43E7-B2DB-124B18C73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313AFC-AECC-4249-8BB2-9C9A9CB36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432980-5E80-43C1-9E60-C376EB948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1ADF2D-1CAB-4093-961F-54B180C3D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11FF8-DFE2-4BCF-B92B-3A4C055C0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6C258-8520-4F28-B5B2-29AAEDE56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4CC30-40FA-4222-B32F-0C22F08A6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BA870-3186-43CF-9587-343A6B5D5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266E4-2D13-437D-B9E8-CC33E1917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A38CA-E13E-4ECE-A9C5-503A03E59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EDBFC-9EDB-4A06-9B4D-A155EC803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0FC16C-2AEB-40D0-9DC2-7051D2267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335A7-CD99-42C6-9B46-F6E091DCA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434E2-6DB8-4CDF-87D7-63E1A36B8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C0046-90DC-42CD-A4C0-D6111C2FF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28D2B-DF34-475C-B98D-D8E466ACE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5D86A-DD24-492F-8C65-B6452C2C6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93E81B-E3FD-4166-AAB3-636B029FE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E1E7EE-A72E-4CBE-B3EE-26A5B2BDA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CC1E13-754A-40F5-8418-8E9A4B568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84ED3F-A06D-4BD4-A17C-A12CAB774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64D3E2-4EA3-4610-A5CF-902155D70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1BA879-A664-4429-90B2-4BD622DFF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E65ADA-50AE-44DF-BECA-9913784BD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1B724-9D4A-4A84-8E87-73B9F237E626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BFEEB-A0D0-49B4-A96E-7F33C0FEC412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General Chemistry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CHEM 110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Dr. Nuha Wazzan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755640" y="4292640"/>
            <a:ext cx="8236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Chapter 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Quantum Theory and Electronic Structure of Ato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547AE-4CAA-42AF-909B-43D7C3E207E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468000" y="475920"/>
            <a:ext cx="8496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7.1 p277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The wavelength of the green light from a traff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signal is centred at 522 nm. What is 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frequency of this radi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9640" y="2565360"/>
            <a:ext cx="820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39640" y="2637000"/>
            <a:ext cx="720108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iven: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λ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= 522 nm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Malgun Gothic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522 x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  <a:ea typeface="Malgun Gothic"/>
              </a:rPr>
              <a:t>-9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Find: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ν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324000" y="4508640"/>
                <a:ext cx="7956360" cy="200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ν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c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8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/s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522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9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</m:t>
                            </m:r>
                          </m:den>
                        </m:f>
                      </m:e>
                      <m:e>
                        <m:r>
                          <m:t xml:space="preserve">ν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/s       OR       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Hz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8E7CFB-1EAE-4D25-9B79-7AEBB5F01BD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250920" y="1314360"/>
                <a:ext cx="8424720" cy="297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522</m:t>
                        </m:r>
                        <m:r>
                          <m:rPr>
                            <m:lit/>
                            <m:nor/>
                          </m:rPr>
                          <m:t xml:space="preserve"> nm</m:t>
                        </m:r>
                        <m:r>
                          <m:t xml:space="preserve">→</m:t>
                        </m:r>
                        <m:r>
                          <m:t xml:space="preserve">?</m:t>
                        </m:r>
                        <m:r>
                          <m:rPr>
                            <m:lit/>
                            <m:nor/>
                          </m:rPr>
                          <m:t xml:space="preserve"> m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refix</m:t>
                        </m:r>
                        <m:r>
                          <m:t xml:space="preserve">→</m:t>
                        </m:r>
                        <m:r>
                          <m:rPr>
                            <m:lit/>
                            <m:nor/>
                          </m:rPr>
                          <m:t xml:space="preserve">Base Unit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Take the power with its sign in the table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1 nm </m:t>
                        </m:r>
                        <m:r>
                          <m:t xml:space="preserve">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-9 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m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TABLE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522 nm</m:t>
                        </m:r>
                        <m:r>
                          <m:t xml:space="preserve">→</m:t>
                        </m:r>
                        <m:r>
                          <m:rPr>
                            <m:lit/>
                            <m:nor/>
                          </m:rPr>
                          <m:t xml:space="preserve">? m </m:t>
                        </m:r>
                      </m:e>
                      <m:e>
                        <m:r>
                          <m:t xml:space="preserve">λ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522 nm x 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9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 nm</m:t>
                            </m:r>
                          </m:den>
                        </m:f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522 x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-9</m:t>
                            </m:r>
                          </m:sup>
                        </m:sSup>
                        <m:r>
                          <m:t xml:space="preserve">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7" name=""/>
          <p:cNvSpPr/>
          <p:nvPr/>
        </p:nvSpPr>
        <p:spPr>
          <a:xfrm>
            <a:off x="684360" y="765000"/>
            <a:ext cx="38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Unit Convers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C744D4-25E4-4AEB-BC99-FF8114E3F1B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228600" y="571680"/>
            <a:ext cx="8686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: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A photon has a frequency of 6.0 x 10</a:t>
            </a:r>
            <a:r>
              <a:rPr b="0" lang="en-US" sz="2800" spc="-1" strike="noStrike" baseline="30000">
                <a:solidFill>
                  <a:srgbClr val="00007d"/>
                </a:solidFill>
                <a:latin typeface="Comic Sans MS"/>
              </a:rPr>
              <a:t>4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Hz. Convert this frequency into wavelength (nm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79280" y="1773360"/>
            <a:ext cx="864072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iven: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ν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6.0 x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Hz =6.0 x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/s = 6.0 x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ind: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λ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(nm)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250920" y="3573360"/>
                <a:ext cx="2316240" cy="268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ν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c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  <m:r>
                          <m:t xml:space="preserve">⇒</m:t>
                        </m:r>
                        <m:r>
                          <m:t xml:space="preserve">λ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c</m:t>
                            </m:r>
                          </m:num>
                          <m:den>
                            <m:r>
                              <m:t xml:space="preserve">ν</m:t>
                            </m:r>
                          </m:den>
                        </m:f>
                      </m:e>
                      <m:e>
                        <m:r>
                          <m:t xml:space="preserve">λ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8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1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 s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1</m:t>
                                </m:r>
                              </m:sup>
                            </m:sSup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m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0x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n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1" name=""/>
          <p:cNvSpPr/>
          <p:nvPr/>
        </p:nvSpPr>
        <p:spPr>
          <a:xfrm>
            <a:off x="250920" y="1628640"/>
            <a:ext cx="849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2916360" y="3645000"/>
                <a:ext cx="5976720" cy="251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m</m:t>
                        </m:r>
                        <m:r>
                          <m:t xml:space="preserve">→</m:t>
                        </m:r>
                        <m:r>
                          <m:t xml:space="preserve">?</m:t>
                        </m:r>
                        <m:r>
                          <m:rPr>
                            <m:lit/>
                            <m:nor/>
                          </m:rPr>
                          <m:t xml:space="preserve">nm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Base Unit </m:t>
                        </m:r>
                        <m:r>
                          <m:t xml:space="preserve">→</m:t>
                        </m:r>
                        <m:r>
                          <m:rPr>
                            <m:lit/>
                            <m:nor/>
                          </m:rPr>
                          <m:t xml:space="preserve">Prefix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Reverse the sign of the power in the table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1 nm </m:t>
                        </m:r>
                        <m:r>
                          <m:t xml:space="preserve">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-9 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m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TABLE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1m</m:t>
                        </m:r>
                        <m:r>
                          <m:t xml:space="preserve">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9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nm </m:t>
                        </m:r>
                      </m:e>
                      <m:e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0x10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m</m:t>
                        </m:r>
                        <m:r>
                          <m:t xml:space="preserve">→</m:t>
                        </m:r>
                        <m:r>
                          <m:rPr>
                            <m:lit/>
                            <m:nor/>
                          </m:rPr>
                          <m:t xml:space="preserve">?nm</m:t>
                        </m:r>
                      </m:e>
                      <m:e>
                        <m:r>
                          <m:t xml:space="preserve">λ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nm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5x10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 x 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9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nm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 m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n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C379D4-9DB1-45C9-B828-65A0F36C5FA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79280" y="2133720"/>
            <a:ext cx="87854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7d"/>
                </a:solidFill>
                <a:latin typeface="Comic Sans MS"/>
              </a:rPr>
              <a:t>Chapter 7</a:t>
            </a:r>
            <a:br>
              <a:rPr sz="4400"/>
            </a:br>
            <a:r>
              <a:rPr b="1" lang="en-US" sz="4400" spc="-1" strike="noStrike">
                <a:solidFill>
                  <a:srgbClr val="00007d"/>
                </a:solidFill>
                <a:latin typeface="Comic Sans MS"/>
              </a:rPr>
              <a:t> Quantum Theory and Electronic Structure of Atoms </a:t>
            </a:r>
            <a:br>
              <a:rPr sz="4400"/>
            </a:br>
            <a:r>
              <a:rPr b="1" lang="en-US" sz="4400" spc="-1" strike="noStrike">
                <a:solidFill>
                  <a:srgbClr val="00007d"/>
                </a:solidFill>
                <a:latin typeface="Comic Sans MS"/>
              </a:rPr>
              <a:t>Chang Pages 276-310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H.W. p312-315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457200" y="4365720"/>
            <a:ext cx="8686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7.3, 7.8, 7.16, 7.18, 7.32, 7.34,  7.120, 7.56, 7.58, 7.62, 7.66, 7.70, 7.76, 7.78, 7.79, 7.84, 7.88, 7.90, 7.12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A11E95-8BB2-421B-A193-7458503C758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24000" y="25704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Chapter 7 Quantum Theory and Electronic Structure of Atoms : Ou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Comic Sans MS"/>
                <a:ea typeface="Times New Roman"/>
              </a:rPr>
              <a:t>7.1 From Classical Physics to Quantum The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99"/>
                </a:solidFill>
                <a:latin typeface="Comic Sans MS"/>
                <a:ea typeface="Times New Roman"/>
              </a:rPr>
              <a:t>7.3 Bohr’s Theory of the Hydrogen At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99ff"/>
                </a:solidFill>
                <a:latin typeface="Comic Sans MS"/>
                <a:ea typeface="Times New Roman"/>
              </a:rPr>
              <a:t>7.6 Quantum Nu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7.7 Atomic Orbital'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7.8 Electron Configu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9a7"/>
                </a:solidFill>
                <a:latin typeface="Comic Sans MS"/>
                <a:ea typeface="Times New Roman"/>
              </a:rPr>
              <a:t>7.9 The Building-Up Princi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134A16-DF0D-4AAE-980C-E6952CB0853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7d"/>
                </a:solidFill>
                <a:uFillTx/>
                <a:latin typeface="Comic Sans MS"/>
              </a:rPr>
              <a:t>7.1 </a:t>
            </a: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  <a:ea typeface="Times New Roman"/>
              </a:rPr>
              <a:t>From Classical Physics to Quantum Theory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412640"/>
            <a:ext cx="843588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 19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century : understanding atoms and molecules was unsuccessfu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lassical Physics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uccessful in understanding Macroscopic Phenomena, e.g. pressure of the g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Quantum Mechanics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uccessful in understanding microscopic phenomena, e.g. atoms &amp; molec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t was assumed that energy is continuous and any amount of energy could be released or absorbed in a radiation proc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Max Planks in 1900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discovered that atoms and molecules emit energy only in certain discrete quantities (called quanta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Quantum Mechan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2" descr="C:\Documents and Settings\DELL-XPS\Desktop\chem110\Max_Planck.png"/>
          <p:cNvPicPr/>
          <p:nvPr/>
        </p:nvPicPr>
        <p:blipFill>
          <a:blip r:embed="rId1"/>
          <a:stretch/>
        </p:blipFill>
        <p:spPr>
          <a:xfrm>
            <a:off x="7943760" y="4508640"/>
            <a:ext cx="1092240" cy="1623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2AA20A-A1BD-40C2-946F-85A6590AA0E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Content Placeholder 1"/>
          <p:cNvSpPr/>
          <p:nvPr/>
        </p:nvSpPr>
        <p:spPr>
          <a:xfrm>
            <a:off x="252360" y="412920"/>
            <a:ext cx="8891640" cy="50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66640" indent="-4572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Properties of Wa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mic Sans MS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ave: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ach wave has 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  <a:ea typeface="Times New Roman"/>
              </a:rPr>
              <a:t>peak </a:t>
            </a:r>
            <a:r>
              <a:rPr b="0" lang="ar-SA" sz="2800" spc="-1" strike="noStrike">
                <a:solidFill>
                  <a:srgbClr val="9900cc"/>
                </a:solidFill>
                <a:latin typeface="Comic Sans MS"/>
                <a:cs typeface="Times New Roman"/>
              </a:rPr>
              <a:t>قمة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nd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trough </a:t>
            </a:r>
            <a:r>
              <a:rPr b="0" lang="ar-SA" sz="2800" spc="-1" strike="noStrike">
                <a:solidFill>
                  <a:srgbClr val="a50021"/>
                </a:solidFill>
                <a:latin typeface="Comic Sans MS"/>
                <a:cs typeface="Times New Roman"/>
              </a:rPr>
              <a:t>قا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Wavelength</a:t>
            </a:r>
            <a:r>
              <a:rPr b="0" lang="en-US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 (</a:t>
            </a:r>
            <a:r>
              <a:rPr b="0" lang="el-GR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λ</a:t>
            </a:r>
            <a:r>
              <a:rPr b="0" lang="en-US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is the distance between identical points on successive wav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Amplitude</a:t>
            </a:r>
            <a:r>
              <a:rPr b="0" lang="en-US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s the vertical distance from the midline of a wave to the peak or troug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rcRect l="0" t="2460" r="0" b="6706"/>
          <a:stretch/>
        </p:blipFill>
        <p:spPr>
          <a:xfrm>
            <a:off x="3774960" y="3500280"/>
            <a:ext cx="5334120" cy="30862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rcRect l="0" t="2087" r="0" b="8337"/>
          <a:stretch/>
        </p:blipFill>
        <p:spPr>
          <a:xfrm>
            <a:off x="104760" y="3500280"/>
            <a:ext cx="3213000" cy="3152880"/>
          </a:xfrm>
          <a:prstGeom prst="rect">
            <a:avLst/>
          </a:prstGeom>
          <a:ln w="0">
            <a:noFill/>
          </a:ln>
        </p:spPr>
      </p:pic>
      <p:grpSp>
        <p:nvGrpSpPr>
          <p:cNvPr id="118" name=""/>
          <p:cNvGrpSpPr/>
          <p:nvPr/>
        </p:nvGrpSpPr>
        <p:grpSpPr>
          <a:xfrm>
            <a:off x="447840" y="3576600"/>
            <a:ext cx="5460840" cy="1866960"/>
            <a:chOff x="447840" y="3576600"/>
            <a:chExt cx="5460840" cy="1866960"/>
          </a:xfrm>
        </p:grpSpPr>
        <p:sp>
          <p:nvSpPr>
            <p:cNvPr id="119" name=""/>
            <p:cNvSpPr/>
            <p:nvPr/>
          </p:nvSpPr>
          <p:spPr>
            <a:xfrm>
              <a:off x="447840" y="3919320"/>
              <a:ext cx="1752480" cy="53352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295880" y="4910040"/>
              <a:ext cx="914400" cy="53352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79880" y="3576600"/>
              <a:ext cx="1828800" cy="53352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60440" y="3957480"/>
            <a:ext cx="6997680" cy="2044800"/>
            <a:chOff x="460440" y="3957480"/>
            <a:chExt cx="6997680" cy="2044800"/>
          </a:xfrm>
        </p:grpSpPr>
        <p:sp>
          <p:nvSpPr>
            <p:cNvPr id="123" name=""/>
            <p:cNvSpPr/>
            <p:nvPr/>
          </p:nvSpPr>
          <p:spPr>
            <a:xfrm>
              <a:off x="460440" y="4338720"/>
              <a:ext cx="228600" cy="83808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229520" y="3957480"/>
              <a:ext cx="228600" cy="60984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912000" y="5392800"/>
              <a:ext cx="304920" cy="60948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7812000" y="0"/>
            <a:ext cx="1332000" cy="927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EE45DB-003E-4477-A9DB-0C1C75E696D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Content Placeholder 1"/>
          <p:cNvSpPr/>
          <p:nvPr/>
        </p:nvSpPr>
        <p:spPr>
          <a:xfrm>
            <a:off x="252360" y="412920"/>
            <a:ext cx="8712360" cy="50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66640" indent="-4572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Properties of Wa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Frequency</a:t>
            </a:r>
            <a:r>
              <a:rPr b="0" lang="en-US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 (</a:t>
            </a:r>
            <a:r>
              <a:rPr b="0" lang="el-GR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ν</a:t>
            </a:r>
            <a:r>
              <a:rPr b="0" lang="en-US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is the number of waves that pass through a particular point in 1 seco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ertz (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z) = 1 cycle/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z = /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Speed (u):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s a product of the wave’s wavelenght and its frequ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3492360" y="4365720"/>
                <a:ext cx="1584360" cy="61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λν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EBC2E1-3686-425B-B269-A40AE7C7097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9528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Electromagnetic Radi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aves are different kinds, e.g. water waves, sound waves, and light wa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n 1873 James Maxwell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proposed that visible light consists of electromagnetic wa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Electric field componen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Magnetic field componen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Electromagnetic radiation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s the emission and transmission of energy in the form of electromagnetic wa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16200000">
            <a:off x="3150360" y="1538640"/>
            <a:ext cx="647640" cy="5148360"/>
          </a:xfrm>
          <a:custGeom>
            <a:avLst/>
            <a:gdLst>
              <a:gd name="textAreaLeft" fmla="*/ 0 w 647640"/>
              <a:gd name="textAreaRight" fmla="*/ 234000 w 647640"/>
              <a:gd name="textAreaTop" fmla="*/ 133920 h 5148360"/>
              <a:gd name="textAreaBottom" fmla="*/ 5014440 h 514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7524720" y="2997360"/>
            <a:ext cx="1200240" cy="1439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603DDD-2E86-4FEF-ACEE-7C6E5976060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692360" y="1533600"/>
            <a:ext cx="5543640" cy="347976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1042920" y="549360"/>
            <a:ext cx="640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lectromagnetic Wa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5280" y="5070600"/>
            <a:ext cx="82090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peed of light (c) in vacuum =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3 x10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8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m/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2144880" y="5684760"/>
                <a:ext cx="4225680" cy="105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λν</m:t>
                    </m:r>
                    <m:r>
                      <m:t xml:space="preserve">⇒</m:t>
                    </m:r>
                    <m:r>
                      <m:t xml:space="preserve">ν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λ</m:t>
                        </m:r>
                      </m:den>
                    </m:f>
                    <m:r>
                      <m:t xml:space="preserve">⇒</m:t>
                    </m:r>
                    <m:r>
                      <m:t xml:space="preserve">ν</m:t>
                    </m:r>
                    <m:r>
                      <m:t xml:space="preserve">∝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λ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4CDEC3-EDB2-4686-8050-62F4AD4AB15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0" y="533520"/>
            <a:ext cx="8991720" cy="5562360"/>
          </a:xfrm>
          <a:prstGeom prst="rect">
            <a:avLst/>
          </a:prstGeom>
          <a:ln w="0">
            <a:noFill/>
          </a:ln>
        </p:spPr>
      </p:pic>
      <p:grpSp>
        <p:nvGrpSpPr>
          <p:cNvPr id="139" name=""/>
          <p:cNvGrpSpPr/>
          <p:nvPr/>
        </p:nvGrpSpPr>
        <p:grpSpPr>
          <a:xfrm>
            <a:off x="2533680" y="2500200"/>
            <a:ext cx="4786200" cy="2576520"/>
            <a:chOff x="2533680" y="2500200"/>
            <a:chExt cx="4786200" cy="2576520"/>
          </a:xfrm>
        </p:grpSpPr>
        <p:sp>
          <p:nvSpPr>
            <p:cNvPr id="140" name=""/>
            <p:cNvSpPr/>
            <p:nvPr/>
          </p:nvSpPr>
          <p:spPr>
            <a:xfrm flipH="1">
              <a:off x="2533680" y="2514600"/>
              <a:ext cx="1324080" cy="2562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100400" y="2500200"/>
              <a:ext cx="3219480" cy="2548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4BAFE1-9C58-4612-AB31-95677DF9302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6T16:44:59Z</dcterms:created>
  <dc:creator>suha</dc:creator>
  <dc:description/>
  <dc:language>en-US</dc:language>
  <cp:lastModifiedBy>suha</cp:lastModifiedBy>
  <dcterms:modified xsi:type="dcterms:W3CDTF">2012-02-28T20:14:18Z</dcterms:modified>
  <cp:revision>940</cp:revision>
  <dc:subject/>
  <dc:title>General Chemistry CHEM 110</dc:title>
</cp:coreProperties>
</file>