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0F64D-03E3-4F03-9434-19F8C56F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0AEBC-D31B-48AE-A534-4AEE0A27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28BC0-7FC7-4EF3-9861-12DC2ECC0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F8C1C-4FBA-4B40-BA3A-C588B861D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92C5-775F-49E7-A9C4-779968DED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BD15-F2B1-4A14-A677-7D534CE6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2BF1-9ACD-41C9-877D-77952D5E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B3EB-202A-426D-A36A-AA4DA824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5112-3D4D-4A5D-829E-E0323108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CDBE-EED4-482C-862B-0ACD5752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FB27-599F-424E-A21D-FCA04395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DF4AC-1AB4-4C8C-93B4-C6ED8201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FD26-1E4C-4465-996C-8E3E22B1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AFDA-DE74-425C-AFD2-2B65E9A5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20ED-0FDF-4E09-AED1-48E32DC5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35B9-B170-42BF-86B2-88B1E2768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D807-272F-4AB5-8EB1-C7392FA6E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89B3F-0B97-4F24-9F9D-95C7E5F9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68147-5194-457A-8EAD-26DDF2F8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69F2C-1098-4AF1-B671-3C9FC5E1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CEEEF-DB01-45D9-9EE5-8724B068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B3F1A-0E9C-4F55-8F9E-14A8457C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B0E24-EDDE-408B-905D-9B0A1711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E74F4-5695-4434-8E46-B3FC2FEC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E129-DE25-4C54-8A67-526BD7520016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EF99-027C-4842-A122-B2B1362892B5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65A0-A4CB-4166-8ACA-7BC3CD62C08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1 p27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wavelength of the green light from a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signal is centred at 522 nm. 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frequency of this rad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56536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63700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22 n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22 x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4000" y="4508640"/>
                <a:ext cx="795636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/s       OR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8B15D-33A2-4039-8A7B-687042376C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0920" y="1314360"/>
                <a:ext cx="8424720" cy="29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fix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ke the power with its sign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522 n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 m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2 n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nm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22 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765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t Con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7BABF-8423-4F76-B7BC-CCFBDD46E7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571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 photon has a frequency of 6.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Hz. Convert this frequency into wavelength (nm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773360"/>
            <a:ext cx="864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z =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/s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(nm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0920" y="3573360"/>
                <a:ext cx="231624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50920" y="1628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16360" y="3645000"/>
                <a:ext cx="5976720" cy="25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Prefix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verse the sign of the power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1m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nm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x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n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3A61A-D2D7-423A-84A7-4DF0F75304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Quantum Theory and Electronic Structure of Atoms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276-31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312-3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7.3, 7.8, 7.16, 7.18, 7.32, 7.34,  7.120, 7.56, 7.58, 7.62, 7.66, 7.70, 7.76, 7.78, 7.79, 7.84, 7.88, 7.90, 7.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4F404-5426-4C9E-A033-3D3B73DC0F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7 Quantum Theory and Electronic Structure of Atoms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7.1 From Classical Physics to Quantu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7.3 Bohr’s Theory of the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7.6 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.7 Atomic Orbital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8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  <a:ea typeface="Times New Roman"/>
              </a:rPr>
              <a:t>7.9 The Building-Up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B0601-FA82-44A4-8B2F-ECE4446EDD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7.1 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From Classical Physics to Quantum The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ury : understanding atoms and molecules was unsuccess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ical Phys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acroscopic Phenomena, e.g. pressure of th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icroscopic phenomena, e.g.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ssumed that energy is continuous and any amount of energy could be released or absorbed in a radia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x Planks in 1900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covered that atoms and molecules emit energy only in certain discrete quantities (called quanta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943760" y="4508640"/>
            <a:ext cx="109224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2E162-7BF7-4322-B1AE-F3BFE88233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1"/>
          <p:cNvSpPr/>
          <p:nvPr/>
        </p:nvSpPr>
        <p:spPr>
          <a:xfrm>
            <a:off x="252360" y="412920"/>
            <a:ext cx="889164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v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wave ha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peak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قمة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rough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  <a:cs typeface="Times New Roman"/>
              </a:rPr>
              <a:t>ق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Wavelength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λ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distance between identical points on successive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Amplitude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vertical distance from the midline of a wave to the peak or t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460" r="0" b="6706"/>
          <a:stretch/>
        </p:blipFill>
        <p:spPr>
          <a:xfrm>
            <a:off x="3774960" y="3500280"/>
            <a:ext cx="5334120" cy="308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2087" r="0" b="8337"/>
          <a:stretch/>
        </p:blipFill>
        <p:spPr>
          <a:xfrm>
            <a:off x="104760" y="3500280"/>
            <a:ext cx="321300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447840" y="3576600"/>
            <a:ext cx="5460840" cy="1866960"/>
            <a:chOff x="447840" y="3576600"/>
            <a:chExt cx="5460840" cy="1866960"/>
          </a:xfrm>
        </p:grpSpPr>
        <p:sp>
          <p:nvSpPr>
            <p:cNvPr id="119" name=""/>
            <p:cNvSpPr/>
            <p:nvPr/>
          </p:nvSpPr>
          <p:spPr>
            <a:xfrm>
              <a:off x="447840" y="3919320"/>
              <a:ext cx="175248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5880" y="4910040"/>
              <a:ext cx="9144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9880" y="35766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0440" y="3957480"/>
            <a:ext cx="6997680" cy="2044800"/>
            <a:chOff x="460440" y="3957480"/>
            <a:chExt cx="6997680" cy="2044800"/>
          </a:xfrm>
        </p:grpSpPr>
        <p:sp>
          <p:nvSpPr>
            <p:cNvPr id="123" name=""/>
            <p:cNvSpPr/>
            <p:nvPr/>
          </p:nvSpPr>
          <p:spPr>
            <a:xfrm>
              <a:off x="460440" y="4338720"/>
              <a:ext cx="22860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29520" y="3957480"/>
              <a:ext cx="2286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2000" y="5392800"/>
              <a:ext cx="30492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13B3E-3CCB-4C7F-881C-6F5697ACA4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t Placeholder 1"/>
          <p:cNvSpPr/>
          <p:nvPr/>
        </p:nvSpPr>
        <p:spPr>
          <a:xfrm>
            <a:off x="252360" y="412920"/>
            <a:ext cx="87123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Frequency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ν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umber of waves that pass through a particular point in 1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tz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) = 1 cycle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 = 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Speed (u)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product of the wave’s wavelenght and its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92360" y="4365720"/>
                <a:ext cx="15843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C831B-8557-40EE-9336-DC840BA129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magnetic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ves are different kinds, e.g. water waves, sound waves, and light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1873 James Maxwel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posed that visible light consists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ctric field compon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agnetic field compon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magnetic radi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emission and transmission of energy in the form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150360" y="1538640"/>
            <a:ext cx="647640" cy="5148360"/>
          </a:xfrm>
          <a:custGeom>
            <a:avLst/>
            <a:gdLst>
              <a:gd name="textAreaLeft" fmla="*/ 0 w 647640"/>
              <a:gd name="textAreaRight" fmla="*/ 234000 w 647640"/>
              <a:gd name="textAreaTop" fmla="*/ 133920 h 5148360"/>
              <a:gd name="textAreaBottom" fmla="*/ 5014440 h 51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24720" y="2997360"/>
            <a:ext cx="120024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35E97-66A5-4B9C-B796-14469165BB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33600"/>
            <a:ext cx="5543640" cy="3479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magnetic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0706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ed of light (c) in vacuum =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x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44880" y="5684760"/>
                <a:ext cx="42256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1A7BD-F237-42C3-A038-1FBD2AE31B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91720" cy="5562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33680" y="2500200"/>
            <a:ext cx="4786200" cy="2576520"/>
            <a:chOff x="2533680" y="2500200"/>
            <a:chExt cx="4786200" cy="2576520"/>
          </a:xfrm>
        </p:grpSpPr>
        <p:sp>
          <p:nvSpPr>
            <p:cNvPr id="140" name=""/>
            <p:cNvSpPr/>
            <p:nvPr/>
          </p:nvSpPr>
          <p:spPr>
            <a:xfrm flipH="1">
              <a:off x="2533680" y="2514600"/>
              <a:ext cx="1324080" cy="25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00400" y="2500200"/>
              <a:ext cx="3219480" cy="254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DD161-C2A2-4A3D-B2F3-F25448AB6B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8Z</dcterms:modified>
  <cp:revision>940</cp:revision>
  <dc:subject/>
  <dc:title>General Chemistry CHEM 110</dc:title>
</cp:coreProperties>
</file>