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7B9DD-3383-4661-A2A0-2F59C270B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E6E61-9D81-4EF3-89F0-B8538A68D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0CEB0-0853-4AB5-A993-5D4417FE9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E0173-EAC6-4800-8628-D81D88357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E48FF-2774-47C3-A517-E46278C93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588C3-945A-414A-AB71-976B191E6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38A73-7D5E-40BA-8B57-C25D31072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00ACA-0178-43DF-8EB1-F1D2D160A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169C2-6C17-48C1-A825-46771C721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C04F2-C806-46F4-A5E0-CC1BB8ACF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ADDA3-02B1-4700-A4F8-B3FD6D247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51EAC-AC80-441A-860F-B0DE5060F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D38F1-BD87-494D-A40D-D9444F218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C336A-EC91-4731-8895-7434497EC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F1A4F-11FF-4EA7-AB01-71FAA55EE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061C9-331D-4DDD-B7D0-D8CAAC6A6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6DFCE-D5D0-43A4-BB9B-4F203ACE9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F5366-8284-4B56-A0F7-4F330CA4C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6F2AD-F009-4ED2-99DF-B4DD9BCF3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3649C-C748-46DD-A467-A9FB22CC3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49645-A1FB-490B-A72C-AC3231A46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AE693-4378-4EA2-A5B4-C0BC083DA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4ADA6-4D3E-434D-9A64-4A8A4108C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F3B90-074D-4ED1-8EB7-6C9DFC59B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49FCB-823C-4C11-AA8F-D02EAD24342C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5B429-6D39-474E-8624-3AA1659844DA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E5CD0-D225-4147-9087-870213E6317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8496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1 p27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e wavelength of the green light from a traf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signal is centred at 522 nm. What is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frequency of this radi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40" y="2565360"/>
            <a:ext cx="820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9640" y="2637000"/>
            <a:ext cx="7201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= 522 nm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algun Gothic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522 x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-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Find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24000" y="4508640"/>
                <a:ext cx="7956360" cy="20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22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</m:e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/s       OR       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H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DCFB1-4191-44C6-84F7-9897A08EE72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50920" y="1314360"/>
                <a:ext cx="8424720" cy="297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522</m:t>
                        </m:r>
                        <m:r>
                          <m:rPr>
                            <m:lit/>
                            <m:nor/>
                          </m:rPr>
                          <m:t xml:space="preserve"> nm</m:t>
                        </m:r>
                        <m:r>
                          <m:t xml:space="preserve">→</m:t>
                        </m:r>
                        <m:r>
                          <m:t xml:space="preserve">?</m:t>
                        </m:r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efix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Base Unit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ke the power with its sign in the 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1 nm 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9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522 n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? m 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22 nm x 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nm</m:t>
                            </m:r>
                          </m:den>
                        </m:f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522 x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9</m:t>
                            </m:r>
                          </m:sup>
                        </m:sSup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684360" y="76500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Unit Conver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BC6E6-4A05-4076-B540-5915B024A3B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28600" y="57168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A photon has a frequency of 6.0 x 10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Hz. Convert this frequency into wavelength (nm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79280" y="1773360"/>
            <a:ext cx="8640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6.0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Hz =6.0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/s = 6.0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(nm)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50920" y="3573360"/>
                <a:ext cx="2316240" cy="26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ν</m:t>
                            </m:r>
                          </m:den>
                        </m:f>
                      </m:e>
                      <m:e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s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x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250920" y="162864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916360" y="3645000"/>
                <a:ext cx="5976720" cy="25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m</m:t>
                        </m:r>
                        <m:r>
                          <m:t xml:space="preserve">→</m:t>
                        </m:r>
                        <m:r>
                          <m:t xml:space="preserve">?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ase Unit 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Prefix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Reverse the sign of the power in the 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 nm 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9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1m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m </m:t>
                        </m:r>
                      </m:e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x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?nm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5x10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 x 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n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m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BC0D1-61B3-4FAE-9B9A-4400DB234A7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13372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br>
              <a:rPr sz="4400"/>
            </a:b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 Quantum Theory and Electronic Structure of Atoms </a:t>
            </a:r>
            <a:br>
              <a:rPr sz="4400"/>
            </a:b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Chang Pages 276-310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H.W. p312-315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57200" y="436572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7.3, 7.8, 7.16, 7.18, 7.32, 7.34,  7.120, 7.56, 7.58, 7.62, 7.66, 7.70, 7.76, 7.78, 7.79, 7.84, 7.88, 7.90, 7.1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A308A-C48A-4A93-A1EF-DFD0115400A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2570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Chapter 7 Quantum Theory and Electronic Structure of Atoms :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7.1 From Classical Physics to Quantum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7.3 Bohr’s Theory of the Hydrogen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Comic Sans MS"/>
                <a:ea typeface="Times New Roman"/>
              </a:rPr>
              <a:t>7.6 Quantum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7.7 Atomic Orbital'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7.8 Electron Configu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  <a:ea typeface="Times New Roman"/>
              </a:rPr>
              <a:t>7.9 The Building-Up Princi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7C591-E174-4D52-98A9-7198143EBB6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7d"/>
                </a:solidFill>
                <a:uFillTx/>
                <a:latin typeface="Comic Sans MS"/>
              </a:rPr>
              <a:t>7.1 </a:t>
            </a: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From Classical Physics to Quantum Theory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843588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1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entury : understanding atoms and molecules was unsuccessfu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assical Physic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ccessful in understanding Macroscopic Phenomena, e.g. pressure of the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Quantum Mechanic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ccessful in understanding microscopic phenomena, e.g. atoms &amp; 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was assumed that energy is continuous and any amount of energy could be released or absorbed in a radiation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x Planks in 1900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iscovered that atoms and molecules emit energy only in certain discrete quantities (called quanta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Quantum Mechan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C:\Documents and Settings\DELL-XPS\Desktop\chem110\Max_Planck.png"/>
          <p:cNvPicPr/>
          <p:nvPr/>
        </p:nvPicPr>
        <p:blipFill>
          <a:blip r:embed="rId1"/>
          <a:stretch/>
        </p:blipFill>
        <p:spPr>
          <a:xfrm>
            <a:off x="7943760" y="4508640"/>
            <a:ext cx="1092240" cy="1623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0C509-9EDB-4FE1-970C-C5867AADC4A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Content Placeholder 1"/>
          <p:cNvSpPr/>
          <p:nvPr/>
        </p:nvSpPr>
        <p:spPr>
          <a:xfrm>
            <a:off x="252360" y="412920"/>
            <a:ext cx="8891640" cy="50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664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Properties of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ave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ach wave has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peak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  <a:cs typeface="Times New Roman"/>
              </a:rPr>
              <a:t>قمة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d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rough </a:t>
            </a:r>
            <a:r>
              <a:rPr b="0" lang="ar-SA" sz="2800" spc="-1" strike="noStrike">
                <a:solidFill>
                  <a:srgbClr val="a50021"/>
                </a:solidFill>
                <a:latin typeface="Comic Sans MS"/>
                <a:cs typeface="Times New Roman"/>
              </a:rPr>
              <a:t>قا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Wavelength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 (</a:t>
            </a:r>
            <a:r>
              <a:rPr b="0" lang="el-GR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λ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distance between identical points on successive w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Amplitude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the vertical distance from the midline of a wave to the peak or troug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0" t="2460" r="0" b="6706"/>
          <a:stretch/>
        </p:blipFill>
        <p:spPr>
          <a:xfrm>
            <a:off x="3774960" y="3500280"/>
            <a:ext cx="5334120" cy="3086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rcRect l="0" t="2087" r="0" b="8337"/>
          <a:stretch/>
        </p:blipFill>
        <p:spPr>
          <a:xfrm>
            <a:off x="104760" y="3500280"/>
            <a:ext cx="3213000" cy="315288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447840" y="3576600"/>
            <a:ext cx="5460840" cy="1866960"/>
            <a:chOff x="447840" y="3576600"/>
            <a:chExt cx="5460840" cy="1866960"/>
          </a:xfrm>
        </p:grpSpPr>
        <p:sp>
          <p:nvSpPr>
            <p:cNvPr id="119" name=""/>
            <p:cNvSpPr/>
            <p:nvPr/>
          </p:nvSpPr>
          <p:spPr>
            <a:xfrm>
              <a:off x="447840" y="3919320"/>
              <a:ext cx="175248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295880" y="4910040"/>
              <a:ext cx="91440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79880" y="3576600"/>
              <a:ext cx="182880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60440" y="3957480"/>
            <a:ext cx="6997680" cy="2044800"/>
            <a:chOff x="460440" y="3957480"/>
            <a:chExt cx="6997680" cy="2044800"/>
          </a:xfrm>
        </p:grpSpPr>
        <p:sp>
          <p:nvSpPr>
            <p:cNvPr id="123" name=""/>
            <p:cNvSpPr/>
            <p:nvPr/>
          </p:nvSpPr>
          <p:spPr>
            <a:xfrm>
              <a:off x="460440" y="4338720"/>
              <a:ext cx="228600" cy="8380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229520" y="3957480"/>
              <a:ext cx="228600" cy="6098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912000" y="5392800"/>
              <a:ext cx="304920" cy="6094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7812000" y="0"/>
            <a:ext cx="1332000" cy="927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0CE0E-88CE-4BBF-A113-CFEE70215A7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Content Placeholder 1"/>
          <p:cNvSpPr/>
          <p:nvPr/>
        </p:nvSpPr>
        <p:spPr>
          <a:xfrm>
            <a:off x="252360" y="412920"/>
            <a:ext cx="8712360" cy="50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664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Properties of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Frequency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 (</a:t>
            </a:r>
            <a:r>
              <a:rPr b="0" lang="el-GR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ν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number of waves that pass through a particular point in 1 seco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ertz (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z) = 1 cycle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z = 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Speed (u)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a product of the wave’s wavelenght and its freq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492360" y="4365720"/>
                <a:ext cx="158436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λν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D02C8-15D4-4B6C-990E-9373C8AFF18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magnetic Radi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ves are different kinds, e.g. water waves, sound waves, and light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 1873 James Maxwell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proposed that visible light consists of electromagnetic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lectric field compon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Magnetic field componen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lectromagnetic radiation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the emission and transmission of energy in the form of electromagnetic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3150360" y="1538640"/>
            <a:ext cx="647640" cy="5148360"/>
          </a:xfrm>
          <a:custGeom>
            <a:avLst/>
            <a:gdLst>
              <a:gd name="textAreaLeft" fmla="*/ 0 w 647640"/>
              <a:gd name="textAreaRight" fmla="*/ 234000 w 647640"/>
              <a:gd name="textAreaTop" fmla="*/ 133920 h 5148360"/>
              <a:gd name="textAreaBottom" fmla="*/ 5014440 h 514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24720" y="2997360"/>
            <a:ext cx="1200240" cy="143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0A274-9897-4982-96E6-AA4849C2A12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692360" y="1533600"/>
            <a:ext cx="5543640" cy="34797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042920" y="54936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ctromagnetic Wa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5070600"/>
            <a:ext cx="820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peed of light (c) in vacuum =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 x10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m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144880" y="5684760"/>
                <a:ext cx="422568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λν</m:t>
                    </m:r>
                    <m:r>
                      <m:t xml:space="preserve">⇒</m:t>
                    </m:r>
                    <m:r>
                      <m:t xml:space="preserve">ν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ν</m:t>
                    </m:r>
                    <m:r>
                      <m:t xml:space="preserve">∝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E8489-8A47-4163-9A3D-E034000D6F9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8991720" cy="5562360"/>
          </a:xfrm>
          <a:prstGeom prst="rect">
            <a:avLst/>
          </a:prstGeom>
          <a:ln w="0">
            <a:noFill/>
          </a:ln>
        </p:spPr>
      </p:pic>
      <p:grpSp>
        <p:nvGrpSpPr>
          <p:cNvPr id="139" name=""/>
          <p:cNvGrpSpPr/>
          <p:nvPr/>
        </p:nvGrpSpPr>
        <p:grpSpPr>
          <a:xfrm>
            <a:off x="2533680" y="2500200"/>
            <a:ext cx="4786200" cy="2576520"/>
            <a:chOff x="2533680" y="2500200"/>
            <a:chExt cx="4786200" cy="2576520"/>
          </a:xfrm>
        </p:grpSpPr>
        <p:sp>
          <p:nvSpPr>
            <p:cNvPr id="140" name=""/>
            <p:cNvSpPr/>
            <p:nvPr/>
          </p:nvSpPr>
          <p:spPr>
            <a:xfrm flipH="1">
              <a:off x="2533680" y="2514600"/>
              <a:ext cx="1324080" cy="256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100400" y="2500200"/>
              <a:ext cx="3219480" cy="254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D6177-7536-478E-9F6D-7F6E816302E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8T20:14:18Z</dcterms:modified>
  <cp:revision>940</cp:revision>
  <dc:subject/>
  <dc:title>General Chemistry CHEM 110</dc:title>
</cp:coreProperties>
</file>