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5B8E1-695E-4970-BAEE-276AA5F01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8CA00-8AF1-428A-92EF-298B9326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F5429-BB3D-47E3-85F3-2677691A9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28190-88F3-42DB-A76F-15A530053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D379-BB96-4A94-8BB4-21ABFE5BA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52E0-0236-4488-9961-3036646E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F792-EF08-4FDE-8CBD-7D6D517B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C9AE-38EF-417B-895D-21AB0023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E323-E3E1-4CBF-A802-11E4D464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C38F-4EDA-4688-92E1-32BED9BC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995C-6039-45E5-A4FD-3916BED1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F9781-BEB8-425E-B23D-D734EA49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2DF6-FC76-496F-918B-4E5B8BCE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20D3-A7F1-4233-99B2-BA0F8DDF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EC11-1C65-4530-A77E-BC030B0D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FB84-66A2-4977-8BEC-D00A81FC1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4828-CC0D-4F1B-AACE-BD3C1C179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BBF5F-2083-43E9-8F4E-93AC3075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8D7D6-EB54-4D97-BD2E-48D0F450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8543C-F016-4BA6-84E6-7A01C0E6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A4BFE-7B9F-4E62-A6C3-73DB96EE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6F65B-754E-4819-A93B-A897D4EC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6F489-C518-4511-AD63-49E8204B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9764F-7372-4EF4-980C-0C65C23B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D336-742B-43EC-B13D-3EEE20528941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3CA1-6BEB-41E6-863E-34C93C04E9A2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9925-032F-4A6F-836B-82849A11F88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1 p27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wavelength of the green light from a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signal is centred at 522 nm. What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frequency of this radi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56536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637000"/>
            <a:ext cx="720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22 n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22 x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4000" y="4508640"/>
                <a:ext cx="7956360" cy="20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/s       OR      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38DC8-D1D9-425C-9D32-F3384524FD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50920" y="1314360"/>
                <a:ext cx="8424720" cy="297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efix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ke the power with its sign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522 n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 m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2 n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nm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522 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765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it Con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770E9-04EA-4FF1-AC81-651270D913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5716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 photon has a frequency of 6.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Hz. Convert this frequency into wavelength (nm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773360"/>
            <a:ext cx="8640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z =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/s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(nm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0920" y="3573360"/>
                <a:ext cx="2316240" cy="26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50920" y="162864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916360" y="3645000"/>
                <a:ext cx="5976720" cy="25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Prefix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verse the sign of the power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1m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 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nm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x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n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1AB6B-3FE8-4321-B346-51F7D9EABC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Quantum Theory and Electronic Structure of Atoms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276-310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312-3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7.3, 7.8, 7.16, 7.18, 7.32, 7.34,  7.120, 7.56, 7.58, 7.62, 7.66, 7.70, 7.76, 7.78, 7.79, 7.84, 7.88, 7.90, 7.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62ADA-DE7D-476C-BF1E-6CA8F4454B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7 Quantum Theory and Electronic Structure of Atoms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7.1 From Classical Physics to Quantum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7.3 Bohr’s Theory of the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7.6 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.7 Atomic Orbital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8 Electron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  <a:ea typeface="Times New Roman"/>
              </a:rPr>
              <a:t>7.9 The Building-Up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74C35-667F-420B-8762-56CF71FE92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7.1 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From Classical Physics to Quantum Theor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ntury : understanding atoms and molecules was unsuccess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assical Phys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acroscopic Phenomena, e.g. pressure of th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icroscopic phenomena, e.g. atoms &amp;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assumed that energy is continuous and any amount of energy could be released or absorbed in a radiatio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x Planks in 1900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scovered that atoms and molecules emit energy only in certain discrete quantities (called quanta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943760" y="4508640"/>
            <a:ext cx="1092240" cy="16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CFFD0-261B-43BE-AD02-545F9DE766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1"/>
          <p:cNvSpPr/>
          <p:nvPr/>
        </p:nvSpPr>
        <p:spPr>
          <a:xfrm>
            <a:off x="252360" y="412920"/>
            <a:ext cx="889164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v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wave ha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peak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قمة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rough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  <a:cs typeface="Times New Roman"/>
              </a:rPr>
              <a:t>ق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Wavelength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λ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distance between identical points on successive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Amplitude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vertical distance from the midline of a wave to the peak or t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2460" r="0" b="6706"/>
          <a:stretch/>
        </p:blipFill>
        <p:spPr>
          <a:xfrm>
            <a:off x="3774960" y="3500280"/>
            <a:ext cx="5334120" cy="308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0" t="2087" r="0" b="8337"/>
          <a:stretch/>
        </p:blipFill>
        <p:spPr>
          <a:xfrm>
            <a:off x="104760" y="3500280"/>
            <a:ext cx="3213000" cy="31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447840" y="3576600"/>
            <a:ext cx="5460840" cy="1866960"/>
            <a:chOff x="447840" y="3576600"/>
            <a:chExt cx="5460840" cy="1866960"/>
          </a:xfrm>
        </p:grpSpPr>
        <p:sp>
          <p:nvSpPr>
            <p:cNvPr id="119" name=""/>
            <p:cNvSpPr/>
            <p:nvPr/>
          </p:nvSpPr>
          <p:spPr>
            <a:xfrm>
              <a:off x="447840" y="3919320"/>
              <a:ext cx="175248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95880" y="4910040"/>
              <a:ext cx="9144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79880" y="3576600"/>
              <a:ext cx="18288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0440" y="3957480"/>
            <a:ext cx="6997680" cy="2044800"/>
            <a:chOff x="460440" y="3957480"/>
            <a:chExt cx="6997680" cy="2044800"/>
          </a:xfrm>
        </p:grpSpPr>
        <p:sp>
          <p:nvSpPr>
            <p:cNvPr id="123" name=""/>
            <p:cNvSpPr/>
            <p:nvPr/>
          </p:nvSpPr>
          <p:spPr>
            <a:xfrm>
              <a:off x="460440" y="4338720"/>
              <a:ext cx="22860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29520" y="3957480"/>
              <a:ext cx="228600" cy="6098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12000" y="5392800"/>
              <a:ext cx="30492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92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0F45E-137F-432C-BD40-6C04D34AC5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ontent Placeholder 1"/>
          <p:cNvSpPr/>
          <p:nvPr/>
        </p:nvSpPr>
        <p:spPr>
          <a:xfrm>
            <a:off x="252360" y="412920"/>
            <a:ext cx="87123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Frequency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ν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umber of waves that pass through a particular point in 1 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rtz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) = 1 cycle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 = 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Speed (u)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a product of the wave’s wavelenght and its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492360" y="4365720"/>
                <a:ext cx="15843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95C00-E0E6-4D10-8165-EB53737F02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magnetic Rad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ves are different kinds, e.g. water waves, sound waves, and light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1873 James Maxwell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posed that visible light consists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ctric field compon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agnetic field compon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magnetic radi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emission and transmission of energy in the form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3150360" y="1538640"/>
            <a:ext cx="647640" cy="5148360"/>
          </a:xfrm>
          <a:custGeom>
            <a:avLst/>
            <a:gdLst>
              <a:gd name="textAreaLeft" fmla="*/ 0 w 647640"/>
              <a:gd name="textAreaRight" fmla="*/ 234000 w 647640"/>
              <a:gd name="textAreaTop" fmla="*/ 133920 h 5148360"/>
              <a:gd name="textAreaBottom" fmla="*/ 5014440 h 51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24720" y="2997360"/>
            <a:ext cx="1200240" cy="143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E20BA-AFEC-44C6-8CEA-B947310E8C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533600"/>
            <a:ext cx="5543640" cy="3479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42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magnetic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07060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ed of light (c) in vacuum =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x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44880" y="5684760"/>
                <a:ext cx="42256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0B721-042C-4B41-BB35-CB90B45650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991720" cy="55623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533680" y="2500200"/>
            <a:ext cx="4786200" cy="2576520"/>
            <a:chOff x="2533680" y="2500200"/>
            <a:chExt cx="4786200" cy="2576520"/>
          </a:xfrm>
        </p:grpSpPr>
        <p:sp>
          <p:nvSpPr>
            <p:cNvPr id="140" name=""/>
            <p:cNvSpPr/>
            <p:nvPr/>
          </p:nvSpPr>
          <p:spPr>
            <a:xfrm flipH="1">
              <a:off x="2533680" y="2514600"/>
              <a:ext cx="1324080" cy="25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00400" y="2500200"/>
              <a:ext cx="3219480" cy="254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F39B4-3980-4E1F-9FE0-BE81BE9074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8Z</dcterms:modified>
  <cp:revision>940</cp:revision>
  <dc:subject/>
  <dc:title>General Chemistry CHEM 110</dc:title>
</cp:coreProperties>
</file>