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B4503-EE0E-41C3-9F7E-F78F974E4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44978-3414-4AA4-B9A2-CBDE1E0A0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A5C65-EBB6-40EC-9144-6B7F2D71E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A33AF-6255-4487-A0DD-500EBBC24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4F19F-1355-429F-9A16-E33B6A2EE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8FD37-D229-49F3-8B55-8519F0739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E6DE9-8B98-4E34-B441-0F9B4AA77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483DE-B254-4CA5-9751-8EA5E0950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7966C-D604-49FB-BFEA-6B098C15B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D0B30-B964-41B9-8B5C-ED72A121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0D5FA-9C1B-4E2B-A7E4-2878FD28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C933B-D848-4251-9051-7D0726BD6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4027E-90DE-4E35-8EED-90D081F4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E4274-BAFC-42B6-9574-F05ACCB6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02B8B-3CC3-4A98-BF59-6B56AE992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4E949-194B-48F1-AA58-CD653492C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4E4E5-A148-4E6F-9E4C-6053F1D7E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589DE-FC62-4F33-BB69-B3F395CED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E1338-CC63-4880-ABD7-8BAEA66DD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5AAA3-A5E6-4D8C-AEBB-0753B3D46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37F6C-1DE6-4BCC-B225-FD9EF2A51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692E0-D039-4102-BFCD-C8E24089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E9639-435A-405E-9080-EBB839E8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342FF-A095-491E-B75D-664EC34D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6F05B-3392-4331-93DE-F1F034B3F3C2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09490-BF7B-4942-BF5B-587A0D6EB32D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1D536-4B6D-49E8-8517-0C487671EE6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80880" y="182520"/>
            <a:ext cx="8610840" cy="408456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533520" y="4187880"/>
            <a:ext cx="7924680" cy="2079720"/>
            <a:chOff x="533520" y="4187880"/>
            <a:chExt cx="7924680" cy="2079720"/>
          </a:xfrm>
        </p:grpSpPr>
        <p:sp>
          <p:nvSpPr>
            <p:cNvPr id="133" name=""/>
            <p:cNvSpPr/>
            <p:nvPr/>
          </p:nvSpPr>
          <p:spPr>
            <a:xfrm>
              <a:off x="832320" y="4187880"/>
              <a:ext cx="751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Line Emission Spectrum of Hydrogen Atom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533520" y="4648320"/>
              <a:ext cx="7924680" cy="161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BF73F-A43A-49E7-AF09-3F8873EF08E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195640" y="1052640"/>
            <a:ext cx="5329080" cy="51624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859280" y="476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2492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90792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285264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E5446-7E01-4117-9CBE-EDAFA93D4A9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energies of the electron in the H atom are given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 = 1 Ground State 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الحاله الارضيه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 = 2, 3, 4, … Excited States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الحالات المثاره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971640" y="1773360"/>
                <a:ext cx="7848360" cy="29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Rydberg constant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integer called the principal quantum number;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, 2, 3,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62A55-963F-484E-989C-A4DB996ECF7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83040" y="765000"/>
            <a:ext cx="5126040" cy="5616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24000" y="620640"/>
                <a:ext cx="3905280" cy="525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324000" y="4653000"/>
            <a:ext cx="3024000" cy="122400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BCEC8-A1CC-4DC6-B636-901ED9B69BC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95280" y="1015920"/>
                <a:ext cx="3024360" cy="12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539640" y="3141720"/>
            <a:ext cx="8353440" cy="35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If n</a:t>
            </a:r>
            <a:r>
              <a:rPr b="1" lang="en-GB" sz="36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&gt; n</a:t>
            </a:r>
            <a:r>
              <a:rPr b="1" lang="en-GB" sz="36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(+ve) 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a50021"/>
                </a:solidFill>
                <a:latin typeface="Comic Sans MS"/>
              </a:rPr>
              <a:t>Δ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E (+ve)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Energy is absorbed</a:t>
            </a: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If n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i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&gt; n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f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(-ve) 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Δ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E (-ve)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Energy is emitted</a:t>
            </a: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91280" y="1052640"/>
            <a:ext cx="217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91280" y="2276640"/>
            <a:ext cx="217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588000" y="1052640"/>
            <a:ext cx="0" cy="1224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722920" y="1052640"/>
            <a:ext cx="0" cy="1224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659640" y="1341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nergy absor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27640" y="1125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Energy emi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284720" y="691920"/>
            <a:ext cx="0" cy="1942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80000" y="141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443640" y="21798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43640" y="59544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24560" y="62064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24560" y="21798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D2F2C-E171-4977-95FF-2EAEBFC8103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95280" y="333360"/>
            <a:ext cx="813744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4 p28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at is the wavelength of a photon (in nm) emitted during a transition from the n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= 5 state to the n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= 2 state in the hydrogen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2920" y="2421000"/>
            <a:ext cx="889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000" y="2492280"/>
            <a:ext cx="8893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5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gt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→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DFKai-SB"/>
              </a:rPr>
              <a:t>Δ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 =-ve (energy is emit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in nm)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037040" y="4149720"/>
                <a:ext cx="2943360" cy="22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ΔE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48661-4A75-40A4-9C59-76F56D023BE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79280" y="549360"/>
                <a:ext cx="7848720" cy="55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5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ΔE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x 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0 x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8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34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5508720" y="5157720"/>
            <a:ext cx="34560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66"/>
                </a:solidFill>
                <a:latin typeface="Comic Sans MS"/>
              </a:rPr>
              <a:t>لاحظي ان الطاقه اخذت باشاره موجبه لان الطول الموجي لايمكن ان يكون قيمه سالبه</a:t>
            </a:r>
            <a:r>
              <a:rPr b="1" lang="ar-SA" sz="2400" spc="-1" strike="noStrike">
                <a:solidFill>
                  <a:srgbClr val="003366"/>
                </a:solidFill>
                <a:latin typeface="Comic Sans MS"/>
              </a:rPr>
              <a:t>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15ED6-0A02-41AA-B27E-B13050AA71D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lank’s Quantum The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66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n solids are heated, they emit electromagnetic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ACT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amount of radiant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energy emitted by an object at a certain temperature DEPENDS on the WAVELEN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lassical physics failed in explaining why this happen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lassical physics: assumed that atoms or molecules could emit (or absorb) any amount of energy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lank explain this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nergy (light) is emitted or absorbed in discrete units (quantum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Documents and Settings\DELL-XPS\Desktop\chem110\Max_Planck.png"/>
          <p:cNvPicPr/>
          <p:nvPr/>
        </p:nvPicPr>
        <p:blipFill>
          <a:blip r:embed="rId1"/>
          <a:stretch/>
        </p:blipFill>
        <p:spPr>
          <a:xfrm>
            <a:off x="7524720" y="4581360"/>
            <a:ext cx="1403280" cy="2087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020000" y="127008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7091280" y="44280"/>
            <a:ext cx="1728720" cy="113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7DBB5-EF85-4BEE-990B-1CA6D30BAE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9152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Quantum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the smallest quantity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nergy that can be emitted (or absorb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the form of electromagnetic radi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Quantum is given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: is the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: Plank’s constant, h = 6.6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J.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frequency of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Quantum Theory: energy is always emitted in integrals multiples of 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2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3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…………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50920" y="2532240"/>
                <a:ext cx="42498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hν</m:t>
                    </m:r>
                    <m:r>
                      <m:t xml:space="preserve">⇒</m:t>
                    </m:r>
                    <m:r>
                      <m:t xml:space="preserve">E</m:t>
                    </m:r>
                    <m:r>
                      <m:t xml:space="preserve">∝</m:t>
                    </m:r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716360" y="2060640"/>
            <a:ext cx="2952720" cy="22114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740720" y="285264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Quantization Princip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047CF-56A6-4DEC-A5F4-394D797D305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195640" y="836640"/>
                <a:ext cx="3654360" cy="576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hν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7FCDD-497B-474E-A623-416A911E9AB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93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2 p280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alculate the energy (in J) of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a) a photon with a wavelength of 5.0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nm (IR region)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b) a photon with a wavelength of 5.0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-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nm (X-ray region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321300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3284640"/>
            <a:ext cx="77058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 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m → E (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b)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1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 → E (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31E78-C9DB-4BA8-80DC-49F0FDEDD00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68360" y="549360"/>
                <a:ext cx="8064360" cy="20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68360" y="3141720"/>
                <a:ext cx="8136000" cy="20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FC1AD-7DB1-45DE-A70A-B7A7E832B54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3 Bohr’s Theory of Hydroge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mission Spectr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atoms are brigh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lin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spectral lines) in the visible spect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ission spectrum of any atom is a finger print (lines appeared at specific wavelength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96223-D352-40F9-BAF6-47585F26552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9640" y="835200"/>
            <a:ext cx="8088480" cy="5883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547640" y="379440"/>
            <a:ext cx="64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Emission Spectra of som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7564B-0069-4A5E-815C-E0AC632CC16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17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mission spectrum of Hydrogen Ato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il Bohr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tudy the emission spectrum of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Hydrogen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hr postulates that the electron is occupied ONLY certain orbits of specific energi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he energies of the electron are quant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 the emission spectrum of the H atom results from: the hydrogen atom is energis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ectron excited to higher energy orbi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op to a lower-energy orbit emits a quantum of energy (l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842240" y="44280"/>
            <a:ext cx="1160640" cy="165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827C1-D81D-455C-8B83-87C6B8C22C8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8T20:14:15Z</dcterms:modified>
  <cp:revision>940</cp:revision>
  <dc:subject/>
  <dc:title>General Chemistry CHEM 110</dc:title>
</cp:coreProperties>
</file>