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7B59A-F6BA-4D6F-9C6F-EDB4F6C60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C7300-33A7-4E40-BB3E-8631F62A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78F9A-B57C-4FCD-8E85-D526C6C9C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20DC8-A902-49A8-8F11-3E7C1CDCE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894F-B2AB-409D-AFF2-249B0231A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9715-D920-4631-A586-9ADC6344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C594-8E8E-45C6-B41A-75313179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E790-9D57-49C9-AABE-8BDA4E8E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D08B-1776-4700-9B68-6B4C55ED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6852-22B4-487C-909D-DD88780F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4A60-EB58-430C-9C1C-29F82EC8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D6BE9-7D95-454B-BCC6-5F2BB1AC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D6E9-1D01-4A65-95B5-6E92B574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86CA-A0CB-47AE-B385-3E0A1E72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74D9-8254-420A-B18E-94D730D9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1B15-6542-4DFE-B89F-D5F49FB84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504B-722B-4FDF-99C8-E4A07BACF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3F9E1-9C1D-48E8-84EB-3C1BB36B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1801F-8B44-48A5-95A6-996C0474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FACF3-1A29-4297-B908-06481A46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5ED22-F1F4-4738-A389-7EC4173A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A27AD-262A-41A1-B8F7-7A7760E6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8BD98-AE53-47A5-A2C8-AB206352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2A078-2651-458D-9753-BC1EF479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12EE-8833-4C14-A5D3-F5669472CA48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3148-FE30-40B1-AC2D-66C18F7ECFA5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EBBC-639E-42B8-9369-DF86B783A10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47628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ransition Elements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elements with electron configuration of incompletely filled d subshells or readily give rise to cations that have incompletely filled d subsh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Elements in Groups 1B-to-7B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268360" y="3789360"/>
            <a:ext cx="4500720" cy="2935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71640" y="4724280"/>
            <a:ext cx="2521080" cy="100980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BE744-65B2-49F1-87A9-E6EEB4C617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The stability of Filled d orbital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4797360"/>
            <a:ext cx="590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Comic Sans MS"/>
              </a:rPr>
              <a:t>هناك استثناءات, نتيجة الاستقراريه العاليه عندما يكون مدار                         نصف ممتلئ او ممتل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517536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2C37C-7E3F-4A49-AD0F-856CC34220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532 L 0.33073 0.00532 E">
                                      <p:cBhvr>
                                        <p:cTn id="13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1280" y="1177920"/>
            <a:ext cx="8748720" cy="5707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84360" y="2997360"/>
            <a:ext cx="503280" cy="1944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6560" y="33336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04640"/>
            <a:ext cx="237636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6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1A234-F02C-4518-AB06-9B88178CB1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stability of Filled d orbit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4C0B0-6855-41A7-9796-F5EDEE4A6B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08 L 0.33091 0.00508 E">
                                      <p:cBhvr>
                                        <p:cTn id="16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20720" y="1554120"/>
            <a:ext cx="8172360" cy="5330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9440" y="3284640"/>
            <a:ext cx="502920" cy="1728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21440" y="3213000"/>
            <a:ext cx="502920" cy="1800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0464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528480"/>
            <a:ext cx="259272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u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7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u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1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81D25-70EC-46E4-B3E2-464FCF8168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549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electron configuration of 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47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03640" y="1268280"/>
            <a:ext cx="5651280" cy="368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1700280"/>
            <a:ext cx="309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74D34-CB4E-4029-B22B-936C74D3C3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7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8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48720" cy="544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81555-991D-430D-BD14-9BC19D36E5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18160" y="429588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2000" y="47530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paired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5178600"/>
            <a:ext cx="1447920" cy="1064520"/>
            <a:chOff x="1295280" y="5178600"/>
            <a:chExt cx="1447920" cy="1064520"/>
          </a:xfrm>
        </p:grpSpPr>
        <p:grpSp>
          <p:nvGrpSpPr>
            <p:cNvPr id="232" name=""/>
            <p:cNvGrpSpPr/>
            <p:nvPr/>
          </p:nvGrpSpPr>
          <p:grpSpPr>
            <a:xfrm>
              <a:off x="1295280" y="5178600"/>
              <a:ext cx="1447920" cy="406440"/>
              <a:chOff x="1295280" y="5178600"/>
              <a:chExt cx="1447920" cy="406440"/>
            </a:xfrm>
          </p:grpSpPr>
          <p:sp>
            <p:nvSpPr>
              <p:cNvPr id="233" name=""/>
              <p:cNvSpPr/>
              <p:nvPr/>
            </p:nvSpPr>
            <p:spPr>
              <a:xfrm>
                <a:off x="1295280" y="558504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2880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6232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35900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90512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753200" y="578340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702760" y="429264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474984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electrons 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095880" y="5173200"/>
            <a:ext cx="1447920" cy="1064880"/>
            <a:chOff x="6095880" y="5173200"/>
            <a:chExt cx="1447920" cy="1064880"/>
          </a:xfrm>
        </p:grpSpPr>
        <p:sp>
          <p:nvSpPr>
            <p:cNvPr id="242" name=""/>
            <p:cNvSpPr/>
            <p:nvPr/>
          </p:nvSpPr>
          <p:spPr>
            <a:xfrm>
              <a:off x="6095880" y="55800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940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292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15960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70572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3800" y="577836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23888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6264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9616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4228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5280" y="620640"/>
            <a:ext cx="4248000" cy="567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Paramagnetic substance: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s the that contain net </a:t>
            </a:r>
            <a:r>
              <a:rPr b="0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unpaired electrons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n the outermost subshell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المجال الخارجي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nd is attract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620640"/>
            <a:ext cx="4248360" cy="61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Diamagnetic substance: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is the that do not contain net unpaired electrons (</a:t>
            </a:r>
            <a:r>
              <a:rPr b="0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all electrons are paire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) in the outermost subshell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مجال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خارجي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nd is repell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03653-10AD-4F75-8EFD-6031C29632D4}" type="slidenum">
              <a:t>17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476280"/>
            <a:ext cx="874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ic configur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            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144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350208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272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2908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872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5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37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3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9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580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4221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920" y="515772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Net one unpaired electron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Par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F164C-7127-4FBE-8FDE-44C110D33F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5280" y="47628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ctronic configuration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980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6108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5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00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1016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5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21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97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3284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149720"/>
            <a:ext cx="712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ll electrons are paire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Di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56000" y="2567160"/>
            <a:ext cx="57600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7164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1636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1D02D-D10C-4819-918E-EE514841E5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6DD31-3C3C-41C0-A6DC-272EB65708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76320" y="1488960"/>
            <a:ext cx="9220320" cy="5396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8360" y="333360"/>
            <a:ext cx="82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ification of representative elements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aramagnetic (P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Diamagnetic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29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872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7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676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72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77440" y="112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1557360"/>
            <a:ext cx="0" cy="3959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2060640"/>
            <a:ext cx="0" cy="35290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2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198900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1708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80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81200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20000" y="1557360"/>
            <a:ext cx="0" cy="39592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A2E2B-BB53-459E-813B-B134D274C0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468360" y="102888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395280" y="115920"/>
            <a:ext cx="87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elenium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419640" y="1052640"/>
            <a:ext cx="42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2349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5308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5924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53360" y="2997360"/>
            <a:ext cx="5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308A7-E978-4EEB-9181-7F3FF74C0E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95280" y="105264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95280" y="44280"/>
            <a:ext cx="8748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chromium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059280" y="1273320"/>
            <a:ext cx="612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EXCEPTION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B2F28-859D-4FE7-9BAF-ACC65BE146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95280" y="53964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[He] 2s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2p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s the electron configuration of which e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08000" y="1955880"/>
            <a:ext cx="266688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rb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87640" y="1547640"/>
            <a:ext cx="5977080" cy="38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37FB0-F800-4DDC-8CD4-3F294928D28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762120" y="19810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468360" y="490680"/>
            <a:ext cx="867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الكترونات التكافؤ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of vanadium (V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547640"/>
            <a:ext cx="5976720" cy="3897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042920" y="543708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3d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13186-5483-42B8-910E-F1817F38AE0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324000" y="1700280"/>
            <a:ext cx="30956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 of gallium G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044720"/>
            <a:ext cx="5976720" cy="3897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268360" y="5189400"/>
            <a:ext cx="680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lence electrons are in the highes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4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 4p</a:t>
            </a:r>
            <a:r>
              <a:rPr b="1" lang="ar-SA" sz="2400" spc="-1" strike="noStrike" baseline="30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1BDBB-D8E1-405F-B8DC-776897B17E5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68000" y="2421000"/>
            <a:ext cx="5170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D4BB6-7964-4036-8315-E4738200230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34920" y="134136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E3F70-A775-4CB5-8E07-0D78998606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09840" y="476280"/>
            <a:ext cx="655488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         (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41460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67280" y="4653000"/>
            <a:ext cx="493236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2697120"/>
            <a:ext cx="424800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   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0" y="476280"/>
            <a:ext cx="2665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F3623-B72E-47D3-B57C-91D1F4B487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278604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84360" y="944640"/>
            <a:ext cx="6335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4930920"/>
            <a:ext cx="583380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9800" y="3057480"/>
            <a:ext cx="561492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4640"/>
            <a:ext cx="482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9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K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a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4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e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6CBC0-22A2-498B-A5F6-9C6E5CFA49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333360"/>
            <a:ext cx="8280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Noble Gases: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elements with electron configuration of complete s &amp;  p sub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(He, Ne, Ar, Kr, Xe, Rn)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Group 8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476360" y="2894040"/>
            <a:ext cx="6120000" cy="3990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236000" y="3141720"/>
            <a:ext cx="360360" cy="237492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6356A-7E6A-4CB6-86A0-9DCC84307F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620640"/>
            <a:ext cx="8280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presentative Elements: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elements with electron configuration of incompletely filled s or p subs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Elements in Groups 1A-to-7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547640" y="2873520"/>
            <a:ext cx="6048720" cy="394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47640" y="3141720"/>
            <a:ext cx="720720" cy="23032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3500280"/>
            <a:ext cx="1656000" cy="19447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EC622-C2D0-47D1-B427-A53F56F118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71620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944640"/>
            <a:ext cx="6659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00220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840" y="404640"/>
            <a:ext cx="504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c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V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Zn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13056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1723B-ED99-484D-AD56-849E147132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365040"/>
            <a:ext cx="8064720" cy="4719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71640" y="4017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H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62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N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060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A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4271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K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2859120"/>
            <a:ext cx="6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5083200"/>
            <a:ext cx="2521080" cy="157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5056200"/>
            <a:ext cx="2448000" cy="157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5083200"/>
            <a:ext cx="345744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EE4E1-7A12-4BB7-91CB-9C1695FB5F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8:08Z</dcterms:modified>
  <cp:revision>939</cp:revision>
  <dc:subject/>
  <dc:title>General Chemistry CHEM 110</dc:title>
</cp:coreProperties>
</file>