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B66F4-62BD-4200-9917-72B2BF936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ABED-3BEF-4F86-91BF-C67AAAB6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60FB2-3B25-4FB7-9C57-C7940878F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F598-142F-4DC8-BB67-620D3B8AF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8EF0-BE40-401F-9672-58612651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2839-2E0C-4CB2-B19B-5D074E8BA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DF398-00B8-446A-B3BA-7EC764F7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70FAB-3149-4AB6-8A15-B601BA8B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3B72-2169-4CA9-B620-DFEB97C8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154C0-02A9-442F-9249-4CB4B22E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3D74-8944-4347-9768-DDB5D3FF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E0CDF-E103-408F-9A9C-684D8DCE0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D2BE-5D2C-4C92-9F61-DCCA71C8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E87B7-0338-45CA-BA6C-A727DCC4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767B-298B-4F05-974E-D317A78A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8D61D-7566-43F2-A7B7-9DDBD3DA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9500-FD55-4DF3-ADAA-A778B3C2A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9CE94-66C1-40C5-863C-24B99DDA1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78C49-F708-4304-86C0-E3160444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B96E3-5EDA-400D-80E8-BE4AB3B5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E8EED-21EE-45E3-91C2-62A28E41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35DC-5DD9-49C6-B5C8-D910F25AF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76008-D8B4-40CB-BA70-E8F17F7D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037D-606C-4587-B682-D1CE6E15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466C-318F-42AE-AC11-2C274BBC65E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E52E-35F6-4B71-8A8F-B91F752D073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9AC0-D8D0-4B56-990E-0F26622F82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5280" y="476280"/>
            <a:ext cx="8280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Transition Elements:</a:t>
            </a:r>
            <a:r>
              <a:rPr b="0" lang="en-GB" sz="3200" spc="-1" strike="noStrike">
                <a:solidFill>
                  <a:srgbClr val="006600"/>
                </a:solidFill>
                <a:latin typeface="Comic Sans MS"/>
              </a:rPr>
              <a:t> elements with electron configuration of incompletely filled d subshells or readily give rise to cations that have incompletely filled d subshel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Comic Sans MS"/>
              </a:rPr>
              <a:t>Elements in Groups 1B-to-7B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268360" y="3789360"/>
            <a:ext cx="4500720" cy="29354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771640" y="4724280"/>
            <a:ext cx="2521080" cy="1009800"/>
          </a:xfrm>
          <a:prstGeom prst="rect">
            <a:avLst/>
          </a:prstGeom>
          <a:noFill/>
          <a:ln w="5724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4CE9D-950F-4696-AE0B-5742C0282B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The stability of Filled d orbital</a:t>
            </a:r>
            <a:r>
              <a:rPr b="0" lang="en-GB" sz="28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a50021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59280" y="4797360"/>
            <a:ext cx="590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6600"/>
                </a:solidFill>
                <a:latin typeface="Comic Sans MS"/>
              </a:rPr>
              <a:t>هناك استثناءات, نتيجة الاستقراريه العاليه عندما يكون مدار                         نصف ممتلئ او ممتل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5175360"/>
            <a:ext cx="26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283C5-3A9B-4CA1-8F46-9EF3F9EE03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532 L 0.33073 0.00532 E">
                                      <p:cBhvr>
                                        <p:cTn id="13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1280" y="1177920"/>
            <a:ext cx="8748720" cy="5707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484360" y="2997360"/>
            <a:ext cx="503280" cy="1944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6560" y="333360"/>
            <a:ext cx="39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04640"/>
            <a:ext cx="237636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6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FCDB6-ACAB-46BE-9378-6860CE016A0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79280" y="476280"/>
            <a:ext cx="8785440" cy="51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EXEPTIONS !!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Half Filled &amp;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stability of Filled d orbital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: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5128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728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1164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312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8948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865840" y="2637000"/>
            <a:ext cx="57636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07348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498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22620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364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20000" y="263844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04000" y="278280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3856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1312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8948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5840" y="39322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07348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6498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620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4364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393372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04000" y="407844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3236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08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59640" y="40766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58920" y="2421000"/>
            <a:ext cx="2952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547640" y="2421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5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84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65964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308720" y="278136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35E3-1EC9-4CF5-9178-8280EC9F29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0508 L 0.33091 0.00508 E">
                                      <p:cBhvr>
                                        <p:cTn id="16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720720" y="1554120"/>
            <a:ext cx="8172360" cy="5330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989440" y="3284640"/>
            <a:ext cx="502920" cy="17287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221440" y="3213000"/>
            <a:ext cx="502920" cy="180036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68360" y="40464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The Stability of Filled d Orbi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64000" y="528480"/>
            <a:ext cx="2592720" cy="1620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2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u: [Ar] 4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7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g:[Kr] 5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79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u: [Xe] 6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5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1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g: [Rn] 7s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6d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85AB1-6A4F-4EFA-92F4-D3506ECB3F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95280" y="5493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The electron configuration of 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47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g 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203640" y="1268280"/>
            <a:ext cx="5651280" cy="368640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1700280"/>
            <a:ext cx="3097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Kr] 5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d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B87F1-639D-44DA-A8C3-3AEA7CCBF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7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8" dur="indefinite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48720" cy="544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843B6E-F28A-4064-9475-6C3F210D5F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118160" y="429588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ar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2000" y="4753080"/>
            <a:ext cx="288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paired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295280" y="5178600"/>
            <a:ext cx="1447920" cy="1064520"/>
            <a:chOff x="1295280" y="5178600"/>
            <a:chExt cx="1447920" cy="1064520"/>
          </a:xfrm>
        </p:grpSpPr>
        <p:grpSp>
          <p:nvGrpSpPr>
            <p:cNvPr id="232" name=""/>
            <p:cNvGrpSpPr/>
            <p:nvPr/>
          </p:nvGrpSpPr>
          <p:grpSpPr>
            <a:xfrm>
              <a:off x="1295280" y="5178600"/>
              <a:ext cx="1447920" cy="406440"/>
              <a:chOff x="1295280" y="5178600"/>
              <a:chExt cx="1447920" cy="406440"/>
            </a:xfrm>
          </p:grpSpPr>
          <p:sp>
            <p:nvSpPr>
              <p:cNvPr id="233" name=""/>
              <p:cNvSpPr/>
              <p:nvPr/>
            </p:nvSpPr>
            <p:spPr>
              <a:xfrm>
                <a:off x="1295280" y="5585040"/>
                <a:ext cx="3812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82880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362320" y="5585040"/>
                <a:ext cx="3808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135900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1905120" y="5178600"/>
                <a:ext cx="0" cy="380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753200" y="578340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702760" y="429264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amagne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486400" y="474984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 electrons pa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6095880" y="5173200"/>
            <a:ext cx="1447920" cy="1064880"/>
            <a:chOff x="6095880" y="5173200"/>
            <a:chExt cx="1447920" cy="1064880"/>
          </a:xfrm>
        </p:grpSpPr>
        <p:sp>
          <p:nvSpPr>
            <p:cNvPr id="242" name=""/>
            <p:cNvSpPr/>
            <p:nvPr/>
          </p:nvSpPr>
          <p:spPr>
            <a:xfrm>
              <a:off x="6095880" y="5580000"/>
              <a:ext cx="38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62940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162920" y="5580000"/>
              <a:ext cx="380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615960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6705720" y="517320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3800" y="5778360"/>
              <a:ext cx="54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2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723888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62640" y="5187960"/>
              <a:ext cx="0" cy="380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89616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42280" y="5200560"/>
              <a:ext cx="0" cy="381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95280" y="620640"/>
            <a:ext cx="4248000" cy="567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Paramagnetic substance: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s the that contain net </a:t>
            </a:r>
            <a:r>
              <a:rPr b="0" lang="en-GB" sz="2800" spc="-1" strike="noStrike" u="sng">
                <a:solidFill>
                  <a:srgbClr val="a50021"/>
                </a:solidFill>
                <a:uFillTx/>
                <a:latin typeface="Comic Sans MS"/>
              </a:rPr>
              <a:t>unpaired electrons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in the outermost subshell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المجال الخارجي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and is attract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716360" y="620640"/>
            <a:ext cx="4248360" cy="610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9900cc"/>
                </a:solidFill>
                <a:latin typeface="Comic Sans MS"/>
              </a:rPr>
              <a:t>Diamagnetic substance: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is the that do not contain net unpaired electrons (</a:t>
            </a:r>
            <a:r>
              <a:rPr b="0" lang="en-GB" sz="2800" spc="-1" strike="noStrike" u="sng">
                <a:solidFill>
                  <a:srgbClr val="9900cc"/>
                </a:solidFill>
                <a:uFillTx/>
                <a:latin typeface="Comic Sans MS"/>
              </a:rPr>
              <a:t>all electrons are paired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) in the outermost subshell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مجال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</a:rPr>
              <a:t>الخارجي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and is repelled by a mag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F88F7-6B4A-44E7-88B6-CF5F4990F2EE}" type="slidenum">
              <a:t>17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476280"/>
            <a:ext cx="87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lectronic configur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            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34144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76720" y="350208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272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42908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57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06872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5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70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37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21308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78944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65800" y="350208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581800" y="364644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221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58920" y="515772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Net one unpaired electron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Par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0CDCB-051C-40C3-BB88-66E0B106658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95280" y="476280"/>
            <a:ext cx="87487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lectronic configuration: 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Orbital diagr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980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28472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861080" y="2565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65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00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07672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71016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4508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221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97440" y="270972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3284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149720"/>
            <a:ext cx="712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All electrons are paire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Diamagnetic sub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556000" y="2567160"/>
            <a:ext cx="576000" cy="5029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77164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16360" y="271152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3F59A-5839-433C-B748-5D6F82001A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EAFCE-381B-49F9-BE0B-5DBE9185A6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-76320" y="1488960"/>
            <a:ext cx="9220320" cy="5396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468360" y="333360"/>
            <a:ext cx="8207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assification of representative elements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Comic Sans MS"/>
              </a:rPr>
              <a:t>Paramagnetic (P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lang="en-US" sz="2800" spc="-1" strike="noStrike">
                <a:solidFill>
                  <a:srgbClr val="00007d"/>
                </a:solidFill>
                <a:latin typeface="Comic Sans MS"/>
              </a:rPr>
              <a:t>Diamagnetic (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197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229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28720" y="155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2374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66764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Comic Sans MS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677440" y="1125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8360" y="1557360"/>
            <a:ext cx="0" cy="39592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72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877080" y="198900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31708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8036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812000" y="2060640"/>
            <a:ext cx="0" cy="3456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820000" y="1557360"/>
            <a:ext cx="0" cy="3959280"/>
          </a:xfrm>
          <a:prstGeom prst="line">
            <a:avLst/>
          </a:prstGeom>
          <a:ln w="3816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FCF2A-DE8D-4862-BF2E-A30B4DC447F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4"/>
          <p:cNvSpPr/>
          <p:nvPr/>
        </p:nvSpPr>
        <p:spPr>
          <a:xfrm>
            <a:off x="468360" y="102888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395280" y="115920"/>
            <a:ext cx="87487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selenium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419640" y="1052640"/>
            <a:ext cx="4248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140360" y="2349360"/>
            <a:ext cx="57600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71636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349360"/>
            <a:ext cx="576360" cy="5032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7672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5308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359240" y="2494080"/>
            <a:ext cx="0" cy="358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53360" y="2997360"/>
            <a:ext cx="5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1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DE01D-049F-400F-A739-3EFE8B36F3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4"/>
          <p:cNvSpPr/>
          <p:nvPr/>
        </p:nvSpPr>
        <p:spPr>
          <a:xfrm>
            <a:off x="395280" y="1052640"/>
            <a:ext cx="22096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395280" y="44280"/>
            <a:ext cx="874872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How many unpaired electrons does chromium hav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771640" y="2852640"/>
            <a:ext cx="6083280" cy="39690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3059280" y="1273320"/>
            <a:ext cx="6121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(EXCEPTION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r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Unpaired electrons is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A69B63-6A9E-42FD-AAC6-CA47152B3F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2"/>
          <p:cNvSpPr/>
          <p:nvPr/>
        </p:nvSpPr>
        <p:spPr>
          <a:xfrm>
            <a:off x="395280" y="539640"/>
            <a:ext cx="82296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[He] 2s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2p</a:t>
            </a:r>
            <a:r>
              <a:rPr b="0" lang="en-US" sz="32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is the electron configuration of which el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"/>
          <p:cNvSpPr/>
          <p:nvPr/>
        </p:nvSpPr>
        <p:spPr>
          <a:xfrm>
            <a:off x="108000" y="1955880"/>
            <a:ext cx="266688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ryll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arb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it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2987640" y="1547640"/>
            <a:ext cx="5977080" cy="389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DCF78-F53B-4BB1-9C59-93B017B7487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4"/>
          <p:cNvSpPr/>
          <p:nvPr/>
        </p:nvSpPr>
        <p:spPr>
          <a:xfrm>
            <a:off x="762120" y="19810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468360" y="490680"/>
            <a:ext cx="8675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  </a:t>
            </a:r>
            <a:r>
              <a:rPr b="0" lang="ar-SA" sz="3200" spc="-1" strike="noStrike">
                <a:solidFill>
                  <a:srgbClr val="a50021"/>
                </a:solidFill>
                <a:latin typeface="Comic Sans MS"/>
              </a:rPr>
              <a:t>الكترونات التكافؤ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of vanadium (V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547640"/>
            <a:ext cx="5976720" cy="38973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042920" y="5437080"/>
            <a:ext cx="81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: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800" spc="-1" strike="noStrike">
                <a:solidFill>
                  <a:srgbClr val="a50021"/>
                </a:solidFill>
                <a:latin typeface="Comic Sans MS"/>
              </a:rPr>
              <a:t> 3d</a:t>
            </a:r>
            <a:r>
              <a:rPr b="1" lang="en-GB" sz="2800" spc="-1" strike="noStrike" baseline="30000">
                <a:solidFill>
                  <a:srgbClr val="a50021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9899-EE5A-4566-B33D-02677159BF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4"/>
          <p:cNvSpPr/>
          <p:nvPr/>
        </p:nvSpPr>
        <p:spPr>
          <a:xfrm>
            <a:off x="324000" y="1700280"/>
            <a:ext cx="309564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p</a:t>
            </a:r>
            <a:r>
              <a:rPr b="0" lang="en-US" sz="32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38088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What are the valence electrons of gallium Ga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3059280" y="1044720"/>
            <a:ext cx="5976720" cy="38970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2268360" y="5189400"/>
            <a:ext cx="6804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a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ar-SA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lence electrons are in the highest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THUS: The valence electrons are 4s</a:t>
            </a:r>
            <a:r>
              <a:rPr b="1" lang="en-GB" sz="24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 4p</a:t>
            </a:r>
            <a:r>
              <a:rPr b="1" lang="ar-SA" sz="2400" spc="-1" strike="noStrike" baseline="30000">
                <a:solidFill>
                  <a:srgbClr val="a50021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249D3-B97C-4BE3-B632-765277BF9A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68000" y="2421000"/>
            <a:ext cx="5170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d of Chapter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3FED-3266-4DE6-B81E-BDB701B51BC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0" y="981000"/>
            <a:ext cx="9144000" cy="5964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9079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utermost subshell being filled with elect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-34920" y="134136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5280" y="333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9 The Building-Up Princip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BEB30-E1AE-4841-93AC-5A8EDE317E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409840" y="476280"/>
            <a:ext cx="655488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a         (3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414600" cy="3527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67280" y="4653000"/>
            <a:ext cx="493236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427640" y="2697120"/>
            <a:ext cx="424800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g         (3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peri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 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Ne]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0" y="476280"/>
            <a:ext cx="266544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1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2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g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9900cc"/>
                </a:solidFill>
                <a:latin typeface="Comic Sans MS"/>
              </a:rPr>
              <a:t>16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S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EAE11-416E-476C-9ECB-104B07ADDA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9280" y="3357720"/>
            <a:ext cx="2786040" cy="2879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484360" y="944640"/>
            <a:ext cx="6335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9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930920"/>
            <a:ext cx="5833800" cy="159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   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49800" y="3057480"/>
            <a:ext cx="561492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404640"/>
            <a:ext cx="4824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19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K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Ca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4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e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DEC49-9741-4451-8FA0-A7E858E3267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95280" y="333360"/>
            <a:ext cx="82803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Noble Gases: </a:t>
            </a: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elements with electron configuration of complete s &amp;  p subsh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(He, Ne, Ar, Kr, Xe, Rn)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00cc"/>
                </a:solidFill>
                <a:latin typeface="Comic Sans MS"/>
              </a:rPr>
              <a:t>Group 8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476360" y="2894040"/>
            <a:ext cx="6120000" cy="39909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236000" y="3141720"/>
            <a:ext cx="360360" cy="2374920"/>
          </a:xfrm>
          <a:prstGeom prst="rect">
            <a:avLst/>
          </a:prstGeom>
          <a:noFill/>
          <a:ln w="572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E4D12-69F8-421C-A5D0-9756C36B957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95280" y="620640"/>
            <a:ext cx="82803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Comic Sans MS"/>
              </a:rPr>
              <a:t>Representative Elements:</a:t>
            </a:r>
            <a:r>
              <a:rPr b="0" lang="en-US" sz="3200" spc="-1" strike="noStrike">
                <a:solidFill>
                  <a:srgbClr val="a50021"/>
                </a:solidFill>
                <a:latin typeface="Comic Sans MS"/>
              </a:rPr>
              <a:t> elements with electron configuration of incompletely filled s or p subsh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Comic Sans MS"/>
              </a:rPr>
              <a:t>Elements in Groups 1A-to-7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1" descr="02_10"/>
          <p:cNvPicPr/>
          <p:nvPr/>
        </p:nvPicPr>
        <p:blipFill>
          <a:blip r:embed="rId1"/>
          <a:srcRect l="0" t="2815" r="0" b="0"/>
          <a:stretch/>
        </p:blipFill>
        <p:spPr>
          <a:xfrm>
            <a:off x="1547640" y="2873520"/>
            <a:ext cx="6048720" cy="3944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547640" y="3141720"/>
            <a:ext cx="720720" cy="230328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80000" y="3500280"/>
            <a:ext cx="1656000" cy="1944720"/>
          </a:xfrm>
          <a:prstGeom prst="rect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7F52B-2ECF-4A9F-B688-9A71E68FD0A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271620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411280" y="944640"/>
            <a:ext cx="6659640" cy="206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ar-SA" sz="32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500220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0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Z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3840" y="404640"/>
            <a:ext cx="504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electron configu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1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Sc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23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V 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9900cc"/>
                </a:solidFill>
                <a:latin typeface="Comic Sans MS"/>
              </a:rPr>
              <a:t>30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Zn 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7640" y="3130560"/>
            <a:ext cx="5977080" cy="181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3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1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p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ar-SA" sz="2800" spc="-1" strike="noStrike" baseline="30000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[Ar] 4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86C26-CA72-43E6-99E8-AA16B07831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365040"/>
            <a:ext cx="8064720" cy="47196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71640" y="40176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hort 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1197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H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9640" y="162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Ne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2060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[A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24271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Kr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2560" y="2859120"/>
            <a:ext cx="647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920" y="5083200"/>
            <a:ext cx="2521080" cy="15721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: [He] 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2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71640" y="5056200"/>
            <a:ext cx="2448000" cy="1572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a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: [Ne] 3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3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35640" y="5083200"/>
            <a:ext cx="345744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K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r: [Ar] 4s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3d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4p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90166-6820-4D95-A97B-4521ECB4EB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8:08Z</dcterms:modified>
  <cp:revision>939</cp:revision>
  <dc:subject/>
  <dc:title>General Chemistry CHEM 110</dc:title>
</cp:coreProperties>
</file>