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868477-1AB7-485E-B47C-2975D6517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F40E32-04A9-4905-B854-DA8104B17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F6A2E0-AFE3-428A-8AA3-7A3F170DB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21ABC4-74D0-4EFD-9E5F-889DD5DD4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D7CC5-B5FC-41A5-9721-52207B06A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497E9-8C09-4883-BA5E-FF3E9A811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04E4A-DD34-4AB3-BF1E-15657168E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876E4-CBCC-4178-B02E-CEC41C920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849EF-B4F0-44EE-9E97-27BDDB86E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98045-24DD-4719-A9C5-7226A3DDA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7BFF5-C7FC-4F33-A8CD-59A970074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2243C8-1204-4F04-9CE0-8C130F57C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9C725-C25F-4DD9-81D0-33B901C32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B7AC7-E7D7-44AA-B593-ABD0E4187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09F49-2572-417C-B123-DCA14647E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05785-1F6F-45CE-A165-9B71A4AB1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3B36C-BB91-4A83-B439-1385B649C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AB16E1-74CF-4A4C-820A-C4E9C5348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D2EBFB-45BE-4E4C-B715-0AA60E613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19BDA5-B8D6-4FDB-BFC0-758BB0FD4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90AC08-8132-4715-A9EB-81954E91E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23B3A3-5A43-4249-8FEC-DC4FADB54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1CE121-647C-45B8-8057-FD6778EC0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1D45BF-B905-4A7C-87C1-077DC5302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F65E3-F2A1-4EBD-8C22-A5758A74FE9F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1312A-EDF2-442E-A177-C4975F53481B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General Chemistry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CHEM 110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Dr. Nuha Wazzan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755640" y="4292640"/>
            <a:ext cx="8236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Chapter 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Quantum Theory and Electronic Structure of Ato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C9B33-FA2E-4418-9DD0-29DA585972E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380880" y="182520"/>
            <a:ext cx="8610840" cy="4084560"/>
          </a:xfrm>
          <a:prstGeom prst="rect">
            <a:avLst/>
          </a:prstGeom>
          <a:ln w="0">
            <a:noFill/>
          </a:ln>
        </p:spPr>
      </p:pic>
      <p:grpSp>
        <p:nvGrpSpPr>
          <p:cNvPr id="132" name=""/>
          <p:cNvGrpSpPr/>
          <p:nvPr/>
        </p:nvGrpSpPr>
        <p:grpSpPr>
          <a:xfrm>
            <a:off x="533520" y="4187880"/>
            <a:ext cx="7924680" cy="2079720"/>
            <a:chOff x="533520" y="4187880"/>
            <a:chExt cx="7924680" cy="2079720"/>
          </a:xfrm>
        </p:grpSpPr>
        <p:sp>
          <p:nvSpPr>
            <p:cNvPr id="133" name=""/>
            <p:cNvSpPr/>
            <p:nvPr/>
          </p:nvSpPr>
          <p:spPr>
            <a:xfrm>
              <a:off x="832320" y="4187880"/>
              <a:ext cx="7511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Line Emission Spectrum of Hydrogen Atom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4" name="" descr=""/>
            <p:cNvPicPr/>
            <p:nvPr/>
          </p:nvPicPr>
          <p:blipFill>
            <a:blip r:embed="rId2"/>
            <a:stretch/>
          </p:blipFill>
          <p:spPr>
            <a:xfrm>
              <a:off x="533520" y="4648320"/>
              <a:ext cx="7924680" cy="1619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389338-509E-4849-BCCC-C68118EC738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195640" y="1052640"/>
            <a:ext cx="5329080" cy="516240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859280" y="476280"/>
            <a:ext cx="115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859280" y="2492280"/>
            <a:ext cx="115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572000" y="907920"/>
            <a:ext cx="360360" cy="360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572000" y="2852640"/>
            <a:ext cx="360360" cy="360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969CB4-DF19-424E-89AC-0DE81028554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3628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e energies of the electron in the H atom are given 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 = 1 Ground State </a:t>
            </a:r>
            <a:r>
              <a:rPr b="1" lang="ar-SA" sz="3200" spc="-1" strike="noStrike">
                <a:solidFill>
                  <a:srgbClr val="9900cc"/>
                </a:solidFill>
                <a:latin typeface="Comic Sans MS"/>
              </a:rPr>
              <a:t>الحاله الارضيه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 = 2, 3, 4, … Excited States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ar-SA" sz="3200" spc="-1" strike="noStrike">
                <a:solidFill>
                  <a:srgbClr val="a50021"/>
                </a:solidFill>
                <a:latin typeface="Comic Sans MS"/>
              </a:rPr>
              <a:t>الحالات المثاره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971640" y="1773360"/>
                <a:ext cx="7848360" cy="290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n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 Rydberg constant 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8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J</m:t>
                        </m:r>
                      </m:e>
                      <m:e>
                        <m:r>
                          <m:t xml:space="preserve">n</m:t>
                        </m:r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 integer called the principal quantum number;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1, 2, 3,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7594A4-48BC-4266-9BA1-89423C2BD2E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983040" y="765000"/>
            <a:ext cx="5126040" cy="56167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324000" y="620640"/>
                <a:ext cx="3905280" cy="525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E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Sup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Sup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  <m:r>
                          <m:t xml:space="preserve">)</m:t>
                        </m:r>
                      </m:e>
                      <m:e>
                        <m:r>
                          <m:t xml:space="preserve">⇒</m:t>
                        </m:r>
                        <m:r>
                          <m:t xml:space="preserve">ΔE</m:t>
                        </m:r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H</m:t>
                                    </m:r>
                                  </m:sub>
                                </m:sSub>
                              </m:num>
                              <m:den>
                                <m:sSub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</m:e>
                        </m:d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H</m:t>
                                    </m:r>
                                  </m:sub>
                                </m:sSub>
                              </m:num>
                              <m:den>
                                <m:sSub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</m:e>
                        </m:d>
                      </m:e>
                      <m:e>
                        <m:r>
                          <m:t xml:space="preserve">ΔE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4" name=""/>
          <p:cNvSpPr/>
          <p:nvPr/>
        </p:nvSpPr>
        <p:spPr>
          <a:xfrm>
            <a:off x="324000" y="4653000"/>
            <a:ext cx="3024000" cy="1224000"/>
          </a:xfrm>
          <a:prstGeom prst="rect">
            <a:avLst/>
          </a:prstGeom>
          <a:noFill/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A01EBB-A6AF-466C-931C-0E45BF5553E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395280" y="1015920"/>
                <a:ext cx="3024360" cy="126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E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Sup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Sup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46" name=""/>
          <p:cNvSpPr/>
          <p:nvPr/>
        </p:nvSpPr>
        <p:spPr>
          <a:xfrm>
            <a:off x="539640" y="3141720"/>
            <a:ext cx="8353440" cy="356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9900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1" lang="en-GB" sz="3600" spc="-1" strike="noStrike">
                <a:solidFill>
                  <a:srgbClr val="a50021"/>
                </a:solidFill>
                <a:latin typeface="Comic Sans MS"/>
              </a:rPr>
              <a:t>If n</a:t>
            </a:r>
            <a:r>
              <a:rPr b="1" lang="en-GB" sz="3600" spc="-1" strike="noStrike" baseline="-25000">
                <a:solidFill>
                  <a:srgbClr val="a50021"/>
                </a:solidFill>
                <a:latin typeface="Comic Sans MS"/>
              </a:rPr>
              <a:t>f</a:t>
            </a:r>
            <a:r>
              <a:rPr b="1" lang="en-GB" sz="3600" spc="-1" strike="noStrike">
                <a:solidFill>
                  <a:srgbClr val="a50021"/>
                </a:solidFill>
                <a:latin typeface="Comic Sans MS"/>
              </a:rPr>
              <a:t> &gt; n</a:t>
            </a:r>
            <a:r>
              <a:rPr b="1" lang="en-GB" sz="3600" spc="-1" strike="noStrike" baseline="-25000">
                <a:solidFill>
                  <a:srgbClr val="a50021"/>
                </a:solidFill>
                <a:latin typeface="Comic Sans MS"/>
              </a:rPr>
              <a:t>i</a:t>
            </a:r>
            <a:r>
              <a:rPr b="1" lang="en-GB" sz="3600" spc="-1" strike="noStrike">
                <a:solidFill>
                  <a:srgbClr val="a50021"/>
                </a:solidFill>
                <a:latin typeface="Comic Sans MS"/>
              </a:rPr>
              <a:t> →</a:t>
            </a:r>
            <a:r>
              <a:rPr b="1" lang="ar-SA" sz="36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1" lang="en-GB" sz="3600" spc="-1" strike="noStrike">
                <a:solidFill>
                  <a:srgbClr val="a50021"/>
                </a:solidFill>
                <a:latin typeface="Comic Sans MS"/>
              </a:rPr>
              <a:t>(+ve) →</a:t>
            </a:r>
            <a:r>
              <a:rPr b="1" lang="ar-SA" sz="36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1" lang="el-GR" sz="3600" spc="-1" strike="noStrike">
                <a:solidFill>
                  <a:srgbClr val="a50021"/>
                </a:solidFill>
                <a:latin typeface="Comic Sans MS"/>
              </a:rPr>
              <a:t>Δ</a:t>
            </a:r>
            <a:r>
              <a:rPr b="1" lang="en-GB" sz="3600" spc="-1" strike="noStrike">
                <a:solidFill>
                  <a:srgbClr val="a50021"/>
                </a:solidFill>
                <a:latin typeface="Comic Sans MS"/>
              </a:rPr>
              <a:t>E (+ve)</a:t>
            </a:r>
            <a:r>
              <a:rPr b="1" lang="ar-SA" sz="36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1" lang="en-GB" sz="3600" spc="-1" strike="noStrike">
                <a:solidFill>
                  <a:srgbClr val="a50021"/>
                </a:solidFill>
                <a:latin typeface="Comic Sans MS"/>
              </a:rPr>
              <a:t>→</a:t>
            </a:r>
            <a:r>
              <a:rPr b="1" lang="ar-SA" sz="36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1" lang="en-GB" sz="3600" spc="-1" strike="noStrike">
                <a:solidFill>
                  <a:srgbClr val="a50021"/>
                </a:solidFill>
                <a:latin typeface="Comic Sans MS"/>
              </a:rPr>
              <a:t> Energy is absorbed</a:t>
            </a:r>
            <a:r>
              <a:rPr b="0" lang="en-GB" sz="3600" spc="-1" strike="noStrike">
                <a:solidFill>
                  <a:srgbClr val="a50021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1" lang="en-GB" sz="3600" spc="-1" strike="noStrike">
                <a:solidFill>
                  <a:srgbClr val="9900cc"/>
                </a:solidFill>
                <a:latin typeface="Comic Sans MS"/>
              </a:rPr>
              <a:t>If n</a:t>
            </a:r>
            <a:r>
              <a:rPr b="1" lang="en-GB" sz="3600" spc="-1" strike="noStrike" baseline="-25000">
                <a:solidFill>
                  <a:srgbClr val="9900cc"/>
                </a:solidFill>
                <a:latin typeface="Comic Sans MS"/>
              </a:rPr>
              <a:t>i</a:t>
            </a:r>
            <a:r>
              <a:rPr b="1" lang="en-GB" sz="3600" spc="-1" strike="noStrike">
                <a:solidFill>
                  <a:srgbClr val="9900cc"/>
                </a:solidFill>
                <a:latin typeface="Comic Sans MS"/>
              </a:rPr>
              <a:t> &gt; n</a:t>
            </a:r>
            <a:r>
              <a:rPr b="1" lang="en-GB" sz="3600" spc="-1" strike="noStrike" baseline="-25000">
                <a:solidFill>
                  <a:srgbClr val="9900cc"/>
                </a:solidFill>
                <a:latin typeface="Comic Sans MS"/>
              </a:rPr>
              <a:t>f</a:t>
            </a:r>
            <a:r>
              <a:rPr b="1" lang="en-GB" sz="3600" spc="-1" strike="noStrike">
                <a:solidFill>
                  <a:srgbClr val="9900cc"/>
                </a:solidFill>
                <a:latin typeface="Comic Sans MS"/>
              </a:rPr>
              <a:t> →</a:t>
            </a:r>
            <a:r>
              <a:rPr b="1" lang="ar-SA" sz="36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1" lang="en-GB" sz="3600" spc="-1" strike="noStrike">
                <a:solidFill>
                  <a:srgbClr val="9900cc"/>
                </a:solidFill>
                <a:latin typeface="Comic Sans MS"/>
              </a:rPr>
              <a:t>(-ve) →</a:t>
            </a:r>
            <a:r>
              <a:rPr b="1" lang="ar-SA" sz="36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1" lang="el-GR" sz="3600" spc="-1" strike="noStrike">
                <a:solidFill>
                  <a:srgbClr val="9900cc"/>
                </a:solidFill>
                <a:latin typeface="Comic Sans MS"/>
                <a:ea typeface="DFKai-SB"/>
              </a:rPr>
              <a:t>Δ</a:t>
            </a:r>
            <a:r>
              <a:rPr b="1" lang="en-GB" sz="3600" spc="-1" strike="noStrike">
                <a:solidFill>
                  <a:srgbClr val="9900cc"/>
                </a:solidFill>
                <a:latin typeface="Comic Sans MS"/>
                <a:ea typeface="DFKai-SB"/>
              </a:rPr>
              <a:t>E (-ve)</a:t>
            </a:r>
            <a:r>
              <a:rPr b="1" lang="ar-SA" sz="3600" spc="-1" strike="noStrike">
                <a:solidFill>
                  <a:srgbClr val="9900cc"/>
                </a:solidFill>
                <a:latin typeface="Comic Sans MS"/>
                <a:ea typeface="DFKai-SB"/>
              </a:rPr>
              <a:t> </a:t>
            </a:r>
            <a:r>
              <a:rPr b="1" lang="en-GB" sz="3600" spc="-1" strike="noStrike">
                <a:solidFill>
                  <a:srgbClr val="9900cc"/>
                </a:solidFill>
                <a:latin typeface="Comic Sans MS"/>
                <a:ea typeface="DFKai-SB"/>
              </a:rPr>
              <a:t>→</a:t>
            </a:r>
            <a:r>
              <a:rPr b="1" lang="ar-SA" sz="3600" spc="-1" strike="noStrike">
                <a:solidFill>
                  <a:srgbClr val="9900cc"/>
                </a:solidFill>
                <a:latin typeface="Comic Sans MS"/>
                <a:ea typeface="DFKai-SB"/>
              </a:rPr>
              <a:t> </a:t>
            </a:r>
            <a:r>
              <a:rPr b="1" lang="en-GB" sz="3600" spc="-1" strike="noStrike">
                <a:solidFill>
                  <a:srgbClr val="9900cc"/>
                </a:solidFill>
                <a:latin typeface="Comic Sans MS"/>
                <a:ea typeface="DFKai-SB"/>
              </a:rPr>
              <a:t> Energy is emitted</a:t>
            </a:r>
            <a:r>
              <a:rPr b="0" lang="en-GB" sz="3600" spc="-1" strike="noStrike">
                <a:solidFill>
                  <a:srgbClr val="a50021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291280" y="1052640"/>
            <a:ext cx="21715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291280" y="2276640"/>
            <a:ext cx="21715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6588000" y="1052640"/>
            <a:ext cx="0" cy="122400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722920" y="1052640"/>
            <a:ext cx="0" cy="12240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659640" y="1341360"/>
            <a:ext cx="194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Energy absorb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427640" y="1125360"/>
            <a:ext cx="194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Energy emit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4284720" y="691920"/>
            <a:ext cx="0" cy="1942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780000" y="14130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443640" y="2179800"/>
            <a:ext cx="631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n</a:t>
            </a:r>
            <a:r>
              <a:rPr b="0" lang="en-US" sz="2400" spc="-1" strike="noStrike" baseline="-25000">
                <a:solidFill>
                  <a:srgbClr val="a50021"/>
                </a:solidFill>
                <a:latin typeface="Comic Sans MS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443640" y="595440"/>
            <a:ext cx="631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n</a:t>
            </a:r>
            <a:r>
              <a:rPr b="0" lang="en-US" sz="2400" spc="-1" strike="noStrike" baseline="-25000">
                <a:solidFill>
                  <a:srgbClr val="a50021"/>
                </a:solidFill>
                <a:latin typeface="Comic Sans MS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524560" y="620640"/>
            <a:ext cx="631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n</a:t>
            </a:r>
            <a:r>
              <a:rPr b="0" lang="en-US" sz="2400" spc="-1" strike="noStrike" baseline="-25000">
                <a:solidFill>
                  <a:srgbClr val="9900cc"/>
                </a:solidFill>
                <a:latin typeface="Comic Sans MS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524560" y="2179800"/>
            <a:ext cx="631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n</a:t>
            </a:r>
            <a:r>
              <a:rPr b="0" lang="en-US" sz="2400" spc="-1" strike="noStrike" baseline="-25000">
                <a:solidFill>
                  <a:srgbClr val="9900cc"/>
                </a:solidFill>
                <a:latin typeface="Comic Sans MS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3A6732-AD75-4B55-8A47-E5F49F11350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" dur="8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" dur="8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" dur="8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" dur="8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" dur="8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" dur="8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395280" y="333360"/>
            <a:ext cx="8137440" cy="21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7.4 p287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What is the wavelength of a photon (in nm) emitted during a transition from the n</a:t>
            </a:r>
            <a:r>
              <a:rPr b="0" lang="en-US" sz="2800" spc="-1" strike="noStrike" baseline="-25000">
                <a:solidFill>
                  <a:srgbClr val="00007d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= 5 state to the n</a:t>
            </a:r>
            <a:r>
              <a:rPr b="0" lang="en-US" sz="2800" spc="-1" strike="noStrike" baseline="-25000">
                <a:solidFill>
                  <a:srgbClr val="00007d"/>
                </a:solidFill>
                <a:latin typeface="Comic Sans MS"/>
              </a:rPr>
              <a:t>f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= 2 state in the hydrogen ato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42920" y="2421000"/>
            <a:ext cx="8893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08000" y="2492280"/>
            <a:ext cx="889308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iven n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5; n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2; n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&gt; n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→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  <a:ea typeface="DFKai-SB"/>
              </a:rPr>
              <a:t>Δ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 =-ve (energy is emitt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ind: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λ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in nm)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?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4037040" y="4149720"/>
                <a:ext cx="2943360" cy="222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E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</m:e>
                        </m:d>
                      </m:e>
                      <m:e>
                        <m:r>
                          <m:t xml:space="preserve">ΔE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hc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  <m:r>
                          <m:t xml:space="preserve">⇒</m:t>
                        </m:r>
                        <m:r>
                          <m:t xml:space="preserve">λ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hc</m:t>
                            </m:r>
                          </m:num>
                          <m:den>
                            <m:r>
                              <m:t xml:space="preserve">ΔE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8C6851-877F-4F97-92F9-FA5209ADDD2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179280" y="549360"/>
                <a:ext cx="7848720" cy="558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ΔE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8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J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p>
                                  <m:e>
                                    <m:r>
                                      <m:t xml:space="preserve">5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p>
                                  <m:e>
                                    <m:r>
                                      <m:t xml:space="preserve">2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</m:e>
                        </m:d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8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9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J</m:t>
                        </m:r>
                      </m:e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ΔE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hc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  <m:r>
                          <m:t xml:space="preserve">⇒</m:t>
                        </m:r>
                      </m:e>
                      <m:e>
                        <m:r>
                          <m:t xml:space="preserve">λ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hc</m:t>
                            </m:r>
                          </m:num>
                          <m:den>
                            <m:r>
                              <m:t xml:space="preserve">ΔE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3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34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J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 x 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0 x10</m:t>
                                </m:r>
                              </m:e>
                              <m:sup>
                                <m:r>
                                  <m:t xml:space="preserve">8</m:t>
                                </m:r>
                              </m:sup>
                            </m:s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m</m:t>
                                </m:r>
                              </m:num>
                              <m:den>
                                <m:r>
                                  <m:t xml:space="preserve">s</m:t>
                                </m:r>
                              </m:den>
                            </m:f>
                          </m:num>
                          <m:den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8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9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J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4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7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m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434 n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64" name=""/>
          <p:cNvSpPr/>
          <p:nvPr/>
        </p:nvSpPr>
        <p:spPr>
          <a:xfrm>
            <a:off x="5508720" y="5157720"/>
            <a:ext cx="3456000" cy="19227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66"/>
                </a:solidFill>
                <a:latin typeface="Comic Sans MS"/>
              </a:rPr>
              <a:t>لاحظي ان الطاقه اخذت باشاره موجبه لان الطول الموجي لايمكن ان يكون قيمه سالبه</a:t>
            </a:r>
            <a:r>
              <a:rPr b="1" lang="ar-SA" sz="2400" spc="-1" strike="noStrike">
                <a:solidFill>
                  <a:srgbClr val="003366"/>
                </a:solidFill>
                <a:latin typeface="Comic Sans MS"/>
              </a:rPr>
              <a:t>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5B045D-8718-4F40-B927-BDD8285343D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14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Plank’s Quantum The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196640"/>
            <a:ext cx="663588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hen solids are heated, they emit electromagnetic radi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FACT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the amount of radiant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energy emitted by an object at a certain temperature DEPENDS on the WAVELENGH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lassical physics failed in explaining why this happen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lassical physics: assumed that atoms or molecules could emit (or absorb) any amount of energy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lank explain this: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Energy (light) is emitted or absorbed in discrete units (quantum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2" descr="C:\Documents and Settings\DELL-XPS\Desktop\chem110\Max_Planck.png"/>
          <p:cNvPicPr/>
          <p:nvPr/>
        </p:nvPicPr>
        <p:blipFill>
          <a:blip r:embed="rId1"/>
          <a:stretch/>
        </p:blipFill>
        <p:spPr>
          <a:xfrm>
            <a:off x="7524720" y="4581360"/>
            <a:ext cx="1403280" cy="208764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7020000" y="1270080"/>
            <a:ext cx="1871640" cy="18716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7091280" y="44280"/>
            <a:ext cx="1728720" cy="1136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3A4483-704E-4696-A16A-4F51CCAF4A1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9152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Quantum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is the smallest quantity 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nergy that can be emitted (or absorb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in the form of electromagnetic radi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Quantum is given b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her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: is the ener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h: Plank’s constant, h = 6.63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-3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J.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ν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: frequency of radi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Quantum Theory: energy is always emitted in integrals multiples of h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.g. h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ν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, 2h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ν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, 3h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ν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, ……………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250920" y="2532240"/>
                <a:ext cx="424980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r>
                      <m:t xml:space="preserve">hν</m:t>
                    </m:r>
                    <m:r>
                      <m:t xml:space="preserve">⇒</m:t>
                    </m:r>
                    <m:r>
                      <m:t xml:space="preserve">E</m:t>
                    </m:r>
                    <m:r>
                      <m:t xml:space="preserve">∝</m:t>
                    </m:r>
                    <m:r>
                      <m:t xml:space="preserve">ν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4716360" y="2060640"/>
            <a:ext cx="2952720" cy="221148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7740720" y="2852640"/>
            <a:ext cx="1871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Quantization Princip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C6CF3B-21FB-4BD4-AD51-3898597C7AF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362800" cy="53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nc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2195640" y="836640"/>
                <a:ext cx="3654360" cy="576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ν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c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</m:e>
                      <m:e>
                        <m:r>
                          <m:t xml:space="preserve">E</m:t>
                        </m:r>
                        <m:r>
                          <m:t xml:space="preserve">=</m:t>
                        </m:r>
                        <m:r>
                          <m:t xml:space="preserve">hν</m:t>
                        </m:r>
                      </m:e>
                      <m:e>
                        <m:r>
                          <m:t xml:space="preserve">⇒</m:t>
                        </m:r>
                        <m:r>
                          <m:t xml:space="preserve">E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hc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58EAE6-3022-473F-8B85-A8DAD984DA2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9376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7.2 p280:</a:t>
            </a:r>
            <a:br>
              <a:rPr sz="2800"/>
            </a:b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Calculate the energy (in J) of:</a:t>
            </a:r>
            <a:br>
              <a:rPr sz="2800"/>
            </a:b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(a) a photon with a wavelength of 5.00 x 10</a:t>
            </a:r>
            <a:r>
              <a:rPr b="0" lang="en-US" sz="2800" spc="-1" strike="noStrike" baseline="30000">
                <a:solidFill>
                  <a:srgbClr val="00007d"/>
                </a:solidFill>
                <a:latin typeface="Comic Sans MS"/>
              </a:rPr>
              <a:t>4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nm (IR region)</a:t>
            </a:r>
            <a:br>
              <a:rPr sz="2800"/>
            </a:b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(b) a photon with a wavelength of 5.00 x 10</a:t>
            </a:r>
            <a:r>
              <a:rPr b="0" lang="en-US" sz="2800" spc="-1" strike="noStrike" baseline="30000">
                <a:solidFill>
                  <a:srgbClr val="00007d"/>
                </a:solidFill>
                <a:latin typeface="Comic Sans MS"/>
              </a:rPr>
              <a:t>-2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nm (X-ray region)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24000" y="3213000"/>
            <a:ext cx="8280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95280" y="3284640"/>
            <a:ext cx="77058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λ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=5.0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  <a:ea typeface="Malgun Gothic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n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Malgun Gothic"/>
              </a:rPr>
              <a:t>→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Malgun Gothic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5.0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  <a:ea typeface="Malgun Gothic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  <a:ea typeface="Malgun Gothic"/>
              </a:rPr>
              <a:t>-9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= 5.0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  <a:ea typeface="Malgun Gothic"/>
              </a:rPr>
              <a:t>-5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m → E (J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b)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λ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5.0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-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n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→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5.0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-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-9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5.0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-11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m → E (J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AC512D-2710-41D1-9797-27CF9574E6A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468360" y="549360"/>
                <a:ext cx="8064360" cy="204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E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hc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3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34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J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 </m:t>
                            </m:r>
                            <m:r>
                              <m:t xml:space="preserve">x</m:t>
                            </m:r>
                            <m:r>
                              <m:t xml:space="preserve">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8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/s</m:t>
                            </m:r>
                          </m:num>
                          <m:den>
                            <m:r>
                              <m:t xml:space="preserve">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5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8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J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468360" y="3141720"/>
                <a:ext cx="8136000" cy="205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E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hc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3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34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J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 </m:t>
                            </m:r>
                            <m:r>
                              <m:t xml:space="preserve">x</m:t>
                            </m:r>
                            <m:r>
                              <m:t xml:space="preserve">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8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/s</m:t>
                            </m:r>
                          </m:num>
                          <m:den>
                            <m:r>
                              <m:t xml:space="preserve">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8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J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E150C9-FFBB-4BB0-B3C8-CDE7C870E89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95280" y="2570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7.3 Bohr’s Theory of Hydrogen Ato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1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Emission Spectra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of atoms are bright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line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(spectral lines) in the visible spectr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mission spectrum of any atom is a finger print (lines appeared at specific wavelength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8BF3AB-73F7-48B2-A007-C847545A30F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539640" y="835200"/>
            <a:ext cx="8088480" cy="588312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1547640" y="379440"/>
            <a:ext cx="64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cc"/>
                </a:solidFill>
                <a:latin typeface="Comic Sans MS"/>
              </a:rPr>
              <a:t>Emission Spectra of some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863294-9E5C-4A1F-AA37-66DD6C035DB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6174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Emission spectrum of Hydrogen Atom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Neil Bohr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study the emission spectrum of th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Hydrogen At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ohr postulates that the electron is occupied ONLY certain orbits of specific energie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The energies of the electron are quantiz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US: the emission spectrum of the H atom results from: the hydrogen atom is energised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lectron excited to higher energy orbi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rop to a lower-energy orbit emits a quantum of energy (ligh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7842240" y="44280"/>
            <a:ext cx="1160640" cy="165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62CA79-27C7-4EEC-8326-B688E02E3E9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6T16:44:59Z</dcterms:created>
  <dc:creator>suha</dc:creator>
  <dc:description/>
  <dc:language>en-US</dc:language>
  <cp:lastModifiedBy>suha</cp:lastModifiedBy>
  <dcterms:modified xsi:type="dcterms:W3CDTF">2012-02-28T20:14:15Z</dcterms:modified>
  <cp:revision>940</cp:revision>
  <dc:subject/>
  <dc:title>General Chemistry CHEM 110</dc:title>
</cp:coreProperties>
</file>