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74E09-9DEB-4849-A76D-C12D1012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1751C-8A0C-43AD-A031-E3C29234F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C0EEF-5FDC-42F8-9796-ED33CA5F5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8E6BC-F2EF-47E2-860C-EFF48A01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73D9-4220-4AF9-AF0F-AB5843A16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2EEE-11F6-4CB8-A7B1-37338C6D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5590-8F41-4016-98DB-F0F8A1B8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E9D-FDD6-41F5-8A41-661A2452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A264-48F0-4A4A-88F4-BD4E9DA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E705-A99D-47D4-96CB-E85D668D3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7531-F2EB-48D3-A242-9511639D2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B06E1-60FB-4F63-A575-4CB45FEC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66CF7-8846-44B0-92A0-4D27BCA26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FDF12-1BC9-465A-B738-AE1DD773F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12F57-C45D-4520-8743-B0CB12A8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6158D-0149-4898-9D42-EC562CEA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20693-7D87-4623-9E82-ECD7DA8A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95F45-4493-4361-B40E-7CA84CD6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D10F-0824-47B3-A574-BBC0019F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2E973-6E62-4CE2-8D79-89FFB512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5CDA2-F894-4E07-A9E5-0418784A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FA4B2-23A7-4E55-B709-81CCFCD9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87DDF-64B2-445D-8A62-B46F3E4E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72E6F-4C13-4DE5-9CB5-34C5E4A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567A-EBF4-4F44-B15C-12C6E04076C5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8A4-8ECE-462B-B815-03404DCAB73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1EE2D-AB18-410D-8D64-70CFD5652BB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68000" y="475920"/>
            <a:ext cx="8496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1 p27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The wavelength of the green light from a traf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signal is centred at 522 nm. What is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frequency of this radi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2565360"/>
            <a:ext cx="820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9640" y="2637000"/>
            <a:ext cx="7201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22 nm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22 x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24000" y="4508640"/>
                <a:ext cx="7956360" cy="200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522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/s       OR       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H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64498-76F0-43E7-9198-1301D49835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50920" y="1314360"/>
                <a:ext cx="8424720" cy="297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522</m:t>
                        </m:r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Prefix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ke the power with its sign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522 n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 m 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522 n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nm</m:t>
                            </m:r>
                          </m:den>
                        </m:f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522 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</m:t>
                            </m:r>
                          </m:sup>
                        </m:sSup>
                        <m:r>
                          <m:t xml:space="preserve">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684360" y="765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t Con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BC3F1-2C4A-4A66-A1B2-4AD247E50D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57168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: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A photon has a frequency of 6.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Hz. Convert this frequency into wavelength (nm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1773360"/>
            <a:ext cx="8640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Hz =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/s = 6.0 x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(nm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50920" y="3573360"/>
                <a:ext cx="2316240" cy="26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ν</m:t>
                            </m:r>
                          </m:den>
                        </m:f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s</m:t>
                                </m:r>
                              </m:e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250920" y="1628640"/>
            <a:ext cx="849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916360" y="3645000"/>
                <a:ext cx="5976720" cy="25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m</m:t>
                        </m:r>
                        <m:r>
                          <m:t xml:space="preserve">→</m:t>
                        </m:r>
                        <m:r>
                          <m:t xml:space="preserve">?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Unit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Prefix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Reverse the sign of the power in the 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 nm 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9 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1m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 </m:t>
                        </m:r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x10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?nm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5x10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 x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nm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 m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5B631-78E1-4EEA-9900-5CE4A7813A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79280" y="2133720"/>
            <a:ext cx="8785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 Quantum Theory and Electronic Structure of Atoms </a:t>
            </a:r>
            <a:br>
              <a:rPr sz="4400"/>
            </a:br>
            <a:r>
              <a:rPr b="1" lang="en-US" sz="4400" spc="-1" strike="noStrike">
                <a:solidFill>
                  <a:srgbClr val="00007d"/>
                </a:solidFill>
                <a:latin typeface="Comic Sans MS"/>
              </a:rPr>
              <a:t>Chang Pages 276-310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H.W. p312-315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57200" y="4365720"/>
            <a:ext cx="86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7.3, 7.8, 7.16, 7.18, 7.32, 7.34,  7.120, 7.56, 7.58, 7.62, 7.66, 7.70, 7.76, 7.78, 7.79, 7.84, 7.88, 7.90, 7.1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5057A-0198-473B-B92C-36DBEA182F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5704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Chapter 7 Quantum Theory and Electronic Structure of Atoms :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7.1 From Classical Physics to Quantum The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  <a:ea typeface="Times New Roman"/>
              </a:rPr>
              <a:t>7.3 Bohr’s Theory of the Hydrogen 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99ff"/>
                </a:solidFill>
                <a:latin typeface="Comic Sans MS"/>
                <a:ea typeface="Times New Roman"/>
              </a:rPr>
              <a:t>7.6 Quantum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Comic Sans MS"/>
                <a:ea typeface="Times New Roman"/>
              </a:rPr>
              <a:t>7.7 Atomic Orbital'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7.8 Electron Configu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09a7"/>
                </a:solidFill>
                <a:latin typeface="Comic Sans MS"/>
                <a:ea typeface="Times New Roman"/>
              </a:rPr>
              <a:t>7.9 The Building-Up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A675D-C5BC-4531-9045-5B2F17B61EE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7d"/>
                </a:solidFill>
                <a:uFillTx/>
                <a:latin typeface="Comic Sans MS"/>
              </a:rPr>
              <a:t>7.1 </a:t>
            </a: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  <a:ea typeface="Times New Roman"/>
              </a:rPr>
              <a:t>From Classical Physics to Quantum Theory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entury : understanding atoms and molecules was unsuccessf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assical Phys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acroscopic Phenomena, e.g. pressure of the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ccessful in understanding microscopic phenomena, e.g. atoms &amp; molec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 was assumed that energy is continuous and any amount of energy could be released or absorbed in a radiation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ax Planks in 1900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iscovered that atoms and molecules emit energy only in certain discrete quantities (called quanta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ntum Mecha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943760" y="4508640"/>
            <a:ext cx="1092240" cy="1623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D8DD4-4EF9-414D-AC93-C8BF72795C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Content Placeholder 1"/>
          <p:cNvSpPr/>
          <p:nvPr/>
        </p:nvSpPr>
        <p:spPr>
          <a:xfrm>
            <a:off x="252360" y="412920"/>
            <a:ext cx="889164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omic Sans MS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av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ach wave has </a:t>
            </a:r>
            <a:r>
              <a:rPr b="0" lang="en-US" sz="2800" spc="-1" strike="noStrike">
                <a:solidFill>
                  <a:srgbClr val="9900cc"/>
                </a:solidFill>
                <a:latin typeface="Comic Sans MS"/>
                <a:ea typeface="Times New Roman"/>
              </a:rPr>
              <a:t>peak </a:t>
            </a:r>
            <a:r>
              <a:rPr b="0" lang="ar-SA" sz="2800" spc="-1" strike="noStrike">
                <a:solidFill>
                  <a:srgbClr val="9900cc"/>
                </a:solidFill>
                <a:latin typeface="Comic Sans MS"/>
                <a:cs typeface="Times New Roman"/>
              </a:rPr>
              <a:t>قمة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d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trough </a:t>
            </a:r>
            <a:r>
              <a:rPr b="0" lang="ar-SA" sz="2800" spc="-1" strike="noStrike">
                <a:solidFill>
                  <a:srgbClr val="a50021"/>
                </a:solidFill>
                <a:latin typeface="Comic Sans MS"/>
                <a:cs typeface="Times New Roman"/>
              </a:rPr>
              <a:t>قا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Wavelength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λ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distance between identical points on successive wa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Amplitude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the vertical distance from the midline of a wave to the peak or tr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0" t="2460" r="0" b="6706"/>
          <a:stretch/>
        </p:blipFill>
        <p:spPr>
          <a:xfrm>
            <a:off x="3774960" y="3500280"/>
            <a:ext cx="5334120" cy="3086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0" t="2087" r="0" b="8337"/>
          <a:stretch/>
        </p:blipFill>
        <p:spPr>
          <a:xfrm>
            <a:off x="104760" y="3500280"/>
            <a:ext cx="3213000" cy="315288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447840" y="3576600"/>
            <a:ext cx="5460840" cy="1866960"/>
            <a:chOff x="447840" y="3576600"/>
            <a:chExt cx="5460840" cy="1866960"/>
          </a:xfrm>
        </p:grpSpPr>
        <p:sp>
          <p:nvSpPr>
            <p:cNvPr id="119" name=""/>
            <p:cNvSpPr/>
            <p:nvPr/>
          </p:nvSpPr>
          <p:spPr>
            <a:xfrm>
              <a:off x="447840" y="3919320"/>
              <a:ext cx="175248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95880" y="4910040"/>
              <a:ext cx="9144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79880" y="3576600"/>
              <a:ext cx="1828800" cy="5335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60440" y="3957480"/>
            <a:ext cx="6997680" cy="2044800"/>
            <a:chOff x="460440" y="3957480"/>
            <a:chExt cx="6997680" cy="2044800"/>
          </a:xfrm>
        </p:grpSpPr>
        <p:sp>
          <p:nvSpPr>
            <p:cNvPr id="123" name=""/>
            <p:cNvSpPr/>
            <p:nvPr/>
          </p:nvSpPr>
          <p:spPr>
            <a:xfrm>
              <a:off x="460440" y="4338720"/>
              <a:ext cx="228600" cy="8380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229520" y="3957480"/>
              <a:ext cx="228600" cy="60984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912000" y="5392800"/>
              <a:ext cx="304920" cy="60948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0" y="0"/>
            <a:ext cx="1332000" cy="927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C9B3-8634-444E-87B0-FD92C934D1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Content Placeholder 1"/>
          <p:cNvSpPr/>
          <p:nvPr/>
        </p:nvSpPr>
        <p:spPr>
          <a:xfrm>
            <a:off x="252360" y="412920"/>
            <a:ext cx="871236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66640" indent="-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7d"/>
                </a:solidFill>
                <a:uFillTx/>
                <a:latin typeface="Comic Sans MS"/>
              </a:rPr>
              <a:t>Properties of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Frequency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 (</a:t>
            </a:r>
            <a:r>
              <a:rPr b="0" lang="el-GR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ν</a:t>
            </a:r>
            <a:r>
              <a:rPr b="0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is the number of waves that pass through a particular point in 1 seco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ertz (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) = 1 cycle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z = /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70c0"/>
                </a:solidFill>
                <a:uFillTx/>
                <a:latin typeface="Comic Sans MS"/>
                <a:ea typeface="Times New Roman"/>
              </a:rPr>
              <a:t>Speed (u)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s a product of the wave’s wavelenght and its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6640" indent="-457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3492360" y="4365720"/>
                <a:ext cx="1584360" cy="61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C56D5-8C7D-4010-8478-61E40BAB24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lectromagnetic Radi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aves are different kinds, e.g. water waves, sound waves, and light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1873 James Maxwell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roposed that visible light consists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lectric field compon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Magnetic field compon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lectromagnetic radiation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the emission and transmission of energy in the form of electromagnetic w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6200000">
            <a:off x="3150360" y="1538640"/>
            <a:ext cx="647640" cy="5148360"/>
          </a:xfrm>
          <a:custGeom>
            <a:avLst/>
            <a:gdLst>
              <a:gd name="textAreaLeft" fmla="*/ 0 w 647640"/>
              <a:gd name="textAreaRight" fmla="*/ 234000 w 647640"/>
              <a:gd name="textAreaTop" fmla="*/ 133920 h 5148360"/>
              <a:gd name="textAreaBottom" fmla="*/ 5014440 h 514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24720" y="2997360"/>
            <a:ext cx="1200240" cy="143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1C778-E07A-47C9-9468-B8513BF11C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92360" y="1533600"/>
            <a:ext cx="5543640" cy="3479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042920" y="5493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ctromagnetic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5070600"/>
            <a:ext cx="82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peed of light (c) in vacuum =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3 x10</a:t>
            </a:r>
            <a:r>
              <a:rPr b="0" lang="en-GB" sz="32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44880" y="5684760"/>
                <a:ext cx="422568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λν</m:t>
                    </m:r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ν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1D37E-CE97-4537-A2C7-FEFE65B0F0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8991720" cy="556236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2533680" y="2500200"/>
            <a:ext cx="4786200" cy="2576520"/>
            <a:chOff x="2533680" y="2500200"/>
            <a:chExt cx="4786200" cy="2576520"/>
          </a:xfrm>
        </p:grpSpPr>
        <p:sp>
          <p:nvSpPr>
            <p:cNvPr id="140" name=""/>
            <p:cNvSpPr/>
            <p:nvPr/>
          </p:nvSpPr>
          <p:spPr>
            <a:xfrm flipH="1">
              <a:off x="2533680" y="2514600"/>
              <a:ext cx="1324080" cy="256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00400" y="2500200"/>
              <a:ext cx="3219480" cy="2548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7B8F4-1EE3-4A16-982B-48135B16A0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8Z</dcterms:modified>
  <cp:revision>940</cp:revision>
  <dc:subject/>
  <dc:title>General Chemistry CHEM 110</dc:title>
</cp:coreProperties>
</file>