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12DE5-7CAC-4339-847C-4146B3FF9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E9E6B-8E92-493A-B242-C2C1E0A1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2F5C8-8C0B-47F5-9ED4-4E8C3E55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5B5BE-39F8-4F06-A68F-77D7FCC4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935E3-6E7F-4B48-A81F-F3718E72A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E8CE-0D14-463B-B31C-1DBB095D3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D1A2-76A8-4530-909F-AA77D372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3565-5694-4DED-A71A-B0FE8D7B5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986B-84DA-4161-A3D9-69E521F5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41CA5-5FF8-47EA-9B4B-BD9D903E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0CFD-08EC-4FEA-B16F-DA1818EC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FB474-DB28-4E19-89AE-62563FB8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894E-8087-4E0D-B90C-C8F1975A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9646-0FAA-42D0-BD7A-2AED0527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6932-E3DE-4F90-94D3-C221EE12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D32C-CD4E-40B9-9CA4-95BBD6AF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8CA5A-7973-4EBF-BCB9-25A68AE3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9370C-A4BD-43BE-BC86-5DC04EE99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D6685-0C19-47D7-8B14-568A6027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C1CA9-7836-40EC-91EA-DE115F49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1B8D3-52CC-4D1E-8B03-1A5A87BC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95DB1-A313-4404-BD13-8319CB75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D7179-A22A-479A-994E-517729B4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C9BEC-32F3-4931-ACF1-9C8FF9B8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F146-D671-44B5-A085-B81E3D78BC50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672C-2827-4DB4-9B39-20A97E3F199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n.wikipedia.org/wiki/File:Erwin_Schrodinger2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3CAA-CA15-4A61-B563-C451FA35A9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24000" y="692280"/>
            <a:ext cx="8569080" cy="46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For any value of l;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ere is (2l+1)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0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0)+1 = 1 one value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ar-SA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e.g. l = 1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(2x1) + 1 = 3 values of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&amp; m</a:t>
            </a:r>
            <a:r>
              <a:rPr b="0" lang="en-GB" sz="36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= -1, 0, +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8DA91-063C-4F50-8B31-805B41125DB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577800" y="669960"/>
            <a:ext cx="334656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, 0,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o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4640" y="59688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-31680" y="2087640"/>
            <a:ext cx="3017880" cy="34290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3083040" y="2130480"/>
            <a:ext cx="2828880" cy="32335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6114960" y="2087640"/>
            <a:ext cx="2921040" cy="3352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0B71D-748E-4F11-90D1-21F4424CE2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3941640"/>
            <a:ext cx="2720880" cy="29433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95360" y="941400"/>
            <a:ext cx="2476440" cy="2819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623880" y="365040"/>
            <a:ext cx="314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-2, -1, 0, 1,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939920" y="365040"/>
            <a:ext cx="390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 orientations is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3048120" y="1170000"/>
            <a:ext cx="2660400" cy="3029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5867280" y="941400"/>
            <a:ext cx="2908440" cy="31719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066680" y="3989520"/>
            <a:ext cx="2500560" cy="287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5E3A8-CED3-46A7-914A-F5D84A385C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5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5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45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60360" y="29520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Electron Spin 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s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1081080"/>
            <a:ext cx="813564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he Spin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½ or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termines the electron sp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348000" y="3284640"/>
            <a:ext cx="2745000" cy="331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EABFE-4B94-481E-8D8B-F2E0DDE058F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68360" y="476280"/>
            <a:ext cx="835164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6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List the values of n, l and 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for orbitals in 4d subsh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2133720"/>
            <a:ext cx="561636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4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4-1) = 0, 1, 2, 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BU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 means l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 -2, -1, 0, +1,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84720" y="2276640"/>
            <a:ext cx="2521080" cy="318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If it’s a mult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mic Sans MS"/>
              </a:rPr>
              <a:t>choices ques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4, 2, 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1994B-4117-4E14-8D66-1EDCDA6426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60360" y="1066680"/>
            <a:ext cx="8604360" cy="4308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24000" y="2708280"/>
            <a:ext cx="882000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724280"/>
            <a:ext cx="8820000" cy="0"/>
          </a:xfrm>
          <a:prstGeom prst="line">
            <a:avLst/>
          </a:prstGeom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4000" y="3429000"/>
            <a:ext cx="8820000" cy="0"/>
          </a:xfrm>
          <a:prstGeom prst="line">
            <a:avLst/>
          </a:prstGeom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4D01-7A39-4685-B7B3-D837E41666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68360" y="47628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7 p 299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total number of orbitals associated with the principal quantum number n = 3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1981080"/>
            <a:ext cx="932508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r>
              <a:rPr b="1" lang="en-GB" sz="3200" spc="-1" strike="noStrike">
                <a:solidFill>
                  <a:srgbClr val="a50021"/>
                </a:solidFill>
                <a:latin typeface="Comic Sans MS"/>
              </a:rPr>
              <a:t>            </a:t>
            </a:r>
            <a:r>
              <a:rPr b="1" lang="en-GB" sz="2800" spc="-1" strike="noStrike">
                <a:solidFill>
                  <a:srgbClr val="00007d"/>
                </a:solidFill>
                <a:latin typeface="Comic Sans MS"/>
              </a:rPr>
              <a:t>n =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 = 0 to (n-1) = 0 to (3-1) = 0, 1,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l = 0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-l to 0 to +l </a:t>
            </a:r>
            <a:r>
              <a:rPr b="0" lang="en-GB" sz="2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a50021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a50021"/>
                </a:solidFill>
                <a:latin typeface="Comic Sans MS"/>
              </a:rPr>
              <a:t> = 0   </a:t>
            </a:r>
            <a:r>
              <a:rPr b="0" lang="ar-SA" sz="2400" spc="-1" strike="noStrike">
                <a:solidFill>
                  <a:srgbClr val="a50021"/>
                </a:solidFill>
                <a:latin typeface="Comic Sans MS"/>
              </a:rPr>
              <a:t>             </a:t>
            </a:r>
            <a:r>
              <a:rPr b="1" lang="en-GB" sz="2400" spc="-1" strike="noStrike">
                <a:solidFill>
                  <a:srgbClr val="a50021"/>
                </a:solidFill>
                <a:latin typeface="Comic Sans MS"/>
              </a:rPr>
              <a:t>One orb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l = 1 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 = -1, 0, +1</a:t>
            </a:r>
            <a:r>
              <a:rPr b="0" lang="ar-SA" sz="2400" spc="-1" strike="noStrike">
                <a:solidFill>
                  <a:srgbClr val="006600"/>
                </a:solidFill>
                <a:latin typeface="Comic Sans MS"/>
              </a:rPr>
              <a:t>       </a:t>
            </a:r>
            <a:r>
              <a:rPr b="1" lang="en-GB" sz="2400" spc="-1" strike="noStrike">
                <a:solidFill>
                  <a:srgbClr val="006600"/>
                </a:solidFill>
                <a:latin typeface="Comic Sans MS"/>
              </a:rPr>
              <a:t>Three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l = 2 </a:t>
            </a: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-l to 0 to +l → m</a:t>
            </a:r>
            <a:r>
              <a:rPr b="0" lang="en-GB" sz="2400" spc="-1" strike="noStrike" baseline="-25000">
                <a:solidFill>
                  <a:srgbClr val="000099"/>
                </a:solidFill>
                <a:latin typeface="Comic Sans MS"/>
              </a:rPr>
              <a:t>l</a:t>
            </a:r>
            <a:r>
              <a:rPr b="0" lang="en-GB" sz="2400" spc="-1" strike="noStrike">
                <a:solidFill>
                  <a:srgbClr val="000099"/>
                </a:solidFill>
                <a:latin typeface="Comic Sans MS"/>
              </a:rPr>
              <a:t> = +2, -1, 0, +1, +2 </a:t>
            </a:r>
            <a:r>
              <a:rPr b="1" lang="en-GB" sz="2400" spc="-1" strike="noStrike">
                <a:solidFill>
                  <a:srgbClr val="000099"/>
                </a:solidFill>
                <a:latin typeface="Comic Sans MS"/>
              </a:rPr>
              <a:t>Five Orbital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tal Number of Orbitals:  9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OR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</a:rPr>
              <a:t>(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Total Number of Orbitals = n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3</a:t>
            </a:r>
            <a:r>
              <a:rPr b="0" lang="en-GB" sz="2800" spc="-1" strike="noStrike" baseline="30000">
                <a:solidFill>
                  <a:srgbClr val="a50021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a50021"/>
                </a:solidFill>
                <a:latin typeface="Comic Sans MS"/>
              </a:rPr>
              <a:t> =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4000" y="1989000"/>
            <a:ext cx="842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5734080"/>
            <a:ext cx="8713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79CB8-8086-4F17-8C3E-A4E116AEBCF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948680" y="933480"/>
            <a:ext cx="5345640" cy="602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a50021"/>
                </a:solidFill>
                <a:latin typeface="Comic Sans MS"/>
              </a:rPr>
              <a:t>n = 1, 2 , 3, 4 ……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00cc"/>
                </a:solidFill>
                <a:latin typeface="Comic Sans MS"/>
              </a:rPr>
              <a:t>l = 0 to (n-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ff00ff"/>
                </a:solidFill>
                <a:latin typeface="Comic Sans MS"/>
              </a:rPr>
              <a:t>l</a:t>
            </a:r>
            <a:r>
              <a:rPr b="0" lang="en-GB" sz="4800" spc="-1" strike="noStrike">
                <a:solidFill>
                  <a:srgbClr val="ff00ff"/>
                </a:solidFill>
                <a:latin typeface="Comic Sans MS"/>
              </a:rPr>
              <a:t> = -l to 0 to +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m</a:t>
            </a:r>
            <a:r>
              <a:rPr b="0" lang="en-GB" sz="4800" spc="-1" strike="noStrike" baseline="-25000">
                <a:solidFill>
                  <a:srgbClr val="9999ff"/>
                </a:solidFill>
                <a:latin typeface="Comic Sans MS"/>
              </a:rPr>
              <a:t>s</a:t>
            </a:r>
            <a:r>
              <a:rPr b="0" lang="ar-SA" sz="4800" spc="-1" strike="noStrike">
                <a:solidFill>
                  <a:srgbClr val="9999ff"/>
                </a:solidFill>
                <a:latin typeface="Comic Sans MS"/>
              </a:rPr>
              <a:t> = </a:t>
            </a:r>
            <a:r>
              <a:rPr b="0" lang="en-GB" sz="4800" spc="-1" strike="noStrike">
                <a:solidFill>
                  <a:srgbClr val="9999ff"/>
                </a:solidFill>
                <a:latin typeface="Comic Sans MS"/>
              </a:rPr>
              <a:t>+½ or -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9280" y="620640"/>
            <a:ext cx="187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F85C8-08F9-4109-8617-D9A7CC44ADD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468360" y="476280"/>
            <a:ext cx="835164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ich of the following is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impossible to b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50021"/>
                </a:solidFill>
                <a:uFillTx/>
                <a:latin typeface="Comic Sans MS"/>
              </a:rPr>
              <a:t>quantum number set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3, -2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2, -1, -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5, 0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4, 1, -2, +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59280" y="1773360"/>
            <a:ext cx="35290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a50021"/>
                </a:solidFill>
                <a:uFillTx/>
                <a:latin typeface="Comic Sans MS"/>
              </a:rPr>
              <a:t>لايمكن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 ان يكون مجموعة صحيحه من  ارقام الكم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E5CC1-FCD4-4B39-A2C0-B34BA12C7CB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7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2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3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6840" y="475920"/>
            <a:ext cx="52671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2s &amp; 2p are in the same shell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ubshel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Electrons with the same value of n </a:t>
            </a:r>
            <a:r>
              <a:rPr b="1" lang="en-GB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amp;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subshel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جال جزئي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bital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electrons with the same values of n, l,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electrons in p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are in the same orbital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مدا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27640" y="1628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88508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4364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44000" y="119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75480" y="1413000"/>
            <a:ext cx="110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02400" y="1413000"/>
            <a:ext cx="110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6084720" y="2846520"/>
          <a:ext cx="2664000" cy="517320"/>
        </p:xfrm>
        <a:graphic>
          <a:graphicData uri="http://schemas.openxmlformats.org/drawingml/2006/table">
            <a:tbl>
              <a:tblPr/>
              <a:tblGrid>
                <a:gridCol w="93672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flipV="1">
            <a:off x="6516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7524720" y="2990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50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358040" y="3422520"/>
            <a:ext cx="1101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y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5962680" y="4933800"/>
          <a:ext cx="2663640" cy="517680"/>
        </p:xfrm>
        <a:graphic>
          <a:graphicData uri="http://schemas.openxmlformats.org/drawingml/2006/table">
            <a:tbl>
              <a:tblPr/>
              <a:tblGrid>
                <a:gridCol w="936360"/>
                <a:gridCol w="936720"/>
                <a:gridCol w="790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 flipV="1">
            <a:off x="6394320" y="50781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588000" y="50785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227640" y="5510160"/>
            <a:ext cx="110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2p</a:t>
            </a:r>
            <a:r>
              <a:rPr b="0" lang="en-US" sz="1800" spc="-1" strike="noStrike" baseline="-25000">
                <a:solidFill>
                  <a:srgbClr val="9900cc"/>
                </a:solidFill>
                <a:latin typeface="Comic Sans MS"/>
              </a:rPr>
              <a:t>x</a:t>
            </a:r>
            <a:r>
              <a:rPr b="0" lang="en-US" sz="1800" spc="-1" strike="noStrike">
                <a:solidFill>
                  <a:srgbClr val="9900c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27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244000" y="5589720"/>
            <a:ext cx="734760" cy="126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4AC03-6BA8-4083-AAF0-C38A4862DB7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suggestion that the energy of the an electron in an atom is Quantized was a significant contribution, 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hr theory did not provide a complete description of electronic behaviour in atoms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26 Erwin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wrote an equation that specifies the energy states of the electron in a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nd identifies the corresponding wave functions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These energy states and wave functions are characterized by a set of Quantum Num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FangSong"/>
              </a:rPr>
              <a:t>’s equation can only be solved exactly for the hydrogen atom.  Must approximate its solution for multi-electron syst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21600" y="115920"/>
            <a:ext cx="914400" cy="11523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268360" y="4292640"/>
                <a:ext cx="579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9EB74-A22E-40D5-BC03-D6914FFE3B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89960" y="388800"/>
            <a:ext cx="74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2p orbitals are there in a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402560" y="172260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203840" y="996840"/>
            <a:ext cx="717120" cy="755640"/>
            <a:chOff x="1203840" y="996840"/>
            <a:chExt cx="717120" cy="755640"/>
          </a:xfrm>
        </p:grpSpPr>
        <p:sp>
          <p:nvSpPr>
            <p:cNvPr id="200" name=""/>
            <p:cNvSpPr/>
            <p:nvPr/>
          </p:nvSpPr>
          <p:spPr>
            <a:xfrm>
              <a:off x="1203840" y="99684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70320" y="144756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368720" y="2209680"/>
            <a:ext cx="766080" cy="694440"/>
            <a:chOff x="1368720" y="2209680"/>
            <a:chExt cx="766080" cy="694440"/>
          </a:xfrm>
        </p:grpSpPr>
        <p:sp>
          <p:nvSpPr>
            <p:cNvPr id="203" name=""/>
            <p:cNvSpPr/>
            <p:nvPr/>
          </p:nvSpPr>
          <p:spPr>
            <a:xfrm>
              <a:off x="1368720" y="244440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1765080" y="220968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2462760" y="1378080"/>
            <a:ext cx="412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1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1, 0, or 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61320" y="198756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orb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8862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How many electrons can be placed in the 3d subshe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603800" y="549288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397520" y="4767120"/>
            <a:ext cx="717120" cy="755640"/>
            <a:chOff x="1397520" y="4767120"/>
            <a:chExt cx="717120" cy="755640"/>
          </a:xfrm>
        </p:grpSpPr>
        <p:sp>
          <p:nvSpPr>
            <p:cNvPr id="210" name=""/>
            <p:cNvSpPr/>
            <p:nvPr/>
          </p:nvSpPr>
          <p:spPr>
            <a:xfrm>
              <a:off x="1397520" y="4767120"/>
              <a:ext cx="71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n=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764000" y="5217840"/>
              <a:ext cx="0" cy="304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559880" y="5979960"/>
            <a:ext cx="766080" cy="694440"/>
            <a:chOff x="1559880" y="5979960"/>
            <a:chExt cx="766080" cy="694440"/>
          </a:xfrm>
        </p:grpSpPr>
        <p:sp>
          <p:nvSpPr>
            <p:cNvPr id="213" name=""/>
            <p:cNvSpPr/>
            <p:nvPr/>
          </p:nvSpPr>
          <p:spPr>
            <a:xfrm>
              <a:off x="1559880" y="6214680"/>
              <a:ext cx="76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l =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931760" y="5979960"/>
              <a:ext cx="0" cy="304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2513160" y="4883040"/>
            <a:ext cx="5065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l = 2,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-2, -1, 0, +1, or 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70320" y="549288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5 orbitals which can hold a total of 10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038480" y="1863720"/>
            <a:ext cx="4724640" cy="18194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95280" y="393372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1164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788000" y="6021360"/>
            <a:ext cx="576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6400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0360" y="6021360"/>
            <a:ext cx="576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85128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03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56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99564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8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72436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00720" y="6165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132000" y="645336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2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-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26692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43280" y="2997360"/>
            <a:ext cx="57636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997360"/>
            <a:ext cx="57600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8292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059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635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62728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20364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780000" y="31417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63640" y="3476520"/>
            <a:ext cx="4176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-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0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1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69CA9-2AEF-4FDE-8EF6-2AC630A179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4000" y="1944720"/>
            <a:ext cx="882000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re derived from the mathematical solution of the Schrödinger equ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Quantum Numb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 a full description of the electron of the hydrogen atom and other ato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</a:rPr>
              <a:t>What are these Quantum Nu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6633"/>
                </a:solidFill>
                <a:latin typeface="Comic Sans MS"/>
              </a:rPr>
              <a:t>The Principal Quantum Number (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6600"/>
                </a:solidFill>
                <a:latin typeface="Comic Sans MS"/>
              </a:rPr>
              <a:t>The Angular Momentum Quantum Number (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The Magnetic Quantum Number (m</a:t>
            </a:r>
            <a:r>
              <a:rPr b="0" lang="en-US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Spin Quantum Number (m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7d"/>
                </a:solidFill>
                <a:uFillTx/>
                <a:latin typeface="Comic Sans MS"/>
              </a:rPr>
              <a:t>7.6 Quantum Numb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43280" y="1125360"/>
            <a:ext cx="3456000" cy="7873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(n, l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m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178916-FEDB-41B7-8B96-8603430A03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484360" y="3951360"/>
            <a:ext cx="5394240" cy="29210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24000" y="33336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Principal Quantum Number (n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14880" y="4869000"/>
            <a:ext cx="1445760" cy="520560"/>
            <a:chOff x="1514880" y="4869000"/>
            <a:chExt cx="1445760" cy="520560"/>
          </a:xfrm>
        </p:grpSpPr>
        <p:sp>
          <p:nvSpPr>
            <p:cNvPr id="118" name=""/>
            <p:cNvSpPr/>
            <p:nvPr/>
          </p:nvSpPr>
          <p:spPr>
            <a:xfrm>
              <a:off x="1514880" y="4869000"/>
              <a:ext cx="1071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1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35116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179160" y="4795920"/>
            <a:ext cx="1537200" cy="520560"/>
            <a:chOff x="3179160" y="4795920"/>
            <a:chExt cx="1537200" cy="520560"/>
          </a:xfrm>
        </p:grpSpPr>
        <p:sp>
          <p:nvSpPr>
            <p:cNvPr id="121" name=""/>
            <p:cNvSpPr/>
            <p:nvPr/>
          </p:nvSpPr>
          <p:spPr>
            <a:xfrm>
              <a:off x="3179160" y="479592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2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06880" y="504684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5627160" y="4869000"/>
            <a:ext cx="1537200" cy="520560"/>
            <a:chOff x="5627160" y="4869000"/>
            <a:chExt cx="1537200" cy="520560"/>
          </a:xfrm>
        </p:grpSpPr>
        <p:sp>
          <p:nvSpPr>
            <p:cNvPr id="124" name=""/>
            <p:cNvSpPr/>
            <p:nvPr/>
          </p:nvSpPr>
          <p:spPr>
            <a:xfrm>
              <a:off x="5627160" y="4869000"/>
              <a:ext cx="125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ff0000"/>
                  </a:solidFill>
                  <a:latin typeface="Comic Sans MS"/>
                </a:rPr>
                <a:t>n </a:t>
              </a: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= 3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554880" y="5119920"/>
              <a:ext cx="6094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24000" y="1052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rincipal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n = 1, 2 , 3, 4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energy of an orbital → determines the distance of the electron from the nucleus</a:t>
            </a:r>
            <a:r>
              <a:rPr b="0" lang="ar-SA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igger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energy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arther from the nucle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rger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86EB8-35BC-4F52-8F95-D49530729CF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4" dur="1" fill="hold"/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4000" y="5824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7d"/>
                </a:solidFill>
                <a:uFillTx/>
                <a:latin typeface="Comic Sans MS"/>
              </a:rPr>
              <a:t>The Angular Momentum  Quantum Number (l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44000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Angular Momentum Quantum Numb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pends on the value of 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 = 0 to (n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Comic Sans MS"/>
              </a:rPr>
              <a:t>e.g. for n = 1; there is one value of l; l =0 to  (n-1) = (1-1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Comic Sans MS"/>
              </a:rPr>
              <a:t>e.g. for n =2; two values of l; l = 0 to (2-1); l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009a7"/>
                </a:solidFill>
                <a:latin typeface="Comic Sans MS"/>
              </a:rPr>
              <a:t>e.g. for n = 3; three values of l; l = 0 to (3-1); l = 0, 1, 2 and so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value of l is designated by let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determines the shape of the orbit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476360" y="4986360"/>
          <a:ext cx="5472000" cy="1035000"/>
        </p:xfrm>
        <a:graphic>
          <a:graphicData uri="http://schemas.openxmlformats.org/drawingml/2006/table">
            <a:tbl>
              <a:tblPr/>
              <a:tblGrid>
                <a:gridCol w="2882880"/>
                <a:gridCol w="576360"/>
                <a:gridCol w="503280"/>
                <a:gridCol w="503280"/>
                <a:gridCol w="502920"/>
                <a:gridCol w="503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3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ame of orb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666633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B0BAE-0D3E-4C37-A0E2-ACB67F8A0F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933480"/>
            <a:ext cx="5181840" cy="2806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967760" y="43344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0 (s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58920" y="3917880"/>
            <a:ext cx="6553080" cy="2895480"/>
            <a:chOff x="1258920" y="3917880"/>
            <a:chExt cx="6553080" cy="2895480"/>
          </a:xfrm>
        </p:grpSpPr>
        <p:pic>
          <p:nvPicPr>
            <p:cNvPr id="133" name="" descr=""/>
            <p:cNvPicPr/>
            <p:nvPr/>
          </p:nvPicPr>
          <p:blipFill>
            <a:blip r:embed="rId2"/>
            <a:stretch/>
          </p:blipFill>
          <p:spPr>
            <a:xfrm>
              <a:off x="1258920" y="4290840"/>
              <a:ext cx="6553080" cy="25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111840" y="3917880"/>
              <a:ext cx="274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omic Sans MS"/>
                </a:rPr>
                <a:t>l</a:t>
              </a: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 = 1 (p orbital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3564000" y="4437000"/>
            <a:ext cx="5329080" cy="2421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6381720"/>
            <a:ext cx="720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300720" y="1484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كرو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27640" y="5157720"/>
            <a:ext cx="244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شكل الفصوص او الاجرا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BB56F-58C9-43B1-8F56-DE33744E1A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10200" y="10126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2 (d orbita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2081160"/>
            <a:ext cx="8991720" cy="2102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908000" y="2133720"/>
            <a:ext cx="7920360" cy="23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789360"/>
            <a:ext cx="136836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3C1D7-23CD-4355-90C6-462F6325DE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755640" y="765000"/>
            <a:ext cx="7129440" cy="59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n = 1; l = 0 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a50021"/>
                </a:solidFill>
                <a:latin typeface="Comic Sans MS"/>
              </a:rPr>
              <a:t>1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n = 2; l = 0 &amp; 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666633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666633"/>
                </a:solidFill>
                <a:latin typeface="Comic Sans MS"/>
              </a:rPr>
              <a:t>2s &amp; 2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n = 3; l = 0, 1, 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6600"/>
                </a:solidFill>
                <a:latin typeface="Arial"/>
              </a:rPr>
              <a:t>→ </a:t>
            </a:r>
            <a:r>
              <a:rPr b="0" lang="en-US" sz="5400" spc="-1" strike="noStrike">
                <a:solidFill>
                  <a:srgbClr val="006600"/>
                </a:solidFill>
                <a:latin typeface="Comic Sans MS"/>
              </a:rPr>
              <a:t>3s, 3p,  3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CE326-80BC-4BC7-801E-A08CAB8396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60360" y="260280"/>
            <a:ext cx="8675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The Magnetic Quantum Number (m</a:t>
            </a:r>
            <a:r>
              <a:rPr b="1" lang="en-GB" sz="2800" spc="-1" strike="noStrike" u="sng" baseline="-25000">
                <a:solidFill>
                  <a:srgbClr val="00007d"/>
                </a:solidFill>
                <a:uFillTx/>
                <a:latin typeface="Comic Sans MS"/>
              </a:rPr>
              <a:t>l</a:t>
            </a:r>
            <a:r>
              <a:rPr b="1" lang="en-GB" sz="2800" spc="-1" strike="noStrike" u="sng">
                <a:solidFill>
                  <a:srgbClr val="00007d"/>
                </a:solidFill>
                <a:uFillTx/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4000" y="863640"/>
            <a:ext cx="882000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Name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magnetic Quantum Num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ymbol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alues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pends on the value of 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-l to 0 to +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e.g. for l = 0; there is one value of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9900cc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9900cc"/>
                </a:solidFill>
                <a:latin typeface="Comic Sans MS"/>
              </a:rPr>
              <a:t> = 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e.g. for l =1; three values of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; m</a:t>
            </a:r>
            <a:r>
              <a:rPr b="0" lang="en-GB" sz="2800" spc="-1" strike="noStrike" baseline="-25000">
                <a:solidFill>
                  <a:srgbClr val="006600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</a:t>
            </a:r>
            <a:r>
              <a:rPr b="0" lang="ar-SA" sz="2800" spc="-1" strike="noStrike">
                <a:solidFill>
                  <a:srgbClr val="006600"/>
                </a:solidFill>
                <a:latin typeface="Comic Sans MS"/>
              </a:rPr>
              <a:t>=</a:t>
            </a:r>
            <a:r>
              <a:rPr b="0" lang="en-GB" sz="2800" spc="-1" strike="noStrike">
                <a:solidFill>
                  <a:srgbClr val="006600"/>
                </a:solidFill>
                <a:latin typeface="Comic Sans MS"/>
              </a:rPr>
              <a:t> -1, 0, +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e.g. for l = 2; five values of 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2009a7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2009a7"/>
                </a:solidFill>
                <a:latin typeface="Comic Sans MS"/>
              </a:rPr>
              <a:t> = -2, -1, 0, +1, +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e.g. for l = 3; seven values of 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m</a:t>
            </a:r>
            <a:r>
              <a:rPr b="0" lang="en-GB" sz="2800" spc="-1" strike="noStrike" baseline="-25000">
                <a:solidFill>
                  <a:srgbClr val="a9078a"/>
                </a:solidFill>
                <a:latin typeface="Comic Sans MS"/>
              </a:rPr>
              <a:t>l</a:t>
            </a:r>
            <a:r>
              <a:rPr b="0" lang="en-GB" sz="2800" spc="-1" strike="noStrike">
                <a:solidFill>
                  <a:srgbClr val="a9078a"/>
                </a:solidFill>
                <a:latin typeface="Comic Sans MS"/>
              </a:rPr>
              <a:t> = -3,-2, -1, 0, +1, +2, +3 And so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eaning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determines the orientation of the orb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D7FA6-1EAF-4E09-846B-D0029B8CB5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7T16:35:48Z</dcterms:modified>
  <cp:revision>939</cp:revision>
  <dc:subject/>
  <dc:title>General Chemistry CHEM 110</dc:title>
</cp:coreProperties>
</file>