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E6D47-6B9E-451F-9477-B23B1A022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9E01D-19EE-4CCF-9450-51A6B8F4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02D9C-EE29-4CAB-A980-7D46BDBD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CC2C-1627-4F43-8287-31825D44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4E171-AEC1-4160-9A45-FDEC900D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5AFE-B3FD-4E2F-93C5-D69087506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3142F-23DF-47BA-BFC4-9E82A030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86CB0-4BD1-4AB2-B246-F25A7203F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C9C0B-87B8-4D3E-ABBE-AAECAA48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EA8E-F1C3-49B9-9F94-D1E9DD02B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D09C-C4F3-45ED-AB45-8AB95D8C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EBED5-BE07-42D3-AF94-EAA3CBCB5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29BC-4053-494D-B5DB-CFBFE03A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2C0C-CE7B-4665-885E-8E34BB68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C67F-2AA6-4661-B033-9F95631D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3FED0-B938-4EF1-AA92-37F7999D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47E8-43A3-4882-AB97-FE0DD7C0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D1864-B4DB-4D97-8FE4-0782B019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1D47B-1291-4789-B405-C3D96BD29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6CAE7-8020-4A61-B102-15F399D6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00D27-19BD-4CE9-89D3-07F49179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AD168-80A2-4E8D-B75F-14D5B3B9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294F5-8022-483D-B3C4-3DE286F5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D121D-8900-45D4-B55B-883F76DE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1EF98-0ADA-49F9-8BA1-6003813CDFDA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8208-3D43-4C11-B29B-DD6B016FABEC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General Chemistry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CHEM 110</a:t>
            </a:r>
            <a:br>
              <a:rPr sz="4600"/>
            </a:br>
            <a:r>
              <a:rPr b="1" lang="en-US" sz="4600" spc="-1" strike="noStrike">
                <a:solidFill>
                  <a:srgbClr val="ffffff"/>
                </a:solidFill>
                <a:latin typeface="Comic Sans MS"/>
              </a:rPr>
              <a:t>Dr. Nuha Wazza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55640" y="4292640"/>
            <a:ext cx="823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Chapter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7d"/>
                </a:solidFill>
                <a:latin typeface="Comic Sans MS"/>
              </a:rPr>
              <a:t>Quantum Theory and Electronic Structure of Ato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26A5-D8CE-475E-BC9A-EA5C5444D15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80880" y="182520"/>
            <a:ext cx="8610840" cy="4084560"/>
          </a:xfrm>
          <a:prstGeom prst="rect">
            <a:avLst/>
          </a:prstGeom>
          <a:ln w="0">
            <a:noFill/>
          </a:ln>
        </p:spPr>
      </p:pic>
      <p:grpSp>
        <p:nvGrpSpPr>
          <p:cNvPr id="132" name=""/>
          <p:cNvGrpSpPr/>
          <p:nvPr/>
        </p:nvGrpSpPr>
        <p:grpSpPr>
          <a:xfrm>
            <a:off x="533520" y="4187880"/>
            <a:ext cx="7924680" cy="2079720"/>
            <a:chOff x="533520" y="4187880"/>
            <a:chExt cx="7924680" cy="2079720"/>
          </a:xfrm>
        </p:grpSpPr>
        <p:sp>
          <p:nvSpPr>
            <p:cNvPr id="133" name=""/>
            <p:cNvSpPr/>
            <p:nvPr/>
          </p:nvSpPr>
          <p:spPr>
            <a:xfrm>
              <a:off x="832320" y="4187880"/>
              <a:ext cx="751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Line Emission Spectrum of Hydrogen Atom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533520" y="4648320"/>
              <a:ext cx="7924680" cy="161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F356F-4469-422F-9F95-9BA5402244E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195640" y="1052640"/>
            <a:ext cx="5329080" cy="51624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859280" y="476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2492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90792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852640"/>
            <a:ext cx="360360" cy="360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F9997-189D-4A13-B6EF-550388F631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energies of the electron in the H atom are given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1 Ground State </a:t>
            </a:r>
            <a:r>
              <a:rPr b="1" lang="ar-SA" sz="3200" spc="-1" strike="noStrike">
                <a:solidFill>
                  <a:srgbClr val="9900cc"/>
                </a:solidFill>
                <a:latin typeface="Comic Sans MS"/>
              </a:rPr>
              <a:t>الحاله الارضي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n = 2, 3, 4, … Excited States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ar-SA" sz="3200" spc="-1" strike="noStrike">
                <a:solidFill>
                  <a:srgbClr val="a50021"/>
                </a:solidFill>
                <a:latin typeface="Comic Sans MS"/>
              </a:rPr>
              <a:t>الحالات المثاره</a:t>
            </a:r>
            <a:r>
              <a:rPr b="0" lang="ar-SA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971640" y="1773360"/>
                <a:ext cx="7848360" cy="290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Rydberg constant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 integer called the principal quantum number;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1, 2, 3,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2B953-7A36-476F-9ED4-D7B6FB44D0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83040" y="765000"/>
            <a:ext cx="5126040" cy="561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24000" y="620640"/>
                <a:ext cx="3905280" cy="525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)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324000" y="4653000"/>
            <a:ext cx="3024000" cy="1224000"/>
          </a:xfrm>
          <a:prstGeom prst="rect">
            <a:avLst/>
          </a:prstGeom>
          <a:noFill/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F8AF5-418C-46D4-BC72-BE3A36D18C6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395280" y="1015920"/>
                <a:ext cx="3024360" cy="126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Sup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539640" y="3141720"/>
            <a:ext cx="8353440" cy="35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9900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(+ve) 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a50021"/>
                </a:solidFill>
                <a:latin typeface="Comic Sans MS"/>
              </a:rPr>
              <a:t>Δ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E (+ve)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→</a:t>
            </a:r>
            <a:r>
              <a:rPr b="1" lang="ar-SA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a50021"/>
                </a:solidFill>
                <a:latin typeface="Comic Sans MS"/>
              </a:rPr>
              <a:t> Energy is absorb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If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&gt; n</a:t>
            </a:r>
            <a:r>
              <a:rPr b="1" lang="en-GB" sz="36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</a:rPr>
              <a:t>(-ve) 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</a:rPr>
              <a:t> </a:t>
            </a:r>
            <a:r>
              <a:rPr b="1" lang="el-GR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Δ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E (-ve)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→</a:t>
            </a:r>
            <a:r>
              <a:rPr b="1" lang="ar-SA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</a:t>
            </a:r>
            <a:r>
              <a:rPr b="1" lang="en-GB" sz="3600" spc="-1" strike="noStrike">
                <a:solidFill>
                  <a:srgbClr val="9900cc"/>
                </a:solidFill>
                <a:latin typeface="Comic Sans MS"/>
                <a:ea typeface="DFKai-SB"/>
              </a:rPr>
              <a:t> Energy is emitted</a:t>
            </a:r>
            <a:r>
              <a:rPr b="0" lang="en-GB" sz="3600" spc="-1" strike="noStrike">
                <a:solidFill>
                  <a:srgbClr val="a50021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a50021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91280" y="1052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1280" y="2276640"/>
            <a:ext cx="21715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6588000" y="1052640"/>
            <a:ext cx="0" cy="122400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722920" y="1052640"/>
            <a:ext cx="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659640" y="1341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Energy absorb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27640" y="1125360"/>
            <a:ext cx="19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Energy e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284720" y="691920"/>
            <a:ext cx="0" cy="1942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780000" y="1413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4364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43640" y="5954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a50021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524560" y="62064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24560" y="217980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Comic Sans MS"/>
              </a:rPr>
              <a:t>n</a:t>
            </a:r>
            <a:r>
              <a:rPr b="0" lang="en-US" sz="2400" spc="-1" strike="noStrike" baseline="-25000">
                <a:solidFill>
                  <a:srgbClr val="9900cc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8B059B-72EF-4962-8EBF-F244DBE501A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95280" y="333360"/>
            <a:ext cx="8137440" cy="21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4 p28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What is the wavelength of a photon (in nm) emitted during a transition from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i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5 state to the n</a:t>
            </a:r>
            <a:r>
              <a:rPr b="0" lang="en-US" sz="2800" spc="-1" strike="noStrike" baseline="-25000">
                <a:solidFill>
                  <a:srgbClr val="00007d"/>
                </a:solidFill>
                <a:latin typeface="Comic Sans MS"/>
              </a:rPr>
              <a:t>f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= 2 state in the hydrogen ato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2920" y="2421000"/>
            <a:ext cx="889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08000" y="2492280"/>
            <a:ext cx="88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iven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2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&gt; n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→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DFKai-SB"/>
              </a:rPr>
              <a:t>Δ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 =-ve (energy is emitt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Find: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in nm)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037040" y="4149720"/>
                <a:ext cx="2943360" cy="22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1D166-9D10-458D-9088-A58AD2BA4D3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9280" y="549360"/>
                <a:ext cx="7848720" cy="55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5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Δ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⇒</m:t>
                        </m:r>
                      </m:e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ΔE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x 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0 x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m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num>
                          <m:den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58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9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7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434 nm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5508720" y="5157720"/>
            <a:ext cx="34560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لاحظي ان الطاقه اخذت باشاره موجبه لان الطول الموجي لايمكن ان يكون قيمه سالبه</a:t>
            </a:r>
            <a:r>
              <a:rPr b="1" lang="ar-SA" sz="2400" spc="-1" strike="noStrike">
                <a:solidFill>
                  <a:srgbClr val="003366"/>
                </a:solidFill>
                <a:latin typeface="Comic Sans MS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64E22-1061-465A-9425-D148C9882FB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1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Plank’s Quantum The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663588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n solids are heated, they emit electromagnetic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ACT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he amount of radian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energy emitted by an object at a certain temperature DEPENDS on the WAVELEN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 failed in explaining why this happen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lassical physics: assumed that atoms or molecules could emit (or absorb) any amount of energy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k explain this: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ergy (light) is emitted or absorbed in discrete units (quantu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Documents and Settings\DELL-XPS\Desktop\chem110\Max_Planck.png"/>
          <p:cNvPicPr/>
          <p:nvPr/>
        </p:nvPicPr>
        <p:blipFill>
          <a:blip r:embed="rId1"/>
          <a:stretch/>
        </p:blipFill>
        <p:spPr>
          <a:xfrm>
            <a:off x="7524720" y="4581360"/>
            <a:ext cx="140328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20000" y="12700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091280" y="44280"/>
            <a:ext cx="1728720" cy="113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A6B8-8852-4D80-BC50-1072C6581F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9152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Quantum: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is the smallest quantity 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nergy that can be emitted (or absor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 the form of electromagnetic radi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is give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e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: is the ener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: Plank’s constant, h = 6.63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3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J.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: frequency of ra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Quantum Theory: energy is always emitted in integrals multiples of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e.g. 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2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3h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ν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, …………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50920" y="2532240"/>
                <a:ext cx="4249800" cy="70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hν</m:t>
                    </m:r>
                    <m:r>
                      <m:t xml:space="preserve">⇒</m:t>
                    </m:r>
                    <m:r>
                      <m:t xml:space="preserve">E</m:t>
                    </m:r>
                    <m:r>
                      <m:t xml:space="preserve">∝</m:t>
                    </m:r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716360" y="2060640"/>
            <a:ext cx="2952720" cy="221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740720" y="2852640"/>
            <a:ext cx="187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Quantization Princi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3D8F1-3679-480A-823F-E09DD0CDFBB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36280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c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95640" y="836640"/>
                <a:ext cx="3654360" cy="576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ν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hν</m:t>
                        </m:r>
                      </m:e>
                      <m:e>
                        <m:r>
                          <m:t xml:space="preserve">⇒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B6EBC-0BE5-43B1-981E-FADD2A1ABB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93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d"/>
                </a:solidFill>
                <a:uFillTx/>
                <a:latin typeface="Comic Sans MS"/>
              </a:rPr>
              <a:t>Example 7.2 p280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Calculate the energy (in J) of: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a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4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IR region)</a:t>
            </a: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(b) a photon with a wavelength of 5.00 x 10</a:t>
            </a:r>
            <a:r>
              <a:rPr b="0" lang="en-US" sz="2800" spc="-1" strike="noStrike" baseline="30000">
                <a:solidFill>
                  <a:srgbClr val="00007d"/>
                </a:solidFill>
                <a:latin typeface="Comic Sans MS"/>
              </a:rPr>
              <a:t>-2</a:t>
            </a:r>
            <a:r>
              <a:rPr b="0" lang="en-US" sz="2800" spc="-1" strike="noStrike">
                <a:solidFill>
                  <a:srgbClr val="00007d"/>
                </a:solidFill>
                <a:latin typeface="Comic Sans MS"/>
              </a:rPr>
              <a:t> nm (X-ray region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213000"/>
            <a:ext cx="828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284640"/>
            <a:ext cx="77058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Comic Sans MS"/>
              </a:rPr>
              <a:t>Solu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  <a:ea typeface="Malgun Gothic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4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  <a:ea typeface="Malgun Gothic"/>
              </a:rPr>
              <a:t>-5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  <a:ea typeface="Malgun Gothic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(b)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λ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n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→</a:t>
            </a:r>
            <a:r>
              <a:rPr b="0" lang="ar-SA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9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= 5.0 x 10</a:t>
            </a:r>
            <a:r>
              <a:rPr b="0" lang="en-GB" sz="2800" spc="-1" strike="noStrike" baseline="30000">
                <a:solidFill>
                  <a:srgbClr val="000000"/>
                </a:solidFill>
                <a:latin typeface="Comic Sans MS"/>
              </a:rPr>
              <a:t>-11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m → E (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A8164-7149-4577-8426-1D0A47141A6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68360" y="549360"/>
                <a:ext cx="8064360" cy="20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468360" y="3141720"/>
                <a:ext cx="8136000" cy="20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c</m:t>
                            </m:r>
                          </m:num>
                          <m:den>
                            <m:r>
                              <m:t xml:space="preserve">λ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34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J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 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/s</m:t>
                            </m:r>
                          </m:num>
                          <m:den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0</m:t>
                            </m:r>
                            <m:r>
                              <m:t xml:space="preserve">x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 m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J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E3975-BB1E-4F46-8BFC-119788EDA2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2570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7.3 Bohr’s Theory of Hydrogen At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ission Spectr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toms are bright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line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(spectral lines) in the visible spect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ission spectrum of any atom is a finger print (lines appeared at specific wavelength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20E5B-D144-48D3-B314-599F526BB69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835200"/>
            <a:ext cx="8088480" cy="5883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547640" y="37944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Comic Sans MS"/>
              </a:rPr>
              <a:t>Emission Spectra of som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BF209-BE77-45A1-8F39-5AF57A18ED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6174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7d"/>
                </a:solidFill>
                <a:uFillTx/>
                <a:latin typeface="Comic Sans MS"/>
              </a:rPr>
              <a:t>Emission spectrum of Hydrogen At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il Bohr: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tudy the emission spectrum of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Hydrogen At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hr postulates that the electron is occupied ONLY certain orbits of specific energie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 energies of the electron are quant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S: the emission spectrum of the H atom results from: the hydrogen atom is energis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lectron excited to higher energy orbi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to a lower-energy orbit emits a quantum of energy (l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842240" y="44280"/>
            <a:ext cx="1160640" cy="16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81227-9362-4850-A42C-900F9ACE5C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16:44:59Z</dcterms:created>
  <dc:creator>suha</dc:creator>
  <dc:description/>
  <dc:language>en-US</dc:language>
  <cp:lastModifiedBy>suha</cp:lastModifiedBy>
  <dcterms:modified xsi:type="dcterms:W3CDTF">2012-02-28T20:14:15Z</dcterms:modified>
  <cp:revision>940</cp:revision>
  <dc:subject/>
  <dc:title>General Chemistry CHEM 110</dc:title>
</cp:coreProperties>
</file>