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869A8-FF5B-4E67-A121-C5AC24E02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1C2AE-0CAA-4F4C-BE8A-00BE35072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56A92-D74A-4D78-B614-BDED54DF6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F3A3E-3AC0-4C84-BA83-209D69ED5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9E5CD-908B-45BB-9C86-D60B5EE9D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E2CA5-9739-4DAC-9381-AB81CE66C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AD1CC-3BBF-4D7F-BCEF-8D65168F4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91CE8-BF4A-4F4D-AB75-8378EBC6F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7F9B5-C5B6-4E24-B92A-325001416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7E199-EC9C-43E1-8FD2-DBDC3C60C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EA151-1538-47DF-B357-D82BABA4F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57F56-9A5F-401C-BFEA-24F2AA2AE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8C049-063F-4AE8-A8DC-8396DF389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3C54C-5D11-495D-AF1E-6A7DEE510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A5B77-3AAD-484C-82F4-454092928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3EBC6-E300-4211-A8DF-3D0A78D19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9624C-19C9-4780-B180-24D5D6789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26EB9-C657-4BF1-9D87-D7B9F03DF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6AD63-BC80-49F6-B18F-C28C6E782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359B9-E75A-4A66-8922-7287296EC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33104-EB3A-41D5-B7AC-130EA77A4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394EB-DEB6-458B-A3D5-7C576916D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4CB7A-CD86-4F15-B6D0-252A3FBA3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3B52A-9D9F-4F78-A704-DB023CF39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99CAF-EFFE-4A2A-9A0B-357ABD9143F2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F7FF6-BB21-460C-9E2B-20F98521D6F7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09E09-AA37-4B25-AF0B-AD04A0A3F7B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8496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1 p27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e wavelength of the green light from a traf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signal is centred at 522 nm. What is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frequency of this radi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40" y="2565360"/>
            <a:ext cx="820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9640" y="2637000"/>
            <a:ext cx="7201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= 522 nm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algun Gothic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522 x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-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Find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24000" y="4508640"/>
                <a:ext cx="7956360" cy="20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22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</m:e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/s       OR       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H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F5151-728E-4523-8478-66345637D15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50920" y="1314360"/>
                <a:ext cx="8424720" cy="297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522</m:t>
                        </m:r>
                        <m:r>
                          <m:rPr>
                            <m:lit/>
                            <m:nor/>
                          </m:rPr>
                          <m:t xml:space="preserve"> nm</m:t>
                        </m:r>
                        <m:r>
                          <m:t xml:space="preserve">→</m:t>
                        </m:r>
                        <m:r>
                          <m:t xml:space="preserve">?</m:t>
                        </m:r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efix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Base Unit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ke the power with its sign in the 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1 nm 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9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522 n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? m 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22 nm x 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nm</m:t>
                            </m:r>
                          </m:den>
                        </m:f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522 x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9</m:t>
                            </m:r>
                          </m:sup>
                        </m:sSup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684360" y="76500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Unit Conver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E8500-0A33-400B-9744-C913578C7B8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28600" y="57168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A photon has a frequency of 6.0 x 10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Hz. Convert this frequency into wavelength (nm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79280" y="1773360"/>
            <a:ext cx="8640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6.0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Hz =6.0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/s = 6.0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(nm)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50920" y="3573360"/>
                <a:ext cx="2316240" cy="26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ν</m:t>
                            </m:r>
                          </m:den>
                        </m:f>
                      </m:e>
                      <m:e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s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x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250920" y="162864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916360" y="3645000"/>
                <a:ext cx="5976720" cy="25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m</m:t>
                        </m:r>
                        <m:r>
                          <m:t xml:space="preserve">→</m:t>
                        </m:r>
                        <m:r>
                          <m:t xml:space="preserve">?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ase Unit 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Prefix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Reverse the sign of the power in the 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 nm 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9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1m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m </m:t>
                        </m:r>
                      </m:e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x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?nm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5x10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 x 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n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m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5E630-71D8-446A-87AB-2CD25CE901D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13372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br>
              <a:rPr sz="4400"/>
            </a:b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 Quantum Theory and Electronic Structure of Atoms </a:t>
            </a:r>
            <a:br>
              <a:rPr sz="4400"/>
            </a:b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Chang Pages 276-310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H.W. p312-315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57200" y="436572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7.3, 7.8, 7.16, 7.18, 7.32, 7.34,  7.120, 7.56, 7.58, 7.62, 7.66, 7.70, 7.76, 7.78, 7.79, 7.84, 7.88, 7.90, 7.1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A0EF4-E63D-4173-9109-5DCF1B0E33D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2570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Chapter 7 Quantum Theory and Electronic Structure of Atoms :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7.1 From Classical Physics to Quantum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7.3 Bohr’s Theory of the Hydrogen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Comic Sans MS"/>
                <a:ea typeface="Times New Roman"/>
              </a:rPr>
              <a:t>7.6 Quantum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7.7 Atomic Orbital'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7.8 Electron Configu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  <a:ea typeface="Times New Roman"/>
              </a:rPr>
              <a:t>7.9 The Building-Up Princi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A5246-1E90-4A32-884B-2A1D1FEDEBA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7d"/>
                </a:solidFill>
                <a:uFillTx/>
                <a:latin typeface="Comic Sans MS"/>
              </a:rPr>
              <a:t>7.1 </a:t>
            </a: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From Classical Physics to Quantum Theory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843588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1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entury : understanding atoms and molecules was unsuccessfu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assical Physic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ccessful in understanding Macroscopic Phenomena, e.g. pressure of the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Quantum Mechanic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ccessful in understanding microscopic phenomena, e.g. atoms &amp; 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was assumed that energy is continuous and any amount of energy could be released or absorbed in a radiation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x Planks in 1900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iscovered that atoms and molecules emit energy only in certain discrete quantities (called quanta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Quantum Mechan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C:\Documents and Settings\DELL-XPS\Desktop\chem110\Max_Planck.png"/>
          <p:cNvPicPr/>
          <p:nvPr/>
        </p:nvPicPr>
        <p:blipFill>
          <a:blip r:embed="rId1"/>
          <a:stretch/>
        </p:blipFill>
        <p:spPr>
          <a:xfrm>
            <a:off x="7943760" y="4508640"/>
            <a:ext cx="1092240" cy="1623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6639E-5EF3-4C64-933A-C857D36ECB3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Content Placeholder 1"/>
          <p:cNvSpPr/>
          <p:nvPr/>
        </p:nvSpPr>
        <p:spPr>
          <a:xfrm>
            <a:off x="252360" y="412920"/>
            <a:ext cx="8891640" cy="50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664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Properties of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ave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ach wave has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peak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  <a:cs typeface="Times New Roman"/>
              </a:rPr>
              <a:t>قمة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d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rough </a:t>
            </a:r>
            <a:r>
              <a:rPr b="0" lang="ar-SA" sz="2800" spc="-1" strike="noStrike">
                <a:solidFill>
                  <a:srgbClr val="a50021"/>
                </a:solidFill>
                <a:latin typeface="Comic Sans MS"/>
                <a:cs typeface="Times New Roman"/>
              </a:rPr>
              <a:t>قا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Wavelength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 (</a:t>
            </a:r>
            <a:r>
              <a:rPr b="0" lang="el-GR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λ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distance between identical points on successive w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Amplitude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the vertical distance from the midline of a wave to the peak or troug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0" t="2460" r="0" b="6706"/>
          <a:stretch/>
        </p:blipFill>
        <p:spPr>
          <a:xfrm>
            <a:off x="3774960" y="3500280"/>
            <a:ext cx="5334120" cy="3086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rcRect l="0" t="2087" r="0" b="8337"/>
          <a:stretch/>
        </p:blipFill>
        <p:spPr>
          <a:xfrm>
            <a:off x="104760" y="3500280"/>
            <a:ext cx="3213000" cy="315288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447840" y="3576600"/>
            <a:ext cx="5460840" cy="1866960"/>
            <a:chOff x="447840" y="3576600"/>
            <a:chExt cx="5460840" cy="1866960"/>
          </a:xfrm>
        </p:grpSpPr>
        <p:sp>
          <p:nvSpPr>
            <p:cNvPr id="119" name=""/>
            <p:cNvSpPr/>
            <p:nvPr/>
          </p:nvSpPr>
          <p:spPr>
            <a:xfrm>
              <a:off x="447840" y="3919320"/>
              <a:ext cx="175248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295880" y="4910040"/>
              <a:ext cx="91440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79880" y="3576600"/>
              <a:ext cx="182880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60440" y="3957480"/>
            <a:ext cx="6997680" cy="2044800"/>
            <a:chOff x="460440" y="3957480"/>
            <a:chExt cx="6997680" cy="2044800"/>
          </a:xfrm>
        </p:grpSpPr>
        <p:sp>
          <p:nvSpPr>
            <p:cNvPr id="123" name=""/>
            <p:cNvSpPr/>
            <p:nvPr/>
          </p:nvSpPr>
          <p:spPr>
            <a:xfrm>
              <a:off x="460440" y="4338720"/>
              <a:ext cx="228600" cy="8380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229520" y="3957480"/>
              <a:ext cx="228600" cy="6098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912000" y="5392800"/>
              <a:ext cx="304920" cy="6094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7812000" y="0"/>
            <a:ext cx="1332000" cy="927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CACA3-7F03-4A09-A1D5-5C8C4E4FE88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Content Placeholder 1"/>
          <p:cNvSpPr/>
          <p:nvPr/>
        </p:nvSpPr>
        <p:spPr>
          <a:xfrm>
            <a:off x="252360" y="412920"/>
            <a:ext cx="8712360" cy="50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664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Properties of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Frequency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 (</a:t>
            </a:r>
            <a:r>
              <a:rPr b="0" lang="el-GR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ν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number of waves that pass through a particular point in 1 seco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ertz (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z) = 1 cycle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z = 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Speed (u)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a product of the wave’s wavelenght and its freq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492360" y="4365720"/>
                <a:ext cx="158436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λν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0ECC3-232F-4D66-903E-89358A336DB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magnetic Radi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ves are different kinds, e.g. water waves, sound waves, and light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 1873 James Maxwell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proposed that visible light consists of electromagnetic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lectric field compon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Magnetic field componen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lectromagnetic radiation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the emission and transmission of energy in the form of electromagnetic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3150360" y="1538640"/>
            <a:ext cx="647640" cy="5148360"/>
          </a:xfrm>
          <a:custGeom>
            <a:avLst/>
            <a:gdLst>
              <a:gd name="textAreaLeft" fmla="*/ 0 w 647640"/>
              <a:gd name="textAreaRight" fmla="*/ 234000 w 647640"/>
              <a:gd name="textAreaTop" fmla="*/ 133920 h 5148360"/>
              <a:gd name="textAreaBottom" fmla="*/ 5014440 h 514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24720" y="2997360"/>
            <a:ext cx="1200240" cy="143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D7B08-7634-4BB4-B0D6-0922DFC59BA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692360" y="1533600"/>
            <a:ext cx="5543640" cy="34797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042920" y="54936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ctromagnetic Wa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5070600"/>
            <a:ext cx="820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peed of light (c) in vacuum =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 x10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m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144880" y="5684760"/>
                <a:ext cx="422568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λν</m:t>
                    </m:r>
                    <m:r>
                      <m:t xml:space="preserve">⇒</m:t>
                    </m:r>
                    <m:r>
                      <m:t xml:space="preserve">ν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ν</m:t>
                    </m:r>
                    <m:r>
                      <m:t xml:space="preserve">∝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BF154-1AF2-4A17-B3F7-18856E05E84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8991720" cy="5562360"/>
          </a:xfrm>
          <a:prstGeom prst="rect">
            <a:avLst/>
          </a:prstGeom>
          <a:ln w="0">
            <a:noFill/>
          </a:ln>
        </p:spPr>
      </p:pic>
      <p:grpSp>
        <p:nvGrpSpPr>
          <p:cNvPr id="139" name=""/>
          <p:cNvGrpSpPr/>
          <p:nvPr/>
        </p:nvGrpSpPr>
        <p:grpSpPr>
          <a:xfrm>
            <a:off x="2533680" y="2500200"/>
            <a:ext cx="4786200" cy="2576520"/>
            <a:chOff x="2533680" y="2500200"/>
            <a:chExt cx="4786200" cy="2576520"/>
          </a:xfrm>
        </p:grpSpPr>
        <p:sp>
          <p:nvSpPr>
            <p:cNvPr id="140" name=""/>
            <p:cNvSpPr/>
            <p:nvPr/>
          </p:nvSpPr>
          <p:spPr>
            <a:xfrm flipH="1">
              <a:off x="2533680" y="2514600"/>
              <a:ext cx="1324080" cy="256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100400" y="2500200"/>
              <a:ext cx="3219480" cy="254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9589C-EBEC-4D0E-8D4F-815D0F1040B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8T20:14:18Z</dcterms:modified>
  <cp:revision>940</cp:revision>
  <dc:subject/>
  <dc:title>General Chemistry CHEM 110</dc:title>
</cp:coreProperties>
</file>