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0240" y="1142640"/>
            <a:ext cx="445752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A44A8-51C4-42A0-9318-A26EBEE43FB3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6C8ADD-2D18-49E4-BAF0-9C7AE77A1DCC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2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DE91B7-9F9A-4ECA-92AA-A217DFA0F73B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4643-037E-4FD4-A807-1C0675D1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D35D-C05F-4E5D-A9CE-D6487451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1DAE-EBA1-4874-88D0-E7F0F793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7A8B-E1E1-4241-BE1B-43C0C263E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941D-EE83-418F-9596-3D99B53F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67ED-90E7-47E8-BABF-6CD454DA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92C9-665C-407B-ADBB-9793EFEF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155-529A-4CD4-B5AA-B86865CE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2F52-BC97-4623-9226-FCE3133D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7B76-6748-480F-9AF9-3BB8C012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CA6F-96CD-4583-9612-D7307B92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B186-431C-48D2-BF99-6677BA67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875637-E368-454A-BFAB-7A4E3B832778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image" Target="../media/image3.png"/><Relationship Id="rId43" Type="http://schemas.openxmlformats.org/officeDocument/2006/relationships/slideLayout" Target="../slideLayouts/slideLayout1.xml"/><Relationship Id="rId4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4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5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sp>
        <p:nvSpPr>
          <p:cNvPr id="58" name="مربع نص 6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طالب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60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61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8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86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9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91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4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97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00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" name="صورة 112" descr=""/>
          <p:cNvPicPr/>
          <p:nvPr/>
        </p:nvPicPr>
        <p:blipFill>
          <a:blip r:embed="rId4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03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10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1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11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119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120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7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145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150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3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156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59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1" name="مربع نص 4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معلم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6T05:53:03Z</dcterms:created>
  <dc:creator>ASUS</dc:creator>
  <dc:description/>
  <dc:language>en-US</dc:language>
  <cp:lastModifiedBy>محمد محمد</cp:lastModifiedBy>
  <dcterms:modified xsi:type="dcterms:W3CDTF">2023-09-10T08:38:32Z</dcterms:modified>
  <cp:revision>530</cp:revision>
  <dc:subject/>
  <dc:title>عرض تقديمي في PowerPoint</dc:title>
</cp:coreProperties>
</file>