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1142640"/>
            <a:ext cx="4457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31286-87EF-4281-B6DA-BF8939932A67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C0AF6-B370-4BE2-A0CA-1F691A64E0BA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8B503-A103-4829-B966-6F1BC89BED28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1F26-3319-4EE1-A1C4-8B05FC9C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C8A8-33C8-49BE-95D9-5DF121C1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B92-567A-474E-98C9-02FD0A12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008A-0347-43E9-B89E-E9220131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DDA-E3D1-4936-BA9B-AA9A65AB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1BD-C31A-43C5-8A6F-17FC841E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FCC-FFDA-4027-AB11-A2F06E27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35F-ACA5-433D-BDE1-52F829B1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91B-D439-4673-A159-96DBB8A8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7D4-CB6D-4F39-88CB-54DB963B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FED-DD83-481C-9B47-C60AE7F0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2EE-C24F-4306-8A93-26028A59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7C0E5-1C5A-4B5C-9767-1C6FEA3C6718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3.png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4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مربع نص 6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طالب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60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61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8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86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9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91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97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00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" name="صورة 112" descr=""/>
          <p:cNvPicPr/>
          <p:nvPr/>
        </p:nvPicPr>
        <p:blipFill>
          <a:blip r:embed="rId4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03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10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11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119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120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7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145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150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3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156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59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1" name="مربع نص 4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معلم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6T05:53:03Z</dcterms:created>
  <dc:creator>ASUS</dc:creator>
  <dc:description/>
  <dc:language>en-US</dc:language>
  <cp:lastModifiedBy>محمد محمد</cp:lastModifiedBy>
  <dcterms:modified xsi:type="dcterms:W3CDTF">2023-09-10T08:38:32Z</dcterms:modified>
  <cp:revision>530</cp:revision>
  <dc:subject/>
  <dc:title>عرض تقديمي في PowerPoint</dc:title>
</cp:coreProperties>
</file>