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00240" y="1142640"/>
            <a:ext cx="445752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F423B3-9805-4C6F-AE7B-5FE9E860993F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69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0C7C6E-AA27-46B7-9BE2-DC38E29C4651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00240" y="1143000"/>
            <a:ext cx="445752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172" name="عنصر نائب لرقم الشريحة 3"/>
          <p:cNvSpPr/>
          <p:nvPr/>
        </p:nvSpPr>
        <p:spPr>
          <a:xfrm>
            <a:off x="144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CA93C5-40FE-4F6D-A0A5-B90800D57CE3}" type="slidenum">
              <a:rPr b="0" lang="ar-SA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3087-35A8-45D4-AD26-C56E2809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042-1789-483D-986F-FB458F3C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BA0F-1C9B-47D8-9247-437B9D02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CA6D-F312-498A-9081-BE64CD08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1D5B-F3FC-4376-B43B-6B0C316F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259-C80A-48AB-AF14-719A18B5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D53-CD5B-4527-B192-F92F5EE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E69-3DA3-4838-A4DD-D2AA1D26D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B3F1-B12E-4E0E-84DD-30DA9C5A3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DC20-F8EE-4094-BC76-776B4F71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900-B538-4253-9B5A-207616E0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7339-27E8-4A74-8250-876A32F66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ar-SA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BEAC89-B23B-4757-840A-E054B2DDAD80}" type="slidenum">
              <a:rPr b="0" lang="ar-SA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image" Target="../media/image3.png"/><Relationship Id="rId43" Type="http://schemas.openxmlformats.org/officeDocument/2006/relationships/slideLayout" Target="../slideLayouts/slideLayout1.xml"/><Relationship Id="rId4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23.png"/><Relationship Id="rId23" Type="http://schemas.openxmlformats.org/officeDocument/2006/relationships/image" Target="../media/image24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png"/><Relationship Id="rId30" Type="http://schemas.openxmlformats.org/officeDocument/2006/relationships/image" Target="../media/image31.png"/><Relationship Id="rId31" Type="http://schemas.openxmlformats.org/officeDocument/2006/relationships/image" Target="../media/image32.png"/><Relationship Id="rId32" Type="http://schemas.openxmlformats.org/officeDocument/2006/relationships/image" Target="../media/image33.png"/><Relationship Id="rId33" Type="http://schemas.openxmlformats.org/officeDocument/2006/relationships/image" Target="../media/image34.png"/><Relationship Id="rId34" Type="http://schemas.openxmlformats.org/officeDocument/2006/relationships/image" Target="../media/image35.png"/><Relationship Id="rId35" Type="http://schemas.openxmlformats.org/officeDocument/2006/relationships/image" Target="../media/image36.png"/><Relationship Id="rId36" Type="http://schemas.openxmlformats.org/officeDocument/2006/relationships/image" Target="../media/image37.png"/><Relationship Id="rId37" Type="http://schemas.openxmlformats.org/officeDocument/2006/relationships/image" Target="../media/image38.png"/><Relationship Id="rId38" Type="http://schemas.openxmlformats.org/officeDocument/2006/relationships/image" Target="../media/image39.png"/><Relationship Id="rId39" Type="http://schemas.openxmlformats.org/officeDocument/2006/relationships/image" Target="../media/image40.png"/><Relationship Id="rId40" Type="http://schemas.openxmlformats.org/officeDocument/2006/relationships/image" Target="../media/image41.png"/><Relationship Id="rId41" Type="http://schemas.openxmlformats.org/officeDocument/2006/relationships/image" Target="../media/image42.png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4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5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5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sp>
        <p:nvSpPr>
          <p:cNvPr id="58" name="مربع نص 6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طالب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60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61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9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78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86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89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91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4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97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8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9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00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" name="صورة 112" descr=""/>
          <p:cNvPicPr/>
          <p:nvPr/>
        </p:nvPicPr>
        <p:blipFill>
          <a:blip r:embed="rId4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03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صورة 3" descr=""/>
          <p:cNvPicPr/>
          <p:nvPr/>
        </p:nvPicPr>
        <p:blipFill>
          <a:blip r:embed="rId1"/>
          <a:stretch/>
        </p:blipFill>
        <p:spPr>
          <a:xfrm>
            <a:off x="0" y="1233360"/>
            <a:ext cx="9906120" cy="1417680"/>
          </a:xfrm>
          <a:prstGeom prst="rect">
            <a:avLst/>
          </a:prstGeom>
          <a:ln w="0">
            <a:noFill/>
          </a:ln>
        </p:spPr>
      </p:pic>
      <p:pic>
        <p:nvPicPr>
          <p:cNvPr id="109" name="صورة 2" descr=""/>
          <p:cNvPicPr/>
          <p:nvPr/>
        </p:nvPicPr>
        <p:blipFill>
          <a:blip r:embed="rId2"/>
          <a:stretch/>
        </p:blipFill>
        <p:spPr>
          <a:xfrm>
            <a:off x="0" y="5037120"/>
            <a:ext cx="9906120" cy="1163520"/>
          </a:xfrm>
          <a:prstGeom prst="rect">
            <a:avLst/>
          </a:prstGeom>
          <a:ln w="0">
            <a:noFill/>
          </a:ln>
        </p:spPr>
      </p:pic>
      <p:sp>
        <p:nvSpPr>
          <p:cNvPr id="110" name="مربع نص 19"/>
          <p:cNvSpPr/>
          <p:nvPr/>
        </p:nvSpPr>
        <p:spPr>
          <a:xfrm>
            <a:off x="1322280" y="2160720"/>
            <a:ext cx="67359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4000" spc="-1" strike="noStrike">
                <a:solidFill>
                  <a:srgbClr val="f05917"/>
                </a:solidFill>
                <a:latin typeface="GE SS Two Light"/>
                <a:cs typeface="GE SS Two Light"/>
              </a:rPr>
              <a:t>شهادة شكر وتقدير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صورة 5" descr="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8908920" y="9360"/>
            <a:ext cx="641520" cy="311400"/>
          </a:xfrm>
          <a:prstGeom prst="rect">
            <a:avLst/>
          </a:prstGeom>
          <a:ln w="0">
            <a:noFill/>
          </a:ln>
        </p:spPr>
      </p:pic>
      <p:sp>
        <p:nvSpPr>
          <p:cNvPr id="112" name="Freeform 62"/>
          <p:cNvSpPr/>
          <p:nvPr/>
        </p:nvSpPr>
        <p:spPr>
          <a:xfrm>
            <a:off x="0" y="6014880"/>
            <a:ext cx="9906120" cy="843120"/>
          </a:xfrm>
          <a:custGeom>
            <a:avLst/>
            <a:gdLst/>
            <a:ahLst/>
            <a:rect l="l" t="t" r="r" b="b"/>
            <a:pathLst>
              <a:path w="6858001" h="672855">
                <a:moveTo>
                  <a:pt x="0" y="0"/>
                </a:moveTo>
                <a:lnTo>
                  <a:pt x="1451347" y="0"/>
                </a:lnTo>
                <a:cubicBezTo>
                  <a:pt x="1517051" y="0"/>
                  <a:pt x="1570314" y="53263"/>
                  <a:pt x="1570314" y="118967"/>
                </a:cubicBezTo>
                <a:cubicBezTo>
                  <a:pt x="1570314" y="53263"/>
                  <a:pt x="1623577" y="0"/>
                  <a:pt x="1689281" y="0"/>
                </a:cubicBezTo>
                <a:lnTo>
                  <a:pt x="5190013" y="0"/>
                </a:lnTo>
                <a:cubicBezTo>
                  <a:pt x="5255717" y="0"/>
                  <a:pt x="5308980" y="53263"/>
                  <a:pt x="5308980" y="118967"/>
                </a:cubicBezTo>
                <a:cubicBezTo>
                  <a:pt x="5308980" y="53263"/>
                  <a:pt x="5362243" y="0"/>
                  <a:pt x="5427947" y="0"/>
                </a:cubicBezTo>
                <a:lnTo>
                  <a:pt x="6858001" y="0"/>
                </a:lnTo>
                <a:lnTo>
                  <a:pt x="6858001" y="672855"/>
                </a:lnTo>
                <a:lnTo>
                  <a:pt x="6196084" y="672855"/>
                </a:lnTo>
                <a:lnTo>
                  <a:pt x="5427947" y="672855"/>
                </a:lnTo>
                <a:lnTo>
                  <a:pt x="5190013" y="672855"/>
                </a:lnTo>
                <a:lnTo>
                  <a:pt x="1689281" y="672855"/>
                </a:lnTo>
                <a:lnTo>
                  <a:pt x="1451347" y="672855"/>
                </a:lnTo>
                <a:lnTo>
                  <a:pt x="722906" y="672855"/>
                </a:lnTo>
                <a:lnTo>
                  <a:pt x="0" y="672855"/>
                </a:lnTo>
                <a:lnTo>
                  <a:pt x="0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Freeform 39"/>
          <p:cNvSpPr/>
          <p:nvPr/>
        </p:nvSpPr>
        <p:spPr>
          <a:xfrm>
            <a:off x="3586320" y="771480"/>
            <a:ext cx="6319800" cy="903240"/>
          </a:xfrm>
          <a:custGeom>
            <a:avLst/>
            <a:gdLst/>
            <a:ahLst/>
            <a:rect l="l" t="t" r="r" b="b"/>
            <a:pathLst>
              <a:path w="4255264" h="853476">
                <a:moveTo>
                  <a:pt x="891478" y="326841"/>
                </a:moveTo>
                <a:lnTo>
                  <a:pt x="896685" y="326841"/>
                </a:lnTo>
                <a:lnTo>
                  <a:pt x="860547" y="347287"/>
                </a:lnTo>
                <a:lnTo>
                  <a:pt x="891478" y="326841"/>
                </a:lnTo>
                <a:close/>
                <a:moveTo>
                  <a:pt x="3112795" y="1305"/>
                </a:moveTo>
                <a:cubicBezTo>
                  <a:pt x="3365809" y="-5860"/>
                  <a:pt x="3694237" y="14381"/>
                  <a:pt x="4079593" y="114790"/>
                </a:cubicBezTo>
                <a:lnTo>
                  <a:pt x="4255264" y="182218"/>
                </a:lnTo>
                <a:lnTo>
                  <a:pt x="4255264" y="853476"/>
                </a:lnTo>
                <a:lnTo>
                  <a:pt x="0" y="853476"/>
                </a:lnTo>
                <a:lnTo>
                  <a:pt x="0" y="853076"/>
                </a:lnTo>
                <a:lnTo>
                  <a:pt x="215538" y="804683"/>
                </a:lnTo>
                <a:cubicBezTo>
                  <a:pt x="1173511" y="570893"/>
                  <a:pt x="1867529" y="185053"/>
                  <a:pt x="2598483" y="52262"/>
                </a:cubicBezTo>
                <a:cubicBezTo>
                  <a:pt x="2682181" y="43043"/>
                  <a:pt x="2859781" y="8471"/>
                  <a:pt x="3112795" y="1305"/>
                </a:cubicBez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reeform 41"/>
          <p:cNvSpPr/>
          <p:nvPr/>
        </p:nvSpPr>
        <p:spPr>
          <a:xfrm>
            <a:off x="0" y="0"/>
            <a:ext cx="6769080" cy="1614600"/>
          </a:xfrm>
          <a:custGeom>
            <a:avLst/>
            <a:gdLst/>
            <a:ahLst/>
            <a:rect l="l" t="t" r="r" b="b"/>
            <a:pathLst>
              <a:path w="4686579" h="1502451">
                <a:moveTo>
                  <a:pt x="0" y="0"/>
                </a:moveTo>
                <a:lnTo>
                  <a:pt x="4686579" y="0"/>
                </a:lnTo>
                <a:lnTo>
                  <a:pt x="4658466" y="33862"/>
                </a:lnTo>
                <a:cubicBezTo>
                  <a:pt x="4108398" y="635990"/>
                  <a:pt x="2886791" y="1445385"/>
                  <a:pt x="1854110" y="1498963"/>
                </a:cubicBezTo>
                <a:cubicBezTo>
                  <a:pt x="1234502" y="1531110"/>
                  <a:pt x="637293" y="1337994"/>
                  <a:pt x="131561" y="1047831"/>
                </a:cubicBezTo>
                <a:lnTo>
                  <a:pt x="0" y="967493"/>
                </a:lnTo>
                <a:lnTo>
                  <a:pt x="0" y="0"/>
                </a:lnTo>
                <a:close/>
              </a:path>
            </a:pathLst>
          </a:custGeom>
          <a:solidFill>
            <a:srgbClr val="eef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reeform 15"/>
          <p:cNvSpPr/>
          <p:nvPr/>
        </p:nvSpPr>
        <p:spPr>
          <a:xfrm>
            <a:off x="0" y="0"/>
            <a:ext cx="7815240" cy="1687680"/>
          </a:xfrm>
          <a:custGeom>
            <a:avLst/>
            <a:gdLst/>
            <a:ahLst/>
            <a:rect l="l" t="t" r="r" b="b"/>
            <a:pathLst>
              <a:path w="5410653" h="1571173">
                <a:moveTo>
                  <a:pt x="4656334" y="0"/>
                </a:moveTo>
                <a:lnTo>
                  <a:pt x="5410653" y="0"/>
                </a:lnTo>
                <a:lnTo>
                  <a:pt x="5179683" y="161419"/>
                </a:lnTo>
                <a:cubicBezTo>
                  <a:pt x="3795200" y="1088962"/>
                  <a:pt x="2051427" y="1671011"/>
                  <a:pt x="698901" y="1556959"/>
                </a:cubicBezTo>
                <a:cubicBezTo>
                  <a:pt x="518564" y="1541752"/>
                  <a:pt x="349734" y="1511965"/>
                  <a:pt x="192803" y="1470581"/>
                </a:cubicBezTo>
                <a:lnTo>
                  <a:pt x="0" y="1410636"/>
                </a:lnTo>
                <a:lnTo>
                  <a:pt x="0" y="902944"/>
                </a:lnTo>
                <a:lnTo>
                  <a:pt x="86271" y="972161"/>
                </a:lnTo>
                <a:cubicBezTo>
                  <a:pt x="541566" y="1306836"/>
                  <a:pt x="1117964" y="1499609"/>
                  <a:pt x="1582784" y="1504689"/>
                </a:cubicBezTo>
                <a:cubicBezTo>
                  <a:pt x="2396219" y="1513579"/>
                  <a:pt x="3834733" y="977342"/>
                  <a:pt x="4607538" y="63474"/>
                </a:cubicBezTo>
                <a:lnTo>
                  <a:pt x="4656334" y="0"/>
                </a:lnTo>
                <a:close/>
              </a:path>
            </a:pathLst>
          </a:custGeom>
          <a:solidFill>
            <a:srgbClr val="ac9a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Freeform 50"/>
          <p:cNvSpPr/>
          <p:nvPr/>
        </p:nvSpPr>
        <p:spPr>
          <a:xfrm>
            <a:off x="866880" y="0"/>
            <a:ext cx="9039240" cy="1674720"/>
          </a:xfrm>
          <a:custGeom>
            <a:avLst/>
            <a:gdLst/>
            <a:ahLst/>
            <a:rect l="l" t="t" r="r" b="b"/>
            <a:pathLst>
              <a:path w="6257924" h="1558228">
                <a:moveTo>
                  <a:pt x="0" y="1558227"/>
                </a:moveTo>
                <a:lnTo>
                  <a:pt x="97056" y="1558227"/>
                </a:lnTo>
                <a:lnTo>
                  <a:pt x="97056" y="1558228"/>
                </a:lnTo>
                <a:lnTo>
                  <a:pt x="0" y="1558228"/>
                </a:lnTo>
                <a:lnTo>
                  <a:pt x="0" y="1558227"/>
                </a:lnTo>
                <a:close/>
                <a:moveTo>
                  <a:pt x="0" y="1531417"/>
                </a:moveTo>
                <a:lnTo>
                  <a:pt x="32220" y="1535524"/>
                </a:lnTo>
                <a:lnTo>
                  <a:pt x="0" y="1558226"/>
                </a:lnTo>
                <a:lnTo>
                  <a:pt x="0" y="1531417"/>
                </a:lnTo>
                <a:close/>
                <a:moveTo>
                  <a:pt x="4792054" y="0"/>
                </a:moveTo>
                <a:lnTo>
                  <a:pt x="6257924" y="0"/>
                </a:lnTo>
                <a:lnTo>
                  <a:pt x="6257924" y="1558228"/>
                </a:lnTo>
                <a:lnTo>
                  <a:pt x="540685" y="1558228"/>
                </a:lnTo>
                <a:lnTo>
                  <a:pt x="540695" y="1558227"/>
                </a:lnTo>
                <a:lnTo>
                  <a:pt x="6257920" y="1558227"/>
                </a:lnTo>
                <a:lnTo>
                  <a:pt x="6257920" y="802490"/>
                </a:lnTo>
                <a:lnTo>
                  <a:pt x="6082249" y="739736"/>
                </a:lnTo>
                <a:cubicBezTo>
                  <a:pt x="5311537" y="552838"/>
                  <a:pt x="4768535" y="664383"/>
                  <a:pt x="4601139" y="681542"/>
                </a:cubicBezTo>
                <a:cubicBezTo>
                  <a:pt x="3561559" y="857310"/>
                  <a:pt x="2596691" y="1509446"/>
                  <a:pt x="840945" y="1553357"/>
                </a:cubicBezTo>
                <a:lnTo>
                  <a:pt x="647885" y="1553211"/>
                </a:lnTo>
                <a:lnTo>
                  <a:pt x="895938" y="1537062"/>
                </a:lnTo>
                <a:cubicBezTo>
                  <a:pt x="987991" y="1528645"/>
                  <a:pt x="1081024" y="1517767"/>
                  <a:pt x="1174851" y="1504511"/>
                </a:cubicBezTo>
                <a:lnTo>
                  <a:pt x="1332059" y="1478571"/>
                </a:lnTo>
                <a:lnTo>
                  <a:pt x="1449666" y="1467348"/>
                </a:lnTo>
                <a:cubicBezTo>
                  <a:pt x="1647091" y="1440293"/>
                  <a:pt x="1849268" y="1388783"/>
                  <a:pt x="2050524" y="1319165"/>
                </a:cubicBezTo>
                <a:lnTo>
                  <a:pt x="2052760" y="1318325"/>
                </a:lnTo>
                <a:lnTo>
                  <a:pt x="2327232" y="1236841"/>
                </a:lnTo>
                <a:cubicBezTo>
                  <a:pt x="3105302" y="989643"/>
                  <a:pt x="3887367" y="612245"/>
                  <a:pt x="4579608" y="148473"/>
                </a:cubicBezTo>
                <a:lnTo>
                  <a:pt x="4792054" y="0"/>
                </a:lnTo>
                <a:close/>
              </a:path>
            </a:pathLst>
          </a:custGeom>
          <a:solidFill>
            <a:srgbClr val="4730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6" descr=""/>
          <p:cNvPicPr/>
          <p:nvPr/>
        </p:nvPicPr>
        <p:blipFill>
          <a:blip r:embed="rId4"/>
          <a:stretch/>
        </p:blipFill>
        <p:spPr>
          <a:xfrm>
            <a:off x="8045280" y="85680"/>
            <a:ext cx="1486080" cy="539640"/>
          </a:xfrm>
          <a:prstGeom prst="rect">
            <a:avLst/>
          </a:prstGeom>
          <a:ln w="0">
            <a:noFill/>
          </a:ln>
        </p:spPr>
      </p:pic>
      <p:grpSp>
        <p:nvGrpSpPr>
          <p:cNvPr id="118" name="Group 62"/>
          <p:cNvGrpSpPr/>
          <p:nvPr/>
        </p:nvGrpSpPr>
        <p:grpSpPr>
          <a:xfrm>
            <a:off x="1563840" y="3743280"/>
            <a:ext cx="969840" cy="881280"/>
            <a:chOff x="1563840" y="3743280"/>
            <a:chExt cx="969840" cy="881280"/>
          </a:xfrm>
        </p:grpSpPr>
        <p:grpSp>
          <p:nvGrpSpPr>
            <p:cNvPr id="119" name="object 13"/>
            <p:cNvGrpSpPr/>
            <p:nvPr/>
          </p:nvGrpSpPr>
          <p:grpSpPr>
            <a:xfrm>
              <a:off x="1689840" y="3743280"/>
              <a:ext cx="717840" cy="601200"/>
              <a:chOff x="1689840" y="3743280"/>
              <a:chExt cx="717840" cy="601200"/>
            </a:xfrm>
          </p:grpSpPr>
          <p:pic>
            <p:nvPicPr>
              <p:cNvPr id="120" name="object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6040" y="4176720"/>
                <a:ext cx="72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object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1877400" y="4190400"/>
                <a:ext cx="360" cy="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1838520" y="3904920"/>
                <a:ext cx="569160" cy="439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object 17" descr=""/>
              <p:cNvPicPr/>
              <p:nvPr/>
            </p:nvPicPr>
            <p:blipFill>
              <a:blip r:embed="rId8"/>
              <a:stretch/>
            </p:blipFill>
            <p:spPr>
              <a:xfrm>
                <a:off x="1861200" y="3743280"/>
                <a:ext cx="301320" cy="160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object 18" descr=""/>
              <p:cNvPicPr/>
              <p:nvPr/>
            </p:nvPicPr>
            <p:blipFill>
              <a:blip r:embed="rId9"/>
              <a:stretch/>
            </p:blipFill>
            <p:spPr>
              <a:xfrm>
                <a:off x="2097000" y="3947040"/>
                <a:ext cx="30600" cy="25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object 19" descr=""/>
              <p:cNvPicPr/>
              <p:nvPr/>
            </p:nvPicPr>
            <p:blipFill>
              <a:blip r:embed="rId10"/>
              <a:stretch/>
            </p:blipFill>
            <p:spPr>
              <a:xfrm>
                <a:off x="2037960" y="4015440"/>
                <a:ext cx="5400" cy="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object 20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49200" y="3944520"/>
                <a:ext cx="1296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object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1775520" y="3787920"/>
                <a:ext cx="471240" cy="30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" name="object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2095560" y="3979800"/>
                <a:ext cx="28440" cy="27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" name="object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2172960" y="3961800"/>
                <a:ext cx="2880" cy="2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object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3080" y="3985920"/>
                <a:ext cx="65160" cy="64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25" descr=""/>
              <p:cNvPicPr/>
              <p:nvPr/>
            </p:nvPicPr>
            <p:blipFill>
              <a:blip r:embed="rId16"/>
              <a:stretch/>
            </p:blipFill>
            <p:spPr>
              <a:xfrm>
                <a:off x="2068920" y="4007520"/>
                <a:ext cx="756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object 26" descr=""/>
              <p:cNvPicPr/>
              <p:nvPr/>
            </p:nvPicPr>
            <p:blipFill>
              <a:blip r:embed="rId17"/>
              <a:stretch/>
            </p:blipFill>
            <p:spPr>
              <a:xfrm>
                <a:off x="2010240" y="4047120"/>
                <a:ext cx="32040" cy="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object 27" descr=""/>
              <p:cNvPicPr/>
              <p:nvPr/>
            </p:nvPicPr>
            <p:blipFill>
              <a:blip r:embed="rId18"/>
              <a:stretch/>
            </p:blipFill>
            <p:spPr>
              <a:xfrm>
                <a:off x="1955160" y="4043520"/>
                <a:ext cx="7560" cy="11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" name="object 28" descr=""/>
              <p:cNvPicPr/>
              <p:nvPr/>
            </p:nvPicPr>
            <p:blipFill>
              <a:blip r:embed="rId19"/>
              <a:stretch/>
            </p:blipFill>
            <p:spPr>
              <a:xfrm>
                <a:off x="1853280" y="3817800"/>
                <a:ext cx="2880" cy="5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" name="object 29" descr=""/>
              <p:cNvPicPr/>
              <p:nvPr/>
            </p:nvPicPr>
            <p:blipFill>
              <a:blip r:embed="rId20"/>
              <a:stretch/>
            </p:blipFill>
            <p:spPr>
              <a:xfrm>
                <a:off x="1806480" y="3792960"/>
                <a:ext cx="49680" cy="2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object 30" descr=""/>
              <p:cNvPicPr/>
              <p:nvPr/>
            </p:nvPicPr>
            <p:blipFill>
              <a:blip r:embed="rId21"/>
              <a:stretch/>
            </p:blipFill>
            <p:spPr>
              <a:xfrm>
                <a:off x="1689840" y="3812400"/>
                <a:ext cx="140400" cy="296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7" name="object 31" descr=""/>
            <p:cNvPicPr/>
            <p:nvPr/>
          </p:nvPicPr>
          <p:blipFill>
            <a:blip r:embed="rId22"/>
            <a:stretch/>
          </p:blipFill>
          <p:spPr>
            <a:xfrm>
              <a:off x="1563840" y="4417920"/>
              <a:ext cx="441360" cy="8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object 32" descr=""/>
            <p:cNvPicPr/>
            <p:nvPr/>
          </p:nvPicPr>
          <p:blipFill>
            <a:blip r:embed="rId23"/>
            <a:stretch/>
          </p:blipFill>
          <p:spPr>
            <a:xfrm>
              <a:off x="2026080" y="4417920"/>
              <a:ext cx="80640" cy="11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object 33" descr=""/>
            <p:cNvPicPr/>
            <p:nvPr/>
          </p:nvPicPr>
          <p:blipFill>
            <a:blip r:embed="rId24"/>
            <a:stretch/>
          </p:blipFill>
          <p:spPr>
            <a:xfrm>
              <a:off x="164736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object 34" descr=""/>
            <p:cNvPicPr/>
            <p:nvPr/>
          </p:nvPicPr>
          <p:blipFill>
            <a:blip r:embed="rId25"/>
            <a:stretch/>
          </p:blipFill>
          <p:spPr>
            <a:xfrm>
              <a:off x="1749240" y="4385160"/>
              <a:ext cx="53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object 35" descr=""/>
            <p:cNvPicPr/>
            <p:nvPr/>
          </p:nvPicPr>
          <p:blipFill>
            <a:blip r:embed="rId26"/>
            <a:stretch/>
          </p:blipFill>
          <p:spPr>
            <a:xfrm>
              <a:off x="1978560" y="4385160"/>
              <a:ext cx="26280" cy="2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object 36" descr=""/>
            <p:cNvPicPr/>
            <p:nvPr/>
          </p:nvPicPr>
          <p:blipFill>
            <a:blip r:embed="rId27"/>
            <a:stretch/>
          </p:blipFill>
          <p:spPr>
            <a:xfrm>
              <a:off x="2144160" y="4385160"/>
              <a:ext cx="389520" cy="12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37" descr=""/>
            <p:cNvPicPr/>
            <p:nvPr/>
          </p:nvPicPr>
          <p:blipFill>
            <a:blip r:embed="rId28"/>
            <a:stretch/>
          </p:blipFill>
          <p:spPr>
            <a:xfrm>
              <a:off x="2315520" y="4551480"/>
              <a:ext cx="10080" cy="56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object 38"/>
            <p:cNvGrpSpPr/>
            <p:nvPr/>
          </p:nvGrpSpPr>
          <p:grpSpPr>
            <a:xfrm>
              <a:off x="2435760" y="4551480"/>
              <a:ext cx="96480" cy="72720"/>
              <a:chOff x="2435760" y="4551480"/>
              <a:chExt cx="96480" cy="72720"/>
            </a:xfrm>
          </p:grpSpPr>
          <p:pic>
            <p:nvPicPr>
              <p:cNvPr id="145" name="object 39" descr=""/>
              <p:cNvPicPr/>
              <p:nvPr/>
            </p:nvPicPr>
            <p:blipFill>
              <a:blip r:embed="rId29"/>
              <a:stretch/>
            </p:blipFill>
            <p:spPr>
              <a:xfrm>
                <a:off x="2435760" y="4568400"/>
                <a:ext cx="49680" cy="5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object 40" descr=""/>
              <p:cNvPicPr/>
              <p:nvPr/>
            </p:nvPicPr>
            <p:blipFill>
              <a:blip r:embed="rId30"/>
              <a:stretch/>
            </p:blipFill>
            <p:spPr>
              <a:xfrm>
                <a:off x="2465280" y="4551480"/>
                <a:ext cx="45000" cy="5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object 41" descr=""/>
              <p:cNvPicPr/>
              <p:nvPr/>
            </p:nvPicPr>
            <p:blipFill>
              <a:blip r:embed="rId31"/>
              <a:stretch/>
            </p:blipFill>
            <p:spPr>
              <a:xfrm>
                <a:off x="2521800" y="4551480"/>
                <a:ext cx="10440" cy="565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48" name="object 42" descr=""/>
            <p:cNvPicPr/>
            <p:nvPr/>
          </p:nvPicPr>
          <p:blipFill>
            <a:blip r:embed="rId32"/>
            <a:stretch/>
          </p:blipFill>
          <p:spPr>
            <a:xfrm>
              <a:off x="2028240" y="4551120"/>
              <a:ext cx="204480" cy="7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9" name="object 43"/>
            <p:cNvGrpSpPr/>
            <p:nvPr/>
          </p:nvGrpSpPr>
          <p:grpSpPr>
            <a:xfrm>
              <a:off x="1563840" y="4555080"/>
              <a:ext cx="174960" cy="68760"/>
              <a:chOff x="1563840" y="4555080"/>
              <a:chExt cx="174960" cy="68760"/>
            </a:xfrm>
          </p:grpSpPr>
          <p:pic>
            <p:nvPicPr>
              <p:cNvPr id="150" name="object 44" descr=""/>
              <p:cNvPicPr/>
              <p:nvPr/>
            </p:nvPicPr>
            <p:blipFill>
              <a:blip r:embed="rId33"/>
              <a:stretch/>
            </p:blipFill>
            <p:spPr>
              <a:xfrm>
                <a:off x="156384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object 45" descr=""/>
              <p:cNvPicPr/>
              <p:nvPr/>
            </p:nvPicPr>
            <p:blipFill>
              <a:blip r:embed="rId34"/>
              <a:stretch/>
            </p:blipFill>
            <p:spPr>
              <a:xfrm>
                <a:off x="1609200" y="4555080"/>
                <a:ext cx="38160" cy="5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object 46" descr=""/>
              <p:cNvPicPr/>
              <p:nvPr/>
            </p:nvPicPr>
            <p:blipFill>
              <a:blip r:embed="rId35"/>
              <a:stretch/>
            </p:blipFill>
            <p:spPr>
              <a:xfrm>
                <a:off x="1660320" y="4562280"/>
                <a:ext cx="78480" cy="6156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3" name="object 47" descr=""/>
            <p:cNvPicPr/>
            <p:nvPr/>
          </p:nvPicPr>
          <p:blipFill>
            <a:blip r:embed="rId36"/>
            <a:stretch/>
          </p:blipFill>
          <p:spPr>
            <a:xfrm>
              <a:off x="2241720" y="4551480"/>
              <a:ext cx="61920" cy="7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object 48" descr=""/>
            <p:cNvPicPr/>
            <p:nvPr/>
          </p:nvPicPr>
          <p:blipFill>
            <a:blip r:embed="rId37"/>
            <a:stretch/>
          </p:blipFill>
          <p:spPr>
            <a:xfrm>
              <a:off x="1747080" y="4561560"/>
              <a:ext cx="34920" cy="45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object 49"/>
            <p:cNvGrpSpPr/>
            <p:nvPr/>
          </p:nvGrpSpPr>
          <p:grpSpPr>
            <a:xfrm>
              <a:off x="1792080" y="4551480"/>
              <a:ext cx="214920" cy="73080"/>
              <a:chOff x="1792080" y="4551480"/>
              <a:chExt cx="214920" cy="73080"/>
            </a:xfrm>
          </p:grpSpPr>
          <p:pic>
            <p:nvPicPr>
              <p:cNvPr id="156" name="object 50" descr=""/>
              <p:cNvPicPr/>
              <p:nvPr/>
            </p:nvPicPr>
            <p:blipFill>
              <a:blip r:embed="rId38"/>
              <a:stretch/>
            </p:blipFill>
            <p:spPr>
              <a:xfrm>
                <a:off x="1996560" y="4551480"/>
                <a:ext cx="10440" cy="5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7" name="object 51" descr=""/>
              <p:cNvPicPr/>
              <p:nvPr/>
            </p:nvPicPr>
            <p:blipFill>
              <a:blip r:embed="rId39"/>
              <a:stretch/>
            </p:blipFill>
            <p:spPr>
              <a:xfrm>
                <a:off x="1792080" y="4551480"/>
                <a:ext cx="192960" cy="73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" name="object 52"/>
            <p:cNvGrpSpPr/>
            <p:nvPr/>
          </p:nvGrpSpPr>
          <p:grpSpPr>
            <a:xfrm>
              <a:off x="2344680" y="4564440"/>
              <a:ext cx="93600" cy="60120"/>
              <a:chOff x="2344680" y="4564440"/>
              <a:chExt cx="93600" cy="60120"/>
            </a:xfrm>
          </p:grpSpPr>
          <p:pic>
            <p:nvPicPr>
              <p:cNvPr id="159" name="object 53" descr=""/>
              <p:cNvPicPr/>
              <p:nvPr/>
            </p:nvPicPr>
            <p:blipFill>
              <a:blip r:embed="rId40"/>
              <a:stretch/>
            </p:blipFill>
            <p:spPr>
              <a:xfrm>
                <a:off x="2403720" y="4564440"/>
                <a:ext cx="34560" cy="60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object 54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44680" y="4566240"/>
                <a:ext cx="52200" cy="56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61" name="مربع نص 4"/>
          <p:cNvSpPr/>
          <p:nvPr/>
        </p:nvSpPr>
        <p:spPr>
          <a:xfrm>
            <a:off x="1071720" y="2898720"/>
            <a:ext cx="77626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تتقدم ادارة المدرسة ممثلة بالنشاط الطلابي بالشكر والتقدير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GE SS Two Light"/>
                <a:ea typeface="GE SS Two Light"/>
              </a:rPr>
              <a:t>                                             للمعلم 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وذلك لمشاركته الفاعلة بالاحتفاء باليوم الوطني </a:t>
            </a:r>
            <a:r>
              <a:rPr b="1" lang="ar-SA" sz="16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9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تمنين دوام التوفيق والسداد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مربع نص 19"/>
          <p:cNvSpPr/>
          <p:nvPr/>
        </p:nvSpPr>
        <p:spPr>
          <a:xfrm>
            <a:off x="6370560" y="1141560"/>
            <a:ext cx="249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8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رسة</a:t>
            </a:r>
            <a:r>
              <a:rPr b="0" lang="ar-SA" sz="1800" spc="-1" strike="noStrike">
                <a:solidFill>
                  <a:srgbClr val="000000"/>
                </a:solidFill>
                <a:latin typeface="GE SS Two Light"/>
                <a:ea typeface="GE SS Two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مستطيل: زوايا مستديرة 5"/>
          <p:cNvSpPr/>
          <p:nvPr/>
        </p:nvSpPr>
        <p:spPr>
          <a:xfrm>
            <a:off x="988920" y="376200"/>
            <a:ext cx="2859120" cy="25236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إدارة</a:t>
            </a:r>
            <a:r>
              <a:rPr b="0" lang="ar-SA" sz="1400" spc="-1" strike="noStrike">
                <a:solidFill>
                  <a:srgbClr val="ffffff"/>
                </a:solidFill>
                <a:latin typeface="GE SS Two Light"/>
                <a:ea typeface="GE SS Two Ligh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مستطيل: زوايا مستديرة 6"/>
          <p:cNvSpPr/>
          <p:nvPr/>
        </p:nvSpPr>
        <p:spPr>
          <a:xfrm>
            <a:off x="988920" y="679320"/>
            <a:ext cx="2859120" cy="250920"/>
          </a:xfrm>
          <a:prstGeom prst="roundRect">
            <a:avLst>
              <a:gd name="adj" fmla="val 50000"/>
            </a:avLst>
          </a:prstGeom>
          <a:solidFill>
            <a:srgbClr val="473049"/>
          </a:solidFill>
          <a:ln w="12600">
            <a:solidFill>
              <a:srgbClr val="4831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GE SS Two Light"/>
                <a:cs typeface="GE SS Two Light"/>
              </a:rPr>
              <a:t>مكتب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مربع نص 19"/>
          <p:cNvSpPr/>
          <p:nvPr/>
        </p:nvSpPr>
        <p:spPr>
          <a:xfrm>
            <a:off x="6299280" y="5105520"/>
            <a:ext cx="24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رائد النشاط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مربع نص 19"/>
          <p:cNvSpPr/>
          <p:nvPr/>
        </p:nvSpPr>
        <p:spPr>
          <a:xfrm>
            <a:off x="781200" y="5089680"/>
            <a:ext cx="249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GE SS Two Light"/>
                <a:cs typeface="GE SS Two Light"/>
              </a:rPr>
              <a:t>مدير المدرس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2-16T05:53:03Z</dcterms:created>
  <dc:creator>ASUS</dc:creator>
  <dc:description/>
  <dc:language>en-US</dc:language>
  <cp:lastModifiedBy>محمد محمد</cp:lastModifiedBy>
  <dcterms:modified xsi:type="dcterms:W3CDTF">2023-09-10T08:38:32Z</dcterms:modified>
  <cp:revision>530</cp:revision>
  <dc:subject/>
  <dc:title>عرض تقديمي في PowerPoint</dc:title>
</cp:coreProperties>
</file>