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1142640"/>
            <a:ext cx="4457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BCD70-9AB1-4799-A2A1-B334120E3F63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B7886-60E4-4D5F-B2F2-6DC675B7B7A4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36D2C-558C-495E-B7AD-5BA9FBF6C269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F18-9EDD-4634-9AA3-BB233766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6C8-6E52-4BA6-A928-C1849F9A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D67-C3A8-4697-A3AC-0173E6FF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45A-8B58-42EF-B59E-D983367F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AC0-9076-498C-B39A-4703C031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3416-00CD-430A-BAAB-5F08788B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57E-811D-45C9-B1BF-C01459FC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B20A-8B2F-4033-B39C-3D15E502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F12-42F8-47C4-A57D-8900C818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F87-04F9-4327-87DF-A898BFBC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534-129B-4012-B235-4F7D1379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5D8-B025-4B59-A7BC-5C2B4460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31667-9733-4440-A01A-344ADD1C4500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3.png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4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مربع نص 6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طالب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60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61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8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86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9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91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97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00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" name="صورة 112" descr=""/>
          <p:cNvPicPr/>
          <p:nvPr/>
        </p:nvPicPr>
        <p:blipFill>
          <a:blip r:embed="rId4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03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10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11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119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120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7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145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150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3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156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59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1" name="مربع نص 4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معلم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6T05:53:03Z</dcterms:created>
  <dc:creator>ASUS</dc:creator>
  <dc:description/>
  <dc:language>en-US</dc:language>
  <cp:lastModifiedBy>محمد محمد</cp:lastModifiedBy>
  <dcterms:modified xsi:type="dcterms:W3CDTF">2023-09-10T08:38:32Z</dcterms:modified>
  <cp:revision>530</cp:revision>
  <dc:subject/>
  <dc:title>عرض تقديمي في PowerPoint</dc:title>
</cp:coreProperties>
</file>