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51675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B6AE0-EB20-448D-9354-616862CA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CD94-3873-40D6-B957-765F46D2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F154-FD3A-4F3F-817E-30EACB83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AB54-8D57-4D24-96F9-3FEA1060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1020-46AC-439C-BAD1-60FE0967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F4E8-9757-4E64-A00D-DB31EC1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68AE-10F5-4BC8-9031-7A0A1570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73B5-4805-486F-B61B-63D6222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00AC-FC74-40F4-AFC4-DEC9E0C3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F59-5961-44DC-91D1-3E94919E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A692-3182-4B3E-87AC-7EC316CF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1E5E-2F00-4AFB-BE4E-DE225514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871E-E72C-4F96-9D33-EDE8320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F09A-E9AB-4364-8446-ABBC2BFF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7CD-7CD0-4B66-87C7-A16A8C16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BF3B-3DCE-4E06-B410-E5DF0389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0D4A-FA57-49E4-8034-B3BD26D9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4667-6E38-4F92-BB14-9C0F439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2638-8548-4F07-8F64-176C863F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5324-6B4A-47E3-907A-1BAC54F7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F12E-F73F-4D42-96C2-F3FCFB7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E0E0-2DB6-4853-852B-7CAED8C6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AAA8-F6D4-4236-B6A4-8E67FFA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64CF-3C7C-468E-B925-770E071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CC9A-F61D-4227-831B-F37A33819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3372-6C00-4476-A1D8-D97131FB6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48416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7d"/>
                </a:solidFill>
                <a:latin typeface="Comic Sans MS"/>
              </a:rPr>
              <a:t>Ga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F87-6EA1-472F-A7B0-B0A3E2AEEC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9640" y="549360"/>
                <a:ext cx="8137800" cy="46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T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Boyle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71640" y="4365720"/>
            <a:ext cx="770400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5802-6B7E-46E7-880F-CD4666BA07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yle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11280" y="1268280"/>
                <a:ext cx="3529080" cy="346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00720" y="1268280"/>
                <a:ext cx="27352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75F1-A44D-4E40-AD8D-291FC535A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45960" y="333360"/>
            <a:ext cx="87631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hlorine gas occupies a volume of 946 mL at a pressure of 726 mmHg.  What is the pressure of the gas (in mmHg) if the volume is reduced at constant temperature to 154 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781360"/>
            <a:ext cx="741672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26 mmHg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946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? ; 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154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Boyle’s Law: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= P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V</a:t>
            </a:r>
            <a:r>
              <a:rPr b="1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5280120"/>
                <a:ext cx="81360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rPr>
                            <m:lit/>
                            <m:nor/>
                          </m:rPr>
                          <m:t xml:space="preserve"> mmHg x 946 m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4 m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60</m:t>
                    </m:r>
                    <m:r>
                      <m:rPr>
                        <m:lit/>
                        <m:nor/>
                      </m:rPr>
                      <m:t xml:space="preserve"> mmH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95280" y="278136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EA6A-3DEB-40D9-8BF5-421B363163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278240"/>
            <a:ext cx="739152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emperature-Volume Relationship: Charles’s and Gay-Lussac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48428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’s and Gay-Lussac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volume of a fixed amount of gas (n is constant) at a constant pressure is directly proportional 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bsolute temperatur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4FD8-B061-4022-BFA6-FBCB8AB8FF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68360" y="549360"/>
                <a:ext cx="7488360" cy="58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n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Charles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68360" y="5661000"/>
            <a:ext cx="7488360" cy="71928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F124-B74B-48CA-8C57-4549F6D78C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4358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les’s Law in different for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00000" y="1341360"/>
                <a:ext cx="2359080" cy="41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140360" y="1557360"/>
                <a:ext cx="381636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0B16-A67D-40D0-B05E-C6FC4CE07F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53880" y="333360"/>
            <a:ext cx="8610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A sample of carbon monoxide gas occupies 3.20 L at 125 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.  At what temperature will the gas occupy a volume of 1.54 L if the pressure remains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781360"/>
            <a:ext cx="8569080" cy="33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.20 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25 + 273.15 = 398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1.54 L ;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arles’s Law: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= V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 T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19280" y="5877000"/>
                <a:ext cx="5040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 L x 3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 K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76B0-FA37-4BFE-90A1-A7F9456B42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009a7"/>
                </a:solidFill>
                <a:uFillTx/>
                <a:latin typeface="Comic Sans MS"/>
              </a:rPr>
              <a:t>Amount-Volume relationship: Avogadro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8399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gadro’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constant pressure and temperature, the volume is directly proportional to the number of moles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4005360"/>
            <a:ext cx="3745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320" y="4135320"/>
            <a:ext cx="9067680" cy="3038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932280"/>
            <a:ext cx="2843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0058-AB2F-4DFB-8BF9-D2219DB09F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8360" y="549360"/>
                <a:ext cx="7848720" cy="57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constant P &amp; T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∝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Avogadro's La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BD8E-49F9-4B62-8B12-E2BA9B38B5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4111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Gas Laws: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87280" y="1033560"/>
                <a:ext cx="6624720" cy="16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yle's Law: constant T &amp;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187280" y="2924280"/>
                <a:ext cx="6697800" cy="15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arles's Law: constant P &amp; 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87280" y="4911840"/>
                <a:ext cx="669780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ogadro's Law: Constant P &amp; 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1D7A-BD71-4A2C-9ECC-68D3A1266B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92104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pter 5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 Gases </a:t>
            </a:r>
            <a:br>
              <a:rPr sz="4400"/>
            </a:br>
            <a:r>
              <a:rPr b="1" lang="en-GB" sz="4400" spc="-1" strike="noStrike">
                <a:solidFill>
                  <a:srgbClr val="00007d"/>
                </a:solidFill>
                <a:latin typeface="Comic Sans MS"/>
              </a:rPr>
              <a:t>Chang Pages 174-201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H.W. p215-217</a:t>
            </a: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5.1, 5.2, 5.3, 5.8, 5.14, 5.22, 5.24, 5.32, 5.36, 5.38, 5.40, 5.44, 5.48, 5.50, 5.94, 5.52, 5.54, 5.64, 5.66, 5.68, &amp; 5.70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185E-7FBA-4D98-A5A8-8B97BB453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7476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14920" y="5934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l Ga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092240"/>
            <a:ext cx="7200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yle’s Law: (at constant T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les’s Law: (at constant P &amp;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ogadro's Law: (at constant P &amp; 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ing the three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229440" y="981000"/>
                <a:ext cx="863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732720" y="1779480"/>
                <a:ext cx="115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48360" y="2349360"/>
                <a:ext cx="100836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65800" y="2852640"/>
                <a:ext cx="11509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∝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363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763640" y="3789360"/>
                <a:ext cx="626436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constant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as 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35280" y="5661000"/>
                <a:ext cx="36734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58CC2-DAAD-44E7-AFB6-69C359C555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TP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tandard pressure and temperatur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temperature 0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73.15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pressure 1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ACT: One mole of any gas at the STP condition will occupy a volume equals 22.41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19FA-9DA6-42C0-B530-200E3CF4B1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8200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3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pressure (in atm) exerted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by 1.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moles of the sulphur hexaflouride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in a steel ve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volume 5.43 L at 69.5</a:t>
            </a:r>
            <a:r>
              <a:rPr b="0" lang="ar-SA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349360"/>
            <a:ext cx="8820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 = 1.82 mol; V = 5.43 L; T =69.5 + 273.15 = 342.65 K ; R = 0.0821 L.atm/mol.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 ?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349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403280" y="4581360"/>
                <a:ext cx="6264360" cy="21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 x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AFC9-B23B-4670-9E72-96B081630D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989000"/>
            <a:ext cx="882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1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V = nRT (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835280" y="4483080"/>
                <a:ext cx="4968720" cy="22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27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 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at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5D54-F6EE-4081-B012-D617D38453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351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4 p18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Calculate the volume (in liters) occupi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7.40g of N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Comic Sans MS"/>
              </a:rPr>
              <a:t>3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t STP condition</a:t>
            </a:r>
            <a:r>
              <a:rPr b="1" lang="en-GB" sz="2800" spc="-1" strike="noStrike">
                <a:solidFill>
                  <a:srgbClr val="c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989000"/>
            <a:ext cx="882000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m = 7.40g →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; P = 1 atm; T = 273.15 K; R = 0.0821 L.atm/mol.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ethod 2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mol of N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t STP occupy 22.4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84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65480"/>
            <a:ext cx="897588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124000" y="4005360"/>
                <a:ext cx="3600360" cy="27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 STP: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1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35 mol 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5 mol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E310-D032-4526-9AD6-D51AB56740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mbined Ga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 gas equation is useful if we have only one condition, i.e. only one P , one V, one T, and one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 knowing three of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u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ther cases: if we have two conditions, i.e.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(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and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&amp;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ified ideal gas equation (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combined gas law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CDD4-3CF1-402B-81D9-152D43825F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 is constant, at two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052720" y="479520"/>
                <a:ext cx="4390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050920" y="2852640"/>
                <a:ext cx="4608720" cy="28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348000" y="4292640"/>
            <a:ext cx="2519280" cy="136836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5E08-6C42-4AA7-B12A-127104C22A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79280" y="2852640"/>
                <a:ext cx="266400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3059280" y="907920"/>
            <a:ext cx="0" cy="540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90792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57336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6308640"/>
            <a:ext cx="24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47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Constant  n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96000" y="503280"/>
                <a:ext cx="2592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132000" y="3116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Constant  n &amp;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5805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mic Sans MS"/>
              </a:rPr>
              <a:t>Constant  P &amp;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29240" y="2975040"/>
                <a:ext cx="35575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64160" y="5621400"/>
                <a:ext cx="35258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6084720" y="134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Boyle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41450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Charles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7440" y="501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mic Sans MS"/>
              </a:rPr>
              <a:t>Avogadro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4EFC-0A95-4E8C-AF68-64D1C6491C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1177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5075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7 p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 small bubble rises from the bottom of a la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where the temperature and pressure are 8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6.4 atm. Calculate the final volume (in mL)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bubble if its initial volume was 2.1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892760"/>
                <a:ext cx="2665440" cy="18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95280" y="2781360"/>
            <a:ext cx="87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8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81K;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6.4 atm;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.1 m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1 atm;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25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 = 273K;  Assume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in mL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427640" y="4430880"/>
                <a:ext cx="4500360" cy="23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mLx 298 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281 K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 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539640" y="270828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FCC41-BC9F-47E0-B053-078370CA71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Density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Comic Sans MS"/>
              </a:rPr>
              <a:t>Density of the G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11280" y="2349360"/>
                <a:ext cx="3444840" cy="417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1680" y="1700280"/>
                <a:ext cx="2381400" cy="48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xMM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t xml:space="preserve">∵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48360" y="5661000"/>
            <a:ext cx="1944720" cy="86364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88E8-E754-4159-8EB7-3D4E28DF1A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Chapter 5 </a:t>
            </a:r>
            <a:r>
              <a:rPr b="1" lang="en-US" sz="4000" spc="-1" strike="noStrike" u="sng">
                <a:solidFill>
                  <a:srgbClr val="00007d"/>
                </a:solidFill>
                <a:uFillTx/>
                <a:latin typeface="Comic Sans MS"/>
              </a:rPr>
              <a:t>Gases: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Comic Sans MS"/>
              </a:rPr>
              <a:t>5.2 Pressure of a 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5.3 The Gas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mic Sans MS"/>
              </a:rPr>
              <a:t>5.4 The Ideal Gas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9a7"/>
                </a:solidFill>
                <a:latin typeface="Comic Sans MS"/>
              </a:rPr>
              <a:t>5.5 Gas Stoichiomet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0544-E17C-4AAF-AB9E-932BDC5754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97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8 p19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density of CO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in g/L at 0.99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55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227664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P = 0.990 atm; T = 5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28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d (in g/L)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2060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38360" y="4278240"/>
                <a:ext cx="78818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xM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 g/mo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28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 g/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F82A-CD55-4B56-98D0-C65A55B44C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Molar Mass of a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substances → Unknown Molecular formula → Unknown Molar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arrange the ideal gas equation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ar Mass of gas!</a:t>
            </a:r>
            <a:r>
              <a:rPr b="1" lang="ar-SA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→ </a:t>
            </a:r>
            <a:r>
              <a:rPr b="1" lang="en-GB" sz="3200" spc="-1" strike="noStrike">
                <a:solidFill>
                  <a:srgbClr val="ff3399"/>
                </a:solidFill>
                <a:latin typeface="Comic Sans MS"/>
              </a:rPr>
              <a:t>Molecular formu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4360" y="4222800"/>
                <a:ext cx="72007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xM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4643280" y="4221000"/>
            <a:ext cx="3241800" cy="165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F04D-2254-4024-A1C5-CD231E120E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9 p19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A chemist has synthesised a green-yellow gaseous compound of chlorine and oxygen and finds that its density is 7.71 g/L at 36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2.88 atm. Calculate the molar mass of the compound and determine its molecular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492280"/>
            <a:ext cx="82803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 = 7.71 g/L; T = 36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 309K; P = 2.88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49228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581360"/>
            <a:ext cx="4500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Comic Sans MS"/>
              </a:rPr>
              <a:t>الوزن المولاري = الوزن الجزيئي  ؟ الصيغه الجزيئي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F8CE-5EB5-48B3-ADA1-5205AFDE4B3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826920" y="1700280"/>
                <a:ext cx="78487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/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684360" y="62064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1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&amp; T &amp; 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227640" y="404640"/>
                <a:ext cx="241164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755640" y="3359160"/>
            <a:ext cx="7705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hod 2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 = 7.71 g/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7.71 g &amp; V = 1.00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 &amp; V &amp;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; n &amp;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258920" y="5084640"/>
                <a:ext cx="67690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L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09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5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 g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g/m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0F22-7141-4A3B-A673-FB910DD859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87280" y="476280"/>
            <a:ext cx="896472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etermination of the molecular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ar Mass (MM = 67.9 g/mol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lecular Formu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Trail and error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he molecule contain Chlorine &amp;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 (Cl) = 35.45 g/mol; MM (O) = 16.00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) = 51.45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2 Cl &amp; 1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) = 86.90 g/mol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X (too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we have 1 Cl &amp; 2 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M(Cl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7.45 g/mol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56A9-1D2F-47C8-86B2-D6FC68F73E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404640"/>
            <a:ext cx="8748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0 p19</a:t>
            </a:r>
            <a:r>
              <a:rPr b="1" lang="ar-SA" sz="2400" spc="-1" strike="noStrike" u="sng">
                <a:solidFill>
                  <a:srgbClr val="00007d"/>
                </a:solidFill>
                <a:uFillTx/>
                <a:latin typeface="Comic Sans MS"/>
              </a:rPr>
              <a:t>3</a:t>
            </a:r>
            <a:r>
              <a:rPr b="1" lang="en-GB" sz="2400" spc="-1" strike="noStrike" u="sng">
                <a:solidFill>
                  <a:srgbClr val="00007d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hemical analysis of a gaseous compound showed th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ontained 33.0 percent Si and 67.0 percent F by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At 35 </a:t>
            </a:r>
            <a:r>
              <a:rPr b="0" lang="en-GB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C, 0.210 L of the compound exerted a pressu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1.70 atm. If the mass of 0.210 L of the compound was 2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g, calculate the molar mass and determine the mol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Comic Sans MS"/>
              </a:rPr>
              <a:t>formula of the comp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3500280"/>
            <a:ext cx="8280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iven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3.0 % Si &amp; 67.0%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 = 3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+ 273 = 308 K; V = 0.210 L; P=1.70 atm; m = 2.38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ind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 &amp; molecular formu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3429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73D9-3DC7-48C0-B459-DBCA65320C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1620720"/>
          <a:ext cx="8785440" cy="3463920"/>
        </p:xfrm>
        <a:graphic>
          <a:graphicData uri="http://schemas.openxmlformats.org/drawingml/2006/table">
            <a:tbl>
              <a:tblPr/>
              <a:tblGrid>
                <a:gridCol w="3816360"/>
                <a:gridCol w="237672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497d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%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100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n=m/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3.0 /28.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 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7.0 / 1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on smallest no. of 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17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.53/ 1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The empirical formula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F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76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ir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E140-72ED-4083-897A-B8998BD20F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33280" y="981000"/>
                <a:ext cx="867564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0 L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21 at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/mo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 x 308 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41</m:t>
                    </m:r>
                    <m:r>
                      <m:rPr>
                        <m:lit/>
                        <m:nor/>
                      </m:rPr>
                      <m:t xml:space="preserve"> 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250920" y="2276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3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M?:        n= m/MM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 = m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0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deal gas equation → 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39640" y="2997360"/>
                <a:ext cx="7920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 g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41 mo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9 g/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10D8-C142-4E48-AA92-7B67516977D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765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M of the empirical formula 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5.09 g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916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atio =  MM/ MM of the empirical form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8360" y="2565360"/>
                <a:ext cx="820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the compoun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rPr>
                            <m:lit/>
                            <m:nor/>
                          </m:rPr>
                          <m:t xml:space="preserve"> of emperical formul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9 g/mo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g/ mol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468360" y="3860640"/>
            <a:ext cx="867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molecular formula is (Si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BA39B-F172-4D1C-B4AF-FDB202D984D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498680"/>
            <a:ext cx="871380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. No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of the compound (compound = Molecular Form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77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0EE4-5812-41AE-80E6-8B63CD96F1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1 Substances that Exist as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52000"/>
            <a:ext cx="8229600" cy="57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ments that exist as gases at 25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and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atm (blue box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ble gases are monoatomic, e.g. He, Ne, 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ther gases are diatomic, e.g.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5" descr="05_01"/>
          <p:cNvPicPr/>
          <p:nvPr/>
        </p:nvPicPr>
        <p:blipFill>
          <a:blip r:embed="rId1"/>
          <a:srcRect l="0" t="3772" r="0" b="0"/>
          <a:stretch/>
        </p:blipFill>
        <p:spPr>
          <a:xfrm>
            <a:off x="900000" y="2060640"/>
            <a:ext cx="7056720" cy="36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0EAC-CAD5-4116-B29A-37AE370812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79280" y="981000"/>
            <a:ext cx="896472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. G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(P, T, V, &amp; m) of the compound (compound =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%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g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n = m /MM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US" sz="2400" spc="-1" strike="noStrike">
                <a:solidFill>
                  <a:srgbClr val="9900cc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by the smallest n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egers (OR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into integers</a:t>
            </a:r>
            <a:r>
              <a:rPr b="0" lang="ar-SA" sz="2400" spc="-1" strike="noStrike">
                <a:solidFill>
                  <a:srgbClr val="9900cc"/>
                </a:solidFill>
                <a:latin typeface="Comic Sans MS"/>
              </a:rPr>
              <a:t>(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Calculate the MM of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(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, T, V)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n = PV/RT; n  &amp; m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MM = m/n of the molecular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R MM = mRT/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Ratio =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M  of the Molecular Formul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/</a:t>
            </a:r>
            <a:r>
              <a:rPr b="0" lang="en-GB" sz="2400" spc="-1" strike="noStrike">
                <a:solidFill>
                  <a:srgbClr val="ff3399"/>
                </a:solidFill>
                <a:latin typeface="Comic Sans MS"/>
              </a:rPr>
              <a:t>MM of the empirical Formu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olecular Formula = (Empirical Formula)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by ma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mpirical Formu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lecula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3ECA-3830-4B04-A435-72674BA079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5 Gas Stoichi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oichiometry: is the quantitative study of reactants and products in a chemical re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دراسه كميه (عدد مولات, كتله, او حجم) للمتفاعلات والنواتج</a:t>
            </a:r>
            <a:r>
              <a:rPr b="0" lang="ar-SA" sz="32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pter 3, relationship between n &amp; m of reactants and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chapter 5 (GASES), relationship between n &amp; V of reactants and produ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417F-6F85-4069-A252-E175ED441FC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1 p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volume of O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(in L) requir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complete combustion of 7.64 L of C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measured at the same temperatu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719280" y="3068640"/>
                <a:ext cx="7524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68360" y="4149720"/>
            <a:ext cx="792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4942-1FD0-471A-8704-458E52BA2D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2077920"/>
            <a:ext cx="82072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stant T &amp; P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s is n &amp; V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ogadro's law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α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know: 2 mole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 mol of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us: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2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5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              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7.64 L of C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H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 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? L of O</a:t>
            </a:r>
            <a:r>
              <a:rPr b="0" lang="en-GB" sz="28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826920" y="5624640"/>
                <a:ext cx="69850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 of 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Lx 5 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539640" y="507960"/>
            <a:ext cx="83883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ملاحظه هامه: اذا متى نستطيع ان نساوي المولات باللترا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اذا كانت المواد في السؤال غازيه  و عند نفس درجة الحراره والضغط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حتى يتحقق قانون افوجادرو وهوان الحجم يتناسب طرديا مع عدد المولات</a:t>
            </a:r>
            <a:r>
              <a:rPr b="1" lang="ar-SA" sz="2400" spc="-1" strike="noStrike">
                <a:solidFill>
                  <a:srgbClr val="9900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411280" y="2075040"/>
                <a:ext cx="5346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4269-148C-4CE0-938D-17DD27E715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57200" y="476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2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 p19</a:t>
            </a:r>
            <a:r>
              <a:rPr b="1" lang="ar-SA" sz="2800" spc="-1" strike="noStrike" u="sng">
                <a:solidFill>
                  <a:srgbClr val="00007d"/>
                </a:solidFill>
                <a:uFillTx/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alculate the volume of 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 generated at 80 </a:t>
            </a:r>
            <a:r>
              <a:rPr b="0" lang="en-GB" sz="28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nd 823 mmHg by the decomposition of 60.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of NaN</a:t>
            </a:r>
            <a:r>
              <a:rPr b="0" lang="en-GB" sz="2800" spc="-1" strike="noStrike" baseline="-25000">
                <a:solidFill>
                  <a:srgbClr val="00007d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547640" y="2509920"/>
                <a:ext cx="626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  <m:r>
                      <m:t xml:space="preserve">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(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68360" y="3429000"/>
            <a:ext cx="820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4686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n: T = 80 + 273 = 353 K; P = 832 mmHg; m (Na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60.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: V (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Step 1: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gram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oles of Na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n = m/MM) → moles of N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(using mol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Comic Sans MS"/>
              </a:rPr>
              <a:t>Step 2: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 [n + T + P] (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)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V N</a:t>
            </a:r>
            <a:r>
              <a:rPr b="0" lang="en-GB" sz="24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(using the ideal gas eq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B13A8-5611-4E3A-A718-2F2630321C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68360" y="433440"/>
                <a:ext cx="8136000" cy="638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 g/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r>
                          <m:rPr>
                            <m:lit/>
                            <m:nor/>
                          </m:rPr>
                          <m:t xml:space="preserve">  mol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le ratio: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2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aN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?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ol of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∴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 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/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 x 353 K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/76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 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804000" y="5877000"/>
                <a:ext cx="2266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760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? at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832 mmHg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 x 1 at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mH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8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9790-B6FC-4033-AFAB-3B43D8A46F7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4920" y="4140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6 Dalton’s Law of Partial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e gas ONE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xture of ga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than one gas each gas has a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Partial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Dalton’s law of partial pressures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total pressure of a mixture of gases is just the sum of the pressures that each gas would exert it were present al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5010120"/>
            <a:ext cx="7775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 + P</a:t>
            </a:r>
            <a:r>
              <a:rPr b="0" lang="en-US" sz="40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44640" y="5253120"/>
            <a:ext cx="51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Partial Pressure of gas 1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0160" y="578952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5B1F-1AB7-40CA-B1DD-5360DF390EB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cha56011_0514"/>
          <p:cNvPicPr/>
          <p:nvPr/>
        </p:nvPicPr>
        <p:blipFill>
          <a:blip r:embed="rId1"/>
          <a:srcRect l="0" t="6173" r="0" b="6173"/>
          <a:stretch/>
        </p:blipFill>
        <p:spPr>
          <a:xfrm>
            <a:off x="936720" y="1201680"/>
            <a:ext cx="7596000" cy="3595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260360" y="4797360"/>
            <a:ext cx="77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5626-E23B-4266-93D5-7451AF41E8A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24000" y="3618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we have two gase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container of volume V and at temperatur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cha56011_0514"/>
          <p:cNvPicPr/>
          <p:nvPr/>
        </p:nvPicPr>
        <p:blipFill>
          <a:blip r:embed="rId1"/>
          <a:srcRect l="78340" t="6173" r="0" b="6173"/>
          <a:stretch/>
        </p:blipFill>
        <p:spPr>
          <a:xfrm>
            <a:off x="6281640" y="1484280"/>
            <a:ext cx="2394000" cy="5229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835280" y="1557360"/>
                <a:ext cx="329544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71E6-4F8C-45C8-9BF0-574C02894A6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68360" y="469800"/>
                <a:ext cx="6912000" cy="533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7885080" y="763560"/>
            <a:ext cx="1224000" cy="936720"/>
          </a:xfrm>
          <a:prstGeom prst="wedgeRectCallout">
            <a:avLst>
              <a:gd name="adj1" fmla="val -107458"/>
              <a:gd name="adj2" fmla="val -269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67640" y="2060640"/>
            <a:ext cx="1368360" cy="936720"/>
          </a:xfrm>
          <a:prstGeom prst="wedgeRectCallout">
            <a:avLst>
              <a:gd name="adj1" fmla="val -82944"/>
              <a:gd name="adj2" fmla="val -2508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le fraction of ga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5826240"/>
            <a:ext cx="88200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ole fraction (X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omic Sans MS"/>
              </a:rPr>
              <a:t>الكسر المولارى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a dimensionless quantity that expresses the ratio of the number of moles of one component to the number of moles of all components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88000" y="620640"/>
            <a:ext cx="2592360" cy="1224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88000" y="1989000"/>
            <a:ext cx="2592360" cy="1152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437000"/>
            <a:ext cx="2016000" cy="72072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5229360"/>
            <a:ext cx="2016000" cy="576000"/>
          </a:xfrm>
          <a:prstGeom prst="rect">
            <a:avLst/>
          </a:prstGeom>
          <a:noFill/>
          <a:ln w="284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54F9-C322-4288-AFA3-5A7CA0DA2E9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9" descr="05_01"/>
          <p:cNvPicPr/>
          <p:nvPr/>
        </p:nvPicPr>
        <p:blipFill>
          <a:blip r:embed="rId1"/>
          <a:srcRect l="0" t="2816" r="0" b="0"/>
          <a:stretch/>
        </p:blipFill>
        <p:spPr>
          <a:xfrm>
            <a:off x="457200" y="6094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F6D9-B3EB-4855-912B-481EC70A3C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79280" y="669960"/>
                <a:ext cx="442296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788000" y="1519200"/>
                <a:ext cx="4248000" cy="29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0393-7B5D-4E14-9DE9-17165D31F1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5.14 p1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A mixture of gasses contains 4.46 moles of 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0.74 mole of Ar, and 2.15 moles of Xe.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the partial pressures of the gases if the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Comic Sans MS"/>
              </a:rPr>
              <a:t>pressure is 2.00 atm at a certain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2997360"/>
            <a:ext cx="85690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4.46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0.74 mol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15 mol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N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e           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= P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t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X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ar-SA" sz="3600" spc="-1" strike="noStrike" baseline="-25000">
                <a:solidFill>
                  <a:srgbClr val="9900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348A-00D6-4905-9B5D-B1E8CCF8A1B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09520" y="620640"/>
                <a:ext cx="87264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50920" y="2349360"/>
                <a:ext cx="864216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37960" y="4149720"/>
                <a:ext cx="869796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mol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atm x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6 at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DE36-2E4A-4E3F-BDA9-54D353A5B4A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lton’s law of partial pressures can be used to calculate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ssure of a gas collected ove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collecting the gas in a graduated cylinder, we can measure the amount of gas p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thod is applicable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s that does not react with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s that 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soluble in water, e.g.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not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soluble i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228E-CAC4-4E59-8E3D-09F751C2852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2798640" y="5877000"/>
            <a:ext cx="3971880" cy="440640"/>
            <a:chOff x="2798640" y="5877000"/>
            <a:chExt cx="3971880" cy="440640"/>
          </a:xfrm>
        </p:grpSpPr>
        <p:sp>
          <p:nvSpPr>
            <p:cNvPr id="327" name=""/>
            <p:cNvSpPr/>
            <p:nvPr/>
          </p:nvSpPr>
          <p:spPr>
            <a:xfrm>
              <a:off x="2798640" y="5877000"/>
              <a:ext cx="397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KCl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          2KCl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 + 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81320" y="60739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733200" y="6334200"/>
            <a:ext cx="2016720" cy="552600"/>
            <a:chOff x="3733200" y="6334200"/>
            <a:chExt cx="2016720" cy="552600"/>
          </a:xfrm>
        </p:grpSpPr>
        <p:sp>
          <p:nvSpPr>
            <p:cNvPr id="330" name=""/>
            <p:cNvSpPr/>
            <p:nvPr/>
          </p:nvSpPr>
          <p:spPr>
            <a:xfrm>
              <a:off x="3733200" y="6334200"/>
              <a:ext cx="2016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O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H  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716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24480" y="6610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928200" cy="4854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39920" y="40464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llecting a Gas over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6931C-09FB-424D-ADF2-4477BF65433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141120" y="1052640"/>
            <a:ext cx="846324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as collected is referred to as “wet”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رط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 since it also contains water vap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lying Dalton’s la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2195640" y="3429000"/>
            <a:ext cx="360036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3600" spc="-1" strike="noStrike" baseline="-25000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 P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48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+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H</a:t>
            </a:r>
            <a:r>
              <a:rPr b="0" lang="en-US" sz="3600" spc="-1" strike="noStrike" baseline="-48000">
                <a:solidFill>
                  <a:srgbClr val="c00000"/>
                </a:solidFill>
                <a:latin typeface="Comic Sans MS"/>
                <a:ea typeface="Times New Roman"/>
              </a:rPr>
              <a:t>2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Comic Sans MS"/>
                <a:ea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411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Collecting a Gas ov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709F-86B5-4007-80FD-ABB8A6FC45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2111400" cy="65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B217-0069-4022-B293-FAFE9B2D3D8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95280" y="3213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3284640"/>
            <a:ext cx="8569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V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= 128 mL = 0.128 L; T = 24 + 273 = 297 K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762 mmHg;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H2O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22.4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m (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68360" y="4762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7d"/>
                </a:solidFill>
                <a:uFillTx/>
                <a:latin typeface="Comic Sans MS"/>
              </a:rPr>
              <a:t>Example 5.15 p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Oxygen gas generated by the decomposition of potassium chlorate is collected. The volume of oxygen collected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and atmospheric pressure of 762 mmHg is 128 ml. Calculate the mass (in g) of oxygen gas obtained. The pressure of the water vapour at 24 </a:t>
            </a:r>
            <a:r>
              <a:rPr b="0" lang="en-US" sz="2400" spc="-1" strike="noStrike" baseline="30000">
                <a:solidFill>
                  <a:srgbClr val="00007d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7d"/>
                </a:solidFill>
                <a:latin typeface="Comic Sans MS"/>
              </a:rPr>
              <a:t>C is 22.4 mmH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4720" y="5516640"/>
            <a:ext cx="4390920" cy="1008000"/>
          </a:xfrm>
          <a:prstGeom prst="wedgeRectCallout">
            <a:avLst>
              <a:gd name="adj1" fmla="val -39407"/>
              <a:gd name="adj2" fmla="val -111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Gas collect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AF6B-34B9-4851-B384-9A49ED8DB44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68360" y="549360"/>
                <a:ext cx="6767640" cy="61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2</m:t>
                        </m:r>
                        <m:r>
                          <m:rPr>
                            <m:lit/>
                            <m:nor/>
                          </m:rPr>
                          <m:t xml:space="preserve"> mmHg-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mH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40 mmH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tm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deal Gas Equation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tm x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8 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1 at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x 297 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xM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ol x 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 g/mol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4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3F8B-FA3F-4531-9F42-C53E9CF8D74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920" y="1913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8321-AF88-4CD6-BABD-E0D12507516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2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ssume the volume and shape of their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are the most compressible state of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will mix evenly and completely when confined to the sam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ases have much lower densities than liquids and sol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hysical Characteristics of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82AD-DCDE-4ED9-A499-D00BE07CA3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2 Pressure of the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5545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is in constant motio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s exert a pressure on the wall of the conta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a50021"/>
                </a:solidFill>
                <a:latin typeface="Comic Sans MS"/>
              </a:rPr>
              <a:t>Pascal (Pa) is the 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SI unit of pressu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ther units for pressure are: atmosphere (atm), millimetre of mercury (mmHg), Torr (torr)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360" y="1535040"/>
            <a:ext cx="3311640" cy="29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BBB1-2D75-4920-93C1-9BD4F02A7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5.3 The Gas Laws: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gas has a </a:t>
            </a: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pressure 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Volume V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emperature 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amount (number of moles)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tudy the relationship betwe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wo facto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remaining two factors must kept constant (unchang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6633"/>
                </a:solidFill>
                <a:latin typeface="Comic Sans MS"/>
              </a:rPr>
              <a:t>Pressure- Volume Relationship: Boyl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emperature-Volume Relationship: Charles’s and Gay-Lussac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009a7"/>
                </a:solidFill>
                <a:latin typeface="Comic Sans MS"/>
              </a:rPr>
              <a:t>Amount-Volume relationship: Avogadro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ombined Ga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Density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99ff"/>
                </a:solidFill>
                <a:latin typeface="Comic Sans MS"/>
              </a:rPr>
              <a:t>Molar Mass of the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3F16-0699-4236-A95A-01BD1ACC5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ressure- Volume Relationship: Boyle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3532320"/>
            <a:ext cx="8915400" cy="3713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95280" y="155736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oyles Law states th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essure of a fixed amount of gas (n is constant) at a constant temperature is inversely proportional to the volume of th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357720"/>
            <a:ext cx="49323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7DA5-E81F-431A-9A4F-4E00D9BA90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1-10-16T15:28:29Z</dcterms:modified>
  <cp:revision>662</cp:revision>
  <dc:subject/>
  <dc:title>General Chemistry CHEM 110</dc:title>
</cp:coreProperties>
</file>