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gif" ContentType="image/gif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7051675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863AD-2DBE-46B3-A5FF-D41F2B516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D4292-DADA-43D7-8433-0098476CA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066AC-9666-457D-836F-E13C61BD6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F4F19-5E5D-4FF7-BAEA-A3F1E1D2A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3027D-F5B1-4022-922F-C5A2999B5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DC20E-F0B4-4F1F-9CBA-BBD69B789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DFFA6-8612-4884-9963-514B79A1B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1EF9B-43B0-4876-B7FF-DE6911F55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D2C24-3C44-45F7-9462-BCC24CF96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B4634-3906-4868-B1BD-964FA00F6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A1054-2865-4216-8930-617F2B42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E5FD9-7A49-4CE4-8061-E4C412728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D8EF7-3689-4C77-86C4-2FF90698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E5F82-DF87-4818-A4F0-CB24A238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4D416-0929-4D1E-97E5-B2368E3DA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24B39-376A-4F35-8B49-FA1197715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494C6-8C31-401B-8281-8EDBAAF41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1B922-04CF-4954-AFDA-ABD1A0C18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6800E-6401-4C07-AEAB-3B3521A2F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F4638-11AF-4B8E-B495-8B363792E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3072C-196F-4782-A920-036592421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96324-EEE6-4932-9CDE-9EF77FCF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B77E0-A8E3-4A63-8E4D-C957851A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64D18-81AE-411A-8EE0-D5455A15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07976-DDE6-4CF2-A9C5-58210F55BD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27247-4D65-4F16-B5BC-2B26E62B1D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48416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7d"/>
                </a:solidFill>
                <a:latin typeface="Comic Sans MS"/>
              </a:rPr>
              <a:t>Chapter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7d"/>
                </a:solidFill>
                <a:latin typeface="Comic Sans MS"/>
              </a:rPr>
              <a:t>Gas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0BAE7-8BA3-4651-9CC9-1829966E65E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39640" y="549360"/>
                <a:ext cx="8137800" cy="465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constant T &amp; n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∝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∝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∴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Boyle's La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971640" y="4365720"/>
            <a:ext cx="7704000" cy="863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B37E4-5321-449F-B51E-FD0D74A6697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549360"/>
            <a:ext cx="843588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oyle’s Law in different form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611280" y="1268280"/>
                <a:ext cx="3529080" cy="346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500720" y="1268280"/>
                <a:ext cx="2735280" cy="453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798DF-5ADD-4775-AD31-D44D0959E1C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45960" y="333360"/>
            <a:ext cx="87631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 sample of chlorine gas occupies a volume of 946 mL at a pressure of 726 mmHg.  What is the pressure of the gas (in mmHg) if the volume is reduced at constant temperature to 154 m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2781360"/>
            <a:ext cx="7416720" cy="26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726 mmHg; 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946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? ; 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154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Boyle’s Law: P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V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= P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V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95280" y="5280120"/>
                <a:ext cx="813600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26</m:t>
                        </m:r>
                        <m:r>
                          <m:rPr>
                            <m:lit/>
                            <m:nor/>
                          </m:rPr>
                          <m:t xml:space="preserve"> mmHg x 946 m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4 m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460</m:t>
                    </m:r>
                    <m:r>
                      <m:rPr>
                        <m:lit/>
                        <m:nor/>
                      </m:rPr>
                      <m:t xml:space="preserve"> mmH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395280" y="2781360"/>
            <a:ext cx="792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F68B9-C962-4EE6-BDE1-1D76A331171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3357720"/>
            <a:ext cx="4932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042920" y="4278240"/>
            <a:ext cx="7391520" cy="28958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emperature-Volume Relationship: Charles’s and Gay-Lussac’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1484280"/>
            <a:ext cx="8353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harles’s and Gay-Lussac’s Law states tha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volume of a fixed amount of gas (n is constant) at a constant pressure is directly proportional to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absolute temperatur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the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4005360"/>
            <a:ext cx="37450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F40DB-CD10-4C95-835F-399224DD3FF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68360" y="549360"/>
                <a:ext cx="7488360" cy="581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constant P &amp; n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Charles's La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468360" y="5661000"/>
            <a:ext cx="7488360" cy="7192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CEDD3-8435-4FB8-A1A4-6C6790E7FC6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84358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arles’s Law in different form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900000" y="1341360"/>
                <a:ext cx="2359080" cy="412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140360" y="1557360"/>
                <a:ext cx="3816360" cy="37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427E5-4703-4AEA-96B8-55C1D8AFCED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53880" y="333360"/>
            <a:ext cx="861084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 sample of carbon monoxide gas occupies 3.20 L at 125 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.  At what temperature will the gas occupy a volume of 1.54 L if the pressure remains const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2781360"/>
            <a:ext cx="856908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3.20 L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25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 ;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25 + 273.15 = 398.15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.54 L ;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Charles’s Law: V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 T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 = V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 T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619280" y="5877000"/>
                <a:ext cx="50403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rPr>
                            <m:lit/>
                            <m:nor/>
                          </m:rPr>
                          <m:t xml:space="preserve"> L x 3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 K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2</m:t>
                    </m:r>
                    <m:r>
                      <m:rPr>
                        <m:lit/>
                        <m:nor/>
                      </m:rPr>
                      <m:t xml:space="preserve"> 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4BEC9-09E7-46B3-B270-ACC4EBC8743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2009a7"/>
                </a:solidFill>
                <a:uFillTx/>
                <a:latin typeface="Comic Sans MS"/>
              </a:rPr>
              <a:t>Amount-Volume relationship: Avogadro’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183996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vogadro’s Law states tha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t constant pressure and temperature, the volume is directly proportional to the number of moles of the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357720"/>
            <a:ext cx="4932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26920" y="4005360"/>
            <a:ext cx="37450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6320" y="4135320"/>
            <a:ext cx="9067680" cy="30387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0" y="3932280"/>
            <a:ext cx="284328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8BABB-E060-4FFA-BF4E-36BF7EB0446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68360" y="549360"/>
                <a:ext cx="7848720" cy="575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constant P &amp; T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Avogadro's La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FB5F2-FB57-4178-ACC2-41E6410BCE2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68360" y="41112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Gas Laws: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187280" y="1033560"/>
                <a:ext cx="6624720" cy="16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oyle's Law: constant T &amp;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187280" y="2924280"/>
                <a:ext cx="6697800" cy="15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arles's Law: constant P &amp; 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187280" y="4911840"/>
                <a:ext cx="6697800" cy="13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vogadro's Law: Constant P &amp; 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61F21-2659-4CE0-9BF7-45D08F75AF8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92104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pter 5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Gases 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ng Pages 174-201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215-217</a:t>
            </a: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5.1, 5.2, 5.3, 5.8, 5.14, 5.22, 5.24, 5.32, 5.36, 5.38, 5.40, 5.44, 5.48, 5.50, 5.94, 5.52, 5.54, 5.64, 5.66, 5.68, &amp; 5.70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E185A-E09D-4D54-847F-E623DC3C899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7476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4 The Ideal Gas Eq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14920" y="5934240"/>
            <a:ext cx="36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al Gas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0920" y="1092240"/>
            <a:ext cx="720072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oyle’s Law: (at constant T &amp;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rles’s Law: (at constant P &amp;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vogadro's Law: (at constant P &amp; 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bining the three la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u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6229440" y="981000"/>
                <a:ext cx="86364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732720" y="1779480"/>
                <a:ext cx="115236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6948360" y="2349360"/>
                <a:ext cx="1008360" cy="4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5365800" y="2852640"/>
                <a:ext cx="115092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363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763640" y="3789360"/>
                <a:ext cx="6264360" cy="17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ant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constant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as Constan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835280" y="5661000"/>
                <a:ext cx="367344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R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069A3-0A27-4E77-8974-8767C25F14B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675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TP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Standard pressure and temperature cond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ndard temperature 0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73.15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ndard pressure 1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ACT: One mole of any gas at the STP condition will occupy a volume equals 22.41 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D677D-BBC8-4154-B2F0-FCECFC70367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82000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3 p1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pressure (in atm) exerted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by 1.8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moles of the sulphur hexaflouride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in a steel ves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of volume 5.43 L at 69.5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2349360"/>
            <a:ext cx="88200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n = 1.82 mol; V = 5.43 L; T =69.5 + 273.15 = 342.65 K ; R = 0.0821 L.atm/mol.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P ?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V = nRT (ideal gas equ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4000" y="234936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165480"/>
            <a:ext cx="897588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403280" y="4581360"/>
                <a:ext cx="6264360" cy="218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m/K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 x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4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B90EB-C215-4F8A-95A4-5F9799FF5FC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351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4 p1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Calculate the volume (in liters) occupi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7.40g of NH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Comic Sans MS"/>
              </a:rPr>
              <a:t>3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at STP condition</a:t>
            </a:r>
            <a:r>
              <a:rPr b="1" lang="en-GB" sz="2800" spc="-1" strike="noStrike">
                <a:solidFill>
                  <a:srgbClr val="c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1989000"/>
            <a:ext cx="8820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m = 7.40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; P = 1 atm; T = 273.15 K; R = 0.0821 L.atm/mol.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Method 1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V = nRT (ideal gas equ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184464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165480"/>
            <a:ext cx="897588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835280" y="4483080"/>
                <a:ext cx="4968720" cy="22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5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  <m:e>
                        <m:r>
                          <m:t xml:space="preserve">∴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m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27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 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at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02DC9-D0D5-4D07-80B5-81C46818335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351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4 p1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Calculate the volume (in liters) occupi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7.40g of NH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Comic Sans MS"/>
              </a:rPr>
              <a:t>3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at STP condition</a:t>
            </a:r>
            <a:r>
              <a:rPr b="1" lang="en-GB" sz="2800" spc="-1" strike="noStrike">
                <a:solidFill>
                  <a:srgbClr val="c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4000" y="1989000"/>
            <a:ext cx="8820000" cy="19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m = 7.40g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; P = 1 atm; T = 273.15 K; R = 0.0821 L.atm/mol.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Method 2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ACT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 mol of N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at STP occupy 22.4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4000" y="184464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165480"/>
            <a:ext cx="897588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124000" y="4005360"/>
                <a:ext cx="3600360" cy="27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5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t STP: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1 mol 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35 mol 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5 mol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59B63-D32A-4530-AE11-7DAEDE1CD39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ombined Ga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eal gas equation is useful if we have only one condition, i.e. only one P , one V, one T, and one 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 knowing three of the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ou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other cases: if we have two conditions, i.e. (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, (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, (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, and (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ified ideal gas equation (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combined gas law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3C70D-F3AB-4A9E-A862-242F12E5C25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1638360"/>
            <a:ext cx="822960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 is constant, at two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2052720" y="479520"/>
                <a:ext cx="439092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RT</m:t>
                    </m:r>
                    <m:r>
                      <m:t xml:space="preserve">⇒</m:t>
                    </m:r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050920" y="2852640"/>
                <a:ext cx="4608720" cy="283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us: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3348000" y="4292640"/>
            <a:ext cx="2519280" cy="13683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13849-6766-4E03-B3A1-B56AAB1D613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79280" y="2852640"/>
                <a:ext cx="2664000" cy="15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3059280" y="907920"/>
            <a:ext cx="0" cy="540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059280" y="907920"/>
            <a:ext cx="259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059280" y="3573360"/>
            <a:ext cx="2449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59280" y="6308640"/>
            <a:ext cx="2449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32000" y="476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Constant  n &amp;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5796000" y="503280"/>
                <a:ext cx="2592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3132000" y="31161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Constant  n &amp;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5805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</a:rPr>
              <a:t>Constant  P &amp;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5529240" y="2975040"/>
                <a:ext cx="355752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5564160" y="5621400"/>
                <a:ext cx="352584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6084720" y="13413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Boyle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867280" y="414504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Charles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797440" y="5013360"/>
            <a:ext cx="31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Avogadro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D9EDC-10F7-4D39-BD4D-0B6642C39E2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093080" y="0"/>
            <a:ext cx="2050920" cy="117792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50752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7 p1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A small bubble rises from the bottom of a lak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where the temperature and pressure are 8 </a:t>
            </a:r>
            <a:r>
              <a:rPr b="0" lang="en-GB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6.4 atm. Calculate the final volume (in mL) of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bubble if its initial volume was 2.1 m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619280" y="4892760"/>
                <a:ext cx="2665440" cy="18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395280" y="2781360"/>
            <a:ext cx="87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8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 = 281K; 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6.4 atm; 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2.1 mL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1 atm; 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25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 = 273K;  Assume 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in mL)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4427640" y="4430880"/>
                <a:ext cx="4500360" cy="23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 mLx 298 K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281 K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 m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539640" y="2708280"/>
            <a:ext cx="792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0A734-DC41-4A65-BDBA-E7E782CD812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Density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6868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arrange the ideal gas equa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Comic Sans MS"/>
              </a:rPr>
              <a:t>Density of the Ga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611280" y="2349360"/>
                <a:ext cx="3444840" cy="417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e>
                      <m:e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711680" y="1700280"/>
                <a:ext cx="2381400" cy="482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∵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VxM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xM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t xml:space="preserve">∵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xM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5148360" y="5661000"/>
            <a:ext cx="1944720" cy="863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5773D-27DC-41BB-BC1D-E3DC923665D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Chapter 5 </a:t>
            </a: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Gases: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Comic Sans MS"/>
              </a:rPr>
              <a:t>5.1 Substances That Exist as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Comic Sans MS"/>
              </a:rPr>
              <a:t>5.2 Pressure of a G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Comic Sans MS"/>
              </a:rPr>
              <a:t>5.3 The Gas L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Comic Sans MS"/>
              </a:rPr>
              <a:t>5.4 The Ideal Gas Eq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009a7"/>
                </a:solidFill>
                <a:latin typeface="Comic Sans MS"/>
              </a:rPr>
              <a:t>5.5 Gas Stoichiomet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5.6 Dalton’s Law of Partial Press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7CEB4-AAC8-4523-9202-16BE1231CC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94920" y="475920"/>
            <a:ext cx="8497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8 p19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density of CO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in g/L at 0.990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and 55 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68360" y="2276640"/>
            <a:ext cx="8280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P = 0.990 atm; T = 55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+ 273 = 328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d (in g/L)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11280" y="2060640"/>
            <a:ext cx="763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738360" y="4278240"/>
                <a:ext cx="7881840" cy="23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xM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4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 g/mol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28 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rPr>
                            <m:lit/>
                            <m:nor/>
                          </m:rPr>
                          <m:t xml:space="preserve"> g/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1957D-129B-40F2-9886-A31BF249377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Molar Mass of a 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50752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ew substances → Unknown Molecular formula → Unknown Molar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earrange the ideal gas equation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Molar Mass of gas!</a:t>
            </a:r>
            <a:r>
              <a:rPr b="1" lang="ar-SA" sz="32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ff3399"/>
                </a:solidFill>
                <a:latin typeface="Arial"/>
              </a:rPr>
              <a:t>→ </a:t>
            </a: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Molecular formul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684360" y="4222800"/>
                <a:ext cx="7200720" cy="16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xM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4643280" y="4221000"/>
            <a:ext cx="3241800" cy="1656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071EE-57E0-47B4-BFAA-A18B49498E3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95280" y="404640"/>
            <a:ext cx="87487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9 p19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A chemist has synthesised a green-yellow gaseous compound of chlorine and oxygen and finds that its density is 7.71 g/L at 36 </a:t>
            </a:r>
            <a:r>
              <a:rPr b="0" lang="en-US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 and 2.88 atm. Calculate the molar mass of the compound and determine its molecular form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95280" y="2492280"/>
            <a:ext cx="828036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iven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 = 7.71 g/L; T = 36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+ 273 =  309K; P = 2.88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in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M? &amp; molecular formu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4000" y="249228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50920" y="4581360"/>
            <a:ext cx="45007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3399"/>
                </a:solidFill>
                <a:latin typeface="Comic Sans MS"/>
              </a:rPr>
              <a:t>الوزن المولاري = الوزن الجزيئي  ؟ الصيغه الجزيئيه 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DBDC2-2E81-48DA-A429-D312BC7667D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826920" y="1700280"/>
                <a:ext cx="7848720" cy="16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09 K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g/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684360" y="62064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ethod 1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 &amp; T &amp; P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6227640" y="404640"/>
                <a:ext cx="2411640" cy="12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755640" y="3359160"/>
            <a:ext cx="77058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ethod 2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 = 7.71 g/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 = 7.71 g &amp; V = 1.00 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 &amp; V &amp; 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; n &amp; 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1258920" y="5084640"/>
                <a:ext cx="6769080" cy="16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 L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09 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35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 g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g/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AC68E-7C4B-4940-8960-4569096E0E8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87280" y="476280"/>
            <a:ext cx="8964720" cy="48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Determination of the molecular 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lar Mass (MM = 67.9 g/mol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lecular Formul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Trail and error meth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the molecule contain Chlorine &amp;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 (Cl) = 35.45 g/mol; MM (O) = 16.00 g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we have 1 Cl &amp; 1 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(ClO) = 51.45 g/mol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X (too la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we have 2 Cl &amp; 1 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(Cl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) = 86.90 g/mol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X (too hig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we have 1 Cl &amp; 2 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(Cl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 = 67.45 g/mol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Cor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169B0-4453-4DB5-BABE-6F023BEE009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95280" y="404640"/>
            <a:ext cx="87487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10 p19</a:t>
            </a:r>
            <a:r>
              <a:rPr b="1" lang="ar-SA" sz="2400" spc="-1" strike="noStrike" u="sng">
                <a:solidFill>
                  <a:srgbClr val="00007d"/>
                </a:solidFill>
                <a:uFillTx/>
                <a:latin typeface="Comic Sans MS"/>
              </a:rPr>
              <a:t>3</a:t>
            </a: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hemical analysis of a gaseous compound showed that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ontained 33.0 percent Si and 67.0 percent F by m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At 35 </a:t>
            </a:r>
            <a:r>
              <a:rPr b="0" lang="en-GB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, 0.210 L of the compound exerted a pressur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1.70 atm. If the mass of 0.210 L of the compound was 2.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g, calculate the molar mass and determine the mole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formula of the comp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5280" y="3500280"/>
            <a:ext cx="82803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iven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3.0 % Si &amp; 67.0%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 = 3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+ 273 = 308 K; V = 0.210 L; P=1.70 atm; m = 2.38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in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M? &amp; molecular formu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50920" y="342900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C9473-DD5A-44B9-AC4F-05766696691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179280" y="1620720"/>
          <a:ext cx="8785440" cy="3463920"/>
        </p:xfrm>
        <a:graphic>
          <a:graphicData uri="http://schemas.openxmlformats.org/drawingml/2006/table">
            <a:tbl>
              <a:tblPr/>
              <a:tblGrid>
                <a:gridCol w="3816360"/>
                <a:gridCol w="2376720"/>
                <a:gridCol w="2592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% 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100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3.0 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7.0 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n=m/M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3.0 /28.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17 m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7.0 / 19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53m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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on smallest no. of mo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17/ 1.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53/ 1.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The empirical formula 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i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F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iF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5280" y="76500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1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mpirical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6CAD9-E998-4E22-8AC4-C37E4D82011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233280" y="981000"/>
                <a:ext cx="867564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  <m:r>
                          <m:rPr>
                            <m:lit/>
                            <m:nor/>
                          </m:rPr>
                          <m:t xml:space="preserve"> atm x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0 L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21 at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L/mol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K x 308 K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41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250920" y="227664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3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M?:        n= m/MM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M = m/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5280" y="40464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2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deal gas equation → 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539640" y="2997360"/>
                <a:ext cx="792000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</m:den>
                    </m:f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 g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41 mo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9 g/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00AA3-C319-4734-AC91-4A4DE9D0B2F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24000" y="765000"/>
            <a:ext cx="8424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4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MM of the empirical formula Si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85.09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4000" y="191628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5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Ratio =  MM/ MM of the empirical formu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468360" y="2565360"/>
                <a:ext cx="820728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ti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rPr>
                            <m:lit/>
                            <m:nor/>
                          </m:rPr>
                          <m:t xml:space="preserve"> of the compoun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rPr>
                            <m:lit/>
                            <m:nor/>
                          </m:rPr>
                          <m:t xml:space="preserve"> of emperical formul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9 g/mo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 g/ mol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468360" y="3860640"/>
            <a:ext cx="867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6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molecular formula is (Si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S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80CBA-C00D-4122-80D8-13AACA2FD70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79280" y="1498680"/>
            <a:ext cx="8713800" cy="51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1. No G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&amp;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M of the compound (compound = Molecular Formu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g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n = m /MM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9900cc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by the smallest n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egers (OR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o integers</a:t>
            </a:r>
            <a:r>
              <a:rPr b="0" lang="ar-SA" sz="2400" spc="-1" strike="noStrike">
                <a:solidFill>
                  <a:srgbClr val="9900cc"/>
                </a:solidFill>
                <a:latin typeface="Comic Sans MS"/>
              </a:rPr>
              <a:t>(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Calculate the MM of the 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Ratio =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M  of the Molecular Formula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/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MM of the empirical Formula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. Molecular Formula = (Empirical Formula) 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6778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% by mas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mpirical Formu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olecula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EA8B9-B0AC-40A3-9C7F-92589F4B322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1 Substances that Exist as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7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ments that exist as gases at 25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and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atm (blue box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oble gases are monoatomic, e.g. He, Ne, 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ther gases are diatomic, e.g. 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Content Placeholder 5" descr="05_01"/>
          <p:cNvPicPr/>
          <p:nvPr/>
        </p:nvPicPr>
        <p:blipFill>
          <a:blip r:embed="rId1"/>
          <a:srcRect l="0" t="3772" r="0" b="0"/>
          <a:stretch/>
        </p:blipFill>
        <p:spPr>
          <a:xfrm>
            <a:off x="900000" y="2060640"/>
            <a:ext cx="7056720" cy="36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871BB-E7AD-4BF6-89AC-14B95A7528C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79280" y="981000"/>
            <a:ext cx="8964720" cy="59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2. G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&amp;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(P, T, V, &amp; m) of the compound (compound = Molecular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g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n = m /MM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9900cc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by the smallest n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egers (OR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o integers</a:t>
            </a:r>
            <a:r>
              <a:rPr b="0" lang="ar-SA" sz="2400" spc="-1" strike="noStrike">
                <a:solidFill>
                  <a:srgbClr val="9900cc"/>
                </a:solidFill>
                <a:latin typeface="Comic Sans MS"/>
              </a:rPr>
              <a:t>(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Calculate the MM of the 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(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, T, V) 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n = PV/RT; n  &amp; m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MM = m/n of the molecular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OR MM = mRT/V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Ratio =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MM  of the Molecular Formula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/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MM of the empirical Formula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. Molecular Formula = (Empirical Formula) 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476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% by mas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mpirical Formu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olecula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6D0EA-78FF-49B5-BF70-49EEC5C689E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5 Gas Stoichiome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oichiometry: is the quantitative study of reactants and products in a chemical rea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99"/>
                </a:solidFill>
                <a:latin typeface="Comic Sans MS"/>
              </a:rPr>
              <a:t>دراسه كميه (عدد مولات, كتله, او حجم) للمتفاعلات والنواتج</a:t>
            </a:r>
            <a:r>
              <a:rPr b="0" lang="ar-SA" sz="3200" spc="-1" strike="noStrike">
                <a:solidFill>
                  <a:srgbClr val="ff33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apter 3, relationship between n &amp; m of reactants and produ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is chapter 5 (GASES), relationship between n &amp; V of reactants and produc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423B0-36CD-400B-BE4A-74B32B8F7CA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11 p1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alculate the volume of O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(in L) require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complete combustion of 7.64 L of C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measured at the same temperature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press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719280" y="3068640"/>
                <a:ext cx="752472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>
            <a:off x="468360" y="4149720"/>
            <a:ext cx="792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84902-2792-423B-845F-BFEEFE6EB48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68360" y="2077920"/>
            <a:ext cx="820728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stant T &amp; P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riables is n &amp; V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vogadro's law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α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know: 2 mole of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 mol of 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           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2 L of C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5 L of 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               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7.64 L of C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 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? L of 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826920" y="5624640"/>
                <a:ext cx="698508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olume of 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rPr>
                            <m:lit/>
                            <m:nor/>
                          </m:rPr>
                          <m:t xml:space="preserve"> Lx 5 L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>
            <a:off x="539640" y="507960"/>
            <a:ext cx="83883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ملاحظه هامه: اذا متى نستطيع ان نساوي المولات باللترات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اذا كانت المواد في السؤال غازيه  و عند نفس درجة الحراره والضغط</a:t>
            </a: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حتى يتحقق قانون افوجادرو وهوان الحجم يتناسب طرديا مع عدد المولات</a:t>
            </a: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2411280" y="2075040"/>
                <a:ext cx="534672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  <m:r>
                      <m:t xml:space="preserve">+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5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  <m:r>
                      <m:t xml:space="preserve">→</m:t>
                    </m:r>
                    <m:r>
                      <m:t xml:space="preserve">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C7F99-A0AC-4479-AF3B-B9060077E9E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457200" y="476280"/>
            <a:ext cx="82296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1</a:t>
            </a:r>
            <a:r>
              <a:rPr b="1" lang="ar-SA" sz="2800" spc="-1" strike="noStrike" u="sng">
                <a:solidFill>
                  <a:srgbClr val="00007d"/>
                </a:solidFill>
                <a:uFillTx/>
                <a:latin typeface="Comic Sans MS"/>
              </a:rPr>
              <a:t>2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 p19</a:t>
            </a:r>
            <a:r>
              <a:rPr b="1" lang="ar-SA" sz="2800" spc="-1" strike="noStrike" u="sng">
                <a:solidFill>
                  <a:srgbClr val="00007d"/>
                </a:solidFill>
                <a:uFillTx/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volume of N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generated at 80 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and 823 mmHg by the decomposition of 60.0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of NaN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1547640" y="2509920"/>
                <a:ext cx="62643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  <m:r>
                      <m:t xml:space="preserve">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3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468360" y="3429000"/>
            <a:ext cx="820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3468600"/>
            <a:ext cx="9144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T = 80 + 273 = 353 K; P = 832 mmHg; m (Na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 = 60.0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 (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Step 1: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grams of NaN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oles of NaN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(using n = m/MM) → moles of N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(using mole rat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Comic Sans MS"/>
              </a:rPr>
              <a:t>Step 2: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[n + T + P] (N</a:t>
            </a:r>
            <a:r>
              <a:rPr b="0" lang="en-GB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)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V N</a:t>
            </a:r>
            <a:r>
              <a:rPr b="0" lang="en-GB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(using the ideal gas equ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3E769-FFFE-4BBF-9C4C-7DA95293FAB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468360" y="433440"/>
                <a:ext cx="8136000" cy="638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3</m:t>
                        </m:r>
                        <m:r>
                          <m:rPr>
                            <m:lit/>
                            <m:nor/>
                          </m:rPr>
                          <m:t xml:space="preserve">  mol</m:t>
                        </m:r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e ratio: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2 mol of 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ol of 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3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ol of 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?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ol of 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∴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23 mo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53 K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2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/760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</m:t>
                            </m:r>
                          </m:den>
                        </m:f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6804000" y="5877000"/>
                <a:ext cx="226692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760 mmH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? at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832 mmHg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83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mHg x 1 at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mHg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83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6B83A-05B6-4DC9-976B-816B3357EAF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94920" y="41400"/>
            <a:ext cx="8497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6 Dalton’s Law of Partial Press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ure gas ONE ga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xture of gas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re than one gas each gas has a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Partial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Dalton’s law of partial pressure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 total pressure of a mixture of gases is just the sum of the pressures that each gas would exert it were present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900000" y="5010120"/>
            <a:ext cx="77756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 = P</a:t>
            </a:r>
            <a:r>
              <a:rPr b="0" lang="en-US" sz="4000" spc="-1" strike="noStrike" baseline="-25000">
                <a:solidFill>
                  <a:srgbClr val="9900cc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 + P</a:t>
            </a:r>
            <a:r>
              <a:rPr b="0" lang="en-US" sz="40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644640" y="5253120"/>
            <a:ext cx="51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Partial Pressure of gas 1 &amp;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00160" y="5789520"/>
            <a:ext cx="25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tal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3618E-E79A-4315-AB51-A06763257F5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3" descr="cha56011_0514"/>
          <p:cNvPicPr/>
          <p:nvPr/>
        </p:nvPicPr>
        <p:blipFill>
          <a:blip r:embed="rId1"/>
          <a:srcRect l="0" t="6173" r="0" b="6173"/>
          <a:stretch/>
        </p:blipFill>
        <p:spPr>
          <a:xfrm>
            <a:off x="936720" y="1201680"/>
            <a:ext cx="7596000" cy="3595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1260360" y="4797360"/>
            <a:ext cx="7775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911F9-EFCB-49DA-BCB9-C07DF441159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3"/>
          <p:cNvSpPr/>
          <p:nvPr/>
        </p:nvSpPr>
        <p:spPr>
          <a:xfrm>
            <a:off x="324000" y="361800"/>
            <a:ext cx="720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we have two gases,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a container of volume V and at temperature 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4" descr="cha56011_0514"/>
          <p:cNvPicPr/>
          <p:nvPr/>
        </p:nvPicPr>
        <p:blipFill>
          <a:blip r:embed="rId1"/>
          <a:srcRect l="78340" t="6173" r="0" b="6173"/>
          <a:stretch/>
        </p:blipFill>
        <p:spPr>
          <a:xfrm>
            <a:off x="6281640" y="1484280"/>
            <a:ext cx="2394000" cy="52293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1835280" y="1557360"/>
                <a:ext cx="3295440" cy="504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∴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3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A13F4-DC4E-4C7B-A5DE-9B602DE95B17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468360" y="469800"/>
                <a:ext cx="6912000" cy="533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7885080" y="763560"/>
            <a:ext cx="1224000" cy="936720"/>
          </a:xfrm>
          <a:prstGeom prst="wedgeRectCallout">
            <a:avLst>
              <a:gd name="adj1" fmla="val -107458"/>
              <a:gd name="adj2" fmla="val -2694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le fraction of gas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667640" y="2060640"/>
            <a:ext cx="1368360" cy="936720"/>
          </a:xfrm>
          <a:prstGeom prst="wedgeRectCallout">
            <a:avLst>
              <a:gd name="adj1" fmla="val -82944"/>
              <a:gd name="adj2" fmla="val -2508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le fraction of gas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4000" y="5826240"/>
            <a:ext cx="8820000" cy="11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Mole fraction (X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):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لكسر المولارى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s a dimensionless quantity that expresses the ratio of the number of moles of one component to the number of moles of all components pres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788000" y="620640"/>
            <a:ext cx="2592360" cy="1224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788000" y="1989000"/>
            <a:ext cx="2592360" cy="11527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971640" y="4437000"/>
            <a:ext cx="2016000" cy="7207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71640" y="5229360"/>
            <a:ext cx="2016000" cy="576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0142B-D950-4FD4-A0DD-510E261F0501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029" descr="05_01"/>
          <p:cNvPicPr/>
          <p:nvPr/>
        </p:nvPicPr>
        <p:blipFill>
          <a:blip r:embed="rId1"/>
          <a:srcRect l="0" t="2816" r="0" b="0"/>
          <a:stretch/>
        </p:blipFill>
        <p:spPr>
          <a:xfrm>
            <a:off x="457200" y="609480"/>
            <a:ext cx="83059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E2E46-1215-4A02-8447-EAC736591C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179280" y="669960"/>
                <a:ext cx="4422960" cy="563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4788000" y="1519200"/>
                <a:ext cx="4248000" cy="298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E3637-9E88-4E5F-998B-5A396D39FC60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14 p1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A mixture of gasses contains 4.46 moles of N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0.74 mole of Ar, and 2.15 moles of Xe. Calcu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the partial pressures of the gases if the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pressure is 2.00 atm at a certain temper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95280" y="299736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24000" y="2997360"/>
            <a:ext cx="856908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4.46 mol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A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0.74 mol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15 mol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.0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A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e           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P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A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= P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t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X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A</a:t>
            </a:r>
            <a:r>
              <a:rPr b="1" lang="ar-SA" sz="3600" spc="-1" strike="noStrike" baseline="-25000">
                <a:solidFill>
                  <a:srgbClr val="9900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AD3D3-97C9-4830-911B-154BBBCBABA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09520" y="620640"/>
                <a:ext cx="8726400" cy="14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7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tm x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7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250920" y="2349360"/>
                <a:ext cx="8642160" cy="14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tm x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237960" y="4149720"/>
                <a:ext cx="8697960" cy="14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3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tm x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6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4A200-AE8C-422F-99E4-1D788D0EB6B2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3"/>
          <p:cNvSpPr/>
          <p:nvPr/>
        </p:nvSpPr>
        <p:spPr>
          <a:xfrm>
            <a:off x="141120" y="1052640"/>
            <a:ext cx="84632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alton’s law of partial pressures can be used to calculate th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ssure of a gas collected over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y collecting the gas in a graduated cylinder, we can measure the amount of gas produc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method is applicable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as that does not react with w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as that i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 soluble in water, e.g.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not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soluble in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95280" y="4111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ollecting a Gas over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64D33-1EA1-4264-BCE9-6B214DBC0FC1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"/>
          <p:cNvGrpSpPr/>
          <p:nvPr/>
        </p:nvGrpSpPr>
        <p:grpSpPr>
          <a:xfrm>
            <a:off x="2798640" y="5877000"/>
            <a:ext cx="3971880" cy="440640"/>
            <a:chOff x="2798640" y="5877000"/>
            <a:chExt cx="3971880" cy="440640"/>
          </a:xfrm>
        </p:grpSpPr>
        <p:sp>
          <p:nvSpPr>
            <p:cNvPr id="327" name=""/>
            <p:cNvSpPr/>
            <p:nvPr/>
          </p:nvSpPr>
          <p:spPr>
            <a:xfrm>
              <a:off x="2798640" y="5877000"/>
              <a:ext cx="3971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2KCl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           2KCl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 + 3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081320" y="60739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733200" y="6334200"/>
            <a:ext cx="2016720" cy="552600"/>
            <a:chOff x="3733200" y="6334200"/>
            <a:chExt cx="2016720" cy="552600"/>
          </a:xfrm>
        </p:grpSpPr>
        <p:sp>
          <p:nvSpPr>
            <p:cNvPr id="330" name=""/>
            <p:cNvSpPr/>
            <p:nvPr/>
          </p:nvSpPr>
          <p:spPr>
            <a:xfrm>
              <a:off x="3733200" y="6334200"/>
              <a:ext cx="2016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O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+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H  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637160" y="6610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424480" y="6610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1187280" y="907920"/>
            <a:ext cx="6928200" cy="48546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439920" y="404640"/>
            <a:ext cx="506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Collecting a Gas over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435F3-19AA-4B31-A56F-CB94A8D1C1DC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141120" y="1052640"/>
            <a:ext cx="84632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gas collected is referred to as “wet” 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رطب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 since it also contains water vap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pplying Dalton’s la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6"/>
          <p:cNvSpPr/>
          <p:nvPr/>
        </p:nvSpPr>
        <p:spPr>
          <a:xfrm>
            <a:off x="2195640" y="3429000"/>
            <a:ext cx="3600360" cy="82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i="1" lang="en-US" sz="3600" spc="-1" strike="noStrike" baseline="-25000">
                <a:solidFill>
                  <a:srgbClr val="c00000"/>
                </a:solidFill>
                <a:latin typeface="Comic Sans MS"/>
              </a:rPr>
              <a:t>t</a:t>
            </a:r>
            <a:r>
              <a:rPr b="0" lang="en-US" sz="36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P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Comic Sans MS"/>
                <a:ea typeface="Times New Roman"/>
              </a:rPr>
              <a:t>O</a:t>
            </a:r>
            <a:r>
              <a:rPr b="0" lang="en-US" sz="3600" spc="-1" strike="noStrike" baseline="-48000">
                <a:solidFill>
                  <a:srgbClr val="c00000"/>
                </a:solidFill>
                <a:latin typeface="Comic Sans MS"/>
                <a:ea typeface="Times New Roman"/>
              </a:rPr>
              <a:t>2</a:t>
            </a:r>
            <a:r>
              <a:rPr b="0" lang="en-US" sz="3600" spc="-1" strike="noStrike" baseline="-48000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Comic Sans MS"/>
                <a:ea typeface="Times New Roman"/>
              </a:rPr>
              <a:t>H</a:t>
            </a:r>
            <a:r>
              <a:rPr b="0" lang="en-US" sz="3600" spc="-1" strike="noStrike" baseline="-48000">
                <a:solidFill>
                  <a:srgbClr val="c00000"/>
                </a:solidFill>
                <a:latin typeface="Comic Sans MS"/>
                <a:ea typeface="Times New Roman"/>
              </a:rPr>
              <a:t>2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Comic Sans MS"/>
                <a:ea typeface="Times New Roman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95280" y="4111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ollecting a Gas over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68084-4BD6-4DB3-B103-8BDDFD32617A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3276720" y="189000"/>
            <a:ext cx="2111400" cy="655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45D93-31ED-4B45-81E1-E83920938C7B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395280" y="3213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24000" y="3284640"/>
            <a:ext cx="8569080" cy="24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V(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 = 128 mL = 0.128 L; T = 24 + 273 = 297 K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762 mmHg;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P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H2O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= 22.4 mmH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m (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68360" y="476280"/>
            <a:ext cx="828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15 p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xygen gas generated by the decomposition of potassium chlorate is collected. The volume of oxygen collected at 24 </a:t>
            </a:r>
            <a:r>
              <a:rPr b="0" lang="en-US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 and atmospheric pressure of 762 mmHg is 128 ml. Calculate the mass (in g) of oxygen gas obtained. The pressure of the water vapour at 24 </a:t>
            </a:r>
            <a:r>
              <a:rPr b="0" lang="en-US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 is 22.4 mmH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284720" y="5516640"/>
            <a:ext cx="4390920" cy="1008000"/>
          </a:xfrm>
          <a:prstGeom prst="wedgeRectCallout">
            <a:avLst>
              <a:gd name="adj1" fmla="val -39407"/>
              <a:gd name="adj2" fmla="val -111416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Gas collected over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765AB-DF17-4F46-A091-C1EB106B5B2D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468360" y="549360"/>
                <a:ext cx="6767640" cy="611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O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O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62</m:t>
                        </m:r>
                        <m:r>
                          <m:rPr>
                            <m:lit/>
                            <m:nor/>
                          </m:rPr>
                          <m:t xml:space="preserve"> mmHg-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 mmH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40 mmHg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4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Ideal Gas Equation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]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8 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ol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x 297 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 x 3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 g/mol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4 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1D1A1-04ED-470A-A39F-F095CCB3FA25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50920" y="1913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16286-8E80-457F-9982-8DC5790E2EA4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Content Placeholder 2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assume the volume and shape of their contai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are the most compressible state of ma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will mix evenly and completely when confined to the same contai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have much lower densities than liquids and soli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404640"/>
            <a:ext cx="84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hysical Characteristics of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E5D4E-73B1-4C6F-8A6F-9036005DF38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2 Pressure of the 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55450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as is in constant motion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as exert a pressure on the wall of the contai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Pascal (Pa) is the </a:t>
            </a: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SI unit of pressur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ther units for pressure are: atmosphere (atm), millimetre of mercury (mmHg), Torr (torr)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724360" y="1535040"/>
            <a:ext cx="3311640" cy="290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2C773-25CF-4431-BFB4-3137775A32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3 The Gas Laws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y gas has a </a:t>
            </a: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pressure P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Volume V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emperature 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0" lang="en-US" sz="2800" spc="-1" strike="noStrike">
                <a:solidFill>
                  <a:srgbClr val="ff3399"/>
                </a:solidFill>
                <a:latin typeface="Comic Sans MS"/>
              </a:rPr>
              <a:t>amount (number of moles) 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study the relationship between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two factor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the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remaining two factors must kept constant (unchange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Pressure- Volume Relationship: Boyle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Temperature-Volume Relationship: Charles’s and Gay-Lussac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2009a7"/>
                </a:solidFill>
                <a:latin typeface="Comic Sans MS"/>
              </a:rPr>
              <a:t>Amount-Volume relationship: Avogadro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Combined Gas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Density of the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99ff"/>
                </a:solidFill>
                <a:latin typeface="Comic Sans MS"/>
              </a:rPr>
              <a:t>Molar Mass of the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27D0E-652B-4315-8F31-CA9F2DE62AB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ressure- Volume Relationship: Boyle’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28600" y="3532320"/>
            <a:ext cx="8915400" cy="37130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95280" y="1557360"/>
            <a:ext cx="835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oyles Law states tha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pressure of a fixed amount of gas (n is constant) at a constant temperature is inversely proportional to the volume of the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357720"/>
            <a:ext cx="4932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86678-7F08-42A2-BA39-169FC23FD26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0-16T15:28:29Z</dcterms:modified>
  <cp:revision>662</cp:revision>
  <dc:subject/>
  <dc:title>General Chemistry CHEM 110</dc:title>
</cp:coreProperties>
</file>