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EC9E11-21A2-4645-934C-7EEDCF530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B83B2-8F75-445B-89B6-39A4F77B6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78D500-E29C-4C1F-A985-C2189EA9E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EBEB5E-9FC3-49E5-9A7B-534BE8152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07851-2EB0-4710-97D3-A0FF69B79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C729F-B298-40CD-9FD8-6596A82AE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DF833-BCB2-4E0F-8E9C-40CFD4268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02B5F-F8E8-469B-9E84-71562D674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56B7D-346B-4190-A8FC-04C89864E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86CBF-8303-4474-A1C2-D9E3B9509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2C8D6-C153-418D-A04A-B0FC38BDB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2CC6EA-EE8C-4DA2-9D4D-82AC288D9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290FC-667F-455D-A37E-F47E130D5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234B5-8273-4419-8DA6-469710512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D10AA-A7BE-4641-A15B-6AA36125C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B6B60-D87D-494C-ADDD-470A22888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2E9E7-AFBC-446C-BA07-FDDB34E16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DD6F6D-82A4-452A-BC97-0E1DFEE82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C87317-5D6A-4B49-ABD8-54D9D03E0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DD55F1-C13F-458E-85FE-0E6B8D932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37E51B-ABB7-4A33-9DDF-1960B4F22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74200F-1701-4BCB-854A-395A72469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890F1E-16A3-4B85-9206-FD9859560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2FA45F-4FB8-4EF2-BA25-BBFEC7D1E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FAE22-B799-4857-B3DB-49781EA5D6C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05F32-FD07-4F06-9BAB-D8A69246580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4292640"/>
            <a:ext cx="823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7d"/>
                </a:solidFill>
                <a:latin typeface="Comic Sans MS"/>
              </a:rPr>
              <a:t>Chapter </a:t>
            </a:r>
            <a:r>
              <a:rPr b="1" lang="ar-SA" sz="4000" spc="-1" strike="noStrike">
                <a:solidFill>
                  <a:srgbClr val="00007d"/>
                </a:solidFill>
                <a:latin typeface="Comic Sans MS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7d"/>
                </a:solidFill>
                <a:latin typeface="Comic Sans MS"/>
              </a:rPr>
              <a:t>Periodic Relationship Among the El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86568-54F6-4101-BA4D-C9A2989D30A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Content Placeholder 2"/>
          <p:cNvSpPr/>
          <p:nvPr/>
        </p:nvSpPr>
        <p:spPr>
          <a:xfrm>
            <a:off x="34920" y="533520"/>
            <a:ext cx="46990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Q 1: Which of the follow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sets of elements is expected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have similar chem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proper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) Sulfur and phosphor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b) Sulfur and oxy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) Sulfur and arg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4645080" y="765000"/>
            <a:ext cx="4464000" cy="2911680"/>
          </a:xfrm>
          <a:prstGeom prst="rect">
            <a:avLst/>
          </a:prstGeom>
          <a:ln w="0">
            <a:noFill/>
          </a:ln>
        </p:spPr>
      </p:pic>
      <p:sp>
        <p:nvSpPr>
          <p:cNvPr id="183" name="Content Placeholder 2"/>
          <p:cNvSpPr/>
          <p:nvPr/>
        </p:nvSpPr>
        <p:spPr>
          <a:xfrm>
            <a:off x="36360" y="3716280"/>
            <a:ext cx="3672000" cy="23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marL="462960" indent="-46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Q 2: Titanium (T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element is found in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periodic table 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a)  s-b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b)  P-b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(c)  d-b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d)  f-b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3645000"/>
            <a:ext cx="331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2"/>
          <p:cNvSpPr/>
          <p:nvPr/>
        </p:nvSpPr>
        <p:spPr>
          <a:xfrm>
            <a:off x="3637080" y="4005360"/>
            <a:ext cx="5688000" cy="26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Q 3: Characteristics of noble gases include:</a:t>
            </a:r>
            <a:br>
              <a:rPr sz="2400"/>
            </a:b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a.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lled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ubshells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. monatomic gases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. generally unreactive chemically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.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ll of the abo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4A39E0-FACE-4A2A-A5FD-BA9BEE3D535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108000" y="836640"/>
            <a:ext cx="8893080" cy="580068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08000" y="1197000"/>
            <a:ext cx="1008000" cy="3456000"/>
          </a:xfrm>
          <a:prstGeom prst="rect">
            <a:avLst/>
          </a:prstGeom>
          <a:noFill/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012000" y="1700280"/>
            <a:ext cx="2952720" cy="295272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187280" y="2708280"/>
            <a:ext cx="4753080" cy="1944720"/>
          </a:xfrm>
          <a:prstGeom prst="rect">
            <a:avLst/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050920" y="5129280"/>
            <a:ext cx="6913800" cy="963720"/>
          </a:xfrm>
          <a:prstGeom prst="rect">
            <a:avLst/>
          </a:prstGeom>
          <a:noFill/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4920" y="620640"/>
            <a:ext cx="122544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ff"/>
                </a:solidFill>
                <a:latin typeface="Comic Sans MS"/>
              </a:rPr>
              <a:t>s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802560" y="907920"/>
            <a:ext cx="122544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p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914560" y="1844640"/>
            <a:ext cx="122580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Comic Sans MS"/>
              </a:rPr>
              <a:t>d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2360" y="6237360"/>
            <a:ext cx="122544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ff"/>
                </a:solidFill>
                <a:latin typeface="Comic Sans MS"/>
              </a:rPr>
              <a:t>f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9F9535-A551-4E30-B581-68C64969038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108000" y="896760"/>
            <a:ext cx="8964720" cy="584532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1763640" y="404640"/>
            <a:ext cx="518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utermost orbitals OR Outermost electrons OR Valence electr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08000" y="1268280"/>
            <a:ext cx="1008000" cy="3529080"/>
          </a:xfrm>
          <a:prstGeom prst="rect">
            <a:avLst/>
          </a:prstGeom>
          <a:solidFill>
            <a:srgbClr val="cc99ff"/>
          </a:solidFill>
          <a:ln w="7632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79280" y="249228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8459640" y="1268280"/>
            <a:ext cx="576360" cy="505080"/>
          </a:xfrm>
          <a:prstGeom prst="rect">
            <a:avLst/>
          </a:prstGeom>
          <a:solidFill>
            <a:srgbClr val="cc99ff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8459640" y="1197000"/>
            <a:ext cx="6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156360" y="1773360"/>
            <a:ext cx="2879640" cy="2950920"/>
          </a:xfrm>
          <a:prstGeom prst="rect">
            <a:avLst/>
          </a:prstGeom>
          <a:solidFill>
            <a:srgbClr val="ff99cc"/>
          </a:solidFill>
          <a:ln w="7632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308720" y="2781360"/>
            <a:ext cx="15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s n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260360" y="2781360"/>
            <a:ext cx="4824360" cy="1942920"/>
          </a:xfrm>
          <a:prstGeom prst="rect">
            <a:avLst/>
          </a:prstGeom>
          <a:solidFill>
            <a:srgbClr val="00ff00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900000" y="3246480"/>
            <a:ext cx="46800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s (n-1)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4DC3F0-CF3A-4587-9E89-208444FA2E0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0" y="1465200"/>
            <a:ext cx="8893080" cy="520380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1908000" y="907920"/>
            <a:ext cx="51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Valence Electr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38B84E-F68B-47C9-A014-36977AF8257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Electron Configuration of Cations and In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ons derived from representative ele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toms lose electrons so that cation has a noble-gas outer electron configu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806480" y="4356000"/>
            <a:ext cx="192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a:  [Ne] 3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283000" y="4356000"/>
            <a:ext cx="146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Na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</a:rPr>
              <a:t>+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  [N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833480" y="4927680"/>
            <a:ext cx="180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:  [Ar] 4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239440" y="4927680"/>
            <a:ext cx="145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Ca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</a:rPr>
              <a:t>2+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  [Ar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836000" y="5499000"/>
            <a:ext cx="23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:   [Ne] 3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290560" y="5499000"/>
            <a:ext cx="145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Al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</a:rPr>
              <a:t>3+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  [N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E41603-A1B9-4F58-A870-F797992D9EE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Electron Configuration of Cations and In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ons derived from representative ele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toms gain electrons so that anion has a noble-gas outer electron configu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906920" y="4227480"/>
            <a:ext cx="106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:  1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593240" y="4227480"/>
            <a:ext cx="21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H</a:t>
            </a: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 1s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or [H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956600" y="4849920"/>
            <a:ext cx="188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:  1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541760" y="4843440"/>
            <a:ext cx="384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F</a:t>
            </a: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 1s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2s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2p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6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 or  [N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945440" y="5472000"/>
            <a:ext cx="19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:  1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541760" y="5465880"/>
            <a:ext cx="344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O</a:t>
            </a: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2-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 1s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2s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2p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6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or [N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48680" y="6094440"/>
            <a:ext cx="195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:  1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541760" y="6087960"/>
            <a:ext cx="344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N</a:t>
            </a: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3-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 1s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2s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2p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6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or [N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1E2D04-FEB7-4DDF-868B-99571ED51E2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-39600" y="1417680"/>
            <a:ext cx="9219960" cy="5396040"/>
          </a:xfrm>
          <a:prstGeom prst="rect">
            <a:avLst/>
          </a:prstGeom>
          <a:ln w="0">
            <a:noFill/>
          </a:ln>
        </p:spPr>
      </p:pic>
      <p:grpSp>
        <p:nvGrpSpPr>
          <p:cNvPr id="226" name=""/>
          <p:cNvGrpSpPr/>
          <p:nvPr/>
        </p:nvGrpSpPr>
        <p:grpSpPr>
          <a:xfrm>
            <a:off x="309600" y="2285280"/>
            <a:ext cx="459720" cy="2989800"/>
            <a:chOff x="309600" y="2285280"/>
            <a:chExt cx="459720" cy="2989800"/>
          </a:xfrm>
        </p:grpSpPr>
        <p:sp>
          <p:nvSpPr>
            <p:cNvPr id="227" name=""/>
            <p:cNvSpPr/>
            <p:nvPr/>
          </p:nvSpPr>
          <p:spPr>
            <a:xfrm rot="16200000">
              <a:off x="275400" y="231948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+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36400" y="2774880"/>
              <a:ext cx="0" cy="2500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71480" y="1284120"/>
            <a:ext cx="459720" cy="3990960"/>
            <a:chOff x="771480" y="1284120"/>
            <a:chExt cx="459720" cy="3990960"/>
          </a:xfrm>
        </p:grpSpPr>
        <p:sp>
          <p:nvSpPr>
            <p:cNvPr id="230" name=""/>
            <p:cNvSpPr/>
            <p:nvPr/>
          </p:nvSpPr>
          <p:spPr>
            <a:xfrm rot="16200000">
              <a:off x="737280" y="131832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+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993600" y="1857240"/>
              <a:ext cx="0" cy="341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6181560" y="1284120"/>
            <a:ext cx="459720" cy="3990960"/>
            <a:chOff x="6181560" y="1284120"/>
            <a:chExt cx="459720" cy="3990960"/>
          </a:xfrm>
        </p:grpSpPr>
        <p:sp>
          <p:nvSpPr>
            <p:cNvPr id="233" name=""/>
            <p:cNvSpPr/>
            <p:nvPr/>
          </p:nvSpPr>
          <p:spPr>
            <a:xfrm rot="16200000">
              <a:off x="6147360" y="131832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+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403680" y="1857240"/>
              <a:ext cx="0" cy="341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8180280" y="1321200"/>
            <a:ext cx="459720" cy="3953880"/>
            <a:chOff x="8180280" y="1321200"/>
            <a:chExt cx="459720" cy="3953880"/>
          </a:xfrm>
        </p:grpSpPr>
        <p:sp>
          <p:nvSpPr>
            <p:cNvPr id="236" name=""/>
            <p:cNvSpPr/>
            <p:nvPr/>
          </p:nvSpPr>
          <p:spPr>
            <a:xfrm rot="16200000">
              <a:off x="8183880" y="131724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-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403840" y="1857240"/>
              <a:ext cx="0" cy="341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7677000" y="1320840"/>
            <a:ext cx="459720" cy="3954240"/>
            <a:chOff x="7677000" y="1320840"/>
            <a:chExt cx="459720" cy="3954240"/>
          </a:xfrm>
        </p:grpSpPr>
        <p:sp>
          <p:nvSpPr>
            <p:cNvPr id="239" name=""/>
            <p:cNvSpPr/>
            <p:nvPr/>
          </p:nvSpPr>
          <p:spPr>
            <a:xfrm rot="16200000">
              <a:off x="7680600" y="131688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-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900560" y="1857240"/>
              <a:ext cx="0" cy="341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7172280" y="1320840"/>
            <a:ext cx="459720" cy="3954240"/>
            <a:chOff x="7172280" y="1320840"/>
            <a:chExt cx="459720" cy="3954240"/>
          </a:xfrm>
        </p:grpSpPr>
        <p:sp>
          <p:nvSpPr>
            <p:cNvPr id="242" name=""/>
            <p:cNvSpPr/>
            <p:nvPr/>
          </p:nvSpPr>
          <p:spPr>
            <a:xfrm rot="16200000">
              <a:off x="7175880" y="131688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395840" y="1857240"/>
              <a:ext cx="0" cy="341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615240" y="573120"/>
            <a:ext cx="811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tions and Anions Of Representative E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6D789F-4E00-4CA7-BBD7-074D1C8CCD4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0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2"/>
          <p:cNvSpPr/>
          <p:nvPr/>
        </p:nvSpPr>
        <p:spPr>
          <a:xfrm>
            <a:off x="579600" y="1687680"/>
            <a:ext cx="175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 [Ne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615240" y="2335320"/>
            <a:ext cx="171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3+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 [Ne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539640" y="3616200"/>
            <a:ext cx="40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 1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or [Ne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5"/>
          <p:cNvSpPr/>
          <p:nvPr/>
        </p:nvSpPr>
        <p:spPr>
          <a:xfrm>
            <a:off x="557280" y="4206960"/>
            <a:ext cx="509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-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 1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r [Ne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6"/>
          <p:cNvSpPr/>
          <p:nvPr/>
        </p:nvSpPr>
        <p:spPr>
          <a:xfrm>
            <a:off x="539640" y="2982960"/>
            <a:ext cx="416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3-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 1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r [Ne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7"/>
          <p:cNvSpPr/>
          <p:nvPr/>
        </p:nvSpPr>
        <p:spPr>
          <a:xfrm>
            <a:off x="108000" y="5146560"/>
            <a:ext cx="561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THUS: Na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+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, Al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3+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, F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-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, O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2-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, and N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3-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are all </a:t>
            </a:r>
            <a:r>
              <a:rPr b="1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isoelectronic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with 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4"/>
          <p:cNvSpPr/>
          <p:nvPr/>
        </p:nvSpPr>
        <p:spPr>
          <a:xfrm>
            <a:off x="539640" y="533520"/>
            <a:ext cx="7777440" cy="106884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soelectronic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Species with the same number of electr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796000" y="1989000"/>
            <a:ext cx="3276720" cy="502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mic Sans MS"/>
              </a:rPr>
              <a:t>بدون النظر الى التوزيع الاكترون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mic Sans MS"/>
              </a:rPr>
              <a:t>فقط بحساب عدد الاكترونات</a:t>
            </a:r>
            <a:r>
              <a:rPr b="0" lang="ar-SA" sz="2000" spc="-1" strike="noStrike">
                <a:solidFill>
                  <a:srgbClr val="000000"/>
                </a:solidFill>
                <a:latin typeface="Comic Sans MS"/>
              </a:rPr>
              <a:t>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11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Na (11 e)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Na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(10 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13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l (13 e)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l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3+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(10 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7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N (7 e)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3-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(10 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9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F (9 e)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(10 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8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O (8 e)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2-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(10 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30000">
                <a:solidFill>
                  <a:srgbClr val="a50021"/>
                </a:solidFill>
                <a:latin typeface="Comic Sans MS"/>
              </a:rPr>
              <a:t>10</a:t>
            </a:r>
            <a:r>
              <a:rPr b="0" lang="en-GB" sz="2000" spc="-1" strike="noStrike">
                <a:solidFill>
                  <a:srgbClr val="a50021"/>
                </a:solidFill>
                <a:latin typeface="Comic Sans MS"/>
              </a:rPr>
              <a:t>Ne (10 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HUS: All are isolelctronic to 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679E9D-33E0-4DC5-99CE-189EC90323D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9"/>
          <p:cNvSpPr/>
          <p:nvPr/>
        </p:nvSpPr>
        <p:spPr>
          <a:xfrm>
            <a:off x="324000" y="62064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Q1: 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What neutral atom is isoelectronic with H</a:t>
            </a:r>
            <a:r>
              <a:rPr b="0" lang="en-US" sz="24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2"/>
          <p:cNvSpPr/>
          <p:nvPr/>
        </p:nvSpPr>
        <p:spPr>
          <a:xfrm>
            <a:off x="710280" y="1243080"/>
            <a:ext cx="110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2400" spc="-1" strike="noStrike" baseline="38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ar-SA" sz="2400" spc="-1" strike="noStrike" baseline="38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1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3"/>
          <p:cNvSpPr/>
          <p:nvPr/>
        </p:nvSpPr>
        <p:spPr>
          <a:xfrm>
            <a:off x="2087280" y="1197000"/>
            <a:ext cx="510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ame electron configuration as 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547640" y="1844640"/>
            <a:ext cx="4357800" cy="2253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mic Sans MS"/>
              </a:rPr>
              <a:t>بدون النظر الى التوزيع الاكترون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mic Sans MS"/>
              </a:rPr>
              <a:t>فقط بحساب عدد الاكترونات</a:t>
            </a:r>
            <a:r>
              <a:rPr b="0" lang="ar-SA" sz="2000" spc="-1" strike="noStrike">
                <a:solidFill>
                  <a:srgbClr val="000000"/>
                </a:solidFill>
                <a:latin typeface="Comic Sans MS"/>
              </a:rPr>
              <a:t>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H (1 e)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(2 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a50021"/>
                </a:solidFill>
                <a:latin typeface="Comic Sans MS"/>
              </a:rPr>
              <a:t>He (2 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HUS: He is isolelctronic to H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24000" y="4464000"/>
            <a:ext cx="8820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Q2: Which of the following species is isoelectronic with Cl</a:t>
            </a:r>
            <a:r>
              <a:rPr b="0" lang="en-US" sz="2400" spc="-1" strike="noStrike" baseline="30000">
                <a:solidFill>
                  <a:srgbClr val="a50021"/>
                </a:solidFill>
                <a:latin typeface="Comic Sans MS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a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b) O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(c) K</a:t>
            </a:r>
            <a:r>
              <a:rPr b="0" lang="en-US" sz="2400" spc="-1" strike="noStrike" baseline="30000">
                <a:solidFill>
                  <a:srgbClr val="ff0000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d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8315280" y="47973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18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332000" y="486900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8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476360" y="522936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10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401840" y="558972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18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546200" y="602136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10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DAE614-2BC2-430F-889E-80A79129686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45720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Electron Configuration of Cations and In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155736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ons derived from transition meta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en a cation is formed from an atom of a transition metal,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electrons are always removed first from the ns orbital and then from the (n – 1)d orbita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8A5F56-D7B4-4F79-A109-5A57781F5BF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79280" y="2133720"/>
            <a:ext cx="87854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Chapter 8</a:t>
            </a:r>
            <a:br>
              <a:rPr sz="4400"/>
            </a:b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00007d"/>
                </a:solidFill>
                <a:latin typeface="Comic Sans MS"/>
              </a:rPr>
              <a:t>Periodic Relationship Among the Elements </a:t>
            </a:r>
            <a:br>
              <a:rPr sz="3600"/>
            </a:b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Chang Pages </a:t>
            </a:r>
            <a:r>
              <a:rPr b="1" lang="en-US" sz="4400" spc="-1" strike="noStrike">
                <a:solidFill>
                  <a:srgbClr val="00007d"/>
                </a:solidFill>
                <a:latin typeface="Comic Sans MS"/>
              </a:rPr>
              <a:t>326-378</a:t>
            </a:r>
            <a:br>
              <a:rPr sz="3200"/>
            </a:br>
            <a:br>
              <a:rPr sz="3200"/>
            </a:b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H.W. p357 &amp; 358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457200" y="4365720"/>
            <a:ext cx="8686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8.5, 8.8, 8.12, 8.20, 8.24, 8.26, 8.28, 8.30, 8.32, 8.36,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8.38, 8.40, 8.44, 8.46, 8.52, 8.54, 8.62, 8.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55ACB5-C7DC-4039-8B09-B1F6F8E7AEC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45720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Ions derived from transition metals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-181080" y="112536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25"/>
          <p:cNvSpPr/>
          <p:nvPr/>
        </p:nvSpPr>
        <p:spPr>
          <a:xfrm>
            <a:off x="477000" y="1844640"/>
            <a:ext cx="2892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Mn: [Ar]4s</a:t>
            </a:r>
            <a:r>
              <a:rPr b="0" lang="en-US" sz="3200" spc="-1" strike="noStrike" baseline="30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6600"/>
                </a:solidFill>
                <a:latin typeface="Comic Sans MS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0066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Mn</a:t>
            </a:r>
            <a:r>
              <a:rPr b="0" lang="en-US" sz="3200" spc="-1" strike="noStrike" baseline="30000">
                <a:solidFill>
                  <a:srgbClr val="006600"/>
                </a:solidFill>
                <a:latin typeface="Comic Sans MS"/>
              </a:rPr>
              <a:t>2+</a:t>
            </a:r>
            <a:r>
              <a:rPr b="0" lang="ar-SA" sz="32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:  ????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26"/>
          <p:cNvSpPr/>
          <p:nvPr/>
        </p:nvSpPr>
        <p:spPr>
          <a:xfrm>
            <a:off x="324000" y="2563920"/>
            <a:ext cx="7824600" cy="27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Mn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2+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: [Ar] 4s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3d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    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Mn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2+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: [Ar]4s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0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5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 or [Ar] 3d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5</a:t>
            </a:r>
            <a:r>
              <a:rPr b="0" lang="ar-SA" sz="3200" spc="-1" strike="noStrike" baseline="30000">
                <a:solidFill>
                  <a:srgbClr val="00007d"/>
                </a:solidFill>
                <a:latin typeface="Comic Sans MS"/>
              </a:rPr>
              <a:t>  </a:t>
            </a:r>
            <a:r>
              <a:rPr b="0" lang="en-GB" sz="3200" spc="-1" strike="noStrike" baseline="30000">
                <a:solidFill>
                  <a:srgbClr val="00007d"/>
                </a:solidFill>
                <a:latin typeface="Comic Sans MS"/>
              </a:rPr>
              <a:t>    </a:t>
            </a:r>
            <a:r>
              <a:rPr b="0" lang="en-GB" sz="4400" spc="-1" strike="noStrike">
                <a:solidFill>
                  <a:srgbClr val="00007d"/>
                </a:solidFill>
                <a:latin typeface="Comic Sans MS"/>
              </a:rPr>
              <a:t>√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492360" y="1550880"/>
            <a:ext cx="5508720" cy="157212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ransition metals 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IRST: electrons lost from s orb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N: from the (n-1)d orb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A8C26-385C-4B35-9986-B6B94992A7E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45720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Ions derived from transition metals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58760" y="98100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22"/>
          <p:cNvSpPr/>
          <p:nvPr/>
        </p:nvSpPr>
        <p:spPr>
          <a:xfrm>
            <a:off x="829080" y="1714680"/>
            <a:ext cx="3029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Fe:    [Ar]4s</a:t>
            </a:r>
            <a:r>
              <a:rPr b="0" lang="en-US" sz="32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9900cc"/>
                </a:solidFill>
                <a:latin typeface="Comic Sans MS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Fe</a:t>
            </a:r>
            <a:r>
              <a:rPr b="0" lang="en-US" sz="3200" spc="-1" strike="noStrike" baseline="30000">
                <a:solidFill>
                  <a:srgbClr val="9900cc"/>
                </a:solidFill>
                <a:latin typeface="Comic Sans MS"/>
              </a:rPr>
              <a:t>2+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:</a:t>
            </a:r>
            <a:r>
              <a:rPr b="0" lang="en-US" sz="3200" spc="-1" strike="noStrike" baseline="30000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??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23"/>
          <p:cNvSpPr/>
          <p:nvPr/>
        </p:nvSpPr>
        <p:spPr>
          <a:xfrm>
            <a:off x="877320" y="3098880"/>
            <a:ext cx="5569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Fe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2+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:  [Ar]4s</a:t>
            </a:r>
            <a:r>
              <a:rPr b="0" lang="ar-SA" sz="32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3d</a:t>
            </a:r>
            <a:r>
              <a:rPr b="0" lang="ar-SA" sz="3200" spc="-1" strike="noStrike" baseline="30000">
                <a:solidFill>
                  <a:srgbClr val="ff0000"/>
                </a:solidFill>
                <a:latin typeface="Comic Sans MS"/>
              </a:rPr>
              <a:t>4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  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Fe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2+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:  [Ar]4s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0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6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 or [Ar]3d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6</a:t>
            </a:r>
            <a:r>
              <a:rPr b="0" lang="ar-SA" sz="3200" spc="-1" strike="noStrike" baseline="30000">
                <a:solidFill>
                  <a:srgbClr val="00007d"/>
                </a:solidFill>
                <a:latin typeface="Comic Sans MS"/>
              </a:rPr>
              <a:t>   </a:t>
            </a:r>
            <a:r>
              <a:rPr b="0" lang="en-GB" sz="3200" spc="-1" strike="noStrike" baseline="30000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24"/>
          <p:cNvSpPr/>
          <p:nvPr/>
        </p:nvSpPr>
        <p:spPr>
          <a:xfrm>
            <a:off x="881280" y="5442120"/>
            <a:ext cx="5603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Fe</a:t>
            </a:r>
            <a:r>
              <a:rPr b="0" lang="en-GB" sz="3200" spc="-1" strike="noStrike" baseline="30000">
                <a:solidFill>
                  <a:srgbClr val="ff0000"/>
                </a:solidFill>
                <a:latin typeface="Comic Sans MS"/>
              </a:rPr>
              <a:t>3+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: [Ar] 4s</a:t>
            </a:r>
            <a:r>
              <a:rPr b="0" lang="en-GB" sz="32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 3d</a:t>
            </a:r>
            <a:r>
              <a:rPr b="0" lang="en-GB" sz="3200" spc="-1" strike="noStrike" baseline="30000">
                <a:solidFill>
                  <a:srgbClr val="ff0000"/>
                </a:solidFill>
                <a:latin typeface="Comic Sans MS"/>
              </a:rPr>
              <a:t>3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      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Fe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3+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:  [Ar]4s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0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5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 or [Ar]3d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5</a:t>
            </a:r>
            <a:r>
              <a:rPr b="0" lang="ar-SA" sz="3200" spc="-1" strike="noStrike" baseline="30000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3200" spc="-1" strike="noStrike" baseline="30000">
                <a:solidFill>
                  <a:srgbClr val="00007d"/>
                </a:solidFill>
                <a:latin typeface="Comic Sans MS"/>
              </a:rPr>
              <a:t>    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22"/>
          <p:cNvSpPr/>
          <p:nvPr/>
        </p:nvSpPr>
        <p:spPr>
          <a:xfrm>
            <a:off x="800640" y="4797360"/>
            <a:ext cx="196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Fe</a:t>
            </a:r>
            <a:r>
              <a:rPr b="0" lang="ar-SA" sz="3200" spc="-1" strike="noStrike" baseline="30000">
                <a:solidFill>
                  <a:srgbClr val="9900cc"/>
                </a:solidFill>
                <a:latin typeface="Comic Sans MS"/>
              </a:rPr>
              <a:t>3</a:t>
            </a:r>
            <a:r>
              <a:rPr b="0" lang="en-US" sz="3200" spc="-1" strike="noStrike" baseline="30000">
                <a:solidFill>
                  <a:srgbClr val="9900cc"/>
                </a:solidFill>
                <a:latin typeface="Comic Sans MS"/>
              </a:rPr>
              <a:t>+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:</a:t>
            </a:r>
            <a:r>
              <a:rPr b="0" lang="en-US" sz="3200" spc="-1" strike="noStrike" baseline="30000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??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651640" y="1550880"/>
            <a:ext cx="3349440" cy="193608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ransition metals ca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FIRST: electrons lost from s orbi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HEN: from the (n-1)d orbi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4D7EB9-23A3-41C4-AF5F-BA47DD952FA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468360" y="549360"/>
            <a:ext cx="8675640" cy="36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Q: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Write the electronic configuration for Co</a:t>
            </a:r>
            <a:r>
              <a:rPr b="0" lang="en-US" sz="2800" spc="-1" strike="noStrike" baseline="30000">
                <a:solidFill>
                  <a:srgbClr val="ff0000"/>
                </a:solidFill>
                <a:latin typeface="Comic Sans MS"/>
              </a:rPr>
              <a:t>2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a) [Ar] 4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b) [Ar] 3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c) [Ar] 4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492360" y="1197000"/>
            <a:ext cx="5365800" cy="350028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3097080" y="5083200"/>
            <a:ext cx="6875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Co: [Ar] 4s</a:t>
            </a:r>
            <a:r>
              <a:rPr b="0" lang="en-GB" sz="2800" spc="-1" strike="noStrike" baseline="30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7d"/>
                </a:solidFill>
                <a:latin typeface="Comic Sans MS"/>
              </a:rPr>
              <a:t>7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 (transition me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Co</a:t>
            </a:r>
            <a:r>
              <a:rPr b="0" lang="en-GB" sz="2800" spc="-1" strike="noStrike" baseline="30000">
                <a:solidFill>
                  <a:srgbClr val="00007d"/>
                </a:solidFill>
                <a:latin typeface="Comic Sans MS"/>
              </a:rPr>
              <a:t>2+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: [Ar] 3d</a:t>
            </a:r>
            <a:r>
              <a:rPr b="0" lang="en-GB" sz="2800" spc="-1" strike="noStrike" baseline="30000">
                <a:solidFill>
                  <a:srgbClr val="00007d"/>
                </a:solidFill>
                <a:latin typeface="Comic Sans MS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0A04BC-5E17-4249-A7D3-69E45C36FB5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0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12" dur="500" fill="hold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613" dur="500" fill="hold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614" dur="500" fill="hold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  <a:ea typeface="Times New Roman"/>
              </a:rPr>
              <a:t>8.3 Periodic Variation in Physical Properties: Outline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Effective nuclear charge  </a:t>
            </a:r>
            <a:r>
              <a:rPr b="0" lang="ar-SA" sz="3200" spc="-1" strike="noStrike">
                <a:solidFill>
                  <a:srgbClr val="ff3399"/>
                </a:solidFill>
                <a:latin typeface="Comic Sans MS"/>
                <a:cs typeface="Times New Roman"/>
              </a:rPr>
              <a:t>شحنه النواه الفعليه</a:t>
            </a:r>
            <a:r>
              <a:rPr b="0" lang="en-US" sz="32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Atomic Radius</a:t>
            </a:r>
            <a:r>
              <a:rPr b="0" lang="ar-SA" sz="28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 </a:t>
            </a:r>
            <a:r>
              <a:rPr b="0" lang="ar-SA" sz="2800" spc="-1" strike="noStrike">
                <a:solidFill>
                  <a:srgbClr val="9900cc"/>
                </a:solidFill>
                <a:latin typeface="Comic Sans MS"/>
                <a:cs typeface="Times New Roman"/>
              </a:rPr>
              <a:t>نصف قطر الذر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3399ff"/>
                </a:solidFill>
                <a:latin typeface="Comic Sans MS"/>
                <a:ea typeface="Times New Roman"/>
              </a:rPr>
              <a:t>Ionic Radius</a:t>
            </a:r>
            <a:r>
              <a:rPr b="0" lang="en-GB" sz="2800" spc="-1" strike="noStrike">
                <a:solidFill>
                  <a:srgbClr val="3399ff"/>
                </a:solidFill>
                <a:latin typeface="Comic Sans MS"/>
                <a:ea typeface="Times New Roman"/>
              </a:rPr>
              <a:t>   </a:t>
            </a:r>
            <a:r>
              <a:rPr b="0" lang="ar-SA" sz="2800" spc="-1" strike="noStrike">
                <a:solidFill>
                  <a:srgbClr val="3399ff"/>
                </a:solidFill>
                <a:latin typeface="Comic Sans MS"/>
                <a:ea typeface="Times New Roman"/>
              </a:rPr>
              <a:t> </a:t>
            </a:r>
            <a:r>
              <a:rPr b="0" lang="ar-SA" sz="2800" spc="-1" strike="noStrike">
                <a:solidFill>
                  <a:srgbClr val="3399ff"/>
                </a:solidFill>
                <a:latin typeface="Comic Sans MS"/>
                <a:cs typeface="Times New Roman"/>
              </a:rPr>
              <a:t>نصف قطر الايو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6807E-E2DC-4188-84DB-4CF7CEF5C41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Effective Nuclear Charg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84358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The effective nuclear charge (Z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Comic Sans MS"/>
              </a:rPr>
              <a:t>eff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)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is the nuclear charge felt by an electron when both the actual nuclear charge (Z) and the repulsive effects (shielding) of the other electrons are taken acc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eans that electrons in an atom shield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تحجب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ne anoth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4" name=""/>
              <p:cNvSpPr txBox="1"/>
              <p:nvPr/>
            </p:nvSpPr>
            <p:spPr>
              <a:xfrm>
                <a:off x="971640" y="3645000"/>
                <a:ext cx="6121440" cy="17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ff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t xml:space="preserve">σ</m:t>
                        </m:r>
                      </m:e>
                      <m:e>
                        <m:r>
                          <m:t xml:space="preserve">σ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sigm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: is called shielding constant</m:t>
                        </m:r>
                      </m:e>
                      <m:e>
                        <m:r>
                          <m:t xml:space="preserve">0</m:t>
                        </m:r>
                        <m:r>
                          <m:t xml:space="preserve">&lt;</m:t>
                        </m:r>
                        <m:r>
                          <m:t xml:space="preserve">σ</m:t>
                        </m:r>
                        <m:r>
                          <m:t xml:space="preserve">&lt;</m:t>
                        </m:r>
                        <m:r>
                          <m:t xml:space="preserve">Z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85" name=""/>
          <p:cNvSpPr/>
          <p:nvPr/>
        </p:nvSpPr>
        <p:spPr>
          <a:xfrm>
            <a:off x="2771640" y="2708280"/>
            <a:ext cx="100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حج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7E8928-0D1E-40FD-922A-B3EDECBD7FD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446040" y="1852560"/>
            <a:ext cx="8229600" cy="308916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1476360" y="620640"/>
            <a:ext cx="7056360" cy="147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cc"/>
                </a:solidFill>
                <a:latin typeface="Comic Sans MS"/>
              </a:rPr>
              <a:t>Example: He at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36BD6C-5EC0-4F93-84D5-E6C03656573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Effective Nuclear Charge: RUL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267920"/>
            <a:ext cx="843588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GB" sz="3600" spc="-1" strike="noStrike">
                <a:solidFill>
                  <a:srgbClr val="666633"/>
                </a:solidFill>
                <a:latin typeface="Comic Sans MS"/>
              </a:rPr>
              <a:t>core electrons </a:t>
            </a:r>
            <a:r>
              <a:rPr b="1" lang="ar-SA" sz="3600" spc="-1" strike="noStrike">
                <a:solidFill>
                  <a:srgbClr val="666633"/>
                </a:solidFill>
                <a:latin typeface="Comic Sans MS"/>
              </a:rPr>
              <a:t>الالكترونات الداخليه</a:t>
            </a:r>
            <a:r>
              <a:rPr b="0" lang="ar-SA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are closer to nucleus than the 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valence electrons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</a:rPr>
              <a:t>الكترونات التكافؤ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The core electrons shield valence electrons MUCH MORE than valence electrons shield one anoth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2329F5-F901-47E6-B33E-B5030D5F4D1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Effective Nuclear Charge: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351080"/>
            <a:ext cx="843588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In the same period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The effective nuclear charge increase as we go from left to righ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In the same group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The effective nuclear charge increases from top to bottom in the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611280" y="2421000"/>
          <a:ext cx="7632720" cy="1728720"/>
        </p:xfrm>
        <a:graphic>
          <a:graphicData uri="http://schemas.openxmlformats.org/drawingml/2006/table">
            <a:tbl>
              <a:tblPr/>
              <a:tblGrid>
                <a:gridCol w="792000"/>
                <a:gridCol w="792360"/>
                <a:gridCol w="792000"/>
                <a:gridCol w="936720"/>
                <a:gridCol w="792360"/>
                <a:gridCol w="934920"/>
                <a:gridCol w="865080"/>
                <a:gridCol w="792360"/>
                <a:gridCol w="934920"/>
              </a:tblGrid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L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B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Z</a:t>
                      </a:r>
                      <a:r>
                        <a:rPr b="0" lang="en-US" sz="2400" spc="-1" strike="noStrike" baseline="-25000">
                          <a:solidFill>
                            <a:srgbClr val="000099"/>
                          </a:solidFill>
                          <a:latin typeface="Comic Sans MS"/>
                        </a:rPr>
                        <a:t>ef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1.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1.9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2.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3.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3.8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4.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5.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5.7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949B4D-4744-471F-9B45-4B4AB688127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457200" y="2174760"/>
            <a:ext cx="8319960" cy="382284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1528560" y="635040"/>
            <a:ext cx="6131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Effective Nuclear Charge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omic Sans MS"/>
              </a:rPr>
              <a:t>eff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516120" y="1700280"/>
            <a:ext cx="2128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creasing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e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rot="16200000">
            <a:off x="-612000" y="3942720"/>
            <a:ext cx="2128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creasing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e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02D2FB-9249-43F3-8F25-7E539979055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fill="hold">
                      <p:stCondLst>
                        <p:cond delay="0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9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4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1116000" y="1628640"/>
            <a:ext cx="6120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187280" y="981000"/>
            <a:ext cx="626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826920" y="1916280"/>
            <a:ext cx="0" cy="4105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044720" y="3348000"/>
            <a:ext cx="7127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B67A88-16C8-4664-9D19-64B554B7CE0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1" dur="8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2" dur="8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3" dur="8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8" dur="8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9" dur="8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0" dur="8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24000" y="25704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Chapter 8 Periodic Relationship Among the Elements</a:t>
            </a:r>
            <a:r>
              <a:rPr b="1" lang="en-US" sz="36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: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68680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8.2 Periodic Classification of the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8.3 Periodic variation in physical proper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Effective nuclear char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Atomic Radi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Ionic Radi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ff"/>
                </a:solidFill>
                <a:latin typeface="Comic Sans MS"/>
                <a:ea typeface="Times New Roman"/>
              </a:rPr>
              <a:t>8.4 Ionization ener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8.5 Electron affi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lectronegativity (ch.9 p. 377-37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EF3FD6-D3CE-4B22-9245-7551B9D8EC5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  <a:ea typeface="Times New Roman"/>
              </a:rPr>
              <a:t>Atomic Radiu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78920" y="1341360"/>
            <a:ext cx="541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size of the atom is defined by the ATOMIC RADI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tomic Radius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½ the distance between the two nuclei in two adjacent metal atoms or in a diatomic molec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5629320" y="693720"/>
            <a:ext cx="3622680" cy="5543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5D2E2A-C3D4-4A91-99B1-A49FA253A84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45720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Atomic Radius: RULE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57200" y="1351080"/>
            <a:ext cx="8435880" cy="53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In the same period: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effective nu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harge increases from left to right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 is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ame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added valence electron is m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trongly attracted by the nucleus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en-GB" sz="2800" spc="-1" strike="noStrike">
                <a:solidFill>
                  <a:srgbClr val="9900cc"/>
                </a:solidFill>
                <a:latin typeface="Comic Sans MS"/>
              </a:rPr>
              <a:t>the atom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cc"/>
                </a:solidFill>
                <a:latin typeface="Comic Sans MS"/>
              </a:rPr>
              <a:t>radius decreases from left to right in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cc"/>
                </a:solidFill>
                <a:latin typeface="Comic Sans MS"/>
              </a:rPr>
              <a:t>peri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In the same group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n increases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en-GB" sz="2800" spc="-1" strike="noStrike">
                <a:solidFill>
                  <a:srgbClr val="3399ff"/>
                </a:solidFill>
                <a:latin typeface="Comic Sans MS"/>
              </a:rPr>
              <a:t>atomic radius increases from top to bottom in the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9035C9-E775-4BE8-A442-081F393EEB6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1116000" y="1628640"/>
            <a:ext cx="6120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187280" y="981000"/>
            <a:ext cx="626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tomic radius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826920" y="1916280"/>
            <a:ext cx="0" cy="4105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044720" y="3141720"/>
            <a:ext cx="7127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Atom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09E378-B942-42B1-B973-824D3BF5242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3" dur="8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4" dur="8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5" dur="8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0" dur="8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1" dur="8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2" dur="8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468360" y="406440"/>
            <a:ext cx="849636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Example 8.2 p33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Referring to a periodic table, arrange the following atoms in order of increasing atomic radius: P, Si, 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68360" y="2446200"/>
            <a:ext cx="835344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 &amp; P are in the same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 is smaller than 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2. P &amp; Si are in the same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 is smaller than 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arrangement of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increasing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atomic radius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 &lt; P &lt; 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11280" y="2421000"/>
            <a:ext cx="756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851280" y="533700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mic Sans MS"/>
              </a:rPr>
              <a:t>الصغير الى الكبي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F402F5-BCBB-4742-A46E-4C115564AF1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108000" y="692280"/>
            <a:ext cx="8820000" cy="575280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6948360" y="2062080"/>
            <a:ext cx="503280" cy="43020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948360" y="1557360"/>
            <a:ext cx="503280" cy="43020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443640" y="2060640"/>
            <a:ext cx="503280" cy="43020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F35871-3875-47D5-8024-54FAA64A0F07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2"/>
          <p:cNvSpPr/>
          <p:nvPr/>
        </p:nvSpPr>
        <p:spPr>
          <a:xfrm>
            <a:off x="395280" y="-171360"/>
            <a:ext cx="8229600" cy="20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Q: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Which choice below correctly lists the elements in order of increasing atomic radii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3"/>
          <p:cNvSpPr/>
          <p:nvPr/>
        </p:nvSpPr>
        <p:spPr>
          <a:xfrm>
            <a:off x="250920" y="1341360"/>
            <a:ext cx="7619760" cy="26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a &lt; Mg &lt; K &lt; R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Mg &lt; Na &lt; K &lt; R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b &lt; K &lt; Na &lt; M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b &lt; K &lt; Mg &lt; 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635280" y="1341360"/>
            <a:ext cx="5257800" cy="342900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3635280" y="2133720"/>
            <a:ext cx="289080" cy="2872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922560" y="2133720"/>
            <a:ext cx="289080" cy="2872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635280" y="2421000"/>
            <a:ext cx="289080" cy="2872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635280" y="2709720"/>
            <a:ext cx="289080" cy="287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50920" y="4076640"/>
            <a:ext cx="25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e know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042920" y="4869000"/>
            <a:ext cx="0" cy="1557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-36360" y="5157720"/>
            <a:ext cx="1331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tomic radius incre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189080" y="5160960"/>
            <a:ext cx="718920" cy="10159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187280" y="4761000"/>
            <a:ext cx="3024360" cy="3988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a              M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900000" y="4581360"/>
            <a:ext cx="251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971640" y="4292640"/>
            <a:ext cx="295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tomic radius decre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F16E5C-EB88-4CE5-8D93-5CEBFC904479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710" dur="500" fill="hold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711" dur="500" fill="hold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712" dur="500" fill="hold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457200" y="33336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  <a:ea typeface="Times New Roman"/>
              </a:rPr>
              <a:t>Ionic Radiu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79280" y="1125360"/>
            <a:ext cx="878544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Ionic Radius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is the radius of cation or an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ion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gain electrons →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ionic radius increas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because the nuclear charge remain the same but the repulsion resulting from the additional electrons increases the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ation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lose electron → </a:t>
            </a:r>
            <a:r>
              <a:rPr b="1" lang="en-US" sz="2400" spc="-1" strike="noStrike">
                <a:solidFill>
                  <a:srgbClr val="3399ff"/>
                </a:solidFill>
                <a:latin typeface="Comic Sans MS"/>
                <a:ea typeface="Times New Roman"/>
              </a:rPr>
              <a:t>ionic radius decreas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because removing one or more electron from an atom reduces electron-electron repulsion but the nuclear charge remains the sa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enerall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50920" y="5381640"/>
            <a:ext cx="8807400" cy="100872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  <a:ea typeface="Arial"/>
              </a:rPr>
              <a:t>Anion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is always </a:t>
            </a:r>
            <a:r>
              <a:rPr b="1" lang="en-US" sz="2000" spc="-1" strike="noStrike">
                <a:solidFill>
                  <a:srgbClr val="ff0000"/>
                </a:solidFill>
                <a:latin typeface="Comic Sans MS"/>
                <a:ea typeface="Arial"/>
              </a:rPr>
              <a:t>larger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than atom from which it is form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99ff"/>
                </a:solidFill>
                <a:latin typeface="Comic Sans MS"/>
                <a:ea typeface="Arial"/>
              </a:rPr>
              <a:t>Cation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is always </a:t>
            </a:r>
            <a:r>
              <a:rPr b="1" lang="en-US" sz="2000" spc="-1" strike="noStrike">
                <a:solidFill>
                  <a:srgbClr val="9999ff"/>
                </a:solidFill>
                <a:latin typeface="Comic Sans MS"/>
                <a:ea typeface="Arial"/>
              </a:rPr>
              <a:t>smaller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than atom from which it is form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Cations &lt; An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Picture 2" descr=""/>
          <p:cNvPicPr/>
          <p:nvPr/>
        </p:nvPicPr>
        <p:blipFill>
          <a:blip r:embed="rId1"/>
          <a:srcRect l="0" t="32005" r="0" b="30005"/>
          <a:stretch/>
        </p:blipFill>
        <p:spPr>
          <a:xfrm>
            <a:off x="3735360" y="4005360"/>
            <a:ext cx="4724280" cy="1218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BEE50B-2417-4C55-82D2-A9435EC86F0F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Ionic Radius: R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ionic radius increases from the top to the bottom of the group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(like the 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For ions in different groups: they should be isoelectron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solelectronic ion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cations &lt; anions: example Na</a:t>
            </a:r>
            <a:r>
              <a:rPr b="0" lang="en-GB" sz="2800" spc="-1" strike="noStrike" baseline="30000">
                <a:solidFill>
                  <a:srgbClr val="9900cc"/>
                </a:solidFill>
                <a:latin typeface="Comic Sans MS"/>
              </a:rPr>
              <a:t>+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&lt; F</a:t>
            </a:r>
            <a:r>
              <a:rPr b="0" lang="en-GB" sz="2800" spc="-1" strike="noStrike" baseline="30000">
                <a:solidFill>
                  <a:srgbClr val="9900cc"/>
                </a:solidFill>
                <a:latin typeface="Comic Sans MS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Isolelectronic cations: example Al</a:t>
            </a:r>
            <a:r>
              <a:rPr b="0" lang="en-GB" sz="2800" spc="-1" strike="noStrike" baseline="30000">
                <a:solidFill>
                  <a:srgbClr val="ff0000"/>
                </a:solidFill>
                <a:latin typeface="Comic Sans MS"/>
              </a:rPr>
              <a:t>3+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, Mg</a:t>
            </a:r>
            <a:r>
              <a:rPr b="0" lang="en-GB" sz="2800" spc="-1" strike="noStrike" baseline="30000">
                <a:solidFill>
                  <a:srgbClr val="ff0000"/>
                </a:solidFill>
                <a:latin typeface="Comic Sans MS"/>
              </a:rPr>
              <a:t>2+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, Na</a:t>
            </a:r>
            <a:r>
              <a:rPr b="0" lang="en-GB" sz="2800" spc="-1" strike="noStrike" baseline="30000">
                <a:solidFill>
                  <a:srgbClr val="ff0000"/>
                </a:solidFill>
                <a:latin typeface="Comic Sans MS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Al</a:t>
            </a:r>
            <a:r>
              <a:rPr b="0" lang="en-GB" sz="2800" spc="-1" strike="noStrike" baseline="30000">
                <a:solidFill>
                  <a:srgbClr val="ff0000"/>
                </a:solidFill>
                <a:latin typeface="Comic Sans MS"/>
              </a:rPr>
              <a:t>3+ 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&lt; Mg</a:t>
            </a:r>
            <a:r>
              <a:rPr b="0" lang="en-GB" sz="2800" spc="-1" strike="noStrike" baseline="30000">
                <a:solidFill>
                  <a:srgbClr val="ff0000"/>
                </a:solidFill>
                <a:latin typeface="Comic Sans MS"/>
              </a:rPr>
              <a:t>2+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 &lt; Na</a:t>
            </a:r>
            <a:r>
              <a:rPr b="0" lang="en-GB" sz="2800" spc="-1" strike="noStrike" baseline="30000">
                <a:solidFill>
                  <a:srgbClr val="ff0000"/>
                </a:solidFill>
                <a:latin typeface="Comic Sans MS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cc33"/>
                </a:solidFill>
                <a:latin typeface="Comic Sans MS"/>
              </a:rPr>
              <a:t>Isoelectronic anoins: example O</a:t>
            </a:r>
            <a:r>
              <a:rPr b="0" lang="en-GB" sz="2800" spc="-1" strike="noStrike" baseline="30000">
                <a:solidFill>
                  <a:srgbClr val="33cc33"/>
                </a:solidFill>
                <a:latin typeface="Comic Sans MS"/>
              </a:rPr>
              <a:t>2-</a:t>
            </a:r>
            <a:r>
              <a:rPr b="0" lang="en-GB" sz="2800" spc="-1" strike="noStrike">
                <a:solidFill>
                  <a:srgbClr val="33cc33"/>
                </a:solidFill>
                <a:latin typeface="Comic Sans MS"/>
              </a:rPr>
              <a:t>, F</a:t>
            </a:r>
            <a:r>
              <a:rPr b="0" lang="en-GB" sz="2800" spc="-1" strike="noStrike" baseline="30000">
                <a:solidFill>
                  <a:srgbClr val="33cc33"/>
                </a:solidFill>
                <a:latin typeface="Comic Sans MS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cc33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33cc33"/>
                </a:solidFill>
                <a:latin typeface="Comic Sans MS"/>
              </a:rPr>
              <a:t>F</a:t>
            </a:r>
            <a:r>
              <a:rPr b="0" lang="en-GB" sz="2800" spc="-1" strike="noStrike" baseline="30000">
                <a:solidFill>
                  <a:srgbClr val="33cc33"/>
                </a:solidFill>
                <a:latin typeface="Comic Sans MS"/>
              </a:rPr>
              <a:t>-</a:t>
            </a:r>
            <a:r>
              <a:rPr b="0" lang="en-GB" sz="2400" spc="-1" strike="noStrike">
                <a:solidFill>
                  <a:srgbClr val="33cc33"/>
                </a:solidFill>
                <a:latin typeface="Comic Sans MS"/>
              </a:rPr>
              <a:t> &lt; O</a:t>
            </a:r>
            <a:r>
              <a:rPr b="0" lang="en-GB" sz="2800" spc="-1" strike="noStrike" baseline="30000">
                <a:solidFill>
                  <a:srgbClr val="33cc33"/>
                </a:solidFill>
                <a:latin typeface="Comic Sans MS"/>
              </a:rPr>
              <a:t>2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987640" y="6222960"/>
            <a:ext cx="4248360" cy="94716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cc33"/>
                </a:solidFill>
                <a:latin typeface="Comic Sans MS"/>
              </a:rPr>
              <a:t>الاصغر ذو الشحنه السالبه الاصغ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356000" y="5203800"/>
            <a:ext cx="4103640" cy="94716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Comic Sans MS"/>
              </a:rPr>
              <a:t>الاصغر ذو الشحنه الموجبه الاكب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913440" y="3429000"/>
            <a:ext cx="2195640" cy="137376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00cc"/>
                </a:solidFill>
                <a:latin typeface="Comic Sans MS"/>
              </a:rPr>
              <a:t>الكاتيونات اصغر من الانيون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E409AD-C705-4C6D-8CAB-317566047595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1116000" y="1628640"/>
            <a:ext cx="6120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187280" y="981000"/>
            <a:ext cx="626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tomic radius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684360" y="2997360"/>
            <a:ext cx="0" cy="3024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826920" y="3141720"/>
            <a:ext cx="7128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Atom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on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067280" y="4943520"/>
            <a:ext cx="4752720" cy="228852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omic Sans MS"/>
              </a:rPr>
              <a:t>ايونات من مجموعات مختلفه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900cc"/>
                </a:solidFill>
                <a:latin typeface="Comic Sans MS"/>
              </a:rPr>
              <a:t>الكاتيونات اصغر من الانيون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Comic Sans MS"/>
              </a:rPr>
              <a:t>كاتيونات: الاصغر ذو الشحنه الموجبه الاكب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cc33"/>
                </a:solidFill>
                <a:latin typeface="Comic Sans MS"/>
              </a:rPr>
              <a:t>انيونات : الاصغر ذو الشحنه السالبه الاصغ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8B5CC-AA95-444C-8304-D81CEC5040A6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1" dur="80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2" dur="80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3" dur="80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36360" y="549360"/>
            <a:ext cx="885672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3300"/>
                </a:solidFill>
                <a:latin typeface="Comic Sans MS"/>
              </a:rPr>
              <a:t>Example 8.3 p33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3300"/>
                </a:solidFill>
                <a:latin typeface="Comic Sans MS"/>
              </a:rPr>
              <a:t>For each of the following pairs, indicate which 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3300"/>
                </a:solidFill>
                <a:latin typeface="Comic Sans MS"/>
              </a:rPr>
              <a:t>is larg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-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or F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g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or Ca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e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or Fe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230200" y="2490840"/>
            <a:ext cx="6957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→</a:t>
            </a:r>
            <a:r>
              <a:rPr b="1" lang="ar-SA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isolelctronic anions →</a:t>
            </a:r>
            <a:r>
              <a:rPr b="1" lang="ar-SA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F</a:t>
            </a:r>
            <a:r>
              <a:rPr b="1" lang="en-GB" sz="2800" spc="-1" strike="noStrike" baseline="30000">
                <a:solidFill>
                  <a:srgbClr val="00007d"/>
                </a:solidFill>
                <a:latin typeface="Comic Sans MS"/>
              </a:rPr>
              <a:t>-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 &lt; N</a:t>
            </a:r>
            <a:r>
              <a:rPr b="1" lang="en-GB" sz="2800" spc="-1" strike="noStrike" baseline="30000">
                <a:solidFill>
                  <a:srgbClr val="00007d"/>
                </a:solidFill>
                <a:latin typeface="Comic Sans MS"/>
              </a:rPr>
              <a:t>3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Arial"/>
              </a:rPr>
              <a:t>→ 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in the same group </a:t>
            </a:r>
            <a:r>
              <a:rPr b="1" lang="en-GB" sz="2800" spc="-1" strike="noStrike">
                <a:solidFill>
                  <a:srgbClr val="00007d"/>
                </a:solidFill>
                <a:latin typeface="Arial"/>
              </a:rPr>
              <a:t>→</a:t>
            </a:r>
            <a:r>
              <a:rPr b="1" lang="ar-SA" sz="28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Mg</a:t>
            </a:r>
            <a:r>
              <a:rPr b="1" lang="en-GB" sz="2800" spc="-1" strike="noStrike" baseline="30000">
                <a:solidFill>
                  <a:srgbClr val="00007d"/>
                </a:solidFill>
                <a:latin typeface="Comic Sans MS"/>
              </a:rPr>
              <a:t>2+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 &lt; Ca</a:t>
            </a:r>
            <a:r>
              <a:rPr b="1" lang="en-GB" sz="2800" spc="-1" strike="noStrike" baseline="30000">
                <a:solidFill>
                  <a:srgbClr val="00007d"/>
                </a:solidFill>
                <a:latin typeface="Comic Sans MS"/>
              </a:rPr>
              <a:t>2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Arial"/>
              </a:rPr>
              <a:t>→ 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cations </a:t>
            </a:r>
            <a:r>
              <a:rPr b="1" lang="en-GB" sz="2800" spc="-1" strike="noStrike">
                <a:solidFill>
                  <a:srgbClr val="00007d"/>
                </a:solidFill>
                <a:latin typeface="Arial"/>
              </a:rPr>
              <a:t>→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 Fe</a:t>
            </a:r>
            <a:r>
              <a:rPr b="1" lang="en-GB" sz="2800" spc="-1" strike="noStrike" baseline="30000">
                <a:solidFill>
                  <a:srgbClr val="00007d"/>
                </a:solidFill>
                <a:latin typeface="Comic Sans MS"/>
              </a:rPr>
              <a:t>3+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 &lt; Fe</a:t>
            </a:r>
            <a:r>
              <a:rPr b="1" lang="en-GB" sz="2800" spc="-1" strike="noStrike" baseline="30000">
                <a:solidFill>
                  <a:srgbClr val="00007d"/>
                </a:solidFill>
                <a:latin typeface="Comic Sans MS"/>
              </a:rPr>
              <a:t>2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B935A7-395E-4691-B2DF-2BD2A18DEE96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8" dur="indefinite" restart="never" nodeType="tmRoot">
          <p:childTnLst>
            <p:seq>
              <p:cTn id="799" dur="indefinite" nodeType="mainSeq">
                <p:childTnLst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4" dur="8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5" dur="8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6" dur="8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1" dur="80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2" dur="80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3" dur="80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8" dur="8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9" dur="8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0" dur="8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5280" y="257040"/>
            <a:ext cx="8748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  <a:ea typeface="Times New Roman"/>
              </a:rPr>
              <a:t>8.2 Periodic Classification of the elements: 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4360" y="1989000"/>
            <a:ext cx="5759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68360" y="1773360"/>
            <a:ext cx="84247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Ground State Electron Configurations of the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666633"/>
                </a:solidFill>
                <a:latin typeface="Comic Sans MS"/>
              </a:rPr>
              <a:t>Electron configuration of cations and 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6666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6633"/>
                </a:solidFill>
                <a:latin typeface="Comic Sans MS"/>
                <a:ea typeface="Arial"/>
              </a:rPr>
              <a:t> </a:t>
            </a:r>
            <a:r>
              <a:rPr b="0" lang="en-GB" sz="3200" spc="-1" strike="noStrike">
                <a:solidFill>
                  <a:srgbClr val="666633"/>
                </a:solidFill>
                <a:latin typeface="Comic Sans MS"/>
                <a:ea typeface="Arial"/>
              </a:rPr>
              <a:t>Ions derived from representative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6666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6633"/>
                </a:solidFill>
                <a:latin typeface="Comic Sans MS"/>
                <a:ea typeface="Arial"/>
              </a:rPr>
              <a:t> </a:t>
            </a:r>
            <a:r>
              <a:rPr b="0" lang="en-GB" sz="3200" spc="-1" strike="noStrike">
                <a:solidFill>
                  <a:srgbClr val="666633"/>
                </a:solidFill>
                <a:latin typeface="Comic Sans MS"/>
                <a:ea typeface="Arial"/>
              </a:rPr>
              <a:t>Ions derived from transition met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A58928-2A7A-49D2-B6B7-75733F65963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468360" y="404640"/>
            <a:ext cx="8280360" cy="42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7030a0"/>
                </a:solidFill>
                <a:uFillTx/>
                <a:latin typeface="Comic Sans MS"/>
              </a:rPr>
              <a:t>Isoelectronic 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7030a0"/>
                </a:solidFill>
                <a:latin typeface="Comic Sans MS"/>
              </a:rPr>
              <a:t>Example: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+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g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+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rrangement of increasing ionic radiu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+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&lt;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g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+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&lt;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95280" y="3645000"/>
            <a:ext cx="777708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b0f0"/>
                </a:solidFill>
                <a:uFillTx/>
                <a:latin typeface="Comic Sans MS"/>
              </a:rPr>
              <a:t>Isoelectronic an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b0f0"/>
                </a:solidFill>
                <a:uFillTx/>
                <a:latin typeface="Comic Sans MS"/>
              </a:rPr>
              <a:t> </a:t>
            </a:r>
            <a:r>
              <a:rPr b="1" lang="en-US" sz="2800" spc="-1" strike="noStrike" u="sng">
                <a:solidFill>
                  <a:srgbClr val="00b0f0"/>
                </a:solidFill>
                <a:uFillTx/>
                <a:latin typeface="Comic Sans MS"/>
              </a:rPr>
              <a:t>Example: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rrangement of increasing ionic radiu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&lt;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&lt;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68360" y="3573360"/>
            <a:ext cx="813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4F4052-7838-4C88-AEF0-7535E026A084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1" dur="indefinite" restart="never" nodeType="tmRoot">
          <p:childTnLst>
            <p:seq>
              <p:cTn id="822" dur="indefinite" nodeType="mainSeq">
                <p:childTnLst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3"/>
          <p:cNvSpPr/>
          <p:nvPr/>
        </p:nvSpPr>
        <p:spPr>
          <a:xfrm>
            <a:off x="457200" y="476280"/>
            <a:ext cx="8153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Q: Order the following according to increasing atomic/ionic radiu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4"/>
          <p:cNvSpPr/>
          <p:nvPr/>
        </p:nvSpPr>
        <p:spPr>
          <a:xfrm>
            <a:off x="457200" y="2297160"/>
            <a:ext cx="44020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C &lt; Li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&lt; O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2–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&lt; N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3–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3–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&lt; O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2–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&lt; C &lt; Li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Li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&lt; C &lt; N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3–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&lt; O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2–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Li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&lt; C &lt; N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3–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&lt; O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2–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3300"/>
                </a:solidFill>
                <a:latin typeface="Comic Sans MS"/>
              </a:rPr>
              <a:t>Li</a:t>
            </a:r>
            <a:r>
              <a:rPr b="0" lang="en-US" sz="2700" spc="-1" strike="noStrike" baseline="30000">
                <a:solidFill>
                  <a:srgbClr val="cc3300"/>
                </a:solidFill>
                <a:latin typeface="Comic Sans MS"/>
              </a:rPr>
              <a:t>+</a:t>
            </a:r>
            <a:r>
              <a:rPr b="0" lang="en-US" sz="2700" spc="-1" strike="noStrike">
                <a:solidFill>
                  <a:srgbClr val="cc3300"/>
                </a:solidFill>
                <a:latin typeface="Comic Sans MS"/>
              </a:rPr>
              <a:t> &lt; C &lt; O</a:t>
            </a:r>
            <a:r>
              <a:rPr b="0" lang="en-US" sz="2700" spc="-1" strike="noStrike" baseline="30000">
                <a:solidFill>
                  <a:srgbClr val="cc3300"/>
                </a:solidFill>
                <a:latin typeface="Comic Sans MS"/>
              </a:rPr>
              <a:t>2–</a:t>
            </a:r>
            <a:r>
              <a:rPr b="0" lang="en-US" sz="2700" spc="-1" strike="noStrike">
                <a:solidFill>
                  <a:srgbClr val="cc3300"/>
                </a:solidFill>
                <a:latin typeface="Comic Sans MS"/>
              </a:rPr>
              <a:t> &lt; N</a:t>
            </a:r>
            <a:r>
              <a:rPr b="0" lang="en-US" sz="2700" spc="-1" strike="noStrike" baseline="30000">
                <a:solidFill>
                  <a:srgbClr val="cc3300"/>
                </a:solidFill>
                <a:latin typeface="Comic Sans MS"/>
              </a:rPr>
              <a:t>3–</a:t>
            </a:r>
            <a:r>
              <a:rPr b="0" lang="en-US" sz="2700" spc="-1" strike="noStrike">
                <a:solidFill>
                  <a:srgbClr val="cc3300"/>
                </a:solidFill>
                <a:latin typeface="Comic Sans MS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5"/>
          <p:cNvSpPr/>
          <p:nvPr/>
        </p:nvSpPr>
        <p:spPr>
          <a:xfrm>
            <a:off x="3024720" y="1557360"/>
            <a:ext cx="290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N</a:t>
            </a:r>
            <a:r>
              <a:rPr b="0" lang="en-US" sz="2800" spc="-1" strike="noStrike" baseline="30000">
                <a:solidFill>
                  <a:srgbClr val="cc3300"/>
                </a:solidFill>
                <a:latin typeface="Comic Sans MS"/>
              </a:rPr>
              <a:t>3–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    Li</a:t>
            </a:r>
            <a:r>
              <a:rPr b="0" lang="en-US" sz="2800" spc="-1" strike="noStrike" baseline="30000">
                <a:solidFill>
                  <a:srgbClr val="cc3300"/>
                </a:solidFill>
                <a:latin typeface="Comic Sans MS"/>
              </a:rPr>
              <a:t>+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    C    O</a:t>
            </a:r>
            <a:r>
              <a:rPr b="0" lang="en-US" sz="2800" spc="-1" strike="noStrike" baseline="30000">
                <a:solidFill>
                  <a:srgbClr val="cc3300"/>
                </a:solidFill>
                <a:latin typeface="Comic Sans MS"/>
              </a:rPr>
              <a:t>2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4284720" y="2205000"/>
            <a:ext cx="4753080" cy="155700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900cc"/>
                </a:solidFill>
                <a:latin typeface="Comic Sans MS"/>
              </a:rPr>
              <a:t>الكاتيونات اصغر من الانيون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cc33"/>
                </a:solidFill>
                <a:latin typeface="Comic Sans MS"/>
              </a:rPr>
              <a:t>انيونات : الاصغر ذو الشحنه السالبه الاصغ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4823D8-0E4F-46F8-B3C2-1134C23CA3C8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836" dur="500" fill="hold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837" dur="500" fill="hold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838" dur="500" fill="hold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00007d"/>
                </a:solidFill>
                <a:uFillTx/>
                <a:latin typeface="Comic Sans MS"/>
              </a:rPr>
              <a:t>Ionization Energy </a:t>
            </a:r>
            <a:r>
              <a:rPr b="1" lang="ar-SA" sz="4400" spc="-1" strike="noStrike" u="sng">
                <a:solidFill>
                  <a:srgbClr val="00007d"/>
                </a:solidFill>
                <a:uFillTx/>
                <a:latin typeface="Comic Sans MS"/>
              </a:rPr>
              <a:t>طاقة التأي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74760" y="1197000"/>
            <a:ext cx="8229600" cy="129528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Ionization Energy (IE)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s the minimum energy (kJ/mol) required to remove an electron from a gaseous atom in its ground st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24000" y="2637000"/>
            <a:ext cx="8229600" cy="19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marL="209160" indent="-2091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higher ionization energy, the more difficult is to remove the electrons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كلما كانت طاقة التأين اكبر اصبح نزع الاكترون اصع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first ionization energy</a:t>
            </a:r>
            <a:r>
              <a:rPr b="1" lang="ar-SA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s the amount of energy required to remove the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electron from an atom in the gaseous st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us: if there is a first ionization energy I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cond ionization energy I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ird ionization energy I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enerally: I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1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&lt; I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2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&lt; I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9225F0-09E7-4315-97AB-3A2327FDF05B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9" dur="indefinite" restart="never" nodeType="tmRoot">
          <p:childTnLst>
            <p:seq>
              <p:cTn id="840" dur="indefinite" nodeType="mainSeq">
                <p:childTnLst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5" dur="8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6" dur="8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7" dur="8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2" dur="8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3" dur="8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4" dur="8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755640" y="1844640"/>
            <a:ext cx="7993080" cy="3002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180D29-2DF3-484C-995D-4746E215A4CA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Ionization Energy: R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E of metals is lower than non-metals, metalloid IE is in the midd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For a given group, IE decreases from the top to the bottom of the grou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 a given period, the IE increases from left to right in period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, with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some exceptions 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استثناءات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Group 2A (ns</a:t>
            </a: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 )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igher than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 3A (ns</a:t>
            </a: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 np</a:t>
            </a: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) in the same period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. Example (Be &amp; 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Group 5A (ns</a:t>
            </a:r>
            <a:r>
              <a:rPr b="0" lang="en-US" sz="2800" spc="-1" strike="noStrike" baseline="30000">
                <a:solidFill>
                  <a:srgbClr val="cc33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 np</a:t>
            </a:r>
            <a:r>
              <a:rPr b="0" lang="en-US" sz="2800" spc="-1" strike="noStrike" baseline="30000">
                <a:solidFill>
                  <a:srgbClr val="cc33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)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igher than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 6A (ns</a:t>
            </a:r>
            <a:r>
              <a:rPr b="0" lang="en-US" sz="2800" spc="-1" strike="noStrike" baseline="30000">
                <a:solidFill>
                  <a:srgbClr val="cc33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 np</a:t>
            </a:r>
            <a:r>
              <a:rPr b="0" lang="en-US" sz="2800" spc="-1" strike="noStrike" baseline="30000">
                <a:solidFill>
                  <a:srgbClr val="cc3300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) in the same period. Example (N &amp; 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35C250-D4C9-4215-84C9-0B2BCDD6B3C9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5" dur="indefinite" restart="never" nodeType="tmRoot">
          <p:childTnLst>
            <p:seq>
              <p:cTn id="876" dur="indefinite" nodeType="mainSeq">
                <p:childTnLst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468360" y="476280"/>
            <a:ext cx="8532720" cy="53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Ionization Energy Exceptions: (summa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lace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eneral Rule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E increase from left to right in  the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1A &lt; 2A &lt; 3A &lt; 4A &lt; 5A &lt; 6A &lt; 7A &lt; 8A  </a:t>
            </a: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xception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3A &lt; 2A) &amp; (6A &lt; 5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THUS: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1A &lt; </a:t>
            </a:r>
            <a:r>
              <a:rPr b="1" lang="en-US" sz="2800" spc="-1" strike="noStrike" u="sng">
                <a:solidFill>
                  <a:srgbClr val="cc3300"/>
                </a:solidFill>
                <a:uFillTx/>
                <a:latin typeface="Comic Sans MS"/>
              </a:rPr>
              <a:t>3A &lt; 2A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&lt; 4A &lt; </a:t>
            </a:r>
            <a:r>
              <a:rPr b="1" lang="en-US" sz="2800" spc="-1" strike="noStrike" u="sng">
                <a:solidFill>
                  <a:srgbClr val="cc3300"/>
                </a:solidFill>
                <a:uFillTx/>
                <a:latin typeface="Comic Sans MS"/>
              </a:rPr>
              <a:t>6A &lt; 5A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&lt; 7A &lt; 8A 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C0B9FA-0CBF-491D-B885-14998585D7C6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7" dur="indefinite" restart="never" nodeType="tmRoot">
          <p:childTnLst>
            <p:seq>
              <p:cTn id="898" dur="indefinite" nodeType="mainSeq">
                <p:childTnLst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9" dur="80"/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0" dur="80"/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1" dur="80"/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1116000" y="1628640"/>
            <a:ext cx="6120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187280" y="476280"/>
            <a:ext cx="626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tomic radius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684360" y="3213000"/>
            <a:ext cx="0" cy="2808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826920" y="3141720"/>
            <a:ext cx="7128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Atom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on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003640" y="3789360"/>
            <a:ext cx="3961080" cy="192348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omic Sans MS"/>
              </a:rPr>
              <a:t>ايونات من مجموعات مختلفه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9900cc"/>
                </a:solidFill>
                <a:latin typeface="Comic Sans MS"/>
              </a:rPr>
              <a:t>الكاتيونات اصغر من الانيونا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mic Sans MS"/>
              </a:rPr>
              <a:t>كاتيونات: الاصغر ذو الشحنه الموجبه الاكب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33cc33"/>
                </a:solidFill>
                <a:latin typeface="Comic Sans MS"/>
              </a:rPr>
              <a:t>انيونات : الاصغر ذو الشحنه السالبه الاصغ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187280" y="1773360"/>
            <a:ext cx="712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Comic Sans MS"/>
              </a:rPr>
              <a:t>First ionization energy increases (with excep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931680" y="5141880"/>
            <a:ext cx="565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Comic Sans MS"/>
              </a:rPr>
              <a:t>First ionization energy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6A1272-9611-4278-BB32-50E308CB0349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2" dur="indefinite" restart="never" nodeType="tmRoot">
          <p:childTnLst>
            <p:seq>
              <p:cTn id="923" dur="indefinite" nodeType="mainSeq">
                <p:childTnLst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8" dur="8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9" dur="8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0" dur="8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5" dur="8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6" dur="8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7" dur="8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468360" y="549360"/>
            <a:ext cx="2665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68360" y="549360"/>
            <a:ext cx="4464000" cy="62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Comic Sans MS"/>
              </a:rPr>
              <a:t>Example 8.4 (a) p340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Which atom should have a smaller first ionization energy: oxygen or sulphu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O &amp; S are in group 6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O: [He] 2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: [Ne] 3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3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6633"/>
                </a:solidFill>
                <a:latin typeface="Comic Sans MS"/>
              </a:rPr>
              <a:t>The valence electrons in sulphur are farther </a:t>
            </a:r>
            <a:r>
              <a:rPr b="0" lang="ar-SA" sz="2400" spc="-1" strike="noStrike">
                <a:solidFill>
                  <a:srgbClr val="666633"/>
                </a:solidFill>
                <a:latin typeface="Comic Sans MS"/>
              </a:rPr>
              <a:t>ابعد</a:t>
            </a:r>
            <a:r>
              <a:rPr b="0" lang="en-GB" sz="2400" spc="-1" strike="noStrike">
                <a:solidFill>
                  <a:srgbClr val="666633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666633"/>
                </a:solidFill>
                <a:latin typeface="Comic Sans MS"/>
              </a:rPr>
              <a:t>from the nucleus </a:t>
            </a:r>
            <a:r>
              <a:rPr b="0" lang="en-GB" sz="2400" spc="-1" strike="noStrike">
                <a:solidFill>
                  <a:srgbClr val="666633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666633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666633"/>
                </a:solidFill>
                <a:latin typeface="Comic Sans MS"/>
              </a:rPr>
              <a:t>removing of them is eas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US: I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(S) &lt; I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(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4753080" y="1197000"/>
            <a:ext cx="4356000" cy="284148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/>
          <p:nvPr/>
        </p:nvSpPr>
        <p:spPr>
          <a:xfrm>
            <a:off x="8388360" y="1628640"/>
            <a:ext cx="216000" cy="21600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8388360" y="1844640"/>
            <a:ext cx="216000" cy="2890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FC0A6D-581F-47B2-B70C-F8FA87FF589B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8" dur="indefinite" restart="never" nodeType="tmRoot">
          <p:childTnLst>
            <p:seq>
              <p:cTn id="939" dur="indefinite" nodeType="mainSeq">
                <p:childTnLst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2"/>
          <p:cNvSpPr/>
          <p:nvPr/>
        </p:nvSpPr>
        <p:spPr>
          <a:xfrm>
            <a:off x="395280" y="1197000"/>
            <a:ext cx="82296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3300"/>
                </a:solidFill>
                <a:uFillTx/>
                <a:latin typeface="Comic Sans MS"/>
              </a:rPr>
              <a:t>H.W: Q 8.52: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 Arrange the following in order of </a:t>
            </a:r>
            <a:r>
              <a:rPr b="0" lang="en-US" sz="2800" spc="-1" strike="noStrike" u="sng">
                <a:solidFill>
                  <a:srgbClr val="cc3300"/>
                </a:solidFill>
                <a:uFillTx/>
                <a:latin typeface="Comic Sans MS"/>
              </a:rPr>
              <a:t>increasing first ionization energy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: </a:t>
            </a:r>
            <a:br>
              <a:rPr sz="2800"/>
            </a:b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F, K, P, Ca, and Ne.</a:t>
            </a:r>
            <a:br>
              <a:rPr sz="2800"/>
            </a:br>
            <a:br>
              <a:rPr sz="2800"/>
            </a:b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 &lt; Ca &lt; P &lt; F &lt; Ne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1619280" y="2725560"/>
            <a:ext cx="6337440" cy="413244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>
            <a:off x="1619280" y="4005360"/>
            <a:ext cx="36036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979640" y="4006800"/>
            <a:ext cx="360360" cy="35892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516720" y="3716280"/>
            <a:ext cx="360360" cy="35892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7236000" y="3357720"/>
            <a:ext cx="360360" cy="3585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7596360" y="3357720"/>
            <a:ext cx="360360" cy="3585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A98C44-F90A-4B6D-B6F9-7FCFFAD32AE5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2" dur="indefinite" restart="never" nodeType="tmRoot">
          <p:childTnLst>
            <p:seq>
              <p:cTn id="963" dur="indefinite" nodeType="mainSeq">
                <p:childTnLst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8" dur="8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9" dur="8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0" dur="8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00007d"/>
                </a:solidFill>
                <a:uFillTx/>
                <a:latin typeface="Comic Sans MS"/>
              </a:rPr>
              <a:t>Electron Affinity </a:t>
            </a:r>
            <a:r>
              <a:rPr b="1" lang="ar-SA" sz="4400" spc="-1" strike="noStrike" u="sng">
                <a:solidFill>
                  <a:srgbClr val="00007d"/>
                </a:solidFill>
                <a:uFillTx/>
                <a:latin typeface="Comic Sans MS"/>
              </a:rPr>
              <a:t> </a:t>
            </a:r>
            <a:r>
              <a:rPr b="1" lang="ar-SA" sz="4400" spc="-1" strike="noStrike" u="sng">
                <a:solidFill>
                  <a:srgbClr val="00007d"/>
                </a:solidFill>
                <a:uFillTx/>
                <a:latin typeface="Comic Sans MS"/>
              </a:rPr>
              <a:t>الالفه الاكتروني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74760" y="1197000"/>
            <a:ext cx="8229600" cy="216072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Electron affinity (EA): the ability of atom to accept one or more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OR: The negative of the energy change that occurs when an electron is accepted by an atom in the gaseous state to form an an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24000" y="3645000"/>
            <a:ext cx="822960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higher electron affinity, the greater affinity to accept the electr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D72728-7779-4807-86D8-56F87565F88E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1" dur="indefinite" restart="never" nodeType="tmRoot">
          <p:childTnLst>
            <p:seq>
              <p:cTn id="972" dur="indefinite" nodeType="mainSeq">
                <p:childTnLst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7" dur="8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8" dur="8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9" dur="8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4" dur="8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5" dur="8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6" dur="8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1" dur="80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2" dur="80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3" dur="80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13366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cc"/>
                </a:solidFill>
                <a:latin typeface="Comic Sans MS"/>
              </a:rPr>
              <a:t>Q1: What is the trend in the period?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666633"/>
                </a:solidFill>
                <a:latin typeface="Comic Sans MS"/>
              </a:rPr>
              <a:t>Q2: What is the trend in the group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946920" y="525600"/>
            <a:ext cx="2197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Comic Sans MS"/>
              </a:rPr>
              <a:t>ميل</a:t>
            </a:r>
            <a:r>
              <a:rPr b="0" lang="en-GB" sz="4400" spc="-1" strike="noStrike">
                <a:solidFill>
                  <a:srgbClr val="ff00ff"/>
                </a:solidFill>
                <a:latin typeface="Comic Sans MS"/>
              </a:rPr>
              <a:t>,</a:t>
            </a:r>
            <a:r>
              <a:rPr b="0" lang="ar-SA" sz="4400" spc="-1" strike="noStrike">
                <a:solidFill>
                  <a:srgbClr val="ff00ff"/>
                </a:solidFill>
                <a:latin typeface="Comic Sans MS"/>
              </a:rPr>
              <a:t> توجه</a:t>
            </a:r>
            <a:r>
              <a:rPr b="0" lang="ar-SA" sz="4400" spc="-1" strike="noStrike">
                <a:solidFill>
                  <a:srgbClr val="ff00ff"/>
                </a:solidFill>
                <a:latin typeface="Comic Sans MS"/>
              </a:rPr>
              <a:t> </a:t>
            </a:r>
            <a:r>
              <a:rPr b="0" lang="en-GB" sz="4400" spc="-1" strike="noStrike">
                <a:solidFill>
                  <a:srgbClr val="ff00ff"/>
                </a:solidFill>
                <a:latin typeface="Comic Sans MS"/>
              </a:rPr>
              <a:t>   </a:t>
            </a:r>
            <a:r>
              <a:rPr b="0" lang="en-GB" sz="4400" spc="-1" strike="noStrike">
                <a:solidFill>
                  <a:srgbClr val="ff00ff"/>
                </a:solidFill>
                <a:latin typeface="Comic Sans MS"/>
              </a:rPr>
              <a:t>trend</a:t>
            </a:r>
            <a:r>
              <a:rPr b="0" lang="en-GB" sz="44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42"/>
          <p:cNvSpPr/>
          <p:nvPr/>
        </p:nvSpPr>
        <p:spPr>
          <a:xfrm>
            <a:off x="395280" y="4019400"/>
            <a:ext cx="8748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A1: Within a Period number of electrons incre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33"/>
                </a:solidFill>
                <a:latin typeface="Comic Sans MS"/>
                <a:ea typeface="Times New Roman"/>
              </a:rPr>
              <a:t>A2: Within a group (n)  incre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4000" y="3860640"/>
            <a:ext cx="842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6EF801-7B90-477C-B574-7ABE62167DD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Content Placeholder 1"/>
          <p:cNvSpPr/>
          <p:nvPr/>
        </p:nvSpPr>
        <p:spPr>
          <a:xfrm>
            <a:off x="304920" y="-171360"/>
            <a:ext cx="8229600" cy="57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317520" indent="-22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7520" indent="-2221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 EA for non-metal is higher than metal , EA for metalloid fall between metals and nonmet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7520" indent="-2221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EA decreases from top to the bottom of the gro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7520" indent="-2221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EA increase from left to right in period. With some excep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roup 2A (n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 </a:t>
            </a:r>
            <a:r>
              <a:rPr b="1" lang="en-US" sz="2800" spc="-1" strike="noStrike">
                <a:solidFill>
                  <a:srgbClr val="00843c"/>
                </a:solidFill>
                <a:latin typeface="Comic Sans MS"/>
                <a:ea typeface="Times New Roman"/>
              </a:rPr>
              <a:t>lower than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A (n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) in the same peri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roup 5A (n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n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 </a:t>
            </a:r>
            <a:r>
              <a:rPr b="1" lang="en-US" sz="2800" spc="-1" strike="noStrike">
                <a:solidFill>
                  <a:srgbClr val="00843c"/>
                </a:solidFill>
                <a:latin typeface="Comic Sans MS"/>
                <a:ea typeface="Times New Roman"/>
              </a:rPr>
              <a:t>lower than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4A (n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n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 in the same peri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oble gases have the lowest electron affin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7520" indent="-2221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A12D75-7647-466C-A8F2-6FDCF0828D04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8" dur="indefinite" restart="never" nodeType="tmRoot">
          <p:childTnLst>
            <p:seq>
              <p:cTn id="999" dur="indefinite" nodeType="mainSeq">
                <p:childTnLst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50920" y="476280"/>
            <a:ext cx="8750160" cy="59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Electron Affinity Exceptions: (summa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lace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eneral Rule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EA increase from left to right in  the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1A &lt; 2A &lt; 3A &lt; 4A &lt; 5A &lt; 6A &lt; 7A &lt; 8A  </a:t>
            </a: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xception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2A &lt; 1A) &amp; (5A &lt; 4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Noble gases have the lowest electron affin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THUS: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8A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&lt;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2A &lt; 1A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&lt; 3A &lt;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5A &lt; 4A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&lt; 6A &lt; 7A 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FC00A6-82F4-47A5-AA8C-3685B1D30B7C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0" dur="80"/>
                                        <p:tgtEl>
                                          <p:spTgt spid="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1" dur="80"/>
                                        <p:tgtEl>
                                          <p:spTgt spid="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2" dur="80"/>
                                        <p:tgtEl>
                                          <p:spTgt spid="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395280" y="1628640"/>
            <a:ext cx="684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187280" y="468360"/>
            <a:ext cx="626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tomic radius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84360" y="3284640"/>
            <a:ext cx="0" cy="3313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826920" y="3141720"/>
            <a:ext cx="7128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Atom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on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003640" y="3789360"/>
            <a:ext cx="3961080" cy="192348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omic Sans MS"/>
              </a:rPr>
              <a:t>ايونات من مجموعات مختلفه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9900cc"/>
                </a:solidFill>
                <a:latin typeface="Comic Sans MS"/>
              </a:rPr>
              <a:t>الكاتيونات اصغر من الانيونا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mic Sans MS"/>
              </a:rPr>
              <a:t>كاتيونات: الاصغر ذو الشحنه الموجبه الاكب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33cc33"/>
                </a:solidFill>
                <a:latin typeface="Comic Sans MS"/>
              </a:rPr>
              <a:t>انيونات : الاصغر ذو الشحنه السالبه الاصغ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116000" y="1773360"/>
            <a:ext cx="75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First ionization energy increases (with except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931680" y="5141880"/>
            <a:ext cx="565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Comic Sans MS"/>
              </a:rPr>
              <a:t>First ionization energy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248120" y="2205000"/>
            <a:ext cx="746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9a7"/>
                </a:solidFill>
                <a:latin typeface="Comic Sans MS"/>
              </a:rPr>
              <a:t>Electron affinity increases ( with excep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001880" y="5734080"/>
            <a:ext cx="456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9a7"/>
                </a:solidFill>
                <a:latin typeface="Comic Sans MS"/>
              </a:rPr>
              <a:t>Electron affinity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6F2F9A-42AE-4C36-8717-CC2CF1E9E75C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3" dur="indefinite" restart="never" nodeType="tmRoot">
          <p:childTnLst>
            <p:seq>
              <p:cTn id="1054" dur="indefinite" nodeType="mainSeq">
                <p:childTnLst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9" dur="8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0" dur="8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1" dur="8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66" dur="8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7" dur="8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8" dur="8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179280" y="1457280"/>
            <a:ext cx="403236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9a7"/>
                </a:solidFill>
                <a:latin typeface="Comic Sans MS"/>
              </a:rPr>
              <a:t>IE are between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9a7"/>
                </a:solidFill>
                <a:latin typeface="Comic Sans MS"/>
              </a:rPr>
              <a:t>2A &amp; 3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9a7"/>
                </a:solidFill>
                <a:latin typeface="Comic Sans MS"/>
              </a:rPr>
              <a:t>5A &amp; 6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371120" y="1413000"/>
            <a:ext cx="390996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EA are betwe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1A &amp; 2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4A &amp; 5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Noble gases hav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the lowest affin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1324800" y="484200"/>
            <a:ext cx="57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Exceptions in the IE &amp; E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E05B88-4851-4786-B31D-1606B745EEAF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2"/>
          <p:cNvSpPr/>
          <p:nvPr/>
        </p:nvSpPr>
        <p:spPr>
          <a:xfrm>
            <a:off x="380880" y="404640"/>
            <a:ext cx="83059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Q: Which choice correctly lists the elements in order of decreasing electron affinit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3"/>
          <p:cNvSpPr/>
          <p:nvPr/>
        </p:nvSpPr>
        <p:spPr>
          <a:xfrm>
            <a:off x="468360" y="1341360"/>
            <a:ext cx="754380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, Cl, B,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, Cl, C,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Cl, O, C,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, O, B,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2916360" y="1484280"/>
            <a:ext cx="6227640" cy="406080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/>
          <p:nvPr/>
        </p:nvSpPr>
        <p:spPr>
          <a:xfrm>
            <a:off x="8101080" y="2060640"/>
            <a:ext cx="36036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8459640" y="2421000"/>
            <a:ext cx="28908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093080" y="2060640"/>
            <a:ext cx="28728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7380360" y="2060640"/>
            <a:ext cx="36036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08000" y="3800520"/>
            <a:ext cx="2808360" cy="28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creasing or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decreasing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xceptions?? 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pply the rule of the period until you find a group apply the rule of the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276720" y="594504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B &lt; C &lt; O &lt;  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AB5482-3E2E-4853-972A-2A547ED9F584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9" dur="indefinite" restart="never" nodeType="tmRoot">
          <p:childTnLst>
            <p:seq>
              <p:cTn id="1070" dur="indefinite" nodeType="mainSeq">
                <p:childTnLst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7" dur="8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8" dur="8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9" dur="8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468360" y="476280"/>
            <a:ext cx="8424720" cy="33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cc3300"/>
                </a:solidFill>
                <a:uFillTx/>
                <a:latin typeface="Comic Sans MS"/>
              </a:rPr>
              <a:t>H.W. Q 8.62:</a:t>
            </a:r>
            <a:r>
              <a:rPr b="0" lang="en-GB" sz="2800" spc="-1" strike="noStrike">
                <a:solidFill>
                  <a:srgbClr val="cc3300"/>
                </a:solidFill>
                <a:latin typeface="Comic Sans MS"/>
              </a:rPr>
              <a:t> Specify which of the following elements you would expect to have the greatest electron affinity and which have the least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3300"/>
                </a:solidFill>
                <a:latin typeface="Comic Sans MS"/>
              </a:rPr>
              <a:t>He, K, Co, S, 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276720" y="3149640"/>
            <a:ext cx="5688000" cy="370836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/>
          <p:nvPr/>
        </p:nvSpPr>
        <p:spPr>
          <a:xfrm>
            <a:off x="611280" y="2852640"/>
            <a:ext cx="777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8604360" y="3357720"/>
            <a:ext cx="360360" cy="3585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276720" y="4292640"/>
            <a:ext cx="36036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796000" y="4292640"/>
            <a:ext cx="36036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8028000" y="4005360"/>
            <a:ext cx="28908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8315280" y="4005360"/>
            <a:ext cx="28908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79280" y="3789360"/>
            <a:ext cx="288144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Arrangement of increasing E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e &lt; K &lt; Co &lt; S &lt; 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reatest EA: 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east EA: 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324000" y="5229360"/>
            <a:ext cx="1655640" cy="360360"/>
          </a:xfrm>
          <a:prstGeom prst="wedgeRectCallout">
            <a:avLst>
              <a:gd name="adj1" fmla="val -40412"/>
              <a:gd name="adj2" fmla="val -8568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ce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C92141-BEC9-419A-9D45-CBFD82E5CE41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0" dur="indefinite" restart="never" nodeType="tmRoot">
          <p:childTnLst>
            <p:seq>
              <p:cTn id="1091" dur="indefinite" nodeType="mainSeq">
                <p:childTnLst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Content Placeholder 3"/>
          <p:cNvSpPr/>
          <p:nvPr/>
        </p:nvSpPr>
        <p:spPr>
          <a:xfrm>
            <a:off x="395280" y="990720"/>
            <a:ext cx="8424720" cy="200664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lectronegativity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escribes the unequal sharing of electrons between two atom in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 chemical bon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lectronegativity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s the ability of an atom in a molecule  to attract to themselves  the shared electrons in a chemical bo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95280" y="333360"/>
            <a:ext cx="87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Electronegativity </a:t>
            </a:r>
            <a:r>
              <a:rPr b="1" lang="ar-SA" sz="3600" spc="-1" strike="noStrike" u="sng">
                <a:solidFill>
                  <a:srgbClr val="00007d"/>
                </a:solidFill>
                <a:uFillTx/>
                <a:latin typeface="Comic Sans MS"/>
              </a:rPr>
              <a:t>الكهربيه</a:t>
            </a: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 </a:t>
            </a:r>
            <a:r>
              <a:rPr b="1" lang="ar-SA" sz="3600" spc="-1" strike="noStrike" u="sng">
                <a:solidFill>
                  <a:srgbClr val="00007d"/>
                </a:solidFill>
                <a:uFillTx/>
                <a:latin typeface="Comic Sans MS"/>
              </a:rPr>
              <a:t>السالبي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Content Placeholder 3"/>
          <p:cNvSpPr/>
          <p:nvPr/>
        </p:nvSpPr>
        <p:spPr>
          <a:xfrm>
            <a:off x="324000" y="3160800"/>
            <a:ext cx="8686800" cy="38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igh electronegativity →pick up electron easi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lectronegativity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increas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from left to right in perio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lectronegativity 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decrease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from top to bottom in group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on-metals have high electronegativity, metals have low electronegativ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97CF6B-4115-491E-BCE7-9FC01D1AEE59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1260360" y="1628640"/>
            <a:ext cx="6120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332000" y="476280"/>
            <a:ext cx="626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tomic radius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95280" y="3284640"/>
            <a:ext cx="0" cy="3313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539640" y="3141720"/>
            <a:ext cx="7128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Atom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on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4788000" y="3789360"/>
            <a:ext cx="3960720" cy="192348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omic Sans MS"/>
              </a:rPr>
              <a:t>ايونات من مجموعات مختلفه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9900cc"/>
                </a:solidFill>
                <a:latin typeface="Comic Sans MS"/>
              </a:rPr>
              <a:t>الكاتيونات اصغر من الانيونا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mic Sans MS"/>
              </a:rPr>
              <a:t>كاتيونات: الاصغر ذو الشحنه الموجبه الاكب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33cc33"/>
                </a:solidFill>
                <a:latin typeface="Comic Sans MS"/>
              </a:rPr>
              <a:t>انيونات : الاصغر ذو الشحنه السالبه الاصغ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185840" y="1773360"/>
            <a:ext cx="806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Comic Sans MS"/>
              </a:rPr>
              <a:t>Ionization energy increases (with excep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543240" y="5141880"/>
            <a:ext cx="487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Comic Sans MS"/>
              </a:rPr>
              <a:t>Ionization energy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319400" y="2205000"/>
            <a:ext cx="746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9a7"/>
                </a:solidFill>
                <a:latin typeface="Comic Sans MS"/>
              </a:rPr>
              <a:t>Electron affinity increases ( with excep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641520" y="5734080"/>
            <a:ext cx="456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9a7"/>
                </a:solidFill>
                <a:latin typeface="Comic Sans MS"/>
              </a:rPr>
              <a:t>Electron affinity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1242360" y="2622600"/>
            <a:ext cx="472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Electro</a:t>
            </a:r>
            <a:r>
              <a:rPr b="0" lang="en-GB" sz="2800" spc="-1" strike="noStrike">
                <a:solidFill>
                  <a:srgbClr val="660066"/>
                </a:solidFill>
                <a:latin typeface="Comic Sans MS"/>
              </a:rPr>
              <a:t>negativity</a:t>
            </a: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 increas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99040" y="6165720"/>
            <a:ext cx="482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Electro</a:t>
            </a:r>
            <a:r>
              <a:rPr b="0" lang="en-GB" sz="2800" spc="-1" strike="noStrike">
                <a:solidFill>
                  <a:srgbClr val="660066"/>
                </a:solidFill>
                <a:latin typeface="Comic Sans MS"/>
              </a:rPr>
              <a:t>negativity</a:t>
            </a: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 decreas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828720" y="476280"/>
            <a:ext cx="8280360" cy="26654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179280" y="3213000"/>
            <a:ext cx="8785440" cy="345600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-108000" y="765000"/>
            <a:ext cx="1297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hapter 8 summ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BD9BB6-342F-46F3-AB99-BC035C58E7A6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6" dur="indefinite" restart="never" nodeType="tmRoot">
          <p:childTnLst>
            <p:seq>
              <p:cTn id="1097" dur="indefinite" nodeType="mainSeq">
                <p:childTnLst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2" dur="8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3" dur="8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4" dur="8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9" dur="80"/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0" dur="80"/>
                                        <p:tgtEl>
                                          <p:spTgt spid="4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1" dur="80"/>
                                        <p:tgtEl>
                                          <p:spTgt spid="4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2"/>
          <p:cNvSpPr/>
          <p:nvPr/>
        </p:nvSpPr>
        <p:spPr>
          <a:xfrm>
            <a:off x="380880" y="-100080"/>
            <a:ext cx="8763120" cy="21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Q: Which choice below correctly lists the elements in order of increasing electronegativity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3"/>
          <p:cNvSpPr/>
          <p:nvPr/>
        </p:nvSpPr>
        <p:spPr>
          <a:xfrm>
            <a:off x="468360" y="1557360"/>
            <a:ext cx="7467480" cy="24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Comic Sans MS"/>
              </a:rPr>
              <a:t>C &lt; N &lt; O &lt; 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 &lt; C &lt; O &lt; 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 &lt; C &lt; F &lt; 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 &lt; N &lt; F &lt; 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708360" y="2200320"/>
            <a:ext cx="5364360" cy="349704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/>
          <p:nvPr/>
        </p:nvSpPr>
        <p:spPr>
          <a:xfrm>
            <a:off x="7596360" y="2708280"/>
            <a:ext cx="288720" cy="2890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7885080" y="2708280"/>
            <a:ext cx="289080" cy="2890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8170920" y="2708280"/>
            <a:ext cx="288720" cy="2890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8459640" y="2708280"/>
            <a:ext cx="289080" cy="2890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4000" y="5157720"/>
            <a:ext cx="3960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 know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2" name=""/>
              <p:cNvSpPr txBox="1"/>
              <p:nvPr/>
            </p:nvSpPr>
            <p:spPr>
              <a:xfrm>
                <a:off x="324000" y="5661000"/>
                <a:ext cx="3311280" cy="10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lectronegativity increases</m:t>
                            </m:r>
                          </m:e>
                        </m:acc>
                      </m:e>
                      <m:e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O</m:t>
                        </m:r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F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A62A39-C650-4FF5-B354-66CA0A33FB38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117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1118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1119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3"/>
          <p:cNvSpPr/>
          <p:nvPr/>
        </p:nvSpPr>
        <p:spPr>
          <a:xfrm>
            <a:off x="468360" y="260280"/>
            <a:ext cx="8496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Q: Which will be the largest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4"/>
          <p:cNvSpPr/>
          <p:nvPr/>
        </p:nvSpPr>
        <p:spPr>
          <a:xfrm>
            <a:off x="457200" y="1052640"/>
            <a:ext cx="260208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434160" indent="-434160">
              <a:lnSpc>
                <a:spcPct val="9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of N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9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of N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9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of M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9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of M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90000"/>
              </a:lnSpc>
              <a:spcBef>
                <a:spcPts val="675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Comic Sans MS"/>
              </a:rPr>
              <a:t>I</a:t>
            </a:r>
            <a:r>
              <a:rPr b="0" lang="en-US" sz="2700" spc="-1" strike="noStrike" baseline="-25000">
                <a:solidFill>
                  <a:srgbClr val="ff0000"/>
                </a:solidFill>
                <a:latin typeface="Comic Sans MS"/>
              </a:rPr>
              <a:t>3</a:t>
            </a:r>
            <a:r>
              <a:rPr b="0" lang="en-US" sz="2700" spc="-1" strike="noStrike">
                <a:solidFill>
                  <a:srgbClr val="ff0000"/>
                </a:solidFill>
                <a:latin typeface="Comic Sans MS"/>
              </a:rPr>
              <a:t> of M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6"/>
          <p:cNvSpPr/>
          <p:nvPr/>
        </p:nvSpPr>
        <p:spPr>
          <a:xfrm>
            <a:off x="5577840" y="476280"/>
            <a:ext cx="3073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I</a:t>
            </a:r>
            <a:r>
              <a:rPr b="0" lang="en-US" sz="2400" spc="-1" strike="noStrike" baseline="-25000">
                <a:solidFill>
                  <a:srgbClr val="cc33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= ionization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851280" y="1557360"/>
            <a:ext cx="5041800" cy="3287520"/>
          </a:xfrm>
          <a:prstGeom prst="rect">
            <a:avLst/>
          </a:prstGeom>
          <a:ln w="0">
            <a:noFill/>
          </a:ln>
        </p:spPr>
      </p:pic>
      <p:sp>
        <p:nvSpPr>
          <p:cNvPr id="447" name=""/>
          <p:cNvSpPr/>
          <p:nvPr/>
        </p:nvSpPr>
        <p:spPr>
          <a:xfrm>
            <a:off x="3851280" y="2349360"/>
            <a:ext cx="289080" cy="287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4140360" y="2349360"/>
            <a:ext cx="287280" cy="287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68360" y="4869000"/>
            <a:ext cx="8136000" cy="19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e know: I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&lt; I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&lt; I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          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US: I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(Mg) is the larg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0" name=""/>
              <p:cNvSpPr txBox="1"/>
              <p:nvPr/>
            </p:nvSpPr>
            <p:spPr>
              <a:xfrm>
                <a:off x="611280" y="5373720"/>
                <a:ext cx="2303280" cy="14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E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increaes</m:t>
                            </m:r>
                          </m:e>
                        </m:acc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a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0752E2-C396-4845-A3C5-D3E793C677B5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2507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3" descr="cha56011_0802"/>
          <p:cNvPicPr/>
          <p:nvPr/>
        </p:nvPicPr>
        <p:blipFill>
          <a:blip r:embed="rId1"/>
          <a:stretch/>
        </p:blipFill>
        <p:spPr>
          <a:xfrm>
            <a:off x="0" y="1441440"/>
            <a:ext cx="9144000" cy="5372280"/>
          </a:xfrm>
          <a:prstGeom prst="rect">
            <a:avLst/>
          </a:prstGeom>
          <a:ln w="0">
            <a:noFill/>
          </a:ln>
        </p:spPr>
      </p:pic>
      <p:grpSp>
        <p:nvGrpSpPr>
          <p:cNvPr id="121" name="Group 35"/>
          <p:cNvGrpSpPr/>
          <p:nvPr/>
        </p:nvGrpSpPr>
        <p:grpSpPr>
          <a:xfrm>
            <a:off x="227160" y="842760"/>
            <a:ext cx="398880" cy="4332600"/>
            <a:chOff x="227160" y="842760"/>
            <a:chExt cx="398880" cy="4332600"/>
          </a:xfrm>
        </p:grpSpPr>
        <p:sp>
          <p:nvSpPr>
            <p:cNvPr id="122" name="Text Box 9"/>
            <p:cNvSpPr/>
            <p:nvPr/>
          </p:nvSpPr>
          <p:spPr>
            <a:xfrm rot="16200000">
              <a:off x="154800" y="915120"/>
              <a:ext cx="54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s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12"/>
            <p:cNvSpPr/>
            <p:nvPr/>
          </p:nvSpPr>
          <p:spPr>
            <a:xfrm>
              <a:off x="425520" y="1376280"/>
              <a:ext cx="0" cy="37990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Group 80"/>
          <p:cNvGrpSpPr/>
          <p:nvPr/>
        </p:nvGrpSpPr>
        <p:grpSpPr>
          <a:xfrm>
            <a:off x="722160" y="1360440"/>
            <a:ext cx="398880" cy="3814920"/>
            <a:chOff x="722160" y="1360440"/>
            <a:chExt cx="398880" cy="3814920"/>
          </a:xfrm>
        </p:grpSpPr>
        <p:sp>
          <p:nvSpPr>
            <p:cNvPr id="125" name="Text Box 15"/>
            <p:cNvSpPr/>
            <p:nvPr/>
          </p:nvSpPr>
          <p:spPr>
            <a:xfrm rot="16200000">
              <a:off x="649800" y="1432800"/>
              <a:ext cx="54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s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16"/>
            <p:cNvSpPr/>
            <p:nvPr/>
          </p:nvSpPr>
          <p:spPr>
            <a:xfrm>
              <a:off x="920880" y="1906560"/>
              <a:ext cx="0" cy="3268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Group 36"/>
          <p:cNvGrpSpPr/>
          <p:nvPr/>
        </p:nvGrpSpPr>
        <p:grpSpPr>
          <a:xfrm>
            <a:off x="6180120" y="986400"/>
            <a:ext cx="398880" cy="4188960"/>
            <a:chOff x="6180120" y="986400"/>
            <a:chExt cx="398880" cy="4188960"/>
          </a:xfrm>
        </p:grpSpPr>
        <p:sp>
          <p:nvSpPr>
            <p:cNvPr id="128" name="Text Box 18"/>
            <p:cNvSpPr/>
            <p:nvPr/>
          </p:nvSpPr>
          <p:spPr>
            <a:xfrm rot="16200000">
              <a:off x="5908680" y="1257480"/>
              <a:ext cx="94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s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2</a:t>
              </a: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p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19"/>
            <p:cNvSpPr/>
            <p:nvPr/>
          </p:nvSpPr>
          <p:spPr>
            <a:xfrm>
              <a:off x="6381720" y="1906560"/>
              <a:ext cx="0" cy="3268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Group 37"/>
          <p:cNvGrpSpPr/>
          <p:nvPr/>
        </p:nvGrpSpPr>
        <p:grpSpPr>
          <a:xfrm>
            <a:off x="6703920" y="973440"/>
            <a:ext cx="398880" cy="4201920"/>
            <a:chOff x="6703920" y="973440"/>
            <a:chExt cx="398880" cy="4201920"/>
          </a:xfrm>
        </p:grpSpPr>
        <p:sp>
          <p:nvSpPr>
            <p:cNvPr id="131" name="Text Box 21"/>
            <p:cNvSpPr/>
            <p:nvPr/>
          </p:nvSpPr>
          <p:spPr>
            <a:xfrm rot="16200000">
              <a:off x="6432480" y="1244520"/>
              <a:ext cx="94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s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2</a:t>
              </a: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p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22"/>
            <p:cNvSpPr/>
            <p:nvPr/>
          </p:nvSpPr>
          <p:spPr>
            <a:xfrm>
              <a:off x="6905520" y="1906560"/>
              <a:ext cx="0" cy="3268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Group 38"/>
          <p:cNvGrpSpPr/>
          <p:nvPr/>
        </p:nvGrpSpPr>
        <p:grpSpPr>
          <a:xfrm>
            <a:off x="7170840" y="973440"/>
            <a:ext cx="398880" cy="4201920"/>
            <a:chOff x="7170840" y="973440"/>
            <a:chExt cx="398880" cy="4201920"/>
          </a:xfrm>
        </p:grpSpPr>
        <p:sp>
          <p:nvSpPr>
            <p:cNvPr id="134" name="Text Box 24"/>
            <p:cNvSpPr/>
            <p:nvPr/>
          </p:nvSpPr>
          <p:spPr>
            <a:xfrm rot="16200000">
              <a:off x="6899400" y="1244520"/>
              <a:ext cx="94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s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2</a:t>
              </a: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p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25"/>
            <p:cNvSpPr/>
            <p:nvPr/>
          </p:nvSpPr>
          <p:spPr>
            <a:xfrm>
              <a:off x="7372440" y="1906560"/>
              <a:ext cx="0" cy="3268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Group 39"/>
          <p:cNvGrpSpPr/>
          <p:nvPr/>
        </p:nvGrpSpPr>
        <p:grpSpPr>
          <a:xfrm>
            <a:off x="7694640" y="973440"/>
            <a:ext cx="398880" cy="4201920"/>
            <a:chOff x="7694640" y="973440"/>
            <a:chExt cx="398880" cy="4201920"/>
          </a:xfrm>
        </p:grpSpPr>
        <p:sp>
          <p:nvSpPr>
            <p:cNvPr id="137" name="Text Box 27"/>
            <p:cNvSpPr/>
            <p:nvPr/>
          </p:nvSpPr>
          <p:spPr>
            <a:xfrm rot="16200000">
              <a:off x="7423200" y="1244520"/>
              <a:ext cx="94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s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2</a:t>
              </a: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p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28"/>
            <p:cNvSpPr/>
            <p:nvPr/>
          </p:nvSpPr>
          <p:spPr>
            <a:xfrm>
              <a:off x="7896240" y="1906560"/>
              <a:ext cx="0" cy="3268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Group 81"/>
          <p:cNvGrpSpPr/>
          <p:nvPr/>
        </p:nvGrpSpPr>
        <p:grpSpPr>
          <a:xfrm>
            <a:off x="8151840" y="973440"/>
            <a:ext cx="398880" cy="4201920"/>
            <a:chOff x="8151840" y="973440"/>
            <a:chExt cx="398880" cy="4201920"/>
          </a:xfrm>
        </p:grpSpPr>
        <p:sp>
          <p:nvSpPr>
            <p:cNvPr id="140" name="Text Box 30"/>
            <p:cNvSpPr/>
            <p:nvPr/>
          </p:nvSpPr>
          <p:spPr>
            <a:xfrm rot="16200000">
              <a:off x="7880400" y="1244520"/>
              <a:ext cx="94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s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2</a:t>
              </a: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p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31"/>
            <p:cNvSpPr/>
            <p:nvPr/>
          </p:nvSpPr>
          <p:spPr>
            <a:xfrm>
              <a:off x="8353440" y="1906560"/>
              <a:ext cx="0" cy="3268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Group 41"/>
          <p:cNvGrpSpPr/>
          <p:nvPr/>
        </p:nvGrpSpPr>
        <p:grpSpPr>
          <a:xfrm>
            <a:off x="8707320" y="-7560"/>
            <a:ext cx="398880" cy="4655880"/>
            <a:chOff x="8707320" y="-7560"/>
            <a:chExt cx="398880" cy="4655880"/>
          </a:xfrm>
        </p:grpSpPr>
        <p:sp>
          <p:nvSpPr>
            <p:cNvPr id="143" name="Text Box 33"/>
            <p:cNvSpPr/>
            <p:nvPr/>
          </p:nvSpPr>
          <p:spPr>
            <a:xfrm rot="16200000">
              <a:off x="8435880" y="263520"/>
              <a:ext cx="94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s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2</a:t>
              </a: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p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34"/>
            <p:cNvSpPr/>
            <p:nvPr/>
          </p:nvSpPr>
          <p:spPr>
            <a:xfrm>
              <a:off x="8908920" y="914400"/>
              <a:ext cx="0" cy="3733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Group 45"/>
          <p:cNvGrpSpPr/>
          <p:nvPr/>
        </p:nvGrpSpPr>
        <p:grpSpPr>
          <a:xfrm>
            <a:off x="1204920" y="2575800"/>
            <a:ext cx="398880" cy="2637720"/>
            <a:chOff x="1204920" y="2575800"/>
            <a:chExt cx="398880" cy="2637720"/>
          </a:xfrm>
        </p:grpSpPr>
        <p:sp>
          <p:nvSpPr>
            <p:cNvPr id="146" name="Text Box 42"/>
            <p:cNvSpPr/>
            <p:nvPr/>
          </p:nvSpPr>
          <p:spPr>
            <a:xfrm rot="16200000">
              <a:off x="1193400" y="2586960"/>
              <a:ext cx="421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d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43"/>
            <p:cNvSpPr/>
            <p:nvPr/>
          </p:nvSpPr>
          <p:spPr>
            <a:xfrm>
              <a:off x="1403280" y="3003480"/>
              <a:ext cx="0" cy="22100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Group 55"/>
          <p:cNvGrpSpPr/>
          <p:nvPr/>
        </p:nvGrpSpPr>
        <p:grpSpPr>
          <a:xfrm>
            <a:off x="3197160" y="2574000"/>
            <a:ext cx="398880" cy="2648880"/>
            <a:chOff x="3197160" y="2574000"/>
            <a:chExt cx="398880" cy="2648880"/>
          </a:xfrm>
        </p:grpSpPr>
        <p:sp>
          <p:nvSpPr>
            <p:cNvPr id="149" name="Text Box 56"/>
            <p:cNvSpPr/>
            <p:nvPr/>
          </p:nvSpPr>
          <p:spPr>
            <a:xfrm rot="16200000">
              <a:off x="3185640" y="2585160"/>
              <a:ext cx="421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d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57"/>
            <p:cNvSpPr/>
            <p:nvPr/>
          </p:nvSpPr>
          <p:spPr>
            <a:xfrm>
              <a:off x="3395520" y="3012840"/>
              <a:ext cx="0" cy="22100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Group 70"/>
          <p:cNvGrpSpPr/>
          <p:nvPr/>
        </p:nvGrpSpPr>
        <p:grpSpPr>
          <a:xfrm>
            <a:off x="5722920" y="2492640"/>
            <a:ext cx="398880" cy="2730240"/>
            <a:chOff x="5722920" y="2492640"/>
            <a:chExt cx="398880" cy="2730240"/>
          </a:xfrm>
        </p:grpSpPr>
        <p:sp>
          <p:nvSpPr>
            <p:cNvPr id="152" name="Text Box 71"/>
            <p:cNvSpPr/>
            <p:nvPr/>
          </p:nvSpPr>
          <p:spPr>
            <a:xfrm rot="16200000">
              <a:off x="5669640" y="2545920"/>
              <a:ext cx="50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d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72"/>
            <p:cNvSpPr/>
            <p:nvPr/>
          </p:nvSpPr>
          <p:spPr>
            <a:xfrm>
              <a:off x="5922720" y="3012840"/>
              <a:ext cx="0" cy="22100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Group 75"/>
          <p:cNvGrpSpPr/>
          <p:nvPr/>
        </p:nvGrpSpPr>
        <p:grpSpPr>
          <a:xfrm>
            <a:off x="620640" y="5845320"/>
            <a:ext cx="1512720" cy="398880"/>
            <a:chOff x="620640" y="5845320"/>
            <a:chExt cx="1512720" cy="398880"/>
          </a:xfrm>
        </p:grpSpPr>
        <p:sp>
          <p:nvSpPr>
            <p:cNvPr id="155" name="Text Box 73"/>
            <p:cNvSpPr/>
            <p:nvPr/>
          </p:nvSpPr>
          <p:spPr>
            <a:xfrm>
              <a:off x="620640" y="5845320"/>
              <a:ext cx="41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4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74"/>
            <p:cNvSpPr/>
            <p:nvPr/>
          </p:nvSpPr>
          <p:spPr>
            <a:xfrm>
              <a:off x="990360" y="6043320"/>
              <a:ext cx="1143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Group 76"/>
          <p:cNvGrpSpPr/>
          <p:nvPr/>
        </p:nvGrpSpPr>
        <p:grpSpPr>
          <a:xfrm>
            <a:off x="623880" y="6327720"/>
            <a:ext cx="1512720" cy="398880"/>
            <a:chOff x="623880" y="6327720"/>
            <a:chExt cx="1512720" cy="398880"/>
          </a:xfrm>
        </p:grpSpPr>
        <p:sp>
          <p:nvSpPr>
            <p:cNvPr id="158" name="Text Box 77"/>
            <p:cNvSpPr/>
            <p:nvPr/>
          </p:nvSpPr>
          <p:spPr>
            <a:xfrm>
              <a:off x="623880" y="6327720"/>
              <a:ext cx="41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5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78"/>
            <p:cNvSpPr/>
            <p:nvPr/>
          </p:nvSpPr>
          <p:spPr>
            <a:xfrm>
              <a:off x="993600" y="6526080"/>
              <a:ext cx="1143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Text Box 79"/>
          <p:cNvSpPr/>
          <p:nvPr/>
        </p:nvSpPr>
        <p:spPr>
          <a:xfrm>
            <a:off x="332280" y="333360"/>
            <a:ext cx="83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7d"/>
                </a:solidFill>
                <a:uFillTx/>
                <a:latin typeface="Comic Sans MS"/>
              </a:rPr>
              <a:t>Ground State Electron Configurations of th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2"/>
          <p:cNvSpPr/>
          <p:nvPr/>
        </p:nvSpPr>
        <p:spPr>
          <a:xfrm>
            <a:off x="960480" y="765000"/>
            <a:ext cx="50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Within a Period number of electrons incre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50"/>
          <p:cNvSpPr/>
          <p:nvPr/>
        </p:nvSpPr>
        <p:spPr>
          <a:xfrm>
            <a:off x="971640" y="112392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Comic Sans MS"/>
                <a:ea typeface="Times New Roman"/>
              </a:rPr>
              <a:t>Within a group (n)  incre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626FCC-A399-4251-BCE1-B1CC358EF4F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05" dur="1" fill="hold"/>
                                  <p:tgtEl>
                                    <p:spTgt spid="1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179280" y="476280"/>
            <a:ext cx="8136000" cy="44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Q: Arrange the following  Li, Be, B, C, Si, N , S,  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n the order of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increasing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ffective nuclear ch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tomic radi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onization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lectron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lectronega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4427640" y="1673280"/>
            <a:ext cx="471636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Li &lt; Be &lt; B , C &lt; Si &lt; N &lt; S &lt; 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Ar &lt; S &lt; N &lt; C &lt; Si &lt; B &lt; Be &lt; 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Li &lt; B &lt; Be &lt; Si &lt; C &lt; S &lt; N &lt; 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Ar &lt; Be &lt; Li &lt; B &lt; N &lt; Si &lt; C &lt;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Li &lt; Be &lt; B , Si &lt; C &lt; N &lt; S &lt; 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0920" y="206064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0920" y="263700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250920" y="321300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50920" y="378936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50920" y="443700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2758B-C871-4DEA-876E-7D996ADD7379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179280" y="692280"/>
            <a:ext cx="8785440" cy="5727600"/>
          </a:xfrm>
          <a:prstGeom prst="rect">
            <a:avLst/>
          </a:prstGeom>
          <a:ln w="0">
            <a:noFill/>
          </a:ln>
        </p:spPr>
      </p:pic>
      <p:sp>
        <p:nvSpPr>
          <p:cNvPr id="459" name=""/>
          <p:cNvSpPr/>
          <p:nvPr/>
        </p:nvSpPr>
        <p:spPr>
          <a:xfrm>
            <a:off x="179280" y="1557360"/>
            <a:ext cx="505080" cy="431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682560" y="1557360"/>
            <a:ext cx="504720" cy="431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012000" y="1557360"/>
            <a:ext cx="504720" cy="431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515280" y="2060640"/>
            <a:ext cx="504720" cy="431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7020000" y="1557360"/>
            <a:ext cx="504720" cy="431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7451640" y="2060640"/>
            <a:ext cx="505080" cy="431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8459640" y="1989000"/>
            <a:ext cx="505080" cy="5032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6516720" y="1557360"/>
            <a:ext cx="504720" cy="431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E02DCF-E3C3-4025-A75D-F8C8EBFE1499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2484360" y="2276640"/>
            <a:ext cx="489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d of Chapter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4EB2C-C4C0-4FF8-830C-06CF675210BC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468360" y="485640"/>
            <a:ext cx="8209080" cy="58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THUS: from the electron configuration → we could know the position of the element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 electron configur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roup 1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s</a:t>
            </a:r>
            <a:r>
              <a:rPr b="0" lang="ar-SA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roup 2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ar-SA" sz="24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→ group 3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roup 4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roup 5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roup 6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roup 7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6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roup 8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867280" y="3429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030560" y="2924280"/>
            <a:ext cx="4645080" cy="3751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n determine the period of the e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 = 1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erio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 = 2 → perio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 = 3 → period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 = 4 → period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 = 5 → period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 = 6 → period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 = 7 → period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5FDE18-815D-4A4F-A86C-6C1BED76BEC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a50021"/>
                </a:solidFill>
                <a:latin typeface="Comic Sans MS"/>
              </a:rPr>
              <a:t>Example: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The element that has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valance electron configuration 3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3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arb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itro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hosp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e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419640" y="2706840"/>
            <a:ext cx="5580000" cy="3639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E9EFCA-01B2-4496-A625-F88E0EFCA9E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77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178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179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Content Placeholder 2"/>
          <p:cNvSpPr/>
          <p:nvPr/>
        </p:nvSpPr>
        <p:spPr>
          <a:xfrm>
            <a:off x="250920" y="399960"/>
            <a:ext cx="856908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Example 8.1 p3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An atom of a certain element has 15 electr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Without consulting a periodic table, answer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following ques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(a)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What is the ground-state electron configuration of this elem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1s</a:t>
            </a:r>
            <a:r>
              <a:rPr b="0" lang="en-US" sz="2800" spc="-1" strike="noStrike" baseline="30000">
                <a:solidFill>
                  <a:srgbClr val="0033cc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 2s</a:t>
            </a:r>
            <a:r>
              <a:rPr b="0" lang="en-US" sz="2800" spc="-1" strike="noStrike" baseline="30000">
                <a:solidFill>
                  <a:srgbClr val="0033cc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 2p</a:t>
            </a:r>
            <a:r>
              <a:rPr b="0" lang="en-US" sz="2800" spc="-1" strike="noStrike" baseline="30000">
                <a:solidFill>
                  <a:srgbClr val="0033cc"/>
                </a:solidFill>
                <a:latin typeface="Comic Sans MS"/>
              </a:rPr>
              <a:t>6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en-US" sz="2800" spc="-1" strike="noStrike" u="sng">
                <a:solidFill>
                  <a:srgbClr val="0033cc"/>
                </a:solidFill>
                <a:uFillTx/>
                <a:latin typeface="Comic Sans MS"/>
              </a:rPr>
              <a:t>3s</a:t>
            </a:r>
            <a:r>
              <a:rPr b="0" lang="en-US" sz="2800" spc="-1" strike="noStrike" u="sng" baseline="30000">
                <a:solidFill>
                  <a:srgbClr val="0033cc"/>
                </a:solidFill>
                <a:uFillTx/>
                <a:latin typeface="Comic Sans MS"/>
              </a:rPr>
              <a:t>2</a:t>
            </a:r>
            <a:r>
              <a:rPr b="0" lang="en-US" sz="2800" spc="-1" strike="noStrike" u="sng">
                <a:solidFill>
                  <a:srgbClr val="0033cc"/>
                </a:solidFill>
                <a:uFillTx/>
                <a:latin typeface="Comic Sans MS"/>
              </a:rPr>
              <a:t> 3p</a:t>
            </a:r>
            <a:r>
              <a:rPr b="0" lang="en-US" sz="2800" spc="-1" strike="noStrike" u="sng" baseline="30000">
                <a:solidFill>
                  <a:srgbClr val="0033cc"/>
                </a:solidFill>
                <a:uFillTx/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(b) How should be element be classifi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       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Period 3, group 5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      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The element is representative ele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(c)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Is the element diamagnetic or paramagne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      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paramagne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6948360" y="1844640"/>
            <a:ext cx="2090880" cy="216072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4622760" y="3638520"/>
            <a:ext cx="207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Valence electr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780000" y="5877000"/>
            <a:ext cx="64764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003640" y="5877000"/>
            <a:ext cx="64800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653080" y="5877000"/>
            <a:ext cx="64764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300720" y="5877000"/>
            <a:ext cx="64764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995640" y="595008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4140360" y="5949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5292720" y="5949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6588000" y="5949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6012000" y="5949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851280" y="638172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2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ar-SA" sz="1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3p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642B7E-0B56-40EE-B0AC-4C08106F5A7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2" dur="500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500"/>
                                        <p:tgtEl>
                                          <p:spTgt spid="1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1-11-25T14:21:30Z</dcterms:modified>
  <cp:revision>1174</cp:revision>
  <dc:subject/>
  <dc:title>General Chemistry CHEM 110</dc:title>
</cp:coreProperties>
</file>