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BD4E-0854-40D2-A56E-58AED8EE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8BF6-7CAB-4AAE-AFA5-54F8E12A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98D2-CB89-409F-AC28-95E51ABB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4154-9232-4657-B5AC-1D31C274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A4E-9014-48F3-BEE7-9CE62234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E1E-253B-4BE7-B1C3-9159E7E5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02CC-A307-40BA-AA2E-B3768051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8A02-8421-459C-8BD2-87B6F5C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D40F-A022-4F2B-A28F-67A00113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DFBC-27EA-4C0B-8383-6D4B4DA8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76E8-5515-4F74-90EF-19CB4EA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38BCB-FFFF-4FCC-91D7-282B3316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6F7B-053E-4A8E-87EC-878F39D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31D-7FF5-4A42-8ABE-9215816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DE00-7ED4-40AF-B671-A3205E5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1367-05FD-4AFB-9CAD-0592DD67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0892-D468-4B1D-A202-308FF726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A721-079A-4D9E-AC67-EDF98BBA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9737-8778-41FC-8AA8-70C7ACD2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7AB99-9C2D-4AF3-9484-C76A31F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1B75-51F9-43ED-9789-56CDCE2F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6D01-0750-444C-937F-1617214B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69E0-BFBA-4B98-91C1-8D0597A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001A-7EA4-44CA-BCED-E38D2AB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E9F0-5EFE-48A7-8CA0-BB1C1BFE3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95B1-EFFB-4EDC-AA4C-77DC5A363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Chapter </a:t>
            </a:r>
            <a:r>
              <a:rPr b="1" lang="ar-SA" sz="4000" spc="-1" strike="noStrike">
                <a:solidFill>
                  <a:srgbClr val="00007d"/>
                </a:solidFill>
                <a:latin typeface="Comic Sans MS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7d"/>
                </a:solidFill>
                <a:latin typeface="Comic Sans MS"/>
              </a:rPr>
              <a:t>Periodic Relationship Among the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4F9D-E530-4999-A8B8-C03AE7B1EF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Content Placeholder 2"/>
          <p:cNvSpPr/>
          <p:nvPr/>
        </p:nvSpPr>
        <p:spPr>
          <a:xfrm>
            <a:off x="34920" y="533520"/>
            <a:ext cx="4699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1: Which of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ets of elements is expe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have similar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Sulfur and phospho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) Sulfu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) Sulfur and 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645080" y="765000"/>
            <a:ext cx="4464000" cy="2911680"/>
          </a:xfrm>
          <a:prstGeom prst="rect">
            <a:avLst/>
          </a:prstGeom>
          <a:ln w="0">
            <a:noFill/>
          </a:ln>
        </p:spPr>
      </p:pic>
      <p:sp>
        <p:nvSpPr>
          <p:cNvPr id="183" name="Content Placeholder 2"/>
          <p:cNvSpPr/>
          <p:nvPr/>
        </p:nvSpPr>
        <p:spPr>
          <a:xfrm>
            <a:off x="36360" y="3716280"/>
            <a:ext cx="36720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2: Titanium (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ment is found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periodic tabl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 s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 P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 d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 f-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364500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637080" y="4005360"/>
            <a:ext cx="56880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 3: Characteristics of noble gases include:</a:t>
            </a:r>
            <a:br>
              <a:rPr sz="2400"/>
            </a:b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l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hel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monatomic gas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generally unreactive chemicall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91E68-009E-4F46-9DD6-7A03A0E1B4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36640"/>
            <a:ext cx="8893080" cy="5800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8000" y="1197000"/>
            <a:ext cx="1008000" cy="34560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2000" y="1700280"/>
            <a:ext cx="295272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2708280"/>
            <a:ext cx="4753080" cy="1944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5129280"/>
            <a:ext cx="6913800" cy="96372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62064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s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2560" y="90792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p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4560" y="1844640"/>
            <a:ext cx="1225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Comic Sans MS"/>
              </a:rPr>
              <a:t>d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2360" y="6237360"/>
            <a:ext cx="12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 Sans MS"/>
              </a:rPr>
              <a:t>f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893B-2EAD-48BA-A22E-61DDA2740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896760"/>
            <a:ext cx="8964720" cy="5845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763640" y="40464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termost orbitals OR Outermost electrons OR 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8000" y="1268280"/>
            <a:ext cx="1008000" cy="3529080"/>
          </a:xfrm>
          <a:prstGeom prst="rect">
            <a:avLst/>
          </a:pr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24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459640" y="1268280"/>
            <a:ext cx="57636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9640" y="119700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1773360"/>
            <a:ext cx="2879640" cy="2950920"/>
          </a:xfrm>
          <a:prstGeom prst="rect">
            <a:avLst/>
          </a:prstGeom>
          <a:solidFill>
            <a:srgbClr val="ff99cc"/>
          </a:solidFill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872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s 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60360" y="2781360"/>
            <a:ext cx="4824360" cy="1942920"/>
          </a:xfrm>
          <a:prstGeom prst="rect">
            <a:avLst/>
          </a:prstGeom>
          <a:solidFill>
            <a:srgbClr val="00ff00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3246480"/>
            <a:ext cx="46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s (n-1)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19EB-F23D-4826-B189-C4C33BF7F0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65200"/>
            <a:ext cx="8893080" cy="5203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08000" y="907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lence Elec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3131-6721-4FD5-9CAA-5438566ACB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lose electrons so that cation has a noble-gas outer electron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06480" y="435600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83000" y="4356000"/>
            <a:ext cx="14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33480" y="4927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:  [Ar] 4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39440" y="4927680"/>
            <a:ext cx="14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A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36000" y="5499000"/>
            <a:ext cx="23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:  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90560" y="549900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</a:rPr>
              <a:t>3+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C499-0E6D-40D3-A8E1-55779E8323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representative el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gain electrons so that anion has a noble-gas outer electron configu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6920" y="4227480"/>
            <a:ext cx="10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93240" y="4227480"/>
            <a:ext cx="21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H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56600" y="4849920"/>
            <a:ext cx="18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41760" y="484344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or 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5440" y="5472000"/>
            <a:ext cx="19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41760" y="54658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8680" y="609444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41760" y="608796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-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1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s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or [N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40F7-4756-41C9-AAD1-EDC670FF0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9600" y="1417680"/>
            <a:ext cx="9219960" cy="539604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309600" y="2285280"/>
            <a:ext cx="459720" cy="2989800"/>
            <a:chOff x="309600" y="2285280"/>
            <a:chExt cx="459720" cy="2989800"/>
          </a:xfrm>
        </p:grpSpPr>
        <p:sp>
          <p:nvSpPr>
            <p:cNvPr id="227" name=""/>
            <p:cNvSpPr/>
            <p:nvPr/>
          </p:nvSpPr>
          <p:spPr>
            <a:xfrm rot="16200000">
              <a:off x="275400" y="231948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6400" y="2774880"/>
              <a:ext cx="0" cy="2500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71480" y="1284120"/>
            <a:ext cx="459720" cy="3990960"/>
            <a:chOff x="771480" y="1284120"/>
            <a:chExt cx="459720" cy="3990960"/>
          </a:xfrm>
        </p:grpSpPr>
        <p:sp>
          <p:nvSpPr>
            <p:cNvPr id="230" name=""/>
            <p:cNvSpPr/>
            <p:nvPr/>
          </p:nvSpPr>
          <p:spPr>
            <a:xfrm rot="16200000">
              <a:off x="73728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360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181560" y="1284120"/>
            <a:ext cx="459720" cy="3990960"/>
            <a:chOff x="6181560" y="1284120"/>
            <a:chExt cx="459720" cy="3990960"/>
          </a:xfrm>
        </p:grpSpPr>
        <p:sp>
          <p:nvSpPr>
            <p:cNvPr id="233" name=""/>
            <p:cNvSpPr/>
            <p:nvPr/>
          </p:nvSpPr>
          <p:spPr>
            <a:xfrm rot="16200000">
              <a:off x="6147360" y="13183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368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180280" y="1321200"/>
            <a:ext cx="459720" cy="3953880"/>
            <a:chOff x="8180280" y="1321200"/>
            <a:chExt cx="459720" cy="3953880"/>
          </a:xfrm>
        </p:grpSpPr>
        <p:sp>
          <p:nvSpPr>
            <p:cNvPr id="236" name=""/>
            <p:cNvSpPr/>
            <p:nvPr/>
          </p:nvSpPr>
          <p:spPr>
            <a:xfrm rot="16200000">
              <a:off x="8183880" y="1317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03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77000" y="1320840"/>
            <a:ext cx="459720" cy="3954240"/>
            <a:chOff x="7677000" y="1320840"/>
            <a:chExt cx="459720" cy="3954240"/>
          </a:xfrm>
        </p:grpSpPr>
        <p:sp>
          <p:nvSpPr>
            <p:cNvPr id="239" name=""/>
            <p:cNvSpPr/>
            <p:nvPr/>
          </p:nvSpPr>
          <p:spPr>
            <a:xfrm rot="16200000">
              <a:off x="768060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0056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172280" y="1320840"/>
            <a:ext cx="459720" cy="3954240"/>
            <a:chOff x="7172280" y="1320840"/>
            <a:chExt cx="459720" cy="3954240"/>
          </a:xfrm>
        </p:grpSpPr>
        <p:sp>
          <p:nvSpPr>
            <p:cNvPr id="242" name=""/>
            <p:cNvSpPr/>
            <p:nvPr/>
          </p:nvSpPr>
          <p:spPr>
            <a:xfrm rot="16200000">
              <a:off x="7175880" y="131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95840" y="1857240"/>
              <a:ext cx="0" cy="341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15240" y="573120"/>
            <a:ext cx="81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ions and Anions Of Representativ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5169-5488-4B8C-9FD4-8CD9DFCF2C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79600" y="16876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15240" y="2335320"/>
            <a:ext cx="17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39640" y="3616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7280" y="420696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298296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1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[N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108000" y="51465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HUS: Na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l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F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O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2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, and N</a:t>
            </a:r>
            <a:r>
              <a:rPr b="0" lang="en-US" sz="28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3-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are all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isoelectronic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with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539640" y="533520"/>
            <a:ext cx="7777440" cy="10688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oelectronic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pecies with the same number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1989000"/>
            <a:ext cx="3276720" cy="502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 (1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 (13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(7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 (9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 (8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Ne (10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All are isolelctronic to 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63D21-0648-40AC-A3B8-B5B5F0A1F0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9"/>
          <p:cNvSpPr/>
          <p:nvPr/>
        </p:nvSpPr>
        <p:spPr>
          <a:xfrm>
            <a:off x="32400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1: 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hat neutral atom is isoelectronic with H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710280" y="1243080"/>
            <a:ext cx="11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400" spc="-1" strike="noStrike" baseline="38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400" spc="-1" strike="noStrike" baseline="38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2087280" y="11970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ame electron configuration as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47640" y="1844640"/>
            <a:ext cx="4357800" cy="225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بدون النظر الى التوزيع الاكترو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فقط بحساب عدد الاكترونات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(1 e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a50021"/>
                </a:solidFill>
                <a:latin typeface="Comic Sans MS"/>
              </a:rPr>
              <a:t>He (2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US: He is isolelctronic to H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464000"/>
            <a:ext cx="88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Q2: Which of the following species is isoelectronic with Cl</a:t>
            </a:r>
            <a:r>
              <a:rPr b="0" lang="en-US" sz="2400" spc="-1" strike="noStrike" baseline="30000">
                <a:solidFill>
                  <a:srgbClr val="a50021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c) K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d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15280" y="47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76360" y="5229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01840" y="55897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8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46200" y="6021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10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3034-269E-4363-B91B-D7A4BEFC7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 Configuration of Cations and I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1557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ons derived from transition met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cation is formed from an atom of a transition metal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s are always removed first from the ns orbital and then from the (n – 1)d orbi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B192-6758-4E5B-B0CC-8293917B03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8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7d"/>
                </a:solidFill>
                <a:latin typeface="Comic Sans MS"/>
              </a:rPr>
              <a:t>Periodic Relationship Among the Elements </a:t>
            </a:r>
            <a:br>
              <a:rPr sz="36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</a:t>
            </a: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326-378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357 &amp; 35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5, 8.8, 8.12, 8.20, 8.24, 8.26, 8.28, 8.30, 8.32, 8.36,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.38, 8.40, 8.44, 8.46, 8.52, 8.54, 8.62, 8.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3B72-F438-470C-9B08-401A3AC409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81080" y="112536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5"/>
          <p:cNvSpPr/>
          <p:nvPr/>
        </p:nvSpPr>
        <p:spPr>
          <a:xfrm>
            <a:off x="477000" y="1844640"/>
            <a:ext cx="289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: [Ar]4s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6600"/>
                </a:solidFill>
                <a:latin typeface="Comic Sans MS"/>
              </a:rPr>
              <a:t>2+</a:t>
            </a:r>
            <a:r>
              <a:rPr b="0" lang="ar-SA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:  ????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24000" y="2563920"/>
            <a:ext cx="78246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Mn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 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4400" spc="-1" strike="noStrike">
                <a:solidFill>
                  <a:srgbClr val="00007d"/>
                </a:solidFill>
                <a:latin typeface="Comic Sans MS"/>
              </a:rPr>
              <a:t>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92360" y="1550880"/>
            <a:ext cx="5508720" cy="15721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72F2-0AF6-4C02-8D83-303607A18D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Ions derived from transition metal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9810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829080" y="1714680"/>
            <a:ext cx="30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:    [Ar]4s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3"/>
          <p:cNvSpPr/>
          <p:nvPr/>
        </p:nvSpPr>
        <p:spPr>
          <a:xfrm>
            <a:off x="877320" y="3098880"/>
            <a:ext cx="556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:  [Ar]4s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ar-SA" sz="3200" spc="-1" strike="noStrike" baseline="30000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 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881280" y="5442120"/>
            <a:ext cx="560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: [Ar] 4s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     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e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:  [Ar]4s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 or [Ar]3d</a:t>
            </a:r>
            <a:r>
              <a:rPr b="0" lang="en-US" sz="3200" spc="-1" strike="noStrike" baseline="30000">
                <a:solidFill>
                  <a:srgbClr val="00007d"/>
                </a:solidFill>
                <a:latin typeface="Comic Sans MS"/>
              </a:rPr>
              <a:t>5</a:t>
            </a:r>
            <a:r>
              <a:rPr b="0" lang="ar-SA" sz="3200" spc="-1" strike="noStrike" baseline="30000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7d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800640" y="47973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Fe</a:t>
            </a:r>
            <a:r>
              <a:rPr b="0" lang="ar-SA" sz="3200" spc="-1" strike="noStrike" baseline="30000">
                <a:solidFill>
                  <a:srgbClr val="9900cc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:</a:t>
            </a:r>
            <a:r>
              <a:rPr b="0" lang="en-US" sz="3200" spc="-1" strike="noStrike" baseline="30000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1640" y="1550880"/>
            <a:ext cx="3349440" cy="193608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ansition metals 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RST: electrons lost from s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N: from the (n-1)d orb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B69D-5259-40CC-A5F8-E9AB1C7628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68360" y="549360"/>
            <a:ext cx="867564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rite the electronic configuration for Co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) [Ar]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c) [Ar] 4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92360" y="1197000"/>
            <a:ext cx="5365800" cy="3500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97080" y="5083200"/>
            <a:ext cx="687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: [Ar] 4s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(transition me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o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: [Ar] 3d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F3EF-EF7C-4BF1-A40E-5DB947B433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3 Periodic Variation in Physical Properties: Outl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 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  <a:cs typeface="Times New Roman"/>
              </a:rPr>
              <a:t>شحنه النواه الفعليه</a:t>
            </a: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tomic Radius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نصف قطر الذ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</a:t>
            </a:r>
            <a:r>
              <a:rPr b="0" lang="en-GB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 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3399ff"/>
                </a:solidFill>
                <a:latin typeface="Comic Sans MS"/>
                <a:cs typeface="Times New Roman"/>
              </a:rPr>
              <a:t>نصف قطر الا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4ECF-93E6-4EB5-9B97-63A9463D1F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effective nuclear charge (Z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nuclear charge felt by an electron when both the actual nuclear charge (Z) and the repulsive effects (shielding) of the other electrons are taken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ans that electrons in an atom shield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تحج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an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971640" y="3645000"/>
                <a:ext cx="612144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σ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g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is called shielding constant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σ</m:t>
                        </m:r>
                        <m:r>
                          <m:t xml:space="preserve">&lt;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771640" y="270828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حج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54FA-1D05-4314-891D-5EABC9A229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6040" y="1852560"/>
            <a:ext cx="8229600" cy="30891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76360" y="620640"/>
            <a:ext cx="705636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Example: He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C2EB-6E82-4444-B78B-8C7F512871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GB" sz="3600" spc="-1" strike="noStrike">
                <a:solidFill>
                  <a:srgbClr val="666633"/>
                </a:solidFill>
                <a:latin typeface="Comic Sans MS"/>
              </a:rPr>
              <a:t>core electrons </a:t>
            </a:r>
            <a:r>
              <a:rPr b="1" lang="ar-SA" sz="3600" spc="-1" strike="noStrike">
                <a:solidFill>
                  <a:srgbClr val="666633"/>
                </a:solidFill>
                <a:latin typeface="Comic Sans MS"/>
              </a:rPr>
              <a:t>الالكترونات الداخليه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re closer to nucleus than the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valence electrons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الكترونات التكافؤ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core electrons shield valence electrons MUCH MORE than valence electrons shield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A89C-2BCF-4366-9FBC-D32ACB740B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Effective Nuclear Charge: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 as we go from left to r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effective nuclear charge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11280" y="2421000"/>
          <a:ext cx="7632720" cy="1728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36720"/>
                <a:gridCol w="792360"/>
                <a:gridCol w="934920"/>
                <a:gridCol w="865080"/>
                <a:gridCol w="792360"/>
                <a:gridCol w="9349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Z</a:t>
                      </a:r>
                      <a:r>
                        <a:rPr b="0" lang="en-US" sz="2400" spc="-1" strike="noStrike" baseline="-25000">
                          <a:solidFill>
                            <a:srgbClr val="000099"/>
                          </a:solidFill>
                          <a:latin typeface="Comic Sans MS"/>
                        </a:rPr>
                        <a:t>e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4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5.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AE09-4780-4D27-A64B-12FF918B6F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2174760"/>
            <a:ext cx="8319960" cy="3822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528560" y="635040"/>
            <a:ext cx="613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ffective Nuclear Ch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6120" y="170028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612000" y="3942720"/>
            <a:ext cx="212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e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B88F-6C0B-4CDE-B2B8-C02B2822F8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4720" y="334800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64EAF-5679-4400-ABFA-E47D0F099A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hapter 8 Periodic Relationship Among the Elements</a:t>
            </a:r>
            <a:r>
              <a:rPr b="1" lang="en-US" sz="36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8.2 Periodic Classification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8.3 Periodic variation in physic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Effective nuclear char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Ion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8.4 Ioniz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8.5 Electron aff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(ch.9 p. 377-37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7D145-EFC5-4B57-B4DE-3681990E4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Atom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ize of the atom is defined by the ATOMIC RAD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omic Radiu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½ the distance between the two nuclei in two adjacent metal atoms or in a diatomic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5629320" y="693720"/>
            <a:ext cx="3622680" cy="55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D659-48E6-4FC4-A80A-294CF36FFE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Atomic Radius: RU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" y="135108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period: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ffective nu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rge increases from left to righ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dded valence electron i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rongly attracted by the nucleus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the ato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radius decreases from left to right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 the same group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incre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atomic radius increases from top to bottom in th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9138-CFF6-4818-9754-0951271F9A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1916280"/>
            <a:ext cx="0" cy="41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44720" y="3141720"/>
            <a:ext cx="712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2394-4BBC-4FFF-8FD1-6414B3FAB6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68360" y="406440"/>
            <a:ext cx="8496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ample 8.2 p33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ferring to a periodic table, arrange the following atoms in order of increasing atomic radius: P, Si,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2446200"/>
            <a:ext cx="8353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amp; P are in the sam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is smaller than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P &amp; Si are in the sam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 is smaller than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angement of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tomic radiu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 &lt; P &lt;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2421000"/>
            <a:ext cx="75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51280" y="5337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الصغير الى الكب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6092-7702-495E-8C3F-73B3678B94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08000" y="692280"/>
            <a:ext cx="8820000" cy="5752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948360" y="206208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360" y="155736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43640" y="2060640"/>
            <a:ext cx="503280" cy="4302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BB9D1-4380-43B6-804B-6FE91EA5E8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95280" y="-171360"/>
            <a:ext cx="82296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hoice below correctly lists the elements in order of increasing atomic rad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1341360"/>
            <a:ext cx="761976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 &lt; Mg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g &lt; Na &lt; K &lt; 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Na &lt;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b &lt; K &lt; Mg &lt;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635280" y="1341360"/>
            <a:ext cx="5257800" cy="3429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63528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22560" y="213372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635280" y="2421000"/>
            <a:ext cx="289080" cy="287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35280" y="270972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0920" y="4076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kno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2920" y="4869000"/>
            <a:ext cx="0" cy="15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-36360" y="5157720"/>
            <a:ext cx="133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in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9080" y="5160960"/>
            <a:ext cx="718920" cy="1015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4761000"/>
            <a:ext cx="302436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             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00000" y="458136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42926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omic radius decr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4871-762B-4356-B267-0B1BA22386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712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Ionic Radi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125360"/>
            <a:ext cx="878544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c Radiu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the radius of cation or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gain electrons →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onic radius in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the nuclear charge remain the same but the repulsion resulting from the additional electrons increases th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tio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lose electron →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ionic radius decre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because removing one or more electron from an atom reduces electron-electron repulsion but the nuclear charge remain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5381640"/>
            <a:ext cx="8807400" cy="100872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An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lar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is always </a:t>
            </a:r>
            <a:r>
              <a:rPr b="1" lang="en-US" sz="2000" spc="-1" strike="noStrike">
                <a:solidFill>
                  <a:srgbClr val="9999ff"/>
                </a:solidFill>
                <a:latin typeface="Comic Sans MS"/>
                <a:ea typeface="Arial"/>
              </a:rPr>
              <a:t>small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than atom from which it is 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ations &lt; A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rcRect l="0" t="32005" r="0" b="30005"/>
          <a:stretch/>
        </p:blipFill>
        <p:spPr>
          <a:xfrm>
            <a:off x="3735360" y="4005360"/>
            <a:ext cx="472428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0C76F-B4EF-4C32-97CF-FC457C2CA3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c Radius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ionic radius increases from the top to the bottom of the group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like the 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ions in different groups: they should be iso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olelectronic 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cations &lt; anions: example Na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+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&lt; F</a:t>
            </a:r>
            <a:r>
              <a:rPr b="0" lang="en-GB" sz="2800" spc="-1" strike="noStrike" baseline="30000">
                <a:solidFill>
                  <a:srgbClr val="9900cc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solelectronic cations: example 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,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l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3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&lt; Mg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2+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&lt; Na</a:t>
            </a:r>
            <a:r>
              <a:rPr b="0" lang="en-GB" sz="28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Isoelectronic anoins: example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, 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F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-</a:t>
            </a:r>
            <a:r>
              <a:rPr b="0" lang="en-GB" sz="2400" spc="-1" strike="noStrike">
                <a:solidFill>
                  <a:srgbClr val="33cc33"/>
                </a:solidFill>
                <a:latin typeface="Comic Sans MS"/>
              </a:rPr>
              <a:t> &lt; O</a:t>
            </a:r>
            <a:r>
              <a:rPr b="0" lang="en-GB" sz="2800" spc="-1" strike="noStrike" baseline="30000">
                <a:solidFill>
                  <a:srgbClr val="33cc33"/>
                </a:solidFill>
                <a:latin typeface="Comic Sans MS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7640" y="6222960"/>
            <a:ext cx="424836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cc33"/>
                </a:solidFill>
                <a:latin typeface="Comic Sans MS"/>
              </a:rPr>
              <a:t>الاصغر ذو الشحنه السالبه الاصغ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56000" y="5203800"/>
            <a:ext cx="4103640" cy="9471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اصغر ذو الشحنه الموجبه الاكب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913440" y="3429000"/>
            <a:ext cx="2195640" cy="13737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AC554-B539-4B89-A3A4-4A8D09DC31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87280" y="98100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2997360"/>
            <a:ext cx="0" cy="30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67280" y="4943520"/>
            <a:ext cx="4752720" cy="22885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B74F-5088-4C3A-8883-815A5CAFDEB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6360" y="549360"/>
            <a:ext cx="8856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Example 8.3 p33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For each of the following pairs, indicate which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is larg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Fe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30200" y="2490840"/>
            <a:ext cx="6957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solelctronic anions →</a:t>
            </a:r>
            <a:r>
              <a:rPr b="1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F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-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N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in the same group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ar-SA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Mg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Ca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cations </a:t>
            </a:r>
            <a:r>
              <a:rPr b="1" lang="en-GB" sz="28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3+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 &lt; Fe</a:t>
            </a:r>
            <a:r>
              <a:rPr b="1" lang="en-GB" sz="2800" spc="-1" strike="noStrike" baseline="30000">
                <a:solidFill>
                  <a:srgbClr val="00007d"/>
                </a:solidFill>
                <a:latin typeface="Comic Sans MS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92A8-5E5C-4825-B884-7C1E1D73E6F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7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8.2 Periodic Classification of the elements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989000"/>
            <a:ext cx="57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Ground State Electron Configurations of th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</a:rPr>
              <a:t>Electron configuration of cations and 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representativ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>
                <a:solidFill>
                  <a:srgbClr val="666633"/>
                </a:solidFill>
                <a:latin typeface="Comic Sans MS"/>
                <a:ea typeface="Arial"/>
              </a:rPr>
              <a:t>Ions derived from transition me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14C9-6870-4E60-95C9-C2EE6D2E2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468360" y="404640"/>
            <a:ext cx="828036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omic Sans MS"/>
              </a:rPr>
              <a:t>Isoelectronic 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3645000"/>
            <a:ext cx="7777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Isoelectronic a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b0f0"/>
                </a:solidFill>
                <a:uFillTx/>
                <a:latin typeface="Comic Sans MS"/>
              </a:rPr>
              <a:t>Example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rangement of increasing ionic radi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573360"/>
            <a:ext cx="81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865F-AFDC-434E-BC13-EC3E7D741E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7200" y="476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Order the following according to increasing atomic/ionic radi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57200" y="2297160"/>
            <a:ext cx="4402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C &lt; 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&lt; O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Li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C &lt; O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&lt; N</a:t>
            </a:r>
            <a:r>
              <a:rPr b="0" lang="en-US" sz="27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7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024720" y="15573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–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Li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   C    O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84720" y="2205000"/>
            <a:ext cx="4753080" cy="1557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39EB5-A642-4A85-B4C0-8139E363123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838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طاقة التأ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74760" y="1197000"/>
            <a:ext cx="8229600" cy="1295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onization Energy (IE)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minimum energy (kJ/mol) required to remove an electron from a gaseous atom in its ground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000" y="2637000"/>
            <a:ext cx="82296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ionization energy, the more difficult is to remove the electron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mic Sans MS"/>
                <a:cs typeface="Times New Roman"/>
              </a:rPr>
              <a:t>كلما كانت طاقة التأين اكبر اصبح نزع الاكترون اصع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first ionization energy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amount of energy required to remov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electron from an atom in the gaseou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s: if there is a first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con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ird ionization energy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ly: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lt; I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2F73-CAAE-4EC0-A515-96D96CC504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99308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4A16-AA32-48C2-84F7-CC16011811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Ionization Energy: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E of metals is lower than non-metals, metalloid IE is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a given group, IE decreases from the top to the bottom of the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 given period, the IE increases from left to right in perio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ome exceptions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استثناءات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Group 2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3A (ns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 in the same perio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. Example (Be &amp;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Group 5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igher than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6A (ns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np</a:t>
            </a:r>
            <a:r>
              <a:rPr b="0" lang="en-US" sz="2800" spc="-1" strike="noStrike" baseline="30000">
                <a:solidFill>
                  <a:srgbClr val="cc33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) in the same period. Example (N &amp;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8C55-5F17-4735-A347-740F791E19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68360" y="476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onization Energ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E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3A &lt; 2A) &amp; (6A &lt; 5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1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3A &lt; 2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4A &lt;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6A &lt; 5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7A &lt; 8A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57B3-C8EB-4CBB-815A-3459CB7F916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11600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728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213000"/>
            <a:ext cx="0" cy="2808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1773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C886-84CC-44C0-9F51-E4ED1C77DC0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8360" y="549360"/>
            <a:ext cx="26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549360"/>
            <a:ext cx="4464000" cy="62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Example 8.4 (a) p34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hich atom should have a smaller first ionization energy: oxygen or sulph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 &amp; S are in 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: [Ne] 3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The valence electrons in sulphur are farther </a:t>
            </a:r>
            <a:r>
              <a:rPr b="0" lang="ar-SA" sz="2400" spc="-1" strike="noStrike">
                <a:solidFill>
                  <a:srgbClr val="666633"/>
                </a:solidFill>
                <a:latin typeface="Comic Sans MS"/>
              </a:rPr>
              <a:t>ابعد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from the nucleus </a:t>
            </a:r>
            <a:r>
              <a:rPr b="0" lang="en-GB" sz="2400" spc="-1" strike="noStrike">
                <a:solidFill>
                  <a:srgbClr val="666633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666633"/>
                </a:solidFill>
                <a:latin typeface="Comic Sans MS"/>
              </a:rPr>
              <a:t>removing of them is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S) &lt; I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4753080" y="1197000"/>
            <a:ext cx="4356000" cy="2841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8360" y="1628640"/>
            <a:ext cx="216000" cy="21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8360" y="1844640"/>
            <a:ext cx="21600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4576-B97D-40A7-A275-7314E39CA6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9528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H.W: Q 8.52: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 Arrange the following in order of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Comic Sans MS"/>
              </a:rPr>
              <a:t>increasing first ionization energy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F, K, P, Ca, and Ne.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&lt; Ca &lt; P &lt; F &lt; 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619280" y="2725560"/>
            <a:ext cx="6337440" cy="41324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19280" y="400536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79640" y="400680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16720" y="3716280"/>
            <a:ext cx="360360" cy="3589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23600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96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9A3C0-40F9-42D1-B741-BF36FCF140C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7d"/>
                </a:solidFill>
                <a:uFillTx/>
                <a:latin typeface="Comic Sans MS"/>
              </a:rPr>
              <a:t>Electron Affinity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4400" spc="-1" strike="noStrike" u="sng">
                <a:solidFill>
                  <a:srgbClr val="00007d"/>
                </a:solidFill>
                <a:uFillTx/>
                <a:latin typeface="Comic Sans MS"/>
              </a:rPr>
              <a:t>الالفه الاكترون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74760" y="1197000"/>
            <a:ext cx="8229600" cy="216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lectron affinity (EA): the ability of atom to accep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R: The negative of the energy change that occurs when an electron is accepted by an atom in the gaseous state to form an an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3645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higher electron affinity, the greater affinity to accept the electr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F066-8A2D-459A-9356-23ABF06FB24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33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Q1: What is the trend in the period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666633"/>
                </a:solidFill>
                <a:latin typeface="Comic Sans MS"/>
              </a:rPr>
              <a:t>Q2: What is the trend in the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525600"/>
            <a:ext cx="219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ميل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,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توجه</a:t>
            </a:r>
            <a:r>
              <a:rPr b="0" lang="ar-SA" sz="44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0" lang="en-GB" sz="4400" spc="-1" strike="noStrike">
                <a:solidFill>
                  <a:srgbClr val="ff00ff"/>
                </a:solidFill>
                <a:latin typeface="Comic Sans MS"/>
              </a:rPr>
              <a:t>trend</a:t>
            </a:r>
            <a:r>
              <a:rPr b="0" lang="en-GB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95280" y="4019400"/>
            <a:ext cx="87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A1: Within a Period number of electrons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  <a:ea typeface="Times New Roman"/>
              </a:rPr>
              <a:t>A2: Within a group (n) 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79E77-746D-4A37-8FA7-045A804585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Content Placeholder 1"/>
          <p:cNvSpPr/>
          <p:nvPr/>
        </p:nvSpPr>
        <p:spPr>
          <a:xfrm>
            <a:off x="304920" y="-171360"/>
            <a:ext cx="82296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17520" indent="-22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 EA for non-metal is higher than metal , EA for metalloid fall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decreases from top to the bottom of th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EA increase from left to right in period. With some 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2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oup 5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843c"/>
                </a:solidFill>
                <a:latin typeface="Comic Sans MS"/>
                <a:ea typeface="Times New Roman"/>
              </a:rPr>
              <a:t>lower th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A (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in the sa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2221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7A74-C63C-4CF0-94A3-5C75938BD09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476280"/>
            <a:ext cx="8750160" cy="59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 Affinity Exceptions: (summ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c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 Rul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 increase from left to right in  the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A &lt; 2A &lt; 3A &lt; 4A &lt; 5A &lt; 6A &lt; 7A &lt; 8A 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e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2A &lt; 1A) &amp; (5A &lt; 4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Noble gases have the lowest electron affi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HU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8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A &lt; 1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3A &lt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5A &lt; 4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&lt; 6A &lt; 7A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D883-4F09-4D56-B800-FD8C391C966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0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8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95280" y="1628640"/>
            <a:ext cx="684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7280" y="46836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692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03640" y="3789360"/>
            <a:ext cx="396108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16000" y="1773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rst ionization energy increases (with exce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1680" y="51418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First 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4812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0188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1BC0-02B2-4FED-B17E-8E98A6E72A3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1457280"/>
            <a:ext cx="4032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IE are betwee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2A &amp; 3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9a7"/>
                </a:solidFill>
                <a:latin typeface="Comic Sans MS"/>
              </a:rPr>
              <a:t>5A &amp; 6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371120" y="1413000"/>
            <a:ext cx="39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EA are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1A &amp;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4A &amp; 5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Noble gases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the lowest affi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4800" y="484200"/>
            <a:ext cx="57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Exceptions in the IE &amp; 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296E-4637-48C1-9694-86C2E978C5D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380880" y="40464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correctly lists the elements in order of decreasing electron affi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8360" y="1341360"/>
            <a:ext cx="7543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, Cl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, O, C,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, O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16360" y="1484280"/>
            <a:ext cx="6227640" cy="4060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810108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59640" y="242100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93080" y="2060640"/>
            <a:ext cx="2872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80360" y="2060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8000" y="3800520"/>
            <a:ext cx="280836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ing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creas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eptions??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the rule of the period until you find a group apply the rule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59450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 &lt; C &lt; O &lt;  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96E0-C057-4113-A4C5-BCC54C49E9C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476280"/>
            <a:ext cx="8424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3300"/>
                </a:solidFill>
                <a:uFillTx/>
                <a:latin typeface="Comic Sans MS"/>
              </a:rPr>
              <a:t>H.W. Q 8.62:</a:t>
            </a: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 Specify which of the following elements you would expect to have the greatest electron affinity and which have the lea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Comic Sans MS"/>
              </a:rPr>
              <a:t>He, K, Co, S, 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76720" y="3149640"/>
            <a:ext cx="5688000" cy="370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11280" y="285264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04360" y="3357720"/>
            <a:ext cx="360360" cy="358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02800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15280" y="4005360"/>
            <a:ext cx="289080" cy="3603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3789360"/>
            <a:ext cx="2881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rrangement of increasing 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 &lt; K &lt; Co &lt; S &lt;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eatest EA: 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st EA: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000" y="5229360"/>
            <a:ext cx="1655640" cy="360360"/>
          </a:xfrm>
          <a:prstGeom prst="wedgeRectCallout">
            <a:avLst>
              <a:gd name="adj1" fmla="val -40412"/>
              <a:gd name="adj2" fmla="val -8568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2C37-66C5-41B5-A629-BCEF0FF0449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ontent Placeholder 3"/>
          <p:cNvSpPr/>
          <p:nvPr/>
        </p:nvSpPr>
        <p:spPr>
          <a:xfrm>
            <a:off x="395280" y="990720"/>
            <a:ext cx="8424720" cy="2006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cribes the unequal sharing of electrons between two atom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chemical bo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ability of an atom in a molecule  to attract to themselves  the shared electrons in a chemical b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5280" y="333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negativity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كهربيه</a:t>
            </a: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 </a:t>
            </a:r>
            <a:r>
              <a:rPr b="1" lang="ar-SA" sz="3600" spc="-1" strike="noStrike" u="sng">
                <a:solidFill>
                  <a:srgbClr val="00007d"/>
                </a:solidFill>
                <a:uFillTx/>
                <a:latin typeface="Comic Sans MS"/>
              </a:rPr>
              <a:t>السالب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3"/>
          <p:cNvSpPr/>
          <p:nvPr/>
        </p:nvSpPr>
        <p:spPr>
          <a:xfrm>
            <a:off x="324000" y="3160800"/>
            <a:ext cx="868680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igh electronegativity →pick up electron eas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cre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left to right in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ectronegativity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 top to bottom in grou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n-metals have high electronegativity, metals have low electronega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61E4-1589-4AFD-B3DE-28AEB807D7F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260360" y="162864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76280"/>
            <a:ext cx="62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ic radius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3284640"/>
            <a:ext cx="0" cy="331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141720"/>
            <a:ext cx="712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Effective nuclear charge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tom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ic radius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88000" y="3789360"/>
            <a:ext cx="3960720" cy="19234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يونات من مجموعات مختلفه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00cc"/>
                </a:solidFill>
                <a:latin typeface="Comic Sans MS"/>
              </a:rPr>
              <a:t>الكاتيونات اصغر من الانيون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كاتيونات: الاصغر ذو الشحنه الموجبه الاكب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cc33"/>
                </a:solidFill>
                <a:latin typeface="Comic Sans MS"/>
              </a:rPr>
              <a:t>انيونات : الاصغر ذو الشحنه السالبه الاصغ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85840" y="1773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increases (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3240" y="5141880"/>
            <a:ext cx="487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Ionization energ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19400" y="2205000"/>
            <a:ext cx="74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increases ( with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41520" y="5734080"/>
            <a:ext cx="45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Electron affinity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42360" y="2622600"/>
            <a:ext cx="47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9040" y="6165720"/>
            <a:ext cx="48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lectro</a:t>
            </a:r>
            <a:r>
              <a:rPr b="0" lang="en-GB" sz="2800" spc="-1" strike="noStrike">
                <a:solidFill>
                  <a:srgbClr val="660066"/>
                </a:solidFill>
                <a:latin typeface="Comic Sans MS"/>
              </a:rPr>
              <a:t>negativity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 de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8720" y="476280"/>
            <a:ext cx="8280360" cy="26654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3213000"/>
            <a:ext cx="8785440" cy="345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-108000" y="76500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hapter 8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EB8E-249F-4440-B933-117F976DABE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80880" y="-100080"/>
            <a:ext cx="876312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choice below correctly lists the elements in order of increasing electronegativ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468360" y="1557360"/>
            <a:ext cx="74674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C &lt; N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O &lt;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 &lt; C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&lt; N &lt; F &lt;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708360" y="2200320"/>
            <a:ext cx="5364360" cy="3497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759636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8508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70920" y="2708280"/>
            <a:ext cx="28872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459640" y="2708280"/>
            <a:ext cx="289080" cy="2890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5157720"/>
            <a:ext cx="39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kn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324000" y="5661000"/>
                <a:ext cx="331128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lectronegativity increases</m:t>
                            </m:r>
                          </m:e>
                        </m:acc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9A9D7-FA72-47FC-83FC-2E6210469F4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7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8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46836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Q: Which will be the larges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57200" y="1052640"/>
            <a:ext cx="2602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N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7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 of M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577840" y="476280"/>
            <a:ext cx="307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en-US" sz="2400" spc="-1" strike="noStrike" baseline="-25000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= 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851280" y="1557360"/>
            <a:ext cx="5041800" cy="3287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851280" y="2349360"/>
            <a:ext cx="2890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140360" y="2349360"/>
            <a:ext cx="287280" cy="287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8360" y="4869000"/>
            <a:ext cx="8136000" cy="19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lt;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Mg) is the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611280" y="5373720"/>
                <a:ext cx="23032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ncreaes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5EC6-30A4-49B0-9344-0B062AE2611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5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ha56011_0802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53722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5"/>
          <p:cNvGrpSpPr/>
          <p:nvPr/>
        </p:nvGrpSpPr>
        <p:grpSpPr>
          <a:xfrm>
            <a:off x="227160" y="842760"/>
            <a:ext cx="398880" cy="4332600"/>
            <a:chOff x="227160" y="842760"/>
            <a:chExt cx="398880" cy="4332600"/>
          </a:xfrm>
        </p:grpSpPr>
        <p:sp>
          <p:nvSpPr>
            <p:cNvPr id="122" name="Text Box 9"/>
            <p:cNvSpPr/>
            <p:nvPr/>
          </p:nvSpPr>
          <p:spPr>
            <a:xfrm rot="16200000">
              <a:off x="154800" y="91512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425520" y="1376280"/>
              <a:ext cx="0" cy="379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722160" y="1360440"/>
            <a:ext cx="398880" cy="3814920"/>
            <a:chOff x="722160" y="1360440"/>
            <a:chExt cx="398880" cy="3814920"/>
          </a:xfrm>
        </p:grpSpPr>
        <p:sp>
          <p:nvSpPr>
            <p:cNvPr id="125" name="Text Box 15"/>
            <p:cNvSpPr/>
            <p:nvPr/>
          </p:nvSpPr>
          <p:spPr>
            <a:xfrm rot="16200000">
              <a:off x="649800" y="1432800"/>
              <a:ext cx="54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92088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6"/>
          <p:cNvGrpSpPr/>
          <p:nvPr/>
        </p:nvGrpSpPr>
        <p:grpSpPr>
          <a:xfrm>
            <a:off x="6180120" y="986400"/>
            <a:ext cx="398880" cy="4188960"/>
            <a:chOff x="6180120" y="986400"/>
            <a:chExt cx="398880" cy="4188960"/>
          </a:xfrm>
        </p:grpSpPr>
        <p:sp>
          <p:nvSpPr>
            <p:cNvPr id="128" name="Text Box 18"/>
            <p:cNvSpPr/>
            <p:nvPr/>
          </p:nvSpPr>
          <p:spPr>
            <a:xfrm rot="16200000">
              <a:off x="5908680" y="125748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63817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6703920" y="973440"/>
            <a:ext cx="398880" cy="4201920"/>
            <a:chOff x="6703920" y="973440"/>
            <a:chExt cx="398880" cy="4201920"/>
          </a:xfrm>
        </p:grpSpPr>
        <p:sp>
          <p:nvSpPr>
            <p:cNvPr id="131" name="Text Box 21"/>
            <p:cNvSpPr/>
            <p:nvPr/>
          </p:nvSpPr>
          <p:spPr>
            <a:xfrm rot="16200000">
              <a:off x="643248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90552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38"/>
          <p:cNvGrpSpPr/>
          <p:nvPr/>
        </p:nvGrpSpPr>
        <p:grpSpPr>
          <a:xfrm>
            <a:off x="7170840" y="973440"/>
            <a:ext cx="398880" cy="4201920"/>
            <a:chOff x="7170840" y="973440"/>
            <a:chExt cx="398880" cy="4201920"/>
          </a:xfrm>
        </p:grpSpPr>
        <p:sp>
          <p:nvSpPr>
            <p:cNvPr id="134" name="Text Box 24"/>
            <p:cNvSpPr/>
            <p:nvPr/>
          </p:nvSpPr>
          <p:spPr>
            <a:xfrm rot="16200000">
              <a:off x="6899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7372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9"/>
          <p:cNvGrpSpPr/>
          <p:nvPr/>
        </p:nvGrpSpPr>
        <p:grpSpPr>
          <a:xfrm>
            <a:off x="7694640" y="973440"/>
            <a:ext cx="398880" cy="4201920"/>
            <a:chOff x="7694640" y="973440"/>
            <a:chExt cx="398880" cy="4201920"/>
          </a:xfrm>
        </p:grpSpPr>
        <p:sp>
          <p:nvSpPr>
            <p:cNvPr id="137" name="Text Box 27"/>
            <p:cNvSpPr/>
            <p:nvPr/>
          </p:nvSpPr>
          <p:spPr>
            <a:xfrm rot="16200000">
              <a:off x="74232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>
              <a:off x="78962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81"/>
          <p:cNvGrpSpPr/>
          <p:nvPr/>
        </p:nvGrpSpPr>
        <p:grpSpPr>
          <a:xfrm>
            <a:off x="8151840" y="973440"/>
            <a:ext cx="398880" cy="4201920"/>
            <a:chOff x="8151840" y="973440"/>
            <a:chExt cx="398880" cy="4201920"/>
          </a:xfrm>
        </p:grpSpPr>
        <p:sp>
          <p:nvSpPr>
            <p:cNvPr id="140" name="Text Box 30"/>
            <p:cNvSpPr/>
            <p:nvPr/>
          </p:nvSpPr>
          <p:spPr>
            <a:xfrm rot="16200000">
              <a:off x="7880400" y="1244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8353440" y="1906560"/>
              <a:ext cx="0" cy="326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41"/>
          <p:cNvGrpSpPr/>
          <p:nvPr/>
        </p:nvGrpSpPr>
        <p:grpSpPr>
          <a:xfrm>
            <a:off x="8707320" y="-7560"/>
            <a:ext cx="398880" cy="4655880"/>
            <a:chOff x="8707320" y="-7560"/>
            <a:chExt cx="398880" cy="4655880"/>
          </a:xfrm>
        </p:grpSpPr>
        <p:sp>
          <p:nvSpPr>
            <p:cNvPr id="143" name="Text Box 33"/>
            <p:cNvSpPr/>
            <p:nvPr/>
          </p:nvSpPr>
          <p:spPr>
            <a:xfrm rot="16200000">
              <a:off x="8435880" y="263520"/>
              <a:ext cx="94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p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8908920" y="914400"/>
              <a:ext cx="0" cy="3733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5"/>
          <p:cNvGrpSpPr/>
          <p:nvPr/>
        </p:nvGrpSpPr>
        <p:grpSpPr>
          <a:xfrm>
            <a:off x="1204920" y="2575800"/>
            <a:ext cx="398880" cy="2637720"/>
            <a:chOff x="1204920" y="2575800"/>
            <a:chExt cx="398880" cy="2637720"/>
          </a:xfrm>
        </p:grpSpPr>
        <p:sp>
          <p:nvSpPr>
            <p:cNvPr id="146" name="Text Box 42"/>
            <p:cNvSpPr/>
            <p:nvPr/>
          </p:nvSpPr>
          <p:spPr>
            <a:xfrm rot="16200000">
              <a:off x="1193400" y="25869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3"/>
            <p:cNvSpPr/>
            <p:nvPr/>
          </p:nvSpPr>
          <p:spPr>
            <a:xfrm>
              <a:off x="1403280" y="300348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55"/>
          <p:cNvGrpSpPr/>
          <p:nvPr/>
        </p:nvGrpSpPr>
        <p:grpSpPr>
          <a:xfrm>
            <a:off x="3197160" y="2574000"/>
            <a:ext cx="398880" cy="2648880"/>
            <a:chOff x="3197160" y="2574000"/>
            <a:chExt cx="398880" cy="2648880"/>
          </a:xfrm>
        </p:grpSpPr>
        <p:sp>
          <p:nvSpPr>
            <p:cNvPr id="149" name="Text Box 56"/>
            <p:cNvSpPr/>
            <p:nvPr/>
          </p:nvSpPr>
          <p:spPr>
            <a:xfrm rot="16200000">
              <a:off x="3185640" y="25851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33955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70"/>
          <p:cNvGrpSpPr/>
          <p:nvPr/>
        </p:nvGrpSpPr>
        <p:grpSpPr>
          <a:xfrm>
            <a:off x="5722920" y="2492640"/>
            <a:ext cx="398880" cy="2730240"/>
            <a:chOff x="5722920" y="2492640"/>
            <a:chExt cx="398880" cy="2730240"/>
          </a:xfrm>
        </p:grpSpPr>
        <p:sp>
          <p:nvSpPr>
            <p:cNvPr id="152" name="Text Box 71"/>
            <p:cNvSpPr/>
            <p:nvPr/>
          </p:nvSpPr>
          <p:spPr>
            <a:xfrm rot="16200000">
              <a:off x="5669640" y="2545920"/>
              <a:ext cx="50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r>
                <a:rPr b="0" lang="en-US" sz="2000" spc="-1" strike="noStrike" baseline="30000">
                  <a:solidFill>
                    <a:srgbClr val="ff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2"/>
            <p:cNvSpPr/>
            <p:nvPr/>
          </p:nvSpPr>
          <p:spPr>
            <a:xfrm>
              <a:off x="5922720" y="3012840"/>
              <a:ext cx="0" cy="221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5"/>
          <p:cNvGrpSpPr/>
          <p:nvPr/>
        </p:nvGrpSpPr>
        <p:grpSpPr>
          <a:xfrm>
            <a:off x="620640" y="5845320"/>
            <a:ext cx="1512720" cy="398880"/>
            <a:chOff x="620640" y="5845320"/>
            <a:chExt cx="1512720" cy="398880"/>
          </a:xfrm>
        </p:grpSpPr>
        <p:sp>
          <p:nvSpPr>
            <p:cNvPr id="155" name="Text Box 73"/>
            <p:cNvSpPr/>
            <p:nvPr/>
          </p:nvSpPr>
          <p:spPr>
            <a:xfrm>
              <a:off x="620640" y="58453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4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990360" y="604332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76"/>
          <p:cNvGrpSpPr/>
          <p:nvPr/>
        </p:nvGrpSpPr>
        <p:grpSpPr>
          <a:xfrm>
            <a:off x="623880" y="6327720"/>
            <a:ext cx="1512720" cy="398880"/>
            <a:chOff x="623880" y="6327720"/>
            <a:chExt cx="1512720" cy="398880"/>
          </a:xfrm>
        </p:grpSpPr>
        <p:sp>
          <p:nvSpPr>
            <p:cNvPr id="158" name="Text Box 77"/>
            <p:cNvSpPr/>
            <p:nvPr/>
          </p:nvSpPr>
          <p:spPr>
            <a:xfrm>
              <a:off x="623880" y="6327720"/>
              <a:ext cx="41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5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8"/>
            <p:cNvSpPr/>
            <p:nvPr/>
          </p:nvSpPr>
          <p:spPr>
            <a:xfrm>
              <a:off x="993600" y="6526080"/>
              <a:ext cx="1143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79"/>
          <p:cNvSpPr/>
          <p:nvPr/>
        </p:nvSpPr>
        <p:spPr>
          <a:xfrm>
            <a:off x="332280" y="333360"/>
            <a:ext cx="83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Ground State Electron Configurations of th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2"/>
          <p:cNvSpPr/>
          <p:nvPr/>
        </p:nvSpPr>
        <p:spPr>
          <a:xfrm>
            <a:off x="960480" y="76500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Within a Period number of electron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0"/>
          <p:cNvSpPr/>
          <p:nvPr/>
        </p:nvSpPr>
        <p:spPr>
          <a:xfrm>
            <a:off x="971640" y="11239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Within a group (n) 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9EC6-72D4-4EEF-92FB-73B9DF7C0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79280" y="476280"/>
            <a:ext cx="81360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: Arrange the following  Li, Be, B, C, Si, N , S, 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order 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creas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ffective nuclear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oniz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o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427640" y="1673280"/>
            <a:ext cx="471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C &lt; Si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S &lt; N &lt; C &lt; Si &lt; B &lt; Be &lt;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 &lt; Be &lt; Si &lt; C &lt; S &lt; N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Ar &lt; Be &lt; Li &lt; B &lt; N &lt; Si &lt; C &lt;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Comic Sans MS"/>
              </a:rPr>
              <a:t>Li &lt; Be &lt; B , Si &lt; C &lt; N &lt; S &lt; 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2060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26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3789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50920" y="443700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10EF-0700-4D81-86C2-198D698FBC3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79280" y="692280"/>
            <a:ext cx="8785440" cy="5727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179280" y="155736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8256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5280" y="206064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2000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51640" y="2060640"/>
            <a:ext cx="50508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459640" y="1989000"/>
            <a:ext cx="505080" cy="503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1557360"/>
            <a:ext cx="504720" cy="431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CF38-8EE2-4E57-B9A6-14F40F1A60D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84360" y="227664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3D6F-3035-4686-B798-778E4D46494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85640"/>
            <a:ext cx="8209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THUS: from the electron configuration → we could know the position of the elem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1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 group 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5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oup 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0560" y="2924280"/>
            <a:ext cx="4645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 determine the period of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2 → 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3 → 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4 → perio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5 → period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6 → perio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7 → period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7BD0-3392-4C67-818C-40B45B4E5E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Example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element that ha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alance electron configuration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419640" y="2706840"/>
            <a:ext cx="5580000" cy="36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0174-AC6F-4FAE-B09E-01927FA781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ntent Placeholder 2"/>
          <p:cNvSpPr/>
          <p:nvPr/>
        </p:nvSpPr>
        <p:spPr>
          <a:xfrm>
            <a:off x="250920" y="399960"/>
            <a:ext cx="856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xample 8.1 p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n atom of a certain element has 15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Without consulting a periodic table, answe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What is the ground-state electron configuration of this el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1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s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2p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3s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Comic Sans MS"/>
              </a:rPr>
              <a:t> 3p</a:t>
            </a:r>
            <a:r>
              <a:rPr b="0" lang="en-US" sz="2800" spc="-1" strike="noStrike" u="sng" baseline="30000">
                <a:solidFill>
                  <a:srgbClr val="0033cc"/>
                </a:solidFill>
                <a:uFillTx/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b) How should be element be class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eriod 3, group 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The element is representative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(c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s the element diamagnetic or 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224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para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2090880" cy="216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622760" y="363852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enc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03640" y="587700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5308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587700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5950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14036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9272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588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6381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3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E4BFB-EBCD-4166-8356-758512DEC9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1-25T14:21:30Z</dcterms:modified>
  <cp:revision>1174</cp:revision>
  <dc:subject/>
  <dc:title>General Chemistry CHEM 110</dc:title>
</cp:coreProperties>
</file>